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1833-1959-424D-B58C-7AFCF9FF2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858A-4C28-4BB0-A941-66E98E544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88FE-16B6-4541-982C-FC943363C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4A5E-39DD-43E9-AD24-45AE3C9F8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AE12-9EF3-48CD-88DA-1C62DAE29C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EE059-DD67-4CCA-BEDB-43BB9AA790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9B71-06F6-4C4C-B09D-A726787A10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60A2-8996-4628-90AD-781A1C503C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A5B5-6872-4362-910F-D46AE7AC8E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A90C-6205-436B-8F1A-ACF931168C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40E8-A1E1-4073-AC4F-E96CC9749C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7CAB-346F-44CE-B09B-69C19BA14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765F-576A-44E4-95F5-ED25DFD1E1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65E3-440F-4DDA-82BB-92E9856691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23778-EB9E-4C7E-B9C5-9C16312C69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2E1BC-DB03-4887-8C47-E772B0FD39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C9E3-E84D-4912-B608-DF0101E4C6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6B81-4B0B-404C-897E-9DED1E3DE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E316-D43F-47EB-8AC1-9E9997FED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B57D-C2EA-4559-AA3E-132631C6D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7DD1-5994-406B-9359-335E18466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14B7-1306-4A66-9E0D-9DDEAEC55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0E17-A8DB-4E6B-8E11-96D13DDA2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00FF-9F0B-412A-9E1F-F120E25B4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ACCD-5BB0-4B40-952C-D210FCA55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DBD0-2096-4EE9-87EB-298405FAC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9 - The Preprocessor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97080"/>
            <a:ext cx="7772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#include Preprocessor Dir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#define Preprocessor Directive: Symbolic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#define Preprocessor Directive: Mac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ditional Comp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#error and #pragma Preprocessor Dir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# and ##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in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redefined Symbolic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sser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B8D1-98B4-4734-8245-840B64AF61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ditional Compi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preprocessor directives and comp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evaluate cast expressions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numeration 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similar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 !defined( NUL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NULL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end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s if symbolic consta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fined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ined( NULL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 ski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35BB-691B-42F1-8589-84E7D1AFE5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ditional Compi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el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"else if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brev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f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hort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 defined(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fn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hort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 !defined(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7272-6529-4C5F-80F0-EE5431D65F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ditional Compi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Comment out"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* ... *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th C-style com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ne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,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de comment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enable code, chang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3683-C2EB-4B54-928B-B7B6DD63B4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ditional Compi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g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DEBUG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def DE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rr &lt;&lt; "Variable x = " &lt;&lt; x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end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BU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nables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code corr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ugging statements are now ign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9E54-5BD9-4878-BFC4-9E0F90892A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error and #pragma Preprocessor Directiv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error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s implementation-dependent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kens are groups of characters separated by sp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error 1 - Out of range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6 tok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ation may stop (depends on compil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pragma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ons depend on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use compiler-specific op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recogniz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pragm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re ign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84BB-FF41-4EEA-9B14-FFB683994A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 and ##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lacement text token converted to string with qu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efine HELLO( x ) cout &lt;&lt; "Hello, " #x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ELLO( JOHN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Hello, " "John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Hello, John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catenates two tok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TOKENCONCAT( x, y )  x ## 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CONCAT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9773-68A0-4814-9247-7B9485A26C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e Nu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numbers subsequent code lines, starting with inte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line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name can be inclu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line 100 "file1.cpp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source code line is number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rror purposes, file nam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file1.cpp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make syntax errors more meaning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numbers do not appear in sourc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E4A7-1BD2-4738-AA01-533AC6CC88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edefined Symbolic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predefined symbolic 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used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und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1120" y="2211480"/>
          <a:ext cx="7743600" cy="38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211480"/>
                    <a:ext cx="774360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DC4C-C879-4447-A70C-9EB932EF01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10  Asser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ac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assert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s value of an expre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prints error message,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s program, prints line number and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checking for illegal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program continues as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ssert( x &lt;= 10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mov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need to delete them manu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define NDEBU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subsequ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s ign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66EC-810E-4BF3-BD02-A294C4D5EE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ccurs before program comp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sion of external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 of symbolic 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 comp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directives begin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have whitespace before dir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rectives not C++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en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20CF4-FEF2-45B1-89AD-04C4D43643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include Preprocessor Directiv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incl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s copy of file in place of dire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n many times in examp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for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file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tandard library header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es predesignated dir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"filenam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es in current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used for programmer-defined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38F5-FD30-45C7-9E09-56A51C8D9B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include Preprocessor Directiv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ing 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with multiple source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mmon declarations and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s, structures, enumerations, function proto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 commonality of multiple program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B20B-EA2E-4B42-83C1-FA7B6F17D7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define Preprocessor Directive: Symbolic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mbolic 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s represented as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program compiled, all occurrences repla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ier replacement-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PI 3.141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thing to right of identifier replaces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PI=3.141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plac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=3.14159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bably a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annot redefine symbolic 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6F59-41CA-4233-B812-02E69CA0B1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define Preprocessor Directive: Symbolic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no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not be seen by debugger (only replacement tex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not have specific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 pr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CEEA-BCEE-41C0-9577-5608C15858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define Preprocessor Directive: Macro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 specified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def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nded for legacy C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ro without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ed like a symbolic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ro with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 substituted for replacement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ro exp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a text substitu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ata type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BCAE-7C5A-48A7-8BED-92020654A1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define Preprocessor Directive: Macro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CIRCLE_AREA( x ) ( PI * ( x ) * ( x )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ea = CIRCLE_AREA( 4 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ea = ( 3.14159 * ( 4 ) * ( 4 )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arenth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out them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CIRCLE_AREA( x )  PI * x *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= CIRCLE_AREA( c + 2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.14159 * c + 2 * c +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evaluates incorrectl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7944-C2A2-483B-BE09-4D05ECF198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define Preprocessor Directive: Macro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ultiple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RECTANGLE_AREA( x, y )  ( ( x ) * ( y )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tArea = RECTANGLE_AREA( a + 4, b + 7 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ctArea = ( ( a + 4 ) * ( b + 7 ) );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und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fines symbolic constant or mac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later be re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FA21-CA5B-4DAD-87C3-0E6BDC7D1A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18:28:48Z</dcterms:created>
  <dc:creator>kalid</dc:creator>
  <dc:description/>
  <dc:language>en-US</dc:language>
  <cp:lastModifiedBy>Pearson Education</cp:lastModifiedBy>
  <dcterms:modified xsi:type="dcterms:W3CDTF">2002-08-29T20:10:18Z</dcterms:modified>
  <cp:revision>209</cp:revision>
  <dc:subject/>
  <dc:title>Chapter 19 - The Preprocessor</dc:title>
</cp:coreProperties>
</file>