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2780-FEF5-49EB-87C3-458274590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0266-83A7-4D8B-89AE-D9BD58056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A629-ACE8-4281-818F-C0BCD29F3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0147-1257-4D04-B5EF-0885D4213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20FE-56BA-4A64-B8FA-0E63C1CF9E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D560-40B1-416F-BFD1-E5061F30E4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D237-633B-40FC-8B77-D645B5C331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6495-B102-49DF-8D95-60C4A37C92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FEAC-6A3A-4E66-81F7-14E34CDD3F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F0AA-0D9C-4E16-B23F-AB99EA6B2A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4545-E9AD-44AF-A13A-8882DCB07D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EF22-6DA7-4609-ABEF-A4D16F67B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D19A-CEE8-4C47-B6C0-ADC1961FBC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3E030-4E51-4EC2-AA33-C3DFA12D1B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BA37-2F4C-48AF-A2E0-28C98B6986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80C4-EDC6-4C42-B2DE-4C1058BE6F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55E2C-E57A-4A8D-BF0B-ADEFF27525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167B-B576-477C-BC58-4D85376AF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F0B8-0B82-4019-910E-C906EB23F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766B-EAEE-48E3-9251-4AB322DF2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164B-AB93-416D-BECA-0AF09FAEB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2E45-7996-46EA-A858-F17E203A3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511F-9ECC-4509-82EF-3266D05E5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63F8-0762-405C-8B35-938890144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2BA9-FF5C-49D6-B326-62B0BB863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FE8F-A615-4922-BE72-97FF22FC4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w3.org/Consortium/Process/Process-19991111/process.html#RecsCR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8916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hat is a Computer?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mputer Organiz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volution of Operating System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ersonal Computing, Distributed Computing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ient/Server Comput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achine Languages, Assembly Languages, and High-Level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anguag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C and C++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++ Standard Libra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isual Basic, Visual C++ and C#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ther High-Level Languag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uctured Programm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Key Software Trend: Object Technolog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Basics of a Typical C++ Environ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ardware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45F3-8810-406C-82CE-CCB70B399C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7: Apple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conomical enough for individ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81: IBM Personal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lone”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telephone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area networks (LAN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compu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ganization’s computing distributed over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F28F-39E5-4535-BCD3-C92146761F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enormous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shared across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 common store of programs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comput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file servers acros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, Linux, Microsoft’s Window-bas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3A7F-1A3A-4396-9E4E-E9E2DEFFC2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language computer directly underst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 language” of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by hard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-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consist of strings of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imately 0s and 1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 computers to perform elementary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mbersome for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30004277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40059341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2002740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7D2B-CD84-4516-BB23-B44126735D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embly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-like abbreviations representing elementary computer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er to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prehensible to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or programs (assemb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to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E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VER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F32B-BD94-4130-82E4-425867B1A1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everyday English, use common mathematical 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tatements accomplish substantial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 language requires many instructions to accomplish simple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or programs (compi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to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e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ly execute high-level languag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 = basePay + overTim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AA10-C166-4674-B6EF-173D745CA9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olved from two other programming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PL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less”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nnis Ritchie (Bell Laborator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data typing, other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ment language of UN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rdware indepen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abl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89: ANSI stand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0: ANSI and ISO standar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I/ISO 9899: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0C70-073F-4BAD-A7FF-6189E77796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C+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on of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rly 1980s: Bjarne Stroustrup (Bell Laborator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ruces up”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: reusable software compon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items in rea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understand, correct and mod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brid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like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0EF6-C5AC-4D63-B631-8F4414938A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8 C++ Standard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t from pieces called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ch collections of existing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block approach” to creating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4137-C9DC-49F2-A5E5-B3633831F1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9 Jav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1: Sun Microsyste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5: Sun Micro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ly announced Java at trade 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pages with dynamic and interactive con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large-scale enterprise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hance functionality of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pplications for consumer devi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phones, pagers, personal digital assistant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8512-74B6-4F8C-A388-EE1451B33B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ner’s All-Purpose Symbolic Instruction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-1960s: Prof. John Kemeny and Thomas Kurtz (Dartmouth Colle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of Microsoft Windows graphical user interface (GU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late 1980s, early 199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 fe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, event handling, access to Win32 API, object-oriented programming, error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ual Basic .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DA91-6B65-4D79-8A78-62A97C97D8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371600"/>
            <a:ext cx="78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the Intern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the World Wide Web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orld Wide Web Consortium (W3C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General Notes About C++ and This Book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 to C++ Programm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 Simple Program: Printing a Line of Tex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nother Simple Program: Adding Two Integ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emory Concep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rithmet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cision Making: Equality and Relational Opera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inking About Objects: Introduction to Object Technology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nd the Unified Modeling Langu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A91D-A4DC-478B-AE51-11800D5B78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’s implementation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oft Foundation Classes (MF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libr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, graphics, networking, multithreading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among Visual Basic, Visual C++, C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NET 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-based appli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to great variety of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phones, desktop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s in disparate languages can commun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B4FB-A6AF-4D63-ACA2-C8698BBF22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ers Hejlsberg and Scott Wiltamuth (Microso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specifically for .NET plat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ots in C, C++ and J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migration to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-driven, fully object-oriented, visual programming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ated Development Environment (I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, run, test and debug C#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pplication Development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guage interoper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A0DE-0797-4EB5-8BED-D4CB0CFCC2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ula TRANs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54-1957: I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 mathematical compu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tific and engineer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Business Oriented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59: computer manufacturers, government and industrial computer us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ise and efficient manipulation of large amounts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DCED-D963-417B-83C3-241DB9484D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f. Niklaus W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ademic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099F-C020-432C-94C1-F295DA9C0A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2 Structured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 (196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iplined approach to writing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, easy to test and debug, and easy to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1: Niklaus W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0s - early 1980s: US Department of Defense (Do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tas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er can specify many activities to run in parall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31EF-6E97-4745-AEDF-70D1C64BF2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3 The Key Software Trend: Object Technolog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able software components that model real world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ingful software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objects, time objects, paycheck objects, invoice objects, audio objects, video objects, file objects, record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oun can be represented as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understandable, better organized and easier to maintain than procedur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vor modul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FC (Microsoft Foundation Cl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gue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C08B-48F0-4988-AD29-48536EB7CC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-development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5414-4766-42C8-8357-65DB912DD0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187880" y="1057320"/>
            <a:ext cx="4656240" cy="5572080"/>
            <a:chOff x="4187880" y="1057320"/>
            <a:chExt cx="4656240" cy="5572080"/>
          </a:xfrm>
        </p:grpSpPr>
        <p:sp>
          <p:nvSpPr>
            <p:cNvPr id="142" name="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14760" y="3772080"/>
              <a:ext cx="542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91000" y="12956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91000" y="1919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1000" y="38563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05440" y="35146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1000" y="5456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676920" y="3504600"/>
              <a:ext cx="342720" cy="1524600"/>
              <a:chOff x="6676920" y="3504600"/>
              <a:chExt cx="342720" cy="1524600"/>
            </a:xfrm>
          </p:grpSpPr>
          <p:sp>
            <p:nvSpPr>
              <p:cNvPr id="152" name=""/>
              <p:cNvSpPr/>
              <p:nvPr/>
            </p:nvSpPr>
            <p:spPr>
              <a:xfrm>
                <a:off x="6676920" y="35053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6676920" y="42660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6848280" y="42670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6848280" y="35042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676920" y="5104800"/>
              <a:ext cx="342720" cy="1524600"/>
              <a:chOff x="6676920" y="5104800"/>
              <a:chExt cx="342720" cy="1524600"/>
            </a:xfrm>
          </p:grpSpPr>
          <p:sp>
            <p:nvSpPr>
              <p:cNvPr id="157" name=""/>
              <p:cNvSpPr/>
              <p:nvPr/>
            </p:nvSpPr>
            <p:spPr>
              <a:xfrm>
                <a:off x="6676920" y="51055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676920" y="58662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848280" y="58672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848280" y="51044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676920" y="1065960"/>
              <a:ext cx="342720" cy="458640"/>
              <a:chOff x="6676920" y="1065960"/>
              <a:chExt cx="342720" cy="458640"/>
            </a:xfrm>
          </p:grpSpPr>
          <p:sp>
            <p:nvSpPr>
              <p:cNvPr id="162" name=""/>
              <p:cNvSpPr/>
              <p:nvPr/>
            </p:nvSpPr>
            <p:spPr>
              <a:xfrm>
                <a:off x="6676920" y="10670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676920" y="12938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6848280" y="12952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6848280" y="106560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676920" y="1681200"/>
              <a:ext cx="1713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76920" y="1909440"/>
              <a:ext cx="17136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848640" y="19098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6848640" y="168084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5320" y="1096920"/>
              <a:ext cx="1823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gram is created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he editor and sto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n dis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15320" y="1781280"/>
              <a:ext cx="182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eprocessor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es the cod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0000" y="4138560"/>
              <a:ext cx="18241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ader puts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 memory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15320" y="5432400"/>
              <a:ext cx="1823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PU takes e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truction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ecutes it, possib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oring new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alues as the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ecut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29080" y="2443320"/>
              <a:ext cx="714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91000" y="25290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676920" y="2288160"/>
              <a:ext cx="342720" cy="458640"/>
              <a:chOff x="6676920" y="2288160"/>
              <a:chExt cx="342720" cy="458640"/>
            </a:xfrm>
          </p:grpSpPr>
          <p:sp>
            <p:nvSpPr>
              <p:cNvPr id="178" name=""/>
              <p:cNvSpPr/>
              <p:nvPr/>
            </p:nvSpPr>
            <p:spPr>
              <a:xfrm>
                <a:off x="6676920" y="22892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676920" y="25160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6848280" y="25174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6848280" y="228780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7015320" y="2260800"/>
              <a:ext cx="1823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iler cre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ject code and st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 on dis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1000" y="31370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76920" y="2897280"/>
              <a:ext cx="1713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76920" y="3125520"/>
              <a:ext cx="17136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848640" y="312588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6848640" y="289692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15320" y="2895840"/>
              <a:ext cx="182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nker links the 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de with the librari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reates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ores it on 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187880" y="1057320"/>
              <a:ext cx="1200240" cy="457200"/>
              <a:chOff x="4187880" y="1057320"/>
              <a:chExt cx="1200240" cy="457200"/>
            </a:xfrm>
          </p:grpSpPr>
          <p:sp>
            <p:nvSpPr>
              <p:cNvPr id="190" name="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15840" y="120132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187880" y="1690920"/>
              <a:ext cx="1200240" cy="457200"/>
              <a:chOff x="4187880" y="1690920"/>
              <a:chExt cx="1200240" cy="457200"/>
            </a:xfrm>
          </p:grpSpPr>
          <p:sp>
            <p:nvSpPr>
              <p:cNvPr id="194" name=""/>
              <p:cNvSpPr/>
              <p:nvPr/>
            </p:nvSpPr>
            <p:spPr>
              <a:xfrm>
                <a:off x="4187880" y="16909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4187880" y="1690920"/>
                <a:ext cx="1200240" cy="457200"/>
                <a:chOff x="4187880" y="1690920"/>
                <a:chExt cx="1200240" cy="4572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187880" y="1690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258440" y="182484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4187880" y="2908440"/>
              <a:ext cx="1200240" cy="457200"/>
              <a:chOff x="4187880" y="2908440"/>
              <a:chExt cx="1200240" cy="457200"/>
            </a:xfrm>
          </p:grpSpPr>
          <p:sp>
            <p:nvSpPr>
              <p:cNvPr id="199" name=""/>
              <p:cNvSpPr/>
              <p:nvPr/>
            </p:nvSpPr>
            <p:spPr>
              <a:xfrm>
                <a:off x="4187880" y="290844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4187880" y="2908440"/>
                <a:ext cx="1200240" cy="457200"/>
                <a:chOff x="4187880" y="2908440"/>
                <a:chExt cx="1200240" cy="457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187880" y="290844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515840" y="304308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187880" y="5227920"/>
              <a:ext cx="1200240" cy="457200"/>
              <a:chOff x="4187880" y="5227920"/>
              <a:chExt cx="1200240" cy="4572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72880" y="550728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644360" y="5380200"/>
                  <a:ext cx="28656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" name=""/>
            <p:cNvSpPr/>
            <p:nvPr/>
          </p:nvSpPr>
          <p:spPr>
            <a:xfrm>
              <a:off x="5905440" y="51022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905440" y="5367600"/>
              <a:ext cx="773280" cy="1212840"/>
              <a:chOff x="5905440" y="5367600"/>
              <a:chExt cx="773280" cy="1212840"/>
            </a:xfrm>
          </p:grpSpPr>
          <p:sp>
            <p:nvSpPr>
              <p:cNvPr id="212" name=""/>
              <p:cNvSpPr/>
              <p:nvPr/>
            </p:nvSpPr>
            <p:spPr>
              <a:xfrm>
                <a:off x="6227640" y="613116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05440" y="5367600"/>
                <a:ext cx="76716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06520" y="53686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06520" y="552132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06520" y="56710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06520" y="582300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06520" y="597420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06520" y="6126120"/>
                <a:ext cx="772200" cy="30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906520" y="642924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49240" y="612612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905440" y="3780000"/>
              <a:ext cx="773280" cy="1214280"/>
              <a:chOff x="5905440" y="3780000"/>
              <a:chExt cx="773280" cy="1214280"/>
            </a:xfrm>
          </p:grpSpPr>
          <p:sp>
            <p:nvSpPr>
              <p:cNvPr id="223" name=""/>
              <p:cNvSpPr/>
              <p:nvPr/>
            </p:nvSpPr>
            <p:spPr>
              <a:xfrm>
                <a:off x="5905440" y="3780000"/>
                <a:ext cx="767160" cy="121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6520" y="37810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06520" y="393336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5906520" y="4086000"/>
                <a:ext cx="772200" cy="908280"/>
                <a:chOff x="5906520" y="4086000"/>
                <a:chExt cx="772200" cy="9082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227640" y="454536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906520" y="40860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06520" y="423720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06520" y="43884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06520" y="4540320"/>
                  <a:ext cx="772200" cy="302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906520" y="484344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248880" y="454032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5905440" y="1141560"/>
              <a:ext cx="771480" cy="309600"/>
              <a:chOff x="5905440" y="1141560"/>
              <a:chExt cx="771480" cy="3096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5905440" y="1142640"/>
                <a:ext cx="771480" cy="308520"/>
                <a:chOff x="5905440" y="1142640"/>
                <a:chExt cx="771480" cy="3085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905440" y="13741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06160" y="11818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905440" y="11426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5905440" y="13737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06160" y="1180800"/>
                <a:ext cx="7707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13000" y="137304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05240" y="12427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10840" y="11743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05440" y="11415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905440" y="1764000"/>
              <a:ext cx="771480" cy="309240"/>
              <a:chOff x="5905440" y="1764000"/>
              <a:chExt cx="771480" cy="309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5905440" y="1765080"/>
                <a:ext cx="771480" cy="308160"/>
                <a:chOff x="5905440" y="1765080"/>
                <a:chExt cx="771480" cy="308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905440" y="199656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906160" y="180432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905440" y="176508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5905440" y="19958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06160" y="1803240"/>
                <a:ext cx="77076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913000" y="199512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05240" y="186480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0840" y="179676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905440" y="17640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905440" y="2379960"/>
              <a:ext cx="771480" cy="309240"/>
              <a:chOff x="5905440" y="2379960"/>
              <a:chExt cx="771480" cy="30924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5905440" y="2381040"/>
                <a:ext cx="771480" cy="308160"/>
                <a:chOff x="5905440" y="2381040"/>
                <a:chExt cx="771480" cy="3081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905440" y="261252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906160" y="24202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05440" y="238104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5905440" y="26118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6160" y="2419200"/>
                <a:ext cx="77076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13000" y="261108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05240" y="248076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10840" y="24127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905440" y="2379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905440" y="2982960"/>
              <a:ext cx="771480" cy="309600"/>
              <a:chOff x="5905440" y="2982960"/>
              <a:chExt cx="771480" cy="3096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5905440" y="2984040"/>
                <a:ext cx="771480" cy="308520"/>
                <a:chOff x="5905440" y="2984040"/>
                <a:chExt cx="771480" cy="308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905440" y="32155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906160" y="30232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05440" y="29840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5905440" y="32151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906160" y="3022200"/>
                <a:ext cx="7707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913000" y="321444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05240" y="30841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10840" y="30157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05440" y="2982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405320" y="4357800"/>
              <a:ext cx="773280" cy="309600"/>
              <a:chOff x="4405320" y="4357800"/>
              <a:chExt cx="773280" cy="30960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4405680" y="4358160"/>
                <a:ext cx="772920" cy="309240"/>
                <a:chOff x="4405680" y="4358160"/>
                <a:chExt cx="772920" cy="3092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405680" y="45903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406040" y="4397400"/>
                  <a:ext cx="77256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405680" y="43581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4405320" y="458928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05680" y="4397040"/>
                <a:ext cx="7722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12880" y="4589280"/>
                <a:ext cx="75780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05480" y="445824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11440" y="4390200"/>
                <a:ext cx="76356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05320" y="435780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791240" y="4084920"/>
              <a:ext cx="360" cy="30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7D75-163B-47C1-AA15-6BC7C20A7A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in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out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computer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er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error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error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C8BB-2585-420A-99FD-01543BE06A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5 Hardware Tr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ies of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oximately double every year or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sed to execute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ount of secondary 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 programs and data over lo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or sp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d at which computers execut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03DB-199F-425D-AB05-8BA621DCF7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ructions to command computer to perform actions and make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version of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National Standards Institute (AN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Organization for Standardization (I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B5E9-7740-4717-8786-5FE958EC3B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1960s: AR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ced Research Projects Ag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De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ctronic mail (e-mai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 digital data via small p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multiple users to send/receive data simultaneously over same communication pa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entraliz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one part of network fails, other parts can still 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9357-162D-4C73-9648-F079AAA9D4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mission Control Protocol (TC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routed prope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arrived i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et Protocol (I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among variety of networking hardware and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architecture of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rying capacity of communications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A961-E1BB-4A0F-BCE1-3E21F079E0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7 History of the World Wide We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0: Tim Berners-Lee (CER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and view multimedia-based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instantly and conveniently accessible 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sible worldwide expos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s and small 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ing way business d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E86C-50DF-40AF-B884-2FAE1A2ADA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orld Wide Web Consortium (W3C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orld Wide Web Consortium (W3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4: Tim Berners-L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nonproprietary, interoperable technolog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ization orga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 h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achusetts Institute of Technology (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e’s INRIA (Institut National de Recherche en Informatique et Automat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io University of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400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tegic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0E83-3CEB-4245-BF21-04DD4365C3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orld Wide Web Consortium (W3C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ph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evolv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idate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le version that industry can begin to im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d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ably mature Candidate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C5EA-60B2-432E-AB16-6D162A3C9F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9 General Notes About C++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This Boo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 geared toward novice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ss programming clari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 are portable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 programs can run on many different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features of current versions of C++ not compatible with older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1100-7146-4F4C-B0F3-2AC8D9EAE0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0 Introduction to C++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ilitates structured and disciplined approach to computer program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several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llustrate many important features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analyzed one statement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CAD5-DD3A-45F0-8879-0873270295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cument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rove program read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gnored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line com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rocessor dir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ed by preprocessor before comp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FAAD-7EFC-4568-ACA1-FA36884D4E6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2: fig01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first program in C++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89548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elcome to C++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971800" y="228600"/>
            <a:ext cx="3505320" cy="337320"/>
            <a:chOff x="2971800" y="228600"/>
            <a:chExt cx="3505320" cy="337320"/>
          </a:xfrm>
        </p:grpSpPr>
        <p:sp>
          <p:nvSpPr>
            <p:cNvPr id="314" name=""/>
            <p:cNvSpPr/>
            <p:nvPr/>
          </p:nvSpPr>
          <p:spPr>
            <a:xfrm>
              <a:off x="4419720" y="228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gle-line com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2971800" y="30456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971800" y="38088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209680" y="665280"/>
            <a:ext cx="4114800" cy="824040"/>
            <a:chOff x="2209680" y="665280"/>
            <a:chExt cx="4114800" cy="824040"/>
          </a:xfrm>
        </p:grpSpPr>
        <p:sp>
          <p:nvSpPr>
            <p:cNvPr id="318" name=""/>
            <p:cNvSpPr/>
            <p:nvPr/>
          </p:nvSpPr>
          <p:spPr>
            <a:xfrm>
              <a:off x="3657600" y="66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processor directive to include input/output stream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209680" y="74124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447920" y="993600"/>
            <a:ext cx="4114800" cy="824040"/>
            <a:chOff x="1447920" y="993600"/>
            <a:chExt cx="4114800" cy="824040"/>
          </a:xfrm>
        </p:grpSpPr>
        <p:sp>
          <p:nvSpPr>
            <p:cNvPr id="321" name=""/>
            <p:cNvSpPr/>
            <p:nvPr/>
          </p:nvSpPr>
          <p:spPr>
            <a:xfrm>
              <a:off x="2895840" y="993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ears exactly once in every C++ program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447920" y="1145880"/>
              <a:ext cx="144792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33160" y="457200"/>
            <a:ext cx="4115160" cy="838080"/>
            <a:chOff x="533160" y="457200"/>
            <a:chExt cx="4115160" cy="838080"/>
          </a:xfrm>
        </p:grpSpPr>
        <p:sp>
          <p:nvSpPr>
            <p:cNvPr id="324" name=""/>
            <p:cNvSpPr/>
            <p:nvPr/>
          </p:nvSpPr>
          <p:spPr>
            <a:xfrm>
              <a:off x="1981080" y="457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an integer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33160" y="609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09480" y="741240"/>
            <a:ext cx="4114800" cy="838440"/>
            <a:chOff x="609480" y="741240"/>
            <a:chExt cx="4114800" cy="838440"/>
          </a:xfrm>
        </p:grpSpPr>
        <p:sp>
          <p:nvSpPr>
            <p:cNvPr id="327" name=""/>
            <p:cNvSpPr/>
            <p:nvPr/>
          </p:nvSpPr>
          <p:spPr>
            <a:xfrm>
              <a:off x="2057400" y="741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f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gins function bod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09480" y="89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33160" y="1828800"/>
            <a:ext cx="4115160" cy="838080"/>
            <a:chOff x="533160" y="1828800"/>
            <a:chExt cx="4115160" cy="838080"/>
          </a:xfrm>
        </p:grpSpPr>
        <p:sp>
          <p:nvSpPr>
            <p:cNvPr id="330" name=""/>
            <p:cNvSpPr/>
            <p:nvPr/>
          </p:nvSpPr>
          <p:spPr>
            <a:xfrm>
              <a:off x="1981080" y="1828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responding righ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ds function bod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33160" y="1981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886200" y="990720"/>
            <a:ext cx="4114800" cy="837720"/>
            <a:chOff x="3886200" y="990720"/>
            <a:chExt cx="4114800" cy="837720"/>
          </a:xfrm>
        </p:grpSpPr>
        <p:sp>
          <p:nvSpPr>
            <p:cNvPr id="333" name=""/>
            <p:cNvSpPr/>
            <p:nvPr/>
          </p:nvSpPr>
          <p:spPr>
            <a:xfrm>
              <a:off x="533412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s end with a semicol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86200" y="11430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066680" y="1920960"/>
            <a:ext cx="4114800" cy="980640"/>
            <a:chOff x="1066680" y="1920960"/>
            <a:chExt cx="4114800" cy="980640"/>
          </a:xfrm>
        </p:grpSpPr>
        <p:sp>
          <p:nvSpPr>
            <p:cNvPr id="336" name=""/>
            <p:cNvSpPr/>
            <p:nvPr/>
          </p:nvSpPr>
          <p:spPr>
            <a:xfrm>
              <a:off x="2514600" y="232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longs to namesp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066680" y="1920960"/>
              <a:ext cx="144792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1905120"/>
            <a:ext cx="4114800" cy="683280"/>
            <a:chOff x="1752480" y="1905120"/>
            <a:chExt cx="4114800" cy="683280"/>
          </a:xfrm>
        </p:grpSpPr>
        <p:sp>
          <p:nvSpPr>
            <p:cNvPr id="339" name=""/>
            <p:cNvSpPr/>
            <p:nvPr/>
          </p:nvSpPr>
          <p:spPr>
            <a:xfrm>
              <a:off x="3200400" y="22510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insertion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1752480" y="1905120"/>
              <a:ext cx="144792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447560" y="2403000"/>
            <a:ext cx="4191120" cy="1727280"/>
            <a:chOff x="1447560" y="2403000"/>
            <a:chExt cx="4191120" cy="1727280"/>
          </a:xfrm>
        </p:grpSpPr>
        <p:sp>
          <p:nvSpPr>
            <p:cNvPr id="342" name=""/>
            <p:cNvSpPr/>
            <p:nvPr/>
          </p:nvSpPr>
          <p:spPr>
            <a:xfrm>
              <a:off x="2971800" y="28195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ne of several means to exit function;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cates program terminated successfu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1447560" y="2403000"/>
              <a:ext cx="152388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BFE1-F74E-46D2-95F9-9AAF0FB966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output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” to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 insertion op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to right (right operand) inserted into output st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ifies using name that belongs to “namespace”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ved through us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pe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“special” character out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7329-9DF7-44DE-97FF-21211BE4F7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    What is a Computer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ice capable of performing computations and making logical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of instructions that control computer’s processing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ous devices comprising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board, screen, mouse, disks, memory, CD-ROM, processing units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that run on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A39E-D931-4EE4-ACB2-67198C3A49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063800" y="1879560"/>
          <a:ext cx="708948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879560"/>
                    <a:ext cx="70894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2E40-53CD-4D5D-9C6A-8625F355A89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4: fig01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 line with multiple state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 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0481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elcome to C++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971800" y="990720"/>
            <a:ext cx="4114800" cy="990360"/>
            <a:chOff x="2971800" y="990720"/>
            <a:chExt cx="4114800" cy="990360"/>
          </a:xfrm>
        </p:grpSpPr>
        <p:sp>
          <p:nvSpPr>
            <p:cNvPr id="354" name=""/>
            <p:cNvSpPr/>
            <p:nvPr/>
          </p:nvSpPr>
          <p:spPr>
            <a:xfrm>
              <a:off x="4419720" y="990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ltiple stream insertion statements produce one line of out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71800" y="114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123720" y="114300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DA74-A092-4E0E-9715-660DD5507D8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5: fig01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multiple lines with a single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\nto\n\n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8195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++!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666880" y="914400"/>
            <a:ext cx="4114800" cy="837720"/>
            <a:chOff x="2666880" y="914400"/>
            <a:chExt cx="4114800" cy="837720"/>
          </a:xfrm>
        </p:grpSpPr>
        <p:sp>
          <p:nvSpPr>
            <p:cNvPr id="361" name=""/>
            <p:cNvSpPr/>
            <p:nvPr/>
          </p:nvSpPr>
          <p:spPr>
            <a:xfrm>
              <a:off x="411480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newline characters to print on multiple lin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666880" y="106668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047760" y="1066680"/>
              <a:ext cx="10670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3352320" y="1066680"/>
              <a:ext cx="7621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809520" y="1066680"/>
              <a:ext cx="304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77A9-7941-4C21-B505-3BA3212017B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in memory where value can be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nteger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floating poin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variables with name and data type before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several variables of same type in one decla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-separa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1, integer2,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E005-C7ED-48A8-A412-0869046965D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es of characters (letters, digits, unders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gin with di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4DB9-C30F-4558-922E-47035DA9870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extraction operator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s for user to input value, then pre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turn)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value in variable to right of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value to variable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ssignment oper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s value to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operator (two oper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variable1 + variabl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6AB4-C78E-4B87-9AF2-FED26B37831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6: fig01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ition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number to be input by user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number to be input by use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riable in which sum will be st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first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m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in &gt;&gt; integer1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ad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econd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m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in &gt;&gt; integer2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um = integer1 + integ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result to s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m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um &lt;&lt; std::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523880" y="1336680"/>
            <a:ext cx="4648320" cy="949320"/>
            <a:chOff x="1523880" y="1336680"/>
            <a:chExt cx="4648320" cy="949320"/>
          </a:xfrm>
        </p:grpSpPr>
        <p:sp>
          <p:nvSpPr>
            <p:cNvPr id="375" name=""/>
            <p:cNvSpPr/>
            <p:nvPr/>
          </p:nvSpPr>
          <p:spPr>
            <a:xfrm>
              <a:off x="3505320" y="13366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integer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057400" y="152388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057400" y="15238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523880" y="1523880"/>
              <a:ext cx="19814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676160" y="1981080"/>
            <a:ext cx="4115160" cy="838440"/>
            <a:chOff x="1676160" y="1981080"/>
            <a:chExt cx="4115160" cy="838440"/>
          </a:xfrm>
        </p:grpSpPr>
        <p:sp>
          <p:nvSpPr>
            <p:cNvPr id="380" name=""/>
            <p:cNvSpPr/>
            <p:nvPr/>
          </p:nvSpPr>
          <p:spPr>
            <a:xfrm>
              <a:off x="3124080" y="1981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stream extraction operator with standard input stream to obtain user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6761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343400" y="3484440"/>
            <a:ext cx="4114800" cy="1067400"/>
            <a:chOff x="4343400" y="3484440"/>
            <a:chExt cx="4114800" cy="1067400"/>
          </a:xfrm>
        </p:grpSpPr>
        <p:sp>
          <p:nvSpPr>
            <p:cNvPr id="383" name=""/>
            <p:cNvSpPr/>
            <p:nvPr/>
          </p:nvSpPr>
          <p:spPr>
            <a:xfrm>
              <a:off x="5791320" y="34844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end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s a newline, then “flushes output buff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34340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828440" y="4543560"/>
            <a:ext cx="5677200" cy="1400040"/>
            <a:chOff x="1828440" y="4543560"/>
            <a:chExt cx="5677200" cy="1400040"/>
          </a:xfrm>
        </p:grpSpPr>
        <p:sp>
          <p:nvSpPr>
            <p:cNvPr id="386" name=""/>
            <p:cNvSpPr/>
            <p:nvPr/>
          </p:nvSpPr>
          <p:spPr>
            <a:xfrm>
              <a:off x="4838760" y="51195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atenating, chaining or cascading stream insertion oper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3543480" y="4543560"/>
              <a:ext cx="129528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2971800" y="4543560"/>
              <a:ext cx="186696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1828440" y="4543560"/>
              <a:ext cx="300996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676160" y="3400560"/>
            <a:ext cx="7086960" cy="1006560"/>
            <a:chOff x="1676160" y="3400560"/>
            <a:chExt cx="7086960" cy="1006560"/>
          </a:xfrm>
        </p:grpSpPr>
        <p:sp>
          <p:nvSpPr>
            <p:cNvPr id="391" name=""/>
            <p:cNvSpPr/>
            <p:nvPr/>
          </p:nvSpPr>
          <p:spPr>
            <a:xfrm>
              <a:off x="3124080" y="3400560"/>
              <a:ext cx="5639040" cy="1006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ions can be performed in output statements: alternative for lines 18 and 20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d::cout &lt;&lt; </a:t>
              </a:r>
              <a:r>
                <a:rPr b="1" lang="en-US" sz="1200" spc="-1" strike="noStrike">
                  <a:solidFill>
                    <a:srgbClr val="0099ff"/>
                  </a:solidFill>
                  <a:latin typeface="Courier New"/>
                  <a:ea typeface="Courier New"/>
                </a:rPr>
                <a:t>"Sum is "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&lt;&lt; integer1 + integer2 &lt;&lt; std::end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676160" y="3552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EEA0-A63B-4B98-B104-4DA9030CED4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first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cond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1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2E6D-61C2-4E0D-ACC9-AE424735C4A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respond to actual locations in computer'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variable has name, type, size and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new value placed into variable, overwrites previous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ing variables from memory nondestru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895B-BDE5-4501-864E-0498850120B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815080" y="2406600"/>
            <a:ext cx="2109600" cy="1022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15080" y="1219320"/>
            <a:ext cx="21096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15080" y="4038480"/>
            <a:ext cx="2109600" cy="1479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::cin &gt;&gt; integer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user entered 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::cin &gt;&gt; intege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user entered 7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= integer1 + intege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890680" y="1371600"/>
            <a:ext cx="1957680" cy="321120"/>
            <a:chOff x="5890680" y="1371600"/>
            <a:chExt cx="1957680" cy="321120"/>
          </a:xfrm>
        </p:grpSpPr>
        <p:sp>
          <p:nvSpPr>
            <p:cNvPr id="403" name=""/>
            <p:cNvSpPr/>
            <p:nvPr/>
          </p:nvSpPr>
          <p:spPr>
            <a:xfrm>
              <a:off x="7251480" y="137160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57680" y="138888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90680" y="138744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89000" y="137160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890680" y="2527200"/>
            <a:ext cx="1957680" cy="321120"/>
            <a:chOff x="5890680" y="2527200"/>
            <a:chExt cx="1957680" cy="321120"/>
          </a:xfrm>
        </p:grpSpPr>
        <p:sp>
          <p:nvSpPr>
            <p:cNvPr id="408" name=""/>
            <p:cNvSpPr/>
            <p:nvPr/>
          </p:nvSpPr>
          <p:spPr>
            <a:xfrm>
              <a:off x="7251480" y="252720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57680" y="254448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90680" y="254304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89000" y="252720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90680" y="3000240"/>
            <a:ext cx="1957680" cy="321120"/>
            <a:chOff x="5890680" y="3000240"/>
            <a:chExt cx="1957680" cy="321120"/>
          </a:xfrm>
        </p:grpSpPr>
        <p:sp>
          <p:nvSpPr>
            <p:cNvPr id="413" name=""/>
            <p:cNvSpPr/>
            <p:nvPr/>
          </p:nvSpPr>
          <p:spPr>
            <a:xfrm>
              <a:off x="7251480" y="300024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57680" y="301752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90680" y="301608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89000" y="300024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890680" y="4159080"/>
            <a:ext cx="1957680" cy="321120"/>
            <a:chOff x="5890680" y="4159080"/>
            <a:chExt cx="1957680" cy="321120"/>
          </a:xfrm>
        </p:grpSpPr>
        <p:sp>
          <p:nvSpPr>
            <p:cNvPr id="418" name=""/>
            <p:cNvSpPr/>
            <p:nvPr/>
          </p:nvSpPr>
          <p:spPr>
            <a:xfrm>
              <a:off x="7251480" y="415908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57680" y="417636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90680" y="41749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89000" y="41590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890680" y="4616280"/>
            <a:ext cx="1957680" cy="321120"/>
            <a:chOff x="5890680" y="4616280"/>
            <a:chExt cx="1957680" cy="321120"/>
          </a:xfrm>
        </p:grpSpPr>
        <p:sp>
          <p:nvSpPr>
            <p:cNvPr id="423" name=""/>
            <p:cNvSpPr/>
            <p:nvPr/>
          </p:nvSpPr>
          <p:spPr>
            <a:xfrm>
              <a:off x="7251480" y="461628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57680" y="463356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90680" y="46321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89000" y="46162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458040" y="5089680"/>
            <a:ext cx="1390680" cy="320760"/>
            <a:chOff x="6458040" y="5089680"/>
            <a:chExt cx="1390680" cy="320760"/>
          </a:xfrm>
        </p:grpSpPr>
        <p:sp>
          <p:nvSpPr>
            <p:cNvPr id="428" name=""/>
            <p:cNvSpPr/>
            <p:nvPr/>
          </p:nvSpPr>
          <p:spPr>
            <a:xfrm>
              <a:off x="7251840" y="5089680"/>
              <a:ext cx="596880" cy="301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58040" y="5106600"/>
              <a:ext cx="630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77200" y="5105160"/>
              <a:ext cx="51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89720" y="50896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242D-490A-4982-9C4A-A323E382A95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s information from input de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board, mouse, microphone, scanner, network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information processed by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information on out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en, printer, networks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used to control othe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EB47-BC9B-4329-9B0C-1C0ECB213C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division truncates rema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/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us operator returns remain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%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86D6-D2A6-4AF3-9913-178C02904C2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of operator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 in parentheses evaluated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/embedded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in innermost pair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ication, division, modulus applied n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applied from left to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ition, subtraction appli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applied from left to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33240" y="4108320"/>
          <a:ext cx="782496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4108320"/>
                    <a:ext cx="78249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0F34-515F-4A22-911C-7DD3DD072F9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decision based on truth or falsity of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ondition met, body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, body not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 and 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ality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evel of prec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evel of prec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e left to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28FB-EBD8-472C-AF31-7C3A833C9CE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-1295280" y="1447920"/>
          <a:ext cx="11734560" cy="44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95280" y="1447920"/>
                    <a:ext cx="117345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1166-3185-4D2C-8121-812D9294895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iminate us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569E-4FE3-405A-9B0C-90769176AA8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14: fig01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if statements, relation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rators, and equality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c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c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number to be read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number to be read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wo integers, and I will tell you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relationships they satisf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1 &gt;&gt; num2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two integ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== num2 )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equal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!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not equal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905120" y="1371240"/>
            <a:ext cx="4991040" cy="657360"/>
            <a:chOff x="1905120" y="1371240"/>
            <a:chExt cx="4991040" cy="657360"/>
          </a:xfrm>
        </p:grpSpPr>
        <p:sp>
          <p:nvSpPr>
            <p:cNvPr id="448" name=""/>
            <p:cNvSpPr/>
            <p:nvPr/>
          </p:nvSpPr>
          <p:spPr>
            <a:xfrm>
              <a:off x="4229280" y="1447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s eliminate ne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refi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905120" y="1600200"/>
              <a:ext cx="23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1905120" y="1371240"/>
              <a:ext cx="2324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905120" y="1600200"/>
              <a:ext cx="23241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990360" y="2670120"/>
            <a:ext cx="4305600" cy="1292400"/>
            <a:chOff x="990360" y="2670120"/>
            <a:chExt cx="4305600" cy="1292400"/>
          </a:xfrm>
        </p:grpSpPr>
        <p:sp>
          <p:nvSpPr>
            <p:cNvPr id="453" name=""/>
            <p:cNvSpPr/>
            <p:nvPr/>
          </p:nvSpPr>
          <p:spPr>
            <a:xfrm>
              <a:off x="2629080" y="2670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wri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ou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refi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181160" y="2822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990360" y="2822400"/>
              <a:ext cx="1638360" cy="11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599840" y="2038320"/>
            <a:ext cx="3200760" cy="1085760"/>
            <a:chOff x="1599840" y="2038320"/>
            <a:chExt cx="3200760" cy="1085760"/>
          </a:xfrm>
        </p:grpSpPr>
        <p:sp>
          <p:nvSpPr>
            <p:cNvPr id="457" name=""/>
            <p:cNvSpPr/>
            <p:nvPr/>
          </p:nvSpPr>
          <p:spPr>
            <a:xfrm>
              <a:off x="3124080" y="203832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676160" y="219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599840" y="2190600"/>
              <a:ext cx="152388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676160" y="3508200"/>
            <a:ext cx="4115160" cy="838440"/>
            <a:chOff x="1676160" y="3508200"/>
            <a:chExt cx="4115160" cy="838440"/>
          </a:xfrm>
        </p:grpSpPr>
        <p:sp>
          <p:nvSpPr>
            <p:cNvPr id="461" name=""/>
            <p:cNvSpPr/>
            <p:nvPr/>
          </p:nvSpPr>
          <p:spPr>
            <a:xfrm>
              <a:off x="3124080" y="3508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ucture compares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equali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676160" y="3660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895480" y="3768840"/>
            <a:ext cx="4114800" cy="838080"/>
            <a:chOff x="2895480" y="3768840"/>
            <a:chExt cx="4114800" cy="838080"/>
          </a:xfrm>
        </p:grpSpPr>
        <p:sp>
          <p:nvSpPr>
            <p:cNvPr id="464" name=""/>
            <p:cNvSpPr/>
            <p:nvPr/>
          </p:nvSpPr>
          <p:spPr>
            <a:xfrm>
              <a:off x="4343400" y="37688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condition is true (i.e., values are equal), execute this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895480" y="392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676160" y="4191120"/>
            <a:ext cx="4115160" cy="837720"/>
            <a:chOff x="1676160" y="4191120"/>
            <a:chExt cx="4115160" cy="837720"/>
          </a:xfrm>
        </p:grpSpPr>
        <p:sp>
          <p:nvSpPr>
            <p:cNvPr id="467" name=""/>
            <p:cNvSpPr/>
            <p:nvPr/>
          </p:nvSpPr>
          <p:spPr>
            <a:xfrm>
              <a:off x="3124080" y="4191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ucture compares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inequali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676160" y="434340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895480" y="4419720"/>
            <a:ext cx="4114800" cy="838080"/>
            <a:chOff x="2895480" y="4419720"/>
            <a:chExt cx="4114800" cy="838080"/>
          </a:xfrm>
        </p:grpSpPr>
        <p:sp>
          <p:nvSpPr>
            <p:cNvPr id="470" name=""/>
            <p:cNvSpPr/>
            <p:nvPr/>
          </p:nvSpPr>
          <p:spPr>
            <a:xfrm>
              <a:off x="4343400" y="4419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condition is true (i.e., values are not equal), execute this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2895480" y="457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8A986-EB55-40ED-8BE6-E54CC77DC60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lt;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less tha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gt;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greater tha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lt;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less than or equal to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gt;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s greater than or equal to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88620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lationships they satisfy: 22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 is not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 is greater than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2 is greater than or equal to 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952880" y="1066680"/>
            <a:ext cx="4114800" cy="838440"/>
            <a:chOff x="4952880" y="1066680"/>
            <a:chExt cx="4114800" cy="838440"/>
          </a:xfrm>
        </p:grpSpPr>
        <p:sp>
          <p:nvSpPr>
            <p:cNvPr id="476" name=""/>
            <p:cNvSpPr/>
            <p:nvPr/>
          </p:nvSpPr>
          <p:spPr>
            <a:xfrm>
              <a:off x="64008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s may be split over several lin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9528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C5BD-342A-4645-9D22-230AF9D3EEA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, and I will tell you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lationships they satisfy: 7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is equal to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is less than or equal to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greater than or equal to 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4AF4-7A8F-43CB-94A1-97543C843B0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oriented programming (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real-world objects with software counterp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s (state) - propertie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, shape, color, weigh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haviors (operations) - 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l rolls, bounces, inflates and def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can perform actions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of objects absorb characteristics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apsulate data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e across well-defined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D51A-2C52-4455-9B58-7029D21A079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defined types (classes, com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component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component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1CEF-E1C3-4F33-92C0-5AF161D765E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ccess, relatively low capacity “warehouse” s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ns information from input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ly available f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ns processed 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placed on out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,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hmetic and logic unit (ALU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ufactur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calculations and logic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2E56-1CC3-4F8E-A33F-55CDC3F830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analysis and design (OOAD)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alysis of project’s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for satisfying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c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means of expressing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line to guid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0AD2-E83F-48CC-B821-C253E48AE25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1: Object Management Group (OM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d UML version 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object-oriented systems and aid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of many OOAD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tandard set of 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, feature-rich graphical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53C6-DAA9-41DE-A64E-C38A681653B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processing unit (CPU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es and coordinates other sections of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storage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term, high-capacity “warehouse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ctive programs 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storage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r to access than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expensive per unit than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0A6A-9943-4D20-AD1B-CFD1E57C2F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user batch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job or task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data in groups (batc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ks of punched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 transitions between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d through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work computers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E4C3-B2E2-4169-81C9-4AD6E45483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jobs or tasks sharing computer’s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taneous” operation of many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60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case of multi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s access computer through termin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s with keyboards and scre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zens, even hundreds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small portion of one user’s job, then moves on to service next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receives almost immediate responses to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B651-85AD-449A-B707-B66206EEBA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20:42:50Z</dcterms:created>
  <dc:creator>Audrey Lee</dc:creator>
  <dc:description/>
  <dc:language>en-US</dc:language>
  <cp:lastModifiedBy>Pearson Education</cp:lastModifiedBy>
  <dcterms:modified xsi:type="dcterms:W3CDTF">2002-08-01T20:29:32Z</dcterms:modified>
  <cp:revision>147</cp:revision>
  <dc:subject/>
  <dc:title>Chapter 1 – Introduction to Computers and C++ Programming</dc:title>
</cp:coreProperties>
</file>