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EDA2A-A883-45E6-867C-8990E36E31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701028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-360" y="2945160"/>
            <a:ext cx="701028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0B5EE-7FB1-40C3-9721-ED727F5AF3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-36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59172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6C955-AFDA-4C7E-BB3A-3E0C214FA5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370240" y="-3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740480" y="-3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-360" y="29451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370240" y="29451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4740480" y="29451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3C2E3-FD17-45D9-B5FD-6F3C6A5EF8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FF203-AD3A-429E-AF82-01B828AD2B9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81FC24-9CBD-4246-832C-B47C48F20A5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1C2C1B-65BF-40E6-A4D9-7885759F6C2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879A7D-7C1B-4896-9ACD-F363611F78D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AB1FF1-A9A5-446F-B3C3-E485F40520D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086240" y="837720"/>
            <a:ext cx="2057400" cy="222541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E83421-7672-4398-9C87-40FAAA419CF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-36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92387A-4071-41AE-9FB9-47D2BFA10FB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DCD48-4ECA-40AE-9914-8AAF4CF0BE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59172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5C3C46-C350-42EC-B321-0C9C8393351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-360" y="2945160"/>
            <a:ext cx="701028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DF0CA2-DA8F-43CA-8085-95C8B8F1A74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701028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-360" y="2945160"/>
            <a:ext cx="701028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6B49F9-F1B0-44EF-B0FD-092694B5128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-36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59172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B4087D-88A2-4BF3-B8F0-9BB03FDD082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370240" y="-3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40480" y="-3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-360" y="29451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2370240" y="29451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4740480" y="29451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103C63-621C-4D14-8EA6-FE145FD6BFB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2947D-D119-4E99-815F-004AB8FBCA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34E8B-091E-44D8-A7B4-9D217DE1B7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1E62D-EE9C-4256-AF9C-6C7C2D7E6F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086240" y="837720"/>
            <a:ext cx="2057400" cy="222541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55EF3-4424-4242-9D83-7AB17FFC6C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-36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F94F0-0D1F-4E4E-9E9B-9279DDE105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59172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E487A-AE48-49C8-A51B-ECBA3E5114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-360" y="2945160"/>
            <a:ext cx="701028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0E893-E79A-4955-B424-76363D4D19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3 Prentice Hall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8976F-40A5-4075-87A5-79C73B0007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086600" y="6324480"/>
            <a:ext cx="19810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3 Prentice Hall, Inc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162920" y="1522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7086240" y="76320"/>
            <a:ext cx="305280" cy="685800"/>
            <a:chOff x="7086240" y="76320"/>
            <a:chExt cx="305280" cy="685800"/>
          </a:xfrm>
        </p:grpSpPr>
        <p:sp>
          <p:nvSpPr>
            <p:cNvPr id="45" name="">
              <a:hlinkClick r:id="" action="ppaction://hlinkshowjump?jump=previousslide"/>
            </p:cNvPr>
            <p:cNvSpPr/>
            <p:nvPr/>
          </p:nvSpPr>
          <p:spPr>
            <a:xfrm rot="5400000">
              <a:off x="708624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>
              <a:hlinkClick r:id="" action="ppaction://hlinkshowjump?jump=nextslide"/>
            </p:cNvPr>
            <p:cNvSpPr/>
            <p:nvPr/>
          </p:nvSpPr>
          <p:spPr>
            <a:xfrm rot="16200000">
              <a:off x="708660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670572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sldNum" idx="2"/>
          </p:nvPr>
        </p:nvSpPr>
        <p:spPr>
          <a:xfrm>
            <a:off x="8686800" y="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2143C-E467-4D57-9FAA-7F4BE4D76C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pter 7: Classes Part II</a:t>
            </a:r>
            <a:endParaRPr b="1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1295280"/>
            <a:ext cx="80773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Outline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7.1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ntroduction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7.2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const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(Constant) Objects and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const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Member Function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7.3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mposition: Objects as Members of Classe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7.4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frien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Functions and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frien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Classe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7.5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Using the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Pointer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7.6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ynamic Memory Management with Operators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ew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and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delete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7.7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static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Class Member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7.8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ata Abstraction and Information Hiding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7.8.1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xample: Array Abstract Data Type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7.8.2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xample: String Abstract Data Type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7.8.3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xample: Queue Abstract Data Type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7.9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ntainer Classes and Iterator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7.10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roxy Cla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BD7A4-9E9A-437E-9589-D91F1CDF41C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ime5.cpp (3 of 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800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second 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::setSecon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econd = ( s &gt;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amp;&amp; s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? s 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setSecon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hour 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::getHour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our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getHou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minute 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::getMinute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inute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getMinu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2742840" y="2057400"/>
            <a:ext cx="4343760" cy="1406520"/>
            <a:chOff x="2742840" y="2057400"/>
            <a:chExt cx="4343760" cy="1406520"/>
          </a:xfrm>
        </p:grpSpPr>
        <p:sp>
          <p:nvSpPr>
            <p:cNvPr id="114" name=""/>
            <p:cNvSpPr/>
            <p:nvPr/>
          </p:nvSpPr>
          <p:spPr>
            <a:xfrm>
              <a:off x="4419720" y="262584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n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functions do not modify object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2971800" y="277812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 flipV="1">
              <a:off x="2742840" y="2057400"/>
              <a:ext cx="167652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882F86-9135-4368-97D6-AB5A1F5333B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ime5.cpp (4 of 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second 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::getSecond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con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getSecon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int Time in universal form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::printUniversal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setfill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0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hour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: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minute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: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secon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printUniversa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int Time in standard form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::printStandard()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note lack of const declar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( ( hour =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|| hour =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?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hour %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: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etfill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0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minu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: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second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( hour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?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AM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PM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printStandar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3352320" y="574560"/>
            <a:ext cx="4343760" cy="1406520"/>
            <a:chOff x="3352320" y="574560"/>
            <a:chExt cx="4343760" cy="1406520"/>
          </a:xfrm>
        </p:grpSpPr>
        <p:sp>
          <p:nvSpPr>
            <p:cNvPr id="120" name=""/>
            <p:cNvSpPr/>
            <p:nvPr/>
          </p:nvSpPr>
          <p:spPr>
            <a:xfrm>
              <a:off x="5029200" y="114300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n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functions do not modify object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3581280" y="129528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 flipV="1">
              <a:off x="3352320" y="574560"/>
              <a:ext cx="167652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6C5401-E405-4A33-9358-568EDF2598A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7_0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28195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7.3: fig07_03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ttempting to access a const object wit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non-const member function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clude Time class definition from time5.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ime5.h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ime wakeUp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non-constant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noo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constant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3352680" y="1600200"/>
            <a:ext cx="4114800" cy="838080"/>
            <a:chOff x="3352680" y="1600200"/>
            <a:chExt cx="4114800" cy="838080"/>
          </a:xfrm>
        </p:grpSpPr>
        <p:sp>
          <p:nvSpPr>
            <p:cNvPr id="126" name=""/>
            <p:cNvSpPr/>
            <p:nvPr/>
          </p:nvSpPr>
          <p:spPr>
            <a:xfrm>
              <a:off x="4800600" y="160020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clar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no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n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bjec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>
              <a:off x="3352680" y="175248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1752120" y="2590920"/>
            <a:ext cx="3886560" cy="1052640"/>
            <a:chOff x="1752120" y="2590920"/>
            <a:chExt cx="3886560" cy="1052640"/>
          </a:xfrm>
        </p:grpSpPr>
        <p:sp>
          <p:nvSpPr>
            <p:cNvPr id="129" name=""/>
            <p:cNvSpPr/>
            <p:nvPr/>
          </p:nvSpPr>
          <p:spPr>
            <a:xfrm>
              <a:off x="2971800" y="281952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ote that non-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n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constructor can initializ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n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bjec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 flipV="1">
              <a:off x="1752120" y="2590920"/>
              <a:ext cx="12193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5CA36F-D249-48C4-B345-797FDF4314C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7_0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7_0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35053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// OBJECT      MEMBER FUNC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wakeUp.setHou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non-const   non-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noon.setHour( 12 );    // const       non-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wakeUp.getHour();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non-const   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noon.getMinute();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nst       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noon.printUniversal(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nst       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noon.printStandard();  // const       non-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3505320"/>
            <a:ext cx="7010280" cy="1828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:\cpphtp4_examples\ch07\fig07_01\fig07_01.cpp(16) : error C2662: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'setHour' : cannot convert 'this' pointer from 'const class Time'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o 'class Time &amp;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nversion loses qualifi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:\cpphtp4_examples\ch07\fig07_01\fig07_01.cpp(23) : error C2662: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'printStandard' : cannot convert 'this' pointer from 'const clas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ime' to 'class Time &amp;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onversion loses qualifie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2514600" y="990360"/>
            <a:ext cx="4572000" cy="2667240"/>
            <a:chOff x="2514600" y="990360"/>
            <a:chExt cx="4572000" cy="2667240"/>
          </a:xfrm>
        </p:grpSpPr>
        <p:sp>
          <p:nvSpPr>
            <p:cNvPr id="135" name=""/>
            <p:cNvSpPr/>
            <p:nvPr/>
          </p:nvSpPr>
          <p:spPr>
            <a:xfrm>
              <a:off x="4419720" y="1447920"/>
              <a:ext cx="26668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ttempting to invoke non-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n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member function o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n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bject results in compiler erro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2971800" y="1600200"/>
              <a:ext cx="144792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 flipV="1">
              <a:off x="2514600" y="990360"/>
              <a:ext cx="190512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2666880" y="2476440"/>
            <a:ext cx="4572000" cy="2019240"/>
            <a:chOff x="2666880" y="2476440"/>
            <a:chExt cx="4572000" cy="2019240"/>
          </a:xfrm>
        </p:grpSpPr>
        <p:sp>
          <p:nvSpPr>
            <p:cNvPr id="139" name=""/>
            <p:cNvSpPr/>
            <p:nvPr/>
          </p:nvSpPr>
          <p:spPr>
            <a:xfrm>
              <a:off x="4572000" y="2933640"/>
              <a:ext cx="2666880" cy="15541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ttempting to invoke non-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n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member function o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n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bject results in compiler error even if function does not modify objec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3504960" y="3086280"/>
              <a:ext cx="1066680" cy="140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 flipV="1">
              <a:off x="2666880" y="2476440"/>
              <a:ext cx="190512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9EAA46-16ED-424B-AC16-FC0A101BA7B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7.2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const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 (Constant) Objects and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const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 Member Func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mber initializer synta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itializing with member initializer syntax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be used f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data 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st be used f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ata 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 members that are refere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DB399-4DCB-4527-81BC-EDE294D7EFF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7_0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800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7.4: fig07_04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ing a member initializer to initialize 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nstant of a built-in data typ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crement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Increment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fault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ddIncrement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nt += increment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function addIncre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// prints count and incre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871A59-378B-47F4-ADB1-46FEC0E00C4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7_0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257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un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crement;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nst data memb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lass Incre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nstructor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crement::Increment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: count( c ),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initializer for non-const member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increment( i )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quired initializer for const memb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mpty bod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Increment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int count and increment valu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crement::print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unt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cou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, increment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increment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pri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2590560" y="761760"/>
            <a:ext cx="4115160" cy="961920"/>
            <a:chOff x="2590560" y="761760"/>
            <a:chExt cx="4115160" cy="961920"/>
          </a:xfrm>
        </p:grpSpPr>
        <p:sp>
          <p:nvSpPr>
            <p:cNvPr id="149" name=""/>
            <p:cNvSpPr/>
            <p:nvPr/>
          </p:nvSpPr>
          <p:spPr>
            <a:xfrm>
              <a:off x="4038480" y="114300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clare increment a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n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data membe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 flipV="1">
              <a:off x="2590560" y="761760"/>
              <a:ext cx="144756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762120" y="1143000"/>
            <a:ext cx="4114800" cy="838080"/>
            <a:chOff x="762120" y="1143000"/>
            <a:chExt cx="4114800" cy="838080"/>
          </a:xfrm>
        </p:grpSpPr>
        <p:sp>
          <p:nvSpPr>
            <p:cNvPr id="152" name=""/>
            <p:cNvSpPr/>
            <p:nvPr/>
          </p:nvSpPr>
          <p:spPr>
            <a:xfrm>
              <a:off x="2210040" y="114300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ember initializer list separated from parameter list by col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762120" y="129528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1905120" y="1447920"/>
            <a:ext cx="3886200" cy="824040"/>
            <a:chOff x="1905120" y="1447920"/>
            <a:chExt cx="3886200" cy="824040"/>
          </a:xfrm>
        </p:grpSpPr>
        <p:sp>
          <p:nvSpPr>
            <p:cNvPr id="155" name=""/>
            <p:cNvSpPr/>
            <p:nvPr/>
          </p:nvSpPr>
          <p:spPr>
            <a:xfrm>
              <a:off x="3124080" y="1447920"/>
              <a:ext cx="26672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ember initializer syntax can be used for non-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n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data membe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u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1905120" y="1600200"/>
              <a:ext cx="121896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2209680" y="1755720"/>
            <a:ext cx="3886200" cy="824040"/>
            <a:chOff x="2209680" y="1755720"/>
            <a:chExt cx="3886200" cy="824040"/>
          </a:xfrm>
        </p:grpSpPr>
        <p:sp>
          <p:nvSpPr>
            <p:cNvPr id="158" name=""/>
            <p:cNvSpPr/>
            <p:nvPr/>
          </p:nvSpPr>
          <p:spPr>
            <a:xfrm>
              <a:off x="3428640" y="1755720"/>
              <a:ext cx="26672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ember initializer syntax must be used f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n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data membe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ncrem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2209680" y="1908000"/>
              <a:ext cx="121896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1752480" y="2336760"/>
            <a:ext cx="4114800" cy="1841040"/>
            <a:chOff x="1752480" y="2336760"/>
            <a:chExt cx="4114800" cy="1841040"/>
          </a:xfrm>
        </p:grpSpPr>
        <p:sp>
          <p:nvSpPr>
            <p:cNvPr id="161" name=""/>
            <p:cNvSpPr/>
            <p:nvPr/>
          </p:nvSpPr>
          <p:spPr>
            <a:xfrm>
              <a:off x="3200400" y="2867040"/>
              <a:ext cx="266688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ember initializer consists of data member name (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ncrem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 followed by parentheses containing initial value (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1752480" y="2336760"/>
              <a:ext cx="1447920" cy="68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909721-0A68-4872-9349-1B0C00EC99E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7_0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3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7_0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37339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Increment valu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efore incrementing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value.prin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j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j++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value.addIncremen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fter increment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j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value.prin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3733920"/>
            <a:ext cx="701028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Before incrementing: count = 10, increment =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fter increment 1: count = 15, increment =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fter increment 2: count = 20, increment =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fter increment 3: count = 25, increment =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1CDE03-E9ED-4A59-AA08-DD3CFD951BC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7_0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800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7.5: fig07_05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ttempting to initialize a constant o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 built-in data type with an assignment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crement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Increment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fault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ddIncrement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nt += increment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addIncre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ints count and incre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8E1DBF-7279-466C-8321-51C5E824350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7_0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029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un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crement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const data memb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lass Incre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nstructor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crement::Increment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)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nstant member 'increment' is not initializ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nt = c;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llowed because count is not consta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   increment = i;  // ERROR: Cannot modify a const object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Increment constructor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int count and increment valu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crement::print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unt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cou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, increment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increment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pri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2590560" y="761760"/>
            <a:ext cx="4115160" cy="961920"/>
            <a:chOff x="2590560" y="761760"/>
            <a:chExt cx="4115160" cy="961920"/>
          </a:xfrm>
        </p:grpSpPr>
        <p:sp>
          <p:nvSpPr>
            <p:cNvPr id="171" name=""/>
            <p:cNvSpPr/>
            <p:nvPr/>
          </p:nvSpPr>
          <p:spPr>
            <a:xfrm>
              <a:off x="4038480" y="114300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clare increment a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n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data membe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 flipV="1">
              <a:off x="2590560" y="761760"/>
              <a:ext cx="144756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2057400" y="1600200"/>
            <a:ext cx="4114800" cy="838080"/>
            <a:chOff x="2057400" y="1600200"/>
            <a:chExt cx="4114800" cy="838080"/>
          </a:xfrm>
        </p:grpSpPr>
        <p:sp>
          <p:nvSpPr>
            <p:cNvPr id="174" name=""/>
            <p:cNvSpPr/>
            <p:nvPr/>
          </p:nvSpPr>
          <p:spPr>
            <a:xfrm>
              <a:off x="3505320" y="160020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ttempting to modify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n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data membe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ncrem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results in erro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>
              <a:off x="2057400" y="175248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E1958-91D9-4908-BBF0-C7235CFDF80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1 Introduc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abstr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-based programming (OB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hapters 6-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heritance and polymorphi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hapters 9 and 1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CC0CC-4443-4C23-9EB2-5C40A3B784C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7_0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3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7_0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37339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Increment valu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efore incrementing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value.prin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j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j++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value.addIncremen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fter increment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j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value.prin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3733920"/>
            <a:ext cx="7010280" cy="1600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:\cpphtp4_examples\ch07\Fig07_03\Fig07_03.cpp(30) : error C2758: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'increment' : must be initialized in constructor base/member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initializer 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:\cpphtp4_examples\ch07\Fig07_03\Fig07_03.cpp(24) :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see declaration of 'increment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:\cpphtp4_examples\ch07\Fig07_03\Fig07_03.cpp(32) : error C2166: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l-value specifies const objec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2971800" y="2895480"/>
            <a:ext cx="4114800" cy="1067400"/>
            <a:chOff x="2971800" y="2895480"/>
            <a:chExt cx="4114800" cy="1067400"/>
          </a:xfrm>
        </p:grpSpPr>
        <p:sp>
          <p:nvSpPr>
            <p:cNvPr id="180" name=""/>
            <p:cNvSpPr/>
            <p:nvPr/>
          </p:nvSpPr>
          <p:spPr>
            <a:xfrm>
              <a:off x="4419720" y="2895480"/>
              <a:ext cx="26668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ot using member initializer syntax to initializ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n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data membe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ncrem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results in erro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971800" y="304812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4038480" y="4038480"/>
            <a:ext cx="4114800" cy="838440"/>
            <a:chOff x="4038480" y="4038480"/>
            <a:chExt cx="4114800" cy="838440"/>
          </a:xfrm>
        </p:grpSpPr>
        <p:sp>
          <p:nvSpPr>
            <p:cNvPr id="183" name=""/>
            <p:cNvSpPr/>
            <p:nvPr/>
          </p:nvSpPr>
          <p:spPr>
            <a:xfrm>
              <a:off x="5486400" y="403848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ttempting to modify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n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data membe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ncrem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results in erro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>
              <a:off x="4038480" y="419112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28F243-69A9-4BA9-94A7-FEF95E56B54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3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omposition: Objects as Members of Class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79246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osition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ass has objects of other classes as memb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ruction of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ember objects constructed in order declared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 in order of constructor’s member initializer lis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tructed before enclosing class objects (host objects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65BB3-58F9-45DF-BF64-2766BEA257D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te1.h 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4864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7.6: date1.h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ate class definition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ember functions defined in date1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fnde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DATE1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defin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DATE1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ate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Dat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9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fault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print date in month/day/year form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~Date(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ovided to confirm destruction ord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onth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1-12 (January-December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ay;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1-31 based on mont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year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any yea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utility function to test proper day for month and yea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heckDay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class Da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endi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2057400" y="1523880"/>
            <a:ext cx="4114800" cy="1067400"/>
            <a:chOff x="2057400" y="1523880"/>
            <a:chExt cx="4114800" cy="1067400"/>
          </a:xfrm>
        </p:grpSpPr>
        <p:sp>
          <p:nvSpPr>
            <p:cNvPr id="190" name=""/>
            <p:cNvSpPr/>
            <p:nvPr/>
          </p:nvSpPr>
          <p:spPr>
            <a:xfrm>
              <a:off x="3505320" y="1523880"/>
              <a:ext cx="26668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ote no constructor with parameter of typ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D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 Recall compiler provides default copy constructo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2057400" y="1676520"/>
              <a:ext cx="14479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1E9005-F9C5-41D5-A7B2-4416E46EA3B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te1.cpp (1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7.7: date1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ember-function definitions for class Dat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clude Date class definition from date1.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ate1.h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nstructor confirms proper value for month; call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tility function checkDay to confirm proper value for d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ate::Dat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n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y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yr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mn &g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amp;&amp; mn &lt;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validate the mont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month = m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          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valid month set to 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month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Month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mn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invalid. Set to month 1.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year = yr;      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hould validate y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day = checkDay( dy );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validate the d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2D8025-6DA9-4FEB-BA06-6C915F30154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te1.cpp (2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257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output Date object to show when its constructor is call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ate object constructor for date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rint();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endl;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Date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int Date object in form month/day/yea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ate::print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month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/'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day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/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year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pri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Date object to show when its destructor is call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ate::~Date()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ate object destructor for date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rint();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endl;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destructor ~Date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2361960" y="761760"/>
            <a:ext cx="4115160" cy="1038240"/>
            <a:chOff x="2361960" y="761760"/>
            <a:chExt cx="4115160" cy="1038240"/>
          </a:xfrm>
        </p:grpSpPr>
        <p:sp>
          <p:nvSpPr>
            <p:cNvPr id="197" name=""/>
            <p:cNvSpPr/>
            <p:nvPr/>
          </p:nvSpPr>
          <p:spPr>
            <a:xfrm>
              <a:off x="3809880" y="121932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utput to show timing of constructor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 flipV="1">
              <a:off x="2361960" y="761760"/>
              <a:ext cx="144756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1981080" y="1066680"/>
            <a:ext cx="4114800" cy="1067400"/>
            <a:chOff x="1981080" y="1066680"/>
            <a:chExt cx="4114800" cy="1067400"/>
          </a:xfrm>
        </p:grpSpPr>
        <p:sp>
          <p:nvSpPr>
            <p:cNvPr id="200" name=""/>
            <p:cNvSpPr/>
            <p:nvPr/>
          </p:nvSpPr>
          <p:spPr>
            <a:xfrm>
              <a:off x="3429000" y="1066680"/>
              <a:ext cx="26668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o arguments; each member function contains implicit handle to object on which it operate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1981080" y="121932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2514600" y="3143160"/>
            <a:ext cx="3962520" cy="743040"/>
            <a:chOff x="2514600" y="3143160"/>
            <a:chExt cx="3962520" cy="743040"/>
          </a:xfrm>
        </p:grpSpPr>
        <p:sp>
          <p:nvSpPr>
            <p:cNvPr id="203" name=""/>
            <p:cNvSpPr/>
            <p:nvPr/>
          </p:nvSpPr>
          <p:spPr>
            <a:xfrm>
              <a:off x="3809880" y="314316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utput to show timing of destructor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>
              <a:off x="2514600" y="3295800"/>
              <a:ext cx="1295280" cy="59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DCAEBF-4BC0-4048-A070-7FA65719A34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te1.cpp (3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029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tility function to confirm proper day value based on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onth and year; handles leap years, too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ate::checkDay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estDay 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 const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aysPerMonth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etermine whether testDay is valid for specified mont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testDay &g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amp;&amp; testDay &lt;= daysPerMonth[ month ]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estDay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February 29 check for leap year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month =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amp;&amp; testDay =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amp;&amp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( year %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||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( year %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amp;&amp; year %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!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estDay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ay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testDay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invalid. Set to day 1.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leave object in consistent state if bad 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checkD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DA4675-6911-4B21-8C65-D8A830CF798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mployee1.h 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7.8: employee1.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mployee class definition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ember functions defined in employee1.cpp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fnde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EMPLOYEE1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defin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EMPLOYEE1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clude Date class definition from date1.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ate1.h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mployee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Employee(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ate &amp;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ate &amp;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~Employee(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ovided to confirm destruction ord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irstName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astName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ate birthDate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mposition: member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ate hireDate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mposition: member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class Employe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4343400" y="3809880"/>
            <a:ext cx="4114800" cy="1067400"/>
            <a:chOff x="4343400" y="3809880"/>
            <a:chExt cx="4114800" cy="1067400"/>
          </a:xfrm>
        </p:grpSpPr>
        <p:sp>
          <p:nvSpPr>
            <p:cNvPr id="210" name=""/>
            <p:cNvSpPr/>
            <p:nvPr/>
          </p:nvSpPr>
          <p:spPr>
            <a:xfrm>
              <a:off x="5791320" y="3809880"/>
              <a:ext cx="26668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sing composition;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mploye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bject contain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D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bjects as data member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>
              <a:off x="4343400" y="396216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11E52C-9475-40D9-9212-E72E2EBB97B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mployee1.h (2 of 2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mployee1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685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endi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1295280"/>
            <a:ext cx="7010280" cy="28195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7.9: employee1.cp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ember-function definitions for class Employe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</a:rPr>
              <a:t>4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</a:rPr>
              <a:t>7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cstring&gt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// strcpy and strlen prototy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</a:rPr>
              <a:t>9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mployee1.h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mployee class 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ate1.h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ate class 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</a:rPr>
              <a:t>12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B2B5B2-63A8-4E62-B15E-502E8EB47B2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mployee1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nstructor uses member initializer list to pass initializ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values to constructors of member objects birthDate and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hireDate [Note: This invokes the so-called "default copy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nstructor" which the C++ compiler provides implicitly.]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mployee::Employe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first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last,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ate &amp;dateOfBirth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ate &amp;dateOfHire )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: birthDate( dateOfBirth ),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itialize birthDate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hireDate( dateOfHire )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itialize hireDate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opy first into firstName and be sure that it fi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ength = strlen( firs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length = ( length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? length 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ncpy( firstName, first, length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firstName[ length ]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\0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opy last into lastName and be sure that it fi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length = strlen( las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length = ( length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? length 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ncpy( lastName, last, length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lastName[ length ]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\0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output Employee object to show when constructor is call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mployee object constructor: "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firstName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 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lastName &lt;&lt; endl;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3048120" y="1752120"/>
            <a:ext cx="3962160" cy="1539720"/>
            <a:chOff x="3048120" y="1752120"/>
            <a:chExt cx="3962160" cy="1539720"/>
          </a:xfrm>
        </p:grpSpPr>
        <p:sp>
          <p:nvSpPr>
            <p:cNvPr id="218" name=""/>
            <p:cNvSpPr/>
            <p:nvPr/>
          </p:nvSpPr>
          <p:spPr>
            <a:xfrm>
              <a:off x="4343400" y="1981080"/>
              <a:ext cx="266688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ember initializer syntax to initializ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D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data member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birthD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hireD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; compiler uses default copy constructo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 flipV="1">
              <a:off x="3048120" y="1752120"/>
              <a:ext cx="129528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2819160" y="4267080"/>
            <a:ext cx="4191120" cy="762120"/>
            <a:chOff x="2819160" y="4267080"/>
            <a:chExt cx="4191120" cy="762120"/>
          </a:xfrm>
        </p:grpSpPr>
        <p:sp>
          <p:nvSpPr>
            <p:cNvPr id="221" name=""/>
            <p:cNvSpPr/>
            <p:nvPr/>
          </p:nvSpPr>
          <p:spPr>
            <a:xfrm>
              <a:off x="4343400" y="426708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utput to show timing of constructor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2819160" y="4419720"/>
              <a:ext cx="152388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FCBA8-513A-47DB-AD4D-DD99D25C635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mployee1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45720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Employee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int Employee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mployee::print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lastName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,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firstName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Hired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hireDate.prin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 Birth date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birthDate.prin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pri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Employee object to show when its destructor is call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mployee::~Employee()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mployee object destructor: "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lastName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,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firstName &lt;&lt; endl;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destructor ~Employee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2895480" y="2895480"/>
            <a:ext cx="3962520" cy="743040"/>
            <a:chOff x="2895480" y="2895480"/>
            <a:chExt cx="3962520" cy="743040"/>
          </a:xfrm>
        </p:grpSpPr>
        <p:sp>
          <p:nvSpPr>
            <p:cNvPr id="226" name=""/>
            <p:cNvSpPr/>
            <p:nvPr/>
          </p:nvSpPr>
          <p:spPr>
            <a:xfrm>
              <a:off x="4190760" y="289548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utput to show timing of destructor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2895480" y="3048120"/>
              <a:ext cx="1295280" cy="59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166DE4-852B-4224-BA84-26873674151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7.2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const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 (Constant) Objects and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const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 Member Func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nciple of least privile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nly allow modification of necessary obje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yword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on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pecify object not modifiab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piler error if attempt to modify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ns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bjec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st Time noon( 12, 0, 0 );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lare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bjec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o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clas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i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itializes to 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B7380-F470-4D2A-BBE9-FCCF2C22AFF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7_10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7.10: fig07_10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monstrating composition--an object with member object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mployee1.h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mployee class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Date birth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94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Date hir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98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Employee manage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ob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Jone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birth, hir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\n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manager.prin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Test Date constructor with invalid values: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Date lastDayOff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99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valid month and d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3276360" y="2057400"/>
            <a:ext cx="4115160" cy="838080"/>
            <a:chOff x="3276360" y="2057400"/>
            <a:chExt cx="4115160" cy="838080"/>
          </a:xfrm>
        </p:grpSpPr>
        <p:sp>
          <p:nvSpPr>
            <p:cNvPr id="231" name=""/>
            <p:cNvSpPr/>
            <p:nvPr/>
          </p:nvSpPr>
          <p:spPr>
            <a:xfrm>
              <a:off x="4724280" y="205740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D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bjects to pass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mploye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constructo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3276360" y="220968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7A25C4-1D2E-4A5A-B455-92EFB6FE1BA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7_10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41911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ate object constructor for date 7/24/1949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ate object constructor for date 3/12/1988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mployee object constructor: Bob Jon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Jones, Bob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Hired: 3/12/1988  Birth date: 7/24/1949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est Date constructor with invalid values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onth 14 invalid. Set to month 1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35 invalid. Set to day 1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ate object constructor for date 1/1/1994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ate object destructor for date 1/1/1994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mployee object destructor: Jones, Bob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ate object destructor for date 3/12/1988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ate object destructor for date 7/24/1949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ate object destructor for date 3/12/1988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ate object destructor for date 7/24/1949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3657600" y="609120"/>
            <a:ext cx="3962520" cy="1296360"/>
            <a:chOff x="3657600" y="609120"/>
            <a:chExt cx="3962520" cy="1296360"/>
          </a:xfrm>
        </p:grpSpPr>
        <p:sp>
          <p:nvSpPr>
            <p:cNvPr id="236" name=""/>
            <p:cNvSpPr/>
            <p:nvPr/>
          </p:nvSpPr>
          <p:spPr>
            <a:xfrm>
              <a:off x="4952880" y="838080"/>
              <a:ext cx="266724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ote two additional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D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bjects constructed; no output since default copy constructor us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 flipV="1">
              <a:off x="3657600" y="609120"/>
              <a:ext cx="129528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3657240" y="2286000"/>
            <a:ext cx="4115160" cy="1310760"/>
            <a:chOff x="3657240" y="2286000"/>
            <a:chExt cx="4115160" cy="1310760"/>
          </a:xfrm>
        </p:grpSpPr>
        <p:sp>
          <p:nvSpPr>
            <p:cNvPr id="239" name=""/>
            <p:cNvSpPr/>
            <p:nvPr/>
          </p:nvSpPr>
          <p:spPr>
            <a:xfrm>
              <a:off x="5105160" y="2286000"/>
              <a:ext cx="266724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structor for host objec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manag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runs before destructors for member object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hireD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birthD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H="1">
              <a:off x="3657240" y="243828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3962160" y="2438280"/>
            <a:ext cx="4115160" cy="838440"/>
            <a:chOff x="3962160" y="2438280"/>
            <a:chExt cx="4115160" cy="838440"/>
          </a:xfrm>
        </p:grpSpPr>
        <p:sp>
          <p:nvSpPr>
            <p:cNvPr id="242" name=""/>
            <p:cNvSpPr/>
            <p:nvPr/>
          </p:nvSpPr>
          <p:spPr>
            <a:xfrm>
              <a:off x="5410080" y="243828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structor f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mploye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’s member objec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hireD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3962160" y="259092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3962160" y="2705040"/>
            <a:ext cx="4115160" cy="838440"/>
            <a:chOff x="3962160" y="2705040"/>
            <a:chExt cx="4115160" cy="838440"/>
          </a:xfrm>
        </p:grpSpPr>
        <p:sp>
          <p:nvSpPr>
            <p:cNvPr id="245" name=""/>
            <p:cNvSpPr/>
            <p:nvPr/>
          </p:nvSpPr>
          <p:spPr>
            <a:xfrm>
              <a:off x="5410080" y="270504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structor f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mploye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‘s member objec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birthD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>
              <a:off x="3962160" y="285768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3962160" y="2946240"/>
            <a:ext cx="4115160" cy="838440"/>
            <a:chOff x="3962160" y="2946240"/>
            <a:chExt cx="4115160" cy="838440"/>
          </a:xfrm>
        </p:grpSpPr>
        <p:sp>
          <p:nvSpPr>
            <p:cNvPr id="248" name=""/>
            <p:cNvSpPr/>
            <p:nvPr/>
          </p:nvSpPr>
          <p:spPr>
            <a:xfrm>
              <a:off x="5410080" y="294624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structor f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D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bjec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hir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3962160" y="309888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3962160" y="3124080"/>
            <a:ext cx="4115160" cy="838440"/>
            <a:chOff x="3962160" y="3124080"/>
            <a:chExt cx="4115160" cy="838440"/>
          </a:xfrm>
        </p:grpSpPr>
        <p:sp>
          <p:nvSpPr>
            <p:cNvPr id="251" name=""/>
            <p:cNvSpPr/>
            <p:nvPr/>
          </p:nvSpPr>
          <p:spPr>
            <a:xfrm>
              <a:off x="5410080" y="312408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structor f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D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bjec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birth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3962160" y="327672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C0A2A2-BEA8-4535-BD10-8BA339AFEDC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7.4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friend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 Functions and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friend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 Class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fri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fined outside class’s sco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ight to access non-public memb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laring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fri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un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cede function prototype with keywor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ri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ll member functions of clas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lassTwo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rien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 of clas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lassOn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ace declaration of 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riend class ClassTw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O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fin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6448C-99EF-4CF0-9DD6-552D72FEEF4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7.4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friend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 Functions and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friend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 Class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erties of friendsh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riendship granted, not tak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as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rie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clas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as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ust explicitly declare clas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ri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t symmetric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as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rie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clas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as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not necessaril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rie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clas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t transitiv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as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rie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clas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as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rie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clas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as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not necessaril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rie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Clas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CC446-AEC4-4845-B697-175B0131FAC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7_11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800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7.11: fig07_11.cpp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riends can access private members of a clas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unt class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unt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riend 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X( Count &amp;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riend declar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nt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: x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itialize x to 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mpty bod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ount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1904760" y="1295280"/>
            <a:ext cx="4115160" cy="838440"/>
            <a:chOff x="1904760" y="1295280"/>
            <a:chExt cx="4115160" cy="838440"/>
          </a:xfrm>
        </p:grpSpPr>
        <p:sp>
          <p:nvSpPr>
            <p:cNvPr id="260" name=""/>
            <p:cNvSpPr/>
            <p:nvPr/>
          </p:nvSpPr>
          <p:spPr>
            <a:xfrm>
              <a:off x="3352680" y="129528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recede function prototype with keywor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frien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>
              <a:off x="1904760" y="144792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26E6B9-19D6-465B-9A7F-FB502B92B522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7_11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45720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output x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x &lt;&lt; endl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pri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ata memb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lass Cou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unction setX can modify private data of Count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because setX is declared as a friend of Count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X( Count &amp;c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val )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.x = val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legal: setX is a friend of Cou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setX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1828800" y="2438280"/>
            <a:ext cx="4114800" cy="838440"/>
            <a:chOff x="1828800" y="2438280"/>
            <a:chExt cx="4114800" cy="838440"/>
          </a:xfrm>
        </p:grpSpPr>
        <p:sp>
          <p:nvSpPr>
            <p:cNvPr id="265" name=""/>
            <p:cNvSpPr/>
            <p:nvPr/>
          </p:nvSpPr>
          <p:spPr>
            <a:xfrm>
              <a:off x="3276720" y="243828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u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bject since C-style, standalone func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1828800" y="259092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914400" y="2895480"/>
            <a:ext cx="4114800" cy="1067400"/>
            <a:chOff x="914400" y="2895480"/>
            <a:chExt cx="4114800" cy="1067400"/>
          </a:xfrm>
        </p:grpSpPr>
        <p:sp>
          <p:nvSpPr>
            <p:cNvPr id="268" name=""/>
            <p:cNvSpPr/>
            <p:nvPr/>
          </p:nvSpPr>
          <p:spPr>
            <a:xfrm>
              <a:off x="2362320" y="2895480"/>
              <a:ext cx="26668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inc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etX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frien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u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, can access and modify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v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data membe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914400" y="304812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AEE205-B0BB-485D-8E62-86F808D621D0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7_11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3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7_11.cpp 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3581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nt counter;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reate Count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unter.x after instantiation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nter.prin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etX( counter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x with a frien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unter.x after call to setX friend function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nter.prin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3581280"/>
            <a:ext cx="7010280" cy="685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unter.x after instantiation: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ounter.x after call to setX friend function: 8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2514600" y="914400"/>
            <a:ext cx="4114800" cy="838080"/>
            <a:chOff x="2514600" y="914400"/>
            <a:chExt cx="4114800" cy="838080"/>
          </a:xfrm>
        </p:grpSpPr>
        <p:sp>
          <p:nvSpPr>
            <p:cNvPr id="274" name=""/>
            <p:cNvSpPr/>
            <p:nvPr/>
          </p:nvSpPr>
          <p:spPr>
            <a:xfrm>
              <a:off x="3962520" y="91440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s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frien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function to access and modify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v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data membe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H="1">
              <a:off x="2514600" y="106668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788D95-8B7A-4D81-8401-C8A3139E730B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7_12.cpp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029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7.12: fig07_12.cpp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Non-friend/non-member functions cannot acce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ivate data of a clas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unt class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(note that there is no friendship declaration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unt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nt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: x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itialize x to 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mpty bod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ount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BBB341-7C92-457F-9084-816DA1DF99E8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7_12.cpp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45720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output x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x &lt;&lt; endl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pri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data memb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lass Cou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unction tries to modify private data of Count,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but cannot because function is not a friend of Count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annotSetX( Count &amp;c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val )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   c.x = val;  // ERROR: cannot access private member in Cou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cannotSetX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1523880" y="2819520"/>
            <a:ext cx="4114800" cy="1067400"/>
            <a:chOff x="1523880" y="2819520"/>
            <a:chExt cx="4114800" cy="1067400"/>
          </a:xfrm>
        </p:grpSpPr>
        <p:sp>
          <p:nvSpPr>
            <p:cNvPr id="281" name=""/>
            <p:cNvSpPr/>
            <p:nvPr/>
          </p:nvSpPr>
          <p:spPr>
            <a:xfrm>
              <a:off x="2971800" y="2819520"/>
              <a:ext cx="26668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ttempting to modify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v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data member from non-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frien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function results in erro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>
              <a:off x="1523880" y="29718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6835D3-3212-45AC-9E64-7B21552A488A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7_12.cpp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3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7_12.cpp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2209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nt counter; 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reate Count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annotSetX( counter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annotSetX is not a frien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85" name=""/>
          <p:cNvSpPr/>
          <p:nvPr/>
        </p:nvSpPr>
        <p:spPr>
          <a:xfrm>
            <a:off x="0" y="2209680"/>
            <a:ext cx="7010280" cy="10670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:\cpphtp4_examples\ch07\Fig07_12\Fig07_12.cpp(39) : error C2248: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'x' : cannot access private member declared in class 'Count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:\cpphtp4_examples\ch07\Fig07_12\Fig07_12.cpp(31) :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see declaration of 'x'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3428640" y="3047760"/>
            <a:ext cx="3886560" cy="1378800"/>
            <a:chOff x="3428640" y="3047760"/>
            <a:chExt cx="3886560" cy="1378800"/>
          </a:xfrm>
        </p:grpSpPr>
        <p:sp>
          <p:nvSpPr>
            <p:cNvPr id="287" name=""/>
            <p:cNvSpPr/>
            <p:nvPr/>
          </p:nvSpPr>
          <p:spPr>
            <a:xfrm>
              <a:off x="4648320" y="3359160"/>
              <a:ext cx="26668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ttempting to modify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v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data member from non-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frien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function results in erro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 flipV="1">
              <a:off x="3428640" y="3047760"/>
              <a:ext cx="1219320" cy="46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2D50DD-178F-49F2-A1DA-1FCDDEE49CEE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7.2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const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 (Constant) Objects and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const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 Member Func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84582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on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ember functions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ember functions fo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ns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bjects must also b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n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not modify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pecify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ns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n both prototype and defini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to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fter parameter l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fore beginning left br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FE016-430D-42E4-B064-1A9A93B3725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5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Using the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this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Pointer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30592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thi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int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llows object to access own addre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t part of object itself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licit argument to non-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ember function c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mplicitly reference member data and function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ype of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hi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pointer depends 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ype of objec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ther member function i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non-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ember function o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mploy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hi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typ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mployee * cons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tant pointer to non-consta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bjec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ember function o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mploy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hi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typ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st Employee * cons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tant pointer to consta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769D4-0227-462B-8CDA-E0183062279C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7_13.cpp 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7.13: fig07_13.cpp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ing the this pointer to refer to object member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est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est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fault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lass Te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est::Test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value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: x( value )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itialize x to 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empty body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Test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7A56CD-9BB0-410E-B123-648473C3FEDA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7_13.cpp 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int x using implicit and explicit this pointer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arentheses around *this requir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est::print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mplicitly use this pointer to access member x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"        x = " &lt;&lt; x;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explicitly use this pointer to access member x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"\n  this-&gt;x = " &lt;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-&gt;x;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explicitly use dereferenced this pointer and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the dot operator to access member x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"\n(*this).x = " &lt;&lt; ( *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.x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pri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est testObjec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estObject.prin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3276360" y="665280"/>
            <a:ext cx="4115160" cy="838080"/>
            <a:chOff x="3276360" y="665280"/>
            <a:chExt cx="4115160" cy="838080"/>
          </a:xfrm>
        </p:grpSpPr>
        <p:sp>
          <p:nvSpPr>
            <p:cNvPr id="296" name=""/>
            <p:cNvSpPr/>
            <p:nvPr/>
          </p:nvSpPr>
          <p:spPr>
            <a:xfrm>
              <a:off x="4724280" y="665280"/>
              <a:ext cx="26672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mplicitly us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hi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pointer; only specify name of data member (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flipH="1">
              <a:off x="3276360" y="81756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3657600" y="1330200"/>
            <a:ext cx="4114800" cy="838440"/>
            <a:chOff x="3657600" y="1330200"/>
            <a:chExt cx="4114800" cy="838440"/>
          </a:xfrm>
        </p:grpSpPr>
        <p:sp>
          <p:nvSpPr>
            <p:cNvPr id="299" name=""/>
            <p:cNvSpPr/>
            <p:nvPr/>
          </p:nvSpPr>
          <p:spPr>
            <a:xfrm>
              <a:off x="5105520" y="133020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xplicitly us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hi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pointer with arrow operato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>
              <a:off x="3657600" y="148284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3657600" y="2168640"/>
            <a:ext cx="4114800" cy="838080"/>
            <a:chOff x="3657600" y="2168640"/>
            <a:chExt cx="4114800" cy="838080"/>
          </a:xfrm>
        </p:grpSpPr>
        <p:sp>
          <p:nvSpPr>
            <p:cNvPr id="302" name=""/>
            <p:cNvSpPr/>
            <p:nvPr/>
          </p:nvSpPr>
          <p:spPr>
            <a:xfrm>
              <a:off x="5105520" y="216864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xplicitly us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hi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pointer; dereferenc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hi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pointer first, then use dot operato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>
              <a:off x="3657600" y="232092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EFB8C6-C642-44DE-B57B-33E602A20EA2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7_13.cpp 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3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7_13.cpp 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335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// end mai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6" name=""/>
          <p:cNvSpPr/>
          <p:nvPr/>
        </p:nvSpPr>
        <p:spPr>
          <a:xfrm>
            <a:off x="0" y="457200"/>
            <a:ext cx="7010280" cy="990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-&gt;x =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*this).x = 1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5D40E0-FCA4-4DC1-B3BD-6F0AFE27B1EC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5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Using the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this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Pointer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81532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caded member function ca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ultiple functions invoked in same state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unction returns reference pointer to same objec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 return *this; }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ther functions operate on that poin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unctions that do not return references must be called la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0A5B1-A0DE-4E02-8CE1-6D9D66C63347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ime6.h 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4864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7.14: time6.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ascading member function call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ime class definition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ember functions defined in time6.cpp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fnde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TIME6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defin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TIME6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im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fault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functions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ime &amp;setTim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hour, minute, secon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ime &amp;setHour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hour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ime &amp;setMinut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minute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ime &amp;setSecon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second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functions (normally declared const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Hour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hou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Minute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minu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Second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secon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590560" y="2327400"/>
            <a:ext cx="4115160" cy="1067400"/>
            <a:chOff x="2590560" y="2327400"/>
            <a:chExt cx="4115160" cy="1067400"/>
          </a:xfrm>
        </p:grpSpPr>
        <p:sp>
          <p:nvSpPr>
            <p:cNvPr id="312" name=""/>
            <p:cNvSpPr/>
            <p:nvPr/>
          </p:nvSpPr>
          <p:spPr>
            <a:xfrm>
              <a:off x="4038480" y="2327400"/>
              <a:ext cx="266724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et functions return reference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i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bject to enable cascaded member function call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2590560" y="247968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7C1515-37B2-4029-B95C-7BDF9268C291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ime6.h (2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28954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print functions (normally declared const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Universal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print universal ti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Standard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int standard ti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our;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0 - 23 (24-hour clock format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inute;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// 0 - 59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cond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0 - 59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lass Ti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endi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0E9F5-890D-44EC-AFD9-7E3024172AAF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ime6.cpp (1 of 5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029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7.15: time6.cpp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ember-function definitions for Time clas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mani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etfil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etw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ime6.h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ime class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nstructor function to initialize private data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alls member function setTime to set variable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fault values are 0 (see class definition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ime::Tim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r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in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c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etTime( hr, min, sec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Time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03C99C-12D4-4ADF-A30E-95F36B2A2CC0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ime6.cpp (2 of 5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45720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values of hour, minute, and secon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ime &amp;Time::setTim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etHour( h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etMinute( m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etSecond( s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ables cascad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setTi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hour 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ime &amp;Time::setHour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hour = ( h &gt;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amp;&amp; h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? h 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ables cascad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setHou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2057400" y="990720"/>
            <a:ext cx="4114800" cy="838080"/>
            <a:chOff x="2057400" y="990720"/>
            <a:chExt cx="4114800" cy="838080"/>
          </a:xfrm>
        </p:grpSpPr>
        <p:sp>
          <p:nvSpPr>
            <p:cNvPr id="321" name=""/>
            <p:cNvSpPr/>
            <p:nvPr/>
          </p:nvSpPr>
          <p:spPr>
            <a:xfrm>
              <a:off x="3505320" y="99072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tur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*thi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s reference to enable cascaded member function call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H="1">
              <a:off x="2057400" y="11430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2057400" y="2971800"/>
            <a:ext cx="4114800" cy="838080"/>
            <a:chOff x="2057400" y="2971800"/>
            <a:chExt cx="4114800" cy="838080"/>
          </a:xfrm>
        </p:grpSpPr>
        <p:sp>
          <p:nvSpPr>
            <p:cNvPr id="324" name=""/>
            <p:cNvSpPr/>
            <p:nvPr/>
          </p:nvSpPr>
          <p:spPr>
            <a:xfrm>
              <a:off x="3505320" y="297180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tur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*thi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s reference to enable cascaded member function call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>
              <a:off x="2057400" y="312408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11A816-639F-4A0F-977A-1D9E0A26A79E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ime6.cpp (3 of 5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minute 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ime &amp;Time::setMinut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minute = ( m &gt;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amp;&amp; m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? m 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ables cascad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function setMinu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second 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ime &amp;Time::setSecon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econd = ( s &gt;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amp;&amp; s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? s 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ables cascad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setSecon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get hour 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::getHour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our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getHou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1981080" y="533520"/>
            <a:ext cx="4114800" cy="838080"/>
            <a:chOff x="1981080" y="533520"/>
            <a:chExt cx="4114800" cy="838080"/>
          </a:xfrm>
        </p:grpSpPr>
        <p:sp>
          <p:nvSpPr>
            <p:cNvPr id="329" name=""/>
            <p:cNvSpPr/>
            <p:nvPr/>
          </p:nvSpPr>
          <p:spPr>
            <a:xfrm>
              <a:off x="3429000" y="53352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tur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*thi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s reference to enable cascaded member function call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1981080" y="6858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1981080" y="2514600"/>
            <a:ext cx="4114800" cy="838080"/>
            <a:chOff x="1981080" y="2514600"/>
            <a:chExt cx="4114800" cy="838080"/>
          </a:xfrm>
        </p:grpSpPr>
        <p:sp>
          <p:nvSpPr>
            <p:cNvPr id="332" name=""/>
            <p:cNvSpPr/>
            <p:nvPr/>
          </p:nvSpPr>
          <p:spPr>
            <a:xfrm>
              <a:off x="3429000" y="251460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tur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*thi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s reference to enable cascaded member function call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1981080" y="266688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6D66D3-589C-48A6-9383-2E025CE28D97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7.2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const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 (Constant) Objects and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const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 Member Func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ructors and destruc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not b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n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ust be able to modify obje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tru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itializes ob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tru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s termination housekeep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5F704-1FA7-475C-8B09-FC712E52932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ime6.cpp (4 of 5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257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get minute 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::getMinute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inute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getMinu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get second 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::getSecond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cond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function getSecon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int Time in universal format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::printUniversal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setfill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0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hour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: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minute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: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secon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printUniversa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76C6C2-4628-4B34-8328-98A02A06F60C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ime6.cpp (5 of 5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2209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int Time in standard form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::printStandard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( ( hour =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|| hour =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?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hour %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: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setfill(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'0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minu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: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second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( hour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?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AM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PM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printStandar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C7CD1F-88B8-4719-8F93-EA073BAE3864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7_16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7.16: fig07_16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ascading member function calls with the this pointer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ime6.h"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Time class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ime 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ascaded function calls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.setHou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.setMinut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.setSecon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output time in universal and standard forma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Universal time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.printUniversal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Standard time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.printStandard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New standard time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2857320" y="2362320"/>
            <a:ext cx="4115160" cy="838080"/>
            <a:chOff x="2857320" y="2362320"/>
            <a:chExt cx="4115160" cy="838080"/>
          </a:xfrm>
        </p:grpSpPr>
        <p:sp>
          <p:nvSpPr>
            <p:cNvPr id="341" name=""/>
            <p:cNvSpPr/>
            <p:nvPr/>
          </p:nvSpPr>
          <p:spPr>
            <a:xfrm>
              <a:off x="4305240" y="2362320"/>
              <a:ext cx="26672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scade member function calls; recall dot operator associates from left to righ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>
              <a:off x="2857320" y="251460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A66E2F-B7A2-41DF-BDCE-7FE8613F75CD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7_16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7_16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19810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ascaded function calls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.setTim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.printStandard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5" name=""/>
          <p:cNvSpPr/>
          <p:nvPr/>
        </p:nvSpPr>
        <p:spPr>
          <a:xfrm>
            <a:off x="0" y="1981080"/>
            <a:ext cx="701028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Universal time: 18:30: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andard time: 6:30:22 P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standard time: 8:20:20 P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3238560" y="609120"/>
            <a:ext cx="4304880" cy="1539720"/>
            <a:chOff x="3238560" y="609120"/>
            <a:chExt cx="4304880" cy="1539720"/>
          </a:xfrm>
        </p:grpSpPr>
        <p:sp>
          <p:nvSpPr>
            <p:cNvPr id="347" name=""/>
            <p:cNvSpPr/>
            <p:nvPr/>
          </p:nvSpPr>
          <p:spPr>
            <a:xfrm>
              <a:off x="4876560" y="838080"/>
              <a:ext cx="266688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Function call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ntStandar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must appear last;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ntStandar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does not return reference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 flipV="1">
              <a:off x="3238560" y="609120"/>
              <a:ext cx="163800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D532BA-EF01-4CED-A244-D7ED199FB3ED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7.6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Dynamic Memory Management with Operators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new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 and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delet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ynamic memory manag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trol allocation and deallocation of memo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perator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dele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lude standard heade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new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cess to standard version o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F55C2-D858-4C50-B58B-65A29D4C0236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7.6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Dynamic Memory Management with Operators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new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 and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delet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n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sid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ime *timePtr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imePtr = new Tim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pera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s object of proper size for typ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rror if no space in memory for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lls default constructor for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pointer of specified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viding initializ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uble *ptr = new double( 3.14159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ime *timePtr = new Time( 12, 0, 0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llocating array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*gradesArray = new int[ 10 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75BDB-99AA-48A7-8930-91BA9B87F725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7.6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Dynamic Memory Management with Operators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new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 and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delet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ele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stroy dynamically allocated object and free spa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sid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elete timePtr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perato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dele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lls destructor for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allocates memory associated with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mory can be reused to allocate other ob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allocating array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elete [] gradesArray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allocates array to whi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radesArra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pointer to array of ob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st calls destructor for each object in arr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n deallocates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0A2DD-95DB-4421-AFC8-2F1A638A1431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7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static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Class Membe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lass var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ass-wide” da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perty of class, not specific object of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fficient when single copy of data is enough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ly th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variable has to be upd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ay seem like global variables, but have class sco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ly accessible to objects of same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itialized exactly once at file sco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ist even if no objects of class exi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 b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vat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otect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5656D-41A3-4D04-B1AA-AEF9F5EC8FB6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7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static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Class Members 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440" y="1066320"/>
            <a:ext cx="79246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essing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lass vari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ccessible through any 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vari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also be accessed using binary scope resolution operator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: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mployee::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vat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vari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n no class member objects ex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only be accessed via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ember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call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ember function combine class name, binary scope resolution operato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::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function 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mployee::getCount(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A9419-D09B-426C-BDE5-6C5BC0B3CB72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7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static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Class Members 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ember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nnot access non-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data or function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hi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pointer fo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un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ata members 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ember functions exist independent of ob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82840-6DAE-4912-89D2-E295D20C91DE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ime5.h 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7.1: time5.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finition of class Tim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ember functions defined in time5.cpp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fnde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TIME5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defin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TIME5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im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default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funct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Tim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set ti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Hour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set hou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Minut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minu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Secon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secon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functions (normally declared const)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Hour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return hour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Minute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return minu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Second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return secon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print functions (normally declared const)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Universal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print universal ti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Standard();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print standard ti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4724280" y="3165480"/>
            <a:ext cx="4114800" cy="838080"/>
            <a:chOff x="4724280" y="3165480"/>
            <a:chExt cx="4114800" cy="838080"/>
          </a:xfrm>
        </p:grpSpPr>
        <p:sp>
          <p:nvSpPr>
            <p:cNvPr id="100" name=""/>
            <p:cNvSpPr/>
            <p:nvPr/>
          </p:nvSpPr>
          <p:spPr>
            <a:xfrm>
              <a:off x="6172200" y="3165480"/>
              <a:ext cx="26668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clar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n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get function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4724280" y="331776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4724280" y="4419720"/>
            <a:ext cx="4114800" cy="838080"/>
            <a:chOff x="4724280" y="4419720"/>
            <a:chExt cx="4114800" cy="838080"/>
          </a:xfrm>
        </p:grpSpPr>
        <p:sp>
          <p:nvSpPr>
            <p:cNvPr id="103" name=""/>
            <p:cNvSpPr/>
            <p:nvPr/>
          </p:nvSpPr>
          <p:spPr>
            <a:xfrm>
              <a:off x="6172200" y="441972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clar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n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functio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ntUniversa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>
              <a:off x="4724280" y="45720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CF2E19-C68A-4473-A169-72429037E8F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mployee2.h 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7.17: employee2.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mployee class definition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fnde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EMPLOYEE2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defin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EMPLOYEE2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mployee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Employe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char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*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char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* 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~Employee();            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getFirstName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first 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getLastName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last 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tatic member function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Count(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# objects instantiat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firstNam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lastNam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tatic data member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unt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number of objects instantiat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class Employe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2857320" y="2473200"/>
            <a:ext cx="4115160" cy="1067400"/>
            <a:chOff x="2857320" y="2473200"/>
            <a:chExt cx="4115160" cy="1067400"/>
          </a:xfrm>
        </p:grpSpPr>
        <p:sp>
          <p:nvSpPr>
            <p:cNvPr id="364" name=""/>
            <p:cNvSpPr/>
            <p:nvPr/>
          </p:nvSpPr>
          <p:spPr>
            <a:xfrm>
              <a:off x="4305240" y="2473200"/>
              <a:ext cx="266724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tatic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member function can only acce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tatic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data members and member function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857320" y="262584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2438280" y="3962520"/>
            <a:ext cx="4114800" cy="838080"/>
            <a:chOff x="2438280" y="3962520"/>
            <a:chExt cx="4114800" cy="838080"/>
          </a:xfrm>
        </p:grpSpPr>
        <p:sp>
          <p:nvSpPr>
            <p:cNvPr id="367" name=""/>
            <p:cNvSpPr/>
            <p:nvPr/>
          </p:nvSpPr>
          <p:spPr>
            <a:xfrm>
              <a:off x="3886200" y="396252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tatic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data member is class-wide data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flipH="1">
              <a:off x="2438280" y="41148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72A0CB-8B58-40B5-A3BB-F31FA8240B25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mployee2.h (2 of 2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mployee2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335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#end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1" name=""/>
          <p:cNvSpPr/>
          <p:nvPr/>
        </p:nvSpPr>
        <p:spPr>
          <a:xfrm>
            <a:off x="0" y="762120"/>
            <a:ext cx="7010280" cy="5029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7.18: employee2.cp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ember-function definitions for class Employe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</a:rPr>
              <a:t>4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</a:rPr>
              <a:t>7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new&gt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++ standard new op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cstring&gt;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trcpy and strlen prototy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</a:rPr>
              <a:t>10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mployee2.h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mployee class defini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</a:rPr>
              <a:t>12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</a:rPr>
              <a:t>1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fine and initialize static data me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</a:rPr>
              <a:t>1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mployee::count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</a:rPr>
              <a:t>15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</a:rPr>
              <a:t>1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fine static member function that returns number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</a:rPr>
              <a:t>1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mployee objects instantiated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</a:rPr>
              <a:t>1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mployee::getCount()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unt;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static function getCount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2819160" y="2992320"/>
            <a:ext cx="4115160" cy="838440"/>
            <a:chOff x="2819160" y="2992320"/>
            <a:chExt cx="4115160" cy="838440"/>
          </a:xfrm>
        </p:grpSpPr>
        <p:sp>
          <p:nvSpPr>
            <p:cNvPr id="373" name=""/>
            <p:cNvSpPr/>
            <p:nvPr/>
          </p:nvSpPr>
          <p:spPr>
            <a:xfrm>
              <a:off x="4267080" y="2992320"/>
              <a:ext cx="26672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itializ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tatic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data member exactly once at file scop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H="1">
              <a:off x="2819160" y="314496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"/>
          <p:cNvGrpSpPr/>
          <p:nvPr/>
        </p:nvGrpSpPr>
        <p:grpSpPr>
          <a:xfrm>
            <a:off x="2819160" y="4038480"/>
            <a:ext cx="4115160" cy="838440"/>
            <a:chOff x="2819160" y="4038480"/>
            <a:chExt cx="4115160" cy="838440"/>
          </a:xfrm>
        </p:grpSpPr>
        <p:sp>
          <p:nvSpPr>
            <p:cNvPr id="376" name=""/>
            <p:cNvSpPr/>
            <p:nvPr/>
          </p:nvSpPr>
          <p:spPr>
            <a:xfrm>
              <a:off x="4267080" y="4038480"/>
              <a:ext cx="26672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tatic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member function accesse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tatic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data membe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u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H="1">
              <a:off x="2819160" y="419112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EF0E8A-8E7E-4D5A-9264-1DEC5EC7FB20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mployee2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nstructor dynamically allocates space for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rst and last name and uses strcpy to copy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rst and last names into the object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mployee::Employe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first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las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firstNam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[ strlen( first )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cpy( firstName, firs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lastNam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 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[ strlen( last )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cpy( lastName, las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++count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crement static count of employe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mployee constructor for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first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 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lastName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called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Employee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structor deallocates dynamically allocated memo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mployee::~Employee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~Employee() called for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first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' 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lastName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1904760" y="1025640"/>
            <a:ext cx="5943960" cy="1108080"/>
            <a:chOff x="1904760" y="1025640"/>
            <a:chExt cx="5943960" cy="1108080"/>
          </a:xfrm>
        </p:grpSpPr>
        <p:sp>
          <p:nvSpPr>
            <p:cNvPr id="381" name=""/>
            <p:cNvSpPr/>
            <p:nvPr/>
          </p:nvSpPr>
          <p:spPr>
            <a:xfrm>
              <a:off x="5181480" y="102564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new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perator dynamically allocates spac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H="1">
              <a:off x="1904760" y="1177920"/>
              <a:ext cx="3276360" cy="34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H="1">
              <a:off x="1904760" y="1177920"/>
              <a:ext cx="3276360" cy="95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4" name=""/>
          <p:cNvGrpSpPr/>
          <p:nvPr/>
        </p:nvGrpSpPr>
        <p:grpSpPr>
          <a:xfrm>
            <a:off x="1523880" y="2057400"/>
            <a:ext cx="4114800" cy="838080"/>
            <a:chOff x="1523880" y="2057400"/>
            <a:chExt cx="4114800" cy="838080"/>
          </a:xfrm>
        </p:grpSpPr>
        <p:sp>
          <p:nvSpPr>
            <p:cNvPr id="385" name=""/>
            <p:cNvSpPr/>
            <p:nvPr/>
          </p:nvSpPr>
          <p:spPr>
            <a:xfrm>
              <a:off x="2971800" y="205740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s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tatic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data member to store total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u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f employee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H="1">
              <a:off x="1523880" y="220968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290269-3B32-4C28-8A8C-18DD069292F3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mployee2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867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ele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[] firstName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recapture memo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ele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[] lastName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capture memo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--count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decrement static count of employe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destructor ~Employe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first name of employe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Employee::getFirstName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onst before return type prevents client from modify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private data; client should copy returned string befor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estructor deletes storage to prevent undefined poin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irstNam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getFirst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last name of employe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Employee::getLastName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onst before return type prevents client from modify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private data; client should copy returned string befor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estructor deletes storage to prevent undefined poin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astNam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getLast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1143000" y="380520"/>
            <a:ext cx="4991040" cy="1266840"/>
            <a:chOff x="1143000" y="380520"/>
            <a:chExt cx="4991040" cy="1266840"/>
          </a:xfrm>
        </p:grpSpPr>
        <p:sp>
          <p:nvSpPr>
            <p:cNvPr id="390" name=""/>
            <p:cNvSpPr/>
            <p:nvPr/>
          </p:nvSpPr>
          <p:spPr>
            <a:xfrm>
              <a:off x="3467160" y="106668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perat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dele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deallocates memory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 flipV="1">
              <a:off x="1143000" y="380520"/>
              <a:ext cx="232416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H="1" flipV="1">
              <a:off x="1143000" y="609480"/>
              <a:ext cx="232416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3" name=""/>
          <p:cNvGrpSpPr/>
          <p:nvPr/>
        </p:nvGrpSpPr>
        <p:grpSpPr>
          <a:xfrm>
            <a:off x="1447560" y="990360"/>
            <a:ext cx="3886560" cy="979560"/>
            <a:chOff x="1447560" y="990360"/>
            <a:chExt cx="3886560" cy="979560"/>
          </a:xfrm>
        </p:grpSpPr>
        <p:sp>
          <p:nvSpPr>
            <p:cNvPr id="394" name=""/>
            <p:cNvSpPr/>
            <p:nvPr/>
          </p:nvSpPr>
          <p:spPr>
            <a:xfrm>
              <a:off x="2667240" y="114588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s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tatic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data member to store total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u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f employee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H="1" flipV="1">
              <a:off x="1447560" y="990360"/>
              <a:ext cx="1219320" cy="30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35B64F-D69C-4B04-A5AB-261CB6E38634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7_19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029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7.19: fig07_19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river to test class Employe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new&gt;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++ standard new opera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mployee2.h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mployee class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Number of employees before instantiation is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Employee::getCount() &lt;&lt; endl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e class 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Employee *e1Pt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mploye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usa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aker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Employee *e2Pt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mployee(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Rober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Jone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Number of employees after instantiation is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e1Ptr-&gt;getCoun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2666880" y="3235320"/>
            <a:ext cx="5943600" cy="727200"/>
            <a:chOff x="2666880" y="3235320"/>
            <a:chExt cx="5943600" cy="727200"/>
          </a:xfrm>
        </p:grpSpPr>
        <p:sp>
          <p:nvSpPr>
            <p:cNvPr id="399" name=""/>
            <p:cNvSpPr/>
            <p:nvPr/>
          </p:nvSpPr>
          <p:spPr>
            <a:xfrm>
              <a:off x="5943600" y="323532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new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perator dynamically allocates spac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>
              <a:off x="2666880" y="3387600"/>
              <a:ext cx="3276720" cy="34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 flipH="1">
              <a:off x="2666880" y="3387600"/>
              <a:ext cx="3276720" cy="57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2209680" y="3733920"/>
            <a:ext cx="4114800" cy="838080"/>
            <a:chOff x="2209680" y="3733920"/>
            <a:chExt cx="4114800" cy="838080"/>
          </a:xfrm>
        </p:grpSpPr>
        <p:sp>
          <p:nvSpPr>
            <p:cNvPr id="403" name=""/>
            <p:cNvSpPr/>
            <p:nvPr/>
          </p:nvSpPr>
          <p:spPr>
            <a:xfrm>
              <a:off x="3657600" y="373392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tatic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member function can be invoked on any object of clas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H="1">
              <a:off x="2209680" y="38862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8BA285-761C-4F69-B398-3DE01B59A87F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7_19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41911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Employee 1: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e1Ptr-&gt;getFirstName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e1Ptr-&gt;getLastName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Employee 2: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e2Ptr-&gt;getFirstName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2Ptr-&gt;getLastName()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ele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1Ptr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capture memory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e1Ptr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isconnect pointer from free-store spa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ele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2Ptr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capture memory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e2Ptr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isconnect pointer from free-store spa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Number of employees after deletion is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Employee::getCount()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1143000" y="1905120"/>
            <a:ext cx="4991040" cy="1266480"/>
            <a:chOff x="1143000" y="1905120"/>
            <a:chExt cx="4991040" cy="1266480"/>
          </a:xfrm>
        </p:grpSpPr>
        <p:sp>
          <p:nvSpPr>
            <p:cNvPr id="408" name=""/>
            <p:cNvSpPr/>
            <p:nvPr/>
          </p:nvSpPr>
          <p:spPr>
            <a:xfrm>
              <a:off x="3467160" y="259092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perat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dele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deallocates memory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 flipV="1">
              <a:off x="1143000" y="1905120"/>
              <a:ext cx="232416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H="1" flipV="1">
              <a:off x="1143000" y="2362320"/>
              <a:ext cx="232416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1" name=""/>
          <p:cNvGrpSpPr/>
          <p:nvPr/>
        </p:nvGrpSpPr>
        <p:grpSpPr>
          <a:xfrm>
            <a:off x="2743200" y="2171880"/>
            <a:ext cx="4114800" cy="1067400"/>
            <a:chOff x="2743200" y="2171880"/>
            <a:chExt cx="4114800" cy="1067400"/>
          </a:xfrm>
        </p:grpSpPr>
        <p:sp>
          <p:nvSpPr>
            <p:cNvPr id="412" name=""/>
            <p:cNvSpPr/>
            <p:nvPr/>
          </p:nvSpPr>
          <p:spPr>
            <a:xfrm>
              <a:off x="4191120" y="2171880"/>
              <a:ext cx="26668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tatic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member function invoked using binary scope resolution operator (no existing class objects)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>
              <a:off x="2743200" y="232416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FB9588-23A3-4254-9730-38E78449CA75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7_19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2666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umber of employees before instantiation is 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mployee constructor for Susan Baker called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mployee constructor for Robert Jones called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umber of employees after instantiation is 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mployee 1: Susan Bak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mployee 2: Robert Jon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~Employee() called for Susan Bak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~Employee() called for Robert Jon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umber of employees after deletion is 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8200B5-BEC7-41F7-946F-257F56421222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8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Data Abstraction and Information Hiding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rmation hid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asses hide implementation details from cli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: stack data structu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 elements added (pushed) onto t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 elements removed (popped) from t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st-in, first-out (LIFO) data stru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ent only wants LIFO data stru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es not care how stack implemen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abstr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scribe functionality of class independent of implement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B967B-62DE-438A-A806-65AC775A8303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8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Data Abstraction and Information Hiding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stract data types (AD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pproximations/models of real-world concepts and behavio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loa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re models for a nu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ata represent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perations allowed on those da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++ extensi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andard data types cannot be changed, but new data types can be creat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95A1B-0953-4B31-9AA5-B8A21A972EB8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8.1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Example: Array Abstract Data Typ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T arr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uld inclu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script range check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bitrary range of subscrip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tead of having to start with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ray assignm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ray comparis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ray input/outpu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rays that know their siz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rays that expand dynamically to accommodate more el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D5CE5-95B1-4F01-A492-8783F604C24D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ime5.h (2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2209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our;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0 - 23 (24-hour clock format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inute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0 - 59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cond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0 - 59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lass Ti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endi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38B3D9-E991-4F87-AC94-2FEDBAF02CE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8.2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Example: String Abstract Data Typ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ings in C+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++ does not provide built-in string data ty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ximizes perform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vides mechanisms for creating and implementing string abstract data ty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ring ADT (Chapter 8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NSI/ISO standar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class (Chapter 19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08439-CE1D-4A8E-9B79-E2E0FEA2312C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8.3 Example: Queue Abstract Data Typ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IF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in, first 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nque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t items in queue one at a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que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move items from queue one at a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ue AD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mplementation hidden from cli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ents may not manipulate data structure directl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nly queue member functions can access internal da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Queue ADT (Chapter 15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andard library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queu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class (Chapter 20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FCB63-1BF7-4946-BB39-11711BA0DDF8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9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ontainer Classes and Iterato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ainer classes (collection class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signed to hold collections of obje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mon servic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ertion, deletion, searching, sorting, or testing an 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rays, stacks, queues, trees and linked li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erator objects (iterator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turns next item of collectio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 performs some action on next 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 have several iterators per contain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ok with multiple bookma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ach iterator maintains own “position”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iscussed further in Chapter 2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CCCDD-E2B6-4BBC-A3EE-09E02DB6FA01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10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Proxy Class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xy cl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ide implementation details of another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Knows only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nterface of class being hid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nables clients to use class’s services without giving access to class’s implement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ward class decla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d when class definition only uses pointer to another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events need for including header fi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clares class before referenc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rmat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 ClassToLoad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C432C-8AD0-46FD-A05D-3ADB4051D83D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mplementation.h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029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7.20: implementation.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Header file for class Implement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mplementation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Implementation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v )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: value( v )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itialize value with v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mpty bod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Implementation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value to v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Valu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v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value = v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hould validate v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set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2819160" y="2971800"/>
            <a:ext cx="4115160" cy="838080"/>
            <a:chOff x="2819160" y="2971800"/>
            <a:chExt cx="4115160" cy="838080"/>
          </a:xfrm>
        </p:grpSpPr>
        <p:sp>
          <p:nvSpPr>
            <p:cNvPr id="434" name=""/>
            <p:cNvSpPr/>
            <p:nvPr/>
          </p:nvSpPr>
          <p:spPr>
            <a:xfrm>
              <a:off x="4267080" y="2971800"/>
              <a:ext cx="266724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ublic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member func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819160" y="312408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4E1847-65BA-4A57-82B9-33F4776867A1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mplementation.h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26668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turn value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Value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value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function get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valu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lass Implement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2666520" y="533520"/>
            <a:ext cx="3886560" cy="489600"/>
            <a:chOff x="2666520" y="533520"/>
            <a:chExt cx="3886560" cy="489600"/>
          </a:xfrm>
        </p:grpSpPr>
        <p:sp>
          <p:nvSpPr>
            <p:cNvPr id="439" name=""/>
            <p:cNvSpPr/>
            <p:nvPr/>
          </p:nvSpPr>
          <p:spPr>
            <a:xfrm>
              <a:off x="3886200" y="685800"/>
              <a:ext cx="26668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ublic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member func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flipH="1" flipV="1">
              <a:off x="2666520" y="533520"/>
              <a:ext cx="1219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74078-6E5A-4BA5-AE66-CA3819324B41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face.h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4197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7.21: interface.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Header file for interface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mplementation;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orward class declar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rface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Interfac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Valu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ame public interface a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Value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lass Implementation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~Interf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quires previous forward declaration (line 4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Implementation *ptr;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class Interfa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43" name=""/>
          <p:cNvGrpSpPr/>
          <p:nvPr/>
        </p:nvGrpSpPr>
        <p:grpSpPr>
          <a:xfrm>
            <a:off x="2857320" y="1295280"/>
            <a:ext cx="4115160" cy="1554120"/>
            <a:chOff x="2857320" y="1295280"/>
            <a:chExt cx="4115160" cy="1554120"/>
          </a:xfrm>
        </p:grpSpPr>
        <p:sp>
          <p:nvSpPr>
            <p:cNvPr id="444" name=""/>
            <p:cNvSpPr/>
            <p:nvPr/>
          </p:nvSpPr>
          <p:spPr>
            <a:xfrm>
              <a:off x="4305240" y="1295280"/>
              <a:ext cx="2667240" cy="15541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rovide sam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ublic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nterface as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mplementa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; recall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etValu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getValu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nly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ublic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member function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flipH="1">
              <a:off x="2857320" y="144792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6" name=""/>
          <p:cNvGrpSpPr/>
          <p:nvPr/>
        </p:nvGrpSpPr>
        <p:grpSpPr>
          <a:xfrm>
            <a:off x="2362320" y="990720"/>
            <a:ext cx="4343400" cy="3048480"/>
            <a:chOff x="2362320" y="990720"/>
            <a:chExt cx="4343400" cy="3048480"/>
          </a:xfrm>
        </p:grpSpPr>
        <p:sp>
          <p:nvSpPr>
            <p:cNvPr id="447" name=""/>
            <p:cNvSpPr/>
            <p:nvPr/>
          </p:nvSpPr>
          <p:spPr>
            <a:xfrm>
              <a:off x="4038480" y="2971800"/>
              <a:ext cx="266724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ointer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mplementa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bject requires forward class declar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H="1">
              <a:off x="2590560" y="312408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H="1" flipV="1">
              <a:off x="2362320" y="990720"/>
              <a:ext cx="1676160" cy="213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C344CE-41B0-43D3-89B9-5341F5582682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face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45720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7.22: interface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finition of class Interfa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nterface.h"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Interface class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mplementation.h"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mplementation class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face::Interfac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v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: ptr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mplementation( v ) )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itialize pt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mpty bod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Interface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all Implementation's setValue func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rface::setValu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v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tr-&gt;setValue( v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set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2590560" y="1066680"/>
            <a:ext cx="4115160" cy="1128960"/>
            <a:chOff x="2590560" y="1066680"/>
            <a:chExt cx="4115160" cy="1128960"/>
          </a:xfrm>
        </p:grpSpPr>
        <p:sp>
          <p:nvSpPr>
            <p:cNvPr id="453" name=""/>
            <p:cNvSpPr/>
            <p:nvPr/>
          </p:nvSpPr>
          <p:spPr>
            <a:xfrm>
              <a:off x="4038480" y="1371600"/>
              <a:ext cx="26672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roxy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nterfac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ncludes header file for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mplementa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flipH="1" flipV="1">
              <a:off x="2590560" y="1066680"/>
              <a:ext cx="14475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5" name=""/>
          <p:cNvGrpSpPr/>
          <p:nvPr/>
        </p:nvGrpSpPr>
        <p:grpSpPr>
          <a:xfrm>
            <a:off x="1523880" y="893880"/>
            <a:ext cx="4114800" cy="838080"/>
            <a:chOff x="1523880" y="893880"/>
            <a:chExt cx="4114800" cy="838080"/>
          </a:xfrm>
        </p:grpSpPr>
        <p:sp>
          <p:nvSpPr>
            <p:cNvPr id="456" name=""/>
            <p:cNvSpPr/>
            <p:nvPr/>
          </p:nvSpPr>
          <p:spPr>
            <a:xfrm>
              <a:off x="2971800" y="89388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aintain pointer to underlying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mplementa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bjec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flipH="1">
              <a:off x="1523880" y="104616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8" name=""/>
          <p:cNvGrpSpPr/>
          <p:nvPr/>
        </p:nvGrpSpPr>
        <p:grpSpPr>
          <a:xfrm>
            <a:off x="2514600" y="2971800"/>
            <a:ext cx="4114800" cy="838080"/>
            <a:chOff x="2514600" y="2971800"/>
            <a:chExt cx="4114800" cy="838080"/>
          </a:xfrm>
        </p:grpSpPr>
        <p:sp>
          <p:nvSpPr>
            <p:cNvPr id="459" name=""/>
            <p:cNvSpPr/>
            <p:nvPr/>
          </p:nvSpPr>
          <p:spPr>
            <a:xfrm>
              <a:off x="3962520" y="297180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voke corresponding function on underlying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mplementa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bjec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 flipH="1">
              <a:off x="2514600" y="312408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C5AABC-8576-4F16-AB63-6941496D0957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face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31240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all Implementation's getValue func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rface::getValue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tr-&gt;getValue(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get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face::~Interface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ele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tr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destructor ~Interfa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2895480" y="76320"/>
            <a:ext cx="4114800" cy="838080"/>
            <a:chOff x="2895480" y="76320"/>
            <a:chExt cx="4114800" cy="838080"/>
          </a:xfrm>
        </p:grpSpPr>
        <p:sp>
          <p:nvSpPr>
            <p:cNvPr id="464" name=""/>
            <p:cNvSpPr/>
            <p:nvPr/>
          </p:nvSpPr>
          <p:spPr>
            <a:xfrm>
              <a:off x="4343400" y="7632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voke corresponding function on underlying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mplementa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bjec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H="1">
              <a:off x="2895480" y="2286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6" name=""/>
          <p:cNvGrpSpPr/>
          <p:nvPr/>
        </p:nvGrpSpPr>
        <p:grpSpPr>
          <a:xfrm>
            <a:off x="1828800" y="1600200"/>
            <a:ext cx="4114800" cy="838080"/>
            <a:chOff x="1828800" y="1600200"/>
            <a:chExt cx="4114800" cy="838080"/>
          </a:xfrm>
        </p:grpSpPr>
        <p:sp>
          <p:nvSpPr>
            <p:cNvPr id="467" name=""/>
            <p:cNvSpPr/>
            <p:nvPr/>
          </p:nvSpPr>
          <p:spPr>
            <a:xfrm>
              <a:off x="3276720" y="160020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allocate underlying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mplementa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bjec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 flipH="1">
              <a:off x="1828800" y="175248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8FAA94-DDC8-4711-86C0-B2BC359DDE9A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7_2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1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7_2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4864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7.23: fig07_23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Hiding a class’s private data with a proxy clas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nterface.h"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terface class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Interface i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nterface contains: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i.getValue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before setValu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i.setValu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Interface contain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i.getValue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after setValu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71" name=""/>
          <p:cNvSpPr/>
          <p:nvPr/>
        </p:nvSpPr>
        <p:spPr>
          <a:xfrm>
            <a:off x="0" y="5410080"/>
            <a:ext cx="7010280" cy="685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face contains: 5 before set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nterface contains: 10 after setValu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2" name=""/>
          <p:cNvGrpSpPr/>
          <p:nvPr/>
        </p:nvGrpSpPr>
        <p:grpSpPr>
          <a:xfrm>
            <a:off x="2438280" y="990720"/>
            <a:ext cx="4114800" cy="837720"/>
            <a:chOff x="2438280" y="990720"/>
            <a:chExt cx="4114800" cy="837720"/>
          </a:xfrm>
        </p:grpSpPr>
        <p:sp>
          <p:nvSpPr>
            <p:cNvPr id="473" name=""/>
            <p:cNvSpPr/>
            <p:nvPr/>
          </p:nvSpPr>
          <p:spPr>
            <a:xfrm>
              <a:off x="3886200" y="99072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nly include proxy class header fil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flipH="1">
              <a:off x="2438280" y="1143000"/>
              <a:ext cx="1447920" cy="6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"/>
          <p:cNvGrpSpPr/>
          <p:nvPr/>
        </p:nvGrpSpPr>
        <p:grpSpPr>
          <a:xfrm>
            <a:off x="2438280" y="1828800"/>
            <a:ext cx="4114800" cy="1067400"/>
            <a:chOff x="2438280" y="1828800"/>
            <a:chExt cx="4114800" cy="1067400"/>
          </a:xfrm>
        </p:grpSpPr>
        <p:sp>
          <p:nvSpPr>
            <p:cNvPr id="476" name=""/>
            <p:cNvSpPr/>
            <p:nvPr/>
          </p:nvSpPr>
          <p:spPr>
            <a:xfrm>
              <a:off x="3886200" y="1828800"/>
              <a:ext cx="26668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 object of proxy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nterfac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; note no mention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mplementa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clas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2438280" y="198108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8" name=""/>
          <p:cNvGrpSpPr/>
          <p:nvPr/>
        </p:nvGrpSpPr>
        <p:grpSpPr>
          <a:xfrm>
            <a:off x="3886200" y="3200400"/>
            <a:ext cx="4114800" cy="949320"/>
            <a:chOff x="3886200" y="3200400"/>
            <a:chExt cx="4114800" cy="949320"/>
          </a:xfrm>
        </p:grpSpPr>
        <p:sp>
          <p:nvSpPr>
            <p:cNvPr id="479" name=""/>
            <p:cNvSpPr/>
            <p:nvPr/>
          </p:nvSpPr>
          <p:spPr>
            <a:xfrm>
              <a:off x="5334120" y="331164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voke member functions via proxy class objec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 flipH="1">
              <a:off x="3886200" y="346392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 flipH="1" flipV="1">
              <a:off x="4038120" y="3200400"/>
              <a:ext cx="1295640" cy="26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0B454D-0360-4C2A-BF08-73C5752874C6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ime5.cpp (1 of 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257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7.2: time5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ember-function definitions for class Tim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mani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etfil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etw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clude definition of class Time from time5.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ime5.h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nstructor function to initialize private data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alls member function setTime to set variable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fault values are 0 (see class definition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ime::Tim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our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inute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cond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etTime( hour, minute, second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Time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A9750E-79EB-45BC-B38C-7CDD510F8DD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ime5.cpp (2 of 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257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hour, minute and second valu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::setTim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our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inute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cond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etHour( hour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etMinute( minut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etSecond( second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setTi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hour 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::setHour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hour = ( h &gt;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amp;&amp; h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? h 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function setHou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minute 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::setMinut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minute = ( m &gt;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amp;&amp; m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? m 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setMinu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526F1B-CD29-481B-B016-74FC9CF5012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6T19:33:48Z</dcterms:created>
  <dc:creator>Audrey Lee</dc:creator>
  <dc:description/>
  <dc:language>en-US</dc:language>
  <cp:lastModifiedBy>Pearson Education</cp:lastModifiedBy>
  <dcterms:modified xsi:type="dcterms:W3CDTF">2002-08-08T15:24:54Z</dcterms:modified>
  <cp:revision>109</cp:revision>
  <dc:subject/>
  <dc:title>Chapter 7: Classes Part II</dc:title>
</cp:coreProperties>
</file>