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9993-CE48-4C3E-B1E3-C806493AE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2A5A-8060-4A05-8E6F-9EE6BA134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FF6D-1BC5-4634-9DFF-78182A174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C012-7E88-4D43-84D6-FBC52D546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E583-9D71-40DE-9543-4EF0D62F80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26EF-FE82-497B-B31F-9367707CE5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CD273-77A8-4756-A999-8C2DD3928D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A304-027B-4521-B8E2-141ED5DE18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2041-71D4-48CE-974F-B12DB93449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67A5E-5C99-4239-8C1B-5BE8CADA4F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3033-D04A-4A87-93F5-1097EB6293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00AB-B448-4614-A489-50B6599D5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4F211-14E5-4CC2-9833-862AFD4FF1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D956A-D17F-4281-A4A9-9BFB71F56B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9BF67-3725-42A4-970B-69F4EDF3E7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AA39-9ED1-461F-8E9B-FBD5726D5C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9A556-A54F-4AC4-B29F-9155CADB1D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17B7-F533-47C5-B587-1B209543D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D21B-FC90-45A9-AA5C-F34E510D8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3890-DD8C-4A3C-964A-A788DC4DF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C13A-D2F5-44D9-95C3-BDECDA995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6DF0-0526-4865-9665-CA23461D8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3F3A-0088-479E-9EEA-C69CA9FFF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7E8E-88AC-42D2-9E85-F4AC9AD9A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956A-B302-419E-A193-EC23D05CF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88A9-30A2-40AC-A73C-3009092A4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8 - Operator Overload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695600"/>
            <a:ext cx="91440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347840"/>
            <a:ext cx="807732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damentals of Operator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strictions on Operator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perator Functions as Class Members vs. as friend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Stream-Insertion and Stream-Extraction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Unary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Binary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Array Cla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verting between 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Cla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-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at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andard Library Classes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5BF3-AA7D-4268-B72E-1EB5D10106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5  Overloading Stream-Insertion and Stream-Extraction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ready overloaded to process each built-i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also process a user-defin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hone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s a telephon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out formatted number automat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23) 456-78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109E-6D2A-42A9-B254-8CED1145B2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: fig08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ing the stream-insertion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eam-extraction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honeNumber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Numb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Number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&amp;, PhoneNumber &amp;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eaCod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-digit area code and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hang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-digit exchange and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4-digit line and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hone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523520" y="2819520"/>
            <a:ext cx="5105880" cy="2295000"/>
            <a:chOff x="1523520" y="2819520"/>
            <a:chExt cx="5105880" cy="2295000"/>
          </a:xfrm>
        </p:grpSpPr>
        <p:sp>
          <p:nvSpPr>
            <p:cNvPr id="115" name=""/>
            <p:cNvSpPr/>
            <p:nvPr/>
          </p:nvSpPr>
          <p:spPr>
            <a:xfrm>
              <a:off x="3186000" y="2819520"/>
              <a:ext cx="3443400" cy="2295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function prototypes for overloaded operato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y must be non-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, since the object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hone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ears on the right of the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 &lt;&lt; object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 &gt;&gt;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523520" y="2971800"/>
              <a:ext cx="16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5EFF-9147-4F48-8CA9-791CB7021A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stream-insertion operator; cannot be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member function if we would like to invoke it with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t &lt;&lt; somePhoneNumber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Number &amp;nu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.areaCod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) "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num.exchang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num.line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out &lt;&lt; a &lt;&lt; b &lt;&lt; c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lt;&lt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stream-extraction operator; cannot be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member function if we would like to invoke it with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n &gt;&gt; somePhoneNumber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 &amp;input, PhoneNumber &amp;num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.ignore();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kip (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num.areaCod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area cod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.igno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kip ) and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num.exchang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exchange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.ignore();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kip dash (-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gt;&gt; num.line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lin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in &gt;&gt; a &gt;&gt; b &gt;&gt; c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419360" y="1296720"/>
            <a:ext cx="4648320" cy="1438200"/>
            <a:chOff x="4419360" y="1296720"/>
            <a:chExt cx="4648320" cy="1438200"/>
          </a:xfrm>
        </p:grpSpPr>
        <p:sp>
          <p:nvSpPr>
            <p:cNvPr id="120" name=""/>
            <p:cNvSpPr/>
            <p:nvPr/>
          </p:nvSpPr>
          <p:spPr>
            <a:xfrm>
              <a:off x="5562720" y="1297080"/>
              <a:ext cx="3504960" cy="1437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expression: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 &lt;&lt; phone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interpreted as the function call: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rator&lt;&lt;(cout, phone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n alias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co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4419360" y="12967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33360" y="2362320"/>
            <a:ext cx="6820200" cy="2406960"/>
            <a:chOff x="2133360" y="2362320"/>
            <a:chExt cx="6820200" cy="2406960"/>
          </a:xfrm>
        </p:grpSpPr>
        <p:sp>
          <p:nvSpPr>
            <p:cNvPr id="123" name=""/>
            <p:cNvSpPr/>
            <p:nvPr/>
          </p:nvSpPr>
          <p:spPr>
            <a:xfrm>
              <a:off x="5067360" y="2971800"/>
              <a:ext cx="388620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allows objects to be cascaded.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 &lt;&lt; phone1 &lt;&lt; phone2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rst calls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rator&lt;&lt;(cout, phone1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xt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 &lt;&lt; phon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xecu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2133360" y="2362320"/>
              <a:ext cx="2933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880" y="3276720"/>
            <a:ext cx="4114800" cy="838080"/>
            <a:chOff x="1523880" y="3276720"/>
            <a:chExt cx="4114800" cy="838080"/>
          </a:xfrm>
        </p:grpSpPr>
        <p:sp>
          <p:nvSpPr>
            <p:cNvPr id="126" name=""/>
            <p:cNvSpPr/>
            <p:nvPr/>
          </p:nvSpPr>
          <p:spPr>
            <a:xfrm>
              <a:off x="2971800" y="3276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gnore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kips specified number of characters from input (1 by default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2388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38280" y="4495320"/>
            <a:ext cx="4114800" cy="1511280"/>
            <a:chOff x="2438280" y="4495320"/>
            <a:chExt cx="4114800" cy="1511280"/>
          </a:xfrm>
        </p:grpSpPr>
        <p:sp>
          <p:nvSpPr>
            <p:cNvPr id="129" name=""/>
            <p:cNvSpPr/>
            <p:nvPr/>
          </p:nvSpPr>
          <p:spPr>
            <a:xfrm>
              <a:off x="3886200" y="469584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manipul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tricts number of characters read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w(4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llows 3 characters to be read, leaving room for the null characte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2438280" y="4495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35B68-A091-4174-8B5F-7E10902504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gt;&gt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honeNumber phone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object ph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nter phone number in the form (123) 456-7890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in &gt;&gt; phone invokes operator&gt;&gt; by implicitly issu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non-member function call operator&gt;&gt;( cin, phon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phone;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phone number entered w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ut &lt;&lt; phone invokes operator&lt;&lt; by implicitly issu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non-member function call operator&lt;&lt;( cout, phon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phone &lt;&lt; endl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029200"/>
            <a:ext cx="70102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phone number in the form (123) 456-789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800) 555-1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phone number entered was: (800) 555-1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5AFED-8402-453D-8A57-6063DF9EB7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  Overloading U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u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, n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member function,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 must be class object or reference to 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ember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only acce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D084-3B0C-4CE2-AA7D-C0BBE7643A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  Overloading U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 (8.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test for empty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, needs n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com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operator!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ool operator!() cons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n-member function, needs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com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!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friend bool operator!( const String &amp; 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E010-76CF-4E2A-927C-21B11622C6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 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bi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,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member function, tw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argument must be class object or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, needs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 String &amp;operator+=( const String &amp;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.operator+=( z 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B8F1-316C-4747-A873-22D48777CB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 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n-member function, needs tw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 const String &amp;operator+=(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&amp;, const String &amp;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+=( y, z 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7AD6-0BE5-45E9-8B48-A1DB8B9C9D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8  Case Study: Array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in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rang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compared meaningfully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array assignment (array nam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input/output entire arrays at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element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Implement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ng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assig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that know their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ting/inputting entire array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&g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comparison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5ED7-0EA2-46D0-A4DD-A757C1D1DC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8  Case Study: Array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henever copy of object nee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ng by value (return value or param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ing an object with a copy of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newArray( oldArray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Arr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py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ld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for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( const Array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ke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pass b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es to make copy by calling copy constructo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init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6D5A-FF8D-4642-BC69-4F7E0895F0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perators with objects (operator overlo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earer than function calls for certain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sensitive to con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 insertion, bitwise left-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rithmetic on multiple types (integers, float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discuss when to use operator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85A2-CCB9-4D83-84EB-942F78AD5C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4: array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class for storing arrays of integ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 &amp;, Array &amp;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Array();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structor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iz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signment operator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quality operator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95480" y="3111480"/>
            <a:ext cx="4114800" cy="1536840"/>
            <a:chOff x="2895480" y="3111480"/>
            <a:chExt cx="4114800" cy="1536840"/>
          </a:xfrm>
        </p:grpSpPr>
        <p:sp>
          <p:nvSpPr>
            <p:cNvPr id="149" name=""/>
            <p:cNvSpPr/>
            <p:nvPr/>
          </p:nvSpPr>
          <p:spPr>
            <a:xfrm>
              <a:off x="4343400" y="3111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st operators overloaded as member functions (excep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which must be non-member function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895480" y="3505320"/>
              <a:ext cx="14479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3123720" y="3111480"/>
              <a:ext cx="121932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666520" y="3885840"/>
            <a:ext cx="4877280" cy="766440"/>
            <a:chOff x="2666520" y="3885840"/>
            <a:chExt cx="4877280" cy="766440"/>
          </a:xfrm>
        </p:grpSpPr>
        <p:sp>
          <p:nvSpPr>
            <p:cNvPr id="153" name=""/>
            <p:cNvSpPr/>
            <p:nvPr/>
          </p:nvSpPr>
          <p:spPr>
            <a:xfrm>
              <a:off x="3962520" y="4314960"/>
              <a:ext cx="3581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totype for copy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2666520" y="3885840"/>
              <a:ext cx="1295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5A00-8621-4BD4-9E32-11E2836EF5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equality operator; returns opposite of == operator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!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 (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right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s Array::operator=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!=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bscript operator for non-const objects returns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bscript operator for const objects returns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first element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514240" y="1066320"/>
            <a:ext cx="3886560" cy="1296360"/>
            <a:chOff x="2514240" y="1066320"/>
            <a:chExt cx="3886560" cy="1296360"/>
          </a:xfrm>
        </p:grpSpPr>
        <p:sp>
          <p:nvSpPr>
            <p:cNvPr id="158" name=""/>
            <p:cNvSpPr/>
            <p:nvPr/>
          </p:nvSpPr>
          <p:spPr>
            <a:xfrm>
              <a:off x="3733920" y="12952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!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simply returns opposit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=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. Thus, only need to defin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=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2514240" y="106632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558EB-A8C0-42BD-8E88-4B7E990964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1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 8.5: array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 definitions for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++ standard "new"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t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1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 for class Array (default size 1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validate array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ze = ( arraySiz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arraySize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[ size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ace f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1895C-AA70-4706-8EDD-1F4D56FAEF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2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rray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structor for class Arr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st receive a reference to prevent infinite recur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ToCop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size( arrayToCopy.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[ size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ace f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arrayToCopy.ptr[ i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into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rray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for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~Arr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laim array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133360" y="1523880"/>
            <a:ext cx="4953240" cy="838440"/>
            <a:chOff x="2133360" y="1523880"/>
            <a:chExt cx="4953240" cy="838440"/>
          </a:xfrm>
        </p:grpSpPr>
        <p:sp>
          <p:nvSpPr>
            <p:cNvPr id="165" name=""/>
            <p:cNvSpPr/>
            <p:nvPr/>
          </p:nvSpPr>
          <p:spPr>
            <a:xfrm>
              <a:off x="3581280" y="1523880"/>
              <a:ext cx="350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e must declare a new integer array so the objects do not point to the same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133360" y="190512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AE18B-EB46-4875-B41D-B0F682DB7C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3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ize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::getSiz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assignment oper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return avoids: ( a1 = a2 ) = a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righ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&amp;right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for self-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or arrays of different sizes, deallocate origin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eft-side array, then allocate new left-sid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ize != right.siz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ptr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laim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ize = right.size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size thi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size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ace for array cop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tr[ i ] = right.ptr[ i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rray into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57400" y="1676520"/>
            <a:ext cx="4419720" cy="838080"/>
            <a:chOff x="2057400" y="1676520"/>
            <a:chExt cx="4419720" cy="838080"/>
          </a:xfrm>
        </p:grpSpPr>
        <p:sp>
          <p:nvSpPr>
            <p:cNvPr id="170" name=""/>
            <p:cNvSpPr/>
            <p:nvPr/>
          </p:nvSpPr>
          <p:spPr>
            <a:xfrm>
              <a:off x="3505320" y="167652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nt to avoid self-assign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057400" y="1828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35B0-B663-44FB-982B-AA64BAA9F2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4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enables x = y = z, for examp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if two arrays are equal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true, otherwise return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ize != right.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s of different siz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tr[ i ] != right.ptr[ i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tur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s are not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rrays are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=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45CF-C3DF-4A25-90E8-BFE5C84A3E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5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subscript operator for non-const Array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 return creates an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Array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scrip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 for subscript out of range err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bscrip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subscript &gt;= siz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rror: Subscript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ubscrip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ut of rang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program; subscript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[ subscript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 retur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[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276360" y="838080"/>
            <a:ext cx="4648320" cy="1128960"/>
            <a:chOff x="3276360" y="838080"/>
            <a:chExt cx="4648320" cy="1128960"/>
          </a:xfrm>
        </p:grpSpPr>
        <p:sp>
          <p:nvSpPr>
            <p:cNvPr id="177" name=""/>
            <p:cNvSpPr/>
            <p:nvPr/>
          </p:nvSpPr>
          <p:spPr>
            <a:xfrm>
              <a:off x="4343400" y="1143000"/>
              <a:ext cx="3581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gers1[5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gers1.operator[]( 5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276360" y="8380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57400" y="2438280"/>
            <a:ext cx="4800600" cy="580680"/>
            <a:chOff x="2057400" y="2438280"/>
            <a:chExt cx="4800600" cy="580680"/>
          </a:xfrm>
        </p:grpSpPr>
        <p:sp>
          <p:nvSpPr>
            <p:cNvPr id="180" name=""/>
            <p:cNvSpPr/>
            <p:nvPr/>
          </p:nvSpPr>
          <p:spPr>
            <a:xfrm>
              <a:off x="3505320" y="243828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it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head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dlib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ends the progr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2057400" y="2438280"/>
              <a:ext cx="1447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8CA2E-B4EC-4DC1-A173-9DF84F6A34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6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subscript operator for const Array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reference return creates an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Array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scrip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 for subscript out of range err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bscrip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subscript &gt;= siz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rror: Subscrip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ubscrip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ut of ran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program; subscript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[ subscript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reference retur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[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input operator for class Arr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s values for entir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 &amp;input, Array &amp;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.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 &gt;&gt; a.ptr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in &gt;&gt; x &gt;&gt;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BE2F4-955B-4116-8EFC-64558C349F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7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output operator for class Arr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rivate ptr-bas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.size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.ptr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4 numbers per row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last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out &lt;&lt; x &lt;&lt;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73C3-3349-4F69-BEB2-8413C9B4FC8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6: fig08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 integer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ven-element Arr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 integers2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10-element Array by defa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integers1 size and contents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ize of array integers1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1.getSize()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ray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integers2 size and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 of array integers2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2.get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ray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2EF2-38D3-42B3-9C14-EAD24FE9F3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  Fundamentals of Operator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t i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r user-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use existing operators with user-defin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create new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function for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llowed by symb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the addition operat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DCB5-0629-456F-8AF7-CFADD617CD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put and print integers1 and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put 17 integer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integers1 &gt;&gt; integer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put, the arrays contain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2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verloaded inequality (!=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valuating: integers1 != integers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gers1 != integer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 and integers2 are not equ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rray integers3 using integers1 as an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r; print size and contents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 integers3( integers1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 of array integers3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3.get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ray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751B-94CA-4485-B84B-61C2DED7C4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verloaded assignment (=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ssigning integers2 to 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1 = integers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te target is sma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2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verloaded equality (==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valuating: integers1 == integers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gers1 == integer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 and integers2 are equ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verloaded subscript operator to create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tegers1[5]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verloaded subscript operator to create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Assigning 1000 to integers1[5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: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nteger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ttempt to use out-of-range subscript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ttempt to assign 1000 to integers1[15]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integers1[ 15 ] = 1000;  // ERROR: out of range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247CF-A6F5-4BDB-873A-C8EC24B61E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81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array integers1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array integers2 is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17 integer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 11 12 13 14 15 16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put, the arrays contai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           3         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6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AE06-F615-4C55-88A2-F0169844DF7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ing: integers1 !=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 and integers2 are not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array integers3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           3         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6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integers2 to 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ing: integers1 ==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 and integers2 are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[5] is 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B7A1-D947-471A-B048-666E382A1F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1000 to integers1[5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1000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1000 to integers1[15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: Subscript 15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D8C9F-E684-46E5-89C0-D2057FFE597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ditionally, cast integers to float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need to convert between user-defin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 operator (conversion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t fr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to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to built-in typ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not specify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ly returns type to which you are conve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2F2F-12A1-4F59-8EE2-A889211A327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char *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s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 temporar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har *)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operator char*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int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OtherClass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B6B79-2FA4-4101-9EB5-42E6338D63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ing can prevent need for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cas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s; // s is a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iler implicitly conver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 not have to overloa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can only do 1 c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358B-9B40-4FB0-895C-5E2FB4D194C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0  Case Study: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ring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creation, mani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standard library (more Chapter 1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argument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urns objects of other types into class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1(“hi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single-argument constructor is a conversion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BE10-74CC-4676-B518-67F0D617CF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h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7: string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 &amp;, String &amp;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sion/default 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structo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String();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ssignment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cate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!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String empty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1 == s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1 &lt; s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514600" y="2590920"/>
            <a:ext cx="4114800" cy="838080"/>
            <a:chOff x="2514600" y="2590920"/>
            <a:chExt cx="4114800" cy="838080"/>
          </a:xfrm>
        </p:grpSpPr>
        <p:sp>
          <p:nvSpPr>
            <p:cNvPr id="209" name=""/>
            <p:cNvSpPr/>
            <p:nvPr/>
          </p:nvSpPr>
          <p:spPr>
            <a:xfrm>
              <a:off x="3962520" y="2590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version constructor to mak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rom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51460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276360" y="3733920"/>
            <a:ext cx="4419360" cy="2284200"/>
            <a:chOff x="3276360" y="3733920"/>
            <a:chExt cx="4419360" cy="2284200"/>
          </a:xfrm>
        </p:grpSpPr>
        <p:sp>
          <p:nvSpPr>
            <p:cNvPr id="212" name=""/>
            <p:cNvSpPr/>
            <p:nvPr/>
          </p:nvSpPr>
          <p:spPr>
            <a:xfrm>
              <a:off x="4831560" y="3733920"/>
              <a:ext cx="2864160" cy="228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 += 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terpreted 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.operator+=(s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also concaten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the compiler will cas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gument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However, it can only do 1 level of cast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276360" y="3886200"/>
              <a:ext cx="1554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7C554-7AC8-454C-B824-9C4AAEEC035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  Fundamentals of Operator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operators on a clas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must be overloaded for that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p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operator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wise assignment between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 operator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ddress of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can be over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provides concise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bject2 = object1.add(object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bject2 = object2 + objec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A1D1-1958-4B52-9D3A-4C43B2C8D3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h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s1 != s2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!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(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right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!=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s1 &gt; s2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ight &lt;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gt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s1 &lt;= s2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( right &lt;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 &lt;=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s1 &gt;= s2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(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right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gt;=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1B538-C9D9-4852-8D30-BE7D98ECDB3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h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bscrip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bscrip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 sub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Length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string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 leng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ointer to start of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209680" y="1295280"/>
            <a:ext cx="4114800" cy="1220040"/>
            <a:chOff x="2209680" y="1295280"/>
            <a:chExt cx="4114800" cy="1220040"/>
          </a:xfrm>
        </p:grpSpPr>
        <p:sp>
          <p:nvSpPr>
            <p:cNvPr id="219" name=""/>
            <p:cNvSpPr/>
            <p:nvPr/>
          </p:nvSpPr>
          <p:spPr>
            <a:xfrm>
              <a:off x="3657600" y="1447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load the function call 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return a substring. This operator can have any amount of operan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2209680" y="12952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971800" y="152280"/>
            <a:ext cx="4114800" cy="824040"/>
            <a:chOff x="2971800" y="152280"/>
            <a:chExt cx="4114800" cy="824040"/>
          </a:xfrm>
        </p:grpSpPr>
        <p:sp>
          <p:nvSpPr>
            <p:cNvPr id="222" name=""/>
            <p:cNvSpPr/>
            <p:nvPr/>
          </p:nvSpPr>
          <p:spPr>
            <a:xfrm>
              <a:off x="4419720" y="152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wo overloaded subscript operators,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971800" y="30492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734C9-85E4-43D3-8635-7AA10A200B2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1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8: string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 definitions for class Str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++ standard "new"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cpy and strcat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sion constructor converts char * to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: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 *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length( strlen( s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version con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String( s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String convers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63BA8-A132-4792-9A2D-CFDC0D96B21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2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: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cop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length( copy.lengt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py con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py.sPt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String( copy.sPtr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tring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:~Str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sPtr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claim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~String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= operator; avoids self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perator= called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&amp;right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avoid self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sPtr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vents memory lea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ngth = right.length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w String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tring( right.sPtr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77C85-48FD-4EF7-894A-19AB6D0B132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3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tempted assignment of a String to itself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ed assign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catenate right operand to this object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 in this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ze_t newLength = length + right.length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w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temp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newLength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tempPtr, sPtr )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s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tempPtr + length, right.sPtr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right.s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sPtr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laim old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Ptr = tempPtr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new array to s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newLength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new length to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ed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+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C38A-2D6B-4F77-8BF4-CE15EFA56B3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4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this String empty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!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!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this String equal to right String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cmp( sPtr, right.sPtr 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=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this String less than right String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cmp( sPtr, right.sPtr )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3480-ECFB-4779-BE5B-7143F786BC8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5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eference to character in String as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scrip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for subscript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ubscrip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subscript &gt;= length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: Subscript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ubscrip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out of ran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tr[ subscript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s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[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eference to character in String as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scrip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for subscript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bscrip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subscript &gt;= length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rror: Subscrip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ubscrip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ut of ran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tr[ subscript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s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[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15C92-E1B9-458E-8A35-CA800D37F63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6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 substring beginning at index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f length sub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Lengt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f index is out of range or substring length &lt; 0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an empty String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dex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index &gt;= length || sub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ed to a String object automatic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length of sub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subLeng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|| ( index + subLength &gt; length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n = length - ind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n = sub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llocate temporary array for substring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rminating null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temp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le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substring into char array and terminate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tempPtr, &amp;sPtr[ index ], le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mpPtr[ len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2418-A2FC-42F5-9CBA-BB75FA94E2C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7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temporary String object containing the sub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tempString( tempPt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temp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temporary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String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copy of the tempora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tring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::getLength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Le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called by constructors and operator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::set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length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cat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sPtr, string2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py literal to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tr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1DFA-B911-4B44-8D1D-838AB031CAA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8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outpu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s.s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inpu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 &amp;input, String &amp;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buffer to store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te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 = temp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tring class assignmen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gt;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E335-3DA3-4ED6-B684-7C2ACD913A1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operators act on built-in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cannot change integer 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ence of operator (order of evalu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arentheses to force order-of-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vity (left-to-right or right-to-lef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opera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nitary, only acts on one ope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reate new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s must be overloaded explici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es not overloa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10A1-ECB6-4EE6-BAC7-AC6ABAAF72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9: fig08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irth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overloaded equality and relational oper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is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; s2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; s3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"'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results of comparing s2 and s1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=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!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!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gt; 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gt;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 : "fals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9DD4-BFC2-40A7-B1DE-678FF476D3B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lt;  s1 yield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lt; s1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s2 &gt;= s1 yield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gt;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lt;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lt;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overloaded String empty (!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esting !s3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s3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3 is empty; assigning s1 to s3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3 = s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3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overloaded String concatenation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1 += s2 yields 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 += s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concate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convers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1 += \" to you\" yield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to you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convers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C2AD8-BEF5-45FC-BE32-89CF70E7C35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overloaded function call operator () for sub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ubstring of s1 starting a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tion 0 for 14 characters, s1(0, 14), is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substring "to-end-of-String" o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substring of s1 starting a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tion 15, s1(15, 0),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is "to end of string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*s4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s4Pt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s4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assignment (=) operator with self-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igning *s4Ptr to *s4Pt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s4Ptr = *s4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s4Ptr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*s4Pt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4Ptr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0513-2D54-4DF0-8569-B44173175CC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using subscript operator to create lvalu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H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1 after s1[0] = 'H' and s1[6] = 'B'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test subscript out of range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tempt to assign 'd' to s1[30] yields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s1[ 30 ] = 'd';     // ERROR: subscript out of range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0824-AB1A-4AF1-9DCC-174352E57AC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happ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is "happy"; s2 is " birthday"; s3 is 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s of comparing s2 and 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=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!=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 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 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=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=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!s3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is empty; assigning s1 to s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is "happy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s2 yields s1 =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" to you" y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 = happy birthday to you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819160" y="3886200"/>
            <a:ext cx="4115160" cy="1310760"/>
            <a:chOff x="2819160" y="3886200"/>
            <a:chExt cx="4115160" cy="1310760"/>
          </a:xfrm>
        </p:grpSpPr>
        <p:sp>
          <p:nvSpPr>
            <p:cNvPr id="251" name=""/>
            <p:cNvSpPr/>
            <p:nvPr/>
          </p:nvSpPr>
          <p:spPr>
            <a:xfrm>
              <a:off x="4267080" y="38862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constructor and destructor are called for the temporar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converted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 “to you”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819160" y="4038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26389-EDA2-4D4F-9AFE-D584849BAA8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0 for 14 characters, s1(0, 14),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15, s1(15, 0), is: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*s4Ptr to *s4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ed assignment of a String to itsel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84A6E-9574-49B6-BBEA-99683123AA3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after s1[0] = 'H' and s1[6] = 'B' is: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'd' to s1[30] yield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: Subscript 30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21267-43F4-49EC-B7ED-FCB9EC376F1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1  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/decrement operators can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1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(member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&amp;operator++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d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(non-memb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Date &amp;operator++( Date &amp;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d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++( d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5628-849A-4151-A415-DA4B05E4A0B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1  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istinguish pre/post inc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 increment has a dummy 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(member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operator++( i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 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(non-memb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Date operator++( Data &amp;, i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++( d1, 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parameter does not have a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even in function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FED0-3F39-494D-9100-53CAD8EAE21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1  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in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by referen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value (can be as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in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b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emporary object with ol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value (cannot be on left side of assig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ment operator analo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8302-6D31-4263-9348-5A7EE044CBD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4343400"/>
          <a:ext cx="8076960" cy="99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343400"/>
                    <a:ext cx="80769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-533520" y="1219320"/>
          <a:ext cx="9677520" cy="2287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33520" y="1219320"/>
                    <a:ext cx="967752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5FF6-11D7-40BA-B343-FE0EE7A87C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2  Case Study: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at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increment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day, month and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to test for leap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to determine if day is last of mon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A388-0CBB-44FB-BB65-9CE0F70157D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10: dat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the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();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increment opera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stincremen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days, modify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pYea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this a leap year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OfMon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s this end of month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514600" y="2743200"/>
            <a:ext cx="4114800" cy="838080"/>
            <a:chOff x="2514600" y="2743200"/>
            <a:chExt cx="4114800" cy="838080"/>
          </a:xfrm>
        </p:grpSpPr>
        <p:sp>
          <p:nvSpPr>
            <p:cNvPr id="268" name=""/>
            <p:cNvSpPr/>
            <p:nvPr/>
          </p:nvSpPr>
          <p:spPr>
            <a:xfrm>
              <a:off x="3962520" y="2743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difference between pre and post incr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514600" y="2895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8B119-1844-4F24-B74E-363F553EBC7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s[]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of days per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lpIncrement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A584-0D18-473E-91A1-0C9E278FACA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11: date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member 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at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static member at file scop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ne class-wide cop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day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::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Date( m, d, y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at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onth, day and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set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d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nth = ( m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m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ear = ( yy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yy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yy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72847-B08E-4CEE-A3C2-89D0A15AC90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for a leap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n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leapYear( year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y = ( dd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dd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dd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y = ( dd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dd &lt;= days[ month ] ) ? dd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preincrement operator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&amp;Date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()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elpIncrement()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 return to create an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++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postincrement operator; note that the dumm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ger parameter does not have a parameter nam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Date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temp =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ld current state of 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elpIncrement()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unincremented, saved, temporary objec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ue return; not a reference retur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++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666880" y="3429000"/>
            <a:ext cx="4114800" cy="2527560"/>
            <a:chOff x="2666880" y="3429000"/>
            <a:chExt cx="4114800" cy="2527560"/>
          </a:xfrm>
        </p:grpSpPr>
        <p:sp>
          <p:nvSpPr>
            <p:cNvPr id="277" name=""/>
            <p:cNvSpPr/>
            <p:nvPr/>
          </p:nvSpPr>
          <p:spPr>
            <a:xfrm>
              <a:off x="4114800" y="3429000"/>
              <a:ext cx="2666880" cy="2527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tincrement updates object and returns a copy of the original. Do not return a reference to temp, because it is a local variable that will be destroy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so note that the integer parameter does not have a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666880" y="358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1B65F-D58B-4D6D-A5D0-2A99DD6F82A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specified number of days to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Date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tionalDay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dditionalDays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elpIncr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+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the year is a leap year, return tru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therwise, return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leapYea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Yea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est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test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test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leap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t a leap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leap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5E54-1E80-4B64-86D7-337292D73E5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the day is the last day of the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endOfMon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n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leapYear( year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st day of Feb. in leap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 == days[ month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ndOf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help increment the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helpIncrem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ay is not end of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endOfMonth( day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d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ay is end of month and month &lt;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n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+mon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4176A-5F7B-41A7-90C5-C797542953A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st day of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+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n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help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outpu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month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nua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ebrua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rc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ri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Ju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ul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gu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pte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cto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ve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ce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monthName[ d.month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d.da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.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800D1-0F82-4A1D-8C3F-8917A27788B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12: fig08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1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s to January 1, 19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1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2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3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d2 += 7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( d2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3.setDa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  d3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++d3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++d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4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2353-A80D-4B8E-8036-A41949FFD86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esting the preincrement operator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d4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4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++d4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++d4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d4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4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Testing the postincrement operator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d4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4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4++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4++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 d4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4 &lt;&lt; endl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52C7-81E7-4400-AB90-155A5E0292B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 Operator Functions As Class Members Vs. As Friend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word to implicitly ge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s left operand for binary operators (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most object must be of same class as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parameters for both ope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object of different class than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ce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ed w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 operand of binary operator of sam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operand of unitary operator of sam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C15E-D0CC-403B-8813-2A9529A6CD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July 13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July 14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July 14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ostincrement operator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July 14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++ is July 14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July 15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D8BE-15A4-4FDA-87C8-6419F79D40C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Library Classe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ing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ec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built into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ailable for anyone to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ou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ally resizabl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ou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7178-C953-4B4E-9CB8-1F8373803F4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Library Classe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ing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ec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amesp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initializ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1(“hi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relational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 != &gt;= &gt; &lt;= 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operator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catenation (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2954-979A-4E45-ABD7-687396DE67F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Library Classe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ing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ec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tring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bs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(0, 1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at location 0, gets 14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(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tring beginning at location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on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range checking (if subscript inval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at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 at subscript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bounds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end program if invalid (learn more in Chapter 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F985-87D9-416C-A2C4-9F526ED88F0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13: fig08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string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irth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3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equality and relational oper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is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; s2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; s3 is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"'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results of comparing s2 and s1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=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!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!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02B4-0E51-4F55-A431-47AE4C35FFC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gt; 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gt;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lt; 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lt;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gt;= s1 yield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gt;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lt;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lt;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tring member function empt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esting s3.empty()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3.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3 is empty; assigning s1 to s3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3 = s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s1 to s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3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string concatenation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1 += s2 yields 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 += s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concate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71B27-A84A-4C21-84EF-414A64F9BED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string concatenation opera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C-style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1 += \" to you\" yield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to you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tring member function subs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ubstring of s1 starting at location 0 fo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4 characters, s1.substr(0, 14), is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.subs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ubstr "to-end-of-string" o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ubstring of s1 starting a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tion 15, s1.substr(15), is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.subs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*s4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s4Pt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s4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assignment (=) operator with self-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igning *s4Ptr to *s4Pt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s4Ptr = *s4Ptr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s4Pt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s4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69D2-45BD-4F80-8F06-CCBD730AE13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4Ptr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using subscript operator to create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H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1 after s1[0] = 'H' and s1[6] = 'B'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ubscript out of range with string member function "a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tempt to assign 'd' to s1.at( 30 ) yield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s1.at( 30 ) = 'd';     // ERROR: subscript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073A-409C-40FB-BD62-F8D0296A627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is "happy"; s2 is " birthday"; s3 is 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s of comparing s2 and 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=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!=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 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 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=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=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s3.empty()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is empty; assigning s1 to s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is "happy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s2 yields s1 =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" to you" y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 location 0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 characters, s1.substr(0, 14),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4119-1F97-4833-AFAE-F75D70D7495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00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15, s1.substr(15),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*s4Ptr to *s4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after s1[0] = 'H' and s1[6] = 'B' is: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'd' to s1.at( 30 ) yield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bnormal program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8610E-A6C0-42FC-9858-7B1E21E3310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 Operator Functions As Class Members Vs. As Friend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 operand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 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ly, 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eed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 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us, both must be non-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07C6-A54D-4AC3-805B-6C6B6A6F01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Library Classe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ing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ec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vector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namesp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any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&lt; int &gt; myArray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.size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specific element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Array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equality, equality,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1D07-E0B3-47E5-B446-4D53A47525B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14: fig08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andard library class vect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vec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Vect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Vector(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7-element vector&lt; int 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0-element vector&lt; in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7202D-3DD6-48AA-AE5A-D3F99C49091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integers1 size and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ize of vector integers1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1.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integers2 size and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 of vector integers2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2.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and print integers1 and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put 17 integer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Vector( integers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put, the vectors contain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2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overloaded inequality (!=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valuating: integers1 != integers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7345B-78AC-45BA-A6E6-AE1D30F69CE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gers1 != integer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 and integers2 are not equ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vector integers3 using integers1 as an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r; print size and contents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3( integers1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 of vector integers3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3.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3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overloaded assignment (=) operato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ssigning integers2 to 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1 = integers2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2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4570-40D3-4A49-8DE1-A1392803D3F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overloaded equality (==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Evaluating: integers1 == integers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gers1 == integer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 and integers2 are equ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overloaded subscript operator to create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tegers1[5]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overloaded subscript operator to create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ssigning 1000 to integers1[5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 to use out of range subscri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ttempt to assign 1000 to integers1.at( 15 )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egers1.at( 15 ) = 1000;  // ERROR: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4DB54-05A9-468C-96D4-9E36323C145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vector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Vect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amp;arr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.size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rray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0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4 numbers per row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utput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vector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Vector(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amp;arr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.size()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array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put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91D3-F5D4-4EC6-9DC5-992D781BB32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vector integers1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vector integers2 is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17 integer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3 4 5 6 7 8 9 10 11 12 13 14 15 16 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put, the vectors contai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           3         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6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ing: integers1 !=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 and integers2 are not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C6D8E-50ED-44B3-98A5-F93DC8BADC0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vector integers3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           3         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6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integers2 to 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ing: integers1 ==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 and integers2 are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[5] is 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1000 to integers1[5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1000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1000 to integers1.at( 15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bnormal program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BDBB-D960-43A0-BD81-A73FAC388EA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 Operator Functions As Class Members Vs. As Friend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tative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wa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be commutati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both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+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we have two different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operator can only be member function when its class is on le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ugeIntClass + Long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other way, need a non-member overload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int + HugeInt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CD0B-6FA4-440C-A9B3-0A53118F7C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19:55:00Z</dcterms:created>
  <dc:creator>kalid</dc:creator>
  <dc:description/>
  <dc:language>en-US</dc:language>
  <cp:lastModifiedBy>Pearson Education</cp:lastModifiedBy>
  <dcterms:modified xsi:type="dcterms:W3CDTF">2002-08-08T15:25:32Z</dcterms:modified>
  <cp:revision>621</cp:revision>
  <dc:subject/>
  <dc:title>Chapter 8 - Operator Overloading</dc:title>
</cp:coreProperties>
</file>