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4AF9-02B5-4FA6-B11B-E24979529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8729-5CB3-4DDA-9096-8ABF7EA8C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CC5F-5E82-4CB8-8590-60FACAC01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F7D3-43FE-48FC-9396-A594745F0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4779-A7EA-4724-BCA1-EE93B4A70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403A-1E20-4ED3-B4C8-CB2D0CD825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9E4C-E92B-40A4-99D1-04224E01E1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0582-17C0-46CC-8768-14A9199DDB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C1FB-F30C-4D52-B978-A3D98D87F6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29AC-908B-4008-A15D-1407028DBE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0E31-DF44-43B0-96CC-8EBB8C776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B10C-E309-4BAB-8C7D-297CEFFB3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D83F-9433-4911-A089-3089FE2E64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7D55-9E9D-4A73-B30A-20EA9087A4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7D77-F321-4858-AB52-DB31EADE6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DF17-6CFB-4016-A1ED-ACCE0F8959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A451-3B81-4CB2-A7B3-C10DC1409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B7DA-838F-4277-913B-FC4812582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8065-57EE-4301-A8BB-8CAA274B9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3BDB-6BD3-4119-B08C-69F33AB37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11C6-685E-443A-84BC-3561754F3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D52E-709C-4D32-BE23-851BD7399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FCB9-D216-4F24-8CB6-71FA6FD1A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4288-BED6-4CD9-AF46-7DE4B5FDE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54F9-264F-4CCA-A777-8618573C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8C1E-AB41-40E9-9F92-072F0DE1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0 - C Legacy Code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directing Input/Output on UNIX and DO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ariable-Length Argument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Command-Line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otes on Compiling Multiple-Source-Fil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Termination with exit and at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volatile Type Qua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uffixes for Integer and Floating-Point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ynamic Memory Allocation with calloc and r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Unconditional Branch: 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kage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C256-DB14-42A3-8418-E9AFFFA97A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oubl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3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ouble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4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4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 and double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, double2, and double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, double3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, double2, double3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double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, double3, double4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09320" y="2590920"/>
            <a:ext cx="3429360" cy="1296000"/>
            <a:chOff x="2209320" y="2590920"/>
            <a:chExt cx="3429360" cy="1296000"/>
          </a:xfrm>
        </p:grpSpPr>
        <p:sp>
          <p:nvSpPr>
            <p:cNvPr id="111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with a variable number of arguments (passing the number of arguments as a paramet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209320" y="25909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E3D6-3FC6-4B80-B74D-F0C0C7FA2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, ...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storing information needed by va_st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sta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, 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variable length argumen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ar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he va_st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/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80720" y="304920"/>
            <a:ext cx="4267800" cy="1079280"/>
            <a:chOff x="1980720" y="304920"/>
            <a:chExt cx="4267800" cy="1079280"/>
          </a:xfrm>
        </p:grpSpPr>
        <p:sp>
          <p:nvSpPr>
            <p:cNvPr id="116" name=""/>
            <p:cNvSpPr/>
            <p:nvPr/>
          </p:nvSpPr>
          <p:spPr>
            <a:xfrm>
              <a:off x="3581280" y="3049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_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call macr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_st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parameter before the ellipsi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80720" y="45720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514240" y="457200"/>
              <a:ext cx="106668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962160" y="1600200"/>
            <a:ext cx="4115160" cy="838080"/>
            <a:chOff x="3962160" y="1600200"/>
            <a:chExt cx="4115160" cy="838080"/>
          </a:xfrm>
        </p:grpSpPr>
        <p:sp>
          <p:nvSpPr>
            <p:cNvPr id="120" name=""/>
            <p:cNvSpPr/>
            <p:nvPr/>
          </p:nvSpPr>
          <p:spPr>
            <a:xfrm>
              <a:off x="54100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ract each argumen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reat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621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2819520"/>
            <a:ext cx="4495680" cy="580680"/>
            <a:chOff x="2133720" y="2819520"/>
            <a:chExt cx="4495680" cy="580680"/>
          </a:xfrm>
        </p:grpSpPr>
        <p:sp>
          <p:nvSpPr>
            <p:cNvPr id="123" name=""/>
            <p:cNvSpPr/>
            <p:nvPr/>
          </p:nvSpPr>
          <p:spPr>
            <a:xfrm>
              <a:off x="396252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d the macros, helps with a normal function retur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33720" y="297180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97EA-EED3-4DD7-AE71-3B533B179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1 = 37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2 = 2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3 = 1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4 = 10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 and double2 is 30.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, double2, and double3 is 20.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, double2, double3 and double4 is 17.9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C47B-247E-43FF-9C04-9A44735089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ass argumen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UNIX/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parameter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 int argc, char *argv[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arg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argv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strings that contains command-lin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c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0]: "copy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1]: "inpu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2]: "outpu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E826-6173-45A9-9BBB-15B0A862A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copy input file to outpu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a character from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write to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when no more characters to read (E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1F18-EB96-45F8-9105-7A7AAE3093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3: fig20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mmand-line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number of command-line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c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copyFile infile_name outfile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fstream inFile(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57600" y="3733920"/>
            <a:ext cx="4114800" cy="838080"/>
            <a:chOff x="3657600" y="3733920"/>
            <a:chExt cx="4114800" cy="838080"/>
          </a:xfrm>
        </p:grpSpPr>
        <p:sp>
          <p:nvSpPr>
            <p:cNvPr id="134" name=""/>
            <p:cNvSpPr/>
            <p:nvPr/>
          </p:nvSpPr>
          <p:spPr>
            <a:xfrm>
              <a:off x="510552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gv[1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input file -- open for rea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6576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76160" y="2209680"/>
            <a:ext cx="4115160" cy="838440"/>
            <a:chOff x="1676160" y="2209680"/>
            <a:chExt cx="4115160" cy="838440"/>
          </a:xfrm>
        </p:grpSpPr>
        <p:sp>
          <p:nvSpPr>
            <p:cNvPr id="137" name=""/>
            <p:cNvSpPr/>
            <p:nvPr/>
          </p:nvSpPr>
          <p:spPr>
            <a:xfrm>
              <a:off x="3124080" y="22096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parameter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6761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53A2-BB32-45B5-8179-C551A4F90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fstream outFile(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Fil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inFile.ge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firs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File.put( c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 = inFile.ge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nex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14440" y="542880"/>
            <a:ext cx="3810240" cy="580680"/>
            <a:chOff x="4114440" y="542880"/>
            <a:chExt cx="3810240" cy="580680"/>
          </a:xfrm>
        </p:grpSpPr>
        <p:sp>
          <p:nvSpPr>
            <p:cNvPr id="142" name=""/>
            <p:cNvSpPr/>
            <p:nvPr/>
          </p:nvSpPr>
          <p:spPr>
            <a:xfrm>
              <a:off x="5257800" y="542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gv[2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output file -- open for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114440" y="694800"/>
              <a:ext cx="1143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743200" y="2286000"/>
            <a:ext cx="4114800" cy="1067400"/>
            <a:chOff x="2743200" y="2286000"/>
            <a:chExt cx="4114800" cy="1067400"/>
          </a:xfrm>
        </p:grpSpPr>
        <p:sp>
          <p:nvSpPr>
            <p:cNvPr id="145" name=""/>
            <p:cNvSpPr/>
            <p:nvPr/>
          </p:nvSpPr>
          <p:spPr>
            <a:xfrm>
              <a:off x="4191120" y="2286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a charact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writ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Loop stops when EOF reach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743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32EE-9FF8-4377-ABD0-E775F28F25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with multiple sourc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must be entirely in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split up into multipl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 accessible to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defined in every file they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global variable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variable defined later in file or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Global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int myGlobal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ppea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84F1-FD0F-4DB7-96E9-DF7751B97B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 other file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prototype in each file function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files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indicates function defined later in same file, or in anoth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loading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st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prototypes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need to know where definition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378B-FCC7-46B9-B871-D98E70F965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ontext of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by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lin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/functions have external linkage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ith utility functions called only in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fined before used,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use with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utility to aid compilation and li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s effort of constantly recompiling for minor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4810-B052-49D4-8EEB-443EC37151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dvanced topics in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apabilities specific to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pecially UNIX and/or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for C++ programmers working with C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0C5F-48C8-4EF6-A8BC-36ED11A4C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Termination with exit and 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program to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tak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_SUC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_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constan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EXIT_SUCCES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value to environment, indicating success or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value varies with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1F5A-A439-4B14-81A5-7782941E7F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Termination with exit and 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pointer to function (function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( myFunc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ust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s function to run when program end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ccessf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, or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terminate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gister up to 32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in reverse order of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6EC6-16A1-4D2A-9B08-D8D7003849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4: fig20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exit and atexit func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texit( print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gister function pri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 to terminate program with function 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2 to terminate program normally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52480" y="2362320"/>
            <a:ext cx="4114800" cy="1797480"/>
            <a:chOff x="1752480" y="2362320"/>
            <a:chExt cx="4114800" cy="1797480"/>
          </a:xfrm>
        </p:grpSpPr>
        <p:sp>
          <p:nvSpPr>
            <p:cNvPr id="160" name=""/>
            <p:cNvSpPr/>
            <p:nvPr/>
          </p:nvSpPr>
          <p:spPr>
            <a:xfrm>
              <a:off x="3200400" y="236232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called when the program terminat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take no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called if the program ends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752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752480" y="25146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4E34-B5E1-42E8-A812-C656D63B13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if answer is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rminating program with function exi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SUCC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rminating program by reaching the end of mai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essage before termination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ecuting function print at program terminatio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360" y="1066320"/>
            <a:ext cx="4115160" cy="733680"/>
            <a:chOff x="2133360" y="1066320"/>
            <a:chExt cx="4115160" cy="733680"/>
          </a:xfrm>
        </p:grpSpPr>
        <p:sp>
          <p:nvSpPr>
            <p:cNvPr id="166" name=""/>
            <p:cNvSpPr/>
            <p:nvPr/>
          </p:nvSpPr>
          <p:spPr>
            <a:xfrm>
              <a:off x="3276720" y="12193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passing a symbolic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133360" y="10663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2030-5606-4FC4-9352-A2C3D8EEF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terminate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terminate program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 by reaching the end of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ng function print at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terminate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terminate program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ng function print at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D37D-371B-4374-B065-9B3E25850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volatile Type Qualifi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variable may be altered outside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ot under control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not perform certain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6168-5806-4F0A-939D-4CD7872731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ffixes for Integer and Floating-Point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has suffixes f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suf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uffix, uses smallest type that can hold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4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22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364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ating point suf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uffi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.14159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8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rrect suffix is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A816-E7A7-44C6-AFF8-AFE5E27559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expected event, can terminat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 (ctrl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egal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ing-point exceptions (division by 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ps unexpected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ignal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signal number (symbolic constants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pointer to function (function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handler passed signa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required to ca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gain inside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itialize handler after it handles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506F-CCEF-4E24-A83D-4A5D49CB48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9880" y="1395360"/>
          <a:ext cx="7415280" cy="49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395360"/>
                    <a:ext cx="741528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860F-FCB8-46D5-948B-FF32BE01BA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signal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0322-E8FA-4E4A-8D6F-6385CEAEA3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 (input) and screen (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direct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can come from a file, output can go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symbol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ng system feature (not C++ feature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and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lt;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executabl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at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mmand-line pro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to program now comes from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the key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9DA8-8F16-4530-8DD1-42CC58F94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6: fig20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ignal handl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igna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Handl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gna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gnalHand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733920"/>
            <a:ext cx="4648320" cy="838080"/>
            <a:chOff x="2743200" y="3733920"/>
            <a:chExt cx="4648320" cy="838080"/>
          </a:xfrm>
        </p:grpSpPr>
        <p:sp>
          <p:nvSpPr>
            <p:cNvPr id="184" name=""/>
            <p:cNvSpPr/>
            <p:nvPr/>
          </p:nvSpPr>
          <p:spPr>
            <a:xfrm>
              <a:off x="4191120" y="3733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gnal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al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G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v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7432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67EE-676E-4391-A625-C7372DA8EE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nd output random 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ise SIGINT when x is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x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i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ndl when i is a multiple of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438280" y="533520"/>
            <a:ext cx="4114800" cy="838080"/>
            <a:chOff x="2438280" y="533520"/>
            <a:chExt cx="4114800" cy="838080"/>
          </a:xfrm>
        </p:grpSpPr>
        <p:sp>
          <p:nvSpPr>
            <p:cNvPr id="189" name=""/>
            <p:cNvSpPr/>
            <p:nvPr/>
          </p:nvSpPr>
          <p:spPr>
            <a:xfrm>
              <a:off x="3886200" y="533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i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43828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7CFF-4909-4398-938B-1BA06FBB6C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sig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Handl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rrupt signal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gna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 received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 you wish to continue (1 = yes or 2 = no)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invalid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1 = yes or 2 = no)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if it is time to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SUCC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ignal and pass it SIGINT and address of signal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gna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gnalHandler 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ignal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194" name="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 be required to reinitial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B71C-1F18-432F-9E72-5788201B6F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2   3   4   5   6   7   8   9 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12  13  14  15  16  17  18  19 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22  23  24  25  26  27  28  29 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32  33  34  35  36  37  38  39 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  42  43  44  45  46  47  48  49 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52  53  54  55  56  57  58  59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  62  63  64  65  66  67  68  69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  72  73  74  75  76  77  78  79 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  82  83  84  85  86  87  88  89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1  92  93  94  95  96  97  98 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signal (2) recei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 you wish to continue (1 = yes or 2 = no)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2   3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signal (2) recei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 you wish to continue (1 = yes or 2 = no)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6AEB-3B83-4A50-84D5-8EA0308E71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0  Dynamic Memory Allocation with calloc and 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reate dynamic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calloc(size_t nelmt, size_t siz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l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number of elements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ize of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dynamic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initializ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AECF-327A-4864-9D08-807E8C727C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0  Dynamic Memory Allocation with calloc and 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zes dynamic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modified if size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hrunk, beginning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realloc(void *ptr, size_t newSiz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ointer to object being real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new size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 =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ct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Size =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 !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emory fr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reallocated memory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no sp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0B79-0D23-4A89-A140-20CBE653A6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1  The Unconditional Branch: got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performance cru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i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jumps to first statement after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 is an identifier and col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escape from deeply nested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F3F5-BB47-4E35-A2D3-84A2BA21EB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7: fig20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got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rt: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b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to end when count exceed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o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left &lt;&lt;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to start on line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o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95280" y="2819520"/>
            <a:ext cx="4114800" cy="838080"/>
            <a:chOff x="1295280" y="2819520"/>
            <a:chExt cx="4114800" cy="838080"/>
          </a:xfrm>
        </p:grpSpPr>
        <p:sp>
          <p:nvSpPr>
            <p:cNvPr id="207" name=""/>
            <p:cNvSpPr/>
            <p:nvPr/>
          </p:nvSpPr>
          <p:spPr>
            <a:xfrm>
              <a:off x="2743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declaration of labe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952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057400" y="4724280"/>
            <a:ext cx="4114800" cy="1219320"/>
            <a:chOff x="2057400" y="4724280"/>
            <a:chExt cx="4114800" cy="1219320"/>
          </a:xfrm>
        </p:grpSpPr>
        <p:sp>
          <p:nvSpPr>
            <p:cNvPr id="210" name=""/>
            <p:cNvSpPr/>
            <p:nvPr/>
          </p:nvSpPr>
          <p:spPr>
            <a:xfrm>
              <a:off x="3505320" y="5105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057400" y="5257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209320" y="472428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0847-3013-4A67-8F16-328EF4C779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nd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b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90512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2  3  4  5  6  7  8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08FB-8DF3-4FAD-BCD4-493F1F86A3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hat contains a variety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embers shar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ontains one data me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rves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last data member defined can be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on Numb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on my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3316-760F-446A-9BFB-9899BBBE0E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 command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one program becomes input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firstProgram | 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output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program goes to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gt; my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rases previous 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012F-2A68-4C4E-946F-67959F8C5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union of same typ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union member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using poin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8703-A0E2-41B3-A2C6-2827953B31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create a type; creates an unnam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only public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ccessed like norm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ame, n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d globally, 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eger1;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uble1;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charPtr;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 // end anonymous un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1 = 3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2818-14E5-4C3B-A8E6-9F4991C94A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0.8: fig20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n example of a 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fine union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ber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1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un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Number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nion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value.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ssign 100 to member integ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Put a value in the integer me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and print both members.\nint:  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value.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value.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28800" y="1219320"/>
            <a:ext cx="4114800" cy="838080"/>
            <a:chOff x="1828800" y="1219320"/>
            <a:chExt cx="4114800" cy="838080"/>
          </a:xfrm>
        </p:grpSpPr>
        <p:sp>
          <p:nvSpPr>
            <p:cNvPr id="225" name=""/>
            <p:cNvSpPr/>
            <p:nvPr/>
          </p:nvSpPr>
          <p:spPr>
            <a:xfrm>
              <a:off x="3276720" y="1219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amed union with two data members. They share the same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828800" y="1371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24280" y="4191120"/>
            <a:ext cx="4114800" cy="2040840"/>
            <a:chOff x="4724280" y="4191120"/>
            <a:chExt cx="4114800" cy="2040840"/>
          </a:xfrm>
        </p:grpSpPr>
        <p:sp>
          <p:nvSpPr>
            <p:cNvPr id="228" name=""/>
            <p:cNvSpPr/>
            <p:nvPr/>
          </p:nvSpPr>
          <p:spPr>
            <a:xfrm>
              <a:off x="6172200" y="41911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will print the integ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output is implementation dependent, but will show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re represented differen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7242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3C8C-3509-4497-933E-61ABCB6D2E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100.0 to member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t a value in the floating me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d print both members.\nint:  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value.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.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4382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a value in the integer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-9.25596e+0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a value in the floating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A172-5A7B-4B4E-B0DF-8CC349670F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9: fig20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anonymous 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an anonymous unio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bers integer1, double1 and charPtr share the sam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harPtr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union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local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har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3880" y="1905120"/>
            <a:ext cx="4114800" cy="1067400"/>
            <a:chOff x="1523880" y="1905120"/>
            <a:chExt cx="4114800" cy="1067400"/>
          </a:xfrm>
        </p:grpSpPr>
        <p:sp>
          <p:nvSpPr>
            <p:cNvPr id="236" name=""/>
            <p:cNvSpPr/>
            <p:nvPr/>
          </p:nvSpPr>
          <p:spPr>
            <a:xfrm>
              <a:off x="29718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nonymous union. The data members can be accessed without using a union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523880" y="2057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EEF8-981E-4E43-9B25-0910E53908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value to each union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ively and print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g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ger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ouble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ouble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har2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har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96252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onymous 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3A63-273A-4C10-B0E0-5FB0990003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3  Linkage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ll compiled C functions from C++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 does not encode function names like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ds to problems li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age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link properly, tell compiler that function compiled in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ngl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"C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multipl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"C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A7E5-DACA-41DA-94C9-E419E47992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program appends to end of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gt;&gt; my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5147-4BD4-4D55-AEE1-E680ACE3B5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++, we use 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-length arguments for programmers working with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functions with unspecified number of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ar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llipsi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t end of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last item in 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one named parameter before elli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myFunction(int i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10AD-EE53-4D3A-893C-071282F2E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(inside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data needed by other 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 my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is last parameter before ellipsis 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start( myList, i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6ED4-7249-47EF-A8A8-C03DBFC68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arguments with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a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is the expected type of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g = va_arg( myList, doubl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different data types for differen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end( myLis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B75D-E026-4080-970E-D67A21666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0.2: fig20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sing variable-length argument lis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iosflag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cstdar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...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1960" y="3048120"/>
            <a:ext cx="4115160" cy="838080"/>
            <a:chOff x="2361960" y="3048120"/>
            <a:chExt cx="4115160" cy="838080"/>
          </a:xfrm>
        </p:grpSpPr>
        <p:sp>
          <p:nvSpPr>
            <p:cNvPr id="106" name=""/>
            <p:cNvSpPr/>
            <p:nvPr/>
          </p:nvSpPr>
          <p:spPr>
            <a:xfrm>
              <a:off x="380988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ellipsis in the prototype, and one defined argument before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3619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6FCF-A5DB-481E-A44D-039E031790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9:56:27Z</dcterms:created>
  <dc:creator>kalid</dc:creator>
  <dc:description/>
  <dc:language>en-US</dc:language>
  <cp:lastModifiedBy>Pearson Education</cp:lastModifiedBy>
  <dcterms:modified xsi:type="dcterms:W3CDTF">2002-09-03T14:50:44Z</dcterms:modified>
  <cp:revision>580</cp:revision>
  <dc:subject/>
  <dc:title>PowerPoint Presentation</dc:title>
</cp:coreProperties>
</file>