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F642-1BFD-4AF6-9260-C82F8A747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36FF-8E70-4F71-9290-287ED4C31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53E4-DD40-4B3C-843C-95690AB8F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DA53-0853-4D60-BE16-333C5BA13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3726-9342-473E-AFFF-D6F00D3E85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7982-7A47-4083-AE07-59471A53C3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D6FD-6E11-48A3-9731-4E0ABF974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7707-05A2-4C42-8143-97395922E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210D-9D8B-486A-8DE1-E5AD448D9C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4A46-E1D5-448B-8525-517E3F5AC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63D1-E667-415F-8500-0481A4876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A8F7-64D6-4A37-9BF2-9512BD12F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3FED-2C72-4F47-8F58-0C4A959E5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4E34-D130-4B84-A570-58FC553657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09B3-A6AE-4F49-80CE-F24A95605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1794-4066-460D-B15E-AA051D382E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2023-BE49-4DA9-A17A-7EAD224D2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0B97-75CC-499E-AF5F-D79427159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55E0-2125-4F1E-8966-55D57B209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CD3F-AC34-4004-8B92-F43B499C2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3BB9-9D4D-4DDB-8D1F-2916E3D15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74D3-2A1A-46AB-AEEB-CEE52175C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BC7F-52EC-4B44-A06E-88027E72C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5A0D-3EA1-46BC-8303-98EC881AD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554-97F1-4A70-8D89-CF29E76A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86A4-3EEF-4596-AF39-CAF4D40B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2321-EF90-4227-AE81-E19EFB28A9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compiler argument type and return typ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ed in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/invoking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an operator used 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gets its own copy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finished, passes back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DF97-E8C7-405A-982D-775B8823E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-value-type  function-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arameter-li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 separated list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needed for each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arguments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ave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of result returned (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hing retur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46A5-A165-4508-BDEA-26420B2F04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*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data, and control goes to function’s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to return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ends when reaches right b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goes to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nnot be defined inside oth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5ACF-D3C2-4873-96E0-567B2D3321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3: fig0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using a programmer-defined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 and calculate and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quare of x each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quare( x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115" name=""/>
            <p:cNvSpPr/>
            <p:nvPr/>
          </p:nvSpPr>
          <p:spPr>
            <a:xfrm>
              <a:off x="403848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 function to be called. When done, it returns th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762120"/>
            <a:ext cx="4115160" cy="1310760"/>
            <a:chOff x="1676160" y="762120"/>
            <a:chExt cx="4115160" cy="1310760"/>
          </a:xfrm>
        </p:grpSpPr>
        <p:sp>
          <p:nvSpPr>
            <p:cNvPr id="118" name=""/>
            <p:cNvSpPr/>
            <p:nvPr/>
          </p:nvSpPr>
          <p:spPr>
            <a:xfrm>
              <a:off x="3124080" y="762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: specifies data types of arguments and return valu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8F96-486A-41A8-B26C-AD0A3FFD5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 function definition returns square of an inte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is a copy of argument to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s square of y as an i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76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57400" y="990720"/>
            <a:ext cx="4495680" cy="1122480"/>
            <a:chOff x="2057400" y="990720"/>
            <a:chExt cx="4495680" cy="1122480"/>
          </a:xfrm>
        </p:grpSpPr>
        <p:sp>
          <p:nvSpPr>
            <p:cNvPr id="124" name=""/>
            <p:cNvSpPr/>
            <p:nvPr/>
          </p:nvSpPr>
          <p:spPr>
            <a:xfrm>
              <a:off x="3886200" y="1289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copy of the argument passed.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* 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qu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57400" y="99072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2028-E2D0-4F35-8A32-B791BAF762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4: fig0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ing the maximum of three floating-point nu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ree floating-point numb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1 &gt;&gt; number2 &gt;&gt;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1, number2 and number3 are argument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aximum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number1, number2, number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2209320"/>
            <a:ext cx="3810240" cy="1434240"/>
            <a:chOff x="1828440" y="2209320"/>
            <a:chExt cx="3810240" cy="14342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3 arguments (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440" y="2209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ABC6-D302-473B-A3C6-1AE3F147C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ximum definition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, y and z are parameter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 = x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 x is larges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y &gt; max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y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y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y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 &gt; max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z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z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z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 is largest 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99.32 37.3 27.1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99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1.1 3.333 2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27.9 14.31 88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88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457200"/>
            <a:ext cx="4114800" cy="838080"/>
            <a:chOff x="2514600" y="457200"/>
            <a:chExt cx="4114800" cy="838080"/>
          </a:xfrm>
        </p:grpSpPr>
        <p:sp>
          <p:nvSpPr>
            <p:cNvPr id="135" name=""/>
            <p:cNvSpPr/>
            <p:nvPr/>
          </p:nvSpPr>
          <p:spPr>
            <a:xfrm>
              <a:off x="3962520" y="457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 separated list for multiple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4621-CD7A-43DF-A167-FA02A0E1D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(number and data 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returns no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eeded if function definition after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must match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 x, double y, double z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A3AD-C787-4EA9-8191-55BBDCC68C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prototype with name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e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 arguments to be of prop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qrt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usually conver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trunc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t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xed type goes to highest type (promo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3200" y="2286000"/>
            <a:ext cx="4038480" cy="503640"/>
            <a:chOff x="2743200" y="2286000"/>
            <a:chExt cx="4038480" cy="503640"/>
          </a:xfrm>
        </p:grpSpPr>
        <p:sp>
          <p:nvSpPr>
            <p:cNvPr id="142" name=""/>
            <p:cNvSpPr/>
            <p:nvPr/>
          </p:nvSpPr>
          <p:spPr>
            <a:xfrm>
              <a:off x="3352680" y="2482560"/>
              <a:ext cx="31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 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43200" y="2514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19F4-43E0-44DD-8795-D502EC1CF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338120"/>
          <a:ext cx="776592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38120"/>
                    <a:ext cx="77659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AEEB-F1A9-4618-8788-10D4669CD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1B55-F585-4DFF-B89F-57608D19F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s of data types and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ending with .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header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5B8F-841C-47D7-82C6-C4FFDF01CC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signed integer between 0 and RAND_MAX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and 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remainder) operator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%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() % 6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es a number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1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the range 1 to 6 (shi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xt: program to roll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85C8-919E-49D8-9298-ED2855EDB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7: fig0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ed, scaled integers produced by 1 + rand() % 6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2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880" y="3505320"/>
            <a:ext cx="4114800" cy="838080"/>
            <a:chOff x="3809880" y="3505320"/>
            <a:chExt cx="4114800" cy="838080"/>
          </a:xfrm>
        </p:grpSpPr>
        <p:sp>
          <p:nvSpPr>
            <p:cNvPr id="156" name=""/>
            <p:cNvSpPr/>
            <p:nvPr/>
          </p:nvSpPr>
          <p:spPr>
            <a:xfrm>
              <a:off x="5257800" y="3505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caled and shifted to be a number between 1 and 6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9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C892-4141-4956-BFF3-DFB21954F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5         5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         1         5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2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2         3         4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5147-7564-406C-8188-D61F26811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show distribu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6000 rolls of a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number of 1’s, 2’s, 3’s, etc. ro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roughly 1000 of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73DC-21D5-43B0-9EF5-E1D5670C72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8: fig03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5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6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one roll of the d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8291-01B4-44BC-95A7-CD953DD178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6000 times and summariz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 number from 1 to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face value and increment appropriate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4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7F08-616D-413E-AF45-733F0E5A6D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6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value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should never get her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6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676520"/>
            <a:ext cx="3962160" cy="1296000"/>
            <a:chOff x="1905120" y="1676520"/>
            <a:chExt cx="3962160" cy="1296000"/>
          </a:xfrm>
        </p:grpSpPr>
        <p:sp>
          <p:nvSpPr>
            <p:cNvPr id="170" name=""/>
            <p:cNvSpPr/>
            <p:nvPr/>
          </p:nvSpPr>
          <p:spPr>
            <a:xfrm>
              <a:off x="32004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ase included even though it should never be reached. This is a matter of good coding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905120" y="16765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085A-6566-4633-88D3-E0BDEEC404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8413-925E-4260-A61F-877B79126A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rand() repeate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the same sequence of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sequence generated whenever program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different random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 see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random starting point in th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ed will give the sa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seed)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9CC6-8EDD-42E2-BD91-D4108E3E57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FBAE-7793-4C2D-BAF6-EC34E1E7D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9: fig03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ing die-rol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functio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see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4760" y="4114800"/>
            <a:ext cx="3505320" cy="838080"/>
            <a:chOff x="1904760" y="4114800"/>
            <a:chExt cx="3505320" cy="838080"/>
          </a:xfrm>
        </p:grpSpPr>
        <p:sp>
          <p:nvSpPr>
            <p:cNvPr id="179" name=""/>
            <p:cNvSpPr/>
            <p:nvPr/>
          </p:nvSpPr>
          <p:spPr>
            <a:xfrm>
              <a:off x="335268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se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A35B-4B1B-4C03-B7EB-6D769B6F39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5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6         3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1         5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819520"/>
            <a:ext cx="4114800" cy="2743200"/>
            <a:chOff x="1523880" y="2819520"/>
            <a:chExt cx="4114800" cy="2743200"/>
          </a:xfrm>
        </p:grpSpPr>
        <p:sp>
          <p:nvSpPr>
            <p:cNvPr id="18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ives the same sequence if it has the same initial se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523880" y="32007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523880" y="3200760"/>
              <a:ext cx="14479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B7DC-CCEA-45EA-8A9A-6A0053D592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current time to set the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explicitly set seed e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0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shifting an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hiftingValu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caling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Value = first number in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Factor = width of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77EF-6A2D-4C70-88F7-A5D7599171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s with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0 (default), incremented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need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ssign integer to enumeration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previously defined enumer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enumVa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Var = WON; // cannot do enumVar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1AA4-CBEE-48CC-ADF4-17BD3B2FEE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prese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s at 1, increments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 or 11 on first throw: player w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3, or 12 on first throw: player l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3FBE-F6FE-4978-A1EE-077E98EBD4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0: fig03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ap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 for function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umeration constants represent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u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us gameStat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 contain CONTINUE, WON or L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981080"/>
            <a:ext cx="4114800" cy="838440"/>
            <a:chOff x="2057400" y="1981080"/>
            <a:chExt cx="4114800" cy="838440"/>
          </a:xfrm>
        </p:grpSpPr>
        <p:sp>
          <p:nvSpPr>
            <p:cNvPr id="197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roll 2 dice and return the result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200" name=""/>
            <p:cNvSpPr/>
            <p:nvPr/>
          </p:nvSpPr>
          <p:spPr>
            <a:xfrm>
              <a:off x="32004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umeration to keep track of the current g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302F-B918-43B3-9FC1-1B65A53C14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ndomize random number generator using curren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rollDic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roll of the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game status and point based o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in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se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685800"/>
            <a:ext cx="4114800" cy="838080"/>
            <a:chOff x="1828800" y="685800"/>
            <a:chExt cx="4114800" cy="838080"/>
          </a:xfrm>
        </p:grpSpPr>
        <p:sp>
          <p:nvSpPr>
            <p:cNvPr id="205" name=""/>
            <p:cNvSpPr/>
            <p:nvPr/>
          </p:nvSpPr>
          <p:spPr>
            <a:xfrm>
              <a:off x="327672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determines outcome based on die ro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2880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BC2C-A4D8-42F8-95F5-520DFF7286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embe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Point =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yPoi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ptio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ile game not complete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rollDice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 dice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myPoint )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n by making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e by rolling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C6BB-2085-436F-B715-329C422052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won or los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wi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los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dice, calculate sum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1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2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orkSum = die1 + di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um die1 and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1080" y="1752480"/>
            <a:ext cx="4114800" cy="838440"/>
            <a:chOff x="1981080" y="1752480"/>
            <a:chExt cx="4114800" cy="838440"/>
          </a:xfrm>
        </p:grpSpPr>
        <p:sp>
          <p:nvSpPr>
            <p:cNvPr id="212" name=""/>
            <p:cNvSpPr/>
            <p:nvPr/>
          </p:nvSpPr>
          <p:spPr>
            <a:xfrm>
              <a:off x="342900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ollD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no arguments, so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8477-168B-4586-8713-FD009DFC9C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this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roll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workSum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oll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5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1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3397-4687-41A6-B6F1-2DDAD794FF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: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use new and “prepackaged”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programmer-defined functions,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ckaged: from the standard libr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voked by function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and information (arguments) i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 from oth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2D9E-AE56-4E8D-9A38-86B4888B65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3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6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4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3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1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4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3 =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AC29-7982-44F2-9849-B8B643DDAB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hav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seen name, type, size,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variable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ariable can be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ple-file program (see Ch. 6), which files can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4CB8-F3C4-4E62-B244-A9377191A2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reated when program enters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destroyed when program leave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ocal variables of functions can be auto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clares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 to place variable in high-speed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ften-used items (loop cou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nnecessary, compiler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bo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7AB3-DFA0-4338-B1C6-100FF7871D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unctions, name exists for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ot be accessible, scope rules still apply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i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value between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in ow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: defined outside of a functio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in any function that comes afte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A6E1-83E3-433C-B67D-2EC670A396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program where identifier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, function definitions and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defin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, e.g., identifiers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1E76-F5FE-4B0B-BBD4-2F69EEF04A1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s at declaration, ends at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referenced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, function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still have block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lass separate from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prototyp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 of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prototype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single prototype, name can be used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B790-E992-4050-8E43-E12F2BC5D9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2: fig03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coping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l variable to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scope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inn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new scope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560" y="1752480"/>
            <a:ext cx="4115160" cy="838080"/>
            <a:chOff x="1447560" y="1752480"/>
            <a:chExt cx="4115160" cy="838080"/>
          </a:xfrm>
        </p:grpSpPr>
        <p:sp>
          <p:nvSpPr>
            <p:cNvPr id="232" name=""/>
            <p:cNvSpPr/>
            <p:nvPr/>
          </p:nvSpPr>
          <p:spPr>
            <a:xfrm>
              <a:off x="2895480" y="1752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d outside of function; global variable with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47560" y="213336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52480" y="2666880"/>
            <a:ext cx="4114800" cy="838440"/>
            <a:chOff x="1752480" y="2666880"/>
            <a:chExt cx="4114800" cy="838440"/>
          </a:xfrm>
        </p:grpSpPr>
        <p:sp>
          <p:nvSpPr>
            <p:cNvPr id="235" name=""/>
            <p:cNvSpPr/>
            <p:nvPr/>
          </p:nvSpPr>
          <p:spPr>
            <a:xfrm>
              <a:off x="32004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 with function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752480" y="29718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81080" y="3886200"/>
            <a:ext cx="4114800" cy="914400"/>
            <a:chOff x="1981080" y="3886200"/>
            <a:chExt cx="4114800" cy="914400"/>
          </a:xfrm>
        </p:grpSpPr>
        <p:sp>
          <p:nvSpPr>
            <p:cNvPr id="238" name=""/>
            <p:cNvSpPr/>
            <p:nvPr/>
          </p:nvSpPr>
          <p:spPr>
            <a:xfrm>
              <a:off x="3429000" y="3886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block, g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scope. When the block ends,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stroy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810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9268-EEBC-4CC8-B7B0-033E667BC61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ha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has static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uses glob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Local reinitializes it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local x retains its pri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x also retains it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ocal x in main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6949-0DC9-4336-8917-592CB70419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reinitializes loc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each time use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28800" y="1142640"/>
            <a:ext cx="3962520" cy="1311120"/>
            <a:chOff x="1828800" y="1142640"/>
            <a:chExt cx="3962520" cy="1311120"/>
          </a:xfrm>
        </p:grpSpPr>
        <p:sp>
          <p:nvSpPr>
            <p:cNvPr id="245" name=""/>
            <p:cNvSpPr/>
            <p:nvPr/>
          </p:nvSpPr>
          <p:spPr>
            <a:xfrm>
              <a:off x="3124080" y="1143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variable (local variable of function). This is destroyed when the function exits, and reinitialized when the function beg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828800" y="11426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0F63-66E3-41CA-8547-25C4BC6B67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initializes static local variable x onl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time the function is called; value of x is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tween calls to thi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d only first time useStatic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8800" y="1676160"/>
            <a:ext cx="4419720" cy="1823400"/>
            <a:chOff x="1828800" y="1676160"/>
            <a:chExt cx="4419720" cy="1823400"/>
          </a:xfrm>
        </p:grpSpPr>
        <p:sp>
          <p:nvSpPr>
            <p:cNvPr id="250" name=""/>
            <p:cNvSpPr/>
            <p:nvPr/>
          </p:nvSpPr>
          <p:spPr>
            <a:xfrm>
              <a:off x="3581280" y="243216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local variable of function; it is initialized only once, and retains its value between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28800" y="1676160"/>
              <a:ext cx="17524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022C-20F3-4CB4-9364-AC58698A2B3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s to worke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6CDB-D6DA-426C-87B3-9736E0A0C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modifies glob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38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inner scope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0 on enter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xit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 on enter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xit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76360" y="762120"/>
            <a:ext cx="4115160" cy="1067400"/>
            <a:chOff x="3276360" y="762120"/>
            <a:chExt cx="4115160" cy="1067400"/>
          </a:xfrm>
        </p:grpSpPr>
        <p:sp>
          <p:nvSpPr>
            <p:cNvPr id="256" name=""/>
            <p:cNvSpPr/>
            <p:nvPr/>
          </p:nvSpPr>
          <p:spPr>
            <a:xfrm>
              <a:off x="4724280" y="76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function does not declare any variables. It use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in the beginning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763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DCF4-B751-4E51-ABCD-6578C8BF89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nter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2 on exit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nter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0 on exit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 is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17E2-1D77-494E-8DC6-5B0D39A7FD1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a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problem into smaller problem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new copy of function to work on the smaller problem (recursive call/recursive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ly converges towards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akes call to itself inside the retur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works way back up, solves entir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19BF-947A-45A5-A392-AC79CE8B13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n! = n * ( n – 1 )!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1! = 0! =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47A6-1194-4460-9E67-B775C05E3CF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4: fig03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actorial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. During each iteration, calcu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ial( i ) and display res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actorial( i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1676520"/>
            <a:ext cx="4115160" cy="838080"/>
            <a:chOff x="3276360" y="1676520"/>
            <a:chExt cx="4115160" cy="838080"/>
          </a:xfrm>
        </p:grpSpPr>
        <p:sp>
          <p:nvSpPr>
            <p:cNvPr id="267" name=""/>
            <p:cNvSpPr/>
            <p:nvPr/>
          </p:nvSpPr>
          <p:spPr>
            <a:xfrm>
              <a:off x="4724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hold an integer from 0 to 4 bill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763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C08C-8678-4899-B537-997D7275715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actorial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cas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actorial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2408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!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!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!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!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! =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! = 5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! = 40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! = 3628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! = 3628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514600" y="457200"/>
            <a:ext cx="4114800" cy="1067400"/>
            <a:chOff x="2514600" y="457200"/>
            <a:chExt cx="4114800" cy="1067400"/>
          </a:xfrm>
        </p:grpSpPr>
        <p:sp>
          <p:nvSpPr>
            <p:cNvPr id="273" name=""/>
            <p:cNvSpPr/>
            <p:nvPr/>
          </p:nvSpPr>
          <p:spPr>
            <a:xfrm>
              <a:off x="3962520" y="457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base case occurs when we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ll other cases must be split up (recursive step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5D0E-FF03-406E-B8D3-55899F067E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Fibonac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ibonacci( n - 1 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bonacci( n – 2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8F0A-B3A4-469C-9A75-964AC8A6166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52480" y="2389320"/>
            <a:ext cx="4571640" cy="1954080"/>
            <a:chOff x="1752480" y="2389320"/>
            <a:chExt cx="4571640" cy="1954080"/>
          </a:xfrm>
        </p:grpSpPr>
        <p:sp>
          <p:nvSpPr>
            <p:cNvPr id="280" name=""/>
            <p:cNvSpPr/>
            <p:nvPr/>
          </p:nvSpPr>
          <p:spPr>
            <a:xfrm>
              <a:off x="2226960" y="405144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405144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8520" y="349236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349236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4880" y="294156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4160" y="238932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696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020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03080" y="35560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352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768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804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8360" y="262404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2960" y="323388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4400" y="323064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892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16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080" y="241776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30304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9160" y="30290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4400" y="358920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240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520" y="35892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0912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944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232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5600" y="359424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5240" y="303048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17440" y="302724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0E26-07C2-4DF8-8736-A0801519798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ibonacci( n - 1 ) + fibonacci( n -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know which one execu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&amp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uaranteed left-to-righ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level of recursion doubles the number of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= 2^30 ~ 4 bill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9B7-17CA-4C80-993D-3A4DE7E0438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5: fig03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ibonacci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,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integer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fibonacci value for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fibonacci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bonacci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76360" y="1038240"/>
            <a:ext cx="4115160" cy="1310760"/>
            <a:chOff x="3276360" y="1038240"/>
            <a:chExt cx="4115160" cy="1310760"/>
          </a:xfrm>
        </p:grpSpPr>
        <p:sp>
          <p:nvSpPr>
            <p:cNvPr id="315" name=""/>
            <p:cNvSpPr/>
            <p:nvPr/>
          </p:nvSpPr>
          <p:spPr>
            <a:xfrm>
              <a:off x="4724280" y="103824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ibonacci numbers get large very quickly, and are all non-negative integers. Thus, we 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360" y="1190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9179-1CA2-4854-8638-012EC44D578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the heade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 (argume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(argument1, argument2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qrt( 900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 (square root) function The preceding statement would print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functions in math library retur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AB59-664E-4A6C-9AE7-8E129C64EE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ibonacci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case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ls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bonacci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05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43A6-E5B0-46C2-9811-1CA4AFF7092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4)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5)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6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0) = 5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0) = 67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0) = 8320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5) = 92274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C4C5-2CE0-443F-BF51-597464ED9B9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4596-2838-41D3-BD55-AF996322B13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 with Empty Parameter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leave parameter list 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0299-4EDF-4392-8B36-DD793E1512E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8: fig03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s that take no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void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1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1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2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9BCC-1204-4714-80F3-33C312586EE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uses an empty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1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uses a void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2 also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F2FF-686D-4BEA-A6A2-214E9387D14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lin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in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making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function-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lls compiler that function does not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s 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729C-C8AD-4264-A7DD-87F48E09F45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9: fig03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nline function to calcu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olume of a cub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inline function cube. Definition of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before function is called, so a function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not required. First line of function definition acts a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proto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lin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* side * sid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9D37-57EA-443B-BECC-56650192257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ide length of your cub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sideValue and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lume of cube with sid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de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ube( sideValue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ide length of your cube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of cube with side 3.5 is 42.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1C48-9119-488F-A854-73B48749043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CB04-F1E4-423A-A5D5-7C285AA3159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sqrt( x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58CC-7226-497C-B95C-76F3EB152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argument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s parameter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data type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Function( int &amp;dat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format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original can now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A26F-3352-4F3B-AD84-E0FF5C074D5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0: fig03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pass-by-value and pass-by-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referen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returned by squareByValu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quareByValue( x ) &lt;&lt; end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1295280"/>
            <a:ext cx="4114800" cy="838440"/>
            <a:chOff x="2895480" y="1295280"/>
            <a:chExt cx="4114800" cy="838440"/>
          </a:xfrm>
        </p:grpSpPr>
        <p:sp>
          <p:nvSpPr>
            <p:cNvPr id="345" name=""/>
            <p:cNvSpPr/>
            <p:nvPr/>
          </p:nvSpPr>
          <p:spPr>
            <a:xfrm>
              <a:off x="434340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, indicating pass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54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1130-B7C8-4D54-B32D-A8B03AC3F2D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quareByReference( 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Value multiplies number by itself, stores th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in number and returns the new value of numbe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no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Valu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Reference multiplies numberRef by itself a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the result in the variable to which numberRef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s in function mai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numberRef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Ref *= numberRef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Referenc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4114800" cy="838440"/>
            <a:chOff x="2895480" y="1523880"/>
            <a:chExt cx="4114800" cy="838440"/>
          </a:xfrm>
        </p:grpSpPr>
        <p:sp>
          <p:nvSpPr>
            <p:cNvPr id="350" name=""/>
            <p:cNvSpPr/>
            <p:nvPr/>
          </p:nvSpPr>
          <p:spPr>
            <a:xfrm>
              <a:off x="434340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original parame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95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52680" y="3429000"/>
            <a:ext cx="4114800" cy="1067400"/>
            <a:chOff x="3352680" y="3429000"/>
            <a:chExt cx="4114800" cy="1067400"/>
          </a:xfrm>
        </p:grpSpPr>
        <p:sp>
          <p:nvSpPr>
            <p:cNvPr id="353" name=""/>
            <p:cNvSpPr/>
            <p:nvPr/>
          </p:nvSpPr>
          <p:spPr>
            <a:xfrm>
              <a:off x="4800600" y="3429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alias for the original parameter. Thu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526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CABC-BBB7-4361-AE98-A0E00AF2A57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befor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returned by squareByValu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after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4 befor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6 after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E408-2D00-47CA-BF92-87C46C8832B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(chapter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other way to pass-by-refer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as aliases to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 to sam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within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ount = 1; // declare integer variable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&amp;cRef = count; // create cRef as an alias for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cRef; // increment count (using its al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ust be initialized when dec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gling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undefin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9AF7-A8B1-4816-A650-186E66582AD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1: fig03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 refers to (is an alias for)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y = x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0060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800" y="2057400"/>
            <a:ext cx="4114800" cy="838080"/>
            <a:chOff x="1828800" y="2057400"/>
            <a:chExt cx="4114800" cy="838080"/>
          </a:xfrm>
        </p:grpSpPr>
        <p:sp>
          <p:nvSpPr>
            <p:cNvPr id="363" name=""/>
            <p:cNvSpPr/>
            <p:nvPr/>
          </p:nvSpPr>
          <p:spPr>
            <a:xfrm>
              <a:off x="327672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as a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07E8-91F6-4326-AAFA-CD862B54F12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2: fig03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y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: y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3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2304 Fig03_22.cpp 11: Reference variable 'y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d­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3\Fig03_22.cpp(11) : error C2530: 'y'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ences must be initi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371600" y="1600200"/>
            <a:ext cx="4114800" cy="838080"/>
            <a:chOff x="1371600" y="1600200"/>
            <a:chExt cx="4114800" cy="838080"/>
          </a:xfrm>
        </p:grpSpPr>
        <p:sp>
          <p:nvSpPr>
            <p:cNvPr id="369" name=""/>
            <p:cNvSpPr/>
            <p:nvPr/>
          </p:nvSpPr>
          <p:spPr>
            <a:xfrm>
              <a:off x="28195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nitialized reference –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3716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04B8-3798-45D4-B8FE-BFECAB0774F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ault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 with omitt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 defaults (right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,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388B-961D-4D2F-8512-E91C1643AA2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3: fig03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efault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 that specifies default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arguments--use default values for all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efault box volum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; default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1 and height 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 and width; default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5 and height 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066680"/>
            <a:ext cx="4114800" cy="838440"/>
            <a:chOff x="2438280" y="10666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38862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efault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4382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4280" y="2654280"/>
            <a:ext cx="4114800" cy="1231920"/>
            <a:chOff x="4724280" y="2654280"/>
            <a:chExt cx="4114800" cy="1231920"/>
          </a:xfrm>
        </p:grpSpPr>
        <p:sp>
          <p:nvSpPr>
            <p:cNvPr id="379" name=""/>
            <p:cNvSpPr/>
            <p:nvPr/>
          </p:nvSpPr>
          <p:spPr>
            <a:xfrm>
              <a:off x="6172200" y="2654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s with some parameters missing – the rightmost parameters get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7242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A716-CF0B-4797-B562-E70075F953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all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 5 and height 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boxVolume calculates the volume of a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* width * height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oxVolume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53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F46F-7D97-4CE9-AC38-CAD68CEE21C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3960" y="380880"/>
          <a:ext cx="8425080" cy="69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80880"/>
                    <a:ext cx="842508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B6D0-0F33-4EB5-9A55-C37FA9B296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itary Scope Resolution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 if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::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to avoid using same names for locals and glob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014D-2FA2-4C46-90AE-2D9D72EDC45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4: fig03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unary scope resolution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global constant PI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26535897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 local constant 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s of local and global PI consta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cal float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lobal double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33560" y="2209680"/>
            <a:ext cx="4115160" cy="2040840"/>
            <a:chOff x="3733560" y="2209680"/>
            <a:chExt cx="4115160" cy="2040840"/>
          </a:xfrm>
        </p:grpSpPr>
        <p:sp>
          <p:nvSpPr>
            <p:cNvPr id="389" name=""/>
            <p:cNvSpPr/>
            <p:nvPr/>
          </p:nvSpPr>
          <p:spPr>
            <a:xfrm>
              <a:off x="5181480" y="2209680"/>
              <a:ext cx="26672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the 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example will show the difference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675E-B483-4965-9949-A3CD5F730EF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6212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A658-1F8B-43E5-80C9-193F85C2928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 distinguished by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name and parameter types (order mat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mang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 function identifier wit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-safe 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80D2-9620-493D-87A9-0D9DF58CADE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5: fig03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overloaded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int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double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uble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066680"/>
            <a:ext cx="4114800" cy="2667240"/>
            <a:chOff x="2209680" y="1066680"/>
            <a:chExt cx="4114800" cy="2667240"/>
          </a:xfrm>
        </p:grpSpPr>
        <p:sp>
          <p:nvSpPr>
            <p:cNvPr id="399" name=""/>
            <p:cNvSpPr/>
            <p:nvPr/>
          </p:nvSpPr>
          <p:spPr>
            <a:xfrm>
              <a:off x="36576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ed functions have the same name, but the different parameters distinguish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209680" y="16765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7652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5E6A-332A-46D8-8835-1A48273BDE9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s int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double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square of integer 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quare of double 7.5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Resul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1952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int argument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double argument: 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double 7.5 is 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8120" y="1143000"/>
            <a:ext cx="3124080" cy="976320"/>
            <a:chOff x="3048120" y="1143000"/>
            <a:chExt cx="3124080" cy="976320"/>
          </a:xfrm>
        </p:grpSpPr>
        <p:sp>
          <p:nvSpPr>
            <p:cNvPr id="406" name=""/>
            <p:cNvSpPr/>
            <p:nvPr/>
          </p:nvSpPr>
          <p:spPr>
            <a:xfrm>
              <a:off x="350532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per function is called based upon the argumen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048120" y="1143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3C9C-650A-4D49-8B73-C79F9CBBF2C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6: fig03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mangl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, float, char and int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function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A55F-E21E-435B-8057-8AA56580AF7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, int, float * and double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othing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954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2$qcipf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1$qif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52480" y="2514600"/>
            <a:ext cx="4114800" cy="2040840"/>
            <a:chOff x="1752480" y="2514600"/>
            <a:chExt cx="4114800" cy="2040840"/>
          </a:xfrm>
        </p:grpSpPr>
        <p:sp>
          <p:nvSpPr>
            <p:cNvPr id="414" name=""/>
            <p:cNvSpPr/>
            <p:nvPr/>
          </p:nvSpPr>
          <p:spPr>
            <a:xfrm>
              <a:off x="3200400" y="251460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gled names produced in assembly langu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parates the function name from its parameter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ointe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752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C3BA-ADE8-4266-BE31-F8CE8706429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parate function for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l type parameters in brack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ype parameter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ynony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s for built-in type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user-define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rguments types, return types, decla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like normal, except formal typ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AB6F-531D-49E3-9021-F6300BF21C2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// or template&lt; typename 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formal type, used as paramet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function returns variable of same type as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unction call, T replaced by real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B401-972B-4899-8051-75C743F811B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function multiple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passed to function whe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E2EF-F77B-48AD-B2E0-F19A5AAC0B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7: fig03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unction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function template maximum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 template &lt; typename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maximum( T value1, T value2, T value3 )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max = value1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2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2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3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3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mplate maximum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981080" y="1295280"/>
            <a:ext cx="4114800" cy="838440"/>
            <a:chOff x="1981080" y="1295280"/>
            <a:chExt cx="4114800" cy="838440"/>
          </a:xfrm>
        </p:grpSpPr>
        <p:sp>
          <p:nvSpPr>
            <p:cNvPr id="423" name=""/>
            <p:cNvSpPr/>
            <p:nvPr/>
          </p:nvSpPr>
          <p:spPr>
            <a:xfrm>
              <a:off x="342900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laceholder for type of data to be test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10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90560" y="2590920"/>
            <a:ext cx="3733920" cy="1128600"/>
            <a:chOff x="2590560" y="2590920"/>
            <a:chExt cx="3733920" cy="1128600"/>
          </a:xfrm>
        </p:grpSpPr>
        <p:sp>
          <p:nvSpPr>
            <p:cNvPr id="426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ll parameters to be of the sam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2590560" y="25909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4D8C-AD7C-4CF2-B032-641CCF3A8CB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1, int2,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hree integer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1 &gt;&gt; int2 &gt;&gt;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int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teg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int1, int2, int3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, double2,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Input three double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double1 &gt;&gt; double2 &gt;&gt;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double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double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double1, double2, double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560" y="1447920"/>
            <a:ext cx="4115160" cy="3047760"/>
            <a:chOff x="3733560" y="1447920"/>
            <a:chExt cx="4115160" cy="3047760"/>
          </a:xfrm>
        </p:grpSpPr>
        <p:sp>
          <p:nvSpPr>
            <p:cNvPr id="431" name=""/>
            <p:cNvSpPr/>
            <p:nvPr/>
          </p:nvSpPr>
          <p:spPr>
            <a:xfrm>
              <a:off x="51814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ed with various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733560" y="1600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19720" y="1600200"/>
              <a:ext cx="7617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DD0D-5AF1-4DA7-B2FE-AD8925128AA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cha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1, char2,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 three charact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ar1 &gt;&gt; char2 &gt;&gt;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char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charact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char1, char2, char3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7672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character value is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13D4-E045-4FF5-AE31-F286A3E6A65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7:44:31Z</dcterms:created>
  <dc:creator>kalid</dc:creator>
  <dc:description/>
  <dc:language>en-US</dc:language>
  <cp:lastModifiedBy>Pearson Education</cp:lastModifiedBy>
  <dcterms:modified xsi:type="dcterms:W3CDTF">2002-08-05T13:02:33Z</dcterms:modified>
  <cp:revision>636</cp:revision>
  <dc:subject/>
  <dc:title>Chapter 3 - Functions</dc:title>
</cp:coreProperties>
</file>