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76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103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75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104.xml.rels" ContentType="application/vnd.openxmlformats-package.relationships+xml"/>
  <Override PartName="/ppt/slides/_rels/slide71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06.xml.rels" ContentType="application/vnd.openxmlformats-package.relationships+xml"/>
  <Override PartName="/ppt/slides/_rels/slide69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5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149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52.xml.rels" ContentType="application/vnd.openxmlformats-package.relationships+xml"/>
  <Override PartName="/ppt/slides/_rels/slide55.xml.rels" ContentType="application/vnd.openxmlformats-package.relationships+xml"/>
  <Override PartName="/ppt/slides/_rels/slide29.xml.rels" ContentType="application/vnd.openxmlformats-package.relationships+xml"/>
  <Override PartName="/ppt/slides/_rels/slide40.xml.rels" ContentType="application/vnd.openxmlformats-package.relationships+xml"/>
  <Override PartName="/ppt/slides/_rels/slide145.xml.rels" ContentType="application/vnd.openxmlformats-package.relationships+xml"/>
  <Override PartName="/ppt/slides/_rels/slide130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5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2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19.xml.rels" ContentType="application/vnd.openxmlformats-package.relationships+xml"/>
  <Override PartName="/ppt/slides/_rels/slide100.xml.rels" ContentType="application/vnd.openxmlformats-package.relationships+xml"/>
  <Override PartName="/ppt/slides/_rels/slide23.xml.rels" ContentType="application/vnd.openxmlformats-package.relationships+xml"/>
  <Override PartName="/ppt/slides/_rels/slide13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113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44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6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28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54.xml" ContentType="application/vnd.openxmlformats-officedocument.presentationml.slide+xml"/>
  <Override PartName="/ppt/slides/slide150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1E98C-880A-4AE0-B954-4B0A4A5015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-360" y="29451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7BA3A-7455-4AAE-9D0D-EFA9570DFF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59172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1B0B4-D658-4642-AE49-89E4EB107B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37024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74048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-36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37024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74048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98DA2-8BFA-4309-A7CC-6DCA6AEDA9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92AF7-5F35-45E9-B81E-859D983AF5C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CCB15-3B54-4445-B322-3620DC47582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CC597-C066-46F7-8961-26696D6FDAF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B0D88-06F5-42CD-9161-C78E146BFBD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4222B-1889-4A3D-9B0A-837D62DF949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086240" y="837720"/>
            <a:ext cx="2057400" cy="22254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E82FA-ED5C-4394-B55D-10E5E34B35A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6FC39-F17D-4909-86B3-010FB6DB12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31887-3521-47B1-AE44-54E31AEE11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59172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AF239-4A9F-40BC-848B-5BFB37055D3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DF09E-3254-45C2-9CD7-B08B8DFEA66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-360" y="29451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BD206-C66D-4E1D-82B1-1BFC7DC6F88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59172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5BC97-A2C4-48A0-9582-9D7E584986D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37024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4048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-36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37024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474048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DBB41-C11E-40BC-B946-E4FD3BA33E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70CF6-5A60-433E-B8B3-F24F634BF4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62E23-17E8-4057-BB55-F2EAACD930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8C80A-F13F-4B96-BC62-E49DB6981B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086240" y="837720"/>
            <a:ext cx="2057400" cy="22254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A9A6A-4FDF-4D7C-B47D-9E93603C29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AC894-5875-44AC-82E2-7612D852A3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59172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490A8-5DED-4A35-89CB-1D8B7EFA31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AAD0F-63DD-4D76-AEB5-6ED519B31C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B9210-7100-46DE-B835-C62507C67C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86600" y="6324480"/>
            <a:ext cx="1981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162920" y="15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086240" y="76320"/>
            <a:ext cx="305280" cy="685800"/>
            <a:chOff x="708624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708624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708660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48CA8-3081-4A50-83FE-DA3293DFE4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21 - Standard Template Library (STL)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353960"/>
            <a:ext cx="77724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vantGarde"/>
              </a:rPr>
              <a:t>Out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21.1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Introduction to the Standard Template Library (ST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21.1.1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Introduction to Contain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21.1.2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Introduction to Itera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21.1.3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Introduction to Algorith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21.2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Sequence Contain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21.2.1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vector Sequence Contai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21.2.2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list Sequence Contai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21.2.3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deque Sequence Contai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21.3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Associative Contain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21.3.1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multiset Associative Contai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21.3.2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set Associative Contai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21.3.3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multimap Associative Contai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21.3.4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map Associative Contai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21.4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Container Adap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21.4.1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stack Adap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21.4.2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queue Adap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21.4.3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priority_queue Adap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F9C14-6874-42B5-843B-9259B90DFA0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0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724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21.5: fig21_05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ing input and output with iterator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terator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stream_iterator and istream_itera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 two integer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istream_iterator for reading int values from c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istream_itera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inputInt( cin );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umber1 = *inputIn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ad int from standard inpu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++inputInt;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ove iterator to next input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umber2 = *inputIn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ad int from standard inpu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1600200" y="1752480"/>
            <a:ext cx="4114800" cy="1752840"/>
            <a:chOff x="1600200" y="1752480"/>
            <a:chExt cx="4114800" cy="1752840"/>
          </a:xfrm>
        </p:grpSpPr>
        <p:sp>
          <p:nvSpPr>
            <p:cNvPr id="108" name=""/>
            <p:cNvSpPr/>
            <p:nvPr/>
          </p:nvSpPr>
          <p:spPr>
            <a:xfrm>
              <a:off x="3048120" y="1752480"/>
              <a:ext cx="266688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e creation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stream_iterat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For compilation reasons, we u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d::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rather than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us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statem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1600200" y="28195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3048120" y="2914560"/>
            <a:ext cx="5715000" cy="971640"/>
            <a:chOff x="3048120" y="2914560"/>
            <a:chExt cx="5715000" cy="971640"/>
          </a:xfrm>
        </p:grpSpPr>
        <p:sp>
          <p:nvSpPr>
            <p:cNvPr id="111" name=""/>
            <p:cNvSpPr/>
            <p:nvPr/>
          </p:nvSpPr>
          <p:spPr>
            <a:xfrm>
              <a:off x="6095880" y="291456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ccess and assign the iterator like a point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3048120" y="3076560"/>
              <a:ext cx="3047760" cy="80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B71A8-1559-4CBF-AA05-D95125AC254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5.5 Mathematical Algorithm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ccumulate(iter1, iter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sum of elements in r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or_each(iter1, iter2, functio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un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n every element in r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 not modify 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ransform(iter1, iter2, iter3, functi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un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or all elements in range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ter1-iter2,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pies result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ter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A5DC2-180F-4302-932C-9F2E660E1180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3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21.30: fig21_30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athematical algorithms of the standard library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algorithm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lgorithm definitions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numeric&gt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ccumulate is defined her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vecto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reater9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utputSquar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alculateCub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IZ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1[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vec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v( a1, a1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ostream_itera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output( cout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Vector v before random_shuffle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v.begin(), v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C8BB6-8735-486E-925D-4EB919FE81ED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3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huffle elements of v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random_shuffle( v.begin(), v.end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Vector v after random_shuffle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v.begin(), v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2[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vector&lt; int &gt; v2( a2, a2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Vector v2 contain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v2.begin(), v2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unt number of elements in v2 with value 8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sult = std::count( v2.begin(), v2.end()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Number of elements matching 8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resul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unt number of elements in v2 that are greater than 9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result = std::count_if( v2.begin(), v2.end(), greater9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nNumber of elements greater than 9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resul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907AE-EC67-4E0A-9C17-AEA3F756144C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3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334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ocate minimum element in v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n\nMinimum element in Vector v2 is: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*( std::min_element( v2.begin(), v2.end(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ocate maximum element in v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Maximum element in Vector v2 is: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*( std::max_element( v2.begin(), v2.end(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culate sum of elements in v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The total of the elements in Vector v is: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td::accumulate( v.begin(), v.end()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The square of every integer in Vector v is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square of every element in v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for_each( v.begin(), v.end(), outputSquar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vec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cubes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culate cube of each element in v;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lace results in cubes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transform(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v.begin(), v.end(), cubes.begin(), calculateCub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7F6BC-639A-451A-85AA-AA6FB1B014A4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3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4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The cube of every integer in Vector v is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cubes.begin(), cubes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termine whether argument is greater than 9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3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reater9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alu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alue &g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reater9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square of arg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utputSquar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alu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value * valu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 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outputSquar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3AA1A-FF0C-4C65-955A-9196B9282431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3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5 of 5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3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1600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cube of arg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alculateCub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alu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alue * value * value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calculateCub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6" name=""/>
          <p:cNvSpPr/>
          <p:nvPr/>
        </p:nvSpPr>
        <p:spPr>
          <a:xfrm>
            <a:off x="0" y="1523880"/>
            <a:ext cx="7010280" cy="4038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ector v before random_shuffle: 1 2 3 4 5 6 7 8 9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ector v after random_shuffle: 5 4 1 3 7 8 9 10 6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ector v2 contains: 100 2 8 1 50 3 8 8 9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umber of elements matching 8: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umber of elements greater than 9: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inimum element in Vector v2 is: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aximum element in Vector v2 is: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total of the elements in Vector v is: 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square of every integer in Vector v 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5 16 1 9 49 64 81 100 36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cube of every integer in Vector v 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25 64 1 27 343 512 729 1000 216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6C8F3-4210-443B-B9E5-D2CD9DB17D8E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5.6 Basic Searching and Sorting Algorithm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ind(iter1, iter2, valu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iterator to first instance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in rang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ind_if(iter1, iter2, function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k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i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iterator when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unct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return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ort(iter1, iter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orts elements in ascending or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inary_search(iter1, iter2, valu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arches ascending sorted list for valu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s binary searc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6E456-CCFA-4881-817E-A78AD3B5BDFE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3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21.31: fig21_31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ndard library search and sort algorithm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algorithm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lgorithm defini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vector&gt;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vector class-template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reater10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alue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vec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v( a, a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ostream_itera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output( cout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ector v contain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v.begin(), v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ocate first occurrence of 16 in v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vec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::iterator location;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location = std::find( v.begin(), v.end()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BAE1F-D283-41A4-A4CA-224B26CF9E4A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3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location != v.end()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Found 16 at location 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( location - v.begin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16 not foun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ocate first occurrence of 100 in v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location = std::find( v.begin(), v.end()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location != v.end()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Found 100 at location 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( location - v.begin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100 not foun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ocate first occurrence of value greater than 10 in v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location = std::find_if( v.begin(), v.end(), greater10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location != v.end()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The first value greater than 10 is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*location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found at location 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( location - v.begin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No values greater than 10 were foun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2AF42-DD0C-4231-944B-8A346C6DB609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3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ort elements of v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sort( v.begin(), v.end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Vector v after sort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v.begin(), v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 binary_search to locate 13 in v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td::binary_search( v.begin(), v.end()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13 was found in v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13 was not found in v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 binary_search to locate 100 in v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td::binary_search( v.begin(), v.end()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100 was found in v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100 was not found in v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7AF16-7EEE-49C2-9161-A06331002C80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0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0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438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ostream_iterator for writing int values to cou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ostream_itera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outputInt( cout );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sum i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*outputInt = number1 + number2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result to cou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438280"/>
            <a:ext cx="7010280" cy="609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two integers: 12 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sum is: 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361960" y="1294920"/>
            <a:ext cx="3276720" cy="2592000"/>
            <a:chOff x="2361960" y="1294920"/>
            <a:chExt cx="3276720" cy="2592000"/>
          </a:xfrm>
        </p:grpSpPr>
        <p:sp>
          <p:nvSpPr>
            <p:cNvPr id="117" name=""/>
            <p:cNvSpPr/>
            <p:nvPr/>
          </p:nvSpPr>
          <p:spPr>
            <a:xfrm>
              <a:off x="2971800" y="281952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ostream_iterat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similar. Assigning to this iterator outputs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u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 flipV="1">
              <a:off x="2361960" y="1294920"/>
              <a:ext cx="60948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A0A82-DB77-4CEF-A526-FB4D78BF3B1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3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4 of 4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3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1523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termine whether argument is greater than 1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reater10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alu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alue &g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reater1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7" name=""/>
          <p:cNvSpPr/>
          <p:nvPr/>
        </p:nvSpPr>
        <p:spPr>
          <a:xfrm>
            <a:off x="0" y="1523880"/>
            <a:ext cx="7010280" cy="2895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ector v contains: 10 2 17 5 16 8 13 11 20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ound 16 at loc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0 not f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first value greater than 10 is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ound at loc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ector v after sort: 2 5 7 8 10 11 13 16 17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3 was found in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0 was not found in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EFBF4-3D23-42A4-9372-34734527203E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5.7 swap, iter_swap and swap_rang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wap(element1, element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changes two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ap( a[ 0 ], a[ 1 ]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ter_swap(iter1, iter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changes the values to which the iterators re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wap_ranges(iter1, iter2, iter3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p the elements from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ter1-iter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elements beginning 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ter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4297F-D562-49B2-8B1C-250BF128EF86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3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21.32: fig21_32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ndard library algorithms iter_swap, swap and swap_range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algorithm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lgorithm defini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ostream_itera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output( cout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rray a contains:\n  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a, a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wap elements at locations 0 and 1 of array 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swap( a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, a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);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nArray a after swapping a[0] and a[1]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sing swap:\n  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a, a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59348-B76A-4C55-A151-897840916AA4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3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648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 iterators to swap elements at loca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0 and 1 of array a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iter_swap( &amp;a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, &amp;a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);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rray a after swapping a[0] and a[1]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sing iter_swap:\n  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a, a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wap elements in first five elements of array a wit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lements in last five elements of array a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swap_ranges( a, a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a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rray a after swapping the first five elements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ith the last five elements:\n  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a, a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ECCF7-052C-48B4-8881-D64571C1808E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3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2209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 a contains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2 3 4 5 6 7 8 9 1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 a after swapping a[0] and a[1] using swap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 1 3 4 5 6 7 8 9 1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 a after swapping a[0] and a[1] using iter_swap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2 3 4 5 6 7 8 9 1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 a after swapping the first five elem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with the last five elements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 7 8 9 10 1 2 3 4 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6566B-EA84-457E-B21B-609B77C3D2A9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5.8 copy_backward, merge, unique and revers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py_backward(iter1, iter2, iter3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py elements fro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ter1-iter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ter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in reverse 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erge(iter1, iter2, iter3, iter4, iter5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ge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ter1-iter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ter3-iter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ust be sorted in ascending 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erg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pies both lists in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ter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in ascending 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unique(iter1, iter2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duplicate elements from a sorted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iterator to new end of sequ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verse(iter1, iter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verses elements from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ter1-iter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77D79-C722-422B-BF0E-57134473579D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3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21.33: fig21_33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ndard library functions copy_backward, merge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nique and revers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algorithm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lgorithm defini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vector&gt;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vector class-template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1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2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vec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v1( a1, a1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vec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v2( a2, a2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ostream_itera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output( cout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ector v1 contain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v1.begin(), v1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Vector v2 contain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v2.begin(), v2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8D18E-7FFD-4519-BAA5-D23AB090C010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3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vec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results( v1.siz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lace elements of v1 into results in reverse order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_backward( v1.begin(), v1.end(), results.end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After copy_backward, results contain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results.begin(), results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vec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results2( v1.size() + v2.siz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erge elements of v1 and v2 into results2 in sorted or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merge( v1.begin(), v1.end(), v2.begin(), v2.end(),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sults2.begin() );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After merge of v1 and v2 results2 contains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results2.begin(), results2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liminate duplicate values from results2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vec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::iterator endLocation;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endLocation =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d::unique( results2.begin(), results2.end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After unique results2 contains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results2.begin(), endLocation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12EB6-382E-42BC-AD4F-D3ECD71506B0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3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3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2819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Vector v1 after reverse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verse elements of v1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reverse( v1.begin(), v1.end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v1.begin(), v1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74" name=""/>
          <p:cNvSpPr/>
          <p:nvPr/>
        </p:nvSpPr>
        <p:spPr>
          <a:xfrm>
            <a:off x="0" y="2819520"/>
            <a:ext cx="7010280" cy="2895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ector v1 contains: 1 3 5 7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ector v2 contains: 2 4 5 7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copy_backward, results contains: 1 3 5 7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merge of v1 and v2 results2 contai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2 3 4 5 5 7 7 9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unique results2 contai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2 3 4 5 7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ector v1 after reverse: 9 7 5 3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5E8CC-B007-4C2D-99E7-FECEB526A1B7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5.9 inplace_merge, unique_copy and reverse_cop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place_merge(iter1, iter2, iter3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rges two sorted sequences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ter1-iter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ter2-iter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inside the same contai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unique_copy(iter1, iter2, iter3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pies all unique elements in sorted array (from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ter1-iter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in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ter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verse_copy(iter1, iter2, iter3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verses elements i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ter1-iter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copies in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ter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F5F74-F0CB-496F-A03D-B028129AC24A}" type="slidenum">
              <a:t>1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Iterator Categories (Fig. 21.6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ad elements from container, can only move forwar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rite elements to container, only forwar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bines input and output, retains pos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lti-pass (can pass through sequence twic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direct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ke forward, but can move backwards as wel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ke bidirectional, but can also jump to any el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F4BEC-C873-4995-8A44-4DDFF3E5B86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3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21.34: fig21_34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ndard library algorithms inplace_merge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verse_copy and unique_copy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algorithm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lgorithm defini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vector&gt;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vector class-template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terator&gt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back_inserter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1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vec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v1( a1, a1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ostream_itera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output( cout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ector v1 contain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v1.begin(), v1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erge first half of v1 with second half of v1 such tha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v1 contains sorted set of elements after merge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inplace_merge( v1.begin(), v1.begin(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v1.end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FCDAD-FF51-4AA7-A041-4AA47D01E22B}" type="slidenum">
              <a:t>1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3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172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fter inplace_merge, v1 contain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v1.begin(), v1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vec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results1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py only unique elements of v1 into results1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unique_copy(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v1.begin(), v1.end(), std::back_inserter( results1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fter unique_copy results1 contain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results1.begin(), results1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vec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results2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fter reverse_copy, results2 contain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py elements of v1 into results2 in reverse order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reverse_copy(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v1.begin(), v1.end(), std::back_inserter( results2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results2.begin(), results2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C5841-2489-4900-B666-AC69A8A1C40C}" type="slidenum">
              <a:t>1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3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ector v1 contains: 1 3 5 7 9 1 3 5 7 9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inplace_merge, v1 contains: 1 1 3 3 5 5 7 7 9 9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unique_copy results1 contains: 1 3 5 7 9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reverse_copy, results2 contains: 9 9 7 7 5 5 3 3 1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1C251-8B0A-4860-B46D-1A45654B3827}" type="slidenum">
              <a:t>1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5.10 Set Opera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cludes(iter1, iter2, iter3, iter4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ter1-iter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ntai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ter3-iter4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th ranges must be so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1:  1 2 3 4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2:  1 3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1 includes a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t_difference(iter1, iter2, iter3, iter4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ter5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pies elements in first set (1-2) that are not in second set (3-4) int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ter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t_intersection(iter1, iter2, iter3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ter4, iter5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pies common elements from the two sets (1-2, 3-4) in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ter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12628-FF95-402E-8646-D1C37AE9D046}" type="slidenum">
              <a:t>1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5.10 Set Opera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t_symmetric_difference(iter1, iter2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ter3, iter4, iter5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pies elements in set (1-2) but not set (3-4), and vice versa, in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ter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1: 1 2 3 4 5 6 7 8 9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2: 4 5 6 7 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t_symmetric_difference: 1 2 3 9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th sets must be so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t_union( iter1, iter2, iter3, iter4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ter5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pies elements in either or both sets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ter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th sets must be so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64D90-12C9-4E95-B7FE-A435ED2D72D0}" type="slidenum">
              <a:t>1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3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21.35: fig21_35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ndard library algorithms includes, set_difference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_intersection, set_symmetric_difference and set_unio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algorithm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lgorithm defini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1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2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3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ostream_itera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output( cout,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1 contain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a1, a1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2 contain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a2, a2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3 contain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a3, a3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93FCA-73AB-4F99-BEEA-58605DDF74C7}" type="slidenum">
              <a:t>1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3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termine whether set a2 is completely contained in a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td::includes( a1, a1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a2, a2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a1 includes a2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n\na1 does not include a2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termine whether set a3 is completely contained in a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td::includes( a1, a1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a3, a3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1 includes a3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1 does not include a3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fference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termine elements of a1 not in a2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ptr = std::set_difference( a1, a1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2, a2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difference );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set_difference of a1 and a2 i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difference, ptr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rsection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termine elements in both a1 and a2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tr = std::set_intersection( a1, a1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2, a2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intersection );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629E5-25A0-4DF6-B4BD-31B8DC19EBA5}" type="slidenum">
              <a:t>1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3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set_intersection of a1 and a2 i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intersection, ptr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ymmetric_difference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termine elements of a1 that are not in a2 and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lements of a2 that are not in a1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tr = std::set_symmetric_difference( a1, a1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2, a2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ymmetric_difference );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set_symmetric_difference of a1 and a2 i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symmetric_difference, ptr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nionSet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termine elements that are in either or both se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tr = std::set_union( a1, a1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3, a3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unionSet );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set_union of a1 and a3 i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unionSet, ptr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3451A-15CE-4448-96D5-2F2AA218BB85}" type="slidenum">
              <a:t>1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3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352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1 contains: 1 2 3 4 5 6 7 8 9 1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2 contains: 4 5 6 7 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3 contains: 4 5 6 11 1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1 includes a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1 does not include a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et_difference of a1 and a2 is: 1 2 3 9 1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et_intersection of a1 and a2 is: 4 5 6 7 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et_symmetric_difference of a1 and a2 is: 1 2 3 9 1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et_union of a1 and a3 is: 1 2 3 4 5 6 7 8 9 10 11 15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DAC05-A60F-44CC-AFE0-2E3BD82B8D82}" type="slidenum">
              <a:t>1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5.11 lower_bound, upper_bound and equal_rang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ower_bound(iter1, iter2, value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sorted elements, returns iterator to the first location wher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uld be inserted and elements remain so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upper_bound(iter1, iter2, valu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e a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wer_bou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but returns iterator to last element wher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ld be 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qual_range(iter1, iter2, valu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 iterators,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wer_bou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pper_b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gn them to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i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2F4AD-C854-4E45-8D47-7EFF92566698}" type="slidenum">
              <a:t>1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Iterator Types Supported (Fig. 21.8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quence contai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ecto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random acc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equ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random acc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bidirection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ociative containers (all bidirection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ultis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ultima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iner adapters (no iterators support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c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ority_que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A177E-3F9C-4C51-8734-333D087E272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3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21.36: fig21_36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ndard library functions lower_bound, upper_bound and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qual_range for a sorted sequence of value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algorithm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lgorithm defini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vector&gt;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vector class-template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1[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vec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v( a1, a1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ostream_itera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output( cout,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ector v contains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v.begin(), v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termine lower-bound insertion point for 6 in v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vec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::iterator lower;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lower = std::lower_bound( v.begin(), v.end()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EF8D2-195A-4CA0-8834-764AE65686EB}" type="slidenum">
              <a:t>1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3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Lower bound of 6 is element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lower - v.begin()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of vector v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termine upper-bound insertion point for 6 in v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vec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::iterator upper;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upper = std::upper_bound( v.begin(), v.end()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Upper bound of 6 is element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upper - v.begin()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of vector v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 equal_range to determine both the lower- a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pper-bound insertion points for 6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pair&lt; std::vec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::iterator,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std::vec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::iterator &gt; eq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eq = std::equal_range( v.begin(), v.end()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Using equal_range: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  Lower bound of 6 is element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eq.first - v.begin()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of vector v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   Upper bound of 6 is element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eq.second - v.begin()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of vector v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Use lower_bound to locate the first point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t which 5 can be inserted in ord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2DB8A-3876-4CD8-BEFF-C014B5CB74CD}" type="slidenum">
              <a:t>1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3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termine lower-bound insertion point for 5 in v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lower = std::lower_bound( v.begin(), v.end()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   Lower bound of 5 is element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lower - v.begin()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of vector v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Use upper_bound to locate the last point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t which 7 can be inserted in ord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termine upper-bound insertion point for 7 in v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upper = std::upper_bound( v.begin(), v.end()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n   Upper bound of 7 is element 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upper - v.begin()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of vector v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Use equal_range to locate the first and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ast point at which 5 can be inserted in ord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 equal_range to determine both the lower- a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pper-bound insertion points for 5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eq = std::equal_range( v.begin(), v.end()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   Lower bound of 5 is element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eq.first - v.begin()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of vector v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n   Upper bound of 5 is element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eq.second - v.begin()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of vector v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endl;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AB842-42F5-4C28-AA36-53A539586C63}" type="slidenum">
              <a:t>1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3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4 of 4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3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1143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05" name=""/>
          <p:cNvSpPr/>
          <p:nvPr/>
        </p:nvSpPr>
        <p:spPr>
          <a:xfrm>
            <a:off x="0" y="1066680"/>
            <a:ext cx="7010280" cy="487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ector v contai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 2 4 4 4 6 6 6 6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ower bound of 6 is element 5 of vector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pper bound of 6 is element 9 of vector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equal_rang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ower bound of 6 is element 5 of vector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pper bound of 6 is element 9 of vector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se lower_bound to locate the first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 which 5 can be inserted in 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ower bound of 5 is element 5 of vector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se upper_bound to locate the last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 which 7 can be inserted in 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pper bound of 7 is element 9 of vector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se equal_range to locate the first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ast point at which 5 can be inserted in 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ower bound of 5 is element 5 of vector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pper bound of 5 is element 5 of vector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D7316-B307-470F-B4F7-6A52A8AD09BB}" type="slidenum">
              <a:t>1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5.12 Heapsor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psort - sorting algorith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eap binary tre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argest element at top of hea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hildren always less than parent no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ke_heap(iter1, iter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s a heap in the range of the iter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be random access iterator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rrays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ect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,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deq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ort_heap(iter1, iter2)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rts a heap sequence fro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ter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ter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0FDDB-2726-47F3-860D-61A4D8BCBDF7}" type="slidenum">
              <a:t>1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5.12 Heapsor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sh_heap(iter1, iter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terators must specify a he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s last element in object to he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mes other elements already in heap 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p_heap(iter1, iter2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the top element of a heap and puts it at the end of the container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 checks that all other elements still in a he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ge of the iterators must be a heap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ll the elements popped, sorted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7E1C0-89A2-4878-8BDC-FA00522A0B6F}" type="slidenum">
              <a:t>1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3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943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21.37: fig21_37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ndard library algorithms push_heap, pop_heap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ake_heap and sort_heap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algorith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vecto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vec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v( a, a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, v2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ostream_itera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output( cout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ector v before make_heap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v.begin(), v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heap from vector v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make_heap( v.begin(), v.end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Vector v after make_heap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v.begin(), v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3429000" y="4191120"/>
            <a:ext cx="4114800" cy="838080"/>
            <a:chOff x="3429000" y="4191120"/>
            <a:chExt cx="4114800" cy="838080"/>
          </a:xfrm>
        </p:grpSpPr>
        <p:sp>
          <p:nvSpPr>
            <p:cNvPr id="513" name=""/>
            <p:cNvSpPr/>
            <p:nvPr/>
          </p:nvSpPr>
          <p:spPr>
            <a:xfrm>
              <a:off x="4876920" y="419112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a new heap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H="1">
              <a:off x="3429000" y="43434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1B35B-BF6B-485A-A164-4A1D5068DFB6}" type="slidenum">
              <a:t>1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3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ort elements of v with sort_heap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sort_heap( v.begin(), v.end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Vector v after sort_heap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v.begin(), v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erform the heapsort with push_heap and pop_hea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Array a contain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a, a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lace elements of array a into v2 and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aintain elements of v2 in hea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++i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v2.push_back( a[ i ]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d::push_heap( v2.begin(), v2.end()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v2 after push_heap(a[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i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])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d::copy( v2.begin(), v2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3124080" y="2971800"/>
            <a:ext cx="4114800" cy="838080"/>
            <a:chOff x="3124080" y="2971800"/>
            <a:chExt cx="4114800" cy="838080"/>
          </a:xfrm>
        </p:grpSpPr>
        <p:sp>
          <p:nvSpPr>
            <p:cNvPr id="518" name=""/>
            <p:cNvSpPr/>
            <p:nvPr/>
          </p:nvSpPr>
          <p:spPr>
            <a:xfrm>
              <a:off x="4572000" y="297180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dd elements one at a tim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H="1">
              <a:off x="3124080" y="31240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4F0F3-EC33-4236-B87E-12F7DFAC244C}" type="slidenum">
              <a:t>1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3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048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move elements from heap in sorted or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 &lt; v2.size(); ++j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v2 after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v2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popped from heap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d::pop_heap( v2.begin(), v2.end() - j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d::copy( v2.begin(), v2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A9277-8A8F-4504-A038-858751AA4CBA}" type="slidenum">
              <a:t>1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3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343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ector v before make_heap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 100 52 77 22 31 1 98 13 4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ector v after make_heap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0 98 52 77 40 31 1 3 13 2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ector v after sort_heap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3 13 22 31 40 52 77 98 1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 a contains: 3 100 52 77 22 31 1 98 13 4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2 after push_heap(a[0]): 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2 after push_heap(a[1]): 100 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2 after push_heap(a[2]): 100 3 5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2 after push_heap(a[3]): 100 77 52 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2 after push_heap(a[4]): 100 77 52 3 2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2 after push_heap(a[5]): 100 77 52 3 22 3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2 after push_heap(a[6]): 100 77 52 3 22 31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2 after push_heap(a[7]): 100 98 52 77 22 31 1 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2 after push_heap(a[8]): 100 98 52 77 22 31 1 3 1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2 after push_heap(a[9]): 100 98 52 77 40 31 1 3 13 2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0DE55-C5EF-4137-849A-8C43DBA6DC49}" type="slidenum">
              <a:t>1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Iterator Operations (Fig. 21.10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++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+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put it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*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 = p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 == p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 != p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 it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*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 = p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ward it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ave functionality of input and output iterat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BD6B6-79B9-4956-BBAC-00E9021BEF5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3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572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2 after 100 popped from hea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98 77 52 22 40 31 1 3 13 1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2 after 98 popped from hea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7 40 52 22 13 31 1 3 98 1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2 after 77 popped from hea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2 40 31 22 13 3 1 77 98 1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2 after 52 popped from hea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0 22 31 1 13 3 52 77 98 1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2 after 40 popped from hea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1 22 3 1 13 40 52 77 98 1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2 after 31 popped from hea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2 13 3 1 31 40 52 77 98 1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2 after 22 popped from hea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3 1 3 22 31 40 52 77 98 1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2 after 13 popped from hea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 1 13 22 31 40 52 77 98 1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2 after 3 popped from hea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3 13 22 31 40 52 77 98 1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2 after 1 popped from hea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3 13 22 31 40 52 77 98 1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BD18E-D404-417B-A36E-0CC0DF524E03}" type="slidenum">
              <a:t>1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5.13 min and max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in(value1, value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smaller el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ax(value1, value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larger el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744CA-AD00-4A4D-B088-789A7F39827B}" type="slidenum">
              <a:t>1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3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21.38: fig21_38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ndard library algorithms min and max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algorith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minimum of 12 and 7 is: 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td::mi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The maximum of 12 and 7 is: 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td::max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nThe minimum of 'G' and 'Z' is: 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td::mi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G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'Z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The maximum of 'G' and 'Z' is: 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td::max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G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'Z'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&lt;&lt; endl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A5CD3-1829-41D7-9AEB-26C2B7C51ACD}" type="slidenum">
              <a:t>1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3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1219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minimum of 12 and 7 is: 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maximum of 12 and 7 is: 1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minimum of 'G' and 'Z' is: 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maximum of 'G' and 'Z' is: Z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BC6D6-FA07-4697-A038-17F3DD42B7EB}" type="slidenum">
              <a:t>1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5.14 Algorithms Not Covered in This Chapte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jacent_dif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ner_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rtial_s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th_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rt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ble_part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xt_permu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ev_permu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o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otate_cop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jacent_fi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rtial_s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rtial_sort_cop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ble_s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1F277-7CDD-4DE7-85AF-7B76CA502DFC}" type="slidenum">
              <a:t>1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6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ass bitse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it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resents a set of bit fla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manipulate bit s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Operatio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itset &lt;size&gt; b;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 bit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.set( bitNumber)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t bit bitNumber to 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.set()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bits 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.reset(bitNumber)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t bit bitNumber to o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.reset(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bits o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.flip(bitNumber)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lip bit (on to off, off to 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.flip(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lip all b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[bitNumber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s reference to b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.at(bitNumber)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nge checking, returns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56855-184B-45CB-A009-69D1B5374D66}" type="slidenum">
              <a:t>1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6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ass bitse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.test(bitNumber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 range checking; if bit on, retur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.size(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ze of bit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.count(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mber of bits set to 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.any(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ue if any bits are 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.none(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ue if no bits are 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n use &amp;=, |=, !=, &lt;&lt;=, &gt;&gt;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&amp;= 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ical AND betwee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result i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.to_string()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vert to st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.to_ulong()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vert to lo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281AF-23B1-4583-938C-CC78D871850C}" type="slidenum">
              <a:t>1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4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21.40: fig21_40.cpp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a bitset to demonstrate the Sieve of Eratosthene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bitset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bitset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math&gt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qrt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iz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2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bitset&lt; size &gt; siev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ieve.flip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9E892-AFA2-4B5E-8C56-67140162E68A}" type="slidenum">
              <a:t>1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4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erform Sieve of Eratosthen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nalBit = sqrt( sieve.size() 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finalBit; ++i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ieve.test( i )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i; j &lt; size; j += i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ieve.reset( j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prime numbers in the range 2 to 1023 are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isplay prime numbers in range 2-102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k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counte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k &lt; size; ++k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ieve.test( k 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k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++counter %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n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outer if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3962160" y="298440"/>
            <a:ext cx="4115160" cy="1067400"/>
            <a:chOff x="3962160" y="298440"/>
            <a:chExt cx="4115160" cy="1067400"/>
          </a:xfrm>
        </p:grpSpPr>
        <p:sp>
          <p:nvSpPr>
            <p:cNvPr id="543" name=""/>
            <p:cNvSpPr/>
            <p:nvPr/>
          </p:nvSpPr>
          <p:spPr>
            <a:xfrm>
              <a:off x="5410080" y="298440"/>
              <a:ext cx="26672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ieve of Eratosthenes: turn off bits for all multiples of a number. What bits remain are prim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H="1">
              <a:off x="3962160" y="450720"/>
              <a:ext cx="1447560" cy="38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419DF-72B6-41B9-A893-7115A1F2463E}" type="slidenum">
              <a:t>1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4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343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et value from user to determine whether value is pri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Enter a value from 1 to 1023 (-1 to end)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n &gt;&gt; 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value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-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ieve[ value ]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valu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is a prime number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valu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is not a prime number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Enter a value from 2 to 1023 (-1 to end)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in &gt;&gt; 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wh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60444-62BC-434F-A333-B4FB1A4E02D7}" type="slidenum">
              <a:t>1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Iterator Operations (Fig. 21.10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direct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--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--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 + 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 += 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 - 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 -= 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[i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 &lt; p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 &lt;= p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 &gt; p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 &gt;= p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A8542-F71B-467B-845E-C1383C3B4BF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4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prime numbers in the range 2 to 1023 are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    3    5    7   11   13   17   19   23   29   31   3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1   43   47   53   59   61   67   71   73   79   83   89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97  101  103  107  109  113  127  131  137  139  149  15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57  163  167  173  179  181  191  193  197  199  211  22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27  229  233  239  241  251  257  263  269  271  277  28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83  293  307  311  313  317  331  337  347  349  353  359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67  373  379  383  389  397  401  409  419  421  431  43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39  443  449  457  461  463  467  479  487  491  499  50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09  521  523  541  547  557  563  569  571  577  587  59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99  601  607  613  617  619  631  641  643  647  653  659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61  673  677  683  691  701  709  719  727  733  739  74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51  757  761  769  773  787  797  809  811  821  823  82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29  839  853  857  859  863  877  881  883  887  907  91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919  929  937  941  947  953  967  971  977  983  991  99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09 1013 1019 102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 value from 1 to 1023 (-1 to end): 389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89 is a prime nu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 value from 2 to 1023 (-1 to end): 8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8 is not a prime nu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 value from 2 to 1023 (-1 to end): -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5660F-9168-4381-BEEB-6647AD3AF952}" type="slidenum">
              <a:t>1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7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Function Objec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objects 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functional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tain functions invoked using operator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1" name=""/>
          <p:cNvGraphicFramePr/>
          <p:nvPr/>
        </p:nvGraphicFramePr>
        <p:xfrm>
          <a:off x="985680" y="2255760"/>
          <a:ext cx="6089760" cy="4297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5680" y="2255760"/>
                    <a:ext cx="6089760" cy="42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721E9-C752-4A9E-8336-F3083AA9D4CD}" type="slidenum">
              <a:t>1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4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572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21.42: fig21_42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ing function object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vector&gt;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vector class-template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algorithm&gt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py algorith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numeric&gt;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ccumulate algorith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functional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binary_function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binary function adds square of its second argument a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unning total in its first argument, then returns sum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umSquares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otal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alue )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otal + value * value;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umSquares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4038480" y="2514600"/>
            <a:ext cx="4114800" cy="838080"/>
            <a:chOff x="4038480" y="2514600"/>
            <a:chExt cx="4114800" cy="838080"/>
          </a:xfrm>
        </p:grpSpPr>
        <p:sp>
          <p:nvSpPr>
            <p:cNvPr id="556" name=""/>
            <p:cNvSpPr/>
            <p:nvPr/>
          </p:nvSpPr>
          <p:spPr>
            <a:xfrm>
              <a:off x="5486400" y="25146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a function to be used with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accumul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4038480" y="26668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F1602-B676-4C24-902F-78CEC1DCE526}" type="slidenum">
              <a:t>1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4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962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binary function class template defines overloaded operator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at adds suare of its second argument and running total in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ts first argument, then returns sum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empl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class T &gt;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umSquaresClass :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binary_function&lt; T, T, T &gt;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dd square of value to total and return result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 operator()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 &amp;total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 &amp;value )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otal + value * value;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operator()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SumSquaresClass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4228920" y="1295280"/>
            <a:ext cx="4115160" cy="838440"/>
            <a:chOff x="4228920" y="1295280"/>
            <a:chExt cx="4115160" cy="838440"/>
          </a:xfrm>
        </p:grpSpPr>
        <p:sp>
          <p:nvSpPr>
            <p:cNvPr id="561" name=""/>
            <p:cNvSpPr/>
            <p:nvPr/>
          </p:nvSpPr>
          <p:spPr>
            <a:xfrm>
              <a:off x="5676840" y="129528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a function object (it can also encapsulate data). Overloa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operator()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H="1">
              <a:off x="4228920" y="144792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24234-2D5C-4437-A45A-F57AEFFB100D}" type="slidenum">
              <a:t>1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4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[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vec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integers( array, array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ostream_itera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output( cout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sul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ector v contains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integers.begin(), integers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culate sum of squares of elements of vector integer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binary function sumSquares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result = std::accumulate( integers.begin(), integers.end()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umSquares );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Sum of squares of elements in integers using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inary\nfunction sumSquare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resul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4419720" y="2333520"/>
            <a:ext cx="4419360" cy="1797480"/>
            <a:chOff x="4419720" y="2333520"/>
            <a:chExt cx="4419360" cy="1797480"/>
          </a:xfrm>
        </p:grpSpPr>
        <p:sp>
          <p:nvSpPr>
            <p:cNvPr id="566" name=""/>
            <p:cNvSpPr/>
            <p:nvPr/>
          </p:nvSpPr>
          <p:spPr>
            <a:xfrm>
              <a:off x="6172200" y="2333520"/>
              <a:ext cx="2666880" cy="17974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accumul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nitially pass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s the first argument, with the first element as the second. It then uses the return value as the first argument, and iterates through the other element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4419720" y="2819520"/>
              <a:ext cx="175248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054AB-807A-4FC4-B8F8-9406EEA2BBB6}" type="slidenum">
              <a:t>1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4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4 of 4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4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3124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culate sum of squares of elements of vector integer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binary-function object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result = std::accumulate( integers.begin(), integers.end()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umSquaresClass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() );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Sum of squares of elements in integers using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inary\nfunction object of type 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umSquaresClass&lt; int &gt;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resul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0" name=""/>
          <p:cNvSpPr/>
          <p:nvPr/>
        </p:nvSpPr>
        <p:spPr>
          <a:xfrm>
            <a:off x="0" y="2895480"/>
            <a:ext cx="7010280" cy="2133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ector v contai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2 3 4 5 6 7 8 9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um of squares of elements in integers using bin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sumSquares: 3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um of squares of elements in integers using bin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object of type SumSquaresClass&lt; int &gt;: 3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2666880" y="1066320"/>
            <a:ext cx="3733920" cy="1571760"/>
            <a:chOff x="2666880" y="1066320"/>
            <a:chExt cx="3733920" cy="1571760"/>
          </a:xfrm>
        </p:grpSpPr>
        <p:sp>
          <p:nvSpPr>
            <p:cNvPr id="572" name=""/>
            <p:cNvSpPr/>
            <p:nvPr/>
          </p:nvSpPr>
          <p:spPr>
            <a:xfrm>
              <a:off x="3733920" y="20574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accumul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with a function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 flipV="1">
              <a:off x="2666880" y="1066320"/>
              <a:ext cx="106704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AE0BF-5167-44C2-A820-B31EDE051E58}" type="slidenum">
              <a:t>1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1.3 Introduction to Algorithm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L has algorithms used generically across contai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perate on elements indirectly via iterat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ften operate on sequences of el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ined by pairs of iter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 and last 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gorithms often return iterat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nd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iterator to element, 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(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f not f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emade algorithms save programmers time and effo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038CE-8F95-4914-A0C4-A16B186DF76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2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equence Contain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e sequence contai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ecto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- based on array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equ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- based on array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- robust linked li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71468-E03B-4378-BF58-6344C84C3A9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2.1 vector Sequence Containe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ect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vector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ata structure with contiguous memory loc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ss elements wit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when data must be sorted and easily accessi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memory exhau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ocates larger, contiguous area of memo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pies itself the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allocates old memo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 random access it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528CB-061B-4A77-B106-300A75B25FD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2.1 vector Sequence Containe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laration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d::vector &lt;</a:t>
            </a:r>
            <a:r>
              <a:rPr b="1" i="1" lang="en-US" sz="2200" spc="-1" strike="noStrike">
                <a:solidFill>
                  <a:srgbClr val="000000"/>
                </a:solidFill>
                <a:latin typeface="Courier New"/>
              </a:rPr>
              <a:t>typ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 v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lo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d::vector&lt;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typ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::const_iterator iterVa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t_iterat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not modify e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d::vector&lt;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typ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::reverse_iterator iterVa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sits elements in reverse order (end to beginn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beg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get starting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get ending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1EC95-55E3-41B6-8C25-A20978CFBF7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21 - Standard Template Library (STL)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1295280"/>
            <a:ext cx="77724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21.5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Algorith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21.5.1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fill, fill_n, generate and generate_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21.5.2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equal, mismatch and lexicographical_comp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21.5.3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remove, remove_if, remove_copy and remove_copy_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21.5.4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replace, replace_if, replace_copy and replace_copy_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21.5.5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Mathematical Algorith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21.5.6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Basic Searching and Sorting Algorith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21.5.7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swap, iter_swap and swap_ran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21.5.8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copy_backward, merge, unique and rever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21.5.9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inplace_merge, unique_copy and reverse_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21.5.10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Set 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21.5.11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lower_bound, upper_bound and equal_r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21.5.12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Heaps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21.5.13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min and m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21.5.14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Algorithms Not Covered in This Chap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21.6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Class bit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21.7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Function Obj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15585-1CA9-4A54-AE46-7E5882EBA2B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2.1 vector Sequence Containe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ect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.push_back(value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 element to end (found in all sequence  container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.size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rrent size of v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.capacity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w much vector can hold before reallocatin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allocation doubles s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ector&lt;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typ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 v(a, a + SIZE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ector v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with elements from array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up to (not including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+ S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1859D-345B-43BE-AA97-CCA8B7BC32F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2.1 vector Sequence Containe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ect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.insert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terat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serts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valu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efore location of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t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.insert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terat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rra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rray + SIZ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serts array elements (up to, but not including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rray + SIZE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o v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.erase( iterator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move element from contai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.erase( iter1, iter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move elements starting from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ter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up to (not including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te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.clear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ases entire contai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9377A-896F-4E3F-B33F-9A09F11FE9E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2.1 vector Sequence Containe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ect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s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.front(), v.b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first and last 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.[elementNumber] 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lue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sig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o an 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.at[elementNumber] 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l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 above, with range chec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ut_of_bound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x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48976-D9CA-4C61-9776-C173B362BE2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2.1 vector Sequence Containe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ostream_ite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d::ostream_iterator&lt; </a:t>
            </a:r>
            <a:r>
              <a:rPr b="1" i="1" lang="en-US" sz="2200" spc="-1" strike="noStrike">
                <a:solidFill>
                  <a:srgbClr val="000000"/>
                </a:solidFill>
                <a:latin typeface="Courier New"/>
              </a:rPr>
              <a:t>typ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 </a:t>
            </a:r>
            <a:r>
              <a:rPr b="1" i="1" lang="en-US" sz="2200" spc="-1" strike="noStrike">
                <a:solidFill>
                  <a:srgbClr val="000000"/>
                </a:solidFill>
                <a:latin typeface="Courier New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 outputStream, separator )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outputs values of a certain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utputStre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iterator output l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parat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character separating outpu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d::ostream_iterator&lt; int &gt; output( cout, " "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d::copy( iterator1, iterator2, output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pies elements from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terator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 to (not including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terator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output, 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stream_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EF501-74DF-41F2-9375-EF6E248475E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1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21.14: fig21_14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ing standard library vector class templat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vector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vector class-template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totype for function template printVe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emplate &lt; 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 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Vecto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vector&lt; T &gt; &amp;integers2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vec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integer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initial size of integers i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integers.siz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The initial capacity of integers i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integers.capacity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2361960" y="3505320"/>
            <a:ext cx="4115160" cy="838080"/>
            <a:chOff x="2361960" y="3505320"/>
            <a:chExt cx="4115160" cy="838080"/>
          </a:xfrm>
        </p:grpSpPr>
        <p:sp>
          <p:nvSpPr>
            <p:cNvPr id="146" name=""/>
            <p:cNvSpPr/>
            <p:nvPr/>
          </p:nvSpPr>
          <p:spPr>
            <a:xfrm>
              <a:off x="3809880" y="3505320"/>
              <a:ext cx="26672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vect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2361960" y="365760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2971800" y="4170240"/>
            <a:ext cx="4114800" cy="1316160"/>
            <a:chOff x="2971800" y="4170240"/>
            <a:chExt cx="4114800" cy="1316160"/>
          </a:xfrm>
        </p:grpSpPr>
        <p:sp>
          <p:nvSpPr>
            <p:cNvPr id="149" name=""/>
            <p:cNvSpPr/>
            <p:nvPr/>
          </p:nvSpPr>
          <p:spPr>
            <a:xfrm>
              <a:off x="4419720" y="417024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l member function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2971800" y="43228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3276360" y="4343400"/>
              <a:ext cx="11430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3A21F-2C6B-4A36-9A0F-2DE248C0EFE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1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343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push_back is in every sequence colle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ntegers.push_back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ntegers.push_back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ntegers.push_back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The size of integers is: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integers.siz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The capacity of integers i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integers.capacity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Output array using pointer notation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ptr = array; ptr != array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++ptr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*ptr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 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Output vector using iterator notation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ntVector( integer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Reversed contents of vector integer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048120" y="247680"/>
            <a:ext cx="5371920" cy="590400"/>
            <a:chOff x="3048120" y="247680"/>
            <a:chExt cx="5371920" cy="590400"/>
          </a:xfrm>
        </p:grpSpPr>
        <p:sp>
          <p:nvSpPr>
            <p:cNvPr id="155" name=""/>
            <p:cNvSpPr/>
            <p:nvPr/>
          </p:nvSpPr>
          <p:spPr>
            <a:xfrm>
              <a:off x="5753160" y="2476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dd elements to end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vect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us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ush_back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3048120" y="399960"/>
              <a:ext cx="2705040" cy="43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D389B-95B8-4077-99A4-27B6C79BEF0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1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vec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::reverse_iterator reverseIterato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verseIterator = integers.rbegin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verseIterator!= integers.rend(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++reverseIterator )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*reverseIterator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 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template for outputting vector elements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empl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 &gt;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Vecto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vector&lt; T &gt; &amp;integers2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vector&lt; T &gt;::const_iterator constIterator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onstIterator = integers2.begin();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nstIterator != integers2.end();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nstIterator++ )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*constIterator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 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Vector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571640" y="457200"/>
            <a:ext cx="3772440" cy="1204920"/>
            <a:chOff x="4571640" y="457200"/>
            <a:chExt cx="3772440" cy="1204920"/>
          </a:xfrm>
        </p:grpSpPr>
        <p:sp>
          <p:nvSpPr>
            <p:cNvPr id="160" name=""/>
            <p:cNvSpPr/>
            <p:nvPr/>
          </p:nvSpPr>
          <p:spPr>
            <a:xfrm>
              <a:off x="5676840" y="83808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alk through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vect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backwards using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verse_iterat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 flipV="1">
              <a:off x="4724280" y="457200"/>
              <a:ext cx="95256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4571640" y="838080"/>
              <a:ext cx="110484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3886200" y="2590920"/>
            <a:ext cx="4114800" cy="1676160"/>
            <a:chOff x="3886200" y="2590920"/>
            <a:chExt cx="4114800" cy="1676160"/>
          </a:xfrm>
        </p:grpSpPr>
        <p:sp>
          <p:nvSpPr>
            <p:cNvPr id="164" name=""/>
            <p:cNvSpPr/>
            <p:nvPr/>
          </p:nvSpPr>
          <p:spPr>
            <a:xfrm>
              <a:off x="5334120" y="25909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emplate function to walk through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vect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orward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3886200" y="27432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3886200" y="2743200"/>
              <a:ext cx="144792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BA736-3965-4384-835A-40FCFCFB058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1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1981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initial size of v is: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initial capacity of v is: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size of v is: 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capacity of v is: 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ents of array a using pointer notation: 1 2 3 4 5 6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ents of vector v using iterator notation: 2 3 4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versed contents of vector v: 4 3 2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B901A-D1BA-4B5D-B977-DA92E64F37B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1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21.15: fig21_15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sting Standard Library vector class templat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lement-manipulation function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vector&gt;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vector class-template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algorithm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py algorithm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vec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integers( array, array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ostream_itera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output( cout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ector integers contain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integers.begin(), integers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First element of integer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integers.front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Last element of integer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integers.back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4647960" y="2743200"/>
            <a:ext cx="4115160" cy="838080"/>
            <a:chOff x="4647960" y="2743200"/>
            <a:chExt cx="4115160" cy="838080"/>
          </a:xfrm>
        </p:grpSpPr>
        <p:sp>
          <p:nvSpPr>
            <p:cNvPr id="172" name=""/>
            <p:cNvSpPr/>
            <p:nvPr/>
          </p:nvSpPr>
          <p:spPr>
            <a:xfrm>
              <a:off x="6095880" y="274320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vect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(initialized using an array)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ostream_iterat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4647960" y="28954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4876920" y="3809880"/>
            <a:ext cx="4114800" cy="762120"/>
            <a:chOff x="4876920" y="3809880"/>
            <a:chExt cx="4114800" cy="762120"/>
          </a:xfrm>
        </p:grpSpPr>
        <p:sp>
          <p:nvSpPr>
            <p:cNvPr id="175" name=""/>
            <p:cNvSpPr/>
            <p:nvPr/>
          </p:nvSpPr>
          <p:spPr>
            <a:xfrm>
              <a:off x="5715000" y="3809880"/>
              <a:ext cx="32767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y range of iterators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outpu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ostream_iterat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4876920" y="4057560"/>
              <a:ext cx="838080" cy="51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B71E6-BA31-4000-8D17-7A215882EE6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1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nteger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first element to 7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ntegers.a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element at position 2 to 1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sert 22 as 2nd element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ntegers.insert( integers.begin(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Contents of vector integers after change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integers.begin(), integers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ccess out-of-range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tegers.a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7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tch out_of_range 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td::out_of_range outOfRange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n\nException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outOfRange.wha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atc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rase first element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ntegers.erase( integers.begin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Vector integers after erasing first element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integers.begin(), integers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2743200" y="609120"/>
            <a:ext cx="5334120" cy="809640"/>
            <a:chOff x="2743200" y="609120"/>
            <a:chExt cx="5334120" cy="809640"/>
          </a:xfrm>
        </p:grpSpPr>
        <p:sp>
          <p:nvSpPr>
            <p:cNvPr id="180" name=""/>
            <p:cNvSpPr/>
            <p:nvPr/>
          </p:nvSpPr>
          <p:spPr>
            <a:xfrm>
              <a:off x="5410080" y="83808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or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vect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ember function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 flipV="1">
              <a:off x="2743200" y="609120"/>
              <a:ext cx="26668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3352320" y="2057400"/>
            <a:ext cx="3810600" cy="590400"/>
            <a:chOff x="3352320" y="2057400"/>
            <a:chExt cx="3810600" cy="590400"/>
          </a:xfrm>
        </p:grpSpPr>
        <p:sp>
          <p:nvSpPr>
            <p:cNvPr id="183" name=""/>
            <p:cNvSpPr/>
            <p:nvPr/>
          </p:nvSpPr>
          <p:spPr>
            <a:xfrm>
              <a:off x="4495680" y="205740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a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has range checking, and can throw an excep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3352320" y="2209680"/>
              <a:ext cx="1143000" cy="43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6628F-4131-4A0B-91B4-9C109B437B4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1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Introduction to the Standard Template Library (STL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werful, template-based compon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ainers: template data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erators: like pointers, access elements of contain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gorithms: data manipulation, searching, sorting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bject- oriented programming: reuse, reuse, reu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ly an introduction to STL, a huge class libr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E7C61-D4DE-4491-BBB4-8516724C18E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1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648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rase remaining elements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ntegers.erase( integers.begin(), integers.end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fter erasing all elements, vector integer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integers.empty()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s no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empt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sert elements from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ntegers.insert( integers.begin(), array, array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Contents of vector integers before clear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integers.begin(), integers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mpty integers; clear calls erase to empty a colle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ntegers.clear(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fter clear, vector integers 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integers.empty()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is no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 empt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18342-F889-4CC5-B383-94765432FD3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1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3200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ector integers contains: 1 2 3 4 5 6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irst element of integers: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ast element of integers: 6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ents of vector integers after changes: 7 22 2 10 4 5 6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ception: invalid vector&lt;T&gt; subscrip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ector integers after erasing first element: 22 2 10 4 5 6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erasing all elements, vector integers is emp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ents of vector integers before clear: 1 2 3 4 5 6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clear, vector integers is emp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C2CF6-2BCD-4C98-9256-09288CFD3C1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2.2 list Sequence Containe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tainer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eade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list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fficient insertion/deletion anywhere in contain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oubly-linked list (two pointers per nod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idirectional iterat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d::list&lt; </a:t>
            </a:r>
            <a:r>
              <a:rPr b="1" i="1" lang="en-US" sz="2200" spc="-1" strike="noStrike">
                <a:solidFill>
                  <a:srgbClr val="000000"/>
                </a:solidFill>
                <a:latin typeface="Courier New"/>
              </a:rPr>
              <a:t>typ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&gt; </a:t>
            </a:r>
            <a:r>
              <a:rPr b="1" i="1" lang="en-US" sz="2200" spc="-1" strike="noStrike">
                <a:solidFill>
                  <a:srgbClr val="000000"/>
                </a:solidFill>
                <a:latin typeface="Courier New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77E5E-7345-4F95-A624-D0CF312D22C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2.2 list Sequence Containe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s for object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.sort(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rts in ascending or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.splice(iterator, otherObject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erts values from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therObj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efor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.merge( otherObject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move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therObj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inserts it into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sor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.unique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moves duplicate el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B1906-DC06-4E38-AC07-8452AF16F42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2.2 list Sequence Containe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.swap(otherObject);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change cont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.assign(iterator1, iterator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laces contents with elements in range of itera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.remove(valu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ases all instances of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56AE8-3683-45F7-A986-6F54FB3A4AF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1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21.17: fig21_17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ndard library list class template test program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list&gt;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ist class-template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algorithm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py algorithm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totype for function template printLi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empl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 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Lis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list&lt; T &gt; &amp;listRef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list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values;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list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otherValue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sert items in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values.push_fro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values.push_fro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values.push_back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values.push_back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2971800" y="3581280"/>
            <a:ext cx="4114800" cy="838440"/>
            <a:chOff x="2971800" y="3581280"/>
            <a:chExt cx="4114800" cy="838440"/>
          </a:xfrm>
        </p:grpSpPr>
        <p:sp>
          <p:nvSpPr>
            <p:cNvPr id="198" name=""/>
            <p:cNvSpPr/>
            <p:nvPr/>
          </p:nvSpPr>
          <p:spPr>
            <a:xfrm>
              <a:off x="4419720" y="358128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tw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li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2971800" y="37339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62FE6-9499-4293-9E50-629EF21A644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1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6019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alues contain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ntList( value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values.sort(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ort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values after sorting contain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ntList( value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sert elements of array into other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otherValues.insert( otherValues.begin(),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rray, array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fter insert, otherValues contain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ntList( otherValue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move otherValues elements and insert at end of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values.splice( values.end(), otherValues );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nAfter splice, values contain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ntList( value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values.sort(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ort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fter sort, values contain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ntList( value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2057400" y="247680"/>
            <a:ext cx="4114800" cy="2114640"/>
            <a:chOff x="2057400" y="247680"/>
            <a:chExt cx="4114800" cy="2114640"/>
          </a:xfrm>
        </p:grpSpPr>
        <p:sp>
          <p:nvSpPr>
            <p:cNvPr id="203" name=""/>
            <p:cNvSpPr/>
            <p:nvPr/>
          </p:nvSpPr>
          <p:spPr>
            <a:xfrm>
              <a:off x="3505320" y="2476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Variou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li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ember function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2057400" y="39996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361960" y="399960"/>
              <a:ext cx="1143000" cy="196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8024F-4787-416D-A4B1-064046BFEAB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1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sert elements of array into other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otherValues.insert( otherValues.begin(),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rray, array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otherValues.sort();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fter insert, otherValues contain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ntList( otherValue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move otherValues elements and insert into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 sorted order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values.merge( otherValues );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fter merge:\n   values contain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ntList( value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   otherValues contain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ntList( otherValue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values.pop_front(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move element from fro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values.pop_back()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move element from back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fter pop_front and pop_back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n   values contain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ntList( value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values.unique(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move duplicate elem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fter unique, values contain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ntList( value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EF6BF-720F-480B-B578-BD19F760FE5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1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4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943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wap elements of values and other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values.swap( otherValues );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fter swap:\n   values contain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ntList( value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   otherValues contain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ntList( otherValue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place contents of values with elements of other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values.assign( otherValues.begin(), otherValues.end() 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nAfter assign, values contain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ntList( value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move otherValues elements and insert into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 sorted order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values.merge( otherValues );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fter merge, values contain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ntList( values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values.remov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move all 4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fter remove( 4 ), values contain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ntList( value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886A2-F90C-4451-BB77-8D3B785441F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1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5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List function template definition; use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stream_iterator and copy algorithm to output list elem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empl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 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Lis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list&lt; T &gt; &amp;listRef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listRef.empty(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ist is empt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d::ostream_iterator&lt; T &gt; output( cout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d::copy( listRef.begin(), listRef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Li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05EFD-FABC-4AEF-B499-FBBC0D3DF1D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1.1 Introduction to Contain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e types of contain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quence contain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ear data structures (vectors, linked lis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-class contai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sociative contain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n-linear, can find elements quick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/value pai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-class contai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tainer adapter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ar contai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milar to containers, with reduced functional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iners have some comm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95448-1B04-40BA-BE94-952CEB7D552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1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191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s contains: 2 1 4 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s after sorting contains: 1 2 3 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insert, otherValues contains: 2 6 4 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splice, values contains: 1 2 3 4 2 6 4 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sort, values contains: 1 2 2 3 4 4 6 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insert, otherValues contains: 2 4 6 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merge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s contains: 1 2 2 2 3 4 4 4 6 6 8 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therValues contains: List is emp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pop_front and pop_back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s contains: 2 2 2 3 4 4 4 6 6 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unique, values contains: 2 3 4 6 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swap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s contains: List is emp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therValues contains: 2 3 4 6 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assign, values contains: 2 3 4 6 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merge, values contains: 2 2 3 3 4 4 6 6 8 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remove( 4 ), values contains: 2 2 3 3 6 6 8 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23D71-B769-453B-8DF3-9F9D2FE55CDF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2.3 deque Sequence Containe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eq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"deek"): double-ended que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eade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deque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dexed access us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[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fficient insertion/deletion in front and bac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n-contiguous memory: has "smarter" iterat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e basic operations a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ect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so h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_fro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insert at front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q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_fron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elete from fro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8D915-11FF-4E23-ACE7-F5CE55E2A823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1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21.18: fig21_18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ndard library class deque test program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deque&gt;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que class-template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algorithm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py algorith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deque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value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ostream_itera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output( cout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sert elements in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values.push_fro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.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values.push_fro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.5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values.push_back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.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alues contain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 subscript operator to obtain elements of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values.size(); ++i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values[ i ]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 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2057400" y="1981080"/>
            <a:ext cx="4114800" cy="1752840"/>
            <a:chOff x="2057400" y="1981080"/>
            <a:chExt cx="4114800" cy="1752840"/>
          </a:xfrm>
        </p:grpSpPr>
        <p:sp>
          <p:nvSpPr>
            <p:cNvPr id="219" name=""/>
            <p:cNvSpPr/>
            <p:nvPr/>
          </p:nvSpPr>
          <p:spPr>
            <a:xfrm>
              <a:off x="3505320" y="19810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equ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use member function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2057400" y="21337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2285640" y="2133720"/>
              <a:ext cx="121932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FAEAA-6447-48B0-AE58-A880624F93AB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1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1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3733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values.pop_front(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move first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fter pop_front, values contain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values.begin(), values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 subscript operator to modify element at location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value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.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fter values[ 1 ] = 5.4, values contain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values.begin(), values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3733920"/>
            <a:ext cx="7010280" cy="838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s contains: 3.5 2.2 1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pop_front, values contains: 2.2 1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values[ 1 ] = 5.4, values contains: 2.2 5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18D1D-6DFC-4F25-B6B5-A43E98863FE7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3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Associative Contain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containe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 access to store/retrieve element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keys (search key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types: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ultise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ultima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s in sorted 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ulti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ultima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llow duplicate ke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ultima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ve keys and associated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ulti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nly have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FE491-F198-4621-9E76-FCC3EECC0512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3.1 multiset Associative Containe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ulti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eade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set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ast storage, retrieval of keys (no value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ows duplica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idirectional iterat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dering of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one by comparator function o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when creating multi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 integer multis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ess&lt;int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mparator function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ultiset&lt; int, std::less&lt;int&gt; &gt; myObjec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ments will be sorted in ascending 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4D11B-F924-4EE2-B72B-79F9B7FD4AE5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3.1 multiset Associative Containe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set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s.insert(</a:t>
            </a:r>
            <a:r>
              <a:rPr b="1" i="1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erts value into multi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s.count(</a:t>
            </a:r>
            <a:r>
              <a:rPr b="1" i="1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number of occurrences of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s.find(</a:t>
            </a:r>
            <a:r>
              <a:rPr b="1" i="1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iterator to first instance of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s.lower_bound(</a:t>
            </a:r>
            <a:r>
              <a:rPr b="1" i="1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iterator to first location o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s.upper_bound(</a:t>
            </a:r>
            <a:r>
              <a:rPr b="1" i="1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iterator to location after last occurrence of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60EF7-030D-4F1F-B774-A707DC5AC8BB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3.1 multiset Associative Containe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nipulate pairs of valu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ai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bjects contain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irs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co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t_iter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ai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bjec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q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q = ms.equal_range(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r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co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wer_bou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pper_bou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or a given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A8343-E24E-40D1-A264-50E7D281766F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1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21.19: fig21_19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sting Standard Library class multis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set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ultiset class-template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ine short name for multiset type used in this progra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ype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multiset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td::less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&gt; ims;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algorithm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py algorith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ms intMultise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ms is typedef for "integer multiset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ostream_itera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output( cout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re are currently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intMultiset.cou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values of 15 in the multiset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3886200" y="1523880"/>
            <a:ext cx="4114800" cy="1067400"/>
            <a:chOff x="3886200" y="1523880"/>
            <a:chExt cx="4114800" cy="1067400"/>
          </a:xfrm>
        </p:grpSpPr>
        <p:sp>
          <p:nvSpPr>
            <p:cNvPr id="236" name=""/>
            <p:cNvSpPr/>
            <p:nvPr/>
          </p:nvSpPr>
          <p:spPr>
            <a:xfrm>
              <a:off x="5334120" y="152388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ypedef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 help clarify program. This declares an integer multiset that stores values in ascending ord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3886200" y="16765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451F3-B650-4213-8E4E-BB74E3F590B7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1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6324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ntMultiset.inser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sert 15 in intMultis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ntMultiset.inser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sert 15 in intMultis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fter inserts, there are 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intMultiset.cou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values of 15 in the multiset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terator that cannot be used to change element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ms::const_iterator result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nd 15 in intMultiset; find returns itera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result = intMultiset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sult != intMultiset.end() )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f iterator not at e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Found value 15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ound search value 1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nd 20 in intMultiset; find returns itera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result = intMultiset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sult == intMultiset.end() )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will be true h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id not find value 20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id not find 2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sert elements of array a into intMultis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ntMultiset.insert( a, a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fter insert, intMultiset contains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intMultiset.begin(), intMultiset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3200400" y="1752480"/>
            <a:ext cx="4114800" cy="838440"/>
            <a:chOff x="3200400" y="1752480"/>
            <a:chExt cx="4114800" cy="838440"/>
          </a:xfrm>
        </p:grpSpPr>
        <p:sp>
          <p:nvSpPr>
            <p:cNvPr id="241" name=""/>
            <p:cNvSpPr/>
            <p:nvPr/>
          </p:nvSpPr>
          <p:spPr>
            <a:xfrm>
              <a:off x="4648320" y="175248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member 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in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3200400" y="19051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0CD3C-58E1-4876-A651-1AAD1E899A01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TL Container Classes (Fig. 21.1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quence contai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e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ociative contai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ultis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ultima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iner adap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c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ority_que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EA4A1-C791-4F80-883F-E69852C81BA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1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105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termine lower and upper bound of 22 in intMultis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Lower bound of 22: 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*( intMultiset.lower_bou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Upper bound of 22: 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*( intMultiset.upper_bou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 represents pair of const_iterators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pair&lt; ims::const_iterator, ims::const_iterator &gt; p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 equal_range to determine lower and upper bou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f 22 in intMultiset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 = intMultiset.equal_rang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equal_range of 22: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   Lower bound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*( p.firs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   Upper bound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*( p.secon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3429000" y="1752480"/>
            <a:ext cx="4114800" cy="838440"/>
            <a:chOff x="3429000" y="1752480"/>
            <a:chExt cx="4114800" cy="838440"/>
          </a:xfrm>
        </p:grpSpPr>
        <p:sp>
          <p:nvSpPr>
            <p:cNvPr id="246" name=""/>
            <p:cNvSpPr/>
            <p:nvPr/>
          </p:nvSpPr>
          <p:spPr>
            <a:xfrm>
              <a:off x="4876920" y="175248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ai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 to get the lower and upper bound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22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3429000" y="19051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6268F-CF7B-436F-9D0A-76A1034156DD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1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505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re are currently 0 values of 15 in the multis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inserts, there are 2 values of 15 in the multis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ound value 1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id not find value 2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insert, intMultiset contains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7 9 13 15 15 18 22 22 30 85 1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ower bound of 22: 2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pper bound of 22: 3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qual_range of 22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ower bound: 2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pper bound: 3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B19D2-0FA8-4634-8715-D606E0496C43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3.2 set Associative Containe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eade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set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mplementation identical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ultis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nique key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plicates ignored and not 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upports bidirectional iterators (but not random acces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d::set&lt; </a:t>
            </a:r>
            <a:r>
              <a:rPr b="1" i="1" lang="en-US" sz="2200" spc="-1" strike="noStrike">
                <a:solidFill>
                  <a:srgbClr val="000000"/>
                </a:solidFill>
                <a:latin typeface="Courier New"/>
              </a:rPr>
              <a:t>typ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, std::less&lt;</a:t>
            </a:r>
            <a:r>
              <a:rPr b="1" i="1" lang="en-US" sz="2200" spc="-1" strike="noStrike">
                <a:solidFill>
                  <a:srgbClr val="000000"/>
                </a:solidFill>
                <a:latin typeface="Courier New"/>
              </a:rPr>
              <a:t>typ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 &gt; </a:t>
            </a:r>
            <a:r>
              <a:rPr b="1" i="1" lang="en-US" sz="2200" spc="-1" strike="noStrike">
                <a:solidFill>
                  <a:srgbClr val="000000"/>
                </a:solidFill>
                <a:latin typeface="Courier New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BBEAE-D69D-4F4C-8803-2E9352E3E016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2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21.20: fig21_20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ndard library class set test program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set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ine short name for set type used in this progra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ype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td::less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&gt; double_se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algorith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.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.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.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.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ouble_set doubleSet( a, a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ostream_itera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output( cout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oubleSet contain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doubleSet.begin(), doubleSet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4038480" y="1523880"/>
            <a:ext cx="4114800" cy="838440"/>
            <a:chOff x="4038480" y="1523880"/>
            <a:chExt cx="4114800" cy="838440"/>
          </a:xfrm>
        </p:grpSpPr>
        <p:sp>
          <p:nvSpPr>
            <p:cNvPr id="255" name=""/>
            <p:cNvSpPr/>
            <p:nvPr/>
          </p:nvSpPr>
          <p:spPr>
            <a:xfrm>
              <a:off x="5486400" y="15238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Syntax similar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multis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4038480" y="16765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5FB31-BFCF-48D8-A4AE-8B9BDB693B6E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2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 represents pair containing const_iterator and boo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pair&lt; double_set::const_iterator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p;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sert 13.8 in doubleSet; insert returns pair in whic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.first represents location of 13.8 in doubleSet and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.second represents whether 13.8 was inserted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 = doubleSet.inser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.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value not in set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n\n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*( p.firs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p.second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wa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 was no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inserte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doubleSet contain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doubleSet.begin(), doubleSet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sert 9.5 in doubleSet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 = doubleSet.inser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value already in s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*( p.firs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p.second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was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 was not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 inserte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3581280" y="1143000"/>
            <a:ext cx="4114800" cy="838080"/>
            <a:chOff x="3581280" y="1143000"/>
            <a:chExt cx="4114800" cy="838080"/>
          </a:xfrm>
        </p:grpSpPr>
        <p:sp>
          <p:nvSpPr>
            <p:cNvPr id="260" name=""/>
            <p:cNvSpPr/>
            <p:nvPr/>
          </p:nvSpPr>
          <p:spPr>
            <a:xfrm>
              <a:off x="5029200" y="114300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ai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 ha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value representing whether or not the item was insert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3581280" y="12952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9B8B7-6AE4-46D9-806C-66D22F087E77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2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2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057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doubleSet contain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doubleSet.begin(), doubleSet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2057400"/>
            <a:ext cx="7010280" cy="1752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Set contains: 2.1 3.7 4.2 9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3.8 was inser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Set contains: 2.1 3.7 4.2 9.5 13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9.5 was not inser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Set contains: 2.1 3.7 4.2 9.5 13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3E2FE-FB65-4E58-B5D1-134C1D211324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3.3 multimap Associative Containe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ult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de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map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 storage and retrieval of keys and associated valu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key/value pai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plicate keys allowed (multiple values for a single key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-to-many relationshi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.e., one student can take many cour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er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ai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bjects (with a key and valu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directional iterat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2F3AD-604E-4C81-87DB-29C015C4519E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3.3 multimap Associative Containe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d::multimap&lt; int, double, std::less&lt; int &gt; &gt; mmapObjec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 typ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ue typ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rted in ascending 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ypede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implify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ypedef std::multimap&lt;int, double, std::less&lt;int&gt;&gt; mmi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mid mmapObjec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mapObject.insert( mmid::value_type( 1, 3.4 )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erts ke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valu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mid::value_typ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reates a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i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DEDFF-C29D-42C6-82B1-37A570A381F8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2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21.21: fig21_21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ndard library class multimap test program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map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ap class-template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ine short name for multimap type used in this program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ype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multimap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td::less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&gt; mmi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mmid pair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re are currently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pairs.cou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pairs with key 15 in the multimap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sert two value_type objects in pairs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airs.insert( mmid::value_typ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2.7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airs.insert( mmid::value_typ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9.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fter inserts, there are 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pairs.cou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pairs with key 15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3733560" y="1066680"/>
            <a:ext cx="4115160" cy="1295640"/>
            <a:chOff x="3733560" y="1066680"/>
            <a:chExt cx="4115160" cy="1295640"/>
          </a:xfrm>
        </p:grpSpPr>
        <p:sp>
          <p:nvSpPr>
            <p:cNvPr id="272" name=""/>
            <p:cNvSpPr/>
            <p:nvPr/>
          </p:nvSpPr>
          <p:spPr>
            <a:xfrm>
              <a:off x="5181480" y="106668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finition for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multima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hat maps integer keys to double valu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3733560" y="1523880"/>
              <a:ext cx="144756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1752480" y="2685960"/>
            <a:ext cx="4114800" cy="1886040"/>
            <a:chOff x="1752480" y="2685960"/>
            <a:chExt cx="4114800" cy="1886040"/>
          </a:xfrm>
        </p:grpSpPr>
        <p:sp>
          <p:nvSpPr>
            <p:cNvPr id="275" name=""/>
            <p:cNvSpPr/>
            <p:nvPr/>
          </p:nvSpPr>
          <p:spPr>
            <a:xfrm>
              <a:off x="3200400" y="268596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multimap and insert key-value pair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1752480" y="2838600"/>
              <a:ext cx="1447920" cy="43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2362320" y="2838600"/>
              <a:ext cx="838080" cy="173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6ED5F-5C3F-43F6-8D28-179F31B2FDAC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2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00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sert five value_type objects in pairs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airs.insert( mmid::value_typ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11.1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airs.insert( mmid::value_typ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2.2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airs.insert( mmid::value_typ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3.33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airs.insert( mmid::value_typ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.34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airs.insert( mmid::value_typ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7.5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ultimap pairs contains:\nKey\tValue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 const_iterator to walk through elements of pai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mmid::const_iterator iter = pairs.begin();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ter != pairs.end(); ++iter )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iter-&gt;firs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t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iter-&gt;second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n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2666880" y="1828800"/>
            <a:ext cx="4114800" cy="838080"/>
            <a:chOff x="2666880" y="1828800"/>
            <a:chExt cx="4114800" cy="838080"/>
          </a:xfrm>
        </p:grpSpPr>
        <p:sp>
          <p:nvSpPr>
            <p:cNvPr id="281" name=""/>
            <p:cNvSpPr/>
            <p:nvPr/>
          </p:nvSpPr>
          <p:spPr>
            <a:xfrm>
              <a:off x="4114800" y="18288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iterator to print entir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multima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2666880" y="19810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F5582-B701-43B4-9D9E-4B6A4F149DD9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ommon STL Member Functions (Fig. 21.2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ber functions for all contai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ault constructor, copy constructor, destru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mp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x_siz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iz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= &lt; &lt;= &gt; &gt;= == !=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wa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s for first-class contai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begi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ras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le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DA791-435A-4EEB-AE1E-3BA286A92C8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2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2743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re are currently 0 pairs with key 15 in the multima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inserts, there are 2 pairs with key 1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ultimap pairs contains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Key    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       77.5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      22.2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5      2.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5      99.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0      9.34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5      33.33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0      111.1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38570-BDCC-43BB-AA8A-ED454DC0A3F9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3.4 map Associative Containe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eade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map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k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ultima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but only unique key/value pai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-to-one mapping (duplicates ignor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[]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 access valu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bjec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[30] = 4000.2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s the value of key 30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4000.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subscript not i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reates new key/value pai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 decla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td::map&lt; int, double, std::less&lt; int &gt; &gt;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696FA-E7E1-4E93-AA93-C35F85A51575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2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943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21.22: fig21_22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ndard library class map test program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map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ap class-template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ine short name for map type used in this progra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ype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map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td::less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&gt; mi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mid pair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sert eight value_type objects in pairs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airs.insert( mid::value_typ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.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airs.insert( mid::value_typ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11.1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airs.insert( mid::value_typ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10.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airs.insert( mid::value_typ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2.2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airs.insert( mid::value_typ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3.33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airs.insert( mid::value_typ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7.5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upe ignor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airs.insert( mid::value_typ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.34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airs.insert( mid::value_typ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9.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upe ignor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1752120" y="1523880"/>
            <a:ext cx="5220360" cy="1752840"/>
            <a:chOff x="1752120" y="1523880"/>
            <a:chExt cx="5220360" cy="1752840"/>
          </a:xfrm>
        </p:grpSpPr>
        <p:sp>
          <p:nvSpPr>
            <p:cNvPr id="290" name=""/>
            <p:cNvSpPr/>
            <p:nvPr/>
          </p:nvSpPr>
          <p:spPr>
            <a:xfrm>
              <a:off x="4305240" y="152388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gain, u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ypedef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 to simplify declar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2857320" y="167652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1752120" y="1676520"/>
              <a:ext cx="255276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4800600" y="3484440"/>
            <a:ext cx="4114800" cy="1544760"/>
            <a:chOff x="4800600" y="3484440"/>
            <a:chExt cx="4114800" cy="1544760"/>
          </a:xfrm>
        </p:grpSpPr>
        <p:sp>
          <p:nvSpPr>
            <p:cNvPr id="294" name=""/>
            <p:cNvSpPr/>
            <p:nvPr/>
          </p:nvSpPr>
          <p:spPr>
            <a:xfrm>
              <a:off x="6248520" y="348444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uplicate keys ignor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4800600" y="36370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4800600" y="3637080"/>
              <a:ext cx="1447920" cy="13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805F7-0F0B-4C84-88AD-E2AA08E78E57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2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airs contains:\nKey\tValue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 const_iterator to walk through elements of pai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mid::const_iterator iter = pairs.begin();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ter != pairs.end(); ++iter )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iter-&gt;firs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t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iter-&gt;second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n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 subscript operator to change value for key 2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air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999.9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 subscript operator insert value for key 4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air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765.4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fter subscript operations, pairs contains: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nKey\tValue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mid::const_iterator iter2 = pairs.begin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ter2 != pairs.end(); ++iter2 )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iter2-&gt;firs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t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iter2-&gt;second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n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2857320" y="1371600"/>
            <a:ext cx="4115160" cy="1523880"/>
            <a:chOff x="2857320" y="1371600"/>
            <a:chExt cx="4115160" cy="1523880"/>
          </a:xfrm>
        </p:grpSpPr>
        <p:sp>
          <p:nvSpPr>
            <p:cNvPr id="300" name=""/>
            <p:cNvSpPr/>
            <p:nvPr/>
          </p:nvSpPr>
          <p:spPr>
            <a:xfrm>
              <a:off x="4305240" y="137160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n use subscript operator to add or change key-value pair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2857320" y="15238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2857320" y="1523880"/>
              <a:ext cx="144756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284C3-8A3A-455B-A55A-993F41FF6666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2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airs contains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Key    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       1010.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0      22.22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5      2.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0      9.34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5      33.33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0      111.1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subscript operations, pairs contains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Key    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       1010.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      22.2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5      2.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0      9.34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5      9999.99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0      111.1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0      8765.4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17460-4FB1-4DAE-B414-5A1619F55FBA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4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ontainer Adapt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iner adap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ck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queu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ority_queu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t first class contain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 not support iter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 not provide actual data 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grammer can select implemen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mber function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s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AB7ED-4346-4DD8-8541-BA2B8187E89A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4.1 stack Adapte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eade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stack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sertions and deletions at one en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ast-in, first-out (LIFO) data struc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us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ecto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equ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defaul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clar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ck&lt;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typ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vector&lt;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typ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gt; &gt; myStac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ck&lt;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typ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list&lt;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typ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gt; &gt; myOtherStac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ck&lt;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typ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gt; anotherStack; // default de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ect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ation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c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defaul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q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 not change behavior, just performance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q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ect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astes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F8699-675E-4AB5-8CE5-D5FB88E6D72B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2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21.23: fig21_23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ndard library adapter stack test program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stack&gt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ck adapter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vector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vector class-template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list&gt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ist class-template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pElements function-template prototyp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empl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 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pElements( T &amp;stackRef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ck with default underlying deq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stack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intDequeStack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ck with underlying vector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stack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td::vec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&gt; intVectorStack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ck with underlying list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stack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td::list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&gt; intListStack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3733560" y="3362400"/>
            <a:ext cx="4115160" cy="2047680"/>
            <a:chOff x="3733560" y="3362400"/>
            <a:chExt cx="4115160" cy="2047680"/>
          </a:xfrm>
        </p:grpSpPr>
        <p:sp>
          <p:nvSpPr>
            <p:cNvPr id="312" name=""/>
            <p:cNvSpPr/>
            <p:nvPr/>
          </p:nvSpPr>
          <p:spPr>
            <a:xfrm>
              <a:off x="5181480" y="336240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stacks with various implementation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3733560" y="35146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3962520" y="3514680"/>
              <a:ext cx="1218960" cy="113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4190760" y="3514680"/>
              <a:ext cx="990360" cy="189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029C2-AFAA-408D-9C5E-12779959958D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2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ush the values 0-9 onto each stack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++i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tDequeStack.push( i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tVectorStack.push( i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tListStack.push( i 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isplay and remove elements from each stac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Popping from intDequeStack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opElements( intDequeStack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Popping from intVectorStack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opElements( intVectorStack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Popping from intListStack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opElements( intListStack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3276360" y="838080"/>
            <a:ext cx="4115160" cy="337320"/>
            <a:chOff x="3276360" y="838080"/>
            <a:chExt cx="4115160" cy="337320"/>
          </a:xfrm>
        </p:grpSpPr>
        <p:sp>
          <p:nvSpPr>
            <p:cNvPr id="319" name=""/>
            <p:cNvSpPr/>
            <p:nvPr/>
          </p:nvSpPr>
          <p:spPr>
            <a:xfrm>
              <a:off x="4724280" y="838080"/>
              <a:ext cx="26672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member 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us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3276360" y="990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34C19-8EE7-4F72-A58D-A249D9D1379A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2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2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2666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p elements from stack object to which stackRef ref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empl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 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pElements( T &amp;stackRef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!stackRef.empty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stackRef.top(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 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view top element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ackRef.pop();    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move top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wh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opElem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2666880"/>
            <a:ext cx="7010280" cy="838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pping from intDequeStack: 9 8 7 6 5 4 3 2 1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pping from intVectorStack: 9 8 7 6 5 4 3 2 1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pping from intListStack: 9 8 7 6 5 4 3 2 1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03412-0164-488C-A0AE-4DFE93CE84C8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ommon STL typedefs (Fig. 21.4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typede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 for first-class contai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alue_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fere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nst_refere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in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tera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nst_itera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verse_itera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nst_reverse_itera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ifference_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ize_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8485F-323A-4F0F-BD98-FC12D20B281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4.2 queue Adapte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eade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queue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sertions at back, deletions at fro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rst-in-first-out (FIFO) data struc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mplemented wit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equ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defaul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d::queue&lt;double&gt; value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sh( element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e a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_bac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d to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p( element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ed wit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_fro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remove from fr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mpty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ize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3E2D5-CBB4-4A35-A703-44DE1BD50C0A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2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21.24: fig21_24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ndard library adapter queue test program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queue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queue adapter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queue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value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ush elements onto queue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values.push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.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values.push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9.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values.push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.4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opping from value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!values.empty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values.front(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 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view front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values.pop();      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move element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wh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2590560" y="1752480"/>
            <a:ext cx="4115160" cy="1600200"/>
            <a:chOff x="2590560" y="1752480"/>
            <a:chExt cx="4115160" cy="1600200"/>
          </a:xfrm>
        </p:grpSpPr>
        <p:sp>
          <p:nvSpPr>
            <p:cNvPr id="329" name=""/>
            <p:cNvSpPr/>
            <p:nvPr/>
          </p:nvSpPr>
          <p:spPr>
            <a:xfrm>
              <a:off x="4038480" y="175248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queu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add values us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us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2590560" y="190512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2590560" y="1905120"/>
              <a:ext cx="144756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A97F2-2D14-44AA-9309-CD907D00363A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2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2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1371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1371600"/>
            <a:ext cx="701028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pping from values: 3.2 9.8 5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2271E-1435-4039-B407-1560B7369CE6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4.3 priority_queue Adapte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iority_que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eade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queue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sertions happen in sorted order, deletions from fro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mplemented wit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ecto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default)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e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Highest priorit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lement always removed fir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psort algorithm puts largest elements at fr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ess&lt;T&gt;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ault, programmer can specify other compa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(value), pop(valu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op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ew top 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ze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mpty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4E382-CB65-45E0-9869-A979A59CF6AA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2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21.25: fig21_25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ndard library adapter priority_queue test program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queue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ority_queue adapter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priority_queue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prioritie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ush elements onto priorit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orities.push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3.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orities.push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.8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orities.push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.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opping from prioritie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!priorities.empty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priorities.top(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 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view top element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iorities.pop();    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move top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wh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2971800" y="1752480"/>
            <a:ext cx="4114800" cy="838440"/>
            <a:chOff x="2971800" y="1752480"/>
            <a:chExt cx="4114800" cy="838440"/>
          </a:xfrm>
        </p:grpSpPr>
        <p:sp>
          <p:nvSpPr>
            <p:cNvPr id="340" name=""/>
            <p:cNvSpPr/>
            <p:nvPr/>
          </p:nvSpPr>
          <p:spPr>
            <a:xfrm>
              <a:off x="4419720" y="175248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priority queu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2971800" y="19051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2666520" y="2971800"/>
            <a:ext cx="3810600" cy="2133720"/>
            <a:chOff x="2666520" y="2971800"/>
            <a:chExt cx="3810600" cy="2133720"/>
          </a:xfrm>
        </p:grpSpPr>
        <p:sp>
          <p:nvSpPr>
            <p:cNvPr id="343" name=""/>
            <p:cNvSpPr/>
            <p:nvPr/>
          </p:nvSpPr>
          <p:spPr>
            <a:xfrm>
              <a:off x="3809880" y="297180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sert items using push. When using pop, highest priority (largest) items removed firs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2971800" y="3200400"/>
              <a:ext cx="8380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2666520" y="3200400"/>
              <a:ext cx="114300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AF02A-EE15-4723-BF12-64943DBD9CF8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2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2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1295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1295280"/>
            <a:ext cx="701028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pping from priorities: 9.8 5.4 3.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D7B16-64A4-48FC-809D-4C60AAB46F96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5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Algorithm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fore ST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 libraries incompatible among vend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gorithms built into contain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L separates containers and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asier to add new algorith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re efficient, avoid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 cal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algorithm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A2511-E944-47E2-A42D-988789026102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5.1 fill, fill_n, generate and generate_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s to change contai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ill(iterator1, iterator2, value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s range of elements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ll_n(iterator1, n, valu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lements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starting 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terator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nerate(iterator1, iterator2, function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k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but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un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et each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nerate(iterator1, quantity, fun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k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ll_n, "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77F84-D0E0-4AD0-A37C-F846D1B2DC04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2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21.26: fig21_26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ndard library algorithms fill, fill_n, gener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nd generate_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algorithm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lgorithm defini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vector&gt;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vector class-template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Letter()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vec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chars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ostream_itera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output( cout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ll chars with 5s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fill( chars.begin(), chars.end()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5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ector chars after filling with 5s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chars.begin(), chars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2666880" y="2590920"/>
            <a:ext cx="4114800" cy="838080"/>
            <a:chOff x="2666880" y="2590920"/>
            <a:chExt cx="4114800" cy="838080"/>
          </a:xfrm>
        </p:grpSpPr>
        <p:sp>
          <p:nvSpPr>
            <p:cNvPr id="356" name=""/>
            <p:cNvSpPr/>
            <p:nvPr/>
          </p:nvSpPr>
          <p:spPr>
            <a:xfrm>
              <a:off x="4114800" y="25909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vect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ha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, to be used with various function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2666880" y="27432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4572000" y="3505320"/>
            <a:ext cx="4114800" cy="838080"/>
            <a:chOff x="4572000" y="3505320"/>
            <a:chExt cx="4114800" cy="838080"/>
          </a:xfrm>
        </p:grpSpPr>
        <p:sp>
          <p:nvSpPr>
            <p:cNvPr id="359" name=""/>
            <p:cNvSpPr/>
            <p:nvPr/>
          </p:nvSpPr>
          <p:spPr>
            <a:xfrm>
              <a:off x="6019920" y="350532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il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4572000" y="36576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F4BB1-163E-4403-9D7D-6BC6AB38C879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2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ll first five elements of chars with A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fill_n( chars.begin()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A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Vector chars after filling five elements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with As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chars.begin(), chars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enerate values for all elements of chars with nextLet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generate( chars.begin(), chars.end(), nextLetter );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Vector chars after generating letters A-J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chars.begin(), chars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enerate values for first five elements of cha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with nextLetter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generate_n( chars.begin()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nextLetter )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Vector chars after generating K-O for the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first five elements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chars.begin(), chars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4723920" y="1066680"/>
            <a:ext cx="4343760" cy="2362320"/>
            <a:chOff x="4723920" y="1066680"/>
            <a:chExt cx="4343760" cy="2362320"/>
          </a:xfrm>
        </p:grpSpPr>
        <p:sp>
          <p:nvSpPr>
            <p:cNvPr id="364" name=""/>
            <p:cNvSpPr/>
            <p:nvPr/>
          </p:nvSpPr>
          <p:spPr>
            <a:xfrm>
              <a:off x="6400800" y="106668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unction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gener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generate_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use 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nextLett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4952880" y="12193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4723920" y="1219320"/>
              <a:ext cx="167652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C4027-5736-4624-A723-791592AE7E7E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1.2 Introduction to It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erators similar to poin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int to first element in a contain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terator operators same for all contain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refer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oints to next 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egin(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eturns iterator to first 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(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eturns iterator to last 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iterators with sequences (range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ain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 sequences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tream_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put sequences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stream_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FABC7-8A46-4A81-93C4-9213E290E0B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2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2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1981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s next letter in the alphabet (starts with A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Letter()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ette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A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etter++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nextLet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1981080"/>
            <a:ext cx="7010280" cy="2667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ector chars after filling with 5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 5 5 5 5 5 5 5 5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ector chars after filling five elements with A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 A A A A 5 5 5 5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ector chars after generating letters A-J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 B C D E F G H I 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ector chars after generating K-O for the first five elem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K L M N O F G H I 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C1DE7-3AF3-471F-9663-CC57A2BF9350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5.2 equal, mismatch and lexicographical_compar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s to compare sequences of 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qual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f sequences are equal (use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retu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f of unequal l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qual(iterator1, iterator2, iterator3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ares sequence from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terator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terator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sequence beginning 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terator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ismatc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guments same a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q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i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 with iterators pointing to misma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no mismatch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i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terators equal to last 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ir &lt; iterator, iterator &gt; myPairObjec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yPairObject = mismatch( iter1, iter2, iter3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43E9D-6FB9-4B54-9094-61B9DE30BFEE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5.2 equal, mismatch and lexicographical_compar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s to compare sequences of 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exicographical_compa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are contents of two character arr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f element in first sequence smaller than corresponding element in seco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 result = lexicographical_compare(iter1, iter2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ter3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C76BD-8AEE-4576-AD70-07186230ED98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2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21.27: fig21_27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ndard library functions equal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ismatch and lexicographical_compar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algorithm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lgorithm defini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vector&gt;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vector class-template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1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2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vec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v1( a1, a1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vec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v2( a1, a1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vec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v3( a2, a2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ostream_itera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output( cout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0F658-8782-4B63-AE3D-BA855BEF85FF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2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6019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ector v1 contain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v1.begin(), v1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Vector v2 contain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v2.begin(), v2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Vector v3 contain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v3.begin(), v3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mpare vectors v1 and v2 for equality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sult =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d::equal( v1.begin(), v1.end(), v2.begin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Vector v1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( result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s no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equal to vector v2.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mpare vectors v1 and v3 for equality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result = std::equal( v1.begin(), v1.end(), v3.begin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Vector v1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( result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s no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equal to vector v3.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ocation represents pair of vector iterato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pair&lt; std::vec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::iterator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std::vec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::iterator &gt; loca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heck for mismatch between v1 and v3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location =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d::mismatch( v1.begin(), v1.end(), v3.begin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429000" y="1295280"/>
            <a:ext cx="4114800" cy="838440"/>
            <a:chOff x="3429000" y="1295280"/>
            <a:chExt cx="4114800" cy="838440"/>
          </a:xfrm>
        </p:grpSpPr>
        <p:sp>
          <p:nvSpPr>
            <p:cNvPr id="379" name=""/>
            <p:cNvSpPr/>
            <p:nvPr/>
          </p:nvSpPr>
          <p:spPr>
            <a:xfrm>
              <a:off x="4876920" y="12952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qua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Compares all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v1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with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v2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3429000" y="14479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4190760" y="4800600"/>
            <a:ext cx="4115160" cy="838080"/>
            <a:chOff x="4190760" y="4800600"/>
            <a:chExt cx="4115160" cy="838080"/>
          </a:xfrm>
        </p:grpSpPr>
        <p:sp>
          <p:nvSpPr>
            <p:cNvPr id="382" name=""/>
            <p:cNvSpPr/>
            <p:nvPr/>
          </p:nvSpPr>
          <p:spPr>
            <a:xfrm>
              <a:off x="5638680" y="480060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e use of 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mismatc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4190760" y="49528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B3D2D-28BF-4B69-AF26-9B9C04878142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2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00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There is a mismatch between v1 and v3 at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ocation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( location.first - v1.begin()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where v1 contain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*location.fir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and v3 contain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*location.second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har c1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ELLO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har c2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YE BY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erform lexicographical comparison of c1 and c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result = std::lexicographical_compare(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1, c1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c2, c2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c1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result ?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 is less than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is greater than or equal to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c2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3124080" y="1523880"/>
            <a:ext cx="4876920" cy="838440"/>
            <a:chOff x="3124080" y="1523880"/>
            <a:chExt cx="4876920" cy="838440"/>
          </a:xfrm>
        </p:grpSpPr>
        <p:sp>
          <p:nvSpPr>
            <p:cNvPr id="387" name=""/>
            <p:cNvSpPr/>
            <p:nvPr/>
          </p:nvSpPr>
          <p:spPr>
            <a:xfrm>
              <a:off x="4572000" y="1523880"/>
              <a:ext cx="34290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lexicographical_compar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3124080" y="16765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065E0-A4C1-43CC-B0E7-BD8728521452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2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2666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ector v1 contains: 1 2 3 4 5 6 7 8 9 1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ector v2 contains: 1 2 3 4 5 6 7 8 9 1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ector v3 contains: 1 2 3 4 1000 6 7 8 9 1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ector v1 is equal to vector v2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ector v1 is not equal to vector v3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re is a mismatch between v1 and v3 at location 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where v1 contains 5 and v3 contains 10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 is greater than or equal to BYE BY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42B26-580C-4ABF-AB4A-AA0088121489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5.3 remove, remove_if, remove_copy and remove_copy_if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rem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move( iter1, iter2, valu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moves all instances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n range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ter1-iter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ves instances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wards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 not change size of container or delete e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iterator to "new" end of contain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lements after new iterator are undefined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remove_co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pies one vector to another while removing an el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move_copy(iter1, iter2, iter3, valu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pies elements not equal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ter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output iterat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s rang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ter1-iter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05183-A8BD-4A10-A99D-A1E5AFEC2A07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5.3 remove, remove_if, remove_copy and remove_copy_if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remove_i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k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mov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iterator to last 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elements that retu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or specified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move_if(iter1,iter2, function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ments passed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un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ich returns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remove_copy_i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k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move_cop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move_i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pies range of elements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ter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except those for whic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unct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return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move_copy_if(iter1, iter2, iter3, function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B6D78-9163-4C4B-9182-6E378666FA22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2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21.28: fig21_28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ndard library functions remove, remove_if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move_copy and remove_copy_if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algorithm&gt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lgorithm defini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vector&gt;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vector class-template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reater9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ostream_itera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output( cout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vec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v( a, a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vec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::iterator newLastEleme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ector v before removing all 10s:\n  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v.begin(), v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98BFB-7A17-4007-9995-12DAF1DD0788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1.2 Introduction to It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d::istream_iterator&lt; int &gt; inputInt( cin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read input from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input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reference to read firs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+input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 to nex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d::ostream_iterator&lt; int &gt; outputInt(cou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outpu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outputInt =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put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+output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vances iterator so we can output nex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6DC39-05B0-41E2-B702-B708D17EF3A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2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move 10 from v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newLastElement = std::remove( v.begin(), v.end()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Vector v after removing all 10s:\n  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v.begin(), newLastElement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vec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v2( a, a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vec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c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Vector v2 before removing all 10s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nd copying:\n  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v2.begin(), v2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py from v2 to c, removing 10s in the process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remove_copy( v2.begin(), v2.end(), c.begin()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Vector c after removing all 10s from v2:\n  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c.begin(), c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vec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v3( a, a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Vector v3 before removing all elements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greater than 9:\n  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v3.begin(), v3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4876560" y="609120"/>
            <a:ext cx="3810240" cy="1053000"/>
            <a:chOff x="4876560" y="609120"/>
            <a:chExt cx="3810240" cy="1053000"/>
          </a:xfrm>
        </p:grpSpPr>
        <p:sp>
          <p:nvSpPr>
            <p:cNvPr id="400" name=""/>
            <p:cNvSpPr/>
            <p:nvPr/>
          </p:nvSpPr>
          <p:spPr>
            <a:xfrm>
              <a:off x="6019920" y="83808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move all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10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's from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v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Returns an iterator pointing to the new last elem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 flipV="1">
              <a:off x="4876560" y="609120"/>
              <a:ext cx="114300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4800600" y="2362320"/>
            <a:ext cx="4114800" cy="837720"/>
            <a:chOff x="4800600" y="2362320"/>
            <a:chExt cx="4114800" cy="837720"/>
          </a:xfrm>
        </p:grpSpPr>
        <p:sp>
          <p:nvSpPr>
            <p:cNvPr id="403" name=""/>
            <p:cNvSpPr/>
            <p:nvPr/>
          </p:nvSpPr>
          <p:spPr>
            <a:xfrm>
              <a:off x="6248520" y="23623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move_cop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create a duplicate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v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with all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10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's remov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4800600" y="2514600"/>
              <a:ext cx="144792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2B8B9-9430-409D-A6F6-069F763225B1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2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move elements greater than 9 from v3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newLastElement =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d::remove_if( v3.begin(), v3.end(), greater9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nVector v3 after removing all elements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greater than 9:\n  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v3.begin(), newLastElement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vec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v4( a, a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vec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c2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Vector v4 before removing all elements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greater than 9 and copying:\n  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v4.begin(), v4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py elements from v4 to c2, removing elements grea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an 9 in the process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remove_copy_if(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v4.begin(), v4.end(), c2.begin(), greater9 );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Vector c2 after removing all elements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greater than 9 from v4:\n  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c2.begin(), c2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4876560" y="837720"/>
            <a:ext cx="3733920" cy="977040"/>
            <a:chOff x="4876560" y="837720"/>
            <a:chExt cx="3733920" cy="977040"/>
          </a:xfrm>
        </p:grpSpPr>
        <p:sp>
          <p:nvSpPr>
            <p:cNvPr id="408" name=""/>
            <p:cNvSpPr/>
            <p:nvPr/>
          </p:nvSpPr>
          <p:spPr>
            <a:xfrm>
              <a:off x="5943600" y="9907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greater9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determine whether to remove the elem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 flipV="1">
              <a:off x="4876560" y="837720"/>
              <a:ext cx="10666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2590560" y="3200400"/>
            <a:ext cx="4876920" cy="838080"/>
            <a:chOff x="2590560" y="3200400"/>
            <a:chExt cx="4876920" cy="838080"/>
          </a:xfrm>
        </p:grpSpPr>
        <p:sp>
          <p:nvSpPr>
            <p:cNvPr id="411" name=""/>
            <p:cNvSpPr/>
            <p:nvPr/>
          </p:nvSpPr>
          <p:spPr>
            <a:xfrm>
              <a:off x="4038480" y="3200400"/>
              <a:ext cx="34290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e use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move_copy_if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2590560" y="33526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5BB22-C49D-4B2C-AD7F-A023CE4D7ABD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2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4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895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termine whether argument is greater than 9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reater9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 &g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greater9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15A41-6DE9-4326-8B9C-BF79079C0409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2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ector v before removing all 10s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 2 10 4 16 6 14 8 12 1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ector v after removing all 10s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 4 16 6 14 8 1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ector v2 before removing all 10s and copying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 2 10 4 16 6 14 8 12 1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ector c after removing all 10s from v2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 4 16 6 14 8 12 0 0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ector v3 before removing all elem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greater than 9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 2 10 4 16 6 14 8 12 1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ector v3 after removing all elem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greater than 9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 4 6 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ector v4 before removing all elem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greater than 9 and copying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 2 10 4 16 6 14 8 12 1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ector c2 after removing all elem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greater than 9 from v4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 4 6 8 0 0 0 0 0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CEB55-A110-4346-8C9F-C5B1D59FB9C6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5.4 replace, replace_if, replace_copy and replace_copy_if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place( iter1, iter2, value, newvalue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k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remov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except replace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w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place_if( iter1, iter2, function, newvalue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laces value i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unc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retur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place_copy(iter1, iter2, iter3, value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wvalue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laces and copies elements to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ter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es not affect origin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place_copy_if( iter1, iter2, iter3, function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newvalue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laces and copies elements to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ter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unc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retur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41515-3FB5-4BAB-8928-07F70A73D362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2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21.29: fig21_29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ndard library functions replace, replace_if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place_copy and replace_copy_if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algorith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vecto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reater9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ostream_itera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output( cout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vec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v1( a, a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ector v1 before replacing all 10s:\n  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v1.begin(), v1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3348E-4A64-4D43-9923-20C1E7F31D15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2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place 10s in v1 with 100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replace( v1.begin(), v1.end()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Vector v1 after replacing 10s with 100s:\n  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v1.begin(), v1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vec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v2( a, a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vec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c1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Vector v2 before replacing all 10s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and copying:\n  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v2.begin(), v2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py from v2 to c1, replacing 10s with 100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replace_copy(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v2.begin(), v2.end(), c1.begin()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Vector c1 after replacing all 10s in v2:\n  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c1.begin(), c1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vec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v3( a, a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Vector v3 before replacing values greater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than 9:\n  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v3.begin(), v3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4114440" y="247680"/>
            <a:ext cx="4724640" cy="3181320"/>
            <a:chOff x="4114440" y="247680"/>
            <a:chExt cx="4724640" cy="3181320"/>
          </a:xfrm>
        </p:grpSpPr>
        <p:sp>
          <p:nvSpPr>
            <p:cNvPr id="424" name=""/>
            <p:cNvSpPr/>
            <p:nvPr/>
          </p:nvSpPr>
          <p:spPr>
            <a:xfrm>
              <a:off x="6172200" y="2476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function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plac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place_cop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5028840" y="39996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4114440" y="399960"/>
              <a:ext cx="2057400" cy="302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CC312-121C-4698-A30F-AD95E336988F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2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place values greater than 9 in v3 with 100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replace_if( v3.begin(), v3.end(), greater9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nVector v3 after replacing all values greater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than 9 with 100s:\n  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v3.begin(), v3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vec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v4( a, a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vec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c2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Vector v4 before replacing all values greater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an 9 and copying:\n  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v4.begin(), v4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py v4 to c2, replacing elements greater than 9 with 1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replace_copy_if(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v4.begin(), v4.end(), c2.begin(), greater9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Vector c2 after replacing all values greater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than 9 in v4:\n  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c2.begin(), c2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7B770-9BFC-4DE0-8018-96A4DE67AF4E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2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4 of 4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2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1752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termine whether argument is greater than 9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reater9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 &g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reater9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1" name=""/>
          <p:cNvSpPr/>
          <p:nvPr/>
        </p:nvSpPr>
        <p:spPr>
          <a:xfrm>
            <a:off x="0" y="1752480"/>
            <a:ext cx="7010280" cy="4648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ector v1 before replacing all 10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 2 10 4 16 6 14 8 12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ector v1 after replacing 10s with 100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0 2 100 4 16 6 14 8 12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ector v2 before replacing all 10s and copy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 2 10 4 16 6 14 8 12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ector c1 after replacing all 10s in v2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0 2 100 4 16 6 14 8 12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ector v3 before replacing values greater than 9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 2 10 4 16 6 14 8 12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ector v3 after replacing all values gr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an 9 with 100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0 2 100 4 100 6 100 8 100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ector v4 before replacing all values greater than 9 and copy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 2 10 4 16 6 14 8 12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ector c2 after replacing all values greater than 9 in v4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0 2 100 4 100 6 100 8 100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49CC0-D572-4766-80EC-FE82A3CCF803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5.5 Mathematical Algorithm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andom_shuffle(iter1, iter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ly mixes elements in r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unt(iter1, iter2, valu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number of instances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r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unt_if(iter1, iter2, functio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nts number of instances that retu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in_element(iter1, iter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iterator to smallest 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x_element(iter1, iter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iterator to largest 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0B8D8-4EB0-4FF9-865B-BAC05B2258A7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9T20:28:09Z</dcterms:created>
  <dc:creator>kalid</dc:creator>
  <dc:description/>
  <dc:language>en-US</dc:language>
  <cp:lastModifiedBy>Pearson Education</cp:lastModifiedBy>
  <dcterms:modified xsi:type="dcterms:W3CDTF">2002-10-01T19:54:26Z</dcterms:modified>
  <cp:revision>1091</cp:revision>
  <dc:subject/>
  <dc:title>PowerPoint Presentation</dc:title>
</cp:coreProperties>
</file>