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470E-1B00-4C49-95DB-CF6146DC7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F913-2CEE-479E-A19C-05AE53529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F152-A860-4E48-AEC5-D33022496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A7A9-4378-45CB-97EC-AA1B17C28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3A54-3907-4E3F-8C70-2D809A3110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FC97-E30C-4184-A37F-B86D4281E4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CC097-566F-4F18-8745-334940F923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4D88-10A4-443D-A033-067DA55576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3034-BAD0-497E-A502-2EF1BEA0E3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8D6D-D0D0-473A-9FB5-015D4079C8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43F2-B2EF-489E-9147-51FFEC5F5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8F31-663A-45B4-9B62-1B841E9F1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E5F0-3FCA-4E92-9DA2-DB256AF44C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BFE5-1E58-4E59-9C5A-86853165EB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0A5D-E9A3-4209-9C74-2CFD0A3991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9DB66-3B28-47E0-836C-F861C763E4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A48D-CAAD-45B5-9CB9-42575093D9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941C-F071-4D13-805E-20ED787C0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59D1-4A88-448D-BB02-554EA91B1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9543-1703-429A-93EE-839230972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413E-3ACE-4A2B-B875-4E2A651C5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9E41-4ECF-42C3-9A29-2EE693BF1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6D10-45FC-4363-97B4-34D30B86B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A42B-A8CC-4431-8056-468C93B21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4854-52BA-458F-B14E-5A5EE262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7480-A596-482E-BBA8-B0952A316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9 - Object-Oriented Programming: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ase Classes and Derived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lationship between Base Classes and Derived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Three-Level Inheritance Hierarch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structors and Destructors in Derived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“Uses A” and “Knows A” Relationship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Inherita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ftware Engineering with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F886-14AB-490C-9F25-0FDFACF1B1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21120" y="3546360"/>
            <a:ext cx="19080" cy="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14800" y="3951360"/>
            <a:ext cx="1908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1640" y="3043080"/>
            <a:ext cx="20880" cy="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37160" y="3159000"/>
            <a:ext cx="180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9280" y="3546360"/>
            <a:ext cx="19080" cy="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25600" y="3951360"/>
            <a:ext cx="19080" cy="1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2440" y="4357800"/>
            <a:ext cx="19080" cy="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16120" y="4764240"/>
            <a:ext cx="19080" cy="1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40040" y="4357800"/>
            <a:ext cx="19080" cy="1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27280" y="4764240"/>
            <a:ext cx="20520" cy="1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5576760"/>
            <a:ext cx="20520" cy="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8720" y="5576760"/>
            <a:ext cx="19080" cy="1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3875040"/>
            <a:ext cx="1908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990960"/>
            <a:ext cx="1440" cy="19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3160" y="4686480"/>
            <a:ext cx="2088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68680" y="4802040"/>
            <a:ext cx="1800" cy="20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13160" y="5499000"/>
            <a:ext cx="20880" cy="1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68680" y="5614920"/>
            <a:ext cx="180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69720" y="2057400"/>
            <a:ext cx="8469360" cy="3363840"/>
            <a:chOff x="369720" y="2057400"/>
            <a:chExt cx="8469360" cy="3363840"/>
          </a:xfrm>
        </p:grpSpPr>
        <p:grpSp>
          <p:nvGrpSpPr>
            <p:cNvPr id="173" name=""/>
            <p:cNvGrpSpPr/>
            <p:nvPr/>
          </p:nvGrpSpPr>
          <p:grpSpPr>
            <a:xfrm>
              <a:off x="3503160" y="2057400"/>
              <a:ext cx="1792440" cy="458640"/>
              <a:chOff x="3503160" y="2057400"/>
              <a:chExt cx="1792440" cy="4586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504960" y="2057400"/>
                <a:ext cx="1790640" cy="458640"/>
                <a:chOff x="3504960" y="2057400"/>
                <a:chExt cx="1790640" cy="458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504960" y="2057400"/>
                  <a:ext cx="17906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504960" y="2057400"/>
                  <a:ext cx="17906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503160" y="2195640"/>
                <a:ext cx="1792440" cy="25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Sha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42760" y="3370320"/>
              <a:ext cx="2636640" cy="458640"/>
              <a:chOff x="842760" y="3370320"/>
              <a:chExt cx="2636640" cy="458640"/>
            </a:xfrm>
          </p:grpSpPr>
          <p:sp>
            <p:nvSpPr>
              <p:cNvPr id="179" name=""/>
              <p:cNvSpPr/>
              <p:nvPr/>
            </p:nvSpPr>
            <p:spPr>
              <a:xfrm>
                <a:off x="842760" y="3370320"/>
                <a:ext cx="26366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19991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1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42760" y="3370320"/>
                <a:ext cx="26366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19991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1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840960" y="3508200"/>
              <a:ext cx="26384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TwoDimensional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5393880" y="3370320"/>
              <a:ext cx="2637000" cy="458640"/>
              <a:chOff x="5393880" y="3370320"/>
              <a:chExt cx="2637000" cy="45864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5395680" y="3370320"/>
                <a:ext cx="2635200" cy="458640"/>
                <a:chOff x="5395680" y="3370320"/>
                <a:chExt cx="2635200" cy="4586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395680" y="3370320"/>
                  <a:ext cx="263520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95680" y="3370320"/>
                  <a:ext cx="263520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5393880" y="3508200"/>
                <a:ext cx="263700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ThreeDimensionalSha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71160" y="4962600"/>
              <a:ext cx="1093680" cy="458640"/>
              <a:chOff x="371160" y="4962600"/>
              <a:chExt cx="1093680" cy="458640"/>
            </a:xfrm>
          </p:grpSpPr>
          <p:sp>
            <p:nvSpPr>
              <p:cNvPr id="188" name=""/>
              <p:cNvSpPr/>
              <p:nvPr/>
            </p:nvSpPr>
            <p:spPr>
              <a:xfrm>
                <a:off x="3711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711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69720" y="5100480"/>
              <a:ext cx="1095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614240" y="4962600"/>
              <a:ext cx="1095480" cy="458640"/>
              <a:chOff x="1614240" y="4962600"/>
              <a:chExt cx="1095480" cy="458640"/>
            </a:xfrm>
          </p:grpSpPr>
          <p:sp>
            <p:nvSpPr>
              <p:cNvPr id="192" name=""/>
              <p:cNvSpPr/>
              <p:nvPr/>
            </p:nvSpPr>
            <p:spPr>
              <a:xfrm>
                <a:off x="1614240" y="4962600"/>
                <a:ext cx="10954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614240" y="4962600"/>
                <a:ext cx="10954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612440" y="5100480"/>
              <a:ext cx="10972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858760" y="4962600"/>
              <a:ext cx="1093680" cy="458640"/>
              <a:chOff x="2858760" y="4962600"/>
              <a:chExt cx="1093680" cy="458640"/>
            </a:xfrm>
          </p:grpSpPr>
          <p:sp>
            <p:nvSpPr>
              <p:cNvPr id="196" name=""/>
              <p:cNvSpPr/>
              <p:nvPr/>
            </p:nvSpPr>
            <p:spPr>
              <a:xfrm>
                <a:off x="28587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587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2857320" y="5100480"/>
              <a:ext cx="1095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Tri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4909680" y="4962600"/>
              <a:ext cx="1094040" cy="458640"/>
              <a:chOff x="4909680" y="4962600"/>
              <a:chExt cx="1094040" cy="458640"/>
            </a:xfrm>
          </p:grpSpPr>
          <p:sp>
            <p:nvSpPr>
              <p:cNvPr id="200" name=""/>
              <p:cNvSpPr/>
              <p:nvPr/>
            </p:nvSpPr>
            <p:spPr>
              <a:xfrm>
                <a:off x="4909680" y="4962600"/>
                <a:ext cx="10940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909680" y="4962600"/>
                <a:ext cx="10940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908240" y="5100480"/>
              <a:ext cx="10954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151320" y="4962600"/>
              <a:ext cx="1095480" cy="458640"/>
              <a:chOff x="6151320" y="4962600"/>
              <a:chExt cx="1095480" cy="4586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6152760" y="4962600"/>
                <a:ext cx="1094040" cy="458640"/>
                <a:chOff x="6152760" y="4962600"/>
                <a:chExt cx="1094040" cy="458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152760" y="4962600"/>
                  <a:ext cx="10940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7" y="0"/>
                      </a:moveTo>
                      <a:lnTo>
                        <a:pt x="19977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77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152760" y="4962600"/>
                  <a:ext cx="10940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7" y="0"/>
                      </a:moveTo>
                      <a:lnTo>
                        <a:pt x="19977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77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151320" y="5100480"/>
                <a:ext cx="109548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Cub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395840" y="4962600"/>
              <a:ext cx="1443240" cy="458640"/>
              <a:chOff x="7395840" y="4962600"/>
              <a:chExt cx="1443240" cy="4586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7397640" y="4962600"/>
                <a:ext cx="1441440" cy="458640"/>
                <a:chOff x="7397640" y="4962600"/>
                <a:chExt cx="1441440" cy="4586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397640" y="4962600"/>
                  <a:ext cx="14414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19983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3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397640" y="4962600"/>
                  <a:ext cx="14414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19983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3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7395840" y="5100480"/>
                <a:ext cx="144324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Tetrahedr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06440" y="2516040"/>
              <a:ext cx="2585880" cy="854280"/>
              <a:chOff x="3106440" y="2516040"/>
              <a:chExt cx="2585880" cy="854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106440" y="2516040"/>
                <a:ext cx="646200" cy="854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2"/>
                    </a:moveTo>
                    <a:lnTo>
                      <a:pt x="19962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45400" y="2516040"/>
                <a:ext cx="646920" cy="854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62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917280" y="3828960"/>
              <a:ext cx="2487600" cy="1133640"/>
              <a:chOff x="917280" y="3828960"/>
              <a:chExt cx="2487600" cy="113364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0000" y="3828960"/>
                <a:ext cx="108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17280" y="3828960"/>
                <a:ext cx="85212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71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53120" y="3828960"/>
                <a:ext cx="85176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1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470200" y="3828960"/>
              <a:ext cx="2486160" cy="1133640"/>
              <a:chOff x="5470200" y="3828960"/>
              <a:chExt cx="2486160" cy="1133640"/>
            </a:xfrm>
          </p:grpSpPr>
          <p:sp>
            <p:nvSpPr>
              <p:cNvPr id="221" name=""/>
              <p:cNvSpPr/>
              <p:nvPr/>
            </p:nvSpPr>
            <p:spPr>
              <a:xfrm>
                <a:off x="6711840" y="3828960"/>
                <a:ext cx="108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70200" y="3828960"/>
                <a:ext cx="85104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71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04960" y="3828960"/>
                <a:ext cx="85140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1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693720" y="1144440"/>
            <a:ext cx="37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. 9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eritance hierarchy for Shap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0898-D641-4AA4-8A54-950773CD91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wi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TwoDimensionalShape : public 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from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ccessible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inher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e through inherited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with original member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her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C539-788F-482F-8117-38092EB71F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mediate level of protection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accessible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s of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y use member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882C-622D-4C43-A515-8608CA85CD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lationship between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and derived class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Point/circle inheritanc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0AA7-24B6-4AEE-B0D3-E9F8C0D75A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4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190760" y="3657600"/>
            <a:ext cx="4115160" cy="838080"/>
            <a:chOff x="4190760" y="3657600"/>
            <a:chExt cx="4115160" cy="838080"/>
          </a:xfrm>
        </p:grpSpPr>
        <p:sp>
          <p:nvSpPr>
            <p:cNvPr id="234" name=""/>
            <p:cNvSpPr/>
            <p:nvPr/>
          </p:nvSpPr>
          <p:spPr>
            <a:xfrm>
              <a:off x="5638680" y="3657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coordinate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190760" y="3809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ED97-2D3C-4DD7-88F4-5FDD500559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5: poi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: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1E34-3A09-41AB-97C1-C7E97B801C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BB2B-2342-48C8-A786-775DF8DB88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3378-0D4B-47F5-896D-36FE58A72B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6: pointte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Poi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oint.getX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oint.ge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poi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of poin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857320" y="1828800"/>
            <a:ext cx="4115160" cy="838080"/>
            <a:chOff x="2857320" y="1828800"/>
            <a:chExt cx="4115160" cy="838080"/>
          </a:xfrm>
        </p:grpSpPr>
        <p:sp>
          <p:nvSpPr>
            <p:cNvPr id="245" name=""/>
            <p:cNvSpPr/>
            <p:nvPr/>
          </p:nvSpPr>
          <p:spPr>
            <a:xfrm>
              <a:off x="4305240" y="18288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85732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895480" y="3311640"/>
            <a:ext cx="4114800" cy="838080"/>
            <a:chOff x="2895480" y="3311640"/>
            <a:chExt cx="4114800" cy="838080"/>
          </a:xfrm>
        </p:grpSpPr>
        <p:sp>
          <p:nvSpPr>
            <p:cNvPr id="248" name=""/>
            <p:cNvSpPr/>
            <p:nvPr/>
          </p:nvSpPr>
          <p:spPr>
            <a:xfrm>
              <a:off x="4343400" y="3311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set functions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89548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267080"/>
            <a:ext cx="4114800" cy="838440"/>
            <a:chOff x="2057400" y="4267080"/>
            <a:chExt cx="4114800" cy="838440"/>
          </a:xfrm>
        </p:grpSpPr>
        <p:sp>
          <p:nvSpPr>
            <p:cNvPr id="251" name=""/>
            <p:cNvSpPr/>
            <p:nvPr/>
          </p:nvSpPr>
          <p:spPr>
            <a:xfrm>
              <a:off x="3505320" y="4267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isplay new 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057400" y="4419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2B5A-3130-42F9-A089-9680239AE5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90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8380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1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of point is [10, 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5A73-F4A3-42CA-AEFB-1ADBFC01E9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new class from existing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rb existing class’s data and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 with new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 inherits from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specialized group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s inherited from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usto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9207-391A-4A3D-B020-4AC271EBD3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7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514600" y="2473200"/>
            <a:ext cx="4114800" cy="838440"/>
            <a:chOff x="2514600" y="2473200"/>
            <a:chExt cx="4114800" cy="838440"/>
          </a:xfrm>
        </p:grpSpPr>
        <p:sp>
          <p:nvSpPr>
            <p:cNvPr id="259" name=""/>
            <p:cNvSpPr/>
            <p:nvPr/>
          </p:nvSpPr>
          <p:spPr>
            <a:xfrm>
              <a:off x="3962520" y="2473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ode simila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514600" y="26258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4D51-27F3-4D70-ACDC-FFE2382EF7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-coordinate of Circle's ce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-coordinate of Circle's ce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904760" y="304920"/>
            <a:ext cx="4115160" cy="838080"/>
            <a:chOff x="1904760" y="304920"/>
            <a:chExt cx="4115160" cy="838080"/>
          </a:xfrm>
        </p:grpSpPr>
        <p:sp>
          <p:nvSpPr>
            <p:cNvPr id="264" name=""/>
            <p:cNvSpPr/>
            <p:nvPr/>
          </p:nvSpPr>
          <p:spPr>
            <a:xfrm>
              <a:off x="3352680" y="3049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ordinate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904760" y="457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1139400"/>
            <a:ext cx="4572360" cy="889200"/>
            <a:chOff x="1447560" y="1139400"/>
            <a:chExt cx="4572360" cy="889200"/>
          </a:xfrm>
        </p:grpSpPr>
        <p:sp>
          <p:nvSpPr>
            <p:cNvPr id="267" name=""/>
            <p:cNvSpPr/>
            <p:nvPr/>
          </p:nvSpPr>
          <p:spPr>
            <a:xfrm>
              <a:off x="3352680" y="1447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ode simila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1447560" y="1139400"/>
              <a:ext cx="190476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5BEC-275C-4CA3-8702-16E324E1E6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8: circ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: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B9C7-1089-4946-9184-CB78F63B06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91EB-292C-407D-8A43-B3E4922886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895480" y="1066680"/>
            <a:ext cx="4114800" cy="1037880"/>
            <a:chOff x="2895480" y="1066680"/>
            <a:chExt cx="4114800" cy="1037880"/>
          </a:xfrm>
        </p:grpSpPr>
        <p:sp>
          <p:nvSpPr>
            <p:cNvPr id="276" name=""/>
            <p:cNvSpPr/>
            <p:nvPr/>
          </p:nvSpPr>
          <p:spPr>
            <a:xfrm>
              <a:off x="4343400" y="1523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sure non-negative valu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895480" y="10666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6A64-2C96-48D6-9814-EA89A2E4F5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E0BA-D333-4A5D-9B53-267D0B5C83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9: circlete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irc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857320" y="2819520"/>
            <a:ext cx="4115160" cy="838080"/>
            <a:chOff x="2857320" y="2819520"/>
            <a:chExt cx="4115160" cy="838080"/>
          </a:xfrm>
        </p:grpSpPr>
        <p:sp>
          <p:nvSpPr>
            <p:cNvPr id="283" name=""/>
            <p:cNvSpPr/>
            <p:nvPr/>
          </p:nvSpPr>
          <p:spPr>
            <a:xfrm>
              <a:off x="430524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85732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AC8C-0918-4CCC-87E6-7966A4D742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poi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14600" y="415440"/>
            <a:ext cx="3962520" cy="1114560"/>
            <a:chOff x="2514600" y="415440"/>
            <a:chExt cx="3962520" cy="1114560"/>
          </a:xfrm>
        </p:grpSpPr>
        <p:sp>
          <p:nvSpPr>
            <p:cNvPr id="288" name=""/>
            <p:cNvSpPr/>
            <p:nvPr/>
          </p:nvSpPr>
          <p:spPr>
            <a:xfrm>
              <a:off x="3809880" y="949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set functions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2514600" y="41544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09320" y="1599840"/>
            <a:ext cx="4267800" cy="824400"/>
            <a:chOff x="2209320" y="1599840"/>
            <a:chExt cx="4267800" cy="824400"/>
          </a:xfrm>
        </p:grpSpPr>
        <p:sp>
          <p:nvSpPr>
            <p:cNvPr id="291" name=""/>
            <p:cNvSpPr/>
            <p:nvPr/>
          </p:nvSpPr>
          <p:spPr>
            <a:xfrm>
              <a:off x="3809880" y="1600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isplay new 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2209320" y="1599840"/>
              <a:ext cx="1600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C1C0-EC37-465C-B631-7B02E2D4F9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is 56.7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C400-2C9A-4028-8A34-BA30B7DE88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0: circl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09680" y="838080"/>
            <a:ext cx="4114800" cy="838440"/>
            <a:chOff x="2209680" y="838080"/>
            <a:chExt cx="4114800" cy="838440"/>
          </a:xfrm>
        </p:grpSpPr>
        <p:sp>
          <p:nvSpPr>
            <p:cNvPr id="298" name=""/>
            <p:cNvSpPr/>
            <p:nvPr/>
          </p:nvSpPr>
          <p:spPr>
            <a:xfrm>
              <a:off x="36576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2096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133360" y="4648320"/>
            <a:ext cx="4115160" cy="838080"/>
            <a:chOff x="2133360" y="4648320"/>
            <a:chExt cx="4115160" cy="838080"/>
          </a:xfrm>
        </p:grpSpPr>
        <p:sp>
          <p:nvSpPr>
            <p:cNvPr id="301" name=""/>
            <p:cNvSpPr/>
            <p:nvPr/>
          </p:nvSpPr>
          <p:spPr>
            <a:xfrm>
              <a:off x="3581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33360" y="480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120" y="1904760"/>
            <a:ext cx="3962880" cy="870840"/>
            <a:chOff x="1752120" y="1904760"/>
            <a:chExt cx="3962880" cy="870840"/>
          </a:xfrm>
        </p:grpSpPr>
        <p:sp>
          <p:nvSpPr>
            <p:cNvPr id="304" name=""/>
            <p:cNvSpPr/>
            <p:nvPr/>
          </p:nvSpPr>
          <p:spPr>
            <a:xfrm>
              <a:off x="3048120" y="2438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on indicates inheri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752120" y="190476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209320" y="1904760"/>
            <a:ext cx="3886560" cy="1114200"/>
            <a:chOff x="2209320" y="1904760"/>
            <a:chExt cx="3886560" cy="1114200"/>
          </a:xfrm>
        </p:grpSpPr>
        <p:sp>
          <p:nvSpPr>
            <p:cNvPr id="307" name=""/>
            <p:cNvSpPr/>
            <p:nvPr/>
          </p:nvSpPr>
          <p:spPr>
            <a:xfrm>
              <a:off x="342900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type of inheri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209320" y="19047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CCA7-489D-4F73-AC72-C87EDCBB8F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explicitly (one level up hierarc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rect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two or more levels up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s from on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s from multiple bas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es possibly un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D106-9404-4805-A4B5-92DD12B452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37160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1: circle2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 class member-function 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2::Circle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x = x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y = y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2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828800" y="3311640"/>
            <a:ext cx="4114800" cy="1067400"/>
            <a:chOff x="1828800" y="3311640"/>
            <a:chExt cx="4114800" cy="1067400"/>
          </a:xfrm>
        </p:grpSpPr>
        <p:sp>
          <p:nvSpPr>
            <p:cNvPr id="313" name=""/>
            <p:cNvSpPr/>
            <p:nvPr/>
          </p:nvSpPr>
          <p:spPr>
            <a:xfrm>
              <a:off x="3276720" y="33116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access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syntax err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2880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A350-ED19-46A7-9E69-673EF6BD44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0C47-B63B-413C-8007-6A4B6E94DE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out &lt;&lt; "Center = [" &lt;&lt; x &lt;&lt; ", " &lt;&lt; y &lt;&lt; ']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048120" y="2806560"/>
            <a:ext cx="4495680" cy="1079640"/>
            <a:chOff x="3048120" y="2806560"/>
            <a:chExt cx="4495680" cy="1079640"/>
          </a:xfrm>
        </p:grpSpPr>
        <p:sp>
          <p:nvSpPr>
            <p:cNvPr id="320" name=""/>
            <p:cNvSpPr/>
            <p:nvPr/>
          </p:nvSpPr>
          <p:spPr>
            <a:xfrm>
              <a:off x="4876920" y="28065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access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syntax err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048120" y="2959200"/>
              <a:ext cx="182880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190760" y="2959200"/>
              <a:ext cx="68580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2118-15FA-4C30-926F-7FA260F570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26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12) : error C2248: 'x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0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x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13) : error C2248: 'y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1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y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56) : error C2248: 'x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0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e declaration of 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56) : error C2248: 'y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1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e declaration of 'y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038480" y="837720"/>
            <a:ext cx="4229280" cy="3957120"/>
            <a:chOff x="4038480" y="837720"/>
            <a:chExt cx="4229280" cy="3957120"/>
          </a:xfrm>
        </p:grpSpPr>
        <p:sp>
          <p:nvSpPr>
            <p:cNvPr id="326" name=""/>
            <p:cNvSpPr/>
            <p:nvPr/>
          </p:nvSpPr>
          <p:spPr>
            <a:xfrm>
              <a:off x="5600880" y="37274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access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syntax err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4914720" y="837720"/>
              <a:ext cx="685800" cy="30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4572000" y="1828440"/>
              <a:ext cx="1028880" cy="20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4038480" y="2971800"/>
              <a:ext cx="156240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038480" y="3879720"/>
              <a:ext cx="1562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154B-8D0A-432A-855F-08B54AF544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2: point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: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523520" y="3416400"/>
            <a:ext cx="4115160" cy="1067400"/>
            <a:chOff x="1523520" y="3416400"/>
            <a:chExt cx="4115160" cy="1067400"/>
          </a:xfrm>
        </p:grpSpPr>
        <p:sp>
          <p:nvSpPr>
            <p:cNvPr id="334" name=""/>
            <p:cNvSpPr/>
            <p:nvPr/>
          </p:nvSpPr>
          <p:spPr>
            <a:xfrm>
              <a:off x="2971440" y="3416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coordinate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, accessible to derived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523520" y="356868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E8CB-AF8D-4F08-883C-0F95D25041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3: point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2::Point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2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5756-460C-49AB-BB87-5AB97F7730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774B-3EEF-40C3-9B3A-DB241A777F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5589-DC86-4040-A48C-F2176DE593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4: circl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Circle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904760" y="838080"/>
            <a:ext cx="4115160" cy="838440"/>
            <a:chOff x="1904760" y="838080"/>
            <a:chExt cx="4115160" cy="838440"/>
          </a:xfrm>
        </p:grpSpPr>
        <p:sp>
          <p:nvSpPr>
            <p:cNvPr id="345" name=""/>
            <p:cNvSpPr/>
            <p:nvPr/>
          </p:nvSpPr>
          <p:spPr>
            <a:xfrm>
              <a:off x="3352680" y="838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904760" y="990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133360" y="4648320"/>
            <a:ext cx="4115160" cy="838080"/>
            <a:chOff x="2133360" y="4648320"/>
            <a:chExt cx="4115160" cy="838080"/>
          </a:xfrm>
        </p:grpSpPr>
        <p:sp>
          <p:nvSpPr>
            <p:cNvPr id="348" name=""/>
            <p:cNvSpPr/>
            <p:nvPr/>
          </p:nvSpPr>
          <p:spPr>
            <a:xfrm>
              <a:off x="3581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133360" y="480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5E9D8-EBF8-4FBE-A9C6-819B77A289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C2EF-3BF9-4E55-83E9-9740B30126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object of derived class also object of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objects not objects of deriv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All cars vehicles, but not all vehicl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ccess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s of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can effect change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-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 inherited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to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F1C8-5BDC-4600-8A42-F827F525F7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5: circle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3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3::Circle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ircle3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828800" y="1828800"/>
            <a:ext cx="4114800" cy="1079640"/>
            <a:chOff x="1828800" y="1828800"/>
            <a:chExt cx="4114800" cy="1079640"/>
          </a:xfrm>
        </p:grpSpPr>
        <p:sp>
          <p:nvSpPr>
            <p:cNvPr id="355" name=""/>
            <p:cNvSpPr/>
            <p:nvPr/>
          </p:nvSpPr>
          <p:spPr>
            <a:xfrm>
              <a:off x="3276720" y="18288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inherited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8288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1828800" y="1981080"/>
              <a:ext cx="144792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76160" y="1600200"/>
            <a:ext cx="4115160" cy="838080"/>
            <a:chOff x="1676160" y="1600200"/>
            <a:chExt cx="4115160" cy="838080"/>
          </a:xfrm>
        </p:grpSpPr>
        <p:sp>
          <p:nvSpPr>
            <p:cNvPr id="359" name=""/>
            <p:cNvSpPr/>
            <p:nvPr/>
          </p:nvSpPr>
          <p:spPr>
            <a:xfrm>
              <a:off x="3124080" y="1600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first implicitly calls base class’s default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676160" y="1752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46B1-238E-46CA-97D9-4A0A13AEB73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C966-EFF1-446A-A25B-7FD552A9A36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971800" y="1289160"/>
            <a:ext cx="4952880" cy="1079280"/>
            <a:chOff x="2971800" y="1289160"/>
            <a:chExt cx="4952880" cy="1079280"/>
          </a:xfrm>
        </p:grpSpPr>
        <p:sp>
          <p:nvSpPr>
            <p:cNvPr id="366" name=""/>
            <p:cNvSpPr/>
            <p:nvPr/>
          </p:nvSpPr>
          <p:spPr>
            <a:xfrm>
              <a:off x="5257800" y="12891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inherited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971800" y="1441440"/>
              <a:ext cx="228600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190760" y="1441440"/>
              <a:ext cx="106668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AA3D-20EC-41A3-B7D4-7213864D14B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6: circletest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ircle3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3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3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Circle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724280" y="3484440"/>
            <a:ext cx="4114800" cy="1163880"/>
            <a:chOff x="4724280" y="3484440"/>
            <a:chExt cx="4114800" cy="1163880"/>
          </a:xfrm>
        </p:grpSpPr>
        <p:sp>
          <p:nvSpPr>
            <p:cNvPr id="372" name=""/>
            <p:cNvSpPr/>
            <p:nvPr/>
          </p:nvSpPr>
          <p:spPr>
            <a:xfrm>
              <a:off x="6172200" y="34844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get functions to access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72428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876920" y="3637080"/>
              <a:ext cx="129528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857320" y="2798640"/>
            <a:ext cx="4115160" cy="838440"/>
            <a:chOff x="2857320" y="2798640"/>
            <a:chExt cx="4115160" cy="838440"/>
          </a:xfrm>
        </p:grpSpPr>
        <p:sp>
          <p:nvSpPr>
            <p:cNvPr id="376" name=""/>
            <p:cNvSpPr/>
            <p:nvPr/>
          </p:nvSpPr>
          <p:spPr>
            <a:xfrm>
              <a:off x="4305240" y="279864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857320" y="2951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876920" y="4038480"/>
            <a:ext cx="3962160" cy="838440"/>
            <a:chOff x="4876920" y="4038480"/>
            <a:chExt cx="3962160" cy="838440"/>
          </a:xfrm>
        </p:grpSpPr>
        <p:sp>
          <p:nvSpPr>
            <p:cNvPr id="379" name=""/>
            <p:cNvSpPr/>
            <p:nvPr/>
          </p:nvSpPr>
          <p:spPr>
            <a:xfrm>
              <a:off x="617220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et function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876920" y="419112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432F-8311-47E7-9EE0-CB26D2DEE3A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poi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3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3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3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1960" y="304560"/>
            <a:ext cx="4724640" cy="1055880"/>
            <a:chOff x="2361960" y="304560"/>
            <a:chExt cx="4724640" cy="1055880"/>
          </a:xfrm>
        </p:grpSpPr>
        <p:sp>
          <p:nvSpPr>
            <p:cNvPr id="384" name=""/>
            <p:cNvSpPr/>
            <p:nvPr/>
          </p:nvSpPr>
          <p:spPr>
            <a:xfrm>
              <a:off x="4419720" y="536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set functions to modif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2361960" y="304560"/>
              <a:ext cx="2057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2361960" y="53640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123720" y="730080"/>
            <a:ext cx="3962880" cy="1087560"/>
            <a:chOff x="3123720" y="730080"/>
            <a:chExt cx="3962880" cy="1087560"/>
          </a:xfrm>
        </p:grpSpPr>
        <p:sp>
          <p:nvSpPr>
            <p:cNvPr id="388" name=""/>
            <p:cNvSpPr/>
            <p:nvPr/>
          </p:nvSpPr>
          <p:spPr>
            <a:xfrm>
              <a:off x="441972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t function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123720" y="730080"/>
              <a:ext cx="129564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BACB-832E-44E6-9013-67D1D64C9E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56.7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0EE0-DEDA-4DAE-B579-3FC01E6397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lationship between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es can modify values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ight increase i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set/get function call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validity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can assign illeg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member functions more likely dependent on base class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implementation changes may result in derived class mod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ile (brittle)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4836-687A-41E6-BEE1-874201F31D8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7: point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47920" y="3429000"/>
            <a:ext cx="4114800" cy="837720"/>
            <a:chOff x="1447920" y="3429000"/>
            <a:chExt cx="4114800" cy="837720"/>
          </a:xfrm>
        </p:grpSpPr>
        <p:sp>
          <p:nvSpPr>
            <p:cNvPr id="397" name=""/>
            <p:cNvSpPr/>
            <p:nvPr/>
          </p:nvSpPr>
          <p:spPr>
            <a:xfrm>
              <a:off x="2895840" y="3429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tter software-engineering practice: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v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hen pos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447920" y="35812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85DE-6B17-4EB0-858D-F46B936725E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8: point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3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3::Point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3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276360" y="1600200"/>
            <a:ext cx="4115160" cy="838080"/>
            <a:chOff x="3276360" y="1600200"/>
            <a:chExt cx="4115160" cy="838080"/>
          </a:xfrm>
        </p:grpSpPr>
        <p:sp>
          <p:nvSpPr>
            <p:cNvPr id="402" name=""/>
            <p:cNvSpPr/>
            <p:nvPr/>
          </p:nvSpPr>
          <p:spPr>
            <a:xfrm>
              <a:off x="4724280" y="1600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s specify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276360" y="1752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AAF8-BE23-4BA1-9AB8-0EB71001AC3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5634-A400-4FC8-8779-E1362F8026C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cus on commonalities among objects in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-a” vs. “has-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-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object treated as base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a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icle properties/behaviors also car properties/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-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contains one or more objects of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a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eering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DDC7-2377-4D22-837E-D35960438B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514600" y="1066320"/>
            <a:ext cx="4952880" cy="1357920"/>
            <a:chOff x="2514600" y="1066320"/>
            <a:chExt cx="4952880" cy="1357920"/>
          </a:xfrm>
        </p:grpSpPr>
        <p:sp>
          <p:nvSpPr>
            <p:cNvPr id="409" name=""/>
            <p:cNvSpPr/>
            <p:nvPr/>
          </p:nvSpPr>
          <p:spPr>
            <a:xfrm>
              <a:off x="4800600" y="1600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14600" y="1066320"/>
              <a:ext cx="2286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10663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93E5-E6FF-4D1C-A515-CB17EBAA290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9: circl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3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828800" y="914400"/>
            <a:ext cx="4114800" cy="837720"/>
            <a:chOff x="1828800" y="914400"/>
            <a:chExt cx="4114800" cy="837720"/>
          </a:xfrm>
        </p:grpSpPr>
        <p:sp>
          <p:nvSpPr>
            <p:cNvPr id="415" name=""/>
            <p:cNvSpPr/>
            <p:nvPr/>
          </p:nvSpPr>
          <p:spPr>
            <a:xfrm>
              <a:off x="327672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1828800" y="10666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133360" y="4648320"/>
            <a:ext cx="4115160" cy="838080"/>
            <a:chOff x="2133360" y="4648320"/>
            <a:chExt cx="4115160" cy="838080"/>
          </a:xfrm>
        </p:grpSpPr>
        <p:sp>
          <p:nvSpPr>
            <p:cNvPr id="418" name=""/>
            <p:cNvSpPr/>
            <p:nvPr/>
          </p:nvSpPr>
          <p:spPr>
            <a:xfrm>
              <a:off x="3581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133360" y="480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5AB4-11D1-45A8-88B3-3B1ED74F47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9DF5-8DF9-443F-8599-FBCA1C15B41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0: circle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Circle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4::Circle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3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4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286000" y="1523880"/>
            <a:ext cx="4114800" cy="838440"/>
            <a:chOff x="2286000" y="1523880"/>
            <a:chExt cx="4114800" cy="838440"/>
          </a:xfrm>
        </p:grpSpPr>
        <p:sp>
          <p:nvSpPr>
            <p:cNvPr id="425" name=""/>
            <p:cNvSpPr/>
            <p:nvPr/>
          </p:nvSpPr>
          <p:spPr>
            <a:xfrm>
              <a:off x="373392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initializer syntax passes arguments to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28600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DEA1-5FF6-4C06-BE1F-7AF9F93E597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514600" y="1523880"/>
            <a:ext cx="4114800" cy="838440"/>
            <a:chOff x="2514600" y="1523880"/>
            <a:chExt cx="4114800" cy="838440"/>
          </a:xfrm>
        </p:grpSpPr>
        <p:sp>
          <p:nvSpPr>
            <p:cNvPr id="430" name=""/>
            <p:cNvSpPr/>
            <p:nvPr/>
          </p:nvSpPr>
          <p:spPr>
            <a:xfrm>
              <a:off x="396252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ather than directly accessing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51460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6E6E-F2E6-42D5-A9E2-F45441C2B2A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3::print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3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743200" y="1066320"/>
            <a:ext cx="4038480" cy="1753200"/>
            <a:chOff x="2743200" y="1066320"/>
            <a:chExt cx="4038480" cy="1753200"/>
          </a:xfrm>
        </p:grpSpPr>
        <p:sp>
          <p:nvSpPr>
            <p:cNvPr id="435" name=""/>
            <p:cNvSpPr/>
            <p:nvPr/>
          </p:nvSpPr>
          <p:spPr>
            <a:xfrm>
              <a:off x="4114800" y="1521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ather than directly accessing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3733920" y="1066320"/>
              <a:ext cx="380880" cy="60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743200" y="1066320"/>
              <a:ext cx="1371600" cy="60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276720" y="1673280"/>
              <a:ext cx="838080" cy="11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95480" y="990720"/>
            <a:ext cx="4114800" cy="838080"/>
            <a:chOff x="2895480" y="990720"/>
            <a:chExt cx="4114800" cy="838080"/>
          </a:xfrm>
        </p:grpSpPr>
        <p:sp>
          <p:nvSpPr>
            <p:cNvPr id="440" name=""/>
            <p:cNvSpPr/>
            <p:nvPr/>
          </p:nvSpPr>
          <p:spPr>
            <a:xfrm>
              <a:off x="434340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89548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286000" y="1828800"/>
            <a:ext cx="4114800" cy="1067400"/>
            <a:chOff x="2286000" y="1828800"/>
            <a:chExt cx="4114800" cy="1067400"/>
          </a:xfrm>
        </p:grpSpPr>
        <p:sp>
          <p:nvSpPr>
            <p:cNvPr id="443" name=""/>
            <p:cNvSpPr/>
            <p:nvPr/>
          </p:nvSpPr>
          <p:spPr>
            <a:xfrm>
              <a:off x="3733920" y="18288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2860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FDEF-C8BB-441E-AA5E-FBF70BF6C7A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1: circletest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ircle4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4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Circle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895120" y="2819520"/>
            <a:ext cx="4115160" cy="838080"/>
            <a:chOff x="2895120" y="2819520"/>
            <a:chExt cx="4115160" cy="838080"/>
          </a:xfrm>
        </p:grpSpPr>
        <p:sp>
          <p:nvSpPr>
            <p:cNvPr id="448" name=""/>
            <p:cNvSpPr/>
            <p:nvPr/>
          </p:nvSpPr>
          <p:spPr>
            <a:xfrm>
              <a:off x="434304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289512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724280" y="3484440"/>
            <a:ext cx="4114800" cy="1163880"/>
            <a:chOff x="4724280" y="3484440"/>
            <a:chExt cx="4114800" cy="1163880"/>
          </a:xfrm>
        </p:grpSpPr>
        <p:sp>
          <p:nvSpPr>
            <p:cNvPr id="451" name=""/>
            <p:cNvSpPr/>
            <p:nvPr/>
          </p:nvSpPr>
          <p:spPr>
            <a:xfrm>
              <a:off x="6172200" y="34844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get functions to access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72428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876920" y="3637080"/>
              <a:ext cx="129528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876920" y="4038480"/>
            <a:ext cx="3962160" cy="838440"/>
            <a:chOff x="4876920" y="4038480"/>
            <a:chExt cx="3962160" cy="838440"/>
          </a:xfrm>
        </p:grpSpPr>
        <p:sp>
          <p:nvSpPr>
            <p:cNvPr id="455" name=""/>
            <p:cNvSpPr/>
            <p:nvPr/>
          </p:nvSpPr>
          <p:spPr>
            <a:xfrm>
              <a:off x="617220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et function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4876920" y="419112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D41C-0400-424F-8970-C132BE1E4EE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circl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4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4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4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361960" y="304560"/>
            <a:ext cx="4724640" cy="1055880"/>
            <a:chOff x="2361960" y="304560"/>
            <a:chExt cx="4724640" cy="1055880"/>
          </a:xfrm>
        </p:grpSpPr>
        <p:sp>
          <p:nvSpPr>
            <p:cNvPr id="460" name=""/>
            <p:cNvSpPr/>
            <p:nvPr/>
          </p:nvSpPr>
          <p:spPr>
            <a:xfrm>
              <a:off x="4419720" y="536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set functions to modif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2361960" y="304560"/>
              <a:ext cx="2057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2361960" y="53640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123720" y="730080"/>
            <a:ext cx="3962880" cy="1087560"/>
            <a:chOff x="3123720" y="730080"/>
            <a:chExt cx="3962880" cy="1087560"/>
          </a:xfrm>
        </p:grpSpPr>
        <p:sp>
          <p:nvSpPr>
            <p:cNvPr id="464" name=""/>
            <p:cNvSpPr/>
            <p:nvPr/>
          </p:nvSpPr>
          <p:spPr>
            <a:xfrm>
              <a:off x="441972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t function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3123720" y="730080"/>
              <a:ext cx="129564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C350-A54F-4F1A-BA2F-0F8B31CF0F7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is 56.7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4EF2-07B7-4DE3-B455-03356CF7B72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Three-Level Inheritance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level point/circle/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D3D8-C2D4-48B5-BBF6-958C95D0B0C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es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of one class “is an” object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Rectangle is quadrilat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from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typically represents larger set of objects than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s, trucks, boats, bicycle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er, more-specific subset of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631E-E388-4009-A830-2F8E45291F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2: cylinder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4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heigh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Cylinder's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057400" y="838080"/>
            <a:ext cx="4114800" cy="838440"/>
            <a:chOff x="2057400" y="838080"/>
            <a:chExt cx="4114800" cy="838440"/>
          </a:xfrm>
        </p:grpSpPr>
        <p:sp>
          <p:nvSpPr>
            <p:cNvPr id="473" name=""/>
            <p:cNvSpPr/>
            <p:nvPr/>
          </p:nvSpPr>
          <p:spPr>
            <a:xfrm>
              <a:off x="350532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05740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133360" y="4267080"/>
            <a:ext cx="4115160" cy="838080"/>
            <a:chOff x="2133360" y="4267080"/>
            <a:chExt cx="4115160" cy="838080"/>
          </a:xfrm>
        </p:grpSpPr>
        <p:sp>
          <p:nvSpPr>
            <p:cNvPr id="476" name=""/>
            <p:cNvSpPr/>
            <p:nvPr/>
          </p:nvSpPr>
          <p:spPr>
            <a:xfrm>
              <a:off x="3581280" y="4267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e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133360" y="44193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3323-3956-4513-A54E-BEBF5FF2342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990720"/>
            <a:ext cx="7010280" cy="3962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3: cylinder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: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Value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: Circle4( xValue, yValue, radiusValu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eight( heightValu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ylinder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895480" y="2739960"/>
            <a:ext cx="4114800" cy="838440"/>
            <a:chOff x="2895480" y="2739960"/>
            <a:chExt cx="4114800" cy="838440"/>
          </a:xfrm>
        </p:grpSpPr>
        <p:sp>
          <p:nvSpPr>
            <p:cNvPr id="482" name=""/>
            <p:cNvSpPr/>
            <p:nvPr/>
          </p:nvSpPr>
          <p:spPr>
            <a:xfrm>
              <a:off x="4343400" y="27399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initializer syntax passes arguments to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895480" y="2892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2913-3958-4AE4-8CB2-96024CEF72A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s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ight = ( height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eigh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define Circle4 function getArea to calculate Cylinder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ircle4::getArea()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ircumference() *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657240" y="2743200"/>
            <a:ext cx="4115160" cy="1067400"/>
            <a:chOff x="3657240" y="2743200"/>
            <a:chExt cx="4115160" cy="1067400"/>
          </a:xfrm>
        </p:grpSpPr>
        <p:sp>
          <p:nvSpPr>
            <p:cNvPr id="487" name=""/>
            <p:cNvSpPr/>
            <p:nvPr/>
          </p:nvSpPr>
          <p:spPr>
            <a:xfrm>
              <a:off x="5105160" y="2743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efine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urface are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657240" y="2895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666880" y="3048120"/>
            <a:ext cx="4114800" cy="1067400"/>
            <a:chOff x="2666880" y="3048120"/>
            <a:chExt cx="4114800" cy="1067400"/>
          </a:xfrm>
        </p:grpSpPr>
        <p:sp>
          <p:nvSpPr>
            <p:cNvPr id="490" name=""/>
            <p:cNvSpPr/>
            <p:nvPr/>
          </p:nvSpPr>
          <p:spPr>
            <a:xfrm>
              <a:off x="4114800" y="3048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666880" y="320004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AD53-6F58-488F-A96E-48811182793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ylinder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Area() *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4::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Heigh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200400" y="1295280"/>
            <a:ext cx="4114800" cy="838080"/>
            <a:chOff x="3200400" y="1295280"/>
            <a:chExt cx="4114800" cy="838080"/>
          </a:xfrm>
        </p:grpSpPr>
        <p:sp>
          <p:nvSpPr>
            <p:cNvPr id="495" name=""/>
            <p:cNvSpPr/>
            <p:nvPr/>
          </p:nvSpPr>
          <p:spPr>
            <a:xfrm>
              <a:off x="464832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200400" y="1447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362320" y="1593720"/>
            <a:ext cx="4114800" cy="1067400"/>
            <a:chOff x="2362320" y="1593720"/>
            <a:chExt cx="4114800" cy="1067400"/>
          </a:xfrm>
        </p:grpSpPr>
        <p:sp>
          <p:nvSpPr>
            <p:cNvPr id="498" name=""/>
            <p:cNvSpPr/>
            <p:nvPr/>
          </p:nvSpPr>
          <p:spPr>
            <a:xfrm>
              <a:off x="3810240" y="15937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2320" y="174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209320" y="216000"/>
            <a:ext cx="4800960" cy="1067400"/>
            <a:chOff x="2209320" y="216000"/>
            <a:chExt cx="4800960" cy="1067400"/>
          </a:xfrm>
        </p:grpSpPr>
        <p:sp>
          <p:nvSpPr>
            <p:cNvPr id="501" name=""/>
            <p:cNvSpPr/>
            <p:nvPr/>
          </p:nvSpPr>
          <p:spPr>
            <a:xfrm>
              <a:off x="4343400" y="216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209320" y="368280"/>
              <a:ext cx="213372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4C6E-8F34-4845-8ADF-24AC4BF8A9B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4: cylinderte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ylin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ylind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tantiate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 cylin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Radiu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eigh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876560" y="3809880"/>
            <a:ext cx="4115160" cy="990720"/>
            <a:chOff x="4876560" y="3809880"/>
            <a:chExt cx="4115160" cy="990720"/>
          </a:xfrm>
        </p:grpSpPr>
        <p:sp>
          <p:nvSpPr>
            <p:cNvPr id="506" name=""/>
            <p:cNvSpPr/>
            <p:nvPr/>
          </p:nvSpPr>
          <p:spPr>
            <a:xfrm>
              <a:off x="6324480" y="3809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in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876560" y="3962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029200" y="3962520"/>
              <a:ext cx="1295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911840" y="4267080"/>
            <a:ext cx="4079880" cy="838440"/>
            <a:chOff x="4911840" y="4267080"/>
            <a:chExt cx="4079880" cy="838440"/>
          </a:xfrm>
        </p:grpSpPr>
        <p:sp>
          <p:nvSpPr>
            <p:cNvPr id="510" name=""/>
            <p:cNvSpPr/>
            <p:nvPr/>
          </p:nvSpPr>
          <p:spPr>
            <a:xfrm>
              <a:off x="6324480" y="4267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911840" y="4419720"/>
              <a:ext cx="1412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063760" y="4419720"/>
            <a:ext cx="3927960" cy="838080"/>
            <a:chOff x="5063760" y="4419720"/>
            <a:chExt cx="3927960" cy="838080"/>
          </a:xfrm>
        </p:grpSpPr>
        <p:sp>
          <p:nvSpPr>
            <p:cNvPr id="513" name=""/>
            <p:cNvSpPr/>
            <p:nvPr/>
          </p:nvSpPr>
          <p:spPr>
            <a:xfrm>
              <a:off x="6324480" y="4419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063760" y="4648320"/>
              <a:ext cx="126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89DB-00EA-4B1D-9140-DEF47CDF20A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Heigh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heigh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cylind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ylinder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olu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Volu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514600" y="342720"/>
            <a:ext cx="4495680" cy="581040"/>
            <a:chOff x="2514600" y="342720"/>
            <a:chExt cx="4495680" cy="581040"/>
          </a:xfrm>
        </p:grpSpPr>
        <p:sp>
          <p:nvSpPr>
            <p:cNvPr id="518" name=""/>
            <p:cNvSpPr/>
            <p:nvPr/>
          </p:nvSpPr>
          <p:spPr>
            <a:xfrm>
              <a:off x="4343400" y="343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in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2514600" y="342720"/>
              <a:ext cx="1828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2514600" y="4953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276360" y="761760"/>
            <a:ext cx="3733920" cy="581040"/>
            <a:chOff x="3276360" y="761760"/>
            <a:chExt cx="3733920" cy="581040"/>
          </a:xfrm>
        </p:grpSpPr>
        <p:sp>
          <p:nvSpPr>
            <p:cNvPr id="522" name=""/>
            <p:cNvSpPr/>
            <p:nvPr/>
          </p:nvSpPr>
          <p:spPr>
            <a:xfrm>
              <a:off x="4343400" y="762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3276360" y="761760"/>
              <a:ext cx="1066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082680" y="914400"/>
            <a:ext cx="3927600" cy="732960"/>
            <a:chOff x="3082680" y="914400"/>
            <a:chExt cx="3927600" cy="732960"/>
          </a:xfrm>
        </p:grpSpPr>
        <p:sp>
          <p:nvSpPr>
            <p:cNvPr id="525" name=""/>
            <p:cNvSpPr/>
            <p:nvPr/>
          </p:nvSpPr>
          <p:spPr>
            <a:xfrm>
              <a:off x="43434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3082680" y="914400"/>
              <a:ext cx="1260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379240" y="1809720"/>
            <a:ext cx="3927600" cy="732960"/>
            <a:chOff x="2379240" y="1809720"/>
            <a:chExt cx="3927600" cy="732960"/>
          </a:xfrm>
        </p:grpSpPr>
        <p:sp>
          <p:nvSpPr>
            <p:cNvPr id="528" name=""/>
            <p:cNvSpPr/>
            <p:nvPr/>
          </p:nvSpPr>
          <p:spPr>
            <a:xfrm>
              <a:off x="3639960" y="1962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redefin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2379240" y="1809720"/>
              <a:ext cx="1260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23920" y="4647960"/>
            <a:ext cx="3927600" cy="732960"/>
            <a:chOff x="4723920" y="4647960"/>
            <a:chExt cx="3927600" cy="732960"/>
          </a:xfrm>
        </p:grpSpPr>
        <p:sp>
          <p:nvSpPr>
            <p:cNvPr id="531" name=""/>
            <p:cNvSpPr/>
            <p:nvPr/>
          </p:nvSpPr>
          <p:spPr>
            <a:xfrm>
              <a:off x="5984640" y="4800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redefin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4723920" y="4647960"/>
              <a:ext cx="126036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6FCE-112E-4DE7-A146-135B7FFB165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12952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; Height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is 567.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69FCA-6E6E-469C-A58A-CF74CE59B9D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iating derived-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in of constructor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 invokes base clas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or ex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of inheritance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constructor called in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nstructor body to finish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ructor called 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ructor body finishes execution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ing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ase-class constructor initializes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by 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3DC6-E995-46D2-9CB4-D6A801A98E6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ing derived-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in of destructor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order of constructor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 of derived-class called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 of next base class up hierarchy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up hierarchy until final bas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final base-class destructor, object removed from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352D-3FC4-48CE-9932-EF421597E45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-class constructors, destructors, assignm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 constructors, assignment operators ca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48BC-3284-4706-9204-608CFA5412A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057400"/>
          <a:ext cx="7010640" cy="38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01064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0220-282D-48A2-90E7-04CEFEF39B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5: point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4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Point4(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Point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114440" y="1054080"/>
            <a:ext cx="4305600" cy="1231920"/>
            <a:chOff x="4114440" y="1054080"/>
            <a:chExt cx="4305600" cy="1231920"/>
          </a:xfrm>
        </p:grpSpPr>
        <p:sp>
          <p:nvSpPr>
            <p:cNvPr id="545" name=""/>
            <p:cNvSpPr/>
            <p:nvPr/>
          </p:nvSpPr>
          <p:spPr>
            <a:xfrm>
              <a:off x="5753160" y="1054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output messages to demonstrate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305240" y="12063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114440" y="1206360"/>
              <a:ext cx="163836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B60B-FA94-4E40-A476-D3215A2242C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6: point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4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::Point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4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::~Point4()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 de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895480" y="2133720"/>
            <a:ext cx="4114800" cy="838080"/>
            <a:chOff x="2895480" y="2133720"/>
            <a:chExt cx="4114800" cy="838080"/>
          </a:xfrm>
        </p:grpSpPr>
        <p:sp>
          <p:nvSpPr>
            <p:cNvPr id="551" name=""/>
            <p:cNvSpPr/>
            <p:nvPr/>
          </p:nvSpPr>
          <p:spPr>
            <a:xfrm>
              <a:off x="4343400" y="2133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con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289548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895480" y="4114800"/>
            <a:ext cx="4114800" cy="838080"/>
            <a:chOff x="2895480" y="4114800"/>
            <a:chExt cx="4114800" cy="838080"/>
          </a:xfrm>
        </p:grpSpPr>
        <p:sp>
          <p:nvSpPr>
            <p:cNvPr id="554" name=""/>
            <p:cNvSpPr/>
            <p:nvPr/>
          </p:nvSpPr>
          <p:spPr>
            <a:xfrm>
              <a:off x="4343400" y="4114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de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895480" y="426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948E-068B-4FB1-98E3-B1AD2F5D6CA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4 destruc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66B0-CAC8-4F71-A5D5-19B07F34D55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E666-B167-4AB4-A99C-918C5FAE769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7: circl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5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oint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5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Circle5(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5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495680" y="1892160"/>
            <a:ext cx="4114800" cy="1384560"/>
            <a:chOff x="4495680" y="1892160"/>
            <a:chExt cx="4114800" cy="1384560"/>
          </a:xfrm>
        </p:grpSpPr>
        <p:sp>
          <p:nvSpPr>
            <p:cNvPr id="563" name=""/>
            <p:cNvSpPr/>
            <p:nvPr/>
          </p:nvSpPr>
          <p:spPr>
            <a:xfrm>
              <a:off x="5943600" y="18921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output messages to demonstrate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495680" y="204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4648320" y="2044800"/>
              <a:ext cx="1295280" cy="12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F3E0-C2D8-4A24-AB8F-C4B16CF5C7E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5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5374-B345-4469-A8DC-3C7020397E5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8: circle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5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5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::Circle5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4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5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895480" y="2552760"/>
            <a:ext cx="4114800" cy="838080"/>
            <a:chOff x="2895480" y="2552760"/>
            <a:chExt cx="4114800" cy="838080"/>
          </a:xfrm>
        </p:grpSpPr>
        <p:sp>
          <p:nvSpPr>
            <p:cNvPr id="571" name=""/>
            <p:cNvSpPr/>
            <p:nvPr/>
          </p:nvSpPr>
          <p:spPr>
            <a:xfrm>
              <a:off x="4343400" y="25527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con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895480" y="27050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4CCE-0A82-4D8E-BEA5-D79B4B792E4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::~Circle5(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 de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5 destruc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895480" y="1066320"/>
            <a:ext cx="4114800" cy="977040"/>
            <a:chOff x="2895480" y="1066320"/>
            <a:chExt cx="4114800" cy="977040"/>
          </a:xfrm>
        </p:grpSpPr>
        <p:sp>
          <p:nvSpPr>
            <p:cNvPr id="576" name=""/>
            <p:cNvSpPr/>
            <p:nvPr/>
          </p:nvSpPr>
          <p:spPr>
            <a:xfrm>
              <a:off x="4343400" y="1219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de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895480" y="106632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02AE-89AB-4B29-95CA-149C4491AED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C438-36A6-4474-83B6-26798A68C98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5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4::print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4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9F6B-91B7-4E38-946B-6D1ECC32608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 relationships: tree-like hierarchy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class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y data/behaviors to oth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 data/behaviors from oth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8075-6CF0-4F7D-80D7-D7F082E615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9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9: fig09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order in which base-class and derived-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s are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5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scop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4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cope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5 circle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5 circle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514600" y="2327400"/>
            <a:ext cx="4114800" cy="838080"/>
            <a:chOff x="2514600" y="2327400"/>
            <a:chExt cx="4114800" cy="838080"/>
          </a:xfrm>
        </p:grpSpPr>
        <p:sp>
          <p:nvSpPr>
            <p:cNvPr id="585" name=""/>
            <p:cNvSpPr/>
            <p:nvPr/>
          </p:nvSpPr>
          <p:spPr>
            <a:xfrm>
              <a:off x="3962520" y="232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goes in and out of scope immediat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14600" y="247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514600" y="3484440"/>
            <a:ext cx="4114800" cy="1544760"/>
            <a:chOff x="2514600" y="3484440"/>
            <a:chExt cx="4114800" cy="1544760"/>
          </a:xfrm>
        </p:grpSpPr>
        <p:sp>
          <p:nvSpPr>
            <p:cNvPr id="588" name=""/>
            <p:cNvSpPr/>
            <p:nvPr/>
          </p:nvSpPr>
          <p:spPr>
            <a:xfrm>
              <a:off x="3962520" y="34844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tiate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to demonstrate order of derived-class and base-class constructor/de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5146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14600" y="3637080"/>
              <a:ext cx="1447920" cy="13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B73F-633B-4D9E-9851-7A9C928FCDB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9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9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066680"/>
            <a:ext cx="7010280" cy="3124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de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constructor: Center = [72, 29]; Radius =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constructor: Center = [5, 5]; Radius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destructor: Center = [5, 5]; Radius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de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destructor: Center = [72, 29]; Radius =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4 destructor: [72, 29]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895120" y="492120"/>
            <a:ext cx="4115160" cy="1079640"/>
            <a:chOff x="2895120" y="492120"/>
            <a:chExt cx="4115160" cy="1079640"/>
          </a:xfrm>
        </p:grpSpPr>
        <p:sp>
          <p:nvSpPr>
            <p:cNvPr id="595" name=""/>
            <p:cNvSpPr/>
            <p:nvPr/>
          </p:nvSpPr>
          <p:spPr>
            <a:xfrm>
              <a:off x="4343040" y="492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called for object in block; destructor called immediately as execution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895120" y="64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895120" y="644400"/>
              <a:ext cx="144756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95120" y="1143000"/>
            <a:ext cx="4115160" cy="1067400"/>
            <a:chOff x="2895120" y="1143000"/>
            <a:chExt cx="4115160" cy="1067400"/>
          </a:xfrm>
        </p:grpSpPr>
        <p:sp>
          <p:nvSpPr>
            <p:cNvPr id="599" name=""/>
            <p:cNvSpPr/>
            <p:nvPr/>
          </p:nvSpPr>
          <p:spPr>
            <a:xfrm>
              <a:off x="4343040" y="1143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executes first when instantiating 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89512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895120" y="1295280"/>
            <a:ext cx="4115160" cy="1310760"/>
            <a:chOff x="2895120" y="1295280"/>
            <a:chExt cx="4115160" cy="1310760"/>
          </a:xfrm>
        </p:grpSpPr>
        <p:sp>
          <p:nvSpPr>
            <p:cNvPr id="602" name=""/>
            <p:cNvSpPr/>
            <p:nvPr/>
          </p:nvSpPr>
          <p:spPr>
            <a:xfrm>
              <a:off x="4343040" y="129528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body executes after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constructor finishes execu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89512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895120" y="1752480"/>
            <a:ext cx="4115160" cy="1067400"/>
            <a:chOff x="2895120" y="1752480"/>
            <a:chExt cx="4115160" cy="1067400"/>
          </a:xfrm>
        </p:grpSpPr>
        <p:sp>
          <p:nvSpPr>
            <p:cNvPr id="605" name=""/>
            <p:cNvSpPr/>
            <p:nvPr/>
          </p:nvSpPr>
          <p:spPr>
            <a:xfrm>
              <a:off x="4343040" y="17524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executes first when instantiating 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895120" y="19047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895120" y="1905120"/>
            <a:ext cx="4115160" cy="1310760"/>
            <a:chOff x="2895120" y="1905120"/>
            <a:chExt cx="4115160" cy="1310760"/>
          </a:xfrm>
        </p:grpSpPr>
        <p:sp>
          <p:nvSpPr>
            <p:cNvPr id="608" name=""/>
            <p:cNvSpPr/>
            <p:nvPr/>
          </p:nvSpPr>
          <p:spPr>
            <a:xfrm>
              <a:off x="4343040" y="1905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body executes after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constructor finishes execu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2895120" y="20574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895480" y="2362320"/>
            <a:ext cx="4114800" cy="1143000"/>
            <a:chOff x="2895480" y="2362320"/>
            <a:chExt cx="4114800" cy="1143000"/>
          </a:xfrm>
        </p:grpSpPr>
        <p:sp>
          <p:nvSpPr>
            <p:cNvPr id="611" name=""/>
            <p:cNvSpPr/>
            <p:nvPr/>
          </p:nvSpPr>
          <p:spPr>
            <a:xfrm>
              <a:off x="4343400" y="236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alled in reverse order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895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895480" y="251460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95480" y="2819520"/>
            <a:ext cx="4114800" cy="1143000"/>
            <a:chOff x="2895480" y="2819520"/>
            <a:chExt cx="4114800" cy="1143000"/>
          </a:xfrm>
        </p:grpSpPr>
        <p:sp>
          <p:nvSpPr>
            <p:cNvPr id="615" name=""/>
            <p:cNvSpPr/>
            <p:nvPr/>
          </p:nvSpPr>
          <p:spPr>
            <a:xfrm>
              <a:off x="43434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alled in reverse order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8954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2895480" y="297180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91CC-FEC0-4FF7-8C17-BC372A7CA22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“Uses A” and “Knows A” Relationship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uses anothe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pointer, reference or objec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s a” (associ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aware of anothe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pointer handle or reference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ledge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3B0A-A5BF-4A57-B2CC-5E8534C0CA4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ublic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tecte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ivat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76320" y="1523880"/>
          <a:ext cx="8762760" cy="47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523880"/>
                    <a:ext cx="876276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DCAF-210C-4D37-BD5A-1AFEA87949C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9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ftware Engineering with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ing exist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 from existing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additiona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efine base-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irect access to base class’s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to objec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pendent software vendors (ISV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proprietary code for sale/lic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in object-code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derive new cl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accessing ISV proprietary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FD71-1E96-4AA9-86AE-1D023A2AA92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457200" y="1676520"/>
            <a:ext cx="7315200" cy="4316040"/>
            <a:chOff x="457200" y="1676520"/>
            <a:chExt cx="7315200" cy="4316040"/>
          </a:xfrm>
        </p:grpSpPr>
        <p:sp>
          <p:nvSpPr>
            <p:cNvPr id="106" name=""/>
            <p:cNvSpPr/>
            <p:nvPr/>
          </p:nvSpPr>
          <p:spPr>
            <a:xfrm>
              <a:off x="3457440" y="1676520"/>
              <a:ext cx="200052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7" y="0"/>
                  </a:moveTo>
                  <a:lnTo>
                    <a:pt x="1998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8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75360" y="275472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11440" y="2754720"/>
              <a:ext cx="112860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06680" y="369756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0680" y="464040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4640400"/>
              <a:ext cx="17445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19985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85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0720" y="5583600"/>
              <a:ext cx="271764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1" y="0"/>
                  </a:moveTo>
                  <a:lnTo>
                    <a:pt x="19991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1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6580080" y="2641680"/>
              <a:ext cx="1192320" cy="506520"/>
              <a:chOff x="6580080" y="2641680"/>
              <a:chExt cx="1192320" cy="506520"/>
            </a:xfrm>
          </p:grpSpPr>
          <p:sp>
            <p:nvSpPr>
              <p:cNvPr id="114" name=""/>
              <p:cNvSpPr/>
              <p:nvPr/>
            </p:nvSpPr>
            <p:spPr>
              <a:xfrm>
                <a:off x="6580080" y="2641680"/>
                <a:ext cx="1192320" cy="49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02480" y="2641680"/>
                <a:ext cx="169560" cy="131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85560" y="2721240"/>
                <a:ext cx="9813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Single 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457440" y="1743480"/>
              <a:ext cx="200052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CommunityMe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0000" y="2848320"/>
              <a:ext cx="11300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94120" y="2754720"/>
              <a:ext cx="112572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2680" y="2848320"/>
              <a:ext cx="1127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4734000"/>
              <a:ext cx="17445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Administ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58880" y="4734000"/>
              <a:ext cx="1128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Te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20600" y="5677200"/>
              <a:ext cx="27194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AdministratorTe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03440" y="3791160"/>
              <a:ext cx="11304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ta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16200" y="369756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16200" y="3791160"/>
              <a:ext cx="1127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Facul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27400" y="1990800"/>
              <a:ext cx="2460600" cy="763920"/>
              <a:chOff x="3227400" y="1990800"/>
              <a:chExt cx="2460600" cy="763920"/>
            </a:xfrm>
          </p:grpSpPr>
          <p:sp>
            <p:nvSpPr>
              <p:cNvPr id="128" name=""/>
              <p:cNvSpPr/>
              <p:nvPr/>
            </p:nvSpPr>
            <p:spPr>
              <a:xfrm>
                <a:off x="4456440" y="1990800"/>
                <a:ext cx="1080" cy="76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27400" y="1990800"/>
                <a:ext cx="666360" cy="76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022000" y="1990800"/>
                <a:ext cx="666000" cy="76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581200" y="3069000"/>
              <a:ext cx="1189080" cy="628560"/>
              <a:chOff x="2581200" y="3069000"/>
              <a:chExt cx="1189080" cy="628560"/>
            </a:xfrm>
          </p:grpSpPr>
          <p:sp>
            <p:nvSpPr>
              <p:cNvPr id="132" name=""/>
              <p:cNvSpPr/>
              <p:nvPr/>
            </p:nvSpPr>
            <p:spPr>
              <a:xfrm>
                <a:off x="3411360" y="3069000"/>
                <a:ext cx="35892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19964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81200" y="3069000"/>
                <a:ext cx="35856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19929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792440" y="4011840"/>
              <a:ext cx="1187280" cy="628560"/>
              <a:chOff x="1792440" y="4011840"/>
              <a:chExt cx="1187280" cy="628560"/>
            </a:xfrm>
          </p:grpSpPr>
          <p:sp>
            <p:nvSpPr>
              <p:cNvPr id="135" name=""/>
              <p:cNvSpPr/>
              <p:nvPr/>
            </p:nvSpPr>
            <p:spPr>
              <a:xfrm>
                <a:off x="2621880" y="4011840"/>
                <a:ext cx="35784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19964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2440" y="4011840"/>
                <a:ext cx="35784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19929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85960" y="4954680"/>
              <a:ext cx="1189080" cy="628920"/>
              <a:chOff x="1785960" y="4954680"/>
              <a:chExt cx="1189080" cy="628920"/>
            </a:xfrm>
          </p:grpSpPr>
          <p:sp>
            <p:nvSpPr>
              <p:cNvPr id="138" name=""/>
              <p:cNvSpPr/>
              <p:nvPr/>
            </p:nvSpPr>
            <p:spPr>
              <a:xfrm>
                <a:off x="2616120" y="4954680"/>
                <a:ext cx="358920" cy="628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0"/>
                    </a:moveTo>
                    <a:lnTo>
                      <a:pt x="0" y="19964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85960" y="4954680"/>
                <a:ext cx="358560" cy="628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29" y="19964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172120" y="2848320"/>
              <a:ext cx="11304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Alumn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827600" y="3581640"/>
              <a:ext cx="1192320" cy="506520"/>
              <a:chOff x="4827600" y="3581640"/>
              <a:chExt cx="1192320" cy="506520"/>
            </a:xfrm>
          </p:grpSpPr>
          <p:sp>
            <p:nvSpPr>
              <p:cNvPr id="142" name=""/>
              <p:cNvSpPr/>
              <p:nvPr/>
            </p:nvSpPr>
            <p:spPr>
              <a:xfrm>
                <a:off x="4827600" y="3581640"/>
                <a:ext cx="1192320" cy="49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50000" y="3581640"/>
                <a:ext cx="169560" cy="131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33080" y="3661200"/>
                <a:ext cx="9813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Single 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989520" y="4572360"/>
              <a:ext cx="1191960" cy="505800"/>
              <a:chOff x="3989520" y="4572360"/>
              <a:chExt cx="1191960" cy="505800"/>
            </a:xfrm>
          </p:grpSpPr>
          <p:sp>
            <p:nvSpPr>
              <p:cNvPr id="146" name=""/>
              <p:cNvSpPr/>
              <p:nvPr/>
            </p:nvSpPr>
            <p:spPr>
              <a:xfrm>
                <a:off x="3989520" y="4572360"/>
                <a:ext cx="1191960" cy="493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11560" y="4572360"/>
                <a:ext cx="169560" cy="131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95000" y="4651560"/>
                <a:ext cx="9810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Single 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989520" y="5486760"/>
              <a:ext cx="1191960" cy="505800"/>
              <a:chOff x="3989520" y="5486760"/>
              <a:chExt cx="1191960" cy="505800"/>
            </a:xfrm>
          </p:grpSpPr>
          <p:sp>
            <p:nvSpPr>
              <p:cNvPr id="150" name=""/>
              <p:cNvSpPr/>
              <p:nvPr/>
            </p:nvSpPr>
            <p:spPr>
              <a:xfrm>
                <a:off x="3989520" y="5486760"/>
                <a:ext cx="1191960" cy="493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11560" y="5486760"/>
                <a:ext cx="169560" cy="131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95000" y="5565960"/>
                <a:ext cx="9810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ultiple </a:t>
                </a: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696960" y="1157400"/>
            <a:ext cx="59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. 9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eritance hierarchy for universi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unityMe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E5D7-060F-466B-8F55-A7951678D7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20:19:09Z</dcterms:created>
  <dc:creator>Audrey Lee</dc:creator>
  <dc:description/>
  <dc:language>en-US</dc:language>
  <cp:lastModifiedBy>Pearson Education</cp:lastModifiedBy>
  <dcterms:modified xsi:type="dcterms:W3CDTF">2002-08-12T15:10:31Z</dcterms:modified>
  <cp:revision>97</cp:revision>
  <dc:subject/>
  <dc:title>PowerPoint Presentation</dc:title>
</cp:coreProperties>
</file>