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2627-B20D-4341-BA18-F3D2B044B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2B8F-E0A1-429F-AECB-E11D37A37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6E91-D9D5-4900-B5F7-D6FBC9C18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BF90-2F35-4CAE-B72F-66E068053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37C9-1BF2-4FB2-8AD1-320A1DFE9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4A32-C5D3-4F08-8221-3585ECAD53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82FA-7C45-4E1F-A354-9468BFD39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76E6-50B7-4115-9BF4-02724E424A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4397-9C9E-4242-912F-B6A0D0C93D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43EC-1B81-4299-B57B-73AEF1D0D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60FC-ABC6-423C-A30C-B853AEDC3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07FF-916E-45F9-8AED-DE49645C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831A-BA9E-48D5-8EC0-863B35FB8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1C75-F374-4D1A-AD85-C2B7EEB197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E4CC-0F2C-4347-8BF8-B6836935BD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4E12-DBF2-4CAF-848F-C350E49F5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2B44-4675-43D9-808A-1FCD3D6DD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3ADB-CE59-4EBA-A53E-2EC46A4FC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F45E-8919-4920-98C4-DC7623536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9D28-6F1A-4B3D-8FEE-5E60A0B29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C48C-E2B5-4AF1-BF4C-6D6634042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FCE2-281E-43BB-9095-52FDF05F7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A113-520C-4737-AED2-409A828A1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BD6D-B75A-4B7E-ADF0-D66754C4D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896-6B47-4CEF-8548-C0976C6AC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4311-0877-4617-A07F-9C9DBAE6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ic Streams vs. Standar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ostream Library Heade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/Output Classes an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put of char *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haracter Output using Member Function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t and getline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stream Member Functions peek, putback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-Saf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formatted I/O using read, write and g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DA3F-6F6F-48D1-AF01-1BF62A84A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(usually display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lt;&l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error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utputs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uffers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when buffer full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dvantage (discussed in OS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0EFD-0F7C-420E-BA64-603CB1B667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file processing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nput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ations allow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liases for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90ED-9D8A-4447-BF04-9B960C9905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2057400"/>
            <a:ext cx="6172200" cy="2819520"/>
            <a:chOff x="1371600" y="2057400"/>
            <a:chExt cx="6172200" cy="2819520"/>
          </a:xfrm>
        </p:grpSpPr>
        <p:sp>
          <p:nvSpPr>
            <p:cNvPr id="140" name=""/>
            <p:cNvSpPr/>
            <p:nvPr/>
          </p:nvSpPr>
          <p:spPr>
            <a:xfrm>
              <a:off x="1371600" y="2057400"/>
              <a:ext cx="6172200" cy="28195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543680" y="2202840"/>
              <a:ext cx="5828760" cy="2526840"/>
              <a:chOff x="1543680" y="2202840"/>
              <a:chExt cx="5828760" cy="2526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549240" y="3630240"/>
                <a:ext cx="1816920" cy="299880"/>
                <a:chOff x="3549240" y="3630240"/>
                <a:chExt cx="1816920" cy="2998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3549240" y="3630240"/>
                  <a:ext cx="1816920" cy="299880"/>
                  <a:chOff x="3549240" y="3630240"/>
                  <a:chExt cx="1816920" cy="2998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365148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07280" y="2916720"/>
                <a:ext cx="1816920" cy="299880"/>
                <a:chOff x="4607280" y="2916720"/>
                <a:chExt cx="1816920" cy="2998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607280" y="2916720"/>
                  <a:ext cx="1816920" cy="299880"/>
                  <a:chOff x="4607280" y="2916720"/>
                  <a:chExt cx="1816920" cy="2998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708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491560" y="2916720"/>
                <a:ext cx="1816920" cy="299880"/>
                <a:chOff x="2491560" y="2916720"/>
                <a:chExt cx="1816920" cy="2998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2491560" y="2916720"/>
                  <a:ext cx="1816920" cy="299880"/>
                  <a:chOff x="2491560" y="2916720"/>
                  <a:chExt cx="1816920" cy="299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593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549240" y="2202840"/>
                <a:ext cx="1816920" cy="299880"/>
                <a:chOff x="3549240" y="2202840"/>
                <a:chExt cx="1816920" cy="2998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3549240" y="2202840"/>
                  <a:ext cx="1816920" cy="299880"/>
                  <a:chOff x="3549240" y="2202840"/>
                  <a:chExt cx="1816920" cy="299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3651120" y="22669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543680" y="3630240"/>
                <a:ext cx="1816920" cy="299880"/>
                <a:chOff x="1543680" y="3630240"/>
                <a:chExt cx="1816920" cy="2998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1543680" y="3630240"/>
                  <a:ext cx="1816920" cy="299880"/>
                  <a:chOff x="1543680" y="3630240"/>
                  <a:chExt cx="1816920" cy="2998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164592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555160" y="3630240"/>
                <a:ext cx="1817280" cy="299880"/>
                <a:chOff x="5555160" y="3630240"/>
                <a:chExt cx="1817280" cy="29988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5555160" y="3630240"/>
                  <a:ext cx="1817280" cy="299880"/>
                  <a:chOff x="5555160" y="3630240"/>
                  <a:chExt cx="1817280" cy="2998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565704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457160" y="3930480"/>
                <a:ext cx="360" cy="685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9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549240" y="4429800"/>
                <a:ext cx="1816920" cy="299880"/>
                <a:chOff x="3549240" y="4429800"/>
                <a:chExt cx="1816920" cy="29988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3549240" y="4429800"/>
                  <a:ext cx="1816920" cy="299880"/>
                  <a:chOff x="3549240" y="4429800"/>
                  <a:chExt cx="1816920" cy="29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3651120" y="449388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00720" y="2502720"/>
                <a:ext cx="1714320" cy="413640"/>
                <a:chOff x="3600720" y="2502720"/>
                <a:chExt cx="1714320" cy="413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749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07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17880" y="3216600"/>
                <a:ext cx="2883960" cy="413640"/>
                <a:chOff x="3017880" y="3216600"/>
                <a:chExt cx="2883960" cy="413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0749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0"/>
                      </a:moveTo>
                      <a:lnTo>
                        <a:pt x="0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007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29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0178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620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E09F-2A1B-46C0-94E5-E770DB9E0E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Out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unforma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s (decimal, octal, hexadecim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precision, forced decimal points,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stified, padde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/lowercase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DEAE-5102-47C8-8F00-A46A2EADEA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Output of char * Variab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determines data type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 an improvement (over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y to print value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ddress of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verloaded to print null-terminated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: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ever printing value of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as a hex (base 16)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AD19-0678-4D67-808F-5B0FC9C1BD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3: fig1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the address stored in a char *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of char *, then display value of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static_cast to void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static_cast&lt; void * &gt;( word )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word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f word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of static_cast&lt; void *&gt;( word ) is: 0046C07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62520" y="1676520"/>
            <a:ext cx="3124080" cy="1828800"/>
            <a:chOff x="3962520" y="1676520"/>
            <a:chExt cx="3124080" cy="1828800"/>
          </a:xfrm>
        </p:grpSpPr>
        <p:sp>
          <p:nvSpPr>
            <p:cNvPr id="194" name=""/>
            <p:cNvSpPr/>
            <p:nvPr/>
          </p:nvSpPr>
          <p:spPr>
            <a:xfrm>
              <a:off x="4419720" y="1676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print the value of the pointer, we must cas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Otherwise, the string is pri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62520" y="221004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625D-303D-4AEF-BC52-95D3FD433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Character Output using Member Function 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casc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valuates left-to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numerical (ASCII)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7BBB-FB39-4B22-9607-63B5B35A6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ted and unformatte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 skips whitespace (blanks, tabs, newlin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 bits set if errors occ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12.7 and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633F-679F-428B-B667-69B6F2169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one character from stream (even white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end of in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IBM-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UNIX and M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f EOF has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AB18-2AFC-4C94-89F4-71BBD662AF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4: fig12_0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 functions get, put and e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nt, because char cannot represent E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to enter line of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 followed by end-of-fil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to read each character; use put to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aracter = cin.get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ut( charac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nd-of-fil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OF in this system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205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with no arguments) returns a single character input, un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counte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666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EC3F-B1FC-4B3B-BA61-035B6F6C7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: dec, oct, hex and set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Precision (precision, setpreci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eld Width (width, set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mer-Defined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Format States and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ailing Zeros and Decimal Points (show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ustification (left, right and in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dding (fill, setf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 (dec, oct, hex, show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Numbers; Scientific and Fix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ation (scientific, 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percase/Lowercase Control (upper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pecifying Boolean Format (boolalp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tting and Resetting the Format State via Member-Functio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Error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ing an Output Stream to an 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1F6-15A7-44D0-B8BF-18D66D46B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948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input cin.eof() is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EC80-C5BD-48FD-B3DE-38AD03A011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haracter referenc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one character, store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R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ferenc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OF,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 read, or delimiter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r stays in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ignor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arra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063-6B84-4920-870F-37A8A3E520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5: fig12_0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asting input of a string via cin and cin.g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wo char arrays, each with 8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 to input characters into buff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buff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1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read with cin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.get to input characters into buffe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( buffer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19160" y="4572000"/>
            <a:ext cx="4115160" cy="838080"/>
            <a:chOff x="2819160" y="4572000"/>
            <a:chExt cx="4115160" cy="838080"/>
          </a:xfrm>
        </p:grpSpPr>
        <p:sp>
          <p:nvSpPr>
            <p:cNvPr id="215" name=""/>
            <p:cNvSpPr/>
            <p:nvPr/>
          </p:nvSpPr>
          <p:spPr>
            <a:xfrm>
              <a:off x="426708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delimiter specified, so the defaul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\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819160" y="4724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1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only read until the first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26A6-8D83-48E8-8A6B-DB839909F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2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read with cin.get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98108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 string input with cin and cin.get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.get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 input with cin and cin.g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7A23-AD29-4736-AB61-7750E55B5A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(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last version of 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or until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delimiter from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null character at end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EF28-EEB0-4655-B219-A23B17A55F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6: fig12_0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ting characters using cin member function getl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characters in buffer via cin function ge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line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entence entered i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buff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F3D1-8847-4204-93D4-5D549F38C9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6637-D33F-487C-AC5F-032A4A7B51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istream Member Functions peek, putback and ign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gnor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ards characters from stream (default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s discarding once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ba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haracter obtain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o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e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character in stream, but does not 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40C6-3A20-4324-9277-6C8C5EADAD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Type-Safe I/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accept data of specific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nexpected data 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 bits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can test bits to see if I/O f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 section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0F14-D73E-400A-8181-D04409273D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formatted I/O using read, write and gcou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matte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ember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aw bytes into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characters read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number of characters read by las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bytes from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null character f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buffer[] = "HAPPY BIRTHDAY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write( buffer,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first 10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6BE0-845B-472C-B77B-6DF8C86915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common I/O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s, function overloading, operator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sensitive to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types do not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defined and standar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C++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6B3B-DC0F-49DF-B086-15A7EDC9BF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7: fig12_0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formatted I/O using read, gcount and wri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 read to input characters in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s write and gcount to display buffer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entence entered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write( buffer, cin.gcou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19160" y="2743200"/>
            <a:ext cx="4115160" cy="1600200"/>
            <a:chOff x="2819160" y="2743200"/>
            <a:chExt cx="4115160" cy="1600200"/>
          </a:xfrm>
        </p:grpSpPr>
        <p:sp>
          <p:nvSpPr>
            <p:cNvPr id="238" name=""/>
            <p:cNvSpPr/>
            <p:nvPr/>
          </p:nvSpPr>
          <p:spPr>
            <a:xfrm>
              <a:off x="426708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20 characters from input stream. Display the proper number of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8191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48120" y="2895480"/>
              <a:ext cx="1218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59CF-EC8F-42F3-93D5-BE729933B0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read, write, and gcount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wa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B8C1-75F5-4DD6-81F4-7745405022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 perform formatt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wid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fl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 in fiel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ushing stre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ng newline in out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ping whitespace in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DD8B-001A-406F-B637-B3F74EBA1F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1 Integral Stream Base: dec, oct, hex and set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normally base 10 (decim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manipulators to change 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sets to base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my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(new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8, 10, or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remains same until explicitly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rgument (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3F13-6843-4364-ADCD-AF3586070D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8: fig12_0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 manipulators hex, oct, dec and set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decim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hex stream manipulator to show hexa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hexa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560" y="4343400"/>
            <a:ext cx="4115160" cy="838080"/>
            <a:chOff x="4876560" y="4343400"/>
            <a:chExt cx="4115160" cy="838080"/>
          </a:xfrm>
        </p:grpSpPr>
        <p:sp>
          <p:nvSpPr>
            <p:cNvPr id="250" name=""/>
            <p:cNvSpPr/>
            <p:nvPr/>
          </p:nvSpPr>
          <p:spPr>
            <a:xfrm>
              <a:off x="6324480" y="4343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76560" y="4495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C84B-FC53-49B1-B329-D7637D18B2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ct stream manipulator to show oct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ec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oct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oc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etbase stream manipulator to show 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b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in decimal is: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2840" y="1676160"/>
            <a:ext cx="3810240" cy="1662480"/>
            <a:chOff x="2742840" y="1676160"/>
            <a:chExt cx="3810240" cy="1662480"/>
          </a:xfrm>
        </p:grpSpPr>
        <p:sp>
          <p:nvSpPr>
            <p:cNvPr id="256" name=""/>
            <p:cNvSpPr/>
            <p:nvPr/>
          </p:nvSpPr>
          <p:spPr>
            <a:xfrm>
              <a:off x="38862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arameterized stream manipulator (it takes an argumen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2742840" y="1676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79E0-F380-4E02-BF6E-CD5DBF5119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2 Floating-Point Precision (precision, setprecis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recision of floating point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digits to right of deci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number of decim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precision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new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 arguments, returns current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tings remain until changed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94BB-219A-4E6A-BED9-25F44EB31A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9: fig12_0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ling precision of floating-point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2 = sq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quare root of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c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quare root of 2 with precisions 0-9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 set by ios_base member-functio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 fixed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057400" y="4572000"/>
            <a:ext cx="4114800" cy="838080"/>
            <a:chOff x="2057400" y="4572000"/>
            <a:chExt cx="4114800" cy="838080"/>
          </a:xfrm>
        </p:grpSpPr>
        <p:sp>
          <p:nvSpPr>
            <p:cNvPr id="263" name=""/>
            <p:cNvSpPr/>
            <p:nvPr/>
          </p:nvSpPr>
          <p:spPr>
            <a:xfrm>
              <a:off x="3505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ixed precision, not scientific notation (more details in 12.7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7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4E5D-81C0-4FA0-83D0-CF7C3490F5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square root using ios_base function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recision( pla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cision set by stream-manipulator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precision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ecision for each digit, then display square ro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precision( places )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429000" y="990720"/>
            <a:ext cx="4419720" cy="1828800"/>
            <a:chOff x="3429000" y="990720"/>
            <a:chExt cx="4419720" cy="1828800"/>
          </a:xfrm>
        </p:grpSpPr>
        <p:sp>
          <p:nvSpPr>
            <p:cNvPr id="268" name=""/>
            <p:cNvSpPr/>
            <p:nvPr/>
          </p:nvSpPr>
          <p:spPr>
            <a:xfrm>
              <a:off x="5181480" y="9907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format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429000" y="9907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657240" y="1447920"/>
              <a:ext cx="1523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BFF1-2A47-43CB-B203-E9BD7A54F2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quare root of 2 with precisions 0-9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ios_base member-function 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stream-manipulator set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AE73-2FD6-4BC5-A615-0C124A3DF4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: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: from device (keyboard, disk drive)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: from memory to device (monitor, print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often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it for disk drive/keyboard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 (not convenient for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by-byt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, high-volume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(into integers, characters, strin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most I/O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03BE-614F-4C2E-9B69-7ADE22C44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3 Field Width (width, setw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(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_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width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field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 positions f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number of characters that should b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revious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s/Pad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output too small for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outputs are printed (not trun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1 less character (leave room for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0F02-5C27-4AC8-B0A1-4C59553CE6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0: fig12_10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 wid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only 5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eld width, then display characters based on that wid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sente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width( widthValue++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5 more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7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s up to 4 characters, stops when whitespace r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3844800"/>
            <a:ext cx="4114800" cy="422280"/>
            <a:chOff x="3581280" y="3844800"/>
            <a:chExt cx="4114800" cy="422280"/>
          </a:xfrm>
        </p:grpSpPr>
        <p:sp>
          <p:nvSpPr>
            <p:cNvPr id="281" name=""/>
            <p:cNvSpPr/>
            <p:nvPr/>
          </p:nvSpPr>
          <p:spPr>
            <a:xfrm>
              <a:off x="5029200" y="384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the output wid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581280" y="3886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9A4A-EB4E-4F3C-98AE-17F5E30174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094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9D03-32F3-4080-AE01-168ECBEFF1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4 Programmer-Defined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parameter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put &lt;&lt; '\a';  // issue system b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carriage 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1514-29A5-4C7A-BCC6-D46325045D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1: fig1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testing programmer-defined, nonparameteriz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 manipul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lus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ll manipulator (using escape sequence \a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system b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riageReturn manipulator (using escape sequence \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carriageReturn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carriage retur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8F98-1551-4A93-98F0-66EA8562CA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 manipulator (using escape sequence \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tab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tab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Line manipulator (using escape sequence \n and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flush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endLine( ostream&amp; output )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lus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end of lin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tab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tab manipulat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arriageReturn and bell manipulator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in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......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el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ell manip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13E5-8F62-4B3E-B8D7-44E162DD54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arriageReturn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arriageRetur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---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5238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tab manipul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      b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carriageReturn and bell manipula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E943-EFC2-4AE3-B0EC-31D53162B8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Format States and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ream manipulators for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ing up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inherit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A98D-40D2-489C-8D0B-26F2CA71A5D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1 Trailing Zeros and Decimal Points (showpoint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decimal number to print with trailing z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decimal number 79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witho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.000000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p to level of 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E52D-E9CB-4FFB-B873-28055638B4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3: fig12_13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howpoint to control the printing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iling zeros and decimal points for dou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s with default stream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9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 after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9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CFE0-C1FA-4431-95D9-504602C810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1 Classic Streams vs. Standar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/outp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(one by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number of characters (ASC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tream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languages need special alphab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ode character set supports 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o I/O with Unicod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791A-63C9-45C3-A740-1B510B7B35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0000 prints as: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0000 prints as: 9.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9320" y="1523880"/>
            <a:ext cx="3429360" cy="1876320"/>
            <a:chOff x="2209320" y="1523880"/>
            <a:chExt cx="3429360" cy="1876320"/>
          </a:xfrm>
        </p:grpSpPr>
        <p:sp>
          <p:nvSpPr>
            <p:cNvPr id="30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ailing zeros are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09320" y="1523880"/>
              <a:ext cx="7621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4AB2-B665-4ABE-8BCA-9626D3A360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2 Justification (left, right and interna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-justified, padding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justified, padding to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et padding/fill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sign lef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value righ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       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w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ces sign to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how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DB82-649F-4348-A038-71C294D73D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4: fig12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left justification and right justif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right justified (defaul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ault is right justifie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left manipulator to display x lef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left to lef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312" name=""/>
            <p:cNvSpPr/>
            <p:nvPr/>
          </p:nvSpPr>
          <p:spPr>
            <a:xfrm>
              <a:off x="44197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- and left-just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in a width of 10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312C-D8E1-4333-AD41-840ED82395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ight manipulator to display x righ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right to righ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left to lef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right to righ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D87C-47AF-4BF9-89EC-2155AD6513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5: fig12_1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integer with internal spacing and plus sig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with internal spacing and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howpos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800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      1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321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83E6-369C-4B3E-9C33-BBF0D2A91F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3 Padding (fill, setfil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ill character used in p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fill('*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ill( '^'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E36C-4089-4595-92F8-EAEDBBD833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6: fig12_1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-function fill and stream-manipulator setfil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change the padding character for fields large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d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6181-7668-4EA1-9B95-7F5A14C8BAB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ed as int right and left justifi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as hex with internal justification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default pad character (space)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left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s hex with internal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 &lt;&lt; x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various padding character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righ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dec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133360" y="4114800"/>
            <a:ext cx="4115160" cy="838080"/>
            <a:chOff x="2133360" y="4114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35812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1333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A3C8-71DF-4C3D-B4CA-FBEAEB9AE5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lef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internal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^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362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x^^^^27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2B68-16B9-4535-B09C-619230FB64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4 Integral Stream Base (dec, oct, hex, showb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nteger in various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imal numbers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oc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base of number to be sh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405B-7B7D-4CF3-AD6D-6E702185DC2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2 iostream Library 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header files with hundreds of I/O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I/O with parameterized stream manip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rocess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3B43-1C98-41F2-B335-D09D0979E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7: fig12_1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-manipulator show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howbase to show number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integers preceded by their bas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endl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oct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ct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hex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xa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04760" y="2895480"/>
            <a:ext cx="4115160" cy="838440"/>
            <a:chOff x="1904760" y="2895480"/>
            <a:chExt cx="4115160" cy="838440"/>
          </a:xfrm>
        </p:grpSpPr>
        <p:sp>
          <p:nvSpPr>
            <p:cNvPr id="340" name=""/>
            <p:cNvSpPr/>
            <p:nvPr/>
          </p:nvSpPr>
          <p:spPr>
            <a:xfrm>
              <a:off x="33526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s numbers to be printed with a prece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octal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hexadecimal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9047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A21D-C583-474C-9ABB-590EDE13EB4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integers preceded by their b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C9E1-7B18-4468-AE1D-D0BB4239DAF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5 Floating-Point Numbers; Scientific and Fixed Notation (scientific, fixed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fixed poin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number of decimals specified by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46000000.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manipulator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number determines how it app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10D5-4121-4B26-B1C8-EE01F49F45A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8: fig12_1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floating-point values in system defaul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ientific and fixed forma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0123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946e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defaul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ed in default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scientific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scientific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cientific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438280" y="1981080"/>
            <a:ext cx="4114800" cy="2819520"/>
            <a:chOff x="2438280" y="1981080"/>
            <a:chExt cx="4114800" cy="2819520"/>
          </a:xfrm>
        </p:grpSpPr>
        <p:sp>
          <p:nvSpPr>
            <p:cNvPr id="349" name=""/>
            <p:cNvSpPr/>
            <p:nvPr/>
          </p:nvSpPr>
          <p:spPr>
            <a:xfrm>
              <a:off x="3886200" y="1981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ing initializations, and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cientif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438280" y="2133720"/>
              <a:ext cx="144792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72D9-013D-4BC2-83EF-7869D5B19F8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fixe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fixed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xed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1235        1946000000.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590560" y="1523880"/>
            <a:ext cx="4115160" cy="838440"/>
            <a:chOff x="2590560" y="1523880"/>
            <a:chExt cx="4115160" cy="838440"/>
          </a:xfrm>
        </p:grpSpPr>
        <p:sp>
          <p:nvSpPr>
            <p:cNvPr id="356" name=""/>
            <p:cNvSpPr/>
            <p:nvPr/>
          </p:nvSpPr>
          <p:spPr>
            <a:xfrm>
              <a:off x="403848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the default, fixed, and scientific forma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90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664A-4E31-4F67-AD89-EB97996E039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6 Uppercase/Lowercase Control (upperc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p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E in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E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X in hex notation and uppercase hex let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A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default, low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upp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457A-8355-4EF5-B0C7-CB663C4A45A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9: fig12_1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manipulator upperc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upperc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uppercase letters in scientific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ation exponents and hexadecimal value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uppercase to display uppercase let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:hex to display hexadecim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uppercas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345e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he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67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52480" y="2895480"/>
            <a:ext cx="4114800" cy="838440"/>
            <a:chOff x="1752480" y="2895480"/>
            <a:chExt cx="4114800" cy="838440"/>
          </a:xfrm>
        </p:grpSpPr>
        <p:sp>
          <p:nvSpPr>
            <p:cNvPr id="363" name=""/>
            <p:cNvSpPr/>
            <p:nvPr/>
          </p:nvSpPr>
          <p:spPr>
            <a:xfrm>
              <a:off x="3200400" y="289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 uppercase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7524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6F15-8936-4C13-A3A1-ED282BF5149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uppercase letters in scientif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ation exponents and hexadecimal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345E+0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CD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3EDC-D044-4054-A41F-B3666DD29DB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7 Specifying Boolean Format (boolalpha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d as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alp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string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rue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fals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boolalp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BC07-6E79-4425-858C-938E90993A9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0: fig1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eam-manipulators boolalpha and noboolalph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no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tru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witch booleanValue and use noboolalph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oboolalpha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0" y="1968480"/>
            <a:ext cx="4572000" cy="2374920"/>
            <a:chOff x="2286000" y="1968480"/>
            <a:chExt cx="4572000" cy="2374920"/>
          </a:xfrm>
        </p:grpSpPr>
        <p:sp>
          <p:nvSpPr>
            <p:cNvPr id="372" name=""/>
            <p:cNvSpPr/>
            <p:nvPr/>
          </p:nvSpPr>
          <p:spPr>
            <a:xfrm>
              <a:off x="4191120" y="1968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s can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43200" y="2120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286000" y="2120760"/>
              <a:ext cx="1905120" cy="22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AA7B-5A16-431F-9070-1550D35257C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 has class templates for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 and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es alias for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nonym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in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3DED-228B-43B8-8A03-4C901160D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false booleanValue after using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362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(after using boolalpha)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booleanValue and use nobool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oleanValue (after using boolalpha) is fal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4AA9-FE6B-4C7C-A240-F6702ED5F2D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8 Setting and Resetting the Format State via Member-Function fla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ve/restore forma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apply many changes, may want to restor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.flags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n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stat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forma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reviou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72F9-5E18-4635-86F8-AF789D383F4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1: fig12_21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flags member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_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9476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original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out flags function to save origin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os_base::fmtflags originalFormat = cout.flag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oct &lt;&lt; scientific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4114800"/>
            <a:ext cx="4115160" cy="838080"/>
            <a:chOff x="4190760" y="4114800"/>
            <a:chExt cx="41151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ve original format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a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C873-47BE-43BE-945D-D7B91013662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new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a new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lags( originalForma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tor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tored value of the flags variable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values in original format ag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09320" y="1600200"/>
            <a:ext cx="3429360" cy="1556640"/>
            <a:chOff x="2209320" y="1600200"/>
            <a:chExt cx="3429360" cy="1556640"/>
          </a:xfrm>
        </p:grpSpPr>
        <p:sp>
          <p:nvSpPr>
            <p:cNvPr id="388" name=""/>
            <p:cNvSpPr/>
            <p:nvPr/>
          </p:nvSpPr>
          <p:spPr>
            <a:xfrm>
              <a:off x="29718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tore original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209320" y="1600200"/>
              <a:ext cx="762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2B87-8FDE-4436-A882-A3C6DE3D9C0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original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0120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a new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750   9.476280e-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tored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values in original format ag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   0.09476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7E1C-9471-4982-9795-15D44DF4DC6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e of stream using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rror occurs 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lost, error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data l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C921-3D5F-4178-8AB8-03317524973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dstat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error state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es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to test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ream to "good" state, so I/O ca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ass oth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clear( ios::failbit 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"clear" seems strange, but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1CA7-521F-4024-BFE1-33AD2F9CF00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2: fig12_2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error sta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pects an integer, but enter a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er charact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895480" y="2209680"/>
            <a:ext cx="4114800" cy="838440"/>
            <a:chOff x="2895480" y="2209680"/>
            <a:chExt cx="4114800" cy="838440"/>
          </a:xfrm>
        </p:grpSpPr>
        <p:sp>
          <p:nvSpPr>
            <p:cNvPr id="399" name=""/>
            <p:cNvSpPr/>
            <p:nvPr/>
          </p:nvSpPr>
          <p:spPr>
            <a:xfrm>
              <a:off x="43434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original states using th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7A7C-185F-4DE9-AA33-591B40FEA26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ba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ear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clearing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cin.clear(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52480" y="1143000"/>
            <a:ext cx="4114800" cy="838080"/>
            <a:chOff x="1752480" y="114300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2004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7524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4902-9061-4BB2-83CF-2D624056324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ects an integer, but enter a 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in.cle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EF12-C7A5-4F03-8693-2B51ED3171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"derive"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1981080"/>
            <a:ext cx="6629400" cy="3213360"/>
            <a:chOff x="1295280" y="1981080"/>
            <a:chExt cx="6629400" cy="3213360"/>
          </a:xfrm>
        </p:grpSpPr>
        <p:sp>
          <p:nvSpPr>
            <p:cNvPr id="104" name=""/>
            <p:cNvSpPr/>
            <p:nvPr/>
          </p:nvSpPr>
          <p:spPr>
            <a:xfrm>
              <a:off x="1295280" y="1981080"/>
              <a:ext cx="6629400" cy="321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610440" y="4470840"/>
              <a:ext cx="1951560" cy="465840"/>
              <a:chOff x="3610440" y="4470840"/>
              <a:chExt cx="1951560" cy="4658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610440" y="4470840"/>
                <a:ext cx="1951560" cy="465840"/>
                <a:chOff x="3610440" y="4470840"/>
                <a:chExt cx="1951560" cy="465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3719880" y="457056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746600" y="3362400"/>
              <a:ext cx="1951920" cy="465840"/>
              <a:chOff x="4746600" y="3362400"/>
              <a:chExt cx="1951920" cy="46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4746600" y="3362400"/>
                <a:ext cx="1951920" cy="465840"/>
                <a:chOff x="4746600" y="3362400"/>
                <a:chExt cx="1951920" cy="46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856040" y="346212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474640" y="3362400"/>
              <a:ext cx="1951560" cy="465840"/>
              <a:chOff x="2474640" y="3362400"/>
              <a:chExt cx="1951560" cy="465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474640" y="3362400"/>
                <a:ext cx="1951560" cy="465840"/>
                <a:chOff x="2474640" y="3362400"/>
                <a:chExt cx="1951560" cy="465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2583720" y="3462120"/>
                <a:ext cx="173196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610440" y="2253960"/>
              <a:ext cx="1951560" cy="465840"/>
              <a:chOff x="3610440" y="2253960"/>
              <a:chExt cx="1951560" cy="4658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610440" y="2253960"/>
                <a:ext cx="1951560" cy="465840"/>
                <a:chOff x="3610440" y="2253960"/>
                <a:chExt cx="1951560" cy="465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719880" y="235368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65880" y="2719800"/>
              <a:ext cx="1841400" cy="642240"/>
              <a:chOff x="3665880" y="2719800"/>
              <a:chExt cx="1841400" cy="64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5249520" y="271980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48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65880" y="271980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8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665880" y="3828240"/>
              <a:ext cx="1841400" cy="642240"/>
              <a:chOff x="3665880" y="3828240"/>
              <a:chExt cx="1841400" cy="642240"/>
            </a:xfrm>
          </p:grpSpPr>
          <p:sp>
            <p:nvSpPr>
              <p:cNvPr id="129" name=""/>
              <p:cNvSpPr/>
              <p:nvPr/>
            </p:nvSpPr>
            <p:spPr>
              <a:xfrm>
                <a:off x="5249520" y="382824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65880" y="382824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477B-5A4A-4251-B377-D9F5898FA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ing an Output Stream to an Input Stre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buffer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ive program (prompt user, he/she respo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pt needs to appear before input proc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outputs only appear when buffer fills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izes stre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appear before subsequent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ally don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could 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tie( &amp;cou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to explicitly tie other I/O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n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.tie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6DCE-7496-4DCD-A399-F90F6003D7B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and extra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input (usually keyboa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gt;&g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ata type of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proper overloaded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tra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C691-09CD-4DB9-8F43-2E55D90B75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55:01Z</dcterms:created>
  <dc:creator>Audrey Lee</dc:creator>
  <dc:description/>
  <dc:language>en-US</dc:language>
  <cp:lastModifiedBy>Pearson Education</cp:lastModifiedBy>
  <dcterms:modified xsi:type="dcterms:W3CDTF">2002-10-01T19:53:53Z</dcterms:modified>
  <cp:revision>673</cp:revision>
  <dc:subject/>
  <dc:title>fig12_03.cpp (1 of 1)  fig12_03.cpp output (1 of 1)  </dc:title>
</cp:coreProperties>
</file>