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EC48-2A78-4CAD-BCE4-270407737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4D13-D904-4EB9-B19E-86429F1F0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6405-A00D-4064-B663-1B627AE13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D6C2-BE95-488F-AF64-B0C4C6839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2B83-228A-44F6-8D90-20496F0E57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4843-77C0-4CBB-9A5E-0AF172B07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735A-1C23-41E1-A6D9-AA24E871B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C94C-82F2-4E45-92FB-63FDE13399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6672-45E3-4285-86B6-F057914E6A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F509-2BD7-447B-A9BE-E50C34F45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108F-F63E-4B7D-8C8E-01F4A03AB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535F-49E7-4585-B440-910E0239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7F7E-764F-47EA-AEB2-BB8F7FE5B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0D59-16A3-4DEC-B9E8-DFCA5691E8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FF57-6A96-42B1-8337-FCAD46598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46CE-B52D-4E06-BEA6-86AAD5E06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DCF7-13E7-4374-A7A1-F067EEA76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41B-9EA0-4948-AA18-721322DF2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99E3-3BDA-4D8B-A89A-0A63F0B7E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5E5C-0431-4D1F-A1B0-3B8F1A021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0F0B-7A1A-486E-824F-DBA70CF68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471B-BA57-4E27-A3FC-69FA49974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D24-120B-4B66-91FA-7D66EF29F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846F-C1E5-4331-BDC1-D4730FCD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B1EF-2B91-40AB-B080-847DBA95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FBD-1C59-4328-9C97-B7B2471A9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- Class string and String Stream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01760"/>
            <a:ext cx="7772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Assignment and 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mpar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ub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p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nding Strings and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ing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serting Characters into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version to C-Style char *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Stream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D680-932B-4F18-A644-663FFE4907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ar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compare(s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sitiv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exicographically gre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letter by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xicographically greater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gative if less, zero if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, star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ll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0A2C-61D0-4579-954A-6B2702CBEB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2: fig15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comparison capabili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omparison function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i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796F-BFBF-4035-B4BB-180419518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==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=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ring1 != string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&gt;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g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1 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l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1 and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ring1.compare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7760" y="1440000"/>
            <a:ext cx="5867640" cy="1379880"/>
            <a:chOff x="3047760" y="1440000"/>
            <a:chExt cx="5867640" cy="1379880"/>
          </a:xfrm>
        </p:grpSpPr>
        <p:sp>
          <p:nvSpPr>
            <p:cNvPr id="129" name=""/>
            <p:cNvSpPr/>
            <p:nvPr/>
          </p:nvSpPr>
          <p:spPr>
            <a:xfrm>
              <a:off x="4495680" y="1440000"/>
              <a:ext cx="441972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Testing the comparison functi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sti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 &gt; string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47760" y="1440000"/>
              <a:ext cx="1447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8120" y="685800"/>
            <a:ext cx="4038480" cy="590400"/>
            <a:chOff x="3048120" y="685800"/>
            <a:chExt cx="4038480" cy="590400"/>
          </a:xfrm>
        </p:grpSpPr>
        <p:sp>
          <p:nvSpPr>
            <p:cNvPr id="132" name=""/>
            <p:cNvSpPr/>
            <p:nvPr/>
          </p:nvSpPr>
          <p:spPr>
            <a:xfrm>
              <a:off x="44197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verloa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48120" y="990720"/>
              <a:ext cx="13716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DE1D-983D-4129-B228-3D9E97D0F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(elements 2-5) and string3 (elements 0-5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1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4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.length()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g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l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2840" y="664920"/>
            <a:ext cx="3810240" cy="337680"/>
            <a:chOff x="2742840" y="664920"/>
            <a:chExt cx="3810240" cy="337680"/>
          </a:xfrm>
        </p:grpSpPr>
        <p:sp>
          <p:nvSpPr>
            <p:cNvPr id="137" name=""/>
            <p:cNvSpPr/>
            <p:nvPr/>
          </p:nvSpPr>
          <p:spPr>
            <a:xfrm>
              <a:off x="3886200" y="66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42840" y="6649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9205-A24E-4C89-BB4E-5C9533169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2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g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l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767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Testing the comparison fu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st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&g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string2 )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2, 5, string3, 0, 5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.compare( 0, string2.length(), string2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.compare( 0, 3, string4 )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A3B8-18FF-4EE4-BE23-1A7D77E409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b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ubstr(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beginning with inde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51B9-6CCC-4CEC-8949-6C3946806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3: fig15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 sub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irplane landed on tim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rieve substring "plane"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s at subscript 7 and consists of 5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3103560"/>
            <a:ext cx="4572000" cy="858960"/>
            <a:chOff x="3429000" y="3103560"/>
            <a:chExt cx="4572000" cy="858960"/>
          </a:xfrm>
        </p:grpSpPr>
        <p:sp>
          <p:nvSpPr>
            <p:cNvPr id="148" name=""/>
            <p:cNvSpPr/>
            <p:nvPr/>
          </p:nvSpPr>
          <p:spPr>
            <a:xfrm>
              <a:off x="5334120" y="310356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b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9000" y="32767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DE9C-F69E-44E8-A1C0-111BCC5D8B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wapp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swap(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tch contents of tw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F703-2DC9-4DA9-94C7-57BD1BA955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4: fig1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swap function to swap two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w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.swap( secon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cond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3360" y="3733920"/>
            <a:ext cx="4115160" cy="838080"/>
            <a:chOff x="2133360" y="3733920"/>
            <a:chExt cx="4115160" cy="838080"/>
          </a:xfrm>
        </p:grpSpPr>
        <p:sp>
          <p:nvSpPr>
            <p:cNvPr id="155" name=""/>
            <p:cNvSpPr/>
            <p:nvPr/>
          </p:nvSpPr>
          <p:spPr>
            <a:xfrm>
              <a:off x="3581280" y="3733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052F-B19C-4277-ABA5-26F6EADBF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F064-C719-45BC-B7EB-1C04B34E51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manipulation (copying, searching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basic_string&lt; char 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 "Hello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2( 8, 'x'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'x'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month = "Marc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all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740D-237E-4937-B35D-CB81A1212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Characteristi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ize(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apaci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elements that can be stored without re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max_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ossible strin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empty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size(new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zes string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EBF1-EAF0-45A1-AF7C-F96877CDBB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5: fig15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s related to size and capac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istics before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tomato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nter a 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5B97-266C-43E0-BC91-E2A6FBC3F6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tistics after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soup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maining string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46 character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abcdefghijklmnopqrstuvwxyz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ing1 is now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10 element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resize( string1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ats after resizing by (length + 10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504960" y="2590920"/>
            <a:ext cx="2895840" cy="838080"/>
            <a:chOff x="3504960" y="2590920"/>
            <a:chExt cx="2895840" cy="838080"/>
          </a:xfrm>
        </p:grpSpPr>
        <p:sp>
          <p:nvSpPr>
            <p:cNvPr id="166" name=""/>
            <p:cNvSpPr/>
            <p:nvPr/>
          </p:nvSpPr>
          <p:spPr>
            <a:xfrm>
              <a:off x="4952880" y="25909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ize str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504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3936-F1C4-4440-872D-B0871D7E5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ring 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paci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capacity(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 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max_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size()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eng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length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empt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38280"/>
            <a:ext cx="7010280" cy="358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before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tring: tomato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entered was: to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after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00600" y="152280"/>
            <a:ext cx="4114800" cy="838440"/>
            <a:chOff x="4800600" y="152280"/>
            <a:chExt cx="4114800" cy="838440"/>
          </a:xfrm>
        </p:grpSpPr>
        <p:sp>
          <p:nvSpPr>
            <p:cNvPr id="172" name=""/>
            <p:cNvSpPr/>
            <p:nvPr/>
          </p:nvSpPr>
          <p:spPr>
            <a:xfrm>
              <a:off x="6248520" y="152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various string characteristic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00600" y="304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CAC8-4258-4650-9643-C9E3258D91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ing string is: s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 now: soup1234567890abcdefghijklmnopqrstuvwxyz12345678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after resizing by (length + 10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CCE2-C732-4D78-B347-7DC30898C1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ound, index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foun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constant in class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right-to-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find_frist_of( "abcd"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ndex of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83A5-C45C-4620-B538-2BD20AED9B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31DB-9FC8-4285-AD17-DDA2088B4B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6: fig1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tring find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"is" at location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r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r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o'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4572000"/>
            <a:ext cx="4115160" cy="837720"/>
            <a:chOff x="4038120" y="4572000"/>
            <a:chExt cx="4115160" cy="837720"/>
          </a:xfrm>
        </p:grpSpPr>
        <p:sp>
          <p:nvSpPr>
            <p:cNvPr id="183" name=""/>
            <p:cNvSpPr/>
            <p:nvPr/>
          </p:nvSpPr>
          <p:spPr>
            <a:xfrm>
              <a:off x="548604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first occurre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47242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90560" y="3505320"/>
            <a:ext cx="4115160" cy="838080"/>
            <a:chOff x="2590560" y="3505320"/>
            <a:chExt cx="4115160" cy="838080"/>
          </a:xfrm>
        </p:grpSpPr>
        <p:sp>
          <p:nvSpPr>
            <p:cNvPr id="186" name=""/>
            <p:cNvSpPr/>
            <p:nvPr/>
          </p:nvSpPr>
          <p:spPr>
            <a:xfrm>
              <a:off x="40384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5905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B0FC-6E58-4CE7-863E-51A61BA28D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m' at location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la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la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1' at location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noi spm\" and was 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.' at location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12noi spm\" and w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76360" y="685800"/>
            <a:ext cx="4115160" cy="3429000"/>
            <a:chOff x="3276360" y="685800"/>
            <a:chExt cx="4115160" cy="3429000"/>
          </a:xfrm>
        </p:grpSpPr>
        <p:sp>
          <p:nvSpPr>
            <p:cNvPr id="191" name=""/>
            <p:cNvSpPr/>
            <p:nvPr/>
          </p:nvSpPr>
          <p:spPr>
            <a:xfrm>
              <a:off x="4724280" y="685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to other find functions simi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276360" y="838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429000" y="838080"/>
              <a:ext cx="1295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733560" y="838080"/>
              <a:ext cx="99036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EB32-1B82-4260-829D-A6C57883EB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characters not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nd_first_not_of(\"noon is 12 p.m.\"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turn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133720"/>
            <a:ext cx="7010280" cy="365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on is 12 p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r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of) found 'o' from the group "misop" at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last_of) found 'm' from the group "misop" at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1' is not contained in "noi spm" and was found at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.' is not contained in "12noi spm" and was found at: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_first_not_of("noon is 12 p.m.") returne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2B63-7185-4C11-8D78-5B0CC7EE5C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definitions 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1 = 'c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2( 'u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3 = 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4( 8 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assign to o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'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8BAA-5223-493E-85E6-0C7DC195EA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placing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erase( sta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ase from inde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nd of string, 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dex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rt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characters to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placemen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, index, num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replacement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elements to use when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can overwrit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max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92BD-CB35-46A7-8839-77B8B6BD78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7: fig1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s erase and repl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piler concatenates all parts into on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in any left subtre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re less than the value in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parent node and the values 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ny right subtree are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the value in the parent n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characters from (and including) location 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ugh the end of string1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er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C665-642B-4AAB-A6EE-302E5AFA31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new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 after eras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first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spaces with peri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econd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periods with two semicol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E: this will overwrite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xxx;;yy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114800" y="1066680"/>
            <a:ext cx="4114800" cy="838440"/>
            <a:chOff x="4114800" y="1066680"/>
            <a:chExt cx="4114800" cy="838440"/>
          </a:xfrm>
        </p:grpSpPr>
        <p:sp>
          <p:nvSpPr>
            <p:cNvPr id="205" name=""/>
            <p:cNvSpPr/>
            <p:nvPr/>
          </p:nvSpPr>
          <p:spPr>
            <a:xfrm>
              <a:off x="5562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each space and replace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14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5840" y="2437920"/>
            <a:ext cx="3734280" cy="962280"/>
            <a:chOff x="3885840" y="2437920"/>
            <a:chExt cx="3734280" cy="962280"/>
          </a:xfrm>
        </p:grpSpPr>
        <p:sp>
          <p:nvSpPr>
            <p:cNvPr id="208" name=""/>
            <p:cNvSpPr/>
            <p:nvPr/>
          </p:nvSpPr>
          <p:spPr>
            <a:xfrm>
              <a:off x="49528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 each search at the next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85840" y="243792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19360" y="3505320"/>
            <a:ext cx="4115160" cy="838080"/>
            <a:chOff x="4419360" y="3505320"/>
            <a:chExt cx="4115160" cy="838080"/>
          </a:xfrm>
        </p:grpSpPr>
        <p:sp>
          <p:nvSpPr>
            <p:cNvPr id="211" name=""/>
            <p:cNvSpPr/>
            <p:nvPr/>
          </p:nvSpPr>
          <p:spPr>
            <a:xfrm>
              <a:off x="5867280" y="3505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ac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wo semicolons (the two characters at index 5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4193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0400" y="228600"/>
            <a:ext cx="3124080" cy="1428840"/>
            <a:chOff x="3200400" y="228600"/>
            <a:chExt cx="3124080" cy="1428840"/>
          </a:xfrm>
        </p:grpSpPr>
        <p:sp>
          <p:nvSpPr>
            <p:cNvPr id="214" name=""/>
            <p:cNvSpPr/>
            <p:nvPr/>
          </p:nvSpPr>
          <p:spPr>
            <a:xfrm>
              <a:off x="365760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::n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presents max string leng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200400" y="81900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DAD6-8652-45BB-B950-744291B235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node and the values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y right subtree are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the value in the pa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 after er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first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.values.in.any.left.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.less.than.the.value.in.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econd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;;alues;;n;;ny;;eft;;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;;ess;;han;;he;;alue;;n;;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F1AF-CC65-4D63-A9D0-D3E8E67E1B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ing Characters into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, index2, N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substring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starting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7C03-3BA8-42DF-8511-1927BF4080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8: fig15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lass string inser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ginning 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dl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strings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middle" at location 10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223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element 10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2AA0-64B0-4A4A-9498-F4F68191D1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xx" at location 3 in string3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 after insert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362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tr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 after inse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middl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xx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19520" y="685440"/>
            <a:ext cx="3504960" cy="1495440"/>
            <a:chOff x="2819520" y="685440"/>
            <a:chExt cx="3504960" cy="1495440"/>
          </a:xfrm>
        </p:grpSpPr>
        <p:sp>
          <p:nvSpPr>
            <p:cNvPr id="229" name=""/>
            <p:cNvSpPr/>
            <p:nvPr/>
          </p:nvSpPr>
          <p:spPr>
            <a:xfrm>
              <a:off x="3657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819520" y="685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3380-2CE3-486B-A89D-8EEF71551D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0  Conversion to C-Style char *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not necessaril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py( ptr, N, index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into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null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_st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dat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5E91-1F11-401A-8288-E64EF665E2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9: fig15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to C-style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ing1.leng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characters from string1 into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copy( ptr2, 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2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ull ter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converted to a C-Style string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c_str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28440" y="2819520"/>
            <a:ext cx="4724640" cy="2819160"/>
            <a:chOff x="1828440" y="2819520"/>
            <a:chExt cx="4724640" cy="2819160"/>
          </a:xfrm>
        </p:grpSpPr>
        <p:sp>
          <p:nvSpPr>
            <p:cNvPr id="236" name=""/>
            <p:cNvSpPr/>
            <p:nvPr/>
          </p:nvSpPr>
          <p:spPr>
            <a:xfrm>
              <a:off x="3886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_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828440" y="2971800"/>
              <a:ext cx="2057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514600" y="2971800"/>
              <a:ext cx="13716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DE47-9E60-481A-B278-48112B34B8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to pointer ptr1 the const char * returned b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data(). NOTE: this is a potentially danger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. If string1 is modified, pointer ptr1 ca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come invalid.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1 = string1.data(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ach character using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( ptr1 + i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pointer arithmet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t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7339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converted to a C-Style string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1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2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0BCC-B1AA-4AEA-9F46-B1D45C55E7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cessari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individual charac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[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member functions take start position a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ngth argument too large, max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 cin,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d by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088E-0BFB-4315-8523-A5F7E19BD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wards and backwards traversal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to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pointer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verage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B01B-0196-4856-BF76-642F7BFDC7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::const_iterator i = s.begi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not modify string (more Chapter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; // referen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; // traverse one character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end of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!= s.e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after la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CC0C-8EA5-499C-8984-3DCDF8FE97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0: fig1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terator to output a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iter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::const_iterator iterator1 = string1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Using iterator iterator1) 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string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1 != string1.end()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eference iterator to get ch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vance iterator to next cha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00400" y="3657600"/>
            <a:ext cx="4114800" cy="838080"/>
            <a:chOff x="3200400" y="3657600"/>
            <a:chExt cx="4114800" cy="838080"/>
          </a:xfrm>
        </p:grpSpPr>
        <p:sp>
          <p:nvSpPr>
            <p:cNvPr id="249" name=""/>
            <p:cNvSpPr/>
            <p:nvPr/>
          </p:nvSpPr>
          <p:spPr>
            <a:xfrm>
              <a:off x="4648320" y="3657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each character using the it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20040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BBEA-178A-4EAA-8055-0CF4670CAA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Using iterator iterator1) string1 is: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72C9-4BD5-42E7-A917-CA355CCB89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strings to and fro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n-memory I/O or string stream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from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to a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ing formatting to save data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9D0-F2A7-482E-96CA-80CFF3C2DD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ingstream outputSt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ing &lt;&lt; s1 &lt;&lt; s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was output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ing.st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612C-677B-4026-838C-7E0F549050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1: fig1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dynamically allocated o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stringstream outputString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ingstream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 of several data type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an ostringstream objec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ddress of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438280" y="2971800"/>
            <a:ext cx="4114800" cy="838080"/>
            <a:chOff x="2438280" y="29718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3886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382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9B42-7D4D-4249-BDBD-E8847CED21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.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, double and int to outputString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string1 &lt;&lt; string2 &lt;&lt; string3 &lt;&lt; double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&lt;&lt; string4 &lt;&lt; integer &lt;&lt; string5 &lt;&lt; &amp;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tr to output content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dditional characters and call str to outpu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re characters add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dditional stream insertions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76520" y="1523880"/>
            <a:ext cx="3962160" cy="1876320"/>
            <a:chOff x="1676520" y="1523880"/>
            <a:chExt cx="3962160" cy="1876320"/>
          </a:xfrm>
        </p:grpSpPr>
        <p:sp>
          <p:nvSpPr>
            <p:cNvPr id="26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format just like to writing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676520" y="15238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C4C3-3C28-48B6-90F7-38680170E0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dditional stream inser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re characters 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81FC-263B-4D99-81FF-5EBD8FAC824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ingstream inputString ( my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ing &gt;&gt; string1 &gt;&gt; string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ading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4D2-E880-464D-AF98-319B1ED62D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separate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.assign(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ring.assign(s, start, 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[0] = s3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851A-5A74-4636-957D-6A6AF2FB2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2: fig1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from an i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n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est 123 4.7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stringstream inputString( in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81280" y="3276720"/>
            <a:ext cx="4114800" cy="838080"/>
            <a:chOff x="3581280" y="327672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502920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5812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E88B-4C4D-4A3A-8554-EB242537AD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string1 &gt;&gt; string2 &gt;&gt; integer &gt;&g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&gt;&gt; characte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ollowing items were extract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the istringstream object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read from empty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eam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.goo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ng valu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String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3520" y="457200"/>
            <a:ext cx="4877280" cy="1175400"/>
            <a:chOff x="1523520" y="457200"/>
            <a:chExt cx="4877280" cy="1175400"/>
          </a:xfrm>
        </p:grpSpPr>
        <p:sp>
          <p:nvSpPr>
            <p:cNvPr id="279" name=""/>
            <p:cNvSpPr/>
            <p:nvPr/>
          </p:nvSpPr>
          <p:spPr>
            <a:xfrm>
              <a:off x="3733920" y="129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data into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523520" y="457200"/>
              <a:ext cx="2210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160" y="3048120"/>
            <a:ext cx="4115160" cy="1067400"/>
            <a:chOff x="2819160" y="3048120"/>
            <a:chExt cx="4115160" cy="1067400"/>
          </a:xfrm>
        </p:grpSpPr>
        <p:sp>
          <p:nvSpPr>
            <p:cNvPr id="282" name=""/>
            <p:cNvSpPr/>
            <p:nvPr/>
          </p:nvSpPr>
          <p:spPr>
            <a:xfrm>
              <a:off x="4267080" y="3048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1 if can still read data (no EOF, bad bits, etc). In this case, there is no data, so the test 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664F-244A-4AFD-8C84-AF16792F63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items were extra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he i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1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4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ing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CB70-6066-46C0-B7A5-A511FAC2E3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t( index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haracter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"pe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 += "pe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e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s1,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2BC8-DA80-4045-A351-A354F8E3D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: fig15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assignment and concaten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 = string1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string1 to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assign( string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tring1 to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61960" y="2209680"/>
            <a:ext cx="4115160" cy="1752840"/>
            <a:chOff x="2361960" y="2209680"/>
            <a:chExt cx="4115160" cy="1752840"/>
          </a:xfrm>
        </p:grpSpPr>
        <p:sp>
          <p:nvSpPr>
            <p:cNvPr id="102" name=""/>
            <p:cNvSpPr/>
            <p:nvPr/>
          </p:nvSpPr>
          <p:spPr>
            <a:xfrm>
              <a:off x="38098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initialization and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619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361960" y="23623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04960" y="3124080"/>
            <a:ext cx="4115160" cy="1219320"/>
            <a:chOff x="3504960" y="3124080"/>
            <a:chExt cx="4115160" cy="1219320"/>
          </a:xfrm>
        </p:grpSpPr>
        <p:sp>
          <p:nvSpPr>
            <p:cNvPr id="106" name=""/>
            <p:cNvSpPr/>
            <p:nvPr/>
          </p:nvSpPr>
          <p:spPr>
            <a:xfrm>
              <a:off x="4952880" y="3124080"/>
              <a:ext cx="266724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04960" y="350532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8396-2A21-4CC4-AC16-8AF730FBD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y string2 and string3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modification of string2 and string3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monstrating member function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tring3.length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3.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clare string4 and string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ul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+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rpe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om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tacomb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subscript locations 4 through end of string1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tring "comb" (string5 was initially empty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5.append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1.length()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ncatenation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5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5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95120" y="1447920"/>
            <a:ext cx="5410800" cy="1167120"/>
            <a:chOff x="2895120" y="1447920"/>
            <a:chExt cx="5410800" cy="1167120"/>
          </a:xfrm>
        </p:grpSpPr>
        <p:sp>
          <p:nvSpPr>
            <p:cNvPr id="111" name=""/>
            <p:cNvSpPr/>
            <p:nvPr/>
          </p:nvSpPr>
          <p:spPr>
            <a:xfrm>
              <a:off x="4191120" y="1676520"/>
              <a:ext cx="411480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modification of string2 and string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95120" y="14479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2361960"/>
            <a:ext cx="3124080" cy="1038240"/>
            <a:chOff x="2514600" y="2361960"/>
            <a:chExt cx="3124080" cy="1038240"/>
          </a:xfrm>
        </p:grpSpPr>
        <p:sp>
          <p:nvSpPr>
            <p:cNvPr id="114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stea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514600" y="23619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62520" y="3726000"/>
            <a:ext cx="4343400" cy="1379880"/>
            <a:chOff x="3962520" y="3726000"/>
            <a:chExt cx="4343400" cy="1379880"/>
          </a:xfrm>
        </p:grpSpPr>
        <p:sp>
          <p:nvSpPr>
            <p:cNvPr id="117" name=""/>
            <p:cNvSpPr/>
            <p:nvPr/>
          </p:nvSpPr>
          <p:spPr>
            <a:xfrm>
              <a:off x="5638680" y="3726000"/>
              <a:ext cx="266724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concatenat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a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p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catap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5: 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962520" y="480060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C8D4-E3FD-4DE2-B422-F7DBE0A51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83808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odification of string2 and string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ncaten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a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p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catap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5: 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48FC-6FDA-415D-B964-9B932E1C2A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20:00:22Z</dcterms:created>
  <dc:creator>kalid</dc:creator>
  <dc:description/>
  <dc:language>en-US</dc:language>
  <cp:lastModifiedBy>Pearson Education</cp:lastModifiedBy>
  <dcterms:modified xsi:type="dcterms:W3CDTF">2002-08-22T12:46:21Z</dcterms:modified>
  <cp:revision>495</cp:revision>
  <dc:subject/>
  <dc:title>PowerPoint Presentation</dc:title>
</cp:coreProperties>
</file>