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401D-F858-489F-9535-36DAB2461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FBE7-7DAB-4B2F-845E-ABCE760D0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B156-0F42-4ABF-8B37-0C4EC966B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70B8-B646-41D5-8AD4-7E2330704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368E-801C-467E-A496-45ADFCEED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4923-24EC-45DA-85DE-BE2802EE2F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0A5E-05FE-419C-9F1E-D6A6F46E7C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CBA1-3E0A-45F1-B489-6F3DB1F809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8232-D5A2-4E7A-9A27-F4058A849A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F1F8-1905-4DFA-911A-2E8C761D9E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DCFB-F5A7-4CAC-9D89-5C220870D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D98E-89CF-4281-B749-30FD4D9FC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40D8-D702-4182-AE77-A7C25E7A0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D02F-036A-4CDD-B6CF-2F4E4E4664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D5CF-BC86-4559-9A4C-667C2942E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CFB4-AD1B-4957-ADAC-8CDC47E61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FA36-DFA7-49F4-A889-AC9CD72D3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98D4-160C-46A0-AB46-A921592A9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F54D-6B8C-436C-8A1B-482C69BB5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DBB4-92C7-4C92-9B76-3086CCA99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6545-8ED0-457D-BF06-5DC104FF4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BF77-5485-498E-952B-26BE52D6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46F3-AB2A-4061-8489-0A667D1F0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8E81-59DD-4C73-926D-E591F0919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4262-8149-457F-B6FA-4400BC788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36F7-6249-4E93-8C2D-A11312C2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9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ubscripted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9D7D-01DF-4AA3-AC18-062617C7C6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4: fig0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 with a declar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initializer list to initialize array 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i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2438280"/>
            <a:ext cx="4114800" cy="838440"/>
            <a:chOff x="1752480" y="2438280"/>
            <a:chExt cx="4114800" cy="838440"/>
          </a:xfrm>
        </p:grpSpPr>
        <p:sp>
          <p:nvSpPr>
            <p:cNvPr id="176" name=""/>
            <p:cNvSpPr/>
            <p:nvPr/>
          </p:nvSpPr>
          <p:spPr>
            <a:xfrm>
              <a:off x="32004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the initializ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5248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DF3D-DD57-4E9E-B1D6-B5B01D0D9A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3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6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1BAD-BAB0-4FB4-8702-A51CCB119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pecified with constant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size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named constants or read-only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6EF8-EAC2-4B3C-9A1F-CB44E3175B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5: fig04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s to the even integers from 2 to 20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 variable can be used to specify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 has 1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h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38280" y="2362320"/>
            <a:ext cx="4114800" cy="1295280"/>
            <a:chOff x="2438280" y="2362320"/>
            <a:chExt cx="4114800" cy="1295280"/>
          </a:xfrm>
        </p:grpSpPr>
        <p:grpSp>
          <p:nvGrpSpPr>
            <p:cNvPr id="185" name=""/>
            <p:cNvGrpSpPr/>
            <p:nvPr/>
          </p:nvGrpSpPr>
          <p:grpSpPr>
            <a:xfrm>
              <a:off x="2438280" y="2362320"/>
              <a:ext cx="4114800" cy="838080"/>
              <a:chOff x="2438280" y="2362320"/>
              <a:chExt cx="411480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6200" y="2362320"/>
                <a:ext cx="2666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use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keyword. Only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can specify array siz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438280" y="2743200"/>
                <a:ext cx="1447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2438280" y="2743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71800" y="3276720"/>
            <a:ext cx="4114800" cy="2040840"/>
            <a:chOff x="2971800" y="3276720"/>
            <a:chExt cx="4114800" cy="2040840"/>
          </a:xfrm>
        </p:grpSpPr>
        <p:sp>
          <p:nvSpPr>
            <p:cNvPr id="190" name=""/>
            <p:cNvSpPr/>
            <p:nvPr/>
          </p:nvSpPr>
          <p:spPr>
            <a:xfrm>
              <a:off x="4419720" y="32767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becomes more scalable when we set the array size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 We can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the loops will still work (otherwise, we’d have to update every loop in the program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718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B9F1-FD3A-49A0-B4C2-B52A026303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24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C703-C580-4BD0-A2FE-1B2F25BE9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6: fig04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properly initialized constant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constan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constant variable x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25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constant variable x is: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1371600"/>
            <a:ext cx="4114800" cy="838080"/>
            <a:chOff x="1828800" y="1371600"/>
            <a:chExt cx="4114800" cy="838080"/>
          </a:xfrm>
        </p:grpSpPr>
        <p:sp>
          <p:nvSpPr>
            <p:cNvPr id="199" name=""/>
            <p:cNvSpPr/>
            <p:nvPr/>
          </p:nvSpPr>
          <p:spPr>
            <a:xfrm>
              <a:off x="32767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 initial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8288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19AE-979C-4D1D-A78F-0A29F9015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7: fig0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st object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nst int x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x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cannot modify a cons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6) : error C2734: 'x'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object must be initialized if not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8) : error C2166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95280" y="457200"/>
            <a:ext cx="4572000" cy="1371600"/>
            <a:chOff x="1295280" y="457200"/>
            <a:chExt cx="457200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1752480" y="457200"/>
              <a:ext cx="4114800" cy="1067400"/>
              <a:chOff x="1752480" y="457200"/>
              <a:chExt cx="4114800" cy="106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400" y="45720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nitializ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results in a syntax error. Attempting to modify th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s another err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752480" y="60948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1295280" y="6094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646D-AEA6-4F7E-A656-13F92CF912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8: fig0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ute the sum of the elements of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 cont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[ i ]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of array element value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ta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627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f array element values is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C219-FCB9-446B-A834-333D3B0CB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9: fig04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stogram print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element of array n, output a bar in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[ i ]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n[ i ]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0400" y="4572000"/>
            <a:ext cx="4114800" cy="838080"/>
            <a:chOff x="3200400" y="4572000"/>
            <a:chExt cx="4114800" cy="838080"/>
          </a:xfrm>
        </p:grpSpPr>
        <p:sp>
          <p:nvSpPr>
            <p:cNvPr id="215" name=""/>
            <p:cNvSpPr/>
            <p:nvPr/>
          </p:nvSpPr>
          <p:spPr>
            <a:xfrm>
              <a:off x="4648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s asterisks corresponding to size of array elemen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i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B21E-6FB6-4021-A53C-DD01D66505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nex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5EA7-82FA-4D1E-8D8A-22EE2FDFB7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(same size throughout progr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-based arrays (C-l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s objects (C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A566-C733-4345-BC71-A29CA1146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0: fig04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oll die 600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s 20-line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            // of Fig. 3.8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00400" y="3060720"/>
            <a:ext cx="4114800" cy="3014280"/>
            <a:chOff x="3200400" y="3060720"/>
            <a:chExt cx="4114800" cy="3014280"/>
          </a:xfrm>
        </p:grpSpPr>
        <p:sp>
          <p:nvSpPr>
            <p:cNvPr id="223" name=""/>
            <p:cNvSpPr/>
            <p:nvPr/>
          </p:nvSpPr>
          <p:spPr>
            <a:xfrm>
              <a:off x="4648320" y="3060720"/>
              <a:ext cx="266688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ake of old program to roll dice. An array is used instead of 6 regular variables, and the proper element can be updated easily (without nee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reates a number between 1 and 6, which determines the index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should be increme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37749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745F-F6CD-4B33-AEF1-B1B456700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y elements 1-6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face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74AD-F4DC-48B4-990A-1CE74E4EE3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4.11: fig04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udent poll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efine array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place survey responses in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pons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itialize frequency counter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D2EA-BA6A-4136-B574-642CA8EF93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answer, select value of an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ses and use that value as subscript i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equency to determine element to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responses[answer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i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rating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2840" y="1295280"/>
            <a:ext cx="3734280" cy="1067400"/>
            <a:chOff x="2742840" y="1295280"/>
            <a:chExt cx="3734280" cy="1067400"/>
          </a:xfrm>
        </p:grpSpPr>
        <p:sp>
          <p:nvSpPr>
            <p:cNvPr id="233" name=""/>
            <p:cNvSpPr/>
            <p:nvPr/>
          </p:nvSpPr>
          <p:spPr>
            <a:xfrm>
              <a:off x="3809880" y="12952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ponses[answer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ating (from 1 to 10). This determines the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42840" y="129528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D581-14AE-4BE7-B2B6-1AFAA1B5CA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ng    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  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AB27-5703-4F5D-A880-65BF7C2399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more in ch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acter implicitly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s 6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   'o',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7E4B-4CD5-4007-8D79-C0BEDA581A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user input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at first whitespa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ant to avoid this (section 5.12 explains h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tring2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work for other arra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printed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3A2C-3912-47CC-B125-56E34B4BA4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_12: fig0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ating character arrays as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2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liter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15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tring from user into array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tring \"hello there\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s "hello" [space terminates input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with spaces between characters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90560" y="1600200"/>
            <a:ext cx="4115160" cy="1067400"/>
            <a:chOff x="2590560" y="1600200"/>
            <a:chExt cx="4115160" cy="1067400"/>
          </a:xfrm>
        </p:grpSpPr>
        <p:sp>
          <p:nvSpPr>
            <p:cNvPr id="244" name=""/>
            <p:cNvSpPr/>
            <p:nvPr/>
          </p:nvSpPr>
          <p:spPr>
            <a:xfrm>
              <a:off x="4038480" y="1600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different ways to declare string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nitialized, and its size determined automatically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560" y="20574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360" y="2666880"/>
            <a:ext cx="4115160" cy="1447920"/>
            <a:chOff x="2133360" y="2666880"/>
            <a:chExt cx="4115160" cy="1447920"/>
          </a:xfrm>
        </p:grpSpPr>
        <p:sp>
          <p:nvSpPr>
            <p:cNvPr id="247" name=""/>
            <p:cNvSpPr/>
            <p:nvPr/>
          </p:nvSpPr>
          <p:spPr>
            <a:xfrm>
              <a:off x="3581280" y="2666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amples of reading strings from the keyboard and printing them 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133360" y="31240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905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6C99-D47E-4F86-B16D-D3D277F157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haracters until null character is rea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tring1[ i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s "ther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62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tring "hello there"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 e l 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7760" y="825480"/>
            <a:ext cx="4115160" cy="1067400"/>
            <a:chOff x="3047760" y="825480"/>
            <a:chExt cx="4115160" cy="1067400"/>
          </a:xfrm>
        </p:grpSpPr>
        <p:sp>
          <p:nvSpPr>
            <p:cNvPr id="254" name=""/>
            <p:cNvSpPr/>
            <p:nvPr/>
          </p:nvSpPr>
          <p:spPr>
            <a:xfrm>
              <a:off x="4495680" y="825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ccess the characters in a string using array notation. The loop end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 is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047760" y="825480"/>
              <a:ext cx="144756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26AD-DD91-438A-B169-B2774B005D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static storage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cal variables save values between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ble only in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local arrays to be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array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d (and destroyed) in every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7D2F-61E0-41DC-80C0-FD5FCACA57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array name and position number (inde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 arrayname[ position number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element arra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1 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h element as position N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416A-DD6F-4B70-B25D-4A89EDFC7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3: fig0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arrays are initialized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Second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D58F-5847-48D4-B483-E2C31D9525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 st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to 0 first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nter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1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t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63" name=""/>
            <p:cNvSpPr/>
            <p:nvPr/>
          </p:nvSpPr>
          <p:spPr>
            <a:xfrm>
              <a:off x="35812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array, initialized to zero on first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361960" y="2590920"/>
            <a:ext cx="4115160" cy="838080"/>
            <a:chOff x="2361960" y="2590920"/>
            <a:chExt cx="4115160" cy="838080"/>
          </a:xfrm>
        </p:grpSpPr>
        <p:sp>
          <p:nvSpPr>
            <p:cNvPr id="266" name=""/>
            <p:cNvSpPr/>
            <p:nvPr/>
          </p:nvSpPr>
          <p:spPr>
            <a:xfrm>
              <a:off x="38098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data is changed; the modified values st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61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BBA2-6209-480A-8109-0A0399BD53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n autom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each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Values on enter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2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2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2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2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utom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581280" y="304920"/>
            <a:ext cx="4114800" cy="838080"/>
            <a:chOff x="3581280" y="304920"/>
            <a:chExt cx="4114800" cy="838080"/>
          </a:xfrm>
        </p:grpSpPr>
        <p:sp>
          <p:nvSpPr>
            <p:cNvPr id="271" name=""/>
            <p:cNvSpPr/>
            <p:nvPr/>
          </p:nvSpPr>
          <p:spPr>
            <a:xfrm>
              <a:off x="50292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array, recreated with every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609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95480" y="2590920"/>
            <a:ext cx="4114800" cy="1067400"/>
            <a:chOff x="2895480" y="2590920"/>
            <a:chExt cx="4114800" cy="1067400"/>
          </a:xfrm>
        </p:grpSpPr>
        <p:sp>
          <p:nvSpPr>
            <p:cNvPr id="274" name=""/>
            <p:cNvSpPr/>
            <p:nvPr/>
          </p:nvSpPr>
          <p:spPr>
            <a:xfrm>
              <a:off x="434340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the array is changed, it will be destroyed when the function exits and the changes will be l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9548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18A3-F936-4375-93DC-0C71D511F7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0  array1[1] = 0  array1[2] 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10  array1[1] = 10  array1[2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0682-9336-414A-A91C-BDCB1A9BF9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without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usually passed, but not 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to iterate over al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40D3-DEBD-4E80-BC4C-FAF24CDF26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can modify original arra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 myArray[3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90EB-17EB-453F-ACD7-5A3BA2C433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ak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[], in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ptional in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ake an integer array and a sing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for array size between br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 array parameter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modified (compiler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NotModify( const int [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D93B-EBFF-48B4-AD52-43E12F6344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4: fig0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ing arrays and individual array element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st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entire array by refer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s of the original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1752480"/>
            <a:ext cx="4114800" cy="838440"/>
            <a:chOff x="2286000" y="1752480"/>
            <a:chExt cx="4114800" cy="838440"/>
          </a:xfrm>
        </p:grpSpPr>
        <p:sp>
          <p:nvSpPr>
            <p:cNvPr id="287" name=""/>
            <p:cNvSpPr/>
            <p:nvPr/>
          </p:nvSpPr>
          <p:spPr>
            <a:xfrm>
              <a:off x="37339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tax for accepting an array in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86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EDCC-5B21-4CA7-8082-BFDF9855D4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a to modifyArray by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Array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of the modified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modifi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array element by valu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element a[ 3 ] b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Element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92" name=""/>
            <p:cNvSpPr/>
            <p:nvPr/>
          </p:nvSpPr>
          <p:spPr>
            <a:xfrm>
              <a:off x="35812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ray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size to function. Arrays are passed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276720"/>
            <a:ext cx="4114800" cy="838080"/>
            <a:chOff x="2438280" y="3276720"/>
            <a:chExt cx="4114800" cy="838080"/>
          </a:xfrm>
        </p:grpSpPr>
        <p:sp>
          <p:nvSpPr>
            <p:cNvPr id="295" name=""/>
            <p:cNvSpPr/>
            <p:nvPr/>
          </p:nvSpPr>
          <p:spPr>
            <a:xfrm>
              <a:off x="38862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 single array element by value; the original cannot be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438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E22A-4B42-400A-80E6-FC16BB6FA4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Array, "b" points to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original array "a" in memor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each array element by 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OfArray; k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[ k ]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ifyArra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Element, "e" is a local cop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element a[ 3 ] passed from mai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parameter by 2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in modifyElement is "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odifyElement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19520" y="152280"/>
            <a:ext cx="4495680" cy="824040"/>
            <a:chOff x="2819520" y="152280"/>
            <a:chExt cx="4495680" cy="824040"/>
          </a:xfrm>
        </p:grpSpPr>
        <p:sp>
          <p:nvSpPr>
            <p:cNvPr id="300" name=""/>
            <p:cNvSpPr/>
            <p:nvPr/>
          </p:nvSpPr>
          <p:spPr>
            <a:xfrm>
              <a:off x="46483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he array points to the original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19520" y="3049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43200" y="2209680"/>
            <a:ext cx="4114800" cy="838440"/>
            <a:chOff x="2743200" y="2209680"/>
            <a:chExt cx="4114800" cy="838440"/>
          </a:xfrm>
        </p:grpSpPr>
        <p:sp>
          <p:nvSpPr>
            <p:cNvPr id="303" name=""/>
            <p:cNvSpPr/>
            <p:nvPr/>
          </p:nvSpPr>
          <p:spPr>
            <a:xfrm>
              <a:off x="4191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array elements are passed by value, and the originals cannot b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43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4107-66EE-4094-AE59-6D0BB63B49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like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, printing for an integ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erform operations inside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5 – 2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4CE9-8E16-4138-9AA4-E535BC070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entire array by refer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original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  2  3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modified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2  4  6 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array element by valu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in modifyElement is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8620-35DE-4E4E-A853-EC79E71374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5: fig0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nst type qualifi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yToModifyArray( 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95480" y="838080"/>
            <a:ext cx="4114800" cy="1067400"/>
            <a:chOff x="2895480" y="838080"/>
            <a:chExt cx="4114800" cy="1067400"/>
          </a:xfrm>
        </p:grpSpPr>
        <p:sp>
          <p:nvSpPr>
            <p:cNvPr id="310" name=""/>
            <p:cNvSpPr/>
            <p:nvPr/>
          </p:nvSpPr>
          <p:spPr>
            <a:xfrm>
              <a:off x="43434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parameter declar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rray cannot be modified, even though it is passed by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95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753F-D794-448F-8D19-EAA61191E1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tryToModifyArray, "b" cannot be 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odify the original array "a" in main.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ryToModifyArray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70102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6) : error C2166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7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8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8F69-7496-4FCB-A9E1-8278799268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1476-E61E-4071-805C-12CFAB9DA6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left to right, and exchange elements a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ss for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7 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6  7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lements exchang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3:      2  3  4  6  7   (no changes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4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5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 (like 2 in this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EB57-0021-4F70-883B-1D5BFB037E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x and y are 3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temporary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, tem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;  // temp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     // x ge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temp;  // y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BBF7-8E85-45A7-93A9-9820B0128F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6: fig04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sorts an array's values into ascending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arra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82A3-0C88-4729-B643-FD6672AF3A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bble sort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side-by-side elements and swap them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rst element is greater than second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76320"/>
            <a:ext cx="4114800" cy="590400"/>
            <a:chOff x="4038480" y="76320"/>
            <a:chExt cx="4114800" cy="590400"/>
          </a:xfrm>
        </p:grpSpPr>
        <p:sp>
          <p:nvSpPr>
            <p:cNvPr id="326" name=""/>
            <p:cNvSpPr/>
            <p:nvPr/>
          </p:nvSpPr>
          <p:spPr>
            <a:xfrm>
              <a:off x="54864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 a pass for each element in the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38480" y="22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733560" y="1676520"/>
            <a:ext cx="4115160" cy="1554120"/>
            <a:chOff x="3733560" y="1676520"/>
            <a:chExt cx="4115160" cy="1554120"/>
          </a:xfrm>
        </p:grpSpPr>
        <p:sp>
          <p:nvSpPr>
            <p:cNvPr id="329" name=""/>
            <p:cNvSpPr/>
            <p:nvPr/>
          </p:nvSpPr>
          <p:spPr>
            <a:xfrm>
              <a:off x="5181480" y="167652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element on the lef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larger than the element on the righ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 +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then we swap them. Remember the need of a temp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733560" y="19810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5E17-F7E7-4D21-8BEB-0494F3D2FB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k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590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ABEB-5E6A-4095-B688-12AB548BD6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(sum/number of e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ven number of elements, take average of middl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D863-A915-4521-A382-95EF466A2CE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5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CD0D-6AEF-49FC-85F8-81AC67641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7: fig04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introduces the topic of survey data analysi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 computes the mean, median, and mode of th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5BE1-C33E-408D-A5D2-31E1025E09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[ responseSize ]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di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e( frequency,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B6A2-66D0-4350-A0DD-8F901ED7A69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of al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*******\n  Mean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ta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nswe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mat and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ean is the average value of the data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ems. The mean is equal to the total of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the data items divided by the nu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f data items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. The mean value for\nthis run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/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81280" y="3733920"/>
            <a:ext cx="4114800" cy="838080"/>
            <a:chOff x="3581280" y="3733920"/>
            <a:chExt cx="4114800" cy="838080"/>
          </a:xfrm>
        </p:grpSpPr>
        <p:sp>
          <p:nvSpPr>
            <p:cNvPr id="343" name=""/>
            <p:cNvSpPr/>
            <p:nvPr/>
          </p:nvSpPr>
          <p:spPr>
            <a:xfrm>
              <a:off x="50292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cast to a double to get decimal points for the average (instead of an integ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66E9-C2D3-4C65-B401-C9B32FEAA4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and determine median element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Median\n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nsorted array of responses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orted array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media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median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\nthe sor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 array.\nFor this run the media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nswer[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360" y="1066680"/>
            <a:ext cx="4115160" cy="838440"/>
            <a:chOff x="2133360" y="1066680"/>
            <a:chExt cx="4115160" cy="838440"/>
          </a:xfrm>
        </p:grpSpPr>
        <p:sp>
          <p:nvSpPr>
            <p:cNvPr id="348" name=""/>
            <p:cNvSpPr/>
            <p:nvPr/>
          </p:nvSpPr>
          <p:spPr>
            <a:xfrm>
              <a:off x="35812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rt array by passing it to a function. This keeps the program mod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A5D2-EE28-4605-BB95-AA0B420FF72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rges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largest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 Mode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requencie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eq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marize frequen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[ answer[ j 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headers for result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pon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   1    2    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   0    5    0    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D6EE-798F-4830-8FC6-5B336C5895D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req[ rating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mode value and largest f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eq[ rating ] &gt; largest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rgest = freq[ rating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Value = rating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utput histogram bar representing fr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freq[ rating ]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mod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mode is the most frequent value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r this run the mod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od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ch occur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large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ime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38280" y="685800"/>
            <a:ext cx="4114800" cy="838080"/>
            <a:chOff x="2438280" y="685800"/>
            <a:chExt cx="4114800" cy="838080"/>
          </a:xfrm>
        </p:grpSpPr>
        <p:sp>
          <p:nvSpPr>
            <p:cNvPr id="355" name=""/>
            <p:cNvSpPr/>
            <p:nvPr/>
          </p:nvSpPr>
          <p:spPr>
            <a:xfrm>
              <a:off x="388620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de is the value that occurs most often (has the highest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3828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820F-29B7-409F-AA5C-B174AD77F58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sorts an array with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elements if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4479-09B3-4219-8149-503F8720E96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contents (20 values per row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every 20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07BD-8997-45E1-B7A2-F25E5600227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an is the average value of t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. The mean is equal to the total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the data items divided by th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data items (99). The mean value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run is: 681 / 99 = 6.87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unsorted array of responses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8 7 8 9 8 9 7 8 9 5 9 8 7 8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3 9 8 7 8 7 7 8 9 8 9 8 9 7 8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7 8 7 9 8 9 2 7 8 9 8 9 8 9 7 5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7 2 5 3 9 4 6 4 7 8 9 6 8 7 8 9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4 4 2 5 3 8 7 5 6 4 5 6 1 6 5 7 8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array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2 2 3 3 3 3 4 4 4 4 4 5 5 5 5 5 5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6 6 6 6 6 6 6 6 7 7 7 7 7 7 7 7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7 7 7 7 7 7 7 7 7 7 7 7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8 8 8 8 8 8 8 8 8 8 8 8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9 9 9 9 9 9 9 9 9 9 9 9 9 9 9 9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dian is element 49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99 element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edian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F408-A3E8-40EE-8FA2-4983C8F4555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 Frequency       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    2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0    5    0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1         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3          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4          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5          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8          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          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23          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27          ****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19          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 is the most frequent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ode is 8 which occurred 27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F835-1C9F-426C-B39D-05C35697EC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 array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[ 10 ];  // array of 1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[ 3284 ]; // array of 3284 fl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mma separated list, 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6390-0FDA-477F-860D-47F724FB8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one end, go to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arch key not present, examines ever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F33A-A975-4B1F-A5A2-D8FAB7AC16D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N steps, where 2     &gt; #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95600" y="4692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148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43A9-45A8-46D7-A644-CA8B74A819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9: fig04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ar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integer search ke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arch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locate searchKey in array a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= linearSearch( a, search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066680"/>
            <a:ext cx="4114800" cy="838440"/>
            <a:chOff x="2286000" y="1066680"/>
            <a:chExt cx="4114800" cy="838440"/>
          </a:xfrm>
        </p:grpSpPr>
        <p:sp>
          <p:nvSpPr>
            <p:cNvPr id="374" name=""/>
            <p:cNvSpPr/>
            <p:nvPr/>
          </p:nvSpPr>
          <p:spPr>
            <a:xfrm>
              <a:off x="37339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s array, search key, and array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860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4440-3164-4D17-A069-6B4895D4E4E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lemen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value in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l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key to every element of array until location i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or until end of array is reached; return subscrip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 if key or -1 if key not foun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OfArray; j++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j ] == ke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ound,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ocation of key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not found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inearSearch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B9BC-C91A-4285-8D09-E21F7EC5F68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in element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not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68C-F8ED-4895-AB2E-0654E91311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0: fig04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6D65-443C-4A92-A848-EF35333B183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arch for key in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narySearch( a, 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ound in array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93E6-89BC-415E-8684-095CDC632B6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perform binary search of a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until low subscript is greater than high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ile ( low &lt;= hig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iddle element of subarray being sear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 = ( low + hig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ubarray used in this loop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Row( b, low, middle, high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61960" y="1523880"/>
            <a:ext cx="4115160" cy="838440"/>
            <a:chOff x="2361960" y="1523880"/>
            <a:chExt cx="4115160" cy="838440"/>
          </a:xfrm>
        </p:grpSpPr>
        <p:sp>
          <p:nvSpPr>
            <p:cNvPr id="387" name=""/>
            <p:cNvSpPr/>
            <p:nvPr/>
          </p:nvSpPr>
          <p:spPr>
            <a:xfrm>
              <a:off x="38098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middle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619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9276-637E-412C-B330-00088B1B715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matches middle element, return mid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== b[ middle ]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less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ig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&lt; b[ middl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dl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low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greater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low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d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high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Key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inarySear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123720" y="609480"/>
            <a:ext cx="3886560" cy="1554120"/>
            <a:chOff x="3123720" y="609480"/>
            <a:chExt cx="3886560" cy="1554120"/>
          </a:xfrm>
        </p:grpSpPr>
        <p:sp>
          <p:nvSpPr>
            <p:cNvPr id="392" name=""/>
            <p:cNvSpPr/>
            <p:nvPr/>
          </p:nvSpPr>
          <p:spPr>
            <a:xfrm>
              <a:off x="4343400" y="609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rule of binary searc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key equals middle, m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search low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greater, search high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123720" y="609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2362320"/>
            <a:ext cx="4114800" cy="1067400"/>
            <a:chOff x="2895480" y="2362320"/>
            <a:chExt cx="4114800" cy="1067400"/>
          </a:xfrm>
        </p:grpSpPr>
        <p:sp>
          <p:nvSpPr>
            <p:cNvPr id="395" name=""/>
            <p:cNvSpPr/>
            <p:nvPr/>
          </p:nvSpPr>
          <p:spPr>
            <a:xfrm>
              <a:off x="43434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sets low, middle and high dynamically. If searching the high end, the new low is the element above the midd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E731-21E8-45B4-95B6-789CBE6F68F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ader for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ubscrip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e of -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ize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6284-3F55-44A9-81B2-E97005507CA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ach element when array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o many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every element to sam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rray size omitted, initializers determin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49C7-0ABE-40F9-95A0-EE3E0C9DA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row of output showing the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t of the array being pro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m &lt; size; m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paces if outside current subarray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&lt; low || m &gt; hig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iddle element marked with a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== mid )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rk midd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ther elements in sub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3FCC-4C9A-404A-85A3-C8BAE5E4886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found in array element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18  20  22*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  26*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4773-04B6-458B-92EF-DD8306096D8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10*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found in array element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5B04-31E4-4A54-A718-08BC8868C0E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[ i ][ j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array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ray of 4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rst element of tha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4316400"/>
            <a:ext cx="6124680" cy="973080"/>
            <a:chOff x="914400" y="4316400"/>
            <a:chExt cx="6124680" cy="973080"/>
          </a:xfrm>
        </p:grpSpPr>
        <p:sp>
          <p:nvSpPr>
            <p:cNvPr id="408" name=""/>
            <p:cNvSpPr/>
            <p:nvPr/>
          </p:nvSpPr>
          <p:spPr>
            <a:xfrm>
              <a:off x="914400" y="4564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4832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14400" y="5100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997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101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05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128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797120" y="4486680"/>
              <a:ext cx="1310400" cy="802800"/>
              <a:chOff x="1797120" y="4486680"/>
              <a:chExt cx="1310400" cy="802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797120" y="4486680"/>
                <a:ext cx="1310400" cy="267480"/>
                <a:chOff x="1797120" y="4486680"/>
                <a:chExt cx="1310400" cy="267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7971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504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797120" y="4754160"/>
                <a:ext cx="1310400" cy="267480"/>
                <a:chOff x="1797120" y="4754160"/>
                <a:chExt cx="1310400" cy="267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971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8504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7120" y="5022000"/>
                <a:ext cx="1310400" cy="267480"/>
                <a:chOff x="1797120" y="5022000"/>
                <a:chExt cx="1310400" cy="267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971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8504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3107520" y="4486680"/>
              <a:ext cx="1310400" cy="802800"/>
              <a:chOff x="3107520" y="4486680"/>
              <a:chExt cx="1310400" cy="802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107520" y="4486680"/>
                <a:ext cx="1310400" cy="267480"/>
                <a:chOff x="3107520" y="4486680"/>
                <a:chExt cx="1310400" cy="267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075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1608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107520" y="4754160"/>
                <a:ext cx="1310400" cy="267480"/>
                <a:chOff x="3107520" y="4754160"/>
                <a:chExt cx="1310400" cy="26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075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08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07520" y="5022000"/>
                <a:ext cx="1310400" cy="267480"/>
                <a:chOff x="3107520" y="5022000"/>
                <a:chExt cx="1310400" cy="26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075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608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4418280" y="4486680"/>
              <a:ext cx="1310400" cy="802800"/>
              <a:chOff x="4418280" y="4486680"/>
              <a:chExt cx="1310400" cy="8028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418280" y="4486680"/>
                <a:ext cx="1310400" cy="267480"/>
                <a:chOff x="4418280" y="4486680"/>
                <a:chExt cx="1310400" cy="267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182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71560" y="4525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418280" y="4754160"/>
                <a:ext cx="1310400" cy="267480"/>
                <a:chOff x="4418280" y="4754160"/>
                <a:chExt cx="1310400" cy="267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182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71560" y="4792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418280" y="5022000"/>
                <a:ext cx="1310400" cy="267480"/>
                <a:chOff x="4418280" y="5022000"/>
                <a:chExt cx="1310400" cy="267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4182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71560" y="5060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728680" y="4486680"/>
              <a:ext cx="1310400" cy="802800"/>
              <a:chOff x="5728680" y="4486680"/>
              <a:chExt cx="1310400" cy="8028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728680" y="4486680"/>
                <a:ext cx="1310400" cy="267480"/>
                <a:chOff x="5728680" y="4486680"/>
                <a:chExt cx="131040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7286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196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728680" y="4754160"/>
                <a:ext cx="1310400" cy="267480"/>
                <a:chOff x="5728680" y="4754160"/>
                <a:chExt cx="1310400" cy="2674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286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196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728680" y="5022000"/>
                <a:ext cx="1310400" cy="267480"/>
                <a:chOff x="5728680" y="5022000"/>
                <a:chExt cx="1310400" cy="267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7286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196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3152880" y="6145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0760" y="5916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0720" y="5564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5230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304440" y="5246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86040" y="5230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86040" y="5612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1030-C57F-4F42-A93A-F11F57533C7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772400" y="2362320"/>
            <a:ext cx="914400" cy="631440"/>
            <a:chOff x="7772400" y="2362320"/>
            <a:chExt cx="914400" cy="631440"/>
          </a:xfrm>
        </p:grpSpPr>
        <p:sp>
          <p:nvSpPr>
            <p:cNvPr id="465" name=""/>
            <p:cNvSpPr/>
            <p:nvPr/>
          </p:nvSpPr>
          <p:spPr>
            <a:xfrm>
              <a:off x="7772400" y="236232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2400" y="2667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72400" y="3809880"/>
            <a:ext cx="914400" cy="631440"/>
            <a:chOff x="7772400" y="3809880"/>
            <a:chExt cx="914400" cy="631440"/>
          </a:xfrm>
        </p:grpSpPr>
        <p:sp>
          <p:nvSpPr>
            <p:cNvPr id="469" name=""/>
            <p:cNvSpPr/>
            <p:nvPr/>
          </p:nvSpPr>
          <p:spPr>
            <a:xfrm>
              <a:off x="7772400" y="3809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543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59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5864-A163-488E-939C-2D720752259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using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,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pecify sizes of subscri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ubscript not necessary, as with single-scripte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Array( int [][ 3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67280" y="1805040"/>
            <a:ext cx="914400" cy="631440"/>
            <a:chOff x="5867280" y="1805040"/>
            <a:chExt cx="914400" cy="631440"/>
          </a:xfrm>
        </p:grpSpPr>
        <p:sp>
          <p:nvSpPr>
            <p:cNvPr id="477" name=""/>
            <p:cNvSpPr/>
            <p:nvPr/>
          </p:nvSpPr>
          <p:spPr>
            <a:xfrm>
              <a:off x="5867280" y="180504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1805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2109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5CB5-4665-458F-AA62-396B94CC491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2: fig04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multidimensional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1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2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3 by row ar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00400" y="1447920"/>
            <a:ext cx="4114800" cy="1067400"/>
            <a:chOff x="3200400" y="1447920"/>
            <a:chExt cx="4114800" cy="1067400"/>
          </a:xfrm>
        </p:grpSpPr>
        <p:sp>
          <p:nvSpPr>
            <p:cNvPr id="483" name=""/>
            <p:cNvSpPr/>
            <p:nvPr/>
          </p:nvSpPr>
          <p:spPr>
            <a:xfrm>
              <a:off x="46483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various initialization styles. The elemen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assigned to the first row and then the seco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200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42840" y="762120"/>
            <a:ext cx="4115160" cy="838080"/>
            <a:chOff x="2742840" y="762120"/>
            <a:chExt cx="4115160" cy="838080"/>
          </a:xfrm>
        </p:grpSpPr>
        <p:sp>
          <p:nvSpPr>
            <p:cNvPr id="486" name=""/>
            <p:cNvSpPr/>
            <p:nvPr/>
          </p:nvSpPr>
          <p:spPr>
            <a:xfrm>
              <a:off x="419076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74284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982C-9CBE-4041-9FC4-67713E27B61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array with two rows and three colum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or each row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[ i ][ j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7672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1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2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3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819160" y="216000"/>
            <a:ext cx="4115160" cy="1067400"/>
            <a:chOff x="2819160" y="216000"/>
            <a:chExt cx="4115160" cy="1067400"/>
          </a:xfrm>
        </p:grpSpPr>
        <p:sp>
          <p:nvSpPr>
            <p:cNvPr id="492" name=""/>
            <p:cNvSpPr/>
            <p:nvPr/>
          </p:nvSpPr>
          <p:spPr>
            <a:xfrm>
              <a:off x="4267080" y="21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loops are often used to iterate through arrays. Nested loops are helpful with multiple-subscripted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19160" y="36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5042-5C72-45CC-8B80-235B189BAA0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showing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, program to keep track of students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subscripted array (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are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s are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90880" y="3048120"/>
            <a:ext cx="2292840" cy="1175400"/>
            <a:chOff x="4790880" y="3048120"/>
            <a:chExt cx="2292840" cy="1175400"/>
          </a:xfrm>
        </p:grpSpPr>
        <p:grpSp>
          <p:nvGrpSpPr>
            <p:cNvPr id="497" name=""/>
            <p:cNvGrpSpPr/>
            <p:nvPr/>
          </p:nvGrpSpPr>
          <p:grpSpPr>
            <a:xfrm>
              <a:off x="5891400" y="3589560"/>
              <a:ext cx="914400" cy="631440"/>
              <a:chOff x="5891400" y="3589560"/>
              <a:chExt cx="914400" cy="631440"/>
            </a:xfrm>
          </p:grpSpPr>
          <p:sp>
            <p:nvSpPr>
              <p:cNvPr id="498" name=""/>
              <p:cNvSpPr/>
              <p:nvPr/>
            </p:nvSpPr>
            <p:spPr>
              <a:xfrm>
                <a:off x="5891400" y="358956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95  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89  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48600" y="35895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91400" y="3894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589360" y="30639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51480" y="30481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5800" y="35370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0880" y="38862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3500-E1AD-44D9-8509-C7683A65C9B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3: fig04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uble-subscripted array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stud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exa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B20A-426B-4928-9E8B-D58D8DA4A2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3: fig04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 is an array of 10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elements of array n to 0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location i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209680"/>
            <a:ext cx="4114800" cy="838440"/>
            <a:chOff x="1828800" y="22096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32767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10-element array of integ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288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90560" y="2895480"/>
            <a:ext cx="3733920" cy="835200"/>
            <a:chOff x="2590560" y="2895480"/>
            <a:chExt cx="3733920" cy="835200"/>
          </a:xfrm>
        </p:grpSpPr>
        <p:sp>
          <p:nvSpPr>
            <p:cNvPr id="168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rra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a for loop. Note that the array has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9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590560" y="3276720"/>
              <a:ext cx="106668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98D1-94BC-42CB-B573-7455559CD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udent grades for three students (row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Grad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studentGr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smallest and largest grad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in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gh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C86C-D9A9-4ED1-95C5-4B4A9BC008A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grade for each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erson &lt; students; perso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verage grade for stud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ers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verage( studentGrades[ person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in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high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lt; low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76360" y="1447560"/>
            <a:ext cx="3810240" cy="1554480"/>
            <a:chOff x="3276360" y="1447560"/>
            <a:chExt cx="3810240" cy="1554480"/>
          </a:xfrm>
        </p:grpSpPr>
        <p:sp>
          <p:nvSpPr>
            <p:cNvPr id="512" name=""/>
            <p:cNvSpPr/>
            <p:nvPr/>
          </p:nvSpPr>
          <p:spPr>
            <a:xfrm>
              <a:off x="4419720" y="14479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s the average for one student. We pass the array/row containing the student’s grade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udentGrades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tself a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276360" y="1447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0F7C-5BE6-472D-B38D-6A234AD762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ax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low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gt; high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91E3-32B2-46AA-B78C-F865A725992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average grade for particular stud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Grades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tal all grades for one student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tests; i++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etOfGrades[ i ]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test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E7AE-ACF1-4464-A726-DD56A3FD3F8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exams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eft justification and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       [0]  [1]  [2]  [3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rad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abel fo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udentGrades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ne grades for one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6AC5-3A9B-4774-82CC-A27196946F2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]  [1]  [2]  [3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0] 77   68   86   7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1] 96   87   89   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2] 70   90   86  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st grade: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grade: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0 is 76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1 is 87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2 is 81.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CDFF-117C-4947-9CC1-B3D9B0B9880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808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A951-7304-476E-BC6F-6749CBB45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8:48:54Z</dcterms:created>
  <dc:creator>kalid</dc:creator>
  <dc:description/>
  <dc:language>en-US</dc:language>
  <cp:lastModifiedBy>Pearson Education</cp:lastModifiedBy>
  <dcterms:modified xsi:type="dcterms:W3CDTF">2002-08-05T13:01:44Z</dcterms:modified>
  <cp:revision>478</cp:revision>
  <dc:subject/>
  <dc:title>Chapter 4 - Arrays</dc:title>
</cp:coreProperties>
</file>