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F2AD-3357-4768-BA81-7D6BC4FBE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688B-B3B2-44E1-8ABD-AD3E80908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5F46-7A84-4CE6-8687-5F0C38946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B02A-1D3A-43B1-90F5-380B25E88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2562-52EE-4657-88EE-3AA5BB2C4D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47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817F-CA16-4C18-B173-BE821362C8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9E46-71EC-4F39-BE23-42343A7EB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DE22-668C-4025-B67F-7790386B8B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3333-468A-44D2-8452-92CD22A4C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FE78-4916-4F7C-9763-FA9082E5F1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CADA-9E74-475C-9F5A-E39FA4C9F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47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1607-6899-4B50-B28E-782DC3D00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6EAF-017C-47CC-9429-9487E058E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C0D6-D87B-479C-A757-6DB79AD3FF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1FEA-A16D-47E4-A244-9F569CD9A3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5D95-CC62-40E7-BD1F-E9BDAFAA4E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8ACE-1C47-4269-8E8E-D9CD44A83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913F-3054-456A-ABA9-FFF071F73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8BE9-706C-4782-9AC5-12A8B5F7B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2DA2-D18A-44CB-BE2F-6C72416C5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715C-29EC-400E-B39B-B4DC10D89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0DD5-FB9E-4ABB-A4FE-F388C2C85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345F-61AD-4870-8E30-0D935FA51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763F-E7A2-454A-B913-CC487994E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7CD4-CEC6-4FE8-A2CE-9C9A0A525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37AE-2453-44A7-9064-2D097BAA1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2 - Other Topic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st_cast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interpret_cast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name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perator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plicit 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table Class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s to Class Members (.* and -&gt;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 Inheritance and virtual Bas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B7D0-30A8-4156-B51B-94C608BD90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3: fig22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namespa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 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td namespace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namespace Exampl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ample {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two constants and one variab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18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Valu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sted namespace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ner {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enumeration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xample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86000" y="228600"/>
            <a:ext cx="4114800" cy="1339560"/>
            <a:chOff x="2286000" y="228600"/>
            <a:chExt cx="4114800" cy="1339560"/>
          </a:xfrm>
        </p:grpSpPr>
        <p:sp>
          <p:nvSpPr>
            <p:cNvPr id="121" name=""/>
            <p:cNvSpPr/>
            <p:nvPr/>
          </p:nvSpPr>
          <p:spPr>
            <a:xfrm>
              <a:off x="3733920" y="228600"/>
              <a:ext cx="2666880" cy="133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. This includes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llowing us to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286000" y="399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33360" y="3505320"/>
            <a:ext cx="4115160" cy="857160"/>
            <a:chOff x="2133360" y="3505320"/>
            <a:chExt cx="4115160" cy="857160"/>
          </a:xfrm>
        </p:grpSpPr>
        <p:sp>
          <p:nvSpPr>
            <p:cNvPr id="124" name=""/>
            <p:cNvSpPr/>
            <p:nvPr/>
          </p:nvSpPr>
          <p:spPr>
            <a:xfrm>
              <a:off x="3581280" y="350532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nested namesp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133360" y="367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1580760"/>
            <a:ext cx="4343400" cy="1692720"/>
            <a:chOff x="2133720" y="1580760"/>
            <a:chExt cx="4343400" cy="1692720"/>
          </a:xfrm>
        </p:grpSpPr>
        <p:sp>
          <p:nvSpPr>
            <p:cNvPr id="127" name=""/>
            <p:cNvSpPr/>
            <p:nvPr/>
          </p:nvSpPr>
          <p:spPr>
            <a:xfrm>
              <a:off x="3809880" y="1676520"/>
              <a:ext cx="2667240" cy="133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namespa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amp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that it has a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different from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5640" y="1847880"/>
              <a:ext cx="152388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8920" bIns="178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133720" y="1580760"/>
              <a:ext cx="16761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3880" bIns="83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285640" y="1847880"/>
              <a:ext cx="1523880" cy="14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03FF-5634-4394-BC5B-FA1E48C459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65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unnamed namespace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InUnnam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8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nnamed namespace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value doubleInUnnamed of unnamed nam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InUnnamed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InUnnam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global) integer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values of Example nam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xample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ample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ger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ample::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SCAL3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ample::Inner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xample::printValu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rintValues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581280" y="50760"/>
            <a:ext cx="4114800" cy="1096200"/>
            <a:chOff x="3581280" y="50760"/>
            <a:chExt cx="4114800" cy="1096200"/>
          </a:xfrm>
        </p:grpSpPr>
        <p:sp>
          <p:nvSpPr>
            <p:cNvPr id="134" name=""/>
            <p:cNvSpPr/>
            <p:nvPr/>
          </p:nvSpPr>
          <p:spPr>
            <a:xfrm>
              <a:off x="5029200" y="5076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unnamed namespace. Its variables are glob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581280" y="222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183F-584B-4F64-84C9-ED9685E290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variable and consta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ample::printValue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 printValues:\ninteger1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InUnnamed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InUnnam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global) integer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::intege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SCAL3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ner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5AFF-E224-470C-A033-20E8CBE8D1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39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InUnnamed = 88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global) integer1 = 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 = 3.141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 = 2.718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1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SCAL3 =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 print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1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 = 3.141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 = 2.718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InUnnamed = 88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global) integer1 = 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SCAL3 =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AFDA2-88D8-4E8B-B5B5-F06000AFDF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perator Keywor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instead of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keyboards with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 | 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D946-2666-4E78-8ED1-A01783EB28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perator Keywor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1371600"/>
          <a:ext cx="6032520" cy="42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03252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CA91-FFA4-4D28-8A93-C24D375BBA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5: fig22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 keyword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so646.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oolalph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a and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and b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a or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or b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not a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not a 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not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not_eq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bitand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bitand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bit_or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bitor b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a xor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xor b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ompl a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compl a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and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and_eq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a or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or_eq b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xor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xor_eq b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809880" y="2800440"/>
            <a:ext cx="4114800" cy="857160"/>
            <a:chOff x="3809880" y="2800440"/>
            <a:chExt cx="4114800" cy="857160"/>
          </a:xfrm>
        </p:grpSpPr>
        <p:sp>
          <p:nvSpPr>
            <p:cNvPr id="148" name=""/>
            <p:cNvSpPr/>
            <p:nvPr/>
          </p:nvSpPr>
          <p:spPr>
            <a:xfrm>
              <a:off x="5257800" y="280044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operator keywor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8098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EBA9-64C5-4D82-969E-74E242DF8E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204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43000"/>
            <a:ext cx="7010280" cy="2755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and b: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or b: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 a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not_eq b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bitand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bit_or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xor b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 a: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and_eq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or_eq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xor_eq b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845D-0FDA-49D2-A05D-22F3D8B64F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plicit Con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con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Chapter 8, compiler may perform im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structor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have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( int 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Class y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cal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mplicitly conve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sing the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new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D660-E0AA-4443-8E33-989EA4B3A3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plicit Con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have desired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construc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pl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used in implicit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sh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with implicit con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n sh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plic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4CA7-DDCC-49AD-A582-733E6AED58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dditional C++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keyw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B6A6-B146-4E7B-A60F-67168D61E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4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22.6: array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e class Array (for integers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Array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operator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/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Array(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61960" y="2076480"/>
            <a:ext cx="4115160" cy="1339560"/>
            <a:chOff x="2361960" y="2076480"/>
            <a:chExt cx="4115160" cy="1339560"/>
          </a:xfrm>
        </p:grpSpPr>
        <p:sp>
          <p:nvSpPr>
            <p:cNvPr id="160" name=""/>
            <p:cNvSpPr/>
            <p:nvPr/>
          </p:nvSpPr>
          <p:spPr>
            <a:xfrm>
              <a:off x="3809880" y="2076480"/>
              <a:ext cx="2667240" cy="133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plic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eyword, this constructor can be used for implicit convers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361960" y="2247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9CA3-7323-4165-B1A7-E9252F46E3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2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22.7: arra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for class Array (default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( arraySiz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arraySiz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constructor called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ize ]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elements to zero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7C52-05CE-4804-8BF1-C8D27DD3B4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76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~Array()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tream insertion operator for class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operator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Ref.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arrayRef.ptr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x &lt;&l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8DA0-B3A1-4ED5-9F49-17652E350D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29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22.8: fig22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simple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integers1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 15 to an Array and outp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0" y="2822400"/>
            <a:ext cx="4114800" cy="1582920"/>
            <a:chOff x="2286000" y="2822400"/>
            <a:chExt cx="4114800" cy="1582920"/>
          </a:xfrm>
        </p:grpSpPr>
        <p:sp>
          <p:nvSpPr>
            <p:cNvPr id="169" name=""/>
            <p:cNvSpPr/>
            <p:nvPr/>
          </p:nvSpPr>
          <p:spPr>
            <a:xfrm>
              <a:off x="3733920" y="2822400"/>
              <a:ext cx="2666880" cy="1582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pas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works beca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mplicitly converted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 the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86000" y="2994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A4CC-AEA4-4BF3-89A1-E3038431EE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81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rray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To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received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rrayTo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23920"/>
            <a:ext cx="7010280" cy="1872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constructor called for 7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receive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0 0 0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constructor called for 15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receive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0 0 0 0 0 0 0 0 0 0 0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5413-AEA9-4BB9-9451-775E2A5DD3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4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9: array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e class Array (for integers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Array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operator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plic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Array();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438280" y="2133720"/>
            <a:ext cx="4114800" cy="857160"/>
            <a:chOff x="2438280" y="2133720"/>
            <a:chExt cx="4114800" cy="857160"/>
          </a:xfrm>
        </p:grpSpPr>
        <p:sp>
          <p:nvSpPr>
            <p:cNvPr id="177" name=""/>
            <p:cNvSpPr/>
            <p:nvPr/>
          </p:nvSpPr>
          <p:spPr>
            <a:xfrm>
              <a:off x="3886200" y="213372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time, declare construc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plic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438280" y="2305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843E-6119-4A20-BE20-97C363AEC4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2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10: arra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for class Array (default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( arraySiz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arraySiz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constructor called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elements to zero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2FD9-8B47-4330-B915-831C254B7B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76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~Array()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insertion operator for class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operator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Ref.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arrayRef.ptr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x &lt;&l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D292-EB28-442D-890E-2E7CCE0533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05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11: fig22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simple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integers1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ERROR: construction not allowed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outputArray( 15 );  // convert 15 to an Array and output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st use construc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438280" y="3098880"/>
            <a:ext cx="4114800" cy="857160"/>
            <a:chOff x="2438280" y="3098880"/>
            <a:chExt cx="4114800" cy="857160"/>
          </a:xfrm>
        </p:grpSpPr>
        <p:sp>
          <p:nvSpPr>
            <p:cNvPr id="186" name=""/>
            <p:cNvSpPr/>
            <p:nvPr/>
          </p:nvSpPr>
          <p:spPr>
            <a:xfrm>
              <a:off x="3886200" y="309888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all will cause an error when compi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438280" y="32702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0039-E305-4151-9FD4-EEC261E2F8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862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array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To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received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rrayTo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74800"/>
            <a:ext cx="7010280" cy="227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4e\ch22\FIG22_09_10_11\Fig22_11.cpp(18) : error C2664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outputArray' : cannot convert parameter 1 from 'const int'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const class Array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son: cannot convert from 'const int' to 'const class Array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 constructor could take the source type, or constructor overload resolution was ambig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2253-9564-441E-AA37-15728E1A44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_cast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cast aw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lat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rid of a variable'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es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cast 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ew data 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E24E-4927-4EF4-9AFB-B8B2F53CDE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table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ways modifiable, even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need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with no mutabl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chance of accidenta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85D8-41AA-4311-9247-C2CA1C708B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2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2: fig21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orage class specifier mut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estMutabl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Mut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Mu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value = v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value++; }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u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table member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estMu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Mutable te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valu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.ge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modifyValu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difies mutable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odified valu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.getValue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90560" y="1143000"/>
            <a:ext cx="4115160" cy="2133720"/>
            <a:chOff x="2590560" y="1143000"/>
            <a:chExt cx="4115160" cy="2133720"/>
          </a:xfrm>
        </p:grpSpPr>
        <p:sp>
          <p:nvSpPr>
            <p:cNvPr id="196" name=""/>
            <p:cNvSpPr/>
            <p:nvPr/>
          </p:nvSpPr>
          <p:spPr>
            <a:xfrm>
              <a:off x="4038480" y="1143000"/>
              <a:ext cx="266724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table 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be modifi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590560" y="1676520"/>
              <a:ext cx="1447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590560" y="16765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CE32-7023-4F09-9088-E22C446385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204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138320"/>
            <a:ext cx="7010280" cy="76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value: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dified value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FFB8-507F-446B-9BD6-92C45467DA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s to Class Members (.* and -&gt;*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access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he same as previously discussed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memPtr 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function pointer, to function that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( Test::*memPtr )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function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all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Ptr-&gt;*memPtr)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B47B-DD4D-4824-95E3-BF20B13320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s to Class Members (.* and -&gt;*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ata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v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st::*v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pointer to objec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*tPtr).*v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974E-EADA-4485-BC04-88BE89A205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3 : fig22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s .* and -&gt;*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es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()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blic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owStar( Test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tStar( Test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 test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value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owStar( &amp;test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 address to arrow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tStar( &amp;test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 address to dot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88C0-4C08-48BB-B45E-6A640F345B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member function of Test object using -&gt;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owStar( Test *test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function pointer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st::*memPtr )() = &amp;Test::fun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function indirect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( testPtr-&gt;*memPtr )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rrow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members of Test object data member using .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tStar( Test *testPtr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::*vPtr = &amp;Test::valu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poin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*testPtr2 ).*vPtr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t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95480" y="1254240"/>
            <a:ext cx="4648320" cy="2069640"/>
            <a:chOff x="2895480" y="1254240"/>
            <a:chExt cx="4648320" cy="2069640"/>
          </a:xfrm>
        </p:grpSpPr>
        <p:sp>
          <p:nvSpPr>
            <p:cNvPr id="211" name=""/>
            <p:cNvSpPr/>
            <p:nvPr/>
          </p:nvSpPr>
          <p:spPr>
            <a:xfrm>
              <a:off x="4876920" y="1254240"/>
              <a:ext cx="2666880" cy="206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 function pointer to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that neither side refers to a specific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xt,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429000" y="1425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895480" y="1425600"/>
              <a:ext cx="1981440" cy="14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0400" y="3409920"/>
            <a:ext cx="4114800" cy="1314360"/>
            <a:chOff x="3200400" y="3409920"/>
            <a:chExt cx="4114800" cy="1314360"/>
          </a:xfrm>
        </p:grpSpPr>
        <p:sp>
          <p:nvSpPr>
            <p:cNvPr id="215" name=""/>
            <p:cNvSpPr/>
            <p:nvPr/>
          </p:nvSpPr>
          <p:spPr>
            <a:xfrm>
              <a:off x="4648320" y="340992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pointer to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n, access th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20040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200400" y="358128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3A3DC-A5EC-408B-8A0A-EF25C2B959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76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1EB3-F6A5-42E0-8907-96D4B5E20E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 has several ba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can cause ambiguity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oth base classes have functions of the sam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specify exact function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Object.BaseClass1::func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public Base1, public Base2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017C-E2C0-49BA-A957-87D8356613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1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4: bas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Bas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1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ameterValue ) { value = parameterValue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ible to derived 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herited by derived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190760" y="1330200"/>
            <a:ext cx="4115160" cy="1826280"/>
            <a:chOff x="4190760" y="1330200"/>
            <a:chExt cx="4115160" cy="1826280"/>
          </a:xfrm>
        </p:grpSpPr>
        <p:sp>
          <p:nvSpPr>
            <p:cNvPr id="225" name=""/>
            <p:cNvSpPr/>
            <p:nvPr/>
          </p:nvSpPr>
          <p:spPr>
            <a:xfrm>
              <a:off x="5638680" y="1330200"/>
              <a:ext cx="2667240" cy="1826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re are two base classes in this example, each has its ow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base class contai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190760" y="1501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1548-138F-44DC-95ED-6AB043CDD3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: fig22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 const_cast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onstCastTes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nstCast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::se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 ) { number = num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::ge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523880" y="2971800"/>
            <a:ext cx="14479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743200" y="1981080"/>
            <a:ext cx="4114800" cy="857520"/>
            <a:chOff x="2743200" y="1981080"/>
            <a:chExt cx="4114800" cy="857520"/>
          </a:xfrm>
        </p:grpSpPr>
        <p:sp>
          <p:nvSpPr>
            <p:cNvPr id="97" name=""/>
            <p:cNvSpPr/>
            <p:nvPr/>
          </p:nvSpPr>
          <p:spPr>
            <a:xfrm>
              <a:off x="4191120" y="198108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cannot modify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743200" y="2152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EC8C-9AAC-4D67-822F-9FB39CCC7A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2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5: bas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Bas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2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Data ) { letter = characterData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ible to derived 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herited by derived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C632-D16A-4BE9-8F72-30A857F1BBF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rived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6: derived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Derived which inher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le base classes (Base1 and Base2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2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operator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l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ived class's privat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eri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IV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124080" y="2362320"/>
            <a:ext cx="4114800" cy="857160"/>
            <a:chOff x="3124080" y="2362320"/>
            <a:chExt cx="4114800" cy="857160"/>
          </a:xfrm>
        </p:grpSpPr>
        <p:sp>
          <p:nvSpPr>
            <p:cNvPr id="232" name=""/>
            <p:cNvSpPr/>
            <p:nvPr/>
          </p:nvSpPr>
          <p:spPr>
            <a:xfrm>
              <a:off x="4572000" y="2362320"/>
              <a:ext cx="26668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comma-separated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124080" y="2533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39F4-E667-4307-AE5C-391A01E3A50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rived.cpp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67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7: derived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Deri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or Derived calls constructors for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1 and class Base2.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member initializers to call base-class constructor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::Deri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Base1( integer ), Base2( character ), real( double1 ) {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:getRe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l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all data members of Deri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operator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&amp;deriv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val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ac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eal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re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ables cascaded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62160" y="380880"/>
            <a:ext cx="4115160" cy="1524240"/>
            <a:chOff x="3962160" y="380880"/>
            <a:chExt cx="4115160" cy="1524240"/>
          </a:xfrm>
        </p:grpSpPr>
        <p:sp>
          <p:nvSpPr>
            <p:cNvPr id="237" name=""/>
            <p:cNvSpPr/>
            <p:nvPr/>
          </p:nvSpPr>
          <p:spPr>
            <a:xfrm>
              <a:off x="5410080" y="380880"/>
              <a:ext cx="266724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base-class constructors in derived class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838080"/>
              <a:ext cx="1447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5B43-A8C4-4A5C-95C9-A468AB8766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8: fig22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multiple inheritance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2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1 base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*base1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ase1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2 base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*base2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as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 deriv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Derive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ata members of base-class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base1 contains integ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1.getData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 base2 contains charact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2.get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 derived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7594-3F1E-4906-B40F-6C977F2F5E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data members of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cope resolution operator resolves getData ambigu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members of Derived can b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ccessed individually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Base1::get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ac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Base2::get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eal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getReal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 can be treated as an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of either base clas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eat Derived as a Base1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1Ptr = &amp;derived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1Ptr-&gt;getData()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1Ptr-&gt;getData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treat Derived as a Bas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2Ptr = &amp;derived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2Ptr-&gt;getData()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2Ptr-&gt;getData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676480" y="1447920"/>
            <a:ext cx="2667600" cy="1310040"/>
            <a:chOff x="5676480" y="1447920"/>
            <a:chExt cx="2667600" cy="1310040"/>
          </a:xfrm>
        </p:grpSpPr>
        <p:sp>
          <p:nvSpPr>
            <p:cNvPr id="244" name=""/>
            <p:cNvSpPr/>
            <p:nvPr/>
          </p:nvSpPr>
          <p:spPr>
            <a:xfrm>
              <a:off x="5676840" y="190512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s to specific base class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676480" y="1447920"/>
              <a:ext cx="1104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14800" y="3105000"/>
            <a:ext cx="3962520" cy="1314720"/>
            <a:chOff x="4114800" y="3105000"/>
            <a:chExt cx="3962520" cy="1314720"/>
          </a:xfrm>
        </p:grpSpPr>
        <p:sp>
          <p:nvSpPr>
            <p:cNvPr id="247" name=""/>
            <p:cNvSpPr/>
            <p:nvPr/>
          </p:nvSpPr>
          <p:spPr>
            <a:xfrm>
              <a:off x="5410080" y="310500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treat derived-class pointer as either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4114800" y="3276720"/>
              <a:ext cx="1295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1680" bIns="12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114800" y="358128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C697-8907-4167-AF1A-C61518670AC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614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base1 contains integer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base2 contains character 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derived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: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number: 3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members of Derived can be accessed individually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: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number: 3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can be treated as an object of either base clas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Ptr-&gt;getData() yield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Ptr-&gt;getData() yields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A0A2-7017-451E-A147-B508496893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0  Multiple Inheritance and virtual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ities from 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ld have duplicate sub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ed in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cas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is a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objects could exist, which is u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biguous, results in syntax err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actually have thi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09480" y="1758960"/>
            <a:ext cx="5486400" cy="1670040"/>
            <a:chOff x="609480" y="1758960"/>
            <a:chExt cx="5486400" cy="1670040"/>
          </a:xfrm>
        </p:grpSpPr>
        <p:sp>
          <p:nvSpPr>
            <p:cNvPr id="255" name=""/>
            <p:cNvSpPr/>
            <p:nvPr/>
          </p:nvSpPr>
          <p:spPr>
            <a:xfrm>
              <a:off x="609480" y="2251080"/>
              <a:ext cx="548640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175896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1280" y="213984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76160" y="22161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560" y="27496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o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361600" y="19875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0400" y="198756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09680" y="24447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429000" y="24447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E48C-883F-46A4-B1B1-F499523C306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0  Multiple Inheritance and virtual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use virtual base class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one subobject inherited into multiply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295280" y="2286000"/>
            <a:ext cx="6324480" cy="3583440"/>
            <a:chOff x="1295280" y="2286000"/>
            <a:chExt cx="6324480" cy="3583440"/>
          </a:xfrm>
        </p:grpSpPr>
        <p:sp>
          <p:nvSpPr>
            <p:cNvPr id="267" name=""/>
            <p:cNvSpPr/>
            <p:nvPr/>
          </p:nvSpPr>
          <p:spPr>
            <a:xfrm>
              <a:off x="4724280" y="373356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cond Derived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295280" y="2286000"/>
              <a:ext cx="5943600" cy="3583440"/>
              <a:chOff x="1295280" y="2286000"/>
              <a:chExt cx="5943600" cy="3583440"/>
            </a:xfrm>
          </p:grpSpPr>
          <p:sp>
            <p:nvSpPr>
              <p:cNvPr id="269" name=""/>
              <p:cNvSpPr/>
              <p:nvPr/>
            </p:nvSpPr>
            <p:spPr>
              <a:xfrm>
                <a:off x="3581280" y="228600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76160" y="3733560"/>
                <a:ext cx="243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rst Derived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1440" y="5470560"/>
                <a:ext cx="281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ultiply-Derived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295280" y="2666880"/>
                <a:ext cx="1447560" cy="703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inherit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38680" y="2666880"/>
                <a:ext cx="1600200" cy="6426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inheritan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2819160" y="2819160"/>
                <a:ext cx="83808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495680" y="2819160"/>
                <a:ext cx="76176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90560" y="4572000"/>
                <a:ext cx="7621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028480" y="4343400"/>
                <a:ext cx="83844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42840" y="304776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181480" y="2971800"/>
                <a:ext cx="3808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8B80-A17D-4E9B-9EE3-AFAB226140D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20: fig22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polymorphically call a function that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ly inherited from two base class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On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On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erived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71600" y="1295280"/>
            <a:ext cx="4114800" cy="1096200"/>
            <a:chOff x="1371600" y="1295280"/>
            <a:chExt cx="4114800" cy="1096200"/>
          </a:xfrm>
        </p:grpSpPr>
        <p:sp>
          <p:nvSpPr>
            <p:cNvPr id="283" name=""/>
            <p:cNvSpPr/>
            <p:nvPr/>
          </p:nvSpPr>
          <p:spPr>
            <a:xfrm>
              <a:off x="2819520" y="129528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example will demonstrate the ambiguity of multiple inheri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371600" y="1467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DD83-9245-4AE1-9249-8C4C28ADB56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272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Two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Two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erived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Multipl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p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qualify which version of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DerivedTwo::print()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Multi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CA62-120B-4FE1-A48B-FF0C2E728F5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05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::pri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Number after modification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st away const-ness to allow modification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onstCastTest * &g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-&gt;number--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stCastTest tes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nstCastTest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setNumb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private data number to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value of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.get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print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10080"/>
            <a:ext cx="70102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value of number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after modification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114800" y="568440"/>
            <a:ext cx="4114800" cy="1096200"/>
            <a:chOff x="4114800" y="568440"/>
            <a:chExt cx="4114800" cy="1096200"/>
          </a:xfrm>
        </p:grpSpPr>
        <p:sp>
          <p:nvSpPr>
            <p:cNvPr id="103" name=""/>
            <p:cNvSpPr/>
            <p:nvPr/>
          </p:nvSpPr>
          <p:spPr>
            <a:xfrm>
              <a:off x="5562720" y="56844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t awa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n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. This allows the data to be modifi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114800" y="739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0705-224A-4A8A-946F-790158B3D3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710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ultiple bot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stantiate Multip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One on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On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Two two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Tw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rray of base-class poin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 *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array[ 0 ] = &amp;both;   // ERROR--ambiguous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tw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ymorphically invoke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[ i ] -&gt;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14600" y="1371600"/>
            <a:ext cx="4114800" cy="857160"/>
            <a:chOff x="2514600" y="1371600"/>
            <a:chExt cx="4114800" cy="857160"/>
          </a:xfrm>
        </p:grpSpPr>
        <p:sp>
          <p:nvSpPr>
            <p:cNvPr id="290" name=""/>
            <p:cNvSpPr/>
            <p:nvPr/>
          </p:nvSpPr>
          <p:spPr>
            <a:xfrm>
              <a:off x="3962520" y="137160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ich base subobject will be us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514600" y="1542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67B8-5A25-4732-B011-2B65F8E28BD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8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4e\ch22\fig22_20_21\fig22_20.cpp(52) : error C2594: '=' 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mbiguous conversions from 'class Multiple *' to 'class Base *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xecuting cl.ex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.exe - 1 error(s), 0 warning(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C66E-96EF-421B-B800-FE45D39F05D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21: fig22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virtual base class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Bas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On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default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On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rivedOn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352680" y="3276720"/>
            <a:ext cx="4114800" cy="2069640"/>
            <a:chOff x="3352680" y="3276720"/>
            <a:chExt cx="4114800" cy="2069640"/>
          </a:xfrm>
        </p:grpSpPr>
        <p:sp>
          <p:nvSpPr>
            <p:cNvPr id="297" name=""/>
            <p:cNvSpPr/>
            <p:nvPr/>
          </p:nvSpPr>
          <p:spPr>
            <a:xfrm>
              <a:off x="4800600" y="3276720"/>
              <a:ext cx="2666880" cy="206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virtual inheritance to solve the ambiguity problem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mpiler generates default constructors, which greatly simplifies the hierarch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352680" y="344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86200" y="3448080"/>
              <a:ext cx="91440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945B-94D2-47C8-9CE2-0E994EC2F76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Two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default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Two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rivedTwo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Multipl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p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rivedOne and DerivedTwo default constru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qualify which version of function print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DerivedTwo::print();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ultipl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352320" y="837720"/>
            <a:ext cx="3810600" cy="1158120"/>
            <a:chOff x="3352320" y="837720"/>
            <a:chExt cx="3810600" cy="1158120"/>
          </a:xfrm>
        </p:grpSpPr>
        <p:sp>
          <p:nvSpPr>
            <p:cNvPr id="303" name=""/>
            <p:cNvSpPr/>
            <p:nvPr/>
          </p:nvSpPr>
          <p:spPr>
            <a:xfrm>
              <a:off x="4495680" y="114300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ance, as bef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3352320" y="837720"/>
              <a:ext cx="11430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7485-12A3-47F8-AD98-72129682132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4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ultiple both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Multip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One on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On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Two two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Tw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clare array of base-class pointers and initial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ach element to a derived-class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 *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both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tw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ymorphically invoke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[ i ]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6AF9-816B-476C-AB96-89092F7212D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85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0365-74E0-4B22-B15A-6806C002921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interpret_cast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interpret_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nonstandard casts (i.e., one pointer to anoth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for standard casts (i.e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969B-077C-4FFA-A622-E27C9DA497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91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2: fig22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 reinterpret_ca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&amp;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reinterpret_cast to cast from int * to char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ptr )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91120"/>
            <a:ext cx="70102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1080" y="1523880"/>
            <a:ext cx="4114800" cy="1524240"/>
            <a:chOff x="1981080" y="1523880"/>
            <a:chExt cx="4114800" cy="1524240"/>
          </a:xfrm>
        </p:grpSpPr>
        <p:sp>
          <p:nvSpPr>
            <p:cNvPr id="111" name=""/>
            <p:cNvSpPr/>
            <p:nvPr/>
          </p:nvSpPr>
          <p:spPr>
            <a:xfrm>
              <a:off x="3429000" y="152388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Cast i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printing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ASCII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x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981080" y="1695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361960" y="1695600"/>
              <a:ext cx="1066680" cy="13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38AA-4292-40C5-B410-81F0DF924F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amesp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has identifiers in different 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times scopes overlap, lead to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defines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identifiers and variables within name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with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space_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guaranteed to b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space 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named namespaces are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no qual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paces can be nes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1765-C4E4-43B8-B2AA-1725FACAA7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amesp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 namespace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space_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that namespace can be used without preceding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space_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used with individual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uraged by some programmers, because includes entire conten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::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ri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29BB-EA79-4EE8-8AC6-498E578E6E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28:09Z</dcterms:created>
  <dc:creator>kalid</dc:creator>
  <dc:description/>
  <dc:language>en-US</dc:language>
  <cp:lastModifiedBy>Pearson Education</cp:lastModifiedBy>
  <dcterms:modified xsi:type="dcterms:W3CDTF">2002-09-03T14:50:27Z</dcterms:modified>
  <cp:revision>294</cp:revision>
  <dc:subject/>
  <dc:title>PowerPoint Presentation</dc:title>
</cp:coreProperties>
</file>