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2B64-48FB-44BA-A343-A2611FD3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E924-E3A0-4B64-B5FC-C4008CFD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6CFC-996A-422F-B1B0-D6684739C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B6E2-B289-4CCD-B1C5-235669B4D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B269-B069-4268-BAC9-A57412E89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92C8-8437-4340-AC8C-E053A19CA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BA85-CC47-429B-B91C-19F8C430B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F7D9-9951-427F-9859-2346AE7D6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D65C-55B9-494B-805B-AA643E565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1DB3-B093-4A09-9F3C-841D21043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66A9-F91F-43D6-B999-203EBFCAA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ED39-2707-4152-96BE-4E5689AFF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C201-AF45-4A45-8CCA-641DDC927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5A84-17DA-47A3-9AA7-85E5B38B44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B5C6-EC89-456D-81E4-A9068BC6AB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6999-7F4F-46AE-A41C-E537B0930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A57B-194D-4AB6-A516-EB048EA41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1EA1-AE5B-4860-B2B2-C2792A5EB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C221-FE97-47D5-B8BF-A4D86A8FD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3A35-EF44-4BE1-9846-5CB062E4B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3AA5-BCA9-4CE2-826D-36B9C1387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A2BF-9FCD-4FCB-B688-09295B0BF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82E0-E64E-4A26-ADE6-5FEA86BB4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E752-A67E-4835-B6C5-1B6E457F2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F62-7698-479C-876B-9CE1EB79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E0C2-7EFB-4385-9DDE-28263F45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- Bits, Characters, String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High-Performance Card-Shuffling and Deal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acter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ing-Convers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mory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5BA4-F7D5-4511-ADD7-84600A60A2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High-Performance Card-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to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deck[ 52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random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hrough deck,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ECB5-CA60-4BF3-B5BB-D24341BCD6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: fig18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and dealing program using structur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tructur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ure Car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3048120"/>
            <a:ext cx="4114800" cy="2361960"/>
            <a:chOff x="2209680" y="3048120"/>
            <a:chExt cx="4114800" cy="2361960"/>
          </a:xfrm>
        </p:grpSpPr>
        <p:sp>
          <p:nvSpPr>
            <p:cNvPr id="128" name=""/>
            <p:cNvSpPr/>
            <p:nvPr/>
          </p:nvSpPr>
          <p:spPr>
            <a:xfrm>
              <a:off x="36576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. In functions, it is used like any other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9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666880" y="3200400"/>
              <a:ext cx="9907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D5A6-B457-4E74-8787-402396553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3D63-FD4D-44C8-8893-599FFA1D9B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strings into Card struc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wFace[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wSuit[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d temp = wDeck[ i ]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 = wDeck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j ] = temp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9880" y="304920"/>
            <a:ext cx="4114800" cy="1067400"/>
            <a:chOff x="3809880" y="304920"/>
            <a:chExt cx="4114800" cy="1067400"/>
          </a:xfrm>
        </p:grpSpPr>
        <p:sp>
          <p:nvSpPr>
            <p:cNvPr id="136" name=""/>
            <p:cNvSpPr/>
            <p:nvPr/>
          </p:nvSpPr>
          <p:spPr>
            <a:xfrm>
              <a:off x="525780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every face and suit. Note format for accessing a data member in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9880" y="457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29000" y="2590920"/>
            <a:ext cx="4114800" cy="1067400"/>
            <a:chOff x="3429000" y="2590920"/>
            <a:chExt cx="4114800" cy="1067400"/>
          </a:xfrm>
        </p:grpSpPr>
        <p:sp>
          <p:nvSpPr>
            <p:cNvPr id="139" name=""/>
            <p:cNvSpPr/>
            <p:nvPr/>
          </p:nvSpPr>
          <p:spPr>
            <a:xfrm>
              <a:off x="487692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ck a random car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0-51) and swap with current card. Notice the use of structure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3113-93C4-490D-8C98-FABF34104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fac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B0DA-7988-440E-92B5-582794BC8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Diamonds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  Six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Diamonds        Nin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Diamonds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Diamonds        Jack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 Four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Fiv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Clubs            Ac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A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 Six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 Nin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Clubs          Que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Clubs          Queen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Hearts          Fiv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  A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 Four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King of Spad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EC67-A65C-41A8-8840-1D93DCFBE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 bits form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ne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ata types larg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software requires bit and byte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systems,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73F2-934F-403D-9BE9-2B85D80D8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r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both b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in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ither 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xactly one bi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bits ar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one's 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689C-8586-458C-8450-7BF8179C58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f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all bits lef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s from righ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HIFT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ight shift with sign exten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bits righ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from left can 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3309-3FF0-4DA4-BB8A-B4962797F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values in their binary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unsigned integ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0000 00000000 00000000 0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a machine with 4-byte integ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stores number in thi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with specific bits set to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some bits while selecting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ith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076F-82F3-4207-A058-7DFCA48C46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, bits, characters, C-sty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C++ programmers working with legacy C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ld variables of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lasses, but all data membe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how to use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card shuffling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9F5C-E88D-4E58-8D2F-9E94C5EF7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want to see leftmost bit of a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with mas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0101 10110000 10101100 0001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nonzero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bit of result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bits are "masked off" (AND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a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324F-05A7-483D-820E-7ACD9511CB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int every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leftmost 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 number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0000 … 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many bi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(unsigned) *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with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 one less time (mask is already on first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izeof(unsigned) * 8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430C-2A26-45F6-8F13-9A2CB0BE62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5: fig18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unsigned integer in b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unsigned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inpu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E084-BA0A-472B-9661-A9CCBD21DE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unsigned integer: 6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5000 = 00000000 00000000 11111101 111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0" y="990360"/>
            <a:ext cx="6629400" cy="1114560"/>
            <a:chOff x="2286000" y="990360"/>
            <a:chExt cx="6629400" cy="1114560"/>
          </a:xfrm>
        </p:grpSpPr>
        <p:sp>
          <p:nvSpPr>
            <p:cNvPr id="163" name=""/>
            <p:cNvSpPr/>
            <p:nvPr/>
          </p:nvSpPr>
          <p:spPr>
            <a:xfrm>
              <a:off x="3276720" y="1524240"/>
              <a:ext cx="5638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IFT = 32 - 1 = 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 = 10000000 00000000 00000000 000000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86000" y="99036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81280" y="2401920"/>
            <a:ext cx="5029200" cy="824040"/>
            <a:chOff x="3581280" y="2401920"/>
            <a:chExt cx="5029200" cy="824040"/>
          </a:xfrm>
        </p:grpSpPr>
        <p:sp>
          <p:nvSpPr>
            <p:cNvPr id="166" name=""/>
            <p:cNvSpPr/>
            <p:nvPr/>
          </p:nvSpPr>
          <p:spPr>
            <a:xfrm>
              <a:off x="5943600" y="2401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wis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is nonzero (true), then the leftmost dig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81280" y="2401920"/>
              <a:ext cx="236232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04760" y="2577960"/>
            <a:ext cx="3733920" cy="1372320"/>
            <a:chOff x="1904760" y="2577960"/>
            <a:chExt cx="3733920" cy="1372320"/>
          </a:xfrm>
        </p:grpSpPr>
        <p:sp>
          <p:nvSpPr>
            <p:cNvPr id="169" name=""/>
            <p:cNvSpPr/>
            <p:nvPr/>
          </p:nvSpPr>
          <p:spPr>
            <a:xfrm>
              <a:off x="2971800" y="2882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eft by 1 to examine next bit. 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sam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 = value &lt;&lt;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904760" y="257796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A2FD-6EBC-465C-84D2-1ACF15EE8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amp;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|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^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ft shift and righ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7BAD-A7C6-4531-8B0D-C4FD2B6921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7: fig18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AND, bitwise inclusive OR, bitwi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clusive OR and bitwise complemen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s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i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4C22-6E10-4273-A1A9-074FC636D3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798763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s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AND operator &amp;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amp;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it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inclusive OR operator |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|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exclusive 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exclusive OR operator ^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^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BDD8-6186-4CC2-8E46-88AC743B0E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comp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8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one's complement o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~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26FD-5415-413C-B0AC-9673E79011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300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79876355 = 10000001 11101110 0100011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7A98-8F0F-4292-A8D0-A746BBF8CD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1: fig18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shif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lef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lef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lef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9D26-8294-49F5-80B7-FAE70EC490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tructu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clare variable of structur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/functions declared with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embers need unique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cannot contain instance of itself, only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does not reserv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ends with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566A-5ED1-4862-809F-B9BCAAA2D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righ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righ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righ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gt;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6044-5674-4E54-85F6-DF7FBC3859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lef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lef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760 = 00000000 00000011 11000000 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righ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righ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00000000 00000000 0000000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2E6E-544F-44F9-8444-C035FD54D8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better memory uti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width must be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169-9924-4D0C-A73A-ED49B19C66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bit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like any other structure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.face =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bits, can store valu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AA01-45FB-419C-9B3E-7CC56AAED3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4: fig1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ing cards with bit fields in a str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Card structure definition with bit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{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bits; 0-15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it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 bits; 0-3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 bit; 0-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 BitBar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t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81080" y="2057400"/>
            <a:ext cx="4114800" cy="838080"/>
            <a:chOff x="1981080" y="20574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34290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bit fields inside a structure to store car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9810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80FA-43FC-45D0-87A0-5CEB4B1031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t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color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371600"/>
            <a:ext cx="4114800" cy="838080"/>
            <a:chOff x="3429000" y="1371600"/>
            <a:chExt cx="4114800" cy="838080"/>
          </a:xfrm>
        </p:grpSpPr>
        <p:sp>
          <p:nvSpPr>
            <p:cNvPr id="201" name=""/>
            <p:cNvSpPr/>
            <p:nvPr/>
          </p:nvSpPr>
          <p:spPr>
            <a:xfrm>
              <a:off x="4876920" y="1371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to bit fields as normal, but be careful of each field's r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29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2FE3-8E7A-4871-806D-ED0A42170B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ards in two column format; cards 0-25 subscript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k1 (column 1); cards 26-51 subscripted k2 (column 2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k2 = k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++, k2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fa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29C8-2FA5-425A-AD96-BB10B97943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0  Color: 0   Card:  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0  Color: 0   Card:  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0  Color: 0   Card:  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0  Color: 0   Card:  3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0  Color: 0   Card:  4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0  Color: 0   Card:  5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0  Color: 0   Card:  6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0  Color: 0   Card:  7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0  Color: 0   Card:  8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0  Color: 0   Card:  9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0  Color: 0   Card: 1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0  Color: 0   Card: 1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0  Color: 0   Card: 1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1  Color: 0   Card:  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1  Color: 0   Card:  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1  Color: 0   Card:  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1  Color: 0   Card:  3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1  Color: 0   Card:  4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1  Color: 0   Card:  5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1  Color: 0   Card:  6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1  Color: 0   Card:  7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1  Color: 0   Card:  8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1  Color: 0   Card:  9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1  Color: 0   Card: 1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1  Color: 0   Card: 1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1  Color: 0   Card: 1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E756-8943-4A68-9A57-0A0FAD1CF4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fields are not arrays of bits (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ddress of bit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 bit fields to pad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, zero-width fields to align to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al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ext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EAE9-D0F5-427B-BD4D-4BBE05D465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c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perform tests and manipulations on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character as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represented by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llow negati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s often manipul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ually ha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22C9-7617-480F-99A4-0AC0D2A2C8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 us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clare variables when defin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fac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DEDC-1C62-4DB6-B665-4D7C88A50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pha(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 character functions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etter (A-Z, 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digit (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etter or digit (A-Z, a-z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x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hexadecimal digit (A-F, a-f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B359-5B4C-45B9-A405-2D44A7053AB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7: fig18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digit, isalpha, isalnum and isxdig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pha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&amp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4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etter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6720" y="1523880"/>
            <a:ext cx="5410080" cy="1219320"/>
            <a:chOff x="3276720" y="1523880"/>
            <a:chExt cx="5410080" cy="1219320"/>
          </a:xfrm>
        </p:grpSpPr>
        <p:sp>
          <p:nvSpPr>
            <p:cNvPr id="216" name=""/>
            <p:cNvSpPr/>
            <p:nvPr/>
          </p:nvSpPr>
          <p:spPr>
            <a:xfrm>
              <a:off x="3276720" y="1523880"/>
              <a:ext cx="5410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conditional operat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cond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?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tr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886200" y="2359080"/>
              <a:ext cx="9907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877E-EE6A-4A1A-AD64-830A5F2E70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num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digit or a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x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J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404F-2979-4200-88F1-0ACB673366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not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pha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num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 or a let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x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A8DE-4194-4510-A32F-09A49FC618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ow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upp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assed uppercase letter, returns lowercase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original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turns lowercase letter to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4717-9FF8-43A7-AD7E-0C045CD0DF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8: fig18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lower, isupper, tolower and toup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low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!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upp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8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2B83-44F7-420A-BE48-DEDA7F688F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u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7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$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 converted to low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4548-2D0C-42D9-9532-AE4879E3C2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low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upp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 converted to uppercase is 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converted to uppercase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converted to uppercase is $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 converted to lowercase is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A32F-8C38-43E4-BB7C-D696506FED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m f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ewl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rriage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orizont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ertic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v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cnt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ontrol character, such as tabs, form feed, aler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backspac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carriage return,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un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printing character other than space, digit, or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# ( ) [ ] { } ; : 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0D63-38C1-4D76-AC9A-9A38023EEF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 (including 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gra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, not including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0243-B1F4-4454-A0CF-A179FC0454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a structure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neCard.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ay not be in consecutive byte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alignment (2 or 4 bytes) may cause "hol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7D5F-A3C3-47C5-9A7D-CECCA8AC1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9: fig18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space, iscntrl, ispunct, isprint, isgrap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cording to isspace:\nNewlin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Horizontal tab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hitespace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cntrl:\nNewlin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218A-EB67-4D2E-ACCA-AFDFB40A68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unc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Y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Y is a"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# is a"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#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rin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Aler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graph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Q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\nSpac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5441-538F-45ED-A5E1-8CA7F58FC5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spa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rizontal tab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 is not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cntr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un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is not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ri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 is not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grap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 is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 is not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66AF-E878-41D3-9B3C-B94FCD63E9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to numeric values, searching, compari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functions t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modif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7684-5A54-450B-A015-7712CE7BE77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atof( const char *n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floating point numb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toi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atol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long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th 4-bytes,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605E-2DC0-4BB0-B7CB-735B922E367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1: fig18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f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atof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99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99.0\" converted to doubl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99.0" converted to double is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4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44DC-7A2D-461A-ABF8-D2FE13952A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2: fig18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i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ato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93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2593\" converted to int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onverted value minus 593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9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2593" converted to int is 25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93 is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64E9-E045-44D9-B934-4AF4D730F2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3: fig18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ato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000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tring \"1000000\" converted to long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6483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1000000" converted to long int is 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5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D3DD-E1FD-4659-8839-7F49C670B3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rtod( const char *nPtr, char **end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tod("123.4this is a test", &amp;stringP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a tes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367-C67C-4E86-A186-FFE4D557C99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4: fig18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d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.2% are admit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 = strtod( string1, &amp;string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converted to the\ndouble valu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51.2% are admitted" is conve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51.2 and the string "% are admitt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DE75-0EE0-4571-B526-5DA4D991475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2-byte boundary for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ucture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2-byt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n 1-byte hole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hole undefined, structures may not compare eq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3505320"/>
            <a:ext cx="8076960" cy="914400"/>
            <a:chOff x="533520" y="3505320"/>
            <a:chExt cx="8076960" cy="914400"/>
          </a:xfrm>
        </p:grpSpPr>
        <p:sp>
          <p:nvSpPr>
            <p:cNvPr id="100" name=""/>
            <p:cNvSpPr/>
            <p:nvPr/>
          </p:nvSpPr>
          <p:spPr>
            <a:xfrm>
              <a:off x="533520" y="3505320"/>
              <a:ext cx="8076960" cy="91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33760" y="39610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46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574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12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84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560" y="3673800"/>
              <a:ext cx="4762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3480" y="4150080"/>
              <a:ext cx="460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024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7920" y="3940560"/>
              <a:ext cx="1123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000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3440" y="3940560"/>
              <a:ext cx="1122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BB50-E43E-45A3-9222-5D813A5EE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strtol( const char *nPtr, char **endPtr, int bas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ainder of string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argument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value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umber 2 - 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octal, decimal, or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 strto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8D0D-A1B5-4BA5-8FBE-667103E503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5: fig18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plus 56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0096-79C6-4999-8DC4-40CA723954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-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-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plus 567 is -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173D-2C1F-476D-BED4-D4F5F473D4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6: fig18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u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u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u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minus 567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477A-CF1B-4B42-988F-A4EBD8C7530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67 is 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2C1F-AA7A-4051-BA7F-3F0CC3CE2AF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,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as integer of type retur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767F-54D5-49B7-9729-C3BC322B863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strchr( const char *s,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6A4A-AA0F-4550-ABFF-8C315F3BBB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8: fig18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1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'' 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C9F3-C1D3-4C38-8B01-B048A54DE5D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0666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was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z' was not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E2E6-FF5F-4424-8CF2-5FFC3C38D83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cspn( const char *s1, const char *s2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does not contain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pbrk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rchr( const char *s, int c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la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B3FA-67F7-4511-85B6-C2EAC35BA0A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 (like ar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 = { "Three", "Hearts" 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-separated values, enclosed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ember unspecified,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with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one structure to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 = oneCar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members individ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7571-2553-445A-BB9A-9666A3F88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9: fig18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length of the initial segment of string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ntaining no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02920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12345678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no characters from string2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17FB-2985-4E2D-8EE3-A96E715EA38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0: fig18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pb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pbrk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f the characters in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'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strpbrk( string1, string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the first character to appear in\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the characters in "bewar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is the first character to appear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This is a test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4012-19DF-4C95-BE45-531786FBEA3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1: fig18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zoo has many animals including zebr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occurrence of character '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c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s char not 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: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rchr( string1, c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occurrence of character 'z' is: "zebra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5F1A-65D4-43C9-84D4-D85344F0BC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spn( const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ontains only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str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7B7C-9F32-4FEA-AA45-C75FB17D620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2: fig18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ehils Tu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length of the initial segment of string1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ntaining only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2AF7-CEC6-411B-A0CE-62892988150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aehils Tu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only characters from string2 =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3BE4-43BD-4A5B-B205-50B3E18E431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3: fig18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t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abc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occurrence of string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tr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6655-FD12-4350-9300-E789A84676D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abc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occurrence of string2 is: 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BBDD-66DA-434D-8E88-4B5C577C18A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memory as array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any block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pointers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size (number of by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6908-6361-487B-8D0B-98A81783C13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py(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move( void *s1, const void *s2, size_t n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 if objects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30FF-60BF-4DB1-92AD-D4631BD8BA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pass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ndividual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ructure with array as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more effic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4C3A-E021-4997-9E15-D14AE6D37E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5: fig18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py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this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mcpy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s2 is copied into s1 with memcpy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contain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105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2 is copied into s1 with memcp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contains "Copy this st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44A0-612D-4615-8622-1A8ADDC5E9C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6: fig18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mov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move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ome Sweet H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before memmov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x after memmove is: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move( x, &amp;x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before memmove is: Home Swee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after memmove is:  Sweet Hom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6014-AD86-4C4F-816D-789A8FB87F6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emcmp( const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(eq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g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l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44CA-8289-47AC-AD2A-6FC2F06401D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7: fig18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mp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4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2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2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5DF3-152E-452A-80BC-A42DD9011BF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ABCDEF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ABCD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4) =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7) =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2, s1, 7) =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DE14-F7D0-4A44-9570-486FFCFFA8F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hr(const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set(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32DF-488F-431B-B4D2-95FAE42BBE9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8: fig18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is is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mainder of s after character 'r'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found is 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chr( 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80060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 after character 'r' is found is "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4E58-5B50-45AA-A89A-4C1D8D6BAFD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9: fig18_3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s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se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BBBBBBBBBBBB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after memset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set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after memset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4427-56DF-4DE6-8D93-D21959F9876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reate new type, only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BAA1-0C2D-498B-89B4-AC1DA44F3B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1:03Z</dcterms:created>
  <dc:creator>kalid</dc:creator>
  <dc:description/>
  <dc:language>en-US</dc:language>
  <cp:lastModifiedBy>Pearson Education</cp:lastModifiedBy>
  <dcterms:modified xsi:type="dcterms:W3CDTF">2002-08-29T18:53:35Z</dcterms:modified>
  <cp:revision>699</cp:revision>
  <dc:subject/>
  <dc:title>PowerPoint Presentation</dc:title>
</cp:coreProperties>
</file>