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24319-5C15-4C8C-8A4B-02228C37F2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DDFDB-828A-4304-B53A-432A42C1FF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D9A6E-1943-46D7-B788-57C01BF8CD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C3E41-8947-4305-AFD6-626B0AF73D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AF416-80FD-4658-81E1-A85BE612E9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13CB8-B99D-440B-8BEA-4A9781386C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F3407-1C4E-4BCB-A2A5-47952C154E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8BA1C-7520-4792-9844-F53714FD97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E06F3-8D39-4AF9-BFFA-B6579B7914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8D4A1-ACBD-4E80-87A2-6A1F4290BC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D161C-4B20-457F-BF2E-18224F20A9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166A0-8D9B-44F4-BDDA-BDC6360BD2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F7020-104E-4CC0-8EBC-F313EB2846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BB843-67BE-43B1-B1EB-80BBFCD508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82214-6A5E-43EA-90CB-653A404AAE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AF93D-9CCF-4FFA-A618-5D9E710269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2AF84-6664-4826-9B7A-31BAE72007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C966F-24D9-4B51-AFCA-338E6E250D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20542-4B87-467D-90B7-91A864A3F5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34CD6-3185-4E0F-83C8-C47D40684B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10636-7624-4C28-A79A-3900FB614A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4AB7D-FD91-419A-830A-E2B7294759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069AA-7F8E-4A47-8222-D3E2B467C4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A51C5-D087-481C-AFDB-553151955C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1770-0F5D-4FE0-BEAA-30ED9DBDA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EE1A-2938-415B-B5D4-07080B5FF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4 - File Processing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1371600"/>
            <a:ext cx="7315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he Data Hierarc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iles and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reating a Sequential-Access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Reading Data from a Sequential-Access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Updating Sequential-Access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Random-Access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reating a Random-Access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Writing Data Randomly to a Random-Access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10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Reading Data Sequentially from a Random-Access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1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Example: A Transaction-Processing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1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put/Output of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849D5-3A3F-4DFB-848B-8037EEF59AE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reating a Sequential-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-open m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of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opened for output by defau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fstream outClientFile( "clients.dat", ios::ou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fstream outClientFile( "clients.dat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609480" y="2021040"/>
          <a:ext cx="7305840" cy="338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21040"/>
                    <a:ext cx="7305840" cy="33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9849F-4DC0-4E04-9F51-36618A182A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reating a Sequential-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oad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perator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!outClient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nonzero (true)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d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il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ed non-existent file for reading, wrong per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oad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perator void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s stream object to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n w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il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d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, otherwise nonz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il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when EOF 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 cin &gt;&gt; myVariable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icitly conver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ps until E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56655-AF61-401A-B1DA-9DA2E604C8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reating a Sequential-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riting to file (just lik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ClientFile &lt;&lt; my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osing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ClientFile.clos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ically closed when destructor ca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D066D-B0CA-4BC3-9DFE-F5E2F63983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4.4: fig14_0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a sequential fi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o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er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f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f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xit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fstream constructor opens file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fstream outClientFi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ients.da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os::o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it program if unable to create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outClientFile ) {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ed !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 could not be open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057040" y="837720"/>
            <a:ext cx="3886560" cy="2181240"/>
            <a:chOff x="2057040" y="837720"/>
            <a:chExt cx="3886560" cy="2181240"/>
          </a:xfrm>
        </p:grpSpPr>
        <p:sp>
          <p:nvSpPr>
            <p:cNvPr id="253" name=""/>
            <p:cNvSpPr/>
            <p:nvPr/>
          </p:nvSpPr>
          <p:spPr>
            <a:xfrm>
              <a:off x="3276720" y="24382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the the header files required for file I/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2057040" y="837720"/>
              <a:ext cx="121932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2209680" y="2438280"/>
              <a:ext cx="10670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4038480" y="3124080"/>
            <a:ext cx="4114800" cy="1143000"/>
            <a:chOff x="4038480" y="3124080"/>
            <a:chExt cx="4114800" cy="1143000"/>
          </a:xfrm>
        </p:grpSpPr>
        <p:sp>
          <p:nvSpPr>
            <p:cNvPr id="257" name=""/>
            <p:cNvSpPr/>
            <p:nvPr/>
          </p:nvSpPr>
          <p:spPr>
            <a:xfrm>
              <a:off x="5486400" y="31240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f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created and used to open fi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"clients.dat"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If the file does not exist, it is crea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4038480" y="3581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666880" y="4419720"/>
            <a:ext cx="5562720" cy="590400"/>
            <a:chOff x="2666880" y="4419720"/>
            <a:chExt cx="5562720" cy="590400"/>
          </a:xfrm>
        </p:grpSpPr>
        <p:sp>
          <p:nvSpPr>
            <p:cNvPr id="260" name=""/>
            <p:cNvSpPr/>
            <p:nvPr/>
          </p:nvSpPr>
          <p:spPr>
            <a:xfrm>
              <a:off x="5562720" y="44197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!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perator used to test if the file opened proper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666880" y="4572000"/>
              <a:ext cx="289584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797C9-E20F-4E8F-81E3-A90C22343B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419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the account, name, and balance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end-of-file to end input.\n?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an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ad account, name and balance from cin, then place i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in &gt;&gt; account &gt;&gt; name &gt;&gt; balanc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ClientFile &lt;&lt; accoun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nam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&lt;&lt; endl;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?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ofstream destructor closes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828800" y="609480"/>
            <a:ext cx="4114800" cy="1524240"/>
            <a:chOff x="1828800" y="609480"/>
            <a:chExt cx="4114800" cy="1524240"/>
          </a:xfrm>
        </p:grpSpPr>
        <p:sp>
          <p:nvSpPr>
            <p:cNvPr id="265" name=""/>
            <p:cNvSpPr/>
            <p:nvPr/>
          </p:nvSpPr>
          <p:spPr>
            <a:xfrm>
              <a:off x="3276720" y="6094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implicitly converted to a pointer. When EOF is encountered, it returns 0 and the loop stop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1828800" y="1447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2057400" y="2666880"/>
            <a:ext cx="3581280" cy="904680"/>
            <a:chOff x="2057400" y="2666880"/>
            <a:chExt cx="3581280" cy="904680"/>
          </a:xfrm>
        </p:grpSpPr>
        <p:sp>
          <p:nvSpPr>
            <p:cNvPr id="268" name=""/>
            <p:cNvSpPr/>
            <p:nvPr/>
          </p:nvSpPr>
          <p:spPr>
            <a:xfrm>
              <a:off x="2971800" y="29908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rite data to file like a regular stream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flipV="1">
              <a:off x="2057400" y="2666880"/>
              <a:ext cx="9144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523880" y="3885840"/>
            <a:ext cx="4114800" cy="1144080"/>
            <a:chOff x="1523880" y="3885840"/>
            <a:chExt cx="4114800" cy="1144080"/>
          </a:xfrm>
        </p:grpSpPr>
        <p:sp>
          <p:nvSpPr>
            <p:cNvPr id="271" name=""/>
            <p:cNvSpPr/>
            <p:nvPr/>
          </p:nvSpPr>
          <p:spPr>
            <a:xfrm>
              <a:off x="2971800" y="39625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ile closed when destructor called for object. Can be explicitly closed wit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lose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 flipV="1">
              <a:off x="1523880" y="3885840"/>
              <a:ext cx="1447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B60FE-73A4-4F4B-9DCC-D80E586976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981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he account, name, and balanc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end-of-file to end inpu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100 Jones 24.9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200 Doe 345.6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300 White 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400 Stone -42.1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500 Rich 224.6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? ^Z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C4566-1D9C-46C3-AA22-2A61C2C1E1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ading Data from a Sequential-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stream inClientFile( "filename", ios::in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oade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!inClientF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ests if file was opened prope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perator void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nverts to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inClientFile &gt;&gt; myVari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s when EOF found (gets valu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AC4DF-AEB4-448B-B922-03C92D8153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4.7: fig14_0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ing and printing a sequential fi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o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er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lef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righ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howpoi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f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f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xit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Lin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ECD71-517C-4646-925B-EB235E47FA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fstream constructor opens the file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fstream inClientFi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ients.da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os::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it program if ifstream could not ope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nClientFil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 could not be open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an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lef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ou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lan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 &lt;&lt; fixed &lt;&lt; showpoi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each record i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ClientFile &gt;&gt; account &gt;&gt; name &gt;&gt; balanc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putLine( account, name, balanc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stream destructor closes the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742840" y="533520"/>
            <a:ext cx="5181840" cy="1066680"/>
            <a:chOff x="2742840" y="533520"/>
            <a:chExt cx="5181840" cy="1066680"/>
          </a:xfrm>
        </p:grpSpPr>
        <p:sp>
          <p:nvSpPr>
            <p:cNvPr id="282" name=""/>
            <p:cNvSpPr/>
            <p:nvPr/>
          </p:nvSpPr>
          <p:spPr>
            <a:xfrm>
              <a:off x="5257800" y="53352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pen and test file for inpu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4114440" y="685800"/>
              <a:ext cx="114300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2742840" y="685800"/>
              <a:ext cx="25146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2514600" y="3733920"/>
            <a:ext cx="4114800" cy="838080"/>
            <a:chOff x="2514600" y="3733920"/>
            <a:chExt cx="4114800" cy="838080"/>
          </a:xfrm>
        </p:grpSpPr>
        <p:sp>
          <p:nvSpPr>
            <p:cNvPr id="286" name=""/>
            <p:cNvSpPr/>
            <p:nvPr/>
          </p:nvSpPr>
          <p:spPr>
            <a:xfrm>
              <a:off x="3962520" y="37339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ad from file until EOF foun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2514600" y="38862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A57AB-F719-4CAC-B2EC-2D62AFC1A6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single record from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Lin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anc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lef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accoun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right &lt;&lt;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utputLi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2438280"/>
            <a:ext cx="7010280" cy="160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unt   Name        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      Jones          24.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       Doe           345.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00       White          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00       Stone         -42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00       Rich          224.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FE207-C951-40A4-B81B-6F1CB3FE25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1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age of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s, variables are tempor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es are perman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gnetic disk, optical disk, ta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chap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, update, process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quential and random ac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atted and raw process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ACC11-7456-41C7-A39F-C00F166B4B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ading Data from a Sequential-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position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of next byte to read/wri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s to reposition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ek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seek get f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ek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seek put f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es have "get" and "put"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ek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ek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k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offs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ire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set: number of bytes relative to 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ion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s::be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faul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s::be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relative to beginning of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s::cu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relative to current 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s::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relative to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F4BF8-8236-43DA-A347-1754CDE67D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ading Data from a Sequential-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leObject.seekg(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es to front of file (loca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beca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s::be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leObject.seekg(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es to nth byte from begi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leObject.seekg(n, ios::cu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es n bytes for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leObject.seekg(y, ios::en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es y bytes back from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leObject.seekg(0, ios::cu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es to last by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ek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imil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73242-B030-4E61-99D5-DF48ED2534E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ading Data from a Sequential-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pointer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ell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ell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ocation = fileObject.tellg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com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dit manager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st accounts with zero balance, credit, and deb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CB896-3F05-4160-B106-49CF12DBD0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4.8: fig14_0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dit-inquiry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o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er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howpoi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lef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righ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f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f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AD791-78CC-42DC-95A9-3E3C1EDCE47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nu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questType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ZERO_BALA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REDIT_BALA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EBIT_BALA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Reque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ouldDispl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Lin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fstream constructor opens the file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fstream inClientFi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ients.da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os::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it program if ifstream could not ope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nClientFil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 could not be open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que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an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user's request (e.g., zero, credit or debit balance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equest = getReque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AD37B-7D41-440A-B87E-961A63B6A1F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343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ocess user's requ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quest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wi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quest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ZERO_BALA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ccounts with zero balance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REDIT_BALA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ccounts with credit balance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EBIT_BALA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ccounts with debit balance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wi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2BE2E-C7E7-4D83-990F-4D983248020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ad account, name and balance from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ClientFile &gt;&gt; account &gt;&gt; name &gt;&gt; balan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play file contents (until eof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nClientFile.eof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isplay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houldDisplay( request, balance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utputLine( account, name, balanc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ad account, name and balance from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ClientFile &gt;&gt; account &gt;&gt; name &gt;&gt; balan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nner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ClientFile.clear(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et eof for next inpu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ClientFile.seek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ve to beginning of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quest = getReques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additional request from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uter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d of run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stream destructor closes the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514600" y="2590920"/>
            <a:ext cx="4114800" cy="1143000"/>
            <a:chOff x="2514600" y="2590920"/>
            <a:chExt cx="4114800" cy="1143000"/>
          </a:xfrm>
        </p:grpSpPr>
        <p:sp>
          <p:nvSpPr>
            <p:cNvPr id="306" name=""/>
            <p:cNvSpPr/>
            <p:nvPr/>
          </p:nvSpPr>
          <p:spPr>
            <a:xfrm>
              <a:off x="3962520" y="25909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le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reset eof. 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ek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set file position pointer to beginning of fi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514600" y="297180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3048120" y="2971800"/>
              <a:ext cx="9144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9346A-1CF0-42C1-9BBD-6CA6EB6DDA9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btain request from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Reques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que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request op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nter reque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1 - List accounts with zero balanc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2 - List accounts with credit balanc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3 - List accounts with debit balanc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4 - End of ru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fixed &lt;&lt; showpoi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put user requ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?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reque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request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ZERO_BALA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request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que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Requ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0484B-E36C-4149-8922-E8FEF1E4983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6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248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whether to display given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ouldDispl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yp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anc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termine whether to display credit bala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ype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REDIT_BALA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balance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termine whether to display debit bala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ype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EBIT_BALA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balance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termine whether to display zero bala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ype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ZERO_BALA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balance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houldDispl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single record from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Lin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anc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lef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accoun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right &lt;&lt;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utputLi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BD05B-A94C-46BA-8F32-49B27DBF708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requ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- List accounts with zero bala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- List accounts with credit bala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- List accounts with debit bala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- End of ru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unts with zero balance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00       White           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requ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- List accounts with zero bala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- List accounts with credit bala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- List accounts with debit bala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- End of ru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? 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unts with credit balance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00       Stone         -42.1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75DEB-8134-45A7-AFFD-870F00C14F4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Data Hierarch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smallest to larg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it (binary digi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or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rything in computer ultimately represented as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mbersome for humans to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cter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s, letters, symbols used to represen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ry character represented by 1's and 0'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yte: 8 b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store a charac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Unicode for large character sets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char_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7F222-E624-41FD-92A0-3E14459748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41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requ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- List accounts with zero bala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- List accounts with credit bala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- List accounts with debit bala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- End of ru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unts with debit balance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      Jones          24.9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       Doe           345.6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00       Rich          224.6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requ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- List accounts with zero bala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- List accounts with credit bala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- List accounts with debit bala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- End of ru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of ru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388A5-EB33-419E-9B0A-17F90F0B351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pdating Sequential-Access Fi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ing sequential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isk overwriting other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change name "White" to "Worthington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00 White 0.00 400 Jones 32.8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new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atted text different from internal repres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blem can be avoided, but awkwa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01920" y="28195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99040" y="4114800"/>
            <a:ext cx="33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00 White 0.00 400 Jones 32.8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9092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21000" y="4952880"/>
            <a:ext cx="33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00 Worthington 0.00ones 32.8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505160" y="3581280"/>
            <a:ext cx="2314440" cy="533520"/>
            <a:chOff x="1505160" y="3581280"/>
            <a:chExt cx="2314440" cy="533520"/>
          </a:xfrm>
        </p:grpSpPr>
        <p:sp>
          <p:nvSpPr>
            <p:cNvPr id="324" name=""/>
            <p:cNvSpPr/>
            <p:nvPr/>
          </p:nvSpPr>
          <p:spPr>
            <a:xfrm>
              <a:off x="2568960" y="3809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505160" y="3581280"/>
              <a:ext cx="231444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300 Worthington 0.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822840" y="4322880"/>
            <a:ext cx="3720960" cy="630000"/>
            <a:chOff x="3822840" y="4322880"/>
            <a:chExt cx="3720960" cy="630000"/>
          </a:xfrm>
        </p:grpSpPr>
        <p:sp>
          <p:nvSpPr>
            <p:cNvPr id="327" name=""/>
            <p:cNvSpPr/>
            <p:nvPr/>
          </p:nvSpPr>
          <p:spPr>
            <a:xfrm>
              <a:off x="5334120" y="4322880"/>
              <a:ext cx="22096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 gets overwritt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3822840" y="4495680"/>
              <a:ext cx="1511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875A3-0744-4F52-B67D-B78DDBDD1B0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andom-Access Fi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t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ant to locate record quick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line reservations, AT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quential files must search through each 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-access files ar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tant ac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ert record without destroying other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pdate/delete items without changing other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C5D6C-5545-43F0-8FC4-A3E67BADEFD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andom-Access Fi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imposes no structure on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mer must create random-access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plest way: fixed-length reco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 position in file from record size and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371600" y="3276720"/>
            <a:ext cx="6191280" cy="218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605B6-BEB8-406C-A2E8-1414056EE69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reating a Random-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"1234567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har 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v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123456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 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kes 8 bytes (1 for each character + nul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kes fixed number of bytes (perhaps 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3 same size in bytes as 12345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or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rite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utFile &lt;&lt; num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 number of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utFile.write( 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const char *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siz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s raw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s pointer to memory location, number of bytes to 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ies data directly from memory into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convert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2DC10-E681-48F9-80EB-F54C7785555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reating a Random-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File.write( reinterpret_cast&lt;const char *&gt;(&amp;number), sizeof( number )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numb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char 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interpret_c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zeof(number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in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similar (more lat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etween compatible machi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when using raw, unformatt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os::bina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 raw writes/rea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38F1D-AE89-42EB-B966-50C84AEA332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reating a Random-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write entir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object to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dit processing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e at most 100 fixed-length reco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ount number (ke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and last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ount op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, create new, delete, list all accounts in a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: program to create blank 100-record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D91C0-6916-4B27-BFF4-0CA59629386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Data.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4.10: clientData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ClientData definition used in Fig. 14.12–Fig. 14.15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LIENTDATA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LIENTDATA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Data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fault ClientData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lientData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cessor functions for account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AccountNumb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AccountNumb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cessor functions for la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LastName( string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getLas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904760" y="838080"/>
            <a:ext cx="4115160" cy="1310760"/>
            <a:chOff x="1904760" y="838080"/>
            <a:chExt cx="4115160" cy="1310760"/>
          </a:xfrm>
        </p:grpSpPr>
        <p:sp>
          <p:nvSpPr>
            <p:cNvPr id="343" name=""/>
            <p:cNvSpPr/>
            <p:nvPr/>
          </p:nvSpPr>
          <p:spPr>
            <a:xfrm>
              <a:off x="3352680" y="838080"/>
              <a:ext cx="26672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lientDat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ores the information for each person. 100 blank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lientDat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s will be written to a fi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1904760" y="14479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F092C-01FE-4E48-A105-0DBC3C9E1EE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Data.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cessor functions for fir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FirstName( string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getFirs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cessor functions for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Balanc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Bala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astNam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stNam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an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Client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590560" y="1587600"/>
            <a:ext cx="4115160" cy="1310760"/>
            <a:chOff x="2590560" y="1587600"/>
            <a:chExt cx="4115160" cy="1310760"/>
          </a:xfrm>
        </p:grpSpPr>
        <p:sp>
          <p:nvSpPr>
            <p:cNvPr id="348" name=""/>
            <p:cNvSpPr/>
            <p:nvPr/>
          </p:nvSpPr>
          <p:spPr>
            <a:xfrm>
              <a:off x="4038480" y="1587600"/>
              <a:ext cx="26672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ut limits on the size of the first and last name.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ccount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ala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are already of a fixed siz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2590560" y="17398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A5423-3A7A-42EE-AED6-590DE3584E2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Data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4.11: ClientData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ClientData stores customer's credit inform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ientData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lientData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::ClientData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NumberValu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lastNameValue, string firstNameValu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ance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AccountNumber( accountNumber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LastName( lastName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FirstName( firstName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Balance( balance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ientData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account-numbe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Data::getAccountNumb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Account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E5DD8-7ED2-43C0-A9BF-C0CEEF65017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Data Hierarch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smallest to largest 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eld: group of characters with some mea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r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ord: group of related fiel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payroll system, could be name, SS#, address, w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field associated with same emplo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rd key: field used to uniquely identify rec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e: group of related reco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roll for entire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file: records stored by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base: group of related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roll, accounts-receivable, inventory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65607-0EAE-452C-B255-C497733E7E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Data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account-numbe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Data::setAccountNumb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Number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ccountNumber = accountNumber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Account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last-name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ClientData::getLas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a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La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last-name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Data::setLastName( string lastNameString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py at most 15 characters from string to la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lastNameValue = lastNameString.data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ngth = strlen( lastName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ength = ( length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length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ncpy( lastName, lastNameValue, lengt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ppend null character to la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astName[ length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3CB52-C41C-44BB-99BC-2A0BDF6713B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Data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La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first-name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ClientData::getFirs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Fir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first-name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::setFirstName( string firstNameString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py at most 10 characters from string to fir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firstNameValue = firstNameString.data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ngth = strlen( firstName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ength = ( length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length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ncpy( firstName, firstNameValue, lengt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ppend new-line character to fir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irstName[ length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Fir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B2DFA-4D4D-4B6F-B20C-B8641E692D9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Data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048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balance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::getBala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an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balance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::setBalanc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alance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alance = balance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35270-BD9F-4E51-A317-1CA560FEA45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4.12: fig14_1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ing a randomly accessed fi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er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o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f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f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ientData.h"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ientData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fstream outCred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redit.da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os::bina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it program if ofstream could not ope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outCredit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 could not be opened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4038480" y="3048120"/>
            <a:ext cx="4114800" cy="838080"/>
            <a:chOff x="4038480" y="3048120"/>
            <a:chExt cx="4114800" cy="838080"/>
          </a:xfrm>
        </p:grpSpPr>
        <p:sp>
          <p:nvSpPr>
            <p:cNvPr id="361" name=""/>
            <p:cNvSpPr/>
            <p:nvPr/>
          </p:nvSpPr>
          <p:spPr>
            <a:xfrm>
              <a:off x="5486400" y="30481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pen a file for raw writing using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f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os::bina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4038480" y="3200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52A00-6420-4C12-9A04-05DBF4D59F4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048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ClientData with no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lientData blank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100 blank records to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Credit.write(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interpret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&gt;( &amp;blankClient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2895120" y="457200"/>
            <a:ext cx="4267800" cy="1219320"/>
            <a:chOff x="2895120" y="457200"/>
            <a:chExt cx="4267800" cy="1219320"/>
          </a:xfrm>
        </p:grpSpPr>
        <p:sp>
          <p:nvSpPr>
            <p:cNvPr id="366" name=""/>
            <p:cNvSpPr/>
            <p:nvPr/>
          </p:nvSpPr>
          <p:spPr>
            <a:xfrm>
              <a:off x="4495680" y="45720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 blank object. 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wri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output the raw data to a file (passing a pointer to the object and its size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 flipV="1">
              <a:off x="2895120" y="761760"/>
              <a:ext cx="1600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3809520" y="99072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442D7-9C4E-483C-AB48-0838AB588F0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Writing Data Randomly to a Random-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ek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write to exact location in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re does the first record begin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te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second record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te 0 + sizeof(objec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y record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ecordnum - 1) * sizeof(objec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E18B2-5D8E-4E70-983D-8403C2B7B3E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4.13: fig14_1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riting to a random access fi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er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o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f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f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ientData.h"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lientData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3E3E2-18F2-4CFD-920F-85773278C53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astNam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stNam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an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fstream outCred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redit.da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os::bina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it program if ofstream cannot ope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outCredit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 could not be opened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account number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(1 to 100, 0 to end input)\n?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quire user to specify account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lientData 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account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lient.setAccountNumber( accountNumb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4038480" y="838080"/>
            <a:ext cx="4114800" cy="838440"/>
            <a:chOff x="4038480" y="838080"/>
            <a:chExt cx="4114800" cy="838440"/>
          </a:xfrm>
        </p:grpSpPr>
        <p:sp>
          <p:nvSpPr>
            <p:cNvPr id="376" name=""/>
            <p:cNvSpPr/>
            <p:nvPr/>
          </p:nvSpPr>
          <p:spPr>
            <a:xfrm>
              <a:off x="5486400" y="8380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pen file for raw (binary) writ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4038480" y="9907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2743200" y="4038480"/>
            <a:ext cx="4114800" cy="838440"/>
            <a:chOff x="2743200" y="4038480"/>
            <a:chExt cx="4114800" cy="838440"/>
          </a:xfrm>
        </p:grpSpPr>
        <p:sp>
          <p:nvSpPr>
            <p:cNvPr id="379" name=""/>
            <p:cNvSpPr/>
            <p:nvPr/>
          </p:nvSpPr>
          <p:spPr>
            <a:xfrm>
              <a:off x="4191120" y="40384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et account number, put into object. It has not yet been written to fi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2743200" y="4191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55331-11BF-4CEF-99A5-8050A85B625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r enters information, which is copied into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lient.getAccountNumber()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.getAccountNumber()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ser enters last name, first name and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lastname, firstname, balance\n?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gt;&gt; la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gt;&gt; fir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balan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record lastName, firstName and balance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.setLastName( las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.setFirstName( firs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.setBalance( balanc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ek position in file of user-specified record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Credit.seekp( ( client.getAccountNumber()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rite user-specified information in file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Credit.write(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reinterpret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&gt;( &amp;client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2514600" y="2362320"/>
            <a:ext cx="4114800" cy="1295280"/>
            <a:chOff x="2514600" y="2362320"/>
            <a:chExt cx="4114800" cy="1295280"/>
          </a:xfrm>
        </p:grpSpPr>
        <p:sp>
          <p:nvSpPr>
            <p:cNvPr id="384" name=""/>
            <p:cNvSpPr/>
            <p:nvPr/>
          </p:nvSpPr>
          <p:spPr>
            <a:xfrm>
              <a:off x="3962520" y="23623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osi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utCredi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the proper location in the file (based on the account number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2514600" y="2971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2590560" y="3733920"/>
            <a:ext cx="4115160" cy="838080"/>
            <a:chOff x="2590560" y="3733920"/>
            <a:chExt cx="4115160" cy="838080"/>
          </a:xfrm>
        </p:grpSpPr>
        <p:sp>
          <p:nvSpPr>
            <p:cNvPr id="387" name=""/>
            <p:cNvSpPr/>
            <p:nvPr/>
          </p:nvSpPr>
          <p:spPr>
            <a:xfrm>
              <a:off x="4038480" y="37339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ri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lientDat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to file at specified posi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2590560" y="38862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91D42-D62E-4AEB-9759-269A59C44D6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514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able user to specify another account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account number\n?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account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.setAccountNumber( accountNumb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8DD1D-1AB4-4801-A463-7DEB10EAC3A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Data Hierarch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600200" y="2209680"/>
            <a:ext cx="5172120" cy="2895480"/>
            <a:chOff x="1600200" y="2209680"/>
            <a:chExt cx="5172120" cy="2895480"/>
          </a:xfrm>
        </p:grpSpPr>
        <p:sp>
          <p:nvSpPr>
            <p:cNvPr id="97" name=""/>
            <p:cNvSpPr/>
            <p:nvPr/>
          </p:nvSpPr>
          <p:spPr>
            <a:xfrm>
              <a:off x="2182680" y="4789080"/>
              <a:ext cx="1652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57400" y="4441680"/>
              <a:ext cx="103176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010010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05000" y="4089240"/>
              <a:ext cx="90648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Ju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363760" y="3741480"/>
              <a:ext cx="53640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Ju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43080" y="3741480"/>
              <a:ext cx="65880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Gre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32000" y="4597200"/>
              <a:ext cx="1440" cy="209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4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65280" y="4238280"/>
              <a:ext cx="1440" cy="209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4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74720" y="3917880"/>
              <a:ext cx="360" cy="209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4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41360" y="3744720"/>
              <a:ext cx="741600" cy="138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82960" y="3744720"/>
              <a:ext cx="741240" cy="138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65440" y="3744720"/>
              <a:ext cx="741600" cy="138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24200" y="3744720"/>
              <a:ext cx="741240" cy="138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05000" y="2209680"/>
              <a:ext cx="66060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Sal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73520" y="2209680"/>
              <a:ext cx="65880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Bl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82960" y="2212560"/>
              <a:ext cx="741240" cy="140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24200" y="2212560"/>
              <a:ext cx="741240" cy="140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07040" y="2212560"/>
              <a:ext cx="741240" cy="140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65440" y="2212560"/>
              <a:ext cx="741600" cy="140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05000" y="2419200"/>
              <a:ext cx="41292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T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73520" y="2419200"/>
              <a:ext cx="5364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B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82960" y="2420640"/>
              <a:ext cx="74124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24200" y="2420640"/>
              <a:ext cx="74124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07040" y="2420640"/>
              <a:ext cx="74124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65440" y="2420640"/>
              <a:ext cx="74160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05000" y="2628720"/>
              <a:ext cx="5367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Ju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73520" y="2628720"/>
              <a:ext cx="65880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Gre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82960" y="2630160"/>
              <a:ext cx="74124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24200" y="2630160"/>
              <a:ext cx="74124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207040" y="2630160"/>
              <a:ext cx="74124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65440" y="2630160"/>
              <a:ext cx="74160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05000" y="2836800"/>
              <a:ext cx="536760" cy="16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Ir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73520" y="2836800"/>
              <a:ext cx="782640" cy="16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Or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82960" y="2839680"/>
              <a:ext cx="741240" cy="138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724200" y="2839680"/>
              <a:ext cx="741240" cy="138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07040" y="2839680"/>
              <a:ext cx="741240" cy="138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65440" y="2839680"/>
              <a:ext cx="741600" cy="138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05000" y="3044520"/>
              <a:ext cx="66060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Ran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73520" y="3044520"/>
              <a:ext cx="4125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82960" y="3047760"/>
              <a:ext cx="74124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24200" y="3047760"/>
              <a:ext cx="74124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07040" y="3047760"/>
              <a:ext cx="74124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65440" y="3047760"/>
              <a:ext cx="74160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12880" y="2700000"/>
              <a:ext cx="370080" cy="974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0" y="0"/>
                  </a:lnTo>
                  <a:lnTo>
                    <a:pt x="0" y="1998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35560" y="2628720"/>
              <a:ext cx="5367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F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548320" y="3744720"/>
              <a:ext cx="78264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Reco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76440" y="4089240"/>
              <a:ext cx="6606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Fiel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47760" y="4449600"/>
              <a:ext cx="300672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Byte</a:t>
              </a:r>
              <a:r>
                <a:rPr b="0" sz="1000" spc="-1" strike="noStrike">
                  <a:solidFill>
                    <a:srgbClr val="000000"/>
                  </a:solidFill>
                  <a:latin typeface="Mincho"/>
                </a:rPr>
                <a:t> (ASCII character J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28840" y="4941720"/>
              <a:ext cx="4143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Mincho"/>
                </a:rPr>
                <a:t>B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00200" y="4385880"/>
              <a:ext cx="4284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9EAE3-366D-48FF-85B3-2E8706255A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ccount number (1 to 100, 0 to end inpu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3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lastname, firstname,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Barker Doug 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ccount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2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lastname, firstname,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Brown Nancy -24.5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ccount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9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lastname, firstname,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Stone Sam 34.9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ccount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8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lastname, firstname,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Smith Dave 258.3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ccount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3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lastname, firstname,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Dunn Stacey 314.3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ccount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609120" y="533160"/>
            <a:ext cx="5258160" cy="961920"/>
            <a:chOff x="609120" y="533160"/>
            <a:chExt cx="5258160" cy="961920"/>
          </a:xfrm>
        </p:grpSpPr>
        <p:sp>
          <p:nvSpPr>
            <p:cNvPr id="394" name=""/>
            <p:cNvSpPr/>
            <p:nvPr/>
          </p:nvSpPr>
          <p:spPr>
            <a:xfrm>
              <a:off x="3200400" y="9144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that accounts can be created in any ord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 flipV="1">
              <a:off x="609120" y="533160"/>
              <a:ext cx="2590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09120" y="1219320"/>
              <a:ext cx="2590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5404A-6A36-4968-A842-CB86D74A9E7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10  Reading Data Sequentially from a Random-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similar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s raw bytes from file into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File.read( reinterpret_cast&lt;char *&gt;( &amp;number )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zeof( int )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amp;numb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ocation to stor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zeof(int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how many bytes to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 not 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File &gt;&gt; numb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ith raw by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pec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coming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 data from a random-access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o through each record sequential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 data (accountNumber == 0) then sk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C4541-181C-4E96-9731-5CFADA5DF64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4.14: fig14_1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ing a random access fi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o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er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lef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righ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howpoi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f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f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xit protoy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ientData.h"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ientData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653DF-7195-4FB5-AFDC-6D858476C31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Line( ostream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Data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fstream inCred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redit.da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os::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it program if ifstream cannot ope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nCredit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 could not be opened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lef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ou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st 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 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lef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righ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lan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lientData clien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ad first record from file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Credit.rea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interpret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&gt;( &amp;client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971800" y="2819520"/>
            <a:ext cx="4038480" cy="1676160"/>
            <a:chOff x="2971800" y="2819520"/>
            <a:chExt cx="4038480" cy="1676160"/>
          </a:xfrm>
        </p:grpSpPr>
        <p:sp>
          <p:nvSpPr>
            <p:cNvPr id="404" name=""/>
            <p:cNvSpPr/>
            <p:nvPr/>
          </p:nvSpPr>
          <p:spPr>
            <a:xfrm>
              <a:off x="2971800" y="2819520"/>
              <a:ext cx="4038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a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izeof(ClientData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ytes and put into objec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l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This may be an empty recor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3733560" y="3657600"/>
              <a:ext cx="1522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85D4B-E42E-4F02-979D-440B978A35C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ad all records from file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Credit &amp;&amp; !inCredit.eof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play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lient.getAccountNumber(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putLine( cout, cli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ad next from file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Credit.rea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interpret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&gt;( &amp;client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single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Line( ostream &amp;outpu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Data &amp;recor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 &lt;&lt; lef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record.getAccountNumb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record.getLastName().data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record.getFirstName().data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right &lt;&lt; fixe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&lt;&lt; showpoint &lt;&lt; record.getBalance(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utputLi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3276720" y="609480"/>
            <a:ext cx="3962160" cy="1220040"/>
            <a:chOff x="3276720" y="609480"/>
            <a:chExt cx="3962160" cy="1220040"/>
          </a:xfrm>
        </p:grpSpPr>
        <p:sp>
          <p:nvSpPr>
            <p:cNvPr id="409" name=""/>
            <p:cNvSpPr/>
            <p:nvPr/>
          </p:nvSpPr>
          <p:spPr>
            <a:xfrm>
              <a:off x="4572000" y="7621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op exits if there is an error reading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Credit == 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or EOF is found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Credit.eof() == 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3276720" y="609480"/>
              <a:ext cx="12952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2819160" y="1523520"/>
            <a:ext cx="4115160" cy="2667960"/>
            <a:chOff x="2819160" y="1523520"/>
            <a:chExt cx="4115160" cy="2667960"/>
          </a:xfrm>
        </p:grpSpPr>
        <p:sp>
          <p:nvSpPr>
            <p:cNvPr id="412" name=""/>
            <p:cNvSpPr/>
            <p:nvPr/>
          </p:nvSpPr>
          <p:spPr>
            <a:xfrm>
              <a:off x="4267080" y="2394000"/>
              <a:ext cx="266724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non-empty accounts. Note th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utputLi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ake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gument. We could easily output to another file (opened with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f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, which derive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2819160" y="1523520"/>
              <a:ext cx="14475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3276360" y="3124080"/>
              <a:ext cx="99036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D1279-4795-4A1B-971D-C96EF224312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523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unt   Last Name       First Name   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        Brown           Nancy          -24.5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3        Dunn            Stacey         314.3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7        Barker          Doug             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8        Smith           Dave           258.3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6        Stone           Sam             34.9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646BD-E13B-48AF-8AF1-CF43922C784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11  Example: A Transaction-Processing Progra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t access for bank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random access file (data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ient.d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 user men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tion 1: store account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.tx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tion 2: update reco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00200" y="3201840"/>
            <a:ext cx="4952880" cy="1189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unt   Last Name       First Name   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        Brown           Nancy          -24.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3        Dunn            Stacey         314.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7        Barker          Doug            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8        Smith           Dave           258.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6        Stone           Sam             34.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600200" y="5181480"/>
            <a:ext cx="4952880" cy="100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ccount to update (1 - 100):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7        Barker          Doug            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charge (+) or payment (-): +87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7        Barker          Doug            87.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83929-AE59-4B33-8A8C-4EE4C333542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11  Example: A Transaction-Processing Progra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nu options 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tion 3: add new reco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tion 4: delete reco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open file for reading and 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stream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"Or" file-open modes toge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stream inOutCredit( "credit.dat", ios::in | ios::ou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600200" y="2209680"/>
            <a:ext cx="49528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new account number (1 - 100): 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lastname, firstname,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? Johnston Sarah 247.4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600200" y="3429000"/>
            <a:ext cx="495288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account to delete (1 - 100): 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ccount #29 delet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CB09B-981B-445C-ABE1-D0ED90A5D3B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553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4.15: fig14_1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program reads a random access file sequentially, upd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a previously written to the file, creates data to be plac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 the file, and deletes data previously in the fi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er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o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lef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righ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howpoi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f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f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xit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ientData.h"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ientData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82438-1727-44AD-8877-C82CE3F9E3E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1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erChoi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Record( fstream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Record( fstream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Record( fstream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leteRecord( fstream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Line( ostream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Data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Accou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nu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oices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R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UPD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pen file for reading and writing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stream inOutCred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redit.da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os::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os::o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it program if fstream cannot ope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nOutCredit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 could not be opened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 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666520" y="2362320"/>
            <a:ext cx="4115160" cy="837720"/>
            <a:chOff x="2666520" y="2362320"/>
            <a:chExt cx="4115160" cy="837720"/>
          </a:xfrm>
        </p:grpSpPr>
        <p:sp>
          <p:nvSpPr>
            <p:cNvPr id="430" name=""/>
            <p:cNvSpPr/>
            <p:nvPr/>
          </p:nvSpPr>
          <p:spPr>
            <a:xfrm>
              <a:off x="4114440" y="23623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pen file for reading and writing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needed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2666520" y="2514600"/>
              <a:ext cx="144756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D61CF-F11C-4BB8-B9A4-282A3FA534D3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iles and Strea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views file as sequence of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ds with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nd-of-f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ark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file ope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 created, stream associated with 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etc. created whe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iostream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clu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cation between program and file/de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914400" y="2232000"/>
            <a:ext cx="6934320" cy="739800"/>
            <a:chOff x="914400" y="2232000"/>
            <a:chExt cx="6934320" cy="739800"/>
          </a:xfrm>
        </p:grpSpPr>
        <p:sp>
          <p:nvSpPr>
            <p:cNvPr id="149" name=""/>
            <p:cNvSpPr/>
            <p:nvPr/>
          </p:nvSpPr>
          <p:spPr>
            <a:xfrm>
              <a:off x="914400" y="2232000"/>
              <a:ext cx="6678720" cy="73980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1355760" y="2270880"/>
              <a:ext cx="6492960" cy="567360"/>
              <a:chOff x="1355760" y="2270880"/>
              <a:chExt cx="6492960" cy="567360"/>
            </a:xfrm>
          </p:grpSpPr>
          <p:sp>
            <p:nvSpPr>
              <p:cNvPr id="151" name=""/>
              <p:cNvSpPr/>
              <p:nvPr/>
            </p:nvSpPr>
            <p:spPr>
              <a:xfrm>
                <a:off x="1355760" y="2516760"/>
                <a:ext cx="4341240" cy="3207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96" y="0"/>
                    </a:moveTo>
                    <a:lnTo>
                      <a:pt x="19996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96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356480" y="2516760"/>
                <a:ext cx="334080" cy="3207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358360" y="2516760"/>
                <a:ext cx="333720" cy="3207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697000" y="2516760"/>
                <a:ext cx="22248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17" y="0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697000" y="2837520"/>
                <a:ext cx="22248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17" y="0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454040" y="2316240"/>
                <a:ext cx="137880" cy="23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455920" y="2316240"/>
                <a:ext cx="137880" cy="23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8" name=""/>
              <p:cNvGrpSpPr/>
              <p:nvPr/>
            </p:nvGrpSpPr>
            <p:grpSpPr>
              <a:xfrm>
                <a:off x="1690560" y="2316240"/>
                <a:ext cx="333720" cy="521280"/>
                <a:chOff x="1690560" y="2316240"/>
                <a:chExt cx="333720" cy="52128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1690560" y="2516760"/>
                  <a:ext cx="333720" cy="3207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787760" y="2316240"/>
                  <a:ext cx="137880" cy="23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024280" y="2316240"/>
                <a:ext cx="334080" cy="521280"/>
                <a:chOff x="2024280" y="2316240"/>
                <a:chExt cx="334080" cy="52128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2024280" y="2516760"/>
                  <a:ext cx="334080" cy="3207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121480" y="2316240"/>
                  <a:ext cx="137880" cy="23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2692080" y="2316240"/>
                <a:ext cx="333720" cy="521280"/>
                <a:chOff x="2692080" y="2316240"/>
                <a:chExt cx="333720" cy="52128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2692080" y="2516760"/>
                  <a:ext cx="333720" cy="3207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789280" y="2316240"/>
                  <a:ext cx="137880" cy="23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026160" y="2316240"/>
                <a:ext cx="333720" cy="521280"/>
                <a:chOff x="3026160" y="2316240"/>
                <a:chExt cx="333720" cy="52128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026160" y="2516760"/>
                  <a:ext cx="333720" cy="3207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123360" y="2316240"/>
                  <a:ext cx="137880" cy="23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4027680" y="2316240"/>
                <a:ext cx="334080" cy="521280"/>
                <a:chOff x="4027680" y="2316240"/>
                <a:chExt cx="334080" cy="52128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4027680" y="2516760"/>
                  <a:ext cx="334080" cy="3207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124880" y="2316240"/>
                  <a:ext cx="137880" cy="23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4362120" y="2316240"/>
                <a:ext cx="333720" cy="521280"/>
                <a:chOff x="4362120" y="2316240"/>
                <a:chExt cx="333720" cy="52128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4362120" y="2516760"/>
                  <a:ext cx="333720" cy="3207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458960" y="2316240"/>
                  <a:ext cx="138240" cy="23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4695840" y="2270880"/>
                <a:ext cx="667800" cy="566640"/>
                <a:chOff x="4695840" y="2270880"/>
                <a:chExt cx="667800" cy="56664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4695840" y="2516760"/>
                  <a:ext cx="667800" cy="3207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2" y="0"/>
                      </a:moveTo>
                      <a:lnTo>
                        <a:pt x="19972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2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859640" y="2591640"/>
                  <a:ext cx="338760" cy="23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859640" y="2270880"/>
                  <a:ext cx="338760" cy="23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360760" y="2316240"/>
                <a:ext cx="338400" cy="521280"/>
                <a:chOff x="5360760" y="2316240"/>
                <a:chExt cx="338400" cy="5212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363640" y="2516760"/>
                  <a:ext cx="333360" cy="3207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360760" y="2316240"/>
                  <a:ext cx="338400" cy="23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n-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" name=""/>
              <p:cNvSpPr/>
              <p:nvPr/>
            </p:nvSpPr>
            <p:spPr>
              <a:xfrm>
                <a:off x="5807880" y="2588040"/>
                <a:ext cx="2040840" cy="25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200" spc="-1" strike="noStrike">
                    <a:solidFill>
                      <a:srgbClr val="000000"/>
                    </a:solidFill>
                    <a:latin typeface="Courier New"/>
                  </a:rPr>
                  <a:t>end-of-file ma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" name=""/>
              <p:cNvGrpSpPr/>
              <p:nvPr/>
            </p:nvGrpSpPr>
            <p:grpSpPr>
              <a:xfrm>
                <a:off x="3360240" y="2316240"/>
                <a:ext cx="667440" cy="521280"/>
                <a:chOff x="3360240" y="2316240"/>
                <a:chExt cx="667440" cy="521280"/>
              </a:xfrm>
            </p:grpSpPr>
            <p:grpSp>
              <p:nvGrpSpPr>
                <p:cNvPr id="185" name=""/>
                <p:cNvGrpSpPr/>
                <p:nvPr/>
              </p:nvGrpSpPr>
              <p:grpSpPr>
                <a:xfrm>
                  <a:off x="3360240" y="2316240"/>
                  <a:ext cx="333720" cy="521280"/>
                  <a:chOff x="3360240" y="2316240"/>
                  <a:chExt cx="333720" cy="52128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3360240" y="2516760"/>
                    <a:ext cx="333720" cy="320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3457080" y="2316240"/>
                    <a:ext cx="138240" cy="232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72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3693960" y="2316240"/>
                  <a:ext cx="333720" cy="521280"/>
                  <a:chOff x="3693960" y="2316240"/>
                  <a:chExt cx="333720" cy="52128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3693960" y="2516760"/>
                    <a:ext cx="333720" cy="320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3790800" y="2316240"/>
                    <a:ext cx="138600" cy="232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72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AB8D2-340F-4A9F-9CAE-B585D1D651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1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o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nable user to specify 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( choice = enterChoice() 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wi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hoic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text file from record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R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intRecord( inOutCredi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pdate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UPD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updateRecord( inOutCredi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newRecord( inOutCredi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elete existing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eleteRecord( inOutCredi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7B110-D9EF-40E6-89CC-311A716BC62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1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o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nable user to specify 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( choice = enterChoice() 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wi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hoic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text file from record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R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intRecord( inOutCredi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pdate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UPD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updateRecord( inOutCredi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newRecord( inOutCredi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elete existing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eleteRecord( inOutCredi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2666880" y="1142640"/>
            <a:ext cx="4648320" cy="581040"/>
            <a:chOff x="2666880" y="1142640"/>
            <a:chExt cx="4648320" cy="581040"/>
          </a:xfrm>
        </p:grpSpPr>
        <p:sp>
          <p:nvSpPr>
            <p:cNvPr id="437" name=""/>
            <p:cNvSpPr/>
            <p:nvPr/>
          </p:nvSpPr>
          <p:spPr>
            <a:xfrm>
              <a:off x="4648320" y="11430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s menu and returns user's choi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flipV="1">
              <a:off x="2666880" y="1142640"/>
              <a:ext cx="1981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B3DE9-9D15-4F07-8E52-1A2464C3218B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1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isplay error if user does not select valid cho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faul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correct choi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wi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OutCredit.clear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et end-of-file indic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able user to input menu cho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erChoic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available op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nter your choi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 - store a formatted text file of account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  called \"print.txt\" for print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 - update an accou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3 - add a new accou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4 - delete an accou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5 - end program\n?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1C4DA-F4CB-484E-BF60-85E962AA5E44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6 of 1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nuCho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menuChoic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eive choice from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nuCho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enterCho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formatted text file for prin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Record( fstream &amp;readFromFil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text file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fstream outPrintFi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.t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os::o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it program if ofstream cannot create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outPrintFil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 could not be created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rintFile &lt;&lt; lef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ou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st 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 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right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lan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2362320" y="1981080"/>
            <a:ext cx="4800600" cy="2667240"/>
            <a:chOff x="2362320" y="1981080"/>
            <a:chExt cx="4800600" cy="2667240"/>
          </a:xfrm>
        </p:grpSpPr>
        <p:sp>
          <p:nvSpPr>
            <p:cNvPr id="444" name=""/>
            <p:cNvSpPr/>
            <p:nvPr/>
          </p:nvSpPr>
          <p:spPr>
            <a:xfrm>
              <a:off x="4495680" y="19810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.t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First, print the header for the tab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3047760" y="21337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2362320" y="2133720"/>
              <a:ext cx="213336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E7129-D2E1-49B0-812D-F2740BA13C74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7 of 1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file-position pointer to beginning of record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eadFromFile.seek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ad first record from record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lientData 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eadFromFile.rea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interpret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&gt;( &amp;client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py all records from record file into text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readFromFile.eof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rite single record to text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lient.getAccountNumber(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putLine( outPrintFile, cli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ad next record from record file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adFromFile.rea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interpret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&gt;( &amp;client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971800" y="533160"/>
            <a:ext cx="5791320" cy="2514960"/>
            <a:chOff x="2971800" y="533160"/>
            <a:chExt cx="5791320" cy="2514960"/>
          </a:xfrm>
        </p:grpSpPr>
        <p:sp>
          <p:nvSpPr>
            <p:cNvPr id="450" name=""/>
            <p:cNvSpPr/>
            <p:nvPr/>
          </p:nvSpPr>
          <p:spPr>
            <a:xfrm>
              <a:off x="6095880" y="762120"/>
              <a:ext cx="2667240" cy="2284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o to front of file, read account data, and print record if not empty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th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utputLi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ake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(bas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f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 It can easily print to a file (as in this case) 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 flipV="1">
              <a:off x="2971800" y="533160"/>
              <a:ext cx="312408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4419720" y="1676520"/>
              <a:ext cx="16761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180D0-6B66-4B80-8E8A-08FC2271503F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8 of 1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pdate balance in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Record( fstream &amp;updateFil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btain number of account to up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Number = getAccou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account to updat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ove file-position pointer to correct record i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updateFile.seekg(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( accountNumber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ad first record from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lientData 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updateFile.rea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interpret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&gt;( &amp;client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pdate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lient.getAccountNumber(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putLine( cout, cli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quest user to specify trans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nter charge (+) or payment (-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action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rge or pay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transa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pdate record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ldBalance = client.getBalan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.setBalance( oldBalance + trans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putLine( cout, cli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2514240" y="609120"/>
            <a:ext cx="3810240" cy="2058480"/>
            <a:chOff x="2514240" y="609120"/>
            <a:chExt cx="3810240" cy="2058480"/>
          </a:xfrm>
        </p:grpSpPr>
        <p:sp>
          <p:nvSpPr>
            <p:cNvPr id="456" name=""/>
            <p:cNvSpPr/>
            <p:nvPr/>
          </p:nvSpPr>
          <p:spPr>
            <a:xfrm>
              <a:off x="3657600" y="160020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I/O) because we must read the old balance, update it, and write the new bala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 flipV="1">
              <a:off x="2514240" y="609120"/>
              <a:ext cx="11430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760BD-AA31-4EA2-9254-55D8DE90F10A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9 of 1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ove file-position pointer to correct record i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pdateFile.seekp(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accountNumber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rite updated record over old record i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pdateFile.write(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interpret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&gt;( &amp;client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error if account does not ex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ount #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ccountNumb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has no information.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update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and insert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Record( fstream &amp;insertInFil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btain number of account to cre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Number = getAccou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new account numb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ove file-position pointer to correct record i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sertInFile.seekg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( accountNumber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2666880" y="2819520"/>
            <a:ext cx="4114800" cy="1447560"/>
            <a:chOff x="2666880" y="2819520"/>
            <a:chExt cx="4114800" cy="1447560"/>
          </a:xfrm>
        </p:grpSpPr>
        <p:sp>
          <p:nvSpPr>
            <p:cNvPr id="461" name=""/>
            <p:cNvSpPr/>
            <p:nvPr/>
          </p:nvSpPr>
          <p:spPr>
            <a:xfrm>
              <a:off x="4114800" y="28195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ecause we read to see if a non-empty record already exists. If not, we write a new recor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2666880" y="3352680"/>
              <a:ext cx="1447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461ED-4BE6-4F5C-A8F5-8F5FE944D9A9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0 of 1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ad record from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lientData 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sertInFile.rea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interpret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&gt;( &amp;client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record, if record does not previously ex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lient.getAccountNumber()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astNam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stNam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an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ser enters last name, first name and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lastname, firstname, balance\n?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gt;&gt; la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gt;&gt; fir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balan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se values to populate account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.setLastName( las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.setFirstName( firs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.setBalance( balanc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.setAccountNumber( accountNumb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F8CAD-C5BA-4112-8FD5-A7FD945E7061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1 of 1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114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ove file-position pointer to correct record i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sertInFile.seekp( ( accountNumber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*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sert record in file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sertInFile.write(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interpret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&gt;( &amp;client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error if account previously exis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ount #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ccount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already contains information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new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2349D-9E9F-4290-BE69-2DF01DB83F69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2 of 1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181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lete an existing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leteRecord( fstream &amp;deleteFromFil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btain number of account to dele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Number = getAccou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account to delet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ove file-position pointer to correct record i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eleteFromFile.seekg(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( accountNumber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ad record from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lientData 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eleteFromFile.rea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interpret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&gt;( &amp;client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lete record, if record exists i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lient.getAccountNumber(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Data blank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ove file-position pointer to correct record i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leteFromFile.seekp( ( accountNumber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*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2590920" y="609120"/>
            <a:ext cx="5333760" cy="2606760"/>
            <a:chOff x="2590920" y="609120"/>
            <a:chExt cx="5333760" cy="2606760"/>
          </a:xfrm>
        </p:grpSpPr>
        <p:sp>
          <p:nvSpPr>
            <p:cNvPr id="470" name=""/>
            <p:cNvSpPr/>
            <p:nvPr/>
          </p:nvSpPr>
          <p:spPr>
            <a:xfrm>
              <a:off x="5257800" y="190512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ecause we read to check if the account exits. If it does, we write blank data (erase it). If it does not exist, there is no need to delete i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 flipV="1">
              <a:off x="2590920" y="609120"/>
              <a:ext cx="266688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B2FA7-9506-4E3A-9C77-A5F95695CE3F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iles and Strea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erform file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lud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iostream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fstream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templ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sic_if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inpu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sic_of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outpu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sic_f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I/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ypede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for specializations that allow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/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pu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f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utpu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/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D4E7A-61C9-45AA-9573-5D010B074E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3 of 1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place existing record with blank record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leteFromFile.write(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interpret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&gt;( &amp;blankClient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ount #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ccountNumbe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deleted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error if record does not ex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ount #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ccountNumbe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s empty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elete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single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Line( ostream &amp;outpu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Data &amp;recor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 &lt;&lt; lef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record.getAccountNumb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record.getLastName().data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record.getFirstName().data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right &lt;&lt; fixe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&lt;&lt; showpoint &lt;&lt; record.getBalance(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utputLi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819520" y="2438280"/>
            <a:ext cx="4114800" cy="1219320"/>
            <a:chOff x="2819520" y="2438280"/>
            <a:chExt cx="4114800" cy="1219320"/>
          </a:xfrm>
        </p:grpSpPr>
        <p:sp>
          <p:nvSpPr>
            <p:cNvPr id="475" name=""/>
            <p:cNvSpPr/>
            <p:nvPr/>
          </p:nvSpPr>
          <p:spPr>
            <a:xfrm>
              <a:off x="4267440" y="24382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utputLi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very flexible, and can output to an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(such as a file 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2819520" y="2971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5157C-4F00-4001-9592-ADC0A09B36A7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4 of 1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505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btain account-number value from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Accou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mp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btain account-numbe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promp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(1 - 100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account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ccountNumber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accountNumber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Ac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88963-91C3-42A8-89D6-8CB2CB58C676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12  Input/Output of Objec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/O of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pter 8 (overload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object's data transmit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ber functions available intern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objects stored in file, lose type info (class, etc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 must know type of object when re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e sol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writing, output object type code before real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reading, read typ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 proper overloaded function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A58E0-6F46-4719-9C37-3AC8E17CFE58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iles and Strea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ing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objects from templ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 from stream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stream methods from Ch.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371600" y="3416400"/>
            <a:ext cx="6019920" cy="2984400"/>
            <a:chOff x="1371600" y="3416400"/>
            <a:chExt cx="6019920" cy="2984400"/>
          </a:xfrm>
        </p:grpSpPr>
        <p:sp>
          <p:nvSpPr>
            <p:cNvPr id="196" name=""/>
            <p:cNvSpPr/>
            <p:nvPr/>
          </p:nvSpPr>
          <p:spPr>
            <a:xfrm>
              <a:off x="1371600" y="3416400"/>
              <a:ext cx="6019920" cy="298440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1873080" y="3511440"/>
              <a:ext cx="4950000" cy="2793240"/>
              <a:chOff x="1873080" y="3511440"/>
              <a:chExt cx="4950000" cy="2793240"/>
            </a:xfrm>
          </p:grpSpPr>
          <p:sp>
            <p:nvSpPr>
              <p:cNvPr id="198" name=""/>
              <p:cNvSpPr/>
              <p:nvPr/>
            </p:nvSpPr>
            <p:spPr>
              <a:xfrm>
                <a:off x="4347720" y="5468400"/>
                <a:ext cx="360" cy="56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1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575800" y="4632120"/>
                <a:ext cx="434520" cy="56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1"/>
                    </a:moveTo>
                    <a:lnTo>
                      <a:pt x="19962" y="0"/>
                    </a:lnTo>
                  </a:path>
                </a:pathLst>
              </a:custGeom>
              <a:solidFill>
                <a:srgbClr val="000000"/>
              </a:solidFill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686200" y="4632120"/>
                <a:ext cx="434520" cy="56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2" y="19971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3645720" y="6020280"/>
                <a:ext cx="1438560" cy="284400"/>
                <a:chOff x="3645720" y="6020280"/>
                <a:chExt cx="1438560" cy="284400"/>
              </a:xfrm>
            </p:grpSpPr>
            <p:grpSp>
              <p:nvGrpSpPr>
                <p:cNvPr id="202" name=""/>
                <p:cNvGrpSpPr/>
                <p:nvPr/>
              </p:nvGrpSpPr>
              <p:grpSpPr>
                <a:xfrm>
                  <a:off x="3646080" y="6020280"/>
                  <a:ext cx="1438200" cy="284400"/>
                  <a:chOff x="3646080" y="6020280"/>
                  <a:chExt cx="1438200" cy="28440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3646080" y="6020280"/>
                    <a:ext cx="1438200" cy="2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8" y="0"/>
                        </a:moveTo>
                        <a:lnTo>
                          <a:pt x="19988" y="19941"/>
                        </a:lnTo>
                        <a:lnTo>
                          <a:pt x="0" y="19941"/>
                        </a:lnTo>
                        <a:lnTo>
                          <a:pt x="0" y="0"/>
                        </a:lnTo>
                        <a:lnTo>
                          <a:pt x="19988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646080" y="6020280"/>
                    <a:ext cx="1438200" cy="2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8" y="0"/>
                        </a:moveTo>
                        <a:lnTo>
                          <a:pt x="19988" y="19941"/>
                        </a:lnTo>
                        <a:lnTo>
                          <a:pt x="0" y="19941"/>
                        </a:lnTo>
                        <a:lnTo>
                          <a:pt x="0" y="0"/>
                        </a:lnTo>
                        <a:lnTo>
                          <a:pt x="19988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5" name=""/>
                <p:cNvSpPr/>
                <p:nvPr/>
              </p:nvSpPr>
              <p:spPr>
                <a:xfrm>
                  <a:off x="3645720" y="6105600"/>
                  <a:ext cx="1438560" cy="14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basic_fstrea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3578400" y="3511440"/>
                <a:ext cx="1572840" cy="284040"/>
                <a:chOff x="3578400" y="3511440"/>
                <a:chExt cx="1572840" cy="284040"/>
              </a:xfrm>
            </p:grpSpPr>
            <p:grpSp>
              <p:nvGrpSpPr>
                <p:cNvPr id="207" name=""/>
                <p:cNvGrpSpPr/>
                <p:nvPr/>
              </p:nvGrpSpPr>
              <p:grpSpPr>
                <a:xfrm>
                  <a:off x="3579120" y="3511440"/>
                  <a:ext cx="1572120" cy="284040"/>
                  <a:chOff x="3579120" y="3511440"/>
                  <a:chExt cx="1572120" cy="28404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3579120" y="3511440"/>
                    <a:ext cx="157212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9" y="0"/>
                        </a:moveTo>
                        <a:lnTo>
                          <a:pt x="19989" y="19941"/>
                        </a:lnTo>
                        <a:lnTo>
                          <a:pt x="0" y="19941"/>
                        </a:lnTo>
                        <a:lnTo>
                          <a:pt x="0" y="0"/>
                        </a:lnTo>
                        <a:lnTo>
                          <a:pt x="19989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3579120" y="3511440"/>
                    <a:ext cx="157212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9" y="0"/>
                        </a:moveTo>
                        <a:lnTo>
                          <a:pt x="19989" y="19941"/>
                        </a:lnTo>
                        <a:lnTo>
                          <a:pt x="0" y="19941"/>
                        </a:lnTo>
                        <a:lnTo>
                          <a:pt x="0" y="0"/>
                        </a:lnTo>
                        <a:lnTo>
                          <a:pt x="19989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0" name=""/>
                <p:cNvSpPr/>
                <p:nvPr/>
              </p:nvSpPr>
              <p:spPr>
                <a:xfrm>
                  <a:off x="3578400" y="3596400"/>
                  <a:ext cx="1572840" cy="14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basic_i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" name=""/>
              <p:cNvSpPr/>
              <p:nvPr/>
            </p:nvSpPr>
            <p:spPr>
              <a:xfrm>
                <a:off x="4816800" y="4632120"/>
                <a:ext cx="434520" cy="56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1"/>
                    </a:moveTo>
                    <a:lnTo>
                      <a:pt x="19962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546000" y="4632120"/>
                <a:ext cx="434520" cy="56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2" y="19971"/>
                    </a:move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3" name=""/>
              <p:cNvGrpSpPr/>
              <p:nvPr/>
            </p:nvGrpSpPr>
            <p:grpSpPr>
              <a:xfrm>
                <a:off x="1873080" y="5184000"/>
                <a:ext cx="1438560" cy="284400"/>
                <a:chOff x="1873080" y="5184000"/>
                <a:chExt cx="1438560" cy="284400"/>
              </a:xfrm>
            </p:grpSpPr>
            <p:grpSp>
              <p:nvGrpSpPr>
                <p:cNvPr id="214" name=""/>
                <p:cNvGrpSpPr/>
                <p:nvPr/>
              </p:nvGrpSpPr>
              <p:grpSpPr>
                <a:xfrm>
                  <a:off x="1873800" y="5184000"/>
                  <a:ext cx="1437840" cy="284400"/>
                  <a:chOff x="1873800" y="5184000"/>
                  <a:chExt cx="1437840" cy="28440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>
                    <a:off x="1873800" y="5184000"/>
                    <a:ext cx="1437840" cy="2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8" y="0"/>
                        </a:moveTo>
                        <a:lnTo>
                          <a:pt x="19988" y="19941"/>
                        </a:lnTo>
                        <a:lnTo>
                          <a:pt x="0" y="19941"/>
                        </a:lnTo>
                        <a:lnTo>
                          <a:pt x="0" y="0"/>
                        </a:lnTo>
                        <a:lnTo>
                          <a:pt x="19988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1873800" y="5184000"/>
                    <a:ext cx="1437840" cy="2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8" y="0"/>
                        </a:moveTo>
                        <a:lnTo>
                          <a:pt x="19988" y="19941"/>
                        </a:lnTo>
                        <a:lnTo>
                          <a:pt x="0" y="19941"/>
                        </a:lnTo>
                        <a:lnTo>
                          <a:pt x="0" y="0"/>
                        </a:lnTo>
                        <a:lnTo>
                          <a:pt x="19988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7" name=""/>
                <p:cNvSpPr/>
                <p:nvPr/>
              </p:nvSpPr>
              <p:spPr>
                <a:xfrm>
                  <a:off x="1873080" y="5269320"/>
                  <a:ext cx="1438560" cy="14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basic_ifstrea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5384160" y="5184000"/>
                <a:ext cx="1438920" cy="284400"/>
                <a:chOff x="5384160" y="5184000"/>
                <a:chExt cx="1438920" cy="2844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5384880" y="5184000"/>
                  <a:ext cx="1438200" cy="284400"/>
                  <a:chOff x="5384880" y="5184000"/>
                  <a:chExt cx="1438200" cy="2844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5384880" y="5184000"/>
                    <a:ext cx="1438200" cy="2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8" y="0"/>
                        </a:moveTo>
                        <a:lnTo>
                          <a:pt x="19988" y="19941"/>
                        </a:lnTo>
                        <a:lnTo>
                          <a:pt x="0" y="19941"/>
                        </a:lnTo>
                        <a:lnTo>
                          <a:pt x="0" y="0"/>
                        </a:lnTo>
                        <a:lnTo>
                          <a:pt x="19988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5384880" y="5184000"/>
                    <a:ext cx="1438200" cy="2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8" y="0"/>
                        </a:moveTo>
                        <a:lnTo>
                          <a:pt x="19988" y="19941"/>
                        </a:lnTo>
                        <a:lnTo>
                          <a:pt x="0" y="19941"/>
                        </a:lnTo>
                        <a:lnTo>
                          <a:pt x="0" y="0"/>
                        </a:lnTo>
                        <a:lnTo>
                          <a:pt x="19988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5384160" y="5269320"/>
                  <a:ext cx="1438920" cy="14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basic_ofstrea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3645720" y="5184000"/>
                <a:ext cx="1438560" cy="284400"/>
                <a:chOff x="3645720" y="5184000"/>
                <a:chExt cx="1438560" cy="284400"/>
              </a:xfrm>
            </p:grpSpPr>
            <p:grpSp>
              <p:nvGrpSpPr>
                <p:cNvPr id="224" name=""/>
                <p:cNvGrpSpPr/>
                <p:nvPr/>
              </p:nvGrpSpPr>
              <p:grpSpPr>
                <a:xfrm>
                  <a:off x="3646080" y="5184000"/>
                  <a:ext cx="1438200" cy="284400"/>
                  <a:chOff x="3646080" y="5184000"/>
                  <a:chExt cx="1438200" cy="2844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>
                    <a:off x="3646080" y="5184000"/>
                    <a:ext cx="1438200" cy="2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8" y="0"/>
                        </a:moveTo>
                        <a:lnTo>
                          <a:pt x="19988" y="19941"/>
                        </a:lnTo>
                        <a:lnTo>
                          <a:pt x="0" y="19941"/>
                        </a:lnTo>
                        <a:lnTo>
                          <a:pt x="0" y="0"/>
                        </a:lnTo>
                        <a:lnTo>
                          <a:pt x="19988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3646080" y="5184000"/>
                    <a:ext cx="1438200" cy="2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8" y="0"/>
                        </a:moveTo>
                        <a:lnTo>
                          <a:pt x="19988" y="19941"/>
                        </a:lnTo>
                        <a:lnTo>
                          <a:pt x="0" y="19941"/>
                        </a:lnTo>
                        <a:lnTo>
                          <a:pt x="0" y="0"/>
                        </a:lnTo>
                        <a:lnTo>
                          <a:pt x="19988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7" name=""/>
                <p:cNvSpPr/>
                <p:nvPr/>
              </p:nvSpPr>
              <p:spPr>
                <a:xfrm>
                  <a:off x="3645720" y="5269320"/>
                  <a:ext cx="1438560" cy="14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basic_iostrea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3412440" y="3795480"/>
                <a:ext cx="434160" cy="56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1"/>
                    </a:moveTo>
                    <a:lnTo>
                      <a:pt x="19962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917240" y="3795480"/>
                <a:ext cx="434160" cy="56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2" y="19971"/>
                    </a:move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2608920" y="4347720"/>
                <a:ext cx="1438200" cy="284400"/>
                <a:chOff x="2608920" y="4347720"/>
                <a:chExt cx="1438200" cy="284400"/>
              </a:xfrm>
            </p:grpSpPr>
            <p:grpSp>
              <p:nvGrpSpPr>
                <p:cNvPr id="231" name=""/>
                <p:cNvGrpSpPr/>
                <p:nvPr/>
              </p:nvGrpSpPr>
              <p:grpSpPr>
                <a:xfrm>
                  <a:off x="2609280" y="4347720"/>
                  <a:ext cx="1437840" cy="284400"/>
                  <a:chOff x="2609280" y="4347720"/>
                  <a:chExt cx="1437840" cy="28440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2609280" y="4347720"/>
                    <a:ext cx="1437840" cy="2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8" y="0"/>
                        </a:moveTo>
                        <a:lnTo>
                          <a:pt x="19988" y="19941"/>
                        </a:lnTo>
                        <a:lnTo>
                          <a:pt x="0" y="19941"/>
                        </a:lnTo>
                        <a:lnTo>
                          <a:pt x="0" y="0"/>
                        </a:lnTo>
                        <a:lnTo>
                          <a:pt x="19988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2609280" y="4347720"/>
                    <a:ext cx="1437840" cy="2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8" y="0"/>
                        </a:moveTo>
                        <a:lnTo>
                          <a:pt x="19988" y="19941"/>
                        </a:lnTo>
                        <a:lnTo>
                          <a:pt x="0" y="19941"/>
                        </a:lnTo>
                        <a:lnTo>
                          <a:pt x="0" y="0"/>
                        </a:lnTo>
                        <a:lnTo>
                          <a:pt x="19988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4" name=""/>
                <p:cNvSpPr/>
                <p:nvPr/>
              </p:nvSpPr>
              <p:spPr>
                <a:xfrm>
                  <a:off x="2608920" y="4432680"/>
                  <a:ext cx="1438200" cy="14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basic_istrea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4749120" y="4347720"/>
                <a:ext cx="1438560" cy="284400"/>
                <a:chOff x="4749120" y="4347720"/>
                <a:chExt cx="1438560" cy="284400"/>
              </a:xfrm>
            </p:grpSpPr>
            <p:grpSp>
              <p:nvGrpSpPr>
                <p:cNvPr id="236" name=""/>
                <p:cNvGrpSpPr/>
                <p:nvPr/>
              </p:nvGrpSpPr>
              <p:grpSpPr>
                <a:xfrm>
                  <a:off x="4749480" y="4347720"/>
                  <a:ext cx="1438200" cy="284400"/>
                  <a:chOff x="4749480" y="4347720"/>
                  <a:chExt cx="1438200" cy="28440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>
                    <a:off x="4749480" y="4347720"/>
                    <a:ext cx="1438200" cy="2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8" y="0"/>
                        </a:moveTo>
                        <a:lnTo>
                          <a:pt x="19988" y="19941"/>
                        </a:lnTo>
                        <a:lnTo>
                          <a:pt x="0" y="19941"/>
                        </a:lnTo>
                        <a:lnTo>
                          <a:pt x="0" y="0"/>
                        </a:lnTo>
                        <a:lnTo>
                          <a:pt x="19988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4749480" y="4347720"/>
                    <a:ext cx="1438200" cy="2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8" y="0"/>
                        </a:moveTo>
                        <a:lnTo>
                          <a:pt x="19988" y="19941"/>
                        </a:lnTo>
                        <a:lnTo>
                          <a:pt x="0" y="19941"/>
                        </a:lnTo>
                        <a:lnTo>
                          <a:pt x="0" y="0"/>
                        </a:lnTo>
                        <a:lnTo>
                          <a:pt x="19988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9" name=""/>
                <p:cNvSpPr/>
                <p:nvPr/>
              </p:nvSpPr>
              <p:spPr>
                <a:xfrm>
                  <a:off x="4749120" y="4432680"/>
                  <a:ext cx="1438560" cy="14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basic_ostrea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5CF18-6C9B-490B-80D4-B5AD54BC63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reating a Sequential-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imposes no structure on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cept of "record" must be implemented by programm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open file, create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s "line of communication" from object to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input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f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output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I/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ors tak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ile n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ile-open m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stream outClientFile( "filename",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fileOpenMod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attach a file la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stream outClientFi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ClientFile.open( "filename",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fileOpenMod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80A0D-AC43-4316-921F-F6D9A2C244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5T19:30:17Z</dcterms:created>
  <dc:creator>kalid</dc:creator>
  <dc:description/>
  <dc:language>en-US</dc:language>
  <cp:lastModifiedBy>Pearson Education</cp:lastModifiedBy>
  <dcterms:modified xsi:type="dcterms:W3CDTF">2002-08-20T16:13:20Z</dcterms:modified>
  <cp:revision>595</cp:revision>
  <dc:subject/>
  <dc:title>PowerPoint Presentation</dc:title>
</cp:coreProperties>
</file>