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2632-25FF-46DD-B97B-2E1C9E540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2315-F190-40E9-90AD-8477DB217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E522-1C8F-47F8-BF39-3CBC74D80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3FA8-79B3-43E9-A641-6B3396B63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3D31-80F9-4AAB-A512-24F98D1FCD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6890-D093-441C-85EF-E4134911F8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A4A2-3BD8-499C-95B0-F9D8DE4955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3F87-3556-452F-A26C-BA255B79CE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488C-65D6-4FB4-9848-A4B6EF34E5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6795-CFEC-451B-A164-F5C7543F6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2063-3880-4FDE-A3AC-FC980C8AA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2C45-A6E0-4C27-8165-272B18316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9C62-C0AB-42F6-928F-7041564775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6075-49F4-4EFE-AD87-DCEA553AAB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D239-0B8E-42CC-A132-162F07831C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C63B-2D01-451C-983B-AA5E144358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5878-8EB2-4A64-A8C4-EDA2ACA99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CC5A-0DAA-4F97-8AF5-DB75EE1C1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2138-5ED4-4B39-97C6-06A26CCC2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1F50-FA4F-490E-9E3B-FF318D671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FB26-74E7-4A5C-909F-2A9BFCD48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26ED-85DE-48AE-8657-ED119E9E3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F48C-4B3F-4A05-9638-A01520425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25AE-37BA-4DE2-9FDB-75EB6F48C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919E-51B6-48D8-88F8-74910D32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575-67C6-44E2-A5D0-613B53257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Programming: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s Among Objects in an Inheritance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voking Base-Class Functions from Derived-Class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iming Derived-Class Pointers at Base-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rived-Class Member-Function Calls via Base-Class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lymorphism 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pe Fields and switch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bstract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Inheriting Interface and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lymorphism, Virtual Functions and Dynamic Binding “Under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Ho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rtual 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F81B-1096-4CC1-85AF-3A7EEF8633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815C-67F5-4B6C-AEDF-D5B76D68E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47760" y="228600"/>
            <a:ext cx="4115160" cy="1310760"/>
            <a:chOff x="3047760" y="228600"/>
            <a:chExt cx="4115160" cy="1310760"/>
          </a:xfrm>
        </p:grpSpPr>
        <p:sp>
          <p:nvSpPr>
            <p:cNvPr id="120" name=""/>
            <p:cNvSpPr/>
            <p:nvPr/>
          </p:nvSpPr>
          <p:spPr>
            <a:xfrm>
              <a:off x="4495680" y="228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defines its print function. It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 to output the x,y coordinates of the center, then prints the radiu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0477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DC7D-BD63-4FAB-996A-D906D599EC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5: fig10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iming base-class and derived-class pointers at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derived-class objects, respective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6EBF-4637-4CED-8528-C4C1D2A086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eric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point and circle object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base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point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base-class pointer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base-class object invokes base-class pri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derived-class pointer at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print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 = &amp;circle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derived-class pointer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rived-class object invokes derived-clas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5640" y="76320"/>
            <a:ext cx="4343760" cy="5181480"/>
            <a:chOff x="2285640" y="76320"/>
            <a:chExt cx="4343760" cy="5181480"/>
          </a:xfrm>
        </p:grpSpPr>
        <p:sp>
          <p:nvSpPr>
            <p:cNvPr id="127" name=""/>
            <p:cNvSpPr/>
            <p:nvPr/>
          </p:nvSpPr>
          <p:spPr>
            <a:xfrm>
              <a:off x="3962520" y="763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objects and pointers to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The pointers and objects are of the same class, so the prop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5640" y="762120"/>
              <a:ext cx="1676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438280" y="762120"/>
              <a:ext cx="152424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514600" y="762120"/>
              <a:ext cx="1447920" cy="44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D154-FC8D-493D-B8F4-817E57E19C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base-class pointer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-class object\ninvokes base-class pri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 on that derived-class objec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57040" y="1523520"/>
            <a:ext cx="3810240" cy="2041200"/>
            <a:chOff x="2057040" y="1523520"/>
            <a:chExt cx="3810240" cy="2041200"/>
          </a:xfrm>
        </p:grpSpPr>
        <p:sp>
          <p:nvSpPr>
            <p:cNvPr id="134" name=""/>
            <p:cNvSpPr/>
            <p:nvPr/>
          </p:nvSpPr>
          <p:spPr>
            <a:xfrm>
              <a:off x="3200400" y="152388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iming a base-class pointer at a derived object is allowed (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“is a”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However, it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, determined by the pointer type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llow us to change thi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057040" y="152352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EA46-E65D-4D73-A9D1-106BB5382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point and circle objec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base-class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-class object invokes base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derived-class pointer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-class object 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base-class pointer to derived-class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base-class print function on that derived-class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0, 89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4CCE-5ADE-4034-A4CA-AA303186A0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2 Aiming Derived-Class Pointers at Base-Clas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imed base-class pointer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is a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a derived-class pointer at a base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“is 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data/functions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Radi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not 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ast base-object’s address to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downcasting (more in 10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derived-class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7CBC-1715-4E6D-8D10-1438D431C3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6: fig10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iming a derived-class pointer at a base-class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aim derived-class pointer at base-class objec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irclePtr = &amp;point;  // Error: a Point is not a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733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6\Fig10_06.cpp(12) : error C244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=' : cannot convert from 'class Point *' to 'class Circle *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s pointed to are unrelated; conversion requ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interpret_cast, C-style cast or function-style 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4D46-DB1F-4ABF-AED3-8F837BF499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3 Derived-Class Member-Function Calls via Base-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(pointer/re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can aim at derived-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can only call base-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ing derived-class functions is a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not defined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type of pointer/reference determines functions it ca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86BB-CF00-43C7-840E-BF4FCC17C3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7: fig10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invoke derived-class-only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ugh a base-class po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base-class member functions on derived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object through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pointPtr-&gt;get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pointPtr-&gt;ge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AA42-6358-4253-9ECE-0FA4E0439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in the general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objects in same class hierarchy as if all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functions and dynamic bi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explain how polymorphism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xten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added easily, can still be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common interface (function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a natural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3BE9-60A9-42B9-84DA-EBD8D148D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attempt to invoke derived-class-only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on derived-class object through base-class point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radius = pointPtr-&gt;getRadius(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pointPtr-&gt;setRadius( 33.33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diameter = pointPtr-&gt;getDiameter(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circumference = pointPtr-&gt;getCircumferenc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area = pointPtr-&gt;getArea(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800" y="1676160"/>
            <a:ext cx="2666880" cy="2210760"/>
            <a:chOff x="2971800" y="1676160"/>
            <a:chExt cx="2666880" cy="2210760"/>
          </a:xfrm>
        </p:grpSpPr>
        <p:sp>
          <p:nvSpPr>
            <p:cNvPr id="150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se functions are only defin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However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971800" y="16761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B9BB-97B3-456A-8BE5-BB12FA1538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5) : error C2039: 'getRadius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6) : error C2039: 'setRadius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7) : error C2039: 'getDiameter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8) : error C2039: 'getCircumference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9) : error C2039: 'getArea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Poin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E330-8B71-43F3-AC31-9EF6BF83E1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pointer-class determine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(not pointer) determines functio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as ow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raw any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bas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,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determines prop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at run time (dynamic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 all shapes gen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17C9-8538-4073-A978-D4AD4B59F0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redefining, but new function must have same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unction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 only be overr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ll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ractice to explicitly decl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oose proper function to call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ccurs off pointer hand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unction called from object, uses that object’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A5B4-3AD4-4DB6-B930-DBFAEDE74D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ample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pointer to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call derived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8415-F229-49FA-B67B-9B5390A1E0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8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57400" y="2819520"/>
            <a:ext cx="4114800" cy="838080"/>
            <a:chOff x="2057400" y="2819520"/>
            <a:chExt cx="4114800" cy="838080"/>
          </a:xfrm>
        </p:grpSpPr>
        <p:sp>
          <p:nvSpPr>
            <p:cNvPr id="163" name=""/>
            <p:cNvSpPr/>
            <p:nvPr/>
          </p:nvSpPr>
          <p:spPr>
            <a:xfrm>
              <a:off x="35053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will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all derived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0574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89B7-16C8-4565-AAEE-FB7664654E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9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6221-083E-4386-8173-1322A88C8C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0: fig10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roducing polymorphism, virtual functions and dynam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bind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026F-4397-4927-85DC-27AF0FA287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eric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 using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oking print function on point and circl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s with static bind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voking print function on point and circl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s with dynamic bind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base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point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base-clas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to base-class objec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base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55BE-83C2-4754-9EF8-C6909DC9F1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derived-class pointer at derived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and print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 = &amp;circl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rived-class pointer to derived-class obj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derived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base-clas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to derived-class obj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derived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sm: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7040" y="3276720"/>
            <a:ext cx="3810240" cy="1982520"/>
            <a:chOff x="2057040" y="3276720"/>
            <a:chExt cx="3810240" cy="1982520"/>
          </a:xfrm>
        </p:grpSpPr>
        <p:sp>
          <p:nvSpPr>
            <p:cNvPr id="174" name=""/>
            <p:cNvSpPr/>
            <p:nvPr/>
          </p:nvSpPr>
          <p:spPr>
            <a:xfrm>
              <a:off x="3200400" y="37051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 run time, the program determin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iming a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, and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. This is an example of polymorphis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057040" y="327672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B9AF-94A4-4B3D-B0F5-8954CD8750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ships Among Objects in an Inheritance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 (Section 9.4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using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 functions using base-class/derived-class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rodu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-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is not a derived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8F1D-9683-4AC9-9451-C2B5A21A8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ing print function on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 with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ing print function on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 with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to base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base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-class pointer to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to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87A0-A88C-4383-94CF-9F303360A4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message, “print”, given to many ob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rough a base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takes on “many form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to base-object, derived-pointer to deri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to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call base-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pointer to base-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if explicit cast made (more in section 10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0437-ECF4-4BCE-B9BA-739CD368CF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 Examp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specif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operation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one 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., perimeter, are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designing video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pace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t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ace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er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efresh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 manager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base-class pointers to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to each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message has “many forms” of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4258-95DC-4542-BCB0-4BABAA24E1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 Examp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 game example,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ad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rcuri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ac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own definition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een manager does not need to chang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gardless of object’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cur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 “plug right 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and many objects without know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bl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classes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CE04-9ACD-4AF2-9A1E-7308C31564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e Fields and switch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determine object's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 base class an 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all prop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forget to test for case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dd/remove a class, must upd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consuming and error 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to use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ss branching logic, simpler programs, less debug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6C8C-9AF1-438E-B646-2389B9CEAD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: to be a base class (called abstract base class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es fill in "missing piec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make objects from abstrac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all functions they def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346A-1E99-470F-9EF0-F141046210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not required, bu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class 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one or more "pure"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function with initializer of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r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implementations, overriding is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mplementation, must be overr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es can have data and concret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to have one or more pure virtu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A149-D623-46F0-A9A4-408EB265E4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base class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pure virtual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must imp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een manager knows that each object can draw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 (more Chapter 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lk through elemen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ase-class pointer to se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ssage to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A8A5-1E45-4038-A3B7-C4F717CAE5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bstract 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s (must be implemen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implementation does not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functions (may be re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redefined, uses base 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clas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26FF-BE3F-4413-82F9-F7C7ED571E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5800" y="1295280"/>
            <a:ext cx="7848720" cy="4724640"/>
            <a:chOff x="685800" y="1295280"/>
            <a:chExt cx="7848720" cy="4724640"/>
          </a:xfrm>
        </p:grpSpPr>
        <p:sp>
          <p:nvSpPr>
            <p:cNvPr id="196" name=""/>
            <p:cNvSpPr/>
            <p:nvPr/>
          </p:nvSpPr>
          <p:spPr>
            <a:xfrm>
              <a:off x="685800" y="1295280"/>
              <a:ext cx="7848720" cy="4724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991080" y="1588680"/>
              <a:ext cx="7238160" cy="4136040"/>
              <a:chOff x="991080" y="1588680"/>
              <a:chExt cx="7238160" cy="41360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1951200" y="1923840"/>
                <a:ext cx="1569240" cy="950040"/>
                <a:chOff x="1951200" y="1923840"/>
                <a:chExt cx="1569240" cy="9500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1951200" y="1923840"/>
                  <a:ext cx="1569240" cy="950040"/>
                  <a:chOff x="1951200" y="1923840"/>
                  <a:chExt cx="1569240" cy="9500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512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512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20372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520800" y="1923840"/>
                <a:ext cx="1569240" cy="950040"/>
                <a:chOff x="3520800" y="1923840"/>
                <a:chExt cx="1569240" cy="95004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3520800" y="1923840"/>
                  <a:ext cx="1569240" cy="950040"/>
                  <a:chOff x="3520800" y="1923840"/>
                  <a:chExt cx="1569240" cy="9500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5208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5208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36068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090040" y="1923840"/>
                <a:ext cx="1569600" cy="950040"/>
                <a:chOff x="5090040" y="1923840"/>
                <a:chExt cx="1569600" cy="9500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090040" y="1923840"/>
                  <a:ext cx="1569600" cy="950040"/>
                  <a:chOff x="5090040" y="1923840"/>
                  <a:chExt cx="1569600" cy="9500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090040" y="19238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090040" y="19238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51764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=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660000" y="1923840"/>
                <a:ext cx="1569240" cy="950040"/>
                <a:chOff x="6660000" y="1923840"/>
                <a:chExt cx="1569240" cy="95004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6660000" y="1923840"/>
                  <a:ext cx="1569240" cy="950040"/>
                  <a:chOff x="6660000" y="1923840"/>
                  <a:chExt cx="1569240" cy="9500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6600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6600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67460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=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951200" y="2874240"/>
                <a:ext cx="1569240" cy="950400"/>
                <a:chOff x="1951200" y="2874240"/>
                <a:chExt cx="1569240" cy="9504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1951200" y="2874240"/>
                  <a:ext cx="1569240" cy="950400"/>
                  <a:chOff x="1951200" y="2874240"/>
                  <a:chExt cx="1569240" cy="950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19512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19512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20372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20800" y="2874240"/>
                <a:ext cx="1569240" cy="950400"/>
                <a:chOff x="3520800" y="2874240"/>
                <a:chExt cx="1569240" cy="9504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520800" y="2874240"/>
                  <a:ext cx="1569240" cy="950400"/>
                  <a:chOff x="3520800" y="2874240"/>
                  <a:chExt cx="1569240" cy="950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5208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5208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606480" y="2985840"/>
                  <a:ext cx="139644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090040" y="2874240"/>
                <a:ext cx="1569600" cy="950400"/>
                <a:chOff x="5090040" y="2874240"/>
                <a:chExt cx="1569600" cy="95040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5090040" y="2874240"/>
                  <a:ext cx="1569600" cy="950400"/>
                  <a:chOff x="5090040" y="2874240"/>
                  <a:chExt cx="1569600" cy="9504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090040" y="2874240"/>
                    <a:ext cx="156960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090040" y="2874240"/>
                    <a:ext cx="156960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51764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Point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660000" y="2874240"/>
                <a:ext cx="1569240" cy="950400"/>
                <a:chOff x="6660000" y="2874240"/>
                <a:chExt cx="1569240" cy="95040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6660000" y="2874240"/>
                  <a:ext cx="1569240" cy="950400"/>
                  <a:chOff x="6660000" y="2874240"/>
                  <a:chExt cx="1569240" cy="9504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66600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6600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67460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[x,y]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951200" y="3824640"/>
                <a:ext cx="1569240" cy="950040"/>
                <a:chOff x="1951200" y="3824640"/>
                <a:chExt cx="1569240" cy="950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1951200" y="3824640"/>
                  <a:ext cx="1569240" cy="950040"/>
                  <a:chOff x="1951200" y="3824640"/>
                  <a:chExt cx="1569240" cy="9500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19512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9512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" name=""/>
                <p:cNvSpPr/>
                <p:nvPr/>
              </p:nvSpPr>
              <p:spPr>
                <a:xfrm>
                  <a:off x="2037240" y="39362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520800" y="3824640"/>
                <a:ext cx="1569240" cy="950040"/>
                <a:chOff x="3520800" y="3824640"/>
                <a:chExt cx="1569240" cy="9500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3520800" y="3824640"/>
                  <a:ext cx="1569240" cy="950040"/>
                  <a:chOff x="3520800" y="3824640"/>
                  <a:chExt cx="1569240" cy="9500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35208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5208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3606480" y="3936240"/>
                  <a:ext cx="139644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090040" y="3824640"/>
                <a:ext cx="1569600" cy="950040"/>
                <a:chOff x="5090040" y="3824640"/>
                <a:chExt cx="1569600" cy="95004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5090040" y="3824640"/>
                  <a:ext cx="1569600" cy="950040"/>
                  <a:chOff x="5090040" y="3824640"/>
                  <a:chExt cx="1569600" cy="9500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5090040" y="38246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090040" y="38246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>
                  <a:off x="5176440" y="39362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Circle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6660000" y="3824640"/>
                <a:ext cx="1569240" cy="950040"/>
                <a:chOff x="6660000" y="3824640"/>
                <a:chExt cx="1569240" cy="9500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660000" y="3824640"/>
                  <a:ext cx="1569240" cy="950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60000" y="3824640"/>
                  <a:ext cx="1569240" cy="950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746040" y="4076280"/>
                <a:ext cx="139608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enter=[x,y]; radius=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51200" y="4774680"/>
                <a:ext cx="1569240" cy="950040"/>
                <a:chOff x="1951200" y="4774680"/>
                <a:chExt cx="1569240" cy="9500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1951200" y="4774680"/>
                  <a:ext cx="1569240" cy="950040"/>
                  <a:chOff x="1951200" y="4774680"/>
                  <a:chExt cx="1569240" cy="9500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19512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9512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>
                  <a:off x="20372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+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520800" y="4774680"/>
                <a:ext cx="1569240" cy="950040"/>
                <a:chOff x="3520800" y="4774680"/>
                <a:chExt cx="1569240" cy="95004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520800" y="4774680"/>
                  <a:ext cx="1569240" cy="950040"/>
                  <a:chOff x="3520800" y="4774680"/>
                  <a:chExt cx="1569240" cy="9500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5208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5208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3606480" y="4886280"/>
                  <a:ext cx="139644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090040" y="4774680"/>
                <a:ext cx="1569600" cy="950040"/>
                <a:chOff x="5090040" y="4774680"/>
                <a:chExt cx="1569600" cy="950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5090040" y="4774680"/>
                  <a:ext cx="1569600" cy="950040"/>
                  <a:chOff x="5090040" y="4774680"/>
                  <a:chExt cx="1569600" cy="950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5090040" y="477468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090040" y="477468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51764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Cylinder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60000" y="4774680"/>
                <a:ext cx="1569240" cy="950040"/>
                <a:chOff x="6660000" y="4774680"/>
                <a:chExt cx="1569240" cy="9500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6660000" y="4774680"/>
                  <a:ext cx="1569240" cy="950040"/>
                  <a:chOff x="6660000" y="4774680"/>
                  <a:chExt cx="1569240" cy="9500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66600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6600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>
                  <a:off x="67460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center=[x,y]; radius=r; height=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2037600" y="1588680"/>
                <a:ext cx="139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Are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46040" y="1588680"/>
                <a:ext cx="139608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76800" y="1588680"/>
                <a:ext cx="139608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06480" y="1588680"/>
                <a:ext cx="13964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Volu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991080" y="228744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Sha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1080" y="32374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Po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91080" y="41878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irc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91080" y="51382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ylin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19B3-AB6C-4B66-9D48-7FAF6FD73F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1 Invoking Base-Class Functions from Derived-Clas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pointers (base, derived) at objects (base, deri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pointer aimed at bas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pointer aimed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pointer aimed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is a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invoke base 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depends on the class of the pointer/hand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epend on object to which it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s, this can be changed (mor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FE26-B10A-4653-8A1B-86DFAA0DBE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p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2: shap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abstract-base-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AP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AP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string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irtual function that returns shape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irtual function that returns shape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re virtual functions; overridden in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hap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hap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14600" y="2209680"/>
            <a:ext cx="4114800" cy="2362320"/>
            <a:chOff x="2514600" y="2209680"/>
            <a:chExt cx="4114800" cy="2362320"/>
          </a:xfrm>
        </p:grpSpPr>
        <p:sp>
          <p:nvSpPr>
            <p:cNvPr id="288" name=""/>
            <p:cNvSpPr/>
            <p:nvPr/>
          </p:nvSpPr>
          <p:spPr>
            <a:xfrm>
              <a:off x="39625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rtual and pure virtual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146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895480" y="2362320"/>
              <a:ext cx="106704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7E6F-54C0-44F7-B018-47DF392BFD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pe.cpp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3: shap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 of shape; 0.0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volume of shape; 0.0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5EAE-899D-4311-B43F-30147128D4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4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Point"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743200" y="2590920"/>
            <a:ext cx="4114800" cy="1523880"/>
            <a:chOff x="2743200" y="2590920"/>
            <a:chExt cx="4114800" cy="1523880"/>
          </a:xfrm>
        </p:grpSpPr>
        <p:sp>
          <p:nvSpPr>
            <p:cNvPr id="296" name=""/>
            <p:cNvSpPr/>
            <p:nvPr/>
          </p:nvSpPr>
          <p:spPr>
            <a:xfrm>
              <a:off x="4191120" y="25909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 only redefin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Volu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zero (it can use the default implementatio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3200" y="312408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6912-E5DF-4A9B-A097-080CD151D6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B294-1AF1-4264-B558-8DA107F3DE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5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25B7-0999-4DE6-8B26-7843FCC4595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B568-FE08-49A5-9DF5-95108F2E21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ure virtual function getName: return name of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oint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ure virtual function print: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6000" y="837720"/>
            <a:ext cx="3581280" cy="2881800"/>
            <a:chOff x="2286000" y="837720"/>
            <a:chExt cx="3581280" cy="2881800"/>
          </a:xfrm>
        </p:grpSpPr>
        <p:sp>
          <p:nvSpPr>
            <p:cNvPr id="307" name=""/>
            <p:cNvSpPr/>
            <p:nvPr/>
          </p:nvSpPr>
          <p:spPr>
            <a:xfrm>
              <a:off x="32004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override pure virtual 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286000" y="837720"/>
              <a:ext cx="914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2286000" y="266652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7D6D-CA23-41FE-9E73-87A49CC354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6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Circle"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AA9E-AB1F-40BB-AF99-65E6482267E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1E7E-2072-4ACC-B107-18298BAD7C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7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5E76-BC30-493B-BD09-B18C3B3BB5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10.1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09680" y="2819520"/>
            <a:ext cx="4114800" cy="838080"/>
            <a:chOff x="2209680" y="2819520"/>
            <a:chExt cx="4114800" cy="838080"/>
          </a:xfrm>
        </p:grpSpPr>
        <p:sp>
          <p:nvSpPr>
            <p:cNvPr id="98" name=""/>
            <p:cNvSpPr/>
            <p:nvPr/>
          </p:nvSpPr>
          <p:spPr>
            <a:xfrm>
              <a:off x="3657600" y="2819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 class print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2096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5DFF-2465-49D5-A69D-057EB5FCFA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CE2F-59BC-43C3-85E2-EA3E9625EC3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Area: return area of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utual function getName: return name of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ircle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print: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85640" y="1142640"/>
            <a:ext cx="3886560" cy="1038240"/>
            <a:chOff x="2285640" y="1142640"/>
            <a:chExt cx="3886560" cy="1038240"/>
          </a:xfrm>
        </p:grpSpPr>
        <p:sp>
          <p:nvSpPr>
            <p:cNvPr id="321" name=""/>
            <p:cNvSpPr/>
            <p:nvPr/>
          </p:nvSpPr>
          <p:spPr>
            <a:xfrm>
              <a:off x="35053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it now applies to Circ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285640" y="114264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1E42-E33C-4563-A1ED-2023FA74F7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8: cylinder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area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7255-CD08-4948-88D3-A462E3BB7F7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Cylinder"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129C-9504-45BE-8634-2066FBF6AA9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9: cylinder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: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: Circle( xValue, yValue,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eight(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yli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setHeight( double height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ight = ( height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6E3F-4D57-4B3B-B28C-9BBE8474E34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Area: return Cylinder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ircle::getArea() +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ircumference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Volume: return Cylinder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* getHeigh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4A58-B0A0-4F8B-8C28-51FE0D1CA3A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Name: return name of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ylinder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heigh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049D-51B9-471B-8933-17896B528E4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0: fig10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hape, point, circle, cylinder hierarch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oint class defini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Poin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*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4B75-FF22-47D5-ACC0-7C1BA92153A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be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 cyli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point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ircle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ylinder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print(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D16F-E0AE-4559-990F-4146F134C2C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vector of three base-class poin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Shape * &gt; shapeVec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0] at derived-class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point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1] at derived-class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circl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2] at derived-class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cylinder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hrough shapeVector and call virtualVia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print the shape name, attributes, area and volu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ach object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irtual function calls made of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-class pointers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hapeVector.size()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rtualViaPointer( shapeVector[ i ]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514240" y="457200"/>
            <a:ext cx="4724280" cy="3886200"/>
            <a:chOff x="2514240" y="457200"/>
            <a:chExt cx="4724280" cy="3886200"/>
          </a:xfrm>
        </p:grpSpPr>
        <p:sp>
          <p:nvSpPr>
            <p:cNvPr id="340" name=""/>
            <p:cNvSpPr/>
            <p:nvPr/>
          </p:nvSpPr>
          <p:spPr>
            <a:xfrm>
              <a:off x="4338000" y="457200"/>
              <a:ext cx="290052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vector of generic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s, and aim them at various objec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ViaPoi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the virtual functions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) using the base-class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types are dynamically bound at run-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3177000" y="609480"/>
              <a:ext cx="1160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011400" y="1066680"/>
              <a:ext cx="13258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514240" y="1066680"/>
              <a:ext cx="182340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1341-011D-4A68-B673-CCD941FB6C9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C2ED-BAAC-449F-9508-764CA0C71B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hrough shapeVector and call virtualVia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print the shape name, attributes, area and volu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ach object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irtual function calls made of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-class references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hapeVector.size()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rtualViaReference( *shapeVector[ j ]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virtual function calls off a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ynamic binding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Poin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*baseClassPtr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aseClassPtr-&gt;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ClassPtr-&gt;print(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Ptr-&gt;getArea(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Ptr-&gt;getVolu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virtualViaPointer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666880" y="838080"/>
            <a:ext cx="4114800" cy="838440"/>
            <a:chOff x="2666880" y="838080"/>
            <a:chExt cx="4114800" cy="838440"/>
          </a:xfrm>
        </p:grpSpPr>
        <p:sp>
          <p:nvSpPr>
            <p:cNvPr id="347" name=""/>
            <p:cNvSpPr/>
            <p:nvPr/>
          </p:nvSpPr>
          <p:spPr>
            <a:xfrm>
              <a:off x="41148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references instead of pointers, for the same eff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6668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047760" y="3048120"/>
            <a:ext cx="4115160" cy="838080"/>
            <a:chOff x="3047760" y="3048120"/>
            <a:chExt cx="4115160" cy="838080"/>
          </a:xfrm>
        </p:grpSpPr>
        <p:sp>
          <p:nvSpPr>
            <p:cNvPr id="350" name=""/>
            <p:cNvSpPr/>
            <p:nvPr/>
          </p:nvSpPr>
          <p:spPr>
            <a:xfrm>
              <a:off x="449568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virtual functions; the proper class function will be called at run-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0477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9379-BE3A-442F-8B33-878DCD4D22A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virtual function calls off a base-class referenc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ynamic binding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&amp;baseClassRef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aseClassRef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ClassRef.print()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Ref.getArea(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Ref.getVolu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virtualViaReferenc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26C3-1433-4F3B-9D29-18FF96426A1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 function calls made off base-class point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.4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275.7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342.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31F6-2E3B-48F6-9A8A-D541E77B5DF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 function calls made off base-class refere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.4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275.7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is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3AF1-185F-41F0-AD80-5BDB3365073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, Virtual Functions and Dynamic Binding “Under the Hood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has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used in STL (Standard Template Library) to optimiz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table (v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class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has a v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vtable has pointer to the prop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rived class has same function a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pointer aims at base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explanation in Fig. 10.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6D82-C9B0-4EA6-B3B8-663B1F9E28A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pointer to deriv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stroyed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ehavior un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base-class destructor 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derived-class destructors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ppropriate destructor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rived-class object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destructor executes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destructor executes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cannot b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9B67-5224-4D9E-A413-00CB095A364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payroll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virtual functions and 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types of employees, paid week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ied (fixed salary, no matter the h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ly (overtime [&gt;40 hours] pays time and a ha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 (paid percentage of s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plus-commission (base salary + percentage of s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ss wants to raise pay by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24CA-C8E9-4B22-A92C-AB436BB1A0E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s pa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e virtual because need to know employe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alculate for gener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classes derive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14400" y="3349800"/>
            <a:ext cx="7162920" cy="2746080"/>
            <a:chOff x="914400" y="3349800"/>
            <a:chExt cx="7162920" cy="2746080"/>
          </a:xfrm>
        </p:grpSpPr>
        <p:sp>
          <p:nvSpPr>
            <p:cNvPr id="367" name=""/>
            <p:cNvSpPr/>
            <p:nvPr/>
          </p:nvSpPr>
          <p:spPr>
            <a:xfrm>
              <a:off x="914400" y="3349800"/>
              <a:ext cx="7162920" cy="274608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272240" y="3537360"/>
              <a:ext cx="6446520" cy="2370960"/>
              <a:chOff x="1272240" y="3537360"/>
              <a:chExt cx="6446520" cy="2370960"/>
            </a:xfrm>
          </p:grpSpPr>
          <p:sp>
            <p:nvSpPr>
              <p:cNvPr id="369" name=""/>
              <p:cNvSpPr/>
              <p:nvPr/>
            </p:nvSpPr>
            <p:spPr>
              <a:xfrm>
                <a:off x="2944440" y="3911400"/>
                <a:ext cx="8751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7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3619800" y="3537360"/>
                <a:ext cx="1751400" cy="374040"/>
                <a:chOff x="3619800" y="3537360"/>
                <a:chExt cx="1751400" cy="37404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620160" y="3537360"/>
                  <a:ext cx="1751040" cy="374040"/>
                  <a:chOff x="3620160" y="3537360"/>
                  <a:chExt cx="1751040" cy="3740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3620160" y="3537360"/>
                    <a:ext cx="175104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620160" y="3537360"/>
                    <a:ext cx="175104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3619800" y="3648960"/>
                  <a:ext cx="1751400" cy="1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sz="1200" spc="-1" strike="noStrike">
                      <a:solidFill>
                        <a:srgbClr val="000000"/>
                      </a:solidFill>
                      <a:latin typeface="Courier New"/>
                    </a:rPr>
                    <a:t>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1272240" y="4590360"/>
                <a:ext cx="1910520" cy="359280"/>
                <a:chOff x="1272240" y="4590360"/>
                <a:chExt cx="1910520" cy="35928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1272960" y="4590360"/>
                  <a:ext cx="1909800" cy="359280"/>
                  <a:chOff x="1272960" y="4590360"/>
                  <a:chExt cx="1909800" cy="3592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1272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272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1272240" y="4698000"/>
                  <a:ext cx="191052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Salaried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808240" y="4590360"/>
                <a:ext cx="1910520" cy="359280"/>
                <a:chOff x="5808240" y="4590360"/>
                <a:chExt cx="1910520" cy="35928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5808960" y="4590360"/>
                  <a:ext cx="1909800" cy="359280"/>
                  <a:chOff x="5808960" y="4590360"/>
                  <a:chExt cx="1909800" cy="3592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5808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808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" name=""/>
                <p:cNvSpPr/>
                <p:nvPr/>
              </p:nvSpPr>
              <p:spPr>
                <a:xfrm>
                  <a:off x="5808240" y="4698000"/>
                  <a:ext cx="191052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Hourly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172480" y="3911400"/>
                <a:ext cx="8751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95320" y="4939920"/>
                <a:ext cx="360" cy="60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7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539880" y="4590360"/>
                <a:ext cx="1911240" cy="359280"/>
                <a:chOff x="3539880" y="4590360"/>
                <a:chExt cx="1911240" cy="35928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3540960" y="4590360"/>
                  <a:ext cx="1910160" cy="359280"/>
                  <a:chOff x="3540960" y="4590360"/>
                  <a:chExt cx="1910160" cy="35928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3540960" y="4590360"/>
                    <a:ext cx="1910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540960" y="4590360"/>
                    <a:ext cx="1910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3539880" y="4698000"/>
                  <a:ext cx="191124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ommission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4495320" y="3911400"/>
                <a:ext cx="3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3102120" y="5549040"/>
                <a:ext cx="2786400" cy="359280"/>
                <a:chOff x="3102120" y="5549040"/>
                <a:chExt cx="2786400" cy="3592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3102840" y="5549040"/>
                  <a:ext cx="2785680" cy="359280"/>
                  <a:chOff x="3102840" y="5549040"/>
                  <a:chExt cx="2785680" cy="3592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3102840" y="5549040"/>
                    <a:ext cx="278568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102840" y="5549040"/>
                    <a:ext cx="278568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3102120" y="5656680"/>
                  <a:ext cx="278640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ePlusCommission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4F30-C269-45EE-8991-B9C9BDE4007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ynamic_ca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object's type at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0 if not of proper type (cannot be ca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Class *ptr = dynamic_cast &lt; NewClass *&gt; objec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ypeinf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ag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id(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information about type of operand, including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id(object).nam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BCAA-B6DA-4D5B-92F2-F8B035DA2F2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3: employe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abstract bas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string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SocialSecurity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35BF-152D-48F7-8156-CC6F8E66AED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4191120"/>
            <a:ext cx="4114800" cy="838080"/>
            <a:chOff x="2057400" y="4191120"/>
            <a:chExt cx="4114800" cy="838080"/>
          </a:xfrm>
        </p:grpSpPr>
        <p:sp>
          <p:nvSpPr>
            <p:cNvPr id="105" name=""/>
            <p:cNvSpPr/>
            <p:nvPr/>
          </p:nvSpPr>
          <p:spPr>
            <a:xfrm>
              <a:off x="350532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x,y coordinat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05740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3B4B-0B3C-4BE2-B31E-493068A74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 function makes Employee abstract bas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6221-BB4F-48D4-9684-173B0F19F86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4: employe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-base-class Employee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: No definitions are given for pure virtual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S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firstName( fir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lastName( la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socialSecurityNumber( SS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0B9C-0B56-486A-95FE-9DDE453C5F8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SocialSecurity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cialSecurityNumber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Fir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firs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884E-1822-4D3B-88FE-C6DFF17C942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La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las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SocialSecurity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ocialSecurityNumber 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mployee's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getFirs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La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ocial security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getSocialSecurityNumber(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09680" y="2666880"/>
            <a:ext cx="4114800" cy="838440"/>
            <a:chOff x="2209680" y="2666880"/>
            <a:chExt cx="4114800" cy="838440"/>
          </a:xfrm>
        </p:grpSpPr>
        <p:sp>
          <p:nvSpPr>
            <p:cNvPr id="411" name=""/>
            <p:cNvSpPr/>
            <p:nvPr/>
          </p:nvSpPr>
          <p:spPr>
            <a:xfrm>
              <a:off x="36576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implementation for virtua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0968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8BD3-C763-4B56-99A5-3656254A55E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5: salaried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aried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Weekly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ekly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salaried employe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ekly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alarie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819160" y="1981080"/>
            <a:ext cx="4267440" cy="1797480"/>
            <a:chOff x="2819160" y="1981080"/>
            <a:chExt cx="4267440" cy="1797480"/>
          </a:xfrm>
        </p:grpSpPr>
        <p:sp>
          <p:nvSpPr>
            <p:cNvPr id="416" name=""/>
            <p:cNvSpPr/>
            <p:nvPr/>
          </p:nvSpPr>
          <p:spPr>
            <a:xfrm>
              <a:off x="4419720" y="198108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w function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.</a:t>
              </a:r>
              <a:br>
                <a:rPr sz="1600"/>
              </a:b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overridden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verridden to specify that this is a salaried employ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895480" y="2590920"/>
              <a:ext cx="1524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819160" y="2590920"/>
              <a:ext cx="1600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5E1E-7742-480F-AB32-1A8DB5B0C00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6: salaried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ied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iedEmployee::Salaried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WeeklySalary( salar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alaried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alaried employee's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setWeekly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eeklySalary = salar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Weekly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133360" y="1981080"/>
            <a:ext cx="4115160" cy="838440"/>
            <a:chOff x="2133360" y="1981080"/>
            <a:chExt cx="4115160" cy="838440"/>
          </a:xfrm>
        </p:grpSpPr>
        <p:sp>
          <p:nvSpPr>
            <p:cNvPr id="422" name=""/>
            <p:cNvSpPr/>
            <p:nvPr/>
          </p:nvSpPr>
          <p:spPr>
            <a:xfrm>
              <a:off x="35812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ase class constructor for basic fiel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333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1E38-07BF-4D5D-8878-7E0DE37BB3E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alaried employee's p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eklySalar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alaried employee's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getWeekly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ekly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Weekly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alaried employee's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alaried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123720" y="685440"/>
            <a:ext cx="3048480" cy="1038240"/>
            <a:chOff x="3123720" y="685440"/>
            <a:chExt cx="3048480" cy="1038240"/>
          </a:xfrm>
        </p:grpSpPr>
        <p:sp>
          <p:nvSpPr>
            <p:cNvPr id="427" name=""/>
            <p:cNvSpPr/>
            <p:nvPr/>
          </p:nvSpPr>
          <p:spPr>
            <a:xfrm>
              <a:off x="35053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implement pure virtual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3123720" y="68544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1CC1-DD8F-44A2-9956-1B68C83DE90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7: hourl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ly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W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ag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age per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s worked for wee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548D-794C-4C26-854B-405AF740507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8: hourl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l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lyEmployee::Hourly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W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Work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Wage( hourlyW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s( hoursWork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ourly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ly employee's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setW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Am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ge = wageAmou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wageAmou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7CF6-53C4-4077-ADB3-EB4CC88794B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ly employee's hours wor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setHou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Work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s = ( hoursWorke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oursWorke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8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ursWorke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s wor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getHour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getWag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4636-17C5-4860-81C8-F93839189AE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981080"/>
            <a:ext cx="3886200" cy="2819520"/>
            <a:chOff x="2590920" y="1981080"/>
            <a:chExt cx="3886200" cy="2819520"/>
          </a:xfrm>
        </p:grpSpPr>
        <p:sp>
          <p:nvSpPr>
            <p:cNvPr id="110" name=""/>
            <p:cNvSpPr/>
            <p:nvPr/>
          </p:nvSpPr>
          <p:spPr>
            <a:xfrm>
              <a:off x="3809880" y="2209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redefines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2590920" y="1981080"/>
              <a:ext cx="12189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590920" y="2590920"/>
              <a:ext cx="12189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4A6D-0877-439D-A788-6F6495812D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hourly employee's p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our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ov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 * hou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time is paid at wage * 1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wage + ( hours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wage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ourly employee's inform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ourly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A900-8C73-41AA-9741-530E1D8EC35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9: commiss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mmission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mmissionR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Gross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GrossSal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oss weekly 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Ra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 percent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86000" y="2209680"/>
            <a:ext cx="4114800" cy="1447920"/>
            <a:chOff x="2286000" y="2209680"/>
            <a:chExt cx="4114800" cy="1447920"/>
          </a:xfrm>
        </p:grpSpPr>
        <p:sp>
          <p:nvSpPr>
            <p:cNvPr id="440" name=""/>
            <p:cNvSpPr/>
            <p:nvPr/>
          </p:nvSpPr>
          <p:spPr>
            <a:xfrm>
              <a:off x="3733920" y="2209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set rate and sa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860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37920" y="2362320"/>
              <a:ext cx="12956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BAC2-DB5E-425D-A974-231E0AABD50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0: commission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mission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onstruc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ssionEmployee::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WeeklySal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c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GrossSales( grossWeeklySal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CommissionRate( perc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mmission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mmission employee's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getCommissionR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R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ommission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DF10-270A-44BA-B2D3-38633261ACD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mmission employee's gross sales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getGrossSal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Gross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mmission employee's weekly bas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setGross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grossSales = sale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e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Gross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mmission employee's com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setCommission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commissionRate = ( rat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at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rat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Commission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6C7D-E0D5-45B2-A599-C9B3E9534B8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ommission employee's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mmissionRate() * getGrossSale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mmission employee's 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ommission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3C8C-1884-4CCE-B8CB-E251D6494CA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1: baseplus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mission.h"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Plus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se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se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base salary per wee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62160" y="304920"/>
            <a:ext cx="3810240" cy="1295280"/>
            <a:chOff x="3962160" y="304920"/>
            <a:chExt cx="3810240" cy="1295280"/>
          </a:xfrm>
        </p:grpSpPr>
        <p:sp>
          <p:nvSpPr>
            <p:cNvPr id="452" name=""/>
            <p:cNvSpPr/>
            <p:nvPr/>
          </p:nvSpPr>
          <p:spPr>
            <a:xfrm>
              <a:off x="5105520" y="304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d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rectly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962160" y="8380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F3BE-BC4F-4419-A965-21A912FBA8F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2: baseplus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plus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PlusCommissionEmployee::BasePlusCommissionEmploye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Am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CommissionEmployee( first, last, 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grossSalesAmount, rate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aseSalary( baseSalary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BasePlusCommission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ase-salaried commission employee's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setBase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Salary = salar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Base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1682-6434-4915-B0B7-9838C641C8C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base-salaried commission employee's bas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getBase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Base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base-salaried commission employee's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seSalary() + CommissionEmployee::earning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base-salaried commission employee's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base-salaried commission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BADC-5E2A-4EBD-9327-09B2789BC1A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3: fig10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Employee hierarch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type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base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ied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mmission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plus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ly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FD1A-4E78-4394-9958-C4718BCC6EA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loating-point output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 &lt; Employee * &gt; employe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vector with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h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mi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11-11-111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22-22-222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0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ew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33-33-333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0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ar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44-44-444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6.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A4E7-5F39-46F7-BE3A-4D5E3A93690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4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2846-E391-439F-AA64-F564FF1D7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ically process each element in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employe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mploye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s[ i ]-&gt;print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wncast pointer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sePlusCommissionEmployee *commissionPtr =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ynam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BasePlusCommissionEmployee *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employees[ i ]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whether element points to base-salari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ission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ission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ld base salary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commissionPtr-&gt;getBaseSalary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missionPtr-&gt;setBaseSala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mmissionPtr-&gt;getBaseSalar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base salary with 10% increase is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commissionPtr-&gt;getBaseSalary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arned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mployees[ i ]-&gt;earnings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047760" y="228600"/>
            <a:ext cx="5715360" cy="1371600"/>
            <a:chOff x="3047760" y="228600"/>
            <a:chExt cx="5715360" cy="1371600"/>
          </a:xfrm>
        </p:grpSpPr>
        <p:sp>
          <p:nvSpPr>
            <p:cNvPr id="465" name=""/>
            <p:cNvSpPr/>
            <p:nvPr/>
          </p:nvSpPr>
          <p:spPr>
            <a:xfrm>
              <a:off x="4114800" y="228600"/>
              <a:ext cx="4648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wncasting to cast the employee object in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it points to the correct type of object, the pointer is non-zero. This way, we can give a raise to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047760" y="9144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E842-C818-4805-9BDF-8245E8F4586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lease memory held by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employees.size()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lass nam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leting object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*employees[ j ] ).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s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047760" y="1495440"/>
            <a:ext cx="3353040" cy="1996560"/>
            <a:chOff x="3047760" y="1495440"/>
            <a:chExt cx="3353040" cy="1996560"/>
          </a:xfrm>
        </p:grpSpPr>
        <p:sp>
          <p:nvSpPr>
            <p:cNvPr id="470" name=""/>
            <p:cNvSpPr/>
            <p:nvPr/>
          </p:nvSpPr>
          <p:spPr>
            <a:xfrm>
              <a:off x="3733920" y="21812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_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This object contains information about the operand, including its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3047760" y="149544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8791-B7C9-4888-AC13-1B5CBE66BF2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ied employee: John Sm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111-11-11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8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ssion employee: Sue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222-22-22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6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-salaried commission employee: Bob Lew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333-33-3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ld base salary: $3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base salary with 10% increase is: $33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53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ly employee: Karen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444-44-44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67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Salarie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05DA-E272-490C-A42D-5BBB9DD88CD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49:19Z</dcterms:created>
  <dc:creator>kalid</dc:creator>
  <dc:description/>
  <dc:language>en-US</dc:language>
  <cp:lastModifiedBy>Pearson Education</cp:lastModifiedBy>
  <dcterms:modified xsi:type="dcterms:W3CDTF">2002-08-12T15:11:29Z</dcterms:modified>
  <cp:revision>553</cp:revision>
  <dc:subject/>
  <dc:title>PowerPoint Presentation</dc:title>
</cp:coreProperties>
</file>