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A342-A397-4249-9E9D-DD2F7F532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962-45FC-4636-A70F-E9C7D091C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09B5-E4D0-4980-A03C-C597E9A0C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CDCB-3208-4B4D-B582-113274102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A131-60D2-41F6-ABD1-1D04AA2463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170A-F7D5-40C9-B0EE-A0FC60E217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C2C0-1719-474C-A8EC-5A05FE75E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0A9B-3C29-4620-B6D3-ABF68D15B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50B1-36BE-45DD-9073-D4F57470C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9D0D-5383-4CD8-BBAB-EB18B7E442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27B6-DDA7-4027-BE74-A48CA7C15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20C2-1F57-4313-80BE-F17BDC929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61ED-2221-4D8A-917A-6868FA81DA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F940-12D1-4047-B8B7-1925BFA9E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F574-532E-4E83-ACF9-BE8BCED566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D744-38D1-490E-9233-FE667515A4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AAED-CB9A-4CBE-A376-EDAC8EA48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7E7C-764B-4148-B080-1B5CE6842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2158-6761-4EAA-AEEB-8DF9D9F90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A78F-3D39-44BC-A820-02A844109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2715-8675-486E-9E45-DD6B61BA1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8305-3B79-40A9-98D4-C224D6C4A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FF7E-CDCD-47F3-86F2-8F80FA1E2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E333-1A6C-4701-8B8E-EBAC145BA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744-77FB-4A3F-8682-507F41D9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067-BDF7-404C-9E09-F6E293FF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Variable Declarations and Initial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ling Functions by Refer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with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ubble Sort Using Pass-by-Refer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Expressions and Pointer 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 Between Pointers and Array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 of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ard Shuffling and Dealing Simu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haracter and String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damentals of Characters and String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ing Manipulation Functions of the String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8AD4-D393-428F-8B7F-6874DC1258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-by-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pass-by-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inters and indirectio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array name already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F01C-9AE1-453C-9E1F-B345E7B313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6: fig05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a variable using pass-by-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value of numb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number by value to cub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 = cubeByValue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ew value of number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4080" y="2895480"/>
            <a:ext cx="4114800" cy="838440"/>
            <a:chOff x="3124080" y="28954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45720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number by value; res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1240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A601-7CD1-44E0-912D-689E8B5741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ube of integer argument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n * 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local variable n and retur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ByValu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5238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62320" y="609480"/>
            <a:ext cx="4114800" cy="657000"/>
            <a:chOff x="2362320" y="609480"/>
            <a:chExt cx="4114800" cy="657000"/>
          </a:xfrm>
        </p:grpSpPr>
        <p:sp>
          <p:nvSpPr>
            <p:cNvPr id="171" name=""/>
            <p:cNvSpPr/>
            <p:nvPr/>
          </p:nvSpPr>
          <p:spPr>
            <a:xfrm>
              <a:off x="381024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parameter passed-by-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362320" y="60948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0720" y="1066680"/>
            <a:ext cx="3505680" cy="1037880"/>
            <a:chOff x="1980720" y="1066680"/>
            <a:chExt cx="3505680" cy="1037880"/>
          </a:xfrm>
        </p:grpSpPr>
        <p:sp>
          <p:nvSpPr>
            <p:cNvPr id="174" name=""/>
            <p:cNvSpPr/>
            <p:nvPr/>
          </p:nvSpPr>
          <p:spPr>
            <a:xfrm>
              <a:off x="3200400" y="1523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be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local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1980720" y="10666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3035-1941-4AC3-AEC0-1EA7A2E7B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7: fig05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a variable using pass-by-refere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a pointer argu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value of numb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of number to cub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ubeByReference( &amp;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ew value of number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4600" y="3048120"/>
            <a:ext cx="4114800" cy="838080"/>
            <a:chOff x="2514600" y="3048120"/>
            <a:chExt cx="4114800" cy="838080"/>
          </a:xfrm>
        </p:grpSpPr>
        <p:sp>
          <p:nvSpPr>
            <p:cNvPr id="179" name=""/>
            <p:cNvSpPr/>
            <p:nvPr/>
          </p:nvSpPr>
          <p:spPr>
            <a:xfrm>
              <a:off x="396252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y address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ass address of numb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5146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880" y="4572000"/>
            <a:ext cx="3200400" cy="1052640"/>
            <a:chOff x="4952880" y="4572000"/>
            <a:chExt cx="3200400" cy="1052640"/>
          </a:xfrm>
        </p:grpSpPr>
        <p:sp>
          <p:nvSpPr>
            <p:cNvPr id="182" name=""/>
            <p:cNvSpPr/>
            <p:nvPr/>
          </p:nvSpPr>
          <p:spPr>
            <a:xfrm>
              <a:off x="6019920" y="480060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odified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952880" y="45720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857320" y="1066680"/>
            <a:ext cx="4115160" cy="838440"/>
            <a:chOff x="2857320" y="1066680"/>
            <a:chExt cx="4115160" cy="838440"/>
          </a:xfrm>
        </p:grpSpPr>
        <p:sp>
          <p:nvSpPr>
            <p:cNvPr id="185" name=""/>
            <p:cNvSpPr/>
            <p:nvPr/>
          </p:nvSpPr>
          <p:spPr>
            <a:xfrm>
              <a:off x="430524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otype indicates parameter is poin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5732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B7BC-E082-47A0-AA70-9F52ED925A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*nPtr; modifies variable number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Ptr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nPtr = *nPtr * *nPtr * *n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*nPtr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ByReferenc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002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value of number is 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48120" y="568440"/>
            <a:ext cx="3886200" cy="1371960"/>
            <a:chOff x="3048120" y="568440"/>
            <a:chExt cx="3886200" cy="1371960"/>
          </a:xfrm>
        </p:grpSpPr>
        <p:sp>
          <p:nvSpPr>
            <p:cNvPr id="191" name=""/>
            <p:cNvSpPr/>
            <p:nvPr/>
          </p:nvSpPr>
          <p:spPr>
            <a:xfrm>
              <a:off x="4267080" y="873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.e., pointer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3048120" y="56844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914400" y="1025640"/>
            <a:ext cx="5105520" cy="1911240"/>
            <a:chOff x="914400" y="1025640"/>
            <a:chExt cx="5105520" cy="1911240"/>
          </a:xfrm>
        </p:grpSpPr>
        <p:sp>
          <p:nvSpPr>
            <p:cNvPr id="194" name=""/>
            <p:cNvSpPr/>
            <p:nvPr/>
          </p:nvSpPr>
          <p:spPr>
            <a:xfrm>
              <a:off x="3619440" y="2112840"/>
              <a:ext cx="2400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and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using indirection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047760" y="1025640"/>
              <a:ext cx="57132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1045800"/>
              <a:ext cx="11811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1752480" y="1045800"/>
              <a:ext cx="18669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14400" y="1025640"/>
              <a:ext cx="270504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9B52-0857-4041-AF4A-157B0BDEE3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variable should not be mod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ward function enough access to accomplish task, but no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ways to pass pointer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constant pointer to non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st amount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constant pointer to 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pointer to non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pointer to 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st amount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5218-141F-4481-9628-86A57B36A1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0: fig05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lowercase letters to uppercase let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non-constant pointer to non-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islower and tou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ertToUpperca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ras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acters and $32.9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hrase before conversion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phr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vertToUppercase( phr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phrase after conversion is: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phras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120" y="1523880"/>
            <a:ext cx="4115160" cy="838440"/>
            <a:chOff x="2895120" y="1523880"/>
            <a:chExt cx="4115160" cy="838440"/>
          </a:xfrm>
        </p:grpSpPr>
        <p:sp>
          <p:nvSpPr>
            <p:cNvPr id="204" name=""/>
            <p:cNvSpPr/>
            <p:nvPr/>
          </p:nvSpPr>
          <p:spPr>
            <a:xfrm>
              <a:off x="43430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nonconsta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89512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04960" y="3165480"/>
            <a:ext cx="4115160" cy="838080"/>
            <a:chOff x="3504960" y="3165480"/>
            <a:chExt cx="4115160" cy="838080"/>
          </a:xfrm>
        </p:grpSpPr>
        <p:sp>
          <p:nvSpPr>
            <p:cNvPr id="207" name=""/>
            <p:cNvSpPr/>
            <p:nvPr/>
          </p:nvSpPr>
          <p:spPr>
            <a:xfrm>
              <a:off x="4952880" y="316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vertToUpper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odifies variable phr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504960" y="3317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F18B-E7DA-4849-8293-B033242D38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string to uppercase letters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ertToUpperca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*s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rrent character is not '\0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lower( *sPtr 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character is lowercase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*sPtr = toupper( *s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to uppercas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s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sPtr to next character in string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nvertToUppercas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4812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rase before conversion is: characters and $32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rase after conversion is:  CHARACTERS AND $32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52680" y="571320"/>
            <a:ext cx="4114800" cy="961920"/>
            <a:chOff x="3352680" y="571320"/>
            <a:chExt cx="4114800" cy="961920"/>
          </a:xfrm>
        </p:grpSpPr>
        <p:sp>
          <p:nvSpPr>
            <p:cNvPr id="213" name=""/>
            <p:cNvSpPr/>
            <p:nvPr/>
          </p:nvSpPr>
          <p:spPr>
            <a:xfrm>
              <a:off x="4800600" y="9525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nconstant pointer to nonconsta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352680" y="57132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52480" y="1447920"/>
            <a:ext cx="3733920" cy="1052640"/>
            <a:chOff x="1752480" y="1447920"/>
            <a:chExt cx="3733920" cy="1052640"/>
          </a:xfrm>
        </p:grpSpPr>
        <p:sp>
          <p:nvSpPr>
            <p:cNvPr id="216" name=""/>
            <p:cNvSpPr/>
            <p:nvPr/>
          </p:nvSpPr>
          <p:spPr>
            <a:xfrm>
              <a:off x="2819520" y="1676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low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character is lower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1752480" y="144792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133360" y="1676160"/>
            <a:ext cx="3353040" cy="2392560"/>
            <a:chOff x="2133360" y="1676160"/>
            <a:chExt cx="3353040" cy="2392560"/>
          </a:xfrm>
        </p:grpSpPr>
        <p:sp>
          <p:nvSpPr>
            <p:cNvPr id="219" name=""/>
            <p:cNvSpPr/>
            <p:nvPr/>
          </p:nvSpPr>
          <p:spPr>
            <a:xfrm>
              <a:off x="2819520" y="251460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upp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corresponding uppercase character if original character lowercase; otherwi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upp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original (uppercase)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133360" y="1676160"/>
              <a:ext cx="6858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71600" y="2168640"/>
            <a:ext cx="4114800" cy="1920240"/>
            <a:chOff x="1371600" y="2168640"/>
            <a:chExt cx="4114800" cy="1920240"/>
          </a:xfrm>
        </p:grpSpPr>
        <p:sp>
          <p:nvSpPr>
            <p:cNvPr id="222" name=""/>
            <p:cNvSpPr/>
            <p:nvPr/>
          </p:nvSpPr>
          <p:spPr>
            <a:xfrm>
              <a:off x="2819520" y="2778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++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ed to pointer that points to array, memory address stored in pointer modified to point to next element of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1371600" y="2168640"/>
              <a:ext cx="144792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5263-5000-4DAF-A5F6-A9A396235A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1: fig05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string one character at a time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on-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Characte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ras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characters of a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Characters( phr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95480" y="1066680"/>
            <a:ext cx="4114800" cy="838440"/>
            <a:chOff x="2895480" y="1066680"/>
            <a:chExt cx="4114800" cy="838440"/>
          </a:xfrm>
        </p:grpSpPr>
        <p:sp>
          <p:nvSpPr>
            <p:cNvPr id="227" name=""/>
            <p:cNvSpPr/>
            <p:nvPr/>
          </p:nvSpPr>
          <p:spPr>
            <a:xfrm>
              <a:off x="43434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consta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954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57320" y="2625840"/>
            <a:ext cx="4115160" cy="838080"/>
            <a:chOff x="2857320" y="2625840"/>
            <a:chExt cx="4115160" cy="838080"/>
          </a:xfrm>
        </p:grpSpPr>
        <p:sp>
          <p:nvSpPr>
            <p:cNvPr id="230" name=""/>
            <p:cNvSpPr/>
            <p:nvPr/>
          </p:nvSpPr>
          <p:spPr>
            <a:xfrm>
              <a:off x="4305240" y="26258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r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Charact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57320" y="277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1A57-2566-4A46-9034-BE255BD90F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tr cannot modify the character to which it point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.e., sPtr is a "read-only"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Characte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; *s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Ptr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sPtr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981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 characters of a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971440" y="838080"/>
            <a:ext cx="3886560" cy="1372320"/>
            <a:chOff x="2971440" y="838080"/>
            <a:chExt cx="3886560" cy="1372320"/>
          </a:xfrm>
        </p:grpSpPr>
        <p:sp>
          <p:nvSpPr>
            <p:cNvPr id="236" name=""/>
            <p:cNvSpPr/>
            <p:nvPr/>
          </p:nvSpPr>
          <p:spPr>
            <a:xfrm>
              <a:off x="4191120" y="1143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nconstant pointer to constant data; cannot modify character to whi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971440" y="8380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00400" y="1294920"/>
            <a:ext cx="3657600" cy="1266840"/>
            <a:chOff x="3200400" y="1294920"/>
            <a:chExt cx="3657600" cy="1266840"/>
          </a:xfrm>
        </p:grpSpPr>
        <p:sp>
          <p:nvSpPr>
            <p:cNvPr id="239" name=""/>
            <p:cNvSpPr/>
            <p:nvPr/>
          </p:nvSpPr>
          <p:spPr>
            <a:xfrm>
              <a:off x="41911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xt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3200400" y="1294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DAD4-E799-4FC0-987F-253F910B5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pass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C8AF-2CB1-44E4-947D-72B8A97B1C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2: fig05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data through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( &amp;y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 attempts illegal mod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Ptr cannot modify the value of the variable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which it points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x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*xPtr = 100;  // error: cannot modify a con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2578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5\Fig05_12.cpp(21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76520" y="1218960"/>
            <a:ext cx="3962160" cy="1037880"/>
            <a:chOff x="1676520" y="1218960"/>
            <a:chExt cx="3962160" cy="1037880"/>
          </a:xfrm>
        </p:grpSpPr>
        <p:sp>
          <p:nvSpPr>
            <p:cNvPr id="245" name=""/>
            <p:cNvSpPr/>
            <p:nvPr/>
          </p:nvSpPr>
          <p:spPr>
            <a:xfrm>
              <a:off x="2971800" y="16761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consta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676520" y="121896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19320" y="2590920"/>
            <a:ext cx="4419360" cy="1052640"/>
            <a:chOff x="1219320" y="2590920"/>
            <a:chExt cx="4419360" cy="1052640"/>
          </a:xfrm>
        </p:grpSpPr>
        <p:sp>
          <p:nvSpPr>
            <p:cNvPr id="248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ttempt illegal modif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219320" y="259092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3733920"/>
            <a:ext cx="4114800" cy="838080"/>
            <a:chOff x="1523880" y="3733920"/>
            <a:chExt cx="4114800" cy="838080"/>
          </a:xfrm>
        </p:grpSpPr>
        <p:sp>
          <p:nvSpPr>
            <p:cNvPr id="251" name=""/>
            <p:cNvSpPr/>
            <p:nvPr/>
          </p:nvSpPr>
          <p:spPr>
            <a:xfrm>
              <a:off x="297180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5238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123720" y="4800600"/>
            <a:ext cx="3962880" cy="590400"/>
            <a:chOff x="3123720" y="4800600"/>
            <a:chExt cx="3962880" cy="590400"/>
          </a:xfrm>
        </p:grpSpPr>
        <p:sp>
          <p:nvSpPr>
            <p:cNvPr id="254" name=""/>
            <p:cNvSpPr/>
            <p:nvPr/>
          </p:nvSpPr>
          <p:spPr>
            <a:xfrm>
              <a:off x="4419720" y="4800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produced when attempting to comp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23720" y="4952880"/>
              <a:ext cx="12956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0343-9E2D-4EBA-8029-D1361F500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array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9A70-F622-4ED2-B6ED-A8677CAB27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3: fig05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a constant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tr is a constant pointer to an integer that ca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 modified through ptr, but ptr always points to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me memory location.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 = &amp;x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llowed: *ptr is not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ptr = &amp;y;  // error: ptr is const; cannot assign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3434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5\Fig05_13.cpp(15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743200" y="1828800"/>
            <a:ext cx="4114800" cy="838080"/>
            <a:chOff x="2743200" y="1828800"/>
            <a:chExt cx="4114800" cy="838080"/>
          </a:xfrm>
        </p:grpSpPr>
        <p:sp>
          <p:nvSpPr>
            <p:cNvPr id="262" name=""/>
            <p:cNvSpPr/>
            <p:nvPr/>
          </p:nvSpPr>
          <p:spPr>
            <a:xfrm>
              <a:off x="4191120" y="182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 pointer to integ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7432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523880" y="2133720"/>
            <a:ext cx="4114800" cy="838080"/>
            <a:chOff x="1523880" y="2133720"/>
            <a:chExt cx="4114800" cy="838080"/>
          </a:xfrm>
        </p:grpSpPr>
        <p:sp>
          <p:nvSpPr>
            <p:cNvPr id="265" name=""/>
            <p:cNvSpPr/>
            <p:nvPr/>
          </p:nvSpPr>
          <p:spPr>
            <a:xfrm>
              <a:off x="2971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since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238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523880" y="2438280"/>
            <a:ext cx="4114800" cy="838080"/>
            <a:chOff x="1523880" y="2438280"/>
            <a:chExt cx="4114800" cy="838080"/>
          </a:xfrm>
        </p:grpSpPr>
        <p:sp>
          <p:nvSpPr>
            <p:cNvPr id="268" name=""/>
            <p:cNvSpPr/>
            <p:nvPr/>
          </p:nvSpPr>
          <p:spPr>
            <a:xfrm>
              <a:off x="297180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w address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523880" y="2590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743200" y="3276720"/>
            <a:ext cx="4114800" cy="1143000"/>
            <a:chOff x="2743200" y="3276720"/>
            <a:chExt cx="4114800" cy="1143000"/>
          </a:xfrm>
        </p:grpSpPr>
        <p:sp>
          <p:nvSpPr>
            <p:cNvPr id="271" name=""/>
            <p:cNvSpPr/>
            <p:nvPr/>
          </p:nvSpPr>
          <p:spPr>
            <a:xfrm>
              <a:off x="4191120" y="32767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15 generates compiler error by attempting to assign new address to constant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743200" y="34290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D643-605A-4EFB-9037-0D24A1207B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4: fig05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a 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tr is a constant pointer to a constant integer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tr always points to the same location; the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 that location cannot be modifi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 = &amp;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*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*ptr = 7;  // error: *ptr is const; cannot assign new 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ptr = &amp;y;  // error: ptr is const; cannot assign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514600" y="2438280"/>
            <a:ext cx="4114800" cy="838440"/>
            <a:chOff x="2514600" y="2438280"/>
            <a:chExt cx="4114800" cy="838440"/>
          </a:xfrm>
        </p:grpSpPr>
        <p:sp>
          <p:nvSpPr>
            <p:cNvPr id="276" name=""/>
            <p:cNvSpPr/>
            <p:nvPr/>
          </p:nvSpPr>
          <p:spPr>
            <a:xfrm>
              <a:off x="39625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 pointer to integer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51460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523880" y="3311640"/>
            <a:ext cx="4114800" cy="838080"/>
            <a:chOff x="1523880" y="3311640"/>
            <a:chExt cx="4114800" cy="838080"/>
          </a:xfrm>
        </p:grpSpPr>
        <p:sp>
          <p:nvSpPr>
            <p:cNvPr id="279" name=""/>
            <p:cNvSpPr/>
            <p:nvPr/>
          </p:nvSpPr>
          <p:spPr>
            <a:xfrm>
              <a:off x="2971800" y="3311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52388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523880" y="3581280"/>
            <a:ext cx="4114800" cy="838080"/>
            <a:chOff x="1523880" y="3581280"/>
            <a:chExt cx="4114800" cy="838080"/>
          </a:xfrm>
        </p:grpSpPr>
        <p:sp>
          <p:nvSpPr>
            <p:cNvPr id="282" name=""/>
            <p:cNvSpPr/>
            <p:nvPr/>
          </p:nvSpPr>
          <p:spPr>
            <a:xfrm>
              <a:off x="2971800" y="3581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w address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23880" y="3733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CE69-7043-42CD-A247-B11FE1771C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5\Fig05_14.cpp(19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cpphtp4_examples\ch05\Fig05_14.cpp(20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657600" y="420480"/>
            <a:ext cx="3962160" cy="1281600"/>
            <a:chOff x="3657600" y="420480"/>
            <a:chExt cx="3962160" cy="1281600"/>
          </a:xfrm>
        </p:grpSpPr>
        <p:sp>
          <p:nvSpPr>
            <p:cNvPr id="287" name=""/>
            <p:cNvSpPr/>
            <p:nvPr/>
          </p:nvSpPr>
          <p:spPr>
            <a:xfrm>
              <a:off x="4952880" y="8780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19 generates compiler error by attempting to modify constant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657600" y="42048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2680" y="825120"/>
            <a:ext cx="4114800" cy="1524960"/>
            <a:chOff x="3352680" y="825120"/>
            <a:chExt cx="4114800" cy="1524960"/>
          </a:xfrm>
        </p:grpSpPr>
        <p:sp>
          <p:nvSpPr>
            <p:cNvPr id="290" name=""/>
            <p:cNvSpPr/>
            <p:nvPr/>
          </p:nvSpPr>
          <p:spPr>
            <a:xfrm>
              <a:off x="4800600" y="1282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20 generates compiler error by attempting to assign new address to constant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352680" y="8251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4418-028B-447A-9300-54770DEFB4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Pass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array elements: sca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d by value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by reference using address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0E1E-9047-4CF8-A1C4-92269FE175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5: fig05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puts values into an array, sorts the values in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cending order, and prints the resulting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770D-D532-44AA-AA6C-D6A7AEAF26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n array of integers using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r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comparisons during each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adjacent elements if they are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k ] &gt; array[ k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wap( &amp;array[ k ], &amp;array[ k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2400480"/>
            <a:ext cx="4114800" cy="1310760"/>
            <a:chOff x="2666880" y="2400480"/>
            <a:chExt cx="4114800" cy="1310760"/>
          </a:xfrm>
        </p:grpSpPr>
        <p:sp>
          <p:nvSpPr>
            <p:cNvPr id="299" name=""/>
            <p:cNvSpPr/>
            <p:nvPr/>
          </p:nvSpPr>
          <p:spPr>
            <a:xfrm>
              <a:off x="4114800" y="24004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*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rather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rra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indicat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single-subscripted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66880" y="2552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581280" y="2400480"/>
            <a:ext cx="4114800" cy="838080"/>
            <a:chOff x="3581280" y="2400480"/>
            <a:chExt cx="4114800" cy="838080"/>
          </a:xfrm>
        </p:grpSpPr>
        <p:sp>
          <p:nvSpPr>
            <p:cNvPr id="302" name=""/>
            <p:cNvSpPr/>
            <p:nvPr/>
          </p:nvSpPr>
          <p:spPr>
            <a:xfrm>
              <a:off x="5029200" y="2400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es size of array as argument;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ns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81280" y="2552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8B79-8063-45A4-9A97-A217F329D5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values at memory locations to which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1Ptr and element2Ptr point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1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2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 = *element1Ptr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1Ptr = *element2Ptr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2Ptr = hold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wap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8954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5640" y="1447560"/>
            <a:ext cx="6020280" cy="1281600"/>
            <a:chOff x="2285640" y="1447560"/>
            <a:chExt cx="6020280" cy="1281600"/>
          </a:xfrm>
        </p:grpSpPr>
        <p:sp>
          <p:nvSpPr>
            <p:cNvPr id="308" name=""/>
            <p:cNvSpPr/>
            <p:nvPr/>
          </p:nvSpPr>
          <p:spPr>
            <a:xfrm>
              <a:off x="5638680" y="1905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guments by reference, allowing function to swap values at memory loc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419720" y="1447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285640" y="1447560"/>
              <a:ext cx="335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79FF-EF83-45EA-B07A-E2664B0738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Pass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ary operator 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1458-AB35-45EB-AAE6-1007565253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variable contains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address of variable that has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value through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4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6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8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0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57C3-968A-494A-9858-A4A770025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6: fig05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of operator when used on an arra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number of bytes in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g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number of bytes in the array is "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rray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umber of bytes returned by getSize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getSize( array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971800" y="2743200"/>
            <a:ext cx="4114800" cy="838080"/>
            <a:chOff x="2971800" y="2743200"/>
            <a:chExt cx="4114800" cy="838080"/>
          </a:xfrm>
        </p:grpSpPr>
        <p:sp>
          <p:nvSpPr>
            <p:cNvPr id="316" name=""/>
            <p:cNvSpPr/>
            <p:nvPr/>
          </p:nvSpPr>
          <p:spPr>
            <a:xfrm>
              <a:off x="4419720" y="2743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ed to an array returns total number of bytes i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971800" y="2895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209320" y="4343040"/>
            <a:ext cx="4267800" cy="1281600"/>
            <a:chOff x="2209320" y="4343040"/>
            <a:chExt cx="4267800" cy="1281600"/>
          </a:xfrm>
        </p:grpSpPr>
        <p:sp>
          <p:nvSpPr>
            <p:cNvPr id="319" name=""/>
            <p:cNvSpPr/>
            <p:nvPr/>
          </p:nvSpPr>
          <p:spPr>
            <a:xfrm>
              <a:off x="3809880" y="4800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number of bytes used to 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2209320" y="434304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641B-4698-4274-ABE8-456CDEF55A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 of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g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5238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of bytes in the array is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of bytes returned by getSize is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33360" y="1046160"/>
            <a:ext cx="4115160" cy="961560"/>
            <a:chOff x="2133360" y="1046160"/>
            <a:chExt cx="4115160" cy="961560"/>
          </a:xfrm>
        </p:grpSpPr>
        <p:sp>
          <p:nvSpPr>
            <p:cNvPr id="325" name=""/>
            <p:cNvSpPr/>
            <p:nvPr/>
          </p:nvSpPr>
          <p:spPr>
            <a:xfrm>
              <a:off x="3581280" y="1427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number of bytes of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133360" y="1046160"/>
              <a:ext cx="1447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51EF-4F97-4264-8332-8430F88CC1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7: fig05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izeof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2595-1DF9-4BED-B812-A312E3D9BB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izeof c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char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s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shor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in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l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long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floa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double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izeof ld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tsizeof(long double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izeof arra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9880" y="324000"/>
            <a:ext cx="4114800" cy="808920"/>
            <a:chOff x="3809880" y="324000"/>
            <a:chExt cx="4114800" cy="808920"/>
          </a:xfrm>
        </p:grpSpPr>
        <p:sp>
          <p:nvSpPr>
            <p:cNvPr id="332" name=""/>
            <p:cNvSpPr/>
            <p:nvPr/>
          </p:nvSpPr>
          <p:spPr>
            <a:xfrm>
              <a:off x="5257800" y="552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be used on variab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809880" y="3240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95320" y="552600"/>
            <a:ext cx="4115160" cy="885240"/>
            <a:chOff x="4495320" y="552600"/>
            <a:chExt cx="4115160" cy="885240"/>
          </a:xfrm>
        </p:grpSpPr>
        <p:sp>
          <p:nvSpPr>
            <p:cNvPr id="335" name=""/>
            <p:cNvSpPr/>
            <p:nvPr/>
          </p:nvSpPr>
          <p:spPr>
            <a:xfrm>
              <a:off x="5943240" y="857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be used on typ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4495320" y="55260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B1CE-E842-4419-9916-9E9DB637FF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c = 1    sizeof(char) =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s = 2    sizeof(short)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i = 4    sizeof(int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l = 4    sizeof(long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f = 4    sizeof(float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d = 8    sizeof(double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ld = 8   sizeof(long double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array =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 ptr = 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AD3B-70CF-46C0-979B-155F17A1CF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meaningless unless performed on pointer to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52880" y="4503600"/>
            <a:ext cx="3662280" cy="1667880"/>
            <a:chOff x="4952880" y="4503600"/>
            <a:chExt cx="3662280" cy="1667880"/>
          </a:xfrm>
        </p:grpSpPr>
        <p:sp>
          <p:nvSpPr>
            <p:cNvPr id="342" name=""/>
            <p:cNvSpPr/>
            <p:nvPr/>
          </p:nvSpPr>
          <p:spPr>
            <a:xfrm>
              <a:off x="4952880" y="5934960"/>
              <a:ext cx="1935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73400" y="563256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83920" y="574164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856120" y="5118120"/>
              <a:ext cx="551880" cy="327600"/>
              <a:chOff x="5856120" y="5118120"/>
              <a:chExt cx="551880" cy="32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5856120" y="511812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080" y="518364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408360" y="5118120"/>
              <a:ext cx="551520" cy="327600"/>
              <a:chOff x="6408360" y="5118120"/>
              <a:chExt cx="551520" cy="327600"/>
            </a:xfrm>
          </p:grpSpPr>
          <p:sp>
            <p:nvSpPr>
              <p:cNvPr id="349" name=""/>
              <p:cNvSpPr/>
              <p:nvPr/>
            </p:nvSpPr>
            <p:spPr>
              <a:xfrm>
                <a:off x="640836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6596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959880" y="5118120"/>
              <a:ext cx="551520" cy="327600"/>
              <a:chOff x="6959880" y="5118120"/>
              <a:chExt cx="551520" cy="327600"/>
            </a:xfrm>
          </p:grpSpPr>
          <p:sp>
            <p:nvSpPr>
              <p:cNvPr id="352" name=""/>
              <p:cNvSpPr/>
              <p:nvPr/>
            </p:nvSpPr>
            <p:spPr>
              <a:xfrm>
                <a:off x="695988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1748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8063640" y="5118120"/>
              <a:ext cx="551520" cy="327600"/>
              <a:chOff x="8063640" y="5118120"/>
              <a:chExt cx="551520" cy="32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06364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2124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511400" y="5118120"/>
              <a:ext cx="551880" cy="327600"/>
              <a:chOff x="7511400" y="5118120"/>
              <a:chExt cx="551880" cy="327600"/>
            </a:xfrm>
          </p:grpSpPr>
          <p:sp>
            <p:nvSpPr>
              <p:cNvPr id="358" name=""/>
              <p:cNvSpPr/>
              <p:nvPr/>
            </p:nvSpPr>
            <p:spPr>
              <a:xfrm>
                <a:off x="7511400" y="511812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69360" y="518364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85612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836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5988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1140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364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6136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1288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4400" y="469476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664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816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1240" y="450360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4680" y="526140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B7BA-C65C-4CF5-BF58-078884A0FC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can be assigned to another pointer if both of sam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same type,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34A7-21FC-4F39-A666-0F0AE0F153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quality and 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isons meaningless unless pointers point to members of sam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addresses stored i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could show that one pointer points to higher numbered element of array than other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 to determine whether pointer is 0 (does not point to any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B453-E82D-40A0-9DC6-FA401CDD86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can be treated a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( b + 3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EA15-5F81-470C-9128-F72FC376F2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0: fig05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ubscripting and pointer notations with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bPtr = b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Ptr to point to array 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b printed with: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subscrip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the array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/offset notation wher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ointer is the array nam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90760" y="3311640"/>
            <a:ext cx="3657960" cy="838080"/>
            <a:chOff x="4190760" y="3311640"/>
            <a:chExt cx="3657960" cy="838080"/>
          </a:xfrm>
        </p:grpSpPr>
        <p:sp>
          <p:nvSpPr>
            <p:cNvPr id="383" name=""/>
            <p:cNvSpPr/>
            <p:nvPr/>
          </p:nvSpPr>
          <p:spPr>
            <a:xfrm>
              <a:off x="5638680" y="331164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array subscrip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190760" y="3463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29BE-20F0-4687-81B4-4F87B5EA66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C222-0399-4117-9FD0-522E5E2D82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1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1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(b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ffset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( b + offset1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bPtr and 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subscrip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Ptr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Ptr[ j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/offse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array b using bPtr and 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2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2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(bPtr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ffset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( bPtr + offset2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19160" y="838080"/>
            <a:ext cx="4267440" cy="768240"/>
            <a:chOff x="2819160" y="838080"/>
            <a:chExt cx="4267440" cy="768240"/>
          </a:xfrm>
        </p:grpSpPr>
        <p:sp>
          <p:nvSpPr>
            <p:cNvPr id="388" name=""/>
            <p:cNvSpPr/>
            <p:nvPr/>
          </p:nvSpPr>
          <p:spPr>
            <a:xfrm>
              <a:off x="4419720" y="1025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array name and pointer/offse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819160" y="838080"/>
              <a:ext cx="16002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19360" y="2189160"/>
            <a:ext cx="3657960" cy="809280"/>
            <a:chOff x="4419360" y="2189160"/>
            <a:chExt cx="3657960" cy="809280"/>
          </a:xfrm>
        </p:grpSpPr>
        <p:sp>
          <p:nvSpPr>
            <p:cNvPr id="391" name=""/>
            <p:cNvSpPr/>
            <p:nvPr/>
          </p:nvSpPr>
          <p:spPr>
            <a:xfrm>
              <a:off x="5867280" y="241776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pointer subscrip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419360" y="218916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19520" y="3733560"/>
            <a:ext cx="4267080" cy="961920"/>
            <a:chOff x="2819520" y="3733560"/>
            <a:chExt cx="4267080" cy="961920"/>
          </a:xfrm>
        </p:grpSpPr>
        <p:sp>
          <p:nvSpPr>
            <p:cNvPr id="394" name=""/>
            <p:cNvSpPr/>
            <p:nvPr/>
          </p:nvSpPr>
          <p:spPr>
            <a:xfrm>
              <a:off x="4533840" y="4114800"/>
              <a:ext cx="2552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ointer/offse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819520" y="3733560"/>
              <a:ext cx="1714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8BDA-D5F3-4EBD-B0EB-7A3F8D12DE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b printed wit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/offset notation where the pointer is the arra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0)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1)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2)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b + 3) = 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0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1]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2]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3] =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0)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1)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2)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bPtr + 3) = 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5FC2-D380-434B-8323-34830948C6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1: fig05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ing a string using array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ointer no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4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od By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1( string1,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2( string3, string4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EDC0-9B32-487E-9271-F7A7705CDA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2 to s1 using array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s1[ i ] = s2[ i ]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 in body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p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2 to s1 using pointer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; ( *s1 = *s2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1++, s2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 in bod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p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19112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3 = Good By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352320" y="662040"/>
            <a:ext cx="4115160" cy="838080"/>
            <a:chOff x="3352320" y="662040"/>
            <a:chExt cx="4115160" cy="838080"/>
          </a:xfrm>
        </p:grpSpPr>
        <p:sp>
          <p:nvSpPr>
            <p:cNvPr id="404" name=""/>
            <p:cNvSpPr/>
            <p:nvPr/>
          </p:nvSpPr>
          <p:spPr>
            <a:xfrm>
              <a:off x="4800240" y="6620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rray subscript notation to copy string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haracter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352320" y="814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019240" y="2438280"/>
            <a:ext cx="4114800" cy="838440"/>
            <a:chOff x="2019240" y="2438280"/>
            <a:chExt cx="4114800" cy="838440"/>
          </a:xfrm>
        </p:grpSpPr>
        <p:sp>
          <p:nvSpPr>
            <p:cNvPr id="407" name=""/>
            <p:cNvSpPr/>
            <p:nvPr/>
          </p:nvSpPr>
          <p:spPr>
            <a:xfrm>
              <a:off x="346716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ointer notation to copy string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haracter array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1924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038480" y="3484080"/>
            <a:ext cx="4114800" cy="1357920"/>
            <a:chOff x="4038480" y="3484080"/>
            <a:chExt cx="4114800" cy="1357920"/>
          </a:xfrm>
        </p:grpSpPr>
        <p:sp>
          <p:nvSpPr>
            <p:cNvPr id="410" name=""/>
            <p:cNvSpPr/>
            <p:nvPr/>
          </p:nvSpPr>
          <p:spPr>
            <a:xfrm>
              <a:off x="5486400" y="40179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both pointers to point to next elements in corresponding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38480" y="348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9010-0845-4802-A6FF-1582531FEA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does not store strings, only pointers t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416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448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457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460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463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469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478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481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484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487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490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493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496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499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502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505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508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511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514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517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520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523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526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529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4992-AADC-4BE0-A527-446B117305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4343400"/>
            <a:ext cx="4459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2774880"/>
            <a:ext cx="9144000" cy="2355840"/>
            <a:chOff x="0" y="2774880"/>
            <a:chExt cx="9144000" cy="2355840"/>
          </a:xfrm>
        </p:grpSpPr>
        <p:sp>
          <p:nvSpPr>
            <p:cNvPr id="537" name=""/>
            <p:cNvSpPr/>
            <p:nvPr/>
          </p:nvSpPr>
          <p:spPr>
            <a:xfrm>
              <a:off x="47628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6280" y="3533760"/>
              <a:ext cx="12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6280" y="3780000"/>
              <a:ext cx="770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628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986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653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323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988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990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655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325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657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992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321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659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994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986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653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323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988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990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655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325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657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992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321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659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986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653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23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988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90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655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325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57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992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27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21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7659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994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60600" y="372600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994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84240" y="2774880"/>
              <a:ext cx="489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1776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5128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8444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1796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5148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846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1816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5168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84840" y="2774880"/>
              <a:ext cx="489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836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5188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8504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3357-D7EB-47F8-BFAD-BAEEFC6C06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" y="2362320"/>
            <a:ext cx="1981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suit array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face array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deck array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huffle the deck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523880" y="30481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486400" y="2347920"/>
            <a:ext cx="45720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486400" y="45720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736C-50A3-4A8A-9BAF-65EDD1E186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4: fig05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huffling dea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rand and s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uit array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r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am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u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pa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124080" y="4267080"/>
            <a:ext cx="4114800" cy="838440"/>
            <a:chOff x="3124080" y="4267080"/>
            <a:chExt cx="4114800" cy="838440"/>
          </a:xfrm>
        </p:grpSpPr>
        <p:sp>
          <p:nvSpPr>
            <p:cNvPr id="647" name=""/>
            <p:cNvSpPr/>
            <p:nvPr/>
          </p:nvSpPr>
          <p:spPr>
            <a:xfrm>
              <a:off x="45720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contains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124080" y="4419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52F4-C7BE-4681-86C3-67DA62CD1F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ace array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u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r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v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deck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uffle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, face, su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352680" y="1295280"/>
            <a:ext cx="4114800" cy="961920"/>
            <a:chOff x="3352680" y="1295280"/>
            <a:chExt cx="4114800" cy="961920"/>
          </a:xfrm>
        </p:grpSpPr>
        <p:sp>
          <p:nvSpPr>
            <p:cNvPr id="652" name=""/>
            <p:cNvSpPr/>
            <p:nvPr/>
          </p:nvSpPr>
          <p:spPr>
            <a:xfrm>
              <a:off x="4800600" y="1676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contains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352680" y="12952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902C-77BE-4B76-B0FB-D9156ABF245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cards in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each of the 52 cards, choose slot of deck random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oose new random location until unoccupied sl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w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umn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wDeck[ row ][ column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/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card number in chosen slot of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row ][ column ] = ca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uff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352680" y="2154240"/>
            <a:ext cx="4114800" cy="838080"/>
            <a:chOff x="3352680" y="2154240"/>
            <a:chExt cx="4114800" cy="838080"/>
          </a:xfrm>
        </p:grpSpPr>
        <p:sp>
          <p:nvSpPr>
            <p:cNvPr id="657" name=""/>
            <p:cNvSpPr/>
            <p:nvPr/>
          </p:nvSpPr>
          <p:spPr>
            <a:xfrm>
              <a:off x="4800600" y="21542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rrent position is at randomly selected row and colum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352680" y="230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167A-E69B-4889-9993-EAEB52C2482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memory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9480" y="4041720"/>
            <a:ext cx="7696080" cy="2359080"/>
            <a:chOff x="609480" y="4041720"/>
            <a:chExt cx="7696080" cy="2359080"/>
          </a:xfrm>
        </p:grpSpPr>
        <p:sp>
          <p:nvSpPr>
            <p:cNvPr id="117" name=""/>
            <p:cNvSpPr/>
            <p:nvPr/>
          </p:nvSpPr>
          <p:spPr>
            <a:xfrm>
              <a:off x="623880" y="5006880"/>
              <a:ext cx="5508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6480" y="4618080"/>
              <a:ext cx="5490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4802040"/>
              <a:ext cx="1446480" cy="370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4811760"/>
              <a:ext cx="577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3120" y="5138640"/>
              <a:ext cx="110880" cy="66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29000" y="442260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900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429000" y="4346640"/>
                <a:ext cx="2060280" cy="685800"/>
                <a:chOff x="3429000" y="4346640"/>
                <a:chExt cx="2060280" cy="685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740840" y="4346640"/>
                  <a:ext cx="5158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429000" y="4652640"/>
                  <a:ext cx="2060280" cy="379800"/>
                  <a:chOff x="3429000" y="4652640"/>
                  <a:chExt cx="2060280" cy="3798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429000" y="4715640"/>
                    <a:ext cx="75348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4182480" y="4652640"/>
                    <a:ext cx="1306800" cy="379800"/>
                    <a:chOff x="4182480" y="4652640"/>
                    <a:chExt cx="1306800" cy="3798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45860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8248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"/>
            <p:cNvSpPr/>
            <p:nvPr/>
          </p:nvSpPr>
          <p:spPr>
            <a:xfrm>
              <a:off x="3200400" y="4041720"/>
              <a:ext cx="0" cy="23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556560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324480" y="495576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4952880" y="487944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6188-3D1A-44B1-9961-A6D90EAE2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al cards in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Face[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Suit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each of the 52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rows of w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w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w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columns of wDeck for current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lot contains current card, display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Deck[ row ][ column ] == ca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wFace[ colum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left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wSuit[ row ]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( card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200400" y="2646360"/>
            <a:ext cx="4876920" cy="838080"/>
            <a:chOff x="3200400" y="2646360"/>
            <a:chExt cx="4876920" cy="838080"/>
          </a:xfrm>
        </p:grpSpPr>
        <p:sp>
          <p:nvSpPr>
            <p:cNvPr id="662" name=""/>
            <p:cNvSpPr/>
            <p:nvPr/>
          </p:nvSpPr>
          <p:spPr>
            <a:xfrm>
              <a:off x="5410080" y="264636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use face to be output right justified in field of 5 charac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962160" y="2819520"/>
              <a:ext cx="144756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200400" y="2819520"/>
              <a:ext cx="220968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114800" y="2819520"/>
            <a:ext cx="4114800" cy="838080"/>
            <a:chOff x="4114800" y="2819520"/>
            <a:chExt cx="4114800" cy="838080"/>
          </a:xfrm>
        </p:grpSpPr>
        <p:sp>
          <p:nvSpPr>
            <p:cNvPr id="666" name=""/>
            <p:cNvSpPr/>
            <p:nvPr/>
          </p:nvSpPr>
          <p:spPr>
            <a:xfrm>
              <a:off x="55627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use suit to be output left justified in field of 8 charac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1148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876560" y="29718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81C5-2762-45F5-8B3E-9D0459F2F9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Spades         Seven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Eight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Diamonds       Thre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Spades          Fiv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Thre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 Six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Clubs           Nin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Spades         Deuc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Hearts         Deuc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Deuc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Sev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Spades         Eight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 King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 Ac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 Four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Eight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Hearts           T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King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Hearts          King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Spades          Four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 Six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 Jack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Clubs          Thre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 Fiv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Hearts           Ace of Diamo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7882-2964-4003-984F-CEBEDC83999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address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rray name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36E7-EE60-49CE-8350-0DCC241C36C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functions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parame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 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function with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compare ) ( int1, int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eference pointer to function to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( int1, int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conf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may thin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of actual function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8CCB-AE45-499E-AEB3-701244D0558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5: fig05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urpose sorting program using function point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*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038480" y="2209680"/>
            <a:ext cx="4114800" cy="1067400"/>
            <a:chOff x="4038480" y="2209680"/>
            <a:chExt cx="4114800" cy="1067400"/>
          </a:xfrm>
        </p:grpSpPr>
        <p:sp>
          <p:nvSpPr>
            <p:cNvPr id="678" name=""/>
            <p:cNvSpPr/>
            <p:nvPr/>
          </p:nvSpPr>
          <p:spPr>
            <a:xfrm>
              <a:off x="5486400" y="2209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pointer to function that receives two integer parameters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038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46A5-24ED-4E52-9FFB-F6F39357E1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 to sort in ascending order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2 to sort in descending ord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count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in ascending order; pass function ascend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n argument to specify ascending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bble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scend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in descending order; pass function desc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n agrument to specify descending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bble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end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de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3259-A19D-44C5-957C-041D481DA5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count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urpose bubble sort; parameter compare is a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omparison function that determines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b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[], con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*compare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o control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adjacent elements are out of order, swap th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*compare)( work[ count ], work[ 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wap( &amp;work[ count ], &amp;work[ 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95480" y="2209680"/>
            <a:ext cx="4114800" cy="1067400"/>
            <a:chOff x="2895480" y="2209680"/>
            <a:chExt cx="4114800" cy="1067400"/>
          </a:xfrm>
        </p:grpSpPr>
        <p:sp>
          <p:nvSpPr>
            <p:cNvPr id="685" name=""/>
            <p:cNvSpPr/>
            <p:nvPr/>
          </p:nvSpPr>
          <p:spPr>
            <a:xfrm>
              <a:off x="4343400" y="2209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pointer to function that receives two integer parameters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895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666520" y="3200040"/>
            <a:ext cx="4343760" cy="828720"/>
            <a:chOff x="2666520" y="3200040"/>
            <a:chExt cx="4343760" cy="828720"/>
          </a:xfrm>
        </p:grpSpPr>
        <p:sp>
          <p:nvSpPr>
            <p:cNvPr id="688" name=""/>
            <p:cNvSpPr/>
            <p:nvPr/>
          </p:nvSpPr>
          <p:spPr>
            <a:xfrm>
              <a:off x="4343400" y="344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necessary to indicate pointer to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666520" y="3200040"/>
              <a:ext cx="1676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286000" y="4170240"/>
            <a:ext cx="4114800" cy="838440"/>
            <a:chOff x="2286000" y="4170240"/>
            <a:chExt cx="4114800" cy="838440"/>
          </a:xfrm>
        </p:grpSpPr>
        <p:sp>
          <p:nvSpPr>
            <p:cNvPr id="691" name=""/>
            <p:cNvSpPr/>
            <p:nvPr/>
          </p:nvSpPr>
          <p:spPr>
            <a:xfrm>
              <a:off x="3733920" y="41702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passe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dereference pointer to execu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286000" y="4322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B519-B4E2-46B6-9877-FDB0AB01B22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values at memory locations to whi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1Ptr and element2Pt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nst element1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nst element2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 = *element1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1Ptr = *element2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2Ptr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w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elements are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n ascending order sort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lt; a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if b is less tha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scending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41BC-523C-433A-9AEE-AC26C50800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elements are out of ord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descending order sort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a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if b is greater tha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scending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17524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58128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FCA9-AB46-42AA-A2BA-E904A78103C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-driven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to each function stored in array of pointers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unctions must have same return type and same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 choic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bscript into array of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63EC-4264-4724-97F9-DAF4C7BE428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ynonym for object its pointer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is l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9;      // assigns 9 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99EA-02E4-4703-856F-DB5B29C81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6: fig05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n array of pointer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of 3 pointers to functions that each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 an int argument and return void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*f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{ function1, function2, function3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, 3 to e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857320" y="3048120"/>
            <a:ext cx="4115160" cy="838080"/>
            <a:chOff x="2857320" y="3048120"/>
            <a:chExt cx="4115160" cy="838080"/>
          </a:xfrm>
        </p:grpSpPr>
        <p:sp>
          <p:nvSpPr>
            <p:cNvPr id="704" name=""/>
            <p:cNvSpPr/>
            <p:nvPr/>
          </p:nvSpPr>
          <p:spPr>
            <a:xfrm>
              <a:off x="430524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initialized with names of three functions; function names are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85732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0B4F-F9B2-40B5-BFD7-1A2C1566891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user's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choi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function at location choice in array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ass choice as an argument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*f[ choice ])( choice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, 3 to e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execution comple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1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437920" y="1558440"/>
            <a:ext cx="3886560" cy="1281600"/>
            <a:chOff x="2437920" y="1558440"/>
            <a:chExt cx="3886560" cy="1281600"/>
          </a:xfrm>
        </p:grpSpPr>
        <p:sp>
          <p:nvSpPr>
            <p:cNvPr id="709" name=""/>
            <p:cNvSpPr/>
            <p:nvPr/>
          </p:nvSpPr>
          <p:spPr>
            <a:xfrm>
              <a:off x="3657600" y="2016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chosen function by dereferencing corresponding element i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437920" y="15584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05BE-34A1-4222-946F-9FCFC7E73D3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2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3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0481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0 so function1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1 so function2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2 so function3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execution completed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D583-66FE-414E-8F4A-A4C42E3EEFF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represented as character in 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singl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is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string’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83C1-BAE8-4135-ABE6-936C318BC57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let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where 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ternative for characte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{ ‘b’, ‘l’, ‘u’, ‘e’, ‘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E83B-083E-45B2-A96F-4A88BA84AFA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6C49-0C22-4D31-AAAB-B781FAA31D8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( array, size, delimit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m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6505-DC57-4608-927C-CEFD9F1DEDC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 for characters and other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ize strings (separate strings into logical pie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F3C6-A85A-4EA3-A8FC-EA657F75986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726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8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7080-DA25-491D-91A0-A1032E958F1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5281-76F1-489C-B629-A654DB5A774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5.4: fig05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sing the &amp; and *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 is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Ptr is a pointer to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Ptr = &amp;a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Ptr assigned address of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The address of 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&amp;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The value of aPt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a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\nThe value of 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The value of *aPt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*a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\n\nShowing that * and &amp; are inverses o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each other.\n&amp;*a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&amp;*a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\n*&amp;aPtr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 *&amp;a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505320" y="4267080"/>
            <a:ext cx="4572000" cy="990720"/>
            <a:chOff x="3505320" y="4267080"/>
            <a:chExt cx="4572000" cy="990720"/>
          </a:xfrm>
        </p:grpSpPr>
        <p:sp>
          <p:nvSpPr>
            <p:cNvPr id="148" name=""/>
            <p:cNvSpPr/>
            <p:nvPr/>
          </p:nvSpPr>
          <p:spPr>
            <a:xfrm>
              <a:off x="6095880" y="42670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inverses of each other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647960" y="4419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05320" y="4419720"/>
              <a:ext cx="2590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8A93-C7FA-42B3-874B-04F43A4DA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cpy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second argument in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must be large enough to store string and terminating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ncpy(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number of characters to be copied from string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necessarily copy terminating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36A6-0E43-4927-AE6A-6A20682D7E5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8: fig05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py and strnc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py and strnc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Birthday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y, x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tents of x into 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x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in array y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irst 14 characters of x into z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z, x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es not copy nul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z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'\0' to z's cont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z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z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736" name=""/>
            <p:cNvSpPr/>
            <p:nvPr/>
          </p:nvSpPr>
          <p:spPr>
            <a:xfrm>
              <a:off x="3581280" y="914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133360" y="2646360"/>
            <a:ext cx="4115160" cy="838080"/>
            <a:chOff x="2133360" y="2646360"/>
            <a:chExt cx="4115160" cy="838080"/>
          </a:xfrm>
        </p:grpSpPr>
        <p:sp>
          <p:nvSpPr>
            <p:cNvPr id="739" name=""/>
            <p:cNvSpPr/>
            <p:nvPr/>
          </p:nvSpPr>
          <p:spPr>
            <a:xfrm>
              <a:off x="3581280" y="26463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entire string in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o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133360" y="27986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666880" y="3962520"/>
            <a:ext cx="4114800" cy="1067400"/>
            <a:chOff x="2666880" y="3962520"/>
            <a:chExt cx="4114800" cy="1067400"/>
          </a:xfrm>
        </p:grpSpPr>
        <p:sp>
          <p:nvSpPr>
            <p:cNvPr id="742" name=""/>
            <p:cNvSpPr/>
            <p:nvPr/>
          </p:nvSpPr>
          <p:spPr>
            <a:xfrm>
              <a:off x="4114800" y="3962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first 14 characters of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o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this does not write terminating null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6668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209680" y="4267080"/>
            <a:ext cx="4114800" cy="838080"/>
            <a:chOff x="2209680" y="4267080"/>
            <a:chExt cx="4114800" cy="838080"/>
          </a:xfrm>
        </p:grpSpPr>
        <p:sp>
          <p:nvSpPr>
            <p:cNvPr id="745" name=""/>
            <p:cNvSpPr/>
            <p:nvPr/>
          </p:nvSpPr>
          <p:spPr>
            <a:xfrm>
              <a:off x="36576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terminating null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209680" y="44193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DA09-89B4-428E-AA02-7C9C5DBD5BA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06668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y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string in array z is: Happy Birth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495680" y="492120"/>
            <a:ext cx="4114800" cy="838080"/>
            <a:chOff x="4495680" y="492120"/>
            <a:chExt cx="4114800" cy="838080"/>
          </a:xfrm>
        </p:grpSpPr>
        <p:sp>
          <p:nvSpPr>
            <p:cNvPr id="751" name=""/>
            <p:cNvSpPr/>
            <p:nvPr/>
          </p:nvSpPr>
          <p:spPr>
            <a:xfrm>
              <a:off x="5943600" y="492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to cop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49568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495680" y="720720"/>
            <a:ext cx="4114800" cy="838080"/>
            <a:chOff x="4495680" y="720720"/>
            <a:chExt cx="4114800" cy="838080"/>
          </a:xfrm>
        </p:grpSpPr>
        <p:sp>
          <p:nvSpPr>
            <p:cNvPr id="754" name=""/>
            <p:cNvSpPr/>
            <p:nvPr/>
          </p:nvSpPr>
          <p:spPr>
            <a:xfrm>
              <a:off x="5943600" y="720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 string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495680" y="87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885840" y="914400"/>
            <a:ext cx="4724640" cy="838080"/>
            <a:chOff x="3885840" y="914400"/>
            <a:chExt cx="4724640" cy="838080"/>
          </a:xfrm>
        </p:grpSpPr>
        <p:sp>
          <p:nvSpPr>
            <p:cNvPr id="757" name=""/>
            <p:cNvSpPr/>
            <p:nvPr/>
          </p:nvSpPr>
          <p:spPr>
            <a:xfrm>
              <a:off x="59436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 first 14 charact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885840" y="106668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4234-E97F-4694-8039-F8EEC7602A0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cat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second argument 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racter of second argument replaces null character terminating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first argument large enough to store concatenated result and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ncat(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specified number of characters from second argument 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terminating null charac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7F24-DD4F-4E14-BAC6-34B9B63A0E7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9: fig05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at and strnca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at and strn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Yea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at( s1, s2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s2 to 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cat(s1, s2):\n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first 6 characters of s1 to s3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at( s3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s '\0' after las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764" name=""/>
            <p:cNvSpPr/>
            <p:nvPr/>
          </p:nvSpPr>
          <p:spPr>
            <a:xfrm>
              <a:off x="3581280" y="914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767" name=""/>
            <p:cNvSpPr/>
            <p:nvPr/>
          </p:nvSpPr>
          <p:spPr>
            <a:xfrm>
              <a:off x="3200400" y="3048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209680" y="4419720"/>
            <a:ext cx="4114800" cy="838080"/>
            <a:chOff x="2209680" y="4419720"/>
            <a:chExt cx="4114800" cy="838080"/>
          </a:xfrm>
        </p:grpSpPr>
        <p:sp>
          <p:nvSpPr>
            <p:cNvPr id="770" name=""/>
            <p:cNvSpPr/>
            <p:nvPr/>
          </p:nvSpPr>
          <p:spPr>
            <a:xfrm>
              <a:off x="36576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first 6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2096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955E-7F2A-49C5-9950-1817F051A13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ncat(s3, s1, 6):\n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at( s3, 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s1 to s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cat(s3, s1):\n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2438280"/>
            <a:ext cx="701028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cat(s1, s2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ncat(s3, s1, 6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cat(s3, s1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752480" y="228600"/>
            <a:ext cx="4114800" cy="609480"/>
            <a:chOff x="1752480" y="228600"/>
            <a:chExt cx="4114800" cy="609480"/>
          </a:xfrm>
        </p:grpSpPr>
        <p:sp>
          <p:nvSpPr>
            <p:cNvPr id="776" name=""/>
            <p:cNvSpPr/>
            <p:nvPr/>
          </p:nvSpPr>
          <p:spPr>
            <a:xfrm>
              <a:off x="3200400" y="2286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752480" y="380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4079-ED88-443A-B551-24B384FDD0C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represented as numeric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compared using numeric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codes / character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tandard Code for Information Interch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 Binary Coded Decimal Interchange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91E9-7E23-4F96-8528-0C7E0541BE5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trcmp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character by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if strings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 value if first string less than second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value if first string greater than second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trncmp( const char *s1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char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up to specified number of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comparing if reaches null character in one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6D3E-E1EB-4B4D-9080-1315A2EA61A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0: fig05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mp and strncm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mp and strncm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New Ye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New Ye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Holiday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cmp(s1, s2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cmp( s1, s2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cmp(s1, s3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cmp( s1, s3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cmp(s3, s1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cmp( s3, 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828440" y="1749600"/>
            <a:ext cx="4115160" cy="838080"/>
            <a:chOff x="1828440" y="1749600"/>
            <a:chExt cx="4115160" cy="838080"/>
          </a:xfrm>
        </p:grpSpPr>
        <p:sp>
          <p:nvSpPr>
            <p:cNvPr id="785" name=""/>
            <p:cNvSpPr/>
            <p:nvPr/>
          </p:nvSpPr>
          <p:spPr>
            <a:xfrm>
              <a:off x="3276360" y="1749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m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m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828440" y="1901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190760" y="4038480"/>
            <a:ext cx="4115160" cy="838440"/>
            <a:chOff x="4190760" y="4038480"/>
            <a:chExt cx="4115160" cy="838440"/>
          </a:xfrm>
        </p:grpSpPr>
        <p:sp>
          <p:nvSpPr>
            <p:cNvPr id="788" name=""/>
            <p:cNvSpPr/>
            <p:nvPr/>
          </p:nvSpPr>
          <p:spPr>
            <a:xfrm>
              <a:off x="5638680" y="40384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90760" y="4191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971800" y="4384800"/>
            <a:ext cx="4114800" cy="838080"/>
            <a:chOff x="2971800" y="4384800"/>
            <a:chExt cx="4114800" cy="838080"/>
          </a:xfrm>
        </p:grpSpPr>
        <p:sp>
          <p:nvSpPr>
            <p:cNvPr id="791" name=""/>
            <p:cNvSpPr/>
            <p:nvPr/>
          </p:nvSpPr>
          <p:spPr>
            <a:xfrm>
              <a:off x="4419720" y="4384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1800" y="45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190760" y="4730760"/>
            <a:ext cx="4115160" cy="837720"/>
            <a:chOff x="4190760" y="4730760"/>
            <a:chExt cx="4115160" cy="837720"/>
          </a:xfrm>
        </p:grpSpPr>
        <p:sp>
          <p:nvSpPr>
            <p:cNvPr id="794" name=""/>
            <p:cNvSpPr/>
            <p:nvPr/>
          </p:nvSpPr>
          <p:spPr>
            <a:xfrm>
              <a:off x="5638680" y="473076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190760" y="488304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27B7-590A-4537-A8BF-1015B798B4D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ncmp(s1, s3, 6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ncmp( s1, s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ncmp(s1, s3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ncmp( s1, s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ncmp(s3, s1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ncmp( s3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24382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1, s2)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1, s3) =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3, s1)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1, s3, 6)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1, s3, 7) =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3, s1, 7)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971440" y="76320"/>
            <a:ext cx="3810240" cy="609480"/>
            <a:chOff x="2971440" y="76320"/>
            <a:chExt cx="3810240" cy="609480"/>
          </a:xfrm>
        </p:grpSpPr>
        <p:sp>
          <p:nvSpPr>
            <p:cNvPr id="800" name=""/>
            <p:cNvSpPr/>
            <p:nvPr/>
          </p:nvSpPr>
          <p:spPr>
            <a:xfrm>
              <a:off x="41148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6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971440" y="228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123720" y="228600"/>
            <a:ext cx="3810240" cy="609480"/>
            <a:chOff x="3123720" y="228600"/>
            <a:chExt cx="3810240" cy="609480"/>
          </a:xfrm>
        </p:grpSpPr>
        <p:sp>
          <p:nvSpPr>
            <p:cNvPr id="803" name=""/>
            <p:cNvSpPr/>
            <p:nvPr/>
          </p:nvSpPr>
          <p:spPr>
            <a:xfrm>
              <a:off x="426708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7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123720" y="3808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657240" y="685800"/>
            <a:ext cx="3810240" cy="609480"/>
            <a:chOff x="3657240" y="685800"/>
            <a:chExt cx="3810240" cy="609480"/>
          </a:xfrm>
        </p:grpSpPr>
        <p:sp>
          <p:nvSpPr>
            <p:cNvPr id="806" name=""/>
            <p:cNvSpPr/>
            <p:nvPr/>
          </p:nvSpPr>
          <p:spPr>
            <a:xfrm>
              <a:off x="480060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7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657240" y="8380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68F3-39E4-430A-A60A-D227E084A37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440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amp;aPtr = 0012FED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120" y="2666520"/>
            <a:ext cx="3886560" cy="977040"/>
            <a:chOff x="1752120" y="2666520"/>
            <a:chExt cx="3886560" cy="977040"/>
          </a:xfrm>
        </p:grpSpPr>
        <p:sp>
          <p:nvSpPr>
            <p:cNvPr id="15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inverses; same result when both appli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752120" y="2666520"/>
              <a:ext cx="121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75212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63F8-17C0-4C44-98E4-E04B0B016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ing strings into tokens, separated by delimiting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usually logical units, such as words (separated by spa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tok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call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all contains two arguments, string to be tokenized and string containing delimiting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next delimiting character and replaces with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alls continue toke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with first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2CD7-8254-4F91-8E97-ADF122E8C2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1: fig05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strt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tenc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sentence with 7 toke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oken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to be tokenized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tokens are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 tokenization of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kenPtr = strtok( senten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813" name=""/>
            <p:cNvSpPr/>
            <p:nvPr/>
          </p:nvSpPr>
          <p:spPr>
            <a:xfrm>
              <a:off x="3581280" y="914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133360" y="3311640"/>
            <a:ext cx="4115160" cy="838080"/>
            <a:chOff x="2133360" y="3311640"/>
            <a:chExt cx="4115160" cy="838080"/>
          </a:xfrm>
        </p:grpSpPr>
        <p:sp>
          <p:nvSpPr>
            <p:cNvPr id="816" name=""/>
            <p:cNvSpPr/>
            <p:nvPr/>
          </p:nvSpPr>
          <p:spPr>
            <a:xfrm>
              <a:off x="3581280" y="33116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tokeniz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33360" y="3463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40E0-4BDE-46FB-BC36-2C5E2A8BCF6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inue tokenizing sentence until tokenPtr become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ken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token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kenPtr = strto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next tok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trtok, sente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ntenc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857320" y="1066680"/>
            <a:ext cx="4115160" cy="1281240"/>
            <a:chOff x="2857320" y="1066680"/>
            <a:chExt cx="4115160" cy="1281240"/>
          </a:xfrm>
        </p:grpSpPr>
        <p:sp>
          <p:nvSpPr>
            <p:cNvPr id="821" name=""/>
            <p:cNvSpPr/>
            <p:nvPr/>
          </p:nvSpPr>
          <p:spPr>
            <a:xfrm>
              <a:off x="4305240" y="1523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quent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first argument to indicate continu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2857320" y="10666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B96A-7126-4D08-B3A1-A62F1AAEC33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to be tokenized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sentence with 7 tok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okens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tok, sentence =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0E0A-0739-4057-B348-3C21203D207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string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_t strlen( const char *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ing null character not included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B0B5-67A7-47B4-8F8F-CC2E25CDD48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2: fig05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l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strl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ghijklmnopqrstuvw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s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length of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len( string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length of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len( string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length of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len( string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830" name=""/>
            <p:cNvSpPr/>
            <p:nvPr/>
          </p:nvSpPr>
          <p:spPr>
            <a:xfrm>
              <a:off x="3581280" y="914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l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038480" y="3809880"/>
            <a:ext cx="4114800" cy="838440"/>
            <a:chOff x="4038480" y="3809880"/>
            <a:chExt cx="4114800" cy="838440"/>
          </a:xfrm>
        </p:grpSpPr>
        <p:sp>
          <p:nvSpPr>
            <p:cNvPr id="833" name=""/>
            <p:cNvSpPr/>
            <p:nvPr/>
          </p:nvSpPr>
          <p:spPr>
            <a:xfrm>
              <a:off x="5486400" y="3809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l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termine length of str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38480" y="3962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266720" y="39625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4266720" y="38098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DE47-E7A2-4CAC-AFBB-00BBD615CC4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"abcdefghijklmnopqrstuvwxyz" is 2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"four"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ength of "Boston" is 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E467-2852-458E-B7C5-7BD9D516452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ways to pass arguments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with referenc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with pointer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turn one value from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passed to function using referenc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y original values of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than one value “returned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91CF-461E-415F-BE4A-FD3528DAD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3:16:45Z</dcterms:created>
  <dc:creator>Audrey Lee</dc:creator>
  <dc:description/>
  <dc:language>en-US</dc:language>
  <cp:lastModifiedBy>Pearson Education</cp:lastModifiedBy>
  <dcterms:modified xsi:type="dcterms:W3CDTF">2002-08-01T20:32:44Z</dcterms:modified>
  <cp:revision>161</cp:revision>
  <dc:subject/>
  <dc:title>Chapter 5 - Pointers and Strings</dc:title>
</cp:coreProperties>
</file>