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B807C-A8A9-4E6F-A0CE-F5BA369426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C5DC4-A1D9-4BAC-AF8C-2BC46958EE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A61A4-391E-4429-BE1E-C01C4F7B09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09FCE-3B29-40F3-A012-FBBC0EEC8F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23F9E-3C0D-45EB-9D47-9FCF5DD590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A8EDF-6D16-4729-AC1A-6E6AFB2328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B733F-6E35-4399-ADC6-366006703B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CEE7D-968A-487E-88B7-8543E7E430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3B107-99B3-4F09-BE86-14FFC5A6FA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F8D45-EB61-4AF0-96F2-ACC54CDF76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CA36D-12EE-41DC-8DE2-E9AF7FE5E5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C1008-4919-4033-9F52-DA435F55E6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D3263-C76A-4649-B971-DD5E123C6A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181B9-5683-4EEA-ACE6-7B832345C0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23B94-850E-4ABA-82CB-CCA5470647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35F55-E9C6-430E-BF81-B8CD38ED3D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097B0-DC60-4EAC-A0AD-17929A275F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A91BD-D642-41EE-AFB6-CDA2D4E0E3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6F0E8-1063-4F54-AF3A-590FC09766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A516A-C303-4117-AEDD-2BC7CCD22A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250A6-DB11-4489-A70C-B716E97CD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3D13A-7887-4949-A453-FD1A012B79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8883E-5FF1-4CBF-A6E0-CA84B4F79F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0C48F-9239-4E1E-8B30-A1C24840D6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D91A-066A-44C7-8840-481EF1DB2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C9ED-BB35-454A-8112-F5A3AFFB6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6: Classes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a Abstraction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212840"/>
            <a:ext cx="77724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tructure Definiti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Accessing Structure Memb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mplementing a User-Defined Typ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with a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ruc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mplementing a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Abstract Data Type with a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las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lass Scope and Accessing Class Memb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eparating Interface from 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ontrolling Access to Memb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Access Functions and Utility Functi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10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itializing Class Objects: Constructo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1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Using Default Arguments with Constructo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1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Destructo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1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When Constructors and Destructors Are Called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1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Using </a:t>
            </a:r>
            <a:r>
              <a:rPr b="1" i="1" lang="en-US" sz="1800" spc="-1" strike="noStrike">
                <a:solidFill>
                  <a:srgbClr val="ff0000"/>
                </a:solidFill>
                <a:latin typeface="AvantGarde"/>
              </a:rPr>
              <a:t>Se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i="1" lang="en-US" sz="1800" spc="-1" strike="noStrike">
                <a:solidFill>
                  <a:srgbClr val="ff0000"/>
                </a:solidFill>
                <a:latin typeface="AvantGarde"/>
              </a:rPr>
              <a:t>Ge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Functi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1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ubtle Trap: Returning a Reference to a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Data Member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1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Default Memberwise Assignmen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1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oftware Reus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E02F3-580B-481A-9F9C-E1AEBC4EAE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 Implementing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im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bstract Data Type with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el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ibutes (data member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haviors (member func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d using keywor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in response to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access spec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ible wherever object of class in 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ible only to member functions of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514600" y="3505320"/>
            <a:ext cx="2209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4191120"/>
            <a:ext cx="2133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514240" y="3505320"/>
            <a:ext cx="2133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514240" y="3505320"/>
            <a:ext cx="2057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7782E-32D8-438B-A2D2-32766392F0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 Implementing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im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bstract Data Type with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al member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es data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name as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led when object instanti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ral construc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overlo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return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2AB3D-37FD-416D-8518-435DA6EB5F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defini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352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();     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, minute, 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Universal()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rint universal-time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Standard(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standard-time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23 (24-hour clock forma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ut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0 - 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066320" y="761760"/>
            <a:ext cx="4343760" cy="1219320"/>
            <a:chOff x="1066320" y="761760"/>
            <a:chExt cx="4343760" cy="1219320"/>
          </a:xfrm>
        </p:grpSpPr>
        <p:sp>
          <p:nvSpPr>
            <p:cNvPr id="148" name=""/>
            <p:cNvSpPr/>
            <p:nvPr/>
          </p:nvSpPr>
          <p:spPr>
            <a:xfrm>
              <a:off x="2743200" y="114300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 access specifi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295280" y="1295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1066320" y="761760"/>
              <a:ext cx="1676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85800" y="360360"/>
            <a:ext cx="4114800" cy="885600"/>
            <a:chOff x="685800" y="360360"/>
            <a:chExt cx="4114800" cy="885600"/>
          </a:xfrm>
        </p:grpSpPr>
        <p:sp>
          <p:nvSpPr>
            <p:cNvPr id="152" name=""/>
            <p:cNvSpPr/>
            <p:nvPr/>
          </p:nvSpPr>
          <p:spPr>
            <a:xfrm>
              <a:off x="2133720" y="665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tion of class begins with keywor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la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685800" y="36036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676160" y="304560"/>
            <a:ext cx="4115160" cy="1038240"/>
            <a:chOff x="1676160" y="304560"/>
            <a:chExt cx="4115160" cy="1038240"/>
          </a:xfrm>
        </p:grpSpPr>
        <p:sp>
          <p:nvSpPr>
            <p:cNvPr id="155" name=""/>
            <p:cNvSpPr/>
            <p:nvPr/>
          </p:nvSpPr>
          <p:spPr>
            <a:xfrm>
              <a:off x="3124080" y="7621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ass body starts with left bra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1676160" y="304560"/>
              <a:ext cx="14475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33160" y="2209680"/>
            <a:ext cx="4115160" cy="838440"/>
            <a:chOff x="533160" y="2209680"/>
            <a:chExt cx="4115160" cy="838440"/>
          </a:xfrm>
        </p:grpSpPr>
        <p:sp>
          <p:nvSpPr>
            <p:cNvPr id="158" name=""/>
            <p:cNvSpPr/>
            <p:nvPr/>
          </p:nvSpPr>
          <p:spPr>
            <a:xfrm>
              <a:off x="1981080" y="22096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ass body ends with right bra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533160" y="23623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85800" y="2286000"/>
            <a:ext cx="4114800" cy="838080"/>
            <a:chOff x="685800" y="2286000"/>
            <a:chExt cx="4114800" cy="838080"/>
          </a:xfrm>
        </p:grpSpPr>
        <p:sp>
          <p:nvSpPr>
            <p:cNvPr id="161" name=""/>
            <p:cNvSpPr/>
            <p:nvPr/>
          </p:nvSpPr>
          <p:spPr>
            <a:xfrm>
              <a:off x="2133720" y="22860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tion terminates with semicol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85800" y="2438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009960" y="514440"/>
            <a:ext cx="4114800" cy="838080"/>
            <a:chOff x="3009960" y="514440"/>
            <a:chExt cx="4114800" cy="838080"/>
          </a:xfrm>
        </p:grpSpPr>
        <p:sp>
          <p:nvSpPr>
            <p:cNvPr id="164" name=""/>
            <p:cNvSpPr/>
            <p:nvPr/>
          </p:nvSpPr>
          <p:spPr>
            <a:xfrm>
              <a:off x="4457880" y="51444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prototype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009960" y="666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981080" y="1600200"/>
            <a:ext cx="4114800" cy="838080"/>
            <a:chOff x="1981080" y="1600200"/>
            <a:chExt cx="4114800" cy="838080"/>
          </a:xfrm>
        </p:grpSpPr>
        <p:sp>
          <p:nvSpPr>
            <p:cNvPr id="167" name=""/>
            <p:cNvSpPr/>
            <p:nvPr/>
          </p:nvSpPr>
          <p:spPr>
            <a:xfrm>
              <a:off x="3429000" y="16002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s accessible only to member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981080" y="17524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523880" y="931680"/>
            <a:ext cx="4114800" cy="1205280"/>
            <a:chOff x="1523880" y="931680"/>
            <a:chExt cx="4114800" cy="1205280"/>
          </a:xfrm>
        </p:grpSpPr>
        <p:sp>
          <p:nvSpPr>
            <p:cNvPr id="170" name=""/>
            <p:cNvSpPr/>
            <p:nvPr/>
          </p:nvSpPr>
          <p:spPr>
            <a:xfrm>
              <a:off x="2971800" y="13129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has same name as class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and no return 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1523880" y="931680"/>
              <a:ext cx="14479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1E927-185B-4341-897C-20A1B8B9C3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 Implementing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im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bstract Data Type with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of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fter class defin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name new type spec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++ extensible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, array, pointer and reference decla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3813120"/>
            <a:ext cx="7620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 sunset;                  // object of type Tim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 arrayOfTimes[ 5 ];       // array of Time object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 *pointerToTime;          // pointer to a Time objec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 &amp;dinnerTime = sunset;    // reference to a Time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523880" y="3235320"/>
            <a:ext cx="3810240" cy="595440"/>
            <a:chOff x="1523880" y="3235320"/>
            <a:chExt cx="3810240" cy="595440"/>
          </a:xfrm>
        </p:grpSpPr>
        <p:sp>
          <p:nvSpPr>
            <p:cNvPr id="176" name=""/>
            <p:cNvSpPr/>
            <p:nvPr/>
          </p:nvSpPr>
          <p:spPr>
            <a:xfrm>
              <a:off x="2971800" y="3235320"/>
              <a:ext cx="2362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ass name becomes new type specifi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1523880" y="3429000"/>
              <a:ext cx="1447920" cy="40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F9F9B-B065-4531-9981-9723C8C63F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 Implementing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im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bstract Data Type with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 functions defined outsid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scope resolution operato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es” member name to class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quely identify functions of particular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classes can have member functions with same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 for defining member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ReturnType ClassName::MemberFunctionName( 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change whether 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 functions defined insid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need scope resolution operator, class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attemp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side class, inline explicitly with keywor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B9C4A-55B9-4BBF-8127-87FD72C579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3: fig06_0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ime clas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fil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ime abstract data type (ADT) definition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{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();     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onstructor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, minute, second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Universal()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rint universal-time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Standard(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standard-time form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04960" y="2362320"/>
            <a:ext cx="3276720" cy="838080"/>
            <a:chOff x="3504960" y="2362320"/>
            <a:chExt cx="3276720" cy="838080"/>
          </a:xfrm>
        </p:grpSpPr>
        <p:sp>
          <p:nvSpPr>
            <p:cNvPr id="183" name=""/>
            <p:cNvSpPr/>
            <p:nvPr/>
          </p:nvSpPr>
          <p:spPr>
            <a:xfrm>
              <a:off x="4952880" y="2362320"/>
              <a:ext cx="1828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3504960" y="25146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56309-6A93-4322-B615-E1834F9AC5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23 (24-hour clock format)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ute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59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59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lass Time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ime constructor initializes each data member to zero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sures all Time objects start in a consistent state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::Time()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our = minute = secon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ime constructor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Time value using universal time, perform validi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ecks on the data values and set invalid values to zero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set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 )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our = ( h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h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h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inute = ( m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m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m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cond = ( s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s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s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Time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971800" y="1752480"/>
            <a:ext cx="3809880" cy="838440"/>
            <a:chOff x="2971800" y="1752480"/>
            <a:chExt cx="3809880" cy="838440"/>
          </a:xfrm>
        </p:grpSpPr>
        <p:sp>
          <p:nvSpPr>
            <p:cNvPr id="188" name=""/>
            <p:cNvSpPr/>
            <p:nvPr/>
          </p:nvSpPr>
          <p:spPr>
            <a:xfrm>
              <a:off x="4419720" y="1752480"/>
              <a:ext cx="2361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initializ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2971800" y="1905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419360" y="3657600"/>
            <a:ext cx="3505320" cy="1554120"/>
            <a:chOff x="4419360" y="3657600"/>
            <a:chExt cx="3505320" cy="1554120"/>
          </a:xfrm>
        </p:grpSpPr>
        <p:sp>
          <p:nvSpPr>
            <p:cNvPr id="191" name=""/>
            <p:cNvSpPr/>
            <p:nvPr/>
          </p:nvSpPr>
          <p:spPr>
            <a:xfrm>
              <a:off x="5867280" y="3657600"/>
              <a:ext cx="205740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 checks parameter values for validity before set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4419360" y="38098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8A60C-E000-4588-81DF-9D8D89EEF0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ime in universal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printUniversal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etfil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hou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minut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co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Uni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ime in standard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printStandar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( ( hou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hou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hou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fil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co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hour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M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M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Standa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tantiate object t of class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066680" y="3886200"/>
            <a:ext cx="4114800" cy="838080"/>
            <a:chOff x="1066680" y="3886200"/>
            <a:chExt cx="4114800" cy="838080"/>
          </a:xfrm>
        </p:grpSpPr>
        <p:sp>
          <p:nvSpPr>
            <p:cNvPr id="196" name=""/>
            <p:cNvSpPr/>
            <p:nvPr/>
          </p:nvSpPr>
          <p:spPr>
            <a:xfrm>
              <a:off x="2514600" y="38862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be object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1066680" y="40384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895480" y="533520"/>
            <a:ext cx="4114800" cy="2134080"/>
            <a:chOff x="2895480" y="533520"/>
            <a:chExt cx="4114800" cy="2134080"/>
          </a:xfrm>
        </p:grpSpPr>
        <p:sp>
          <p:nvSpPr>
            <p:cNvPr id="199" name=""/>
            <p:cNvSpPr/>
            <p:nvPr/>
          </p:nvSpPr>
          <p:spPr>
            <a:xfrm>
              <a:off x="4343400" y="160020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 arguments (implicitly “know” purpose is to print data members); member function calls more concis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895480" y="17524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895480" y="533520"/>
              <a:ext cx="144792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160B1-26CA-404D-8A79-7B6FC70967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181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Time object t's initial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initial universal tim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printUniversal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0:00: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initial standard tim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printStandard(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2:00:00 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setTi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hange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Time object t's new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Universal time after setTim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printUniversal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3:27:0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andard time after setTim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printStandard(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:27:06 P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setTi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tempt invalid sett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t's values after specifying invalid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attempting invalid settings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Universal tim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printUniversal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0:00: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437920" y="720360"/>
            <a:ext cx="4458240" cy="733320"/>
            <a:chOff x="2437920" y="720360"/>
            <a:chExt cx="4458240" cy="733320"/>
          </a:xfrm>
        </p:grpSpPr>
        <p:sp>
          <p:nvSpPr>
            <p:cNvPr id="205" name=""/>
            <p:cNvSpPr/>
            <p:nvPr/>
          </p:nvSpPr>
          <p:spPr>
            <a:xfrm>
              <a:off x="4229280" y="8730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s to print ti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2514240" y="720360"/>
              <a:ext cx="1714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2437920" y="1025640"/>
              <a:ext cx="179100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286000" y="1905120"/>
            <a:ext cx="4114800" cy="732960"/>
            <a:chOff x="2286000" y="1905120"/>
            <a:chExt cx="4114800" cy="732960"/>
          </a:xfrm>
        </p:grpSpPr>
        <p:sp>
          <p:nvSpPr>
            <p:cNvPr id="209" name=""/>
            <p:cNvSpPr/>
            <p:nvPr/>
          </p:nvSpPr>
          <p:spPr>
            <a:xfrm>
              <a:off x="3733920" y="20574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data members 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2286000" y="1905120"/>
              <a:ext cx="1447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286000" y="2819520"/>
            <a:ext cx="4114800" cy="838080"/>
            <a:chOff x="2286000" y="2819520"/>
            <a:chExt cx="4114800" cy="838080"/>
          </a:xfrm>
        </p:grpSpPr>
        <p:sp>
          <p:nvSpPr>
            <p:cNvPr id="212" name=""/>
            <p:cNvSpPr/>
            <p:nvPr/>
          </p:nvSpPr>
          <p:spPr>
            <a:xfrm>
              <a:off x="3733920" y="28195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 to set data members to invalid values 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286000" y="2971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63818-B177-4DDC-847F-3199C302D1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5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752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andard tim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printStandard(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2:00:00 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752480"/>
            <a:ext cx="7010280" cy="2210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initial universal time is 00: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initial standard time is 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niversal time after setTime is 13:27: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ndard time after setTime is 1:27:06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attempting invalid sett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niversal time: 00: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ndard time: 12:00:00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666880" y="2798640"/>
            <a:ext cx="4114800" cy="838440"/>
            <a:chOff x="2666880" y="2798640"/>
            <a:chExt cx="4114800" cy="838440"/>
          </a:xfrm>
        </p:grpSpPr>
        <p:sp>
          <p:nvSpPr>
            <p:cNvPr id="218" name=""/>
            <p:cNvSpPr/>
            <p:nvPr/>
          </p:nvSpPr>
          <p:spPr>
            <a:xfrm>
              <a:off x="4114800" y="279864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 members set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fter attempting invalid setting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2666880" y="2951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F3F0F-5B38-4299-B07C-342397A2DD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oriented programming (OOP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capsulates data (attributes) and functions (behavior) into packages call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hi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objects communicate across well-defined interf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ation details hidden within classes themsel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-defined (programmer-defined) types: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(data member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 (member functions or method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to blueprints – reus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instance: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A84AB-A5FD-4C1B-828B-2A84750AAB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 Implementing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im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bstract Data Type with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name as clas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ceded with tild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argume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be overloa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s “termination housekeeping”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0F53E-B1E1-4765-BC11-A6937E8616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 Implementing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im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bstract Data Type with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s of using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plify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de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ftware re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sition (aggreg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objects included as members of other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classes derived from 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CBF91-FD15-4397-9EDE-82B70F5687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6 Class Scope and Accessing Class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sc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members, 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in class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memb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mediately accessible by all member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d by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side class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d through hand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name, reference to object, pointer to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sc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3E8A6-9514-4F6F-AAC5-6FF2B6A82E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6 Class Scope and Accessing Class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 declared in member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known to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 with same name as class-scope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-scope variable “hidde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with scope resolution operato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ClassName::classVariable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 only known to function they are defined 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 are destroyed after function comple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4FB38-9C78-4C30-89E3-8C42DB13CE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6 Class Scope and Accessing Class Memb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s to access class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dentical to those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t member selection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 to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ow member selection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4FB3C-A711-4B32-A972-9D1DCB666E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4: fig06_0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the class member access operators . and 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UTION: IN FUTURE EXAMPLES WE AVOID PUBLIC DATA!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Count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x &lt;&lt; endl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447560" y="2286000"/>
            <a:ext cx="4115160" cy="1067400"/>
            <a:chOff x="1447560" y="2286000"/>
            <a:chExt cx="4115160" cy="1067400"/>
          </a:xfrm>
        </p:grpSpPr>
        <p:sp>
          <p:nvSpPr>
            <p:cNvPr id="233" name=""/>
            <p:cNvSpPr/>
            <p:nvPr/>
          </p:nvSpPr>
          <p:spPr>
            <a:xfrm>
              <a:off x="2895480" y="22860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 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illustrate class member access operators; typically data membe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1447560" y="24382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17F7A-409A-4D15-B233-C58CB4BFA56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 counter;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counter object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 *counterPtr = &amp;counter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pointer to counter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 &amp;counterRef = counte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reference to cou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ssign 1 to x and print using the object's nam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er.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assign 1 to data member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er.print(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all member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ssign 2 to x and print using a referenc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erRef.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assign 2 to data member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erRef.prin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member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ssign 3 to x and print using a point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erPtr-&gt;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ign 3 to data member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erPtr-&gt;print()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all member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4800600"/>
            <a:ext cx="701028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 1 to x and print using the object's name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 2 to x and print using a reference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3 to x and print using a pointer: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133360" y="990720"/>
            <a:ext cx="4115160" cy="838080"/>
            <a:chOff x="2133360" y="990720"/>
            <a:chExt cx="4115160" cy="838080"/>
          </a:xfrm>
        </p:grpSpPr>
        <p:sp>
          <p:nvSpPr>
            <p:cNvPr id="239" name=""/>
            <p:cNvSpPr/>
            <p:nvPr/>
          </p:nvSpPr>
          <p:spPr>
            <a:xfrm>
              <a:off x="3581280" y="9907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dot member selection operato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2133360" y="11430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361960" y="1828800"/>
            <a:ext cx="4115160" cy="838080"/>
            <a:chOff x="2361960" y="1828800"/>
            <a:chExt cx="4115160" cy="838080"/>
          </a:xfrm>
        </p:grpSpPr>
        <p:sp>
          <p:nvSpPr>
            <p:cNvPr id="242" name=""/>
            <p:cNvSpPr/>
            <p:nvPr/>
          </p:nvSpPr>
          <p:spPr>
            <a:xfrm>
              <a:off x="3809880" y="18288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dot member selection operato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erR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ference to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2361960" y="19810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438280" y="2666880"/>
            <a:ext cx="4114800" cy="838440"/>
            <a:chOff x="2438280" y="2666880"/>
            <a:chExt cx="4114800" cy="838440"/>
          </a:xfrm>
        </p:grpSpPr>
        <p:sp>
          <p:nvSpPr>
            <p:cNvPr id="245" name=""/>
            <p:cNvSpPr/>
            <p:nvPr/>
          </p:nvSpPr>
          <p:spPr>
            <a:xfrm>
              <a:off x="3886200" y="26668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arrow member selection operato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er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ointer to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2438280" y="28195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2D8BA-DCB5-4B87-AF16-069B25176A0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7 Separating Interface from Implementation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arating interface from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van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to modify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advan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er f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ions of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line member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nts about other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hide more with proxy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FB5FA-BAA4-4ABB-8E81-E358D38B61B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7 Separating Interface from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definitions and function proto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luded in each file using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e extens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-code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 defini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bas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d and link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6FD94-79C9-4B07-83CB-2BC0BA54768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1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5: time1.h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claration of class Time.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s are defined in time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event multiple inclusions of header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IME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IME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ime abstract data typ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();      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, minute, 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Universal()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universal-time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Standard(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standard-time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23 (24-hour clock forma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ute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2247840" y="533520"/>
            <a:ext cx="4114800" cy="838080"/>
            <a:chOff x="2247840" y="533520"/>
            <a:chExt cx="4114800" cy="838080"/>
          </a:xfrm>
        </p:grpSpPr>
        <p:sp>
          <p:nvSpPr>
            <p:cNvPr id="254" name=""/>
            <p:cNvSpPr/>
            <p:nvPr/>
          </p:nvSpPr>
          <p:spPr>
            <a:xfrm>
              <a:off x="3695760" y="5335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eprocessor code to prevent multiple inclus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2247840" y="685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066320" y="1371240"/>
            <a:ext cx="4725000" cy="4115160"/>
            <a:chOff x="1066320" y="1371240"/>
            <a:chExt cx="4725000" cy="4115160"/>
          </a:xfrm>
        </p:grpSpPr>
        <p:sp>
          <p:nvSpPr>
            <p:cNvPr id="257" name=""/>
            <p:cNvSpPr/>
            <p:nvPr/>
          </p:nvSpPr>
          <p:spPr>
            <a:xfrm>
              <a:off x="3124080" y="16765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de between these directives not included if nam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1_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lready defin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1905120" y="1371240"/>
              <a:ext cx="12189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1066320" y="1981080"/>
              <a:ext cx="2057400" cy="350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837720" y="1447560"/>
            <a:ext cx="2858040" cy="794880"/>
            <a:chOff x="837720" y="1447560"/>
            <a:chExt cx="2858040" cy="794880"/>
          </a:xfrm>
        </p:grpSpPr>
        <p:sp>
          <p:nvSpPr>
            <p:cNvPr id="261" name=""/>
            <p:cNvSpPr/>
            <p:nvPr/>
          </p:nvSpPr>
          <p:spPr>
            <a:xfrm>
              <a:off x="2057400" y="1905120"/>
              <a:ext cx="16383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not defined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flipV="1">
              <a:off x="837720" y="1447560"/>
              <a:ext cx="12193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904760" y="1596600"/>
            <a:ext cx="4115160" cy="889200"/>
            <a:chOff x="1904760" y="1596600"/>
            <a:chExt cx="4115160" cy="889200"/>
          </a:xfrm>
        </p:grpSpPr>
        <p:sp>
          <p:nvSpPr>
            <p:cNvPr id="264" name=""/>
            <p:cNvSpPr/>
            <p:nvPr/>
          </p:nvSpPr>
          <p:spPr>
            <a:xfrm>
              <a:off x="3352680" y="19051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eprocessor directive defines nam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1_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1904760" y="1596600"/>
              <a:ext cx="1447560" cy="46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676520" y="1733040"/>
            <a:ext cx="3886200" cy="1148400"/>
            <a:chOff x="1676520" y="1733040"/>
            <a:chExt cx="3886200" cy="1148400"/>
          </a:xfrm>
        </p:grpSpPr>
        <p:sp>
          <p:nvSpPr>
            <p:cNvPr id="267" name=""/>
            <p:cNvSpPr/>
            <p:nvPr/>
          </p:nvSpPr>
          <p:spPr>
            <a:xfrm>
              <a:off x="2895480" y="20574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aming convention: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eader file name with underscore replacing perio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1676520" y="1733040"/>
              <a:ext cx="121896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6036D-0695-4767-8185-474DA795207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Structure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ggregate data types built using elements of other typ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Tim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hour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inut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eco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 member na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sam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must have unique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differe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: can shar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finition must end with semicol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038120" y="2514600"/>
            <a:ext cx="4725000" cy="1218960"/>
            <a:chOff x="4038120" y="2514600"/>
            <a:chExt cx="4725000" cy="1218960"/>
          </a:xfrm>
        </p:grpSpPr>
        <p:sp>
          <p:nvSpPr>
            <p:cNvPr id="94" name=""/>
            <p:cNvSpPr/>
            <p:nvPr/>
          </p:nvSpPr>
          <p:spPr>
            <a:xfrm flipH="1">
              <a:off x="4038120" y="26668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38680" y="2514600"/>
              <a:ext cx="1752840" cy="368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ructure t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4647960" y="335268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81680" y="3205080"/>
              <a:ext cx="1981440" cy="368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ructure memb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48320" y="28954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B2063-0680-442D-AE06-0AC3C24326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1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6: time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-function definitions for class Tim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fil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definition of class Time from time1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me1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ime constructor initializes each data member to zero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sures all Time objects start in a consistent stat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::Tim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our = minute = secon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im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209680" y="2057400"/>
            <a:ext cx="4114800" cy="838080"/>
            <a:chOff x="2209680" y="2057400"/>
            <a:chExt cx="4114800" cy="838080"/>
          </a:xfrm>
        </p:grpSpPr>
        <p:sp>
          <p:nvSpPr>
            <p:cNvPr id="272" name=""/>
            <p:cNvSpPr/>
            <p:nvPr/>
          </p:nvSpPr>
          <p:spPr>
            <a:xfrm>
              <a:off x="3657600" y="205740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lude header fi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1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2209680" y="22096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752120" y="3006720"/>
            <a:ext cx="3810600" cy="1691640"/>
            <a:chOff x="1752120" y="3006720"/>
            <a:chExt cx="3810600" cy="1691640"/>
          </a:xfrm>
        </p:grpSpPr>
        <p:sp>
          <p:nvSpPr>
            <p:cNvPr id="275" name=""/>
            <p:cNvSpPr/>
            <p:nvPr/>
          </p:nvSpPr>
          <p:spPr>
            <a:xfrm>
              <a:off x="2895480" y="338760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ame of header file enclosed in quotes; angle brackets cause preprocessor to assume header part of C++ Standard Librar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1752120" y="3006720"/>
              <a:ext cx="11430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112A3-C98F-4956-9F81-972CA90B0AF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1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Time value using universal time. Perform validi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ecks on the data values. Set invalid values to zero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set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our = ( h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h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h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inute = ( m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m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m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cond = ( s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s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s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ime in universal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printUniversal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etfil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hour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minut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co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Uni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48A37-E71B-49F2-973A-77078261E42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1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09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ime in standard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printStandar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( ( hou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hou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hou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etfill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co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hour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Standa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09814-F904-4C57-A330-25C12D64D69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7: fig06_0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gram to test class Time.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TE: This file must be compiled with time1.cpp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definition of class Time from time1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me1.h"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tantiate object t of class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Time object t's initial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initial universal tim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printUniversal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0:00: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initial standard tim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printStandard(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2:00:00 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setTi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hange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286000" y="1371600"/>
            <a:ext cx="4114800" cy="1310760"/>
            <a:chOff x="2286000" y="1371600"/>
            <a:chExt cx="4114800" cy="1310760"/>
          </a:xfrm>
        </p:grpSpPr>
        <p:sp>
          <p:nvSpPr>
            <p:cNvPr id="284" name=""/>
            <p:cNvSpPr/>
            <p:nvPr/>
          </p:nvSpPr>
          <p:spPr>
            <a:xfrm>
              <a:off x="3733920" y="137160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lude header fi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1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ensure correct creation/manipulation and determine siz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2286000" y="15238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C8EEB-E72D-4A09-9539-89FE1E98795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Time object t's new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Universal time after setTim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printUniversal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3:27:0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andard time after setTim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printStandard(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:27:06 P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setTi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tempt invalid sett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t's values after specifying invalid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attempting invalid settings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Universal tim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printUniversal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0:00: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andard tim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printStandard(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2:00:00 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4343400"/>
            <a:ext cx="70102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initial universal time is 00: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initial standard time is 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niversal time after setTime is 13:27: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ndard time after setTime is 1:27:06 P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2B8CF-AB88-4790-B48A-66EFDC3E2C0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8 Controlling Access to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m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access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ible to member functions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ible to any function in program with handle to class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DFF9A-E5F9-4CAC-881E-A0CE20103D4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8: fig06_0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// Demonstrate errors resulting from attemp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// to access private class members.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definition of class Time from time1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me1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Tim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t.hour = 7;  // error: 'Time::hour' is not accessi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// error: 'Time::minute' is not accessi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cout &lt;&lt; "minute = " &lt;&lt; t.minute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0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828800" y="2646360"/>
            <a:ext cx="4114800" cy="1067400"/>
            <a:chOff x="1828800" y="2646360"/>
            <a:chExt cx="4114800" cy="1067400"/>
          </a:xfrm>
        </p:grpSpPr>
        <p:sp>
          <p:nvSpPr>
            <p:cNvPr id="294" name=""/>
            <p:cNvSpPr/>
            <p:nvPr/>
          </p:nvSpPr>
          <p:spPr>
            <a:xfrm>
              <a:off x="3276720" y="264636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call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; attempts to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s results in err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1828800" y="279864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733560" y="3379680"/>
            <a:ext cx="4115160" cy="1067400"/>
            <a:chOff x="3733560" y="3379680"/>
            <a:chExt cx="4115160" cy="1067400"/>
          </a:xfrm>
        </p:grpSpPr>
        <p:sp>
          <p:nvSpPr>
            <p:cNvPr id="297" name=""/>
            <p:cNvSpPr/>
            <p:nvPr/>
          </p:nvSpPr>
          <p:spPr>
            <a:xfrm>
              <a:off x="5181480" y="337968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inu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ls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; attempts to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s produces err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3733560" y="35323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52B77-F4B5-421E-AEB9-8F8863E8697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066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6\Fig6_06\Fig06_06.cpp(16) : error C2248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'hour' : cannot access private member declared in class 'Time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cpphtp4_examples\ch06\Fig6_06\Fig06_06.cpp(19) : error C2248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'minute' : cannot access private member declared in class 'Time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886200" y="536400"/>
            <a:ext cx="4723920" cy="1585800"/>
            <a:chOff x="3886200" y="536400"/>
            <a:chExt cx="4723920" cy="1585800"/>
          </a:xfrm>
        </p:grpSpPr>
        <p:sp>
          <p:nvSpPr>
            <p:cNvPr id="302" name=""/>
            <p:cNvSpPr/>
            <p:nvPr/>
          </p:nvSpPr>
          <p:spPr>
            <a:xfrm>
              <a:off x="5943240" y="129816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rrors produced by attempting to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3886200" y="536400"/>
              <a:ext cx="20570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3886200" y="993600"/>
              <a:ext cx="20570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3CFBE-360C-461C-BD5E-A605FDDA927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8 Controlling Access to Memb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member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licitly set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u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licitly set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to class’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rolled with access functions (accessor method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0A57F-E50E-4323-A8BD-B9A822FF584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9 Access Functions and Utility Function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/display da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dicate function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 condi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ty functions (helper func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rt operation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intended for direct client 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97CED-0F70-441A-9652-A34ED8DA33A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Structure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referential stru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ucture member cannot be instance of enclo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u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ucture member can be pointer to instance of enclo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self-referential structur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linked lists, queues, stacks and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new data type used to declare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ucture variables declared like variables of other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 timeObje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 timeArray[ 10 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 *time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 &amp;timeRef = timeObje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2ED4E-79EB-407B-A88B-83B65BB898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esp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9: salesp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alesPerson class defini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s defined in salesp.cpp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ALESP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ALESP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esPers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alesPerson();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SalesFromUser(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put sales from keyboa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ale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sales for a mon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AnnualSales(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ummarize and print sa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AnnualSales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tility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12 monthly sales figur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SalesPers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3276720" y="1600200"/>
            <a:ext cx="3047760" cy="990720"/>
            <a:chOff x="3276720" y="1600200"/>
            <a:chExt cx="3047760" cy="990720"/>
          </a:xfrm>
        </p:grpSpPr>
        <p:sp>
          <p:nvSpPr>
            <p:cNvPr id="312" name=""/>
            <p:cNvSpPr/>
            <p:nvPr/>
          </p:nvSpPr>
          <p:spPr>
            <a:xfrm>
              <a:off x="4572000" y="1600200"/>
              <a:ext cx="1752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access function performs validity check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276720" y="1752480"/>
              <a:ext cx="12952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3124080" y="2646360"/>
            <a:ext cx="3200400" cy="838080"/>
            <a:chOff x="3124080" y="2646360"/>
            <a:chExt cx="3200400" cy="838080"/>
          </a:xfrm>
        </p:grpSpPr>
        <p:sp>
          <p:nvSpPr>
            <p:cNvPr id="315" name=""/>
            <p:cNvSpPr/>
            <p:nvPr/>
          </p:nvSpPr>
          <p:spPr>
            <a:xfrm>
              <a:off x="4572000" y="2646360"/>
              <a:ext cx="1752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utility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124080" y="279864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BD8A2-5842-41C7-A7E0-A422E852B11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esp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10: salesp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s for class SalesPers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SalesPerson class definition from salesp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lesp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elements of array sales to 0.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alesPerson::SalesPerso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les[ i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alesPerson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96189-BD39-42D8-B399-C0158A6F955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esp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12 sales figures from the user at the keyboa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esPerson::getSalesFromUs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esFigur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sales amount for month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i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salesFigur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ales( i, salesFigur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SalesFrom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one of the 12 monthly sales figures; function subtrac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ne from month value for proper subscript in sales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esPerson::setSale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nt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mou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for valid month and amoun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onth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month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amount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les[ month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amoun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just for subscripts 0-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alid month or amount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valid month or sales figur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857320" y="3484440"/>
            <a:ext cx="4115160" cy="838440"/>
            <a:chOff x="2857320" y="3484440"/>
            <a:chExt cx="4115160" cy="838440"/>
          </a:xfrm>
        </p:grpSpPr>
        <p:sp>
          <p:nvSpPr>
            <p:cNvPr id="322" name=""/>
            <p:cNvSpPr/>
            <p:nvPr/>
          </p:nvSpPr>
          <p:spPr>
            <a:xfrm>
              <a:off x="4305240" y="348444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access function performs validity check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2857320" y="36370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A56E4-9EC3-4FC7-926C-E81A433752C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esp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Sa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otal annual sales (with help of utility functio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esPerson::printAnnualSale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ixe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total annual sales are: $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totalAnnualSales() &lt;&lt; endl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utility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printAnnualSa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vate utility function to total annual sales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esPerson::totalAnnualSales()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total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ummarize sales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tal += sales[ i ];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;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totalAnnualSales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4305240" y="2452680"/>
            <a:ext cx="4114800" cy="1310760"/>
            <a:chOff x="4305240" y="2452680"/>
            <a:chExt cx="4114800" cy="1310760"/>
          </a:xfrm>
        </p:grpSpPr>
        <p:sp>
          <p:nvSpPr>
            <p:cNvPr id="327" name=""/>
            <p:cNvSpPr/>
            <p:nvPr/>
          </p:nvSpPr>
          <p:spPr>
            <a:xfrm>
              <a:off x="5753160" y="245268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utility function to help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AnnualSal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; encapsulates logic of manipula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r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4305240" y="26049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56EB4-45CB-4B7C-A676-0CF43A07C00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11: fig06_1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a utility func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ile this program with salesp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SalesPerson class definition from salesp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lesp.h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alesPerson s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SalesPerson object 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.getSalesFromUser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note simple sequential code; n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.printAnnualSales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rol structures in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962160" y="1676520"/>
            <a:ext cx="4115160" cy="1067400"/>
            <a:chOff x="3962160" y="1676520"/>
            <a:chExt cx="4115160" cy="1067400"/>
          </a:xfrm>
        </p:grpSpPr>
        <p:sp>
          <p:nvSpPr>
            <p:cNvPr id="332" name=""/>
            <p:cNvSpPr/>
            <p:nvPr/>
          </p:nvSpPr>
          <p:spPr>
            <a:xfrm>
              <a:off x="5410080" y="167652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mple sequence of member function calls; logic encapsulated in member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962160" y="18288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CF928-E9B8-4CD5-804E-8F8BBB47E19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27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ales amount for month 1: 5314.7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ales amount for month 2: 4292.3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ales amount for month 3: 4589.8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ales amount for month 4: 5534.0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ales amount for month 5: 4376.3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ales amount for month 6: 5698.4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ales amount for month 7: 4439.2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ales amount for month 8: 5893.5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ales amount for month 9: 4909.6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ales amount for month 10: 5123.4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ales amount for month 11: 4024.9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ales amount for month 12: 5923.9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total annual sales are: $60120.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493D6-8C3E-4391-8BA5-B56DDA9E228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0 Initializing Class Objects: Constructo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 data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can set l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name as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return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ed as arguments to construct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parentheses to right of class name before semicol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Class-type ObjectName( value1,value2,…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7A39F-A90E-4F5E-BF25-D5B0F738E89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1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Default Arguments with Construc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specify default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construc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s all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icitly requires n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invoked with n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one pe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BDC87-9813-4833-B32A-3EA4CF56E30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2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12: time2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claration of class Tim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s defined in time2.cpp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event multiple inclusions of header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IME2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IME2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ime abstract data typ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,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oid set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, minute, 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oid printUniversal()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universal-time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oid printStandard(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standard-time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23 (24-hour clock form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ute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0 - 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438280" y="1981080"/>
            <a:ext cx="4114800" cy="838440"/>
            <a:chOff x="2438280" y="1981080"/>
            <a:chExt cx="4114800" cy="838440"/>
          </a:xfrm>
        </p:grpSpPr>
        <p:sp>
          <p:nvSpPr>
            <p:cNvPr id="343" name=""/>
            <p:cNvSpPr/>
            <p:nvPr/>
          </p:nvSpPr>
          <p:spPr>
            <a:xfrm>
              <a:off x="3886200" y="1981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ault constructor specifying all argum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2438280" y="2133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3C31C-54D5-4DF4-A391-37B9A857BD6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2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13: time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-function definitions for class Tim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fil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definition of class Time from time2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me2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ime constructor initializes each data member to zero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sures all Time objects start in a consistent stat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::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 )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Time( hr, min, sec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alidate and set time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ime constructor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305240" y="2992320"/>
            <a:ext cx="4114800" cy="838440"/>
            <a:chOff x="4305240" y="2992320"/>
            <a:chExt cx="4114800" cy="838440"/>
          </a:xfrm>
        </p:grpSpPr>
        <p:sp>
          <p:nvSpPr>
            <p:cNvPr id="348" name=""/>
            <p:cNvSpPr/>
            <p:nvPr/>
          </p:nvSpPr>
          <p:spPr>
            <a:xfrm>
              <a:off x="5753160" y="29923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call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Time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o validate passed (or default) valu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4305240" y="31449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7604D-8E76-4DF7-B313-19EBDDDDFEC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3 Accessing Structure Memb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access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t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for structure and class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ow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for structure and class members via pointer to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 memb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ou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meObje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 &lt;&lt; timeObject.hour;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Ptr = &amp;timeObjec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timePtr-&gt;hou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mePtr-&gt;hou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ame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 *timePtr ).ho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enthese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ower precedence th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270B3-16E2-405B-AAC6-B909887D71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2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Time value using universal time, perform validi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ecks on the data values and set invalid values to zer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set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our = ( h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h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h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inute = ( m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m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m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cond = ( s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s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s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set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ime in universal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printUniversal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etfil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&lt;&lt; hour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minute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co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Uni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55C73-A5DA-4DD3-B9D5-4D7DA44D1F9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2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09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ime in standard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printStandar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( ( hou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hou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hou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fill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co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hour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Standa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2FEA6-EEA4-483A-BE81-3071086473C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14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14: fig06_14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a default constructor for class Tim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definition of class Time from time2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"time2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t1;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l arguments defaulted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t2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inute and second defaul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t3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cond defaulted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t4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l values specified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t5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l bad values specified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structed with:\n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ll default arguments:\n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1.printUniversal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0:00: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1.printStandard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2:00:00 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5791320" y="2535120"/>
            <a:ext cx="2743200" cy="838440"/>
            <a:chOff x="5791320" y="2535120"/>
            <a:chExt cx="2743200" cy="838440"/>
          </a:xfrm>
        </p:grpSpPr>
        <p:sp>
          <p:nvSpPr>
            <p:cNvPr id="357" name=""/>
            <p:cNvSpPr/>
            <p:nvPr/>
          </p:nvSpPr>
          <p:spPr>
            <a:xfrm>
              <a:off x="6705720" y="2535120"/>
              <a:ext cx="1828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itializ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s using default argum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5791320" y="2743200"/>
              <a:ext cx="914400" cy="63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286000" y="3885840"/>
            <a:ext cx="5791320" cy="976680"/>
            <a:chOff x="2286000" y="3885840"/>
            <a:chExt cx="5791320" cy="976680"/>
          </a:xfrm>
        </p:grpSpPr>
        <p:sp>
          <p:nvSpPr>
            <p:cNvPr id="360" name=""/>
            <p:cNvSpPr/>
            <p:nvPr/>
          </p:nvSpPr>
          <p:spPr>
            <a:xfrm>
              <a:off x="5410080" y="40384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itializ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with invalid values; validity checking will set value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2286000" y="3885840"/>
              <a:ext cx="3124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5770B-A25F-4731-BA11-AD5D295BD71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14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hour specified; default minute and second:\n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2.printUniversal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2:00: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2.printStandard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2:00:00 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hour and minute specified; default second:\n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3.printUniversal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21:34: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3.printStandard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9:34:00 P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hour, minute, and second specified:\n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4.printUniversal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2:25:4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4.printStandard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2:25:42 P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cout &lt;&lt; "\n\nall invalid values specified:\n  "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t5.printUniversal();  // 00:00:00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cout &lt;&lt; "\n  ";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t5.printStandard();   // 12:00:00 AM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3886200" y="3165480"/>
            <a:ext cx="4114800" cy="838080"/>
            <a:chOff x="3886200" y="3165480"/>
            <a:chExt cx="4114800" cy="838080"/>
          </a:xfrm>
        </p:grpSpPr>
        <p:sp>
          <p:nvSpPr>
            <p:cNvPr id="365" name=""/>
            <p:cNvSpPr/>
            <p:nvPr/>
          </p:nvSpPr>
          <p:spPr>
            <a:xfrm>
              <a:off x="5334120" y="31654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5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structed with invalid arguments; values set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886200" y="33177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A267F-4DC1-44ED-9582-092D378C078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14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ructed with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 default argument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0:00 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our specified; default minute and second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2:00: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:00:00 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our and minute specified; default second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1:34: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:34:00 P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our, minute, and second specified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:25:4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:25:42 P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 invalid values specified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:00:00 A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3B4FD-C402-40C2-9F55-16043E6A7F2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2 Destructo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al member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name as clas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ceded with tild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argume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return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be overloa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s “termination housekeeping”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fore system reclaims object’s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use memory for new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explicit de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creates “empty” destruct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35CDF-40EE-4438-BE0C-8C6400BC965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3   When Constructors and Destructors Are Called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 and de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led implicitly by compi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 of function ca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pends on order of exec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execution enters and exits scope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ally, destructor calls reverse order of constructor ca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53DE6-3AFB-4156-9286-14D3B2F9631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3   When Constructors and Destructors Are Called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 of constructor, destructor function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lobal scope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fore any other function (includ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truct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erminates (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unction calle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called if program terminates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utomatic local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objects 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time execution enters 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tru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objects leave 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ion exits block in which object 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called if program ends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C014C-FF33-4C81-8090-CC0171A31DC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3   When Constructors and Destructors Are Called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 of constructor, destructor function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ocal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ctly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execution reaches point where object 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truct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erminates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unction ca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called if program ends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05788-FFB6-4C85-88D9-F20DEC86263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eate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15: create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ition of class CreateAndDestro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s defined in create.cpp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REAT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REAT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AndDestroy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reateAndDestro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~CreateAndDestroy();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estruct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reateAndDestro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733560" y="1523880"/>
            <a:ext cx="4115160" cy="838440"/>
            <a:chOff x="3733560" y="1523880"/>
            <a:chExt cx="4115160" cy="838440"/>
          </a:xfrm>
        </p:grpSpPr>
        <p:sp>
          <p:nvSpPr>
            <p:cNvPr id="380" name=""/>
            <p:cNvSpPr/>
            <p:nvPr/>
          </p:nvSpPr>
          <p:spPr>
            <a:xfrm>
              <a:off x="5181480" y="15238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and destructor member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3733560" y="16765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2057400" y="2362320"/>
            <a:ext cx="4114800" cy="838080"/>
            <a:chOff x="2057400" y="2362320"/>
            <a:chExt cx="4114800" cy="838080"/>
          </a:xfrm>
        </p:grpSpPr>
        <p:sp>
          <p:nvSpPr>
            <p:cNvPr id="383" name=""/>
            <p:cNvSpPr/>
            <p:nvPr/>
          </p:nvSpPr>
          <p:spPr>
            <a:xfrm>
              <a:off x="3505320" y="23623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s to show order of constructor, destructor function cal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2057400" y="2514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231BB-7FD0-4EC9-8BE1-C548021F986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4 Implementing a User-Defined Type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Time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with a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truc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: structures passed by val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structure by re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oid overhead of copying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-style struc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“interfac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mplementation changes, all programs using th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change according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print as 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int/format member by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compare in entire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compare member by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93B10-C068-4DE4-B68A-5350022B6D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eate.cpp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16: create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-function definitions for class CreateAndDestro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CreateAndDestroy class definition from create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ate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AndDestroy::CreateAndDestroy(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Numbe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messagePtr )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bjectID = objectNumber;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essage = messagePtr;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bject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objectID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constructor runs  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message &lt;&lt; endl;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reateAndDestroy constructor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429000" y="2992320"/>
            <a:ext cx="4114800" cy="838440"/>
            <a:chOff x="3429000" y="2992320"/>
            <a:chExt cx="4114800" cy="838440"/>
          </a:xfrm>
        </p:grpSpPr>
        <p:sp>
          <p:nvSpPr>
            <p:cNvPr id="388" name=""/>
            <p:cNvSpPr/>
            <p:nvPr/>
          </p:nvSpPr>
          <p:spPr>
            <a:xfrm>
              <a:off x="4876920" y="29923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message to demonstrate timing of constructor function cal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29000" y="31449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EE7D9-2DC5-4C75-A960-FA129F1780F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eate.cpp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AndDestroy::~CreateAndDestroy()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e following line is for pedagogic purposes only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( objectID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objectID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bjec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objectID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destructor runs   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message &lt;&lt; endl;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~CreateAndDestroy destructor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2361960" y="665280"/>
            <a:ext cx="4115160" cy="838080"/>
            <a:chOff x="2361960" y="665280"/>
            <a:chExt cx="4115160" cy="838080"/>
          </a:xfrm>
        </p:grpSpPr>
        <p:sp>
          <p:nvSpPr>
            <p:cNvPr id="393" name=""/>
            <p:cNvSpPr/>
            <p:nvPr/>
          </p:nvSpPr>
          <p:spPr>
            <a:xfrm>
              <a:off x="3809880" y="6652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message to demonstrate timing of destructor function cal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2361960" y="81756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6C831-35D6-4D47-B90D-7000B804ADC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17: fig06_1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the order in which constructors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s are call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CreateAndDestroy class definition from create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ate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lobal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AndDestroy firs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(global before main)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MAIN FUNCTION: EXECUTION BEGIN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reateAndDestroy seco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(local automatic in main)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AndDestroy third(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(local static in main)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2438280" y="2327400"/>
            <a:ext cx="4114800" cy="838080"/>
            <a:chOff x="2438280" y="2327400"/>
            <a:chExt cx="4114800" cy="838080"/>
          </a:xfrm>
        </p:grpSpPr>
        <p:sp>
          <p:nvSpPr>
            <p:cNvPr id="398" name=""/>
            <p:cNvSpPr/>
            <p:nvPr/>
          </p:nvSpPr>
          <p:spPr>
            <a:xfrm>
              <a:off x="3886200" y="23274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variable with global sco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2438280" y="24796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438280" y="3657600"/>
            <a:ext cx="4114800" cy="838080"/>
            <a:chOff x="2438280" y="3657600"/>
            <a:chExt cx="4114800" cy="838080"/>
          </a:xfrm>
        </p:grpSpPr>
        <p:sp>
          <p:nvSpPr>
            <p:cNvPr id="401" name=""/>
            <p:cNvSpPr/>
            <p:nvPr/>
          </p:nvSpPr>
          <p:spPr>
            <a:xfrm>
              <a:off x="3886200" y="365760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local automatic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2438280" y="38098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2438280" y="4149720"/>
            <a:ext cx="4114800" cy="838080"/>
            <a:chOff x="2438280" y="4149720"/>
            <a:chExt cx="4114800" cy="838080"/>
          </a:xfrm>
        </p:grpSpPr>
        <p:sp>
          <p:nvSpPr>
            <p:cNvPr id="404" name=""/>
            <p:cNvSpPr/>
            <p:nvPr/>
          </p:nvSpPr>
          <p:spPr>
            <a:xfrm>
              <a:off x="3886200" y="41497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local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2438280" y="4302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8861B-E1C2-4A03-820B-32B0B1E4D06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reate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all function to create objec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MAIN FUNCTION: EXECUTION RESUM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reateAndDestroy fourt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(local automatic in main)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MAIN FUNCTION: EXECUTION END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o create objec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CREATE FUNCTION: EXECUTION BEGIN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reateAndDestroy fift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(local automatic in create)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AndDestroy sixth(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(local static in create)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reateAndDestroy seventh(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(local automatic in create)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1523880" y="380880"/>
            <a:ext cx="4114800" cy="1037880"/>
            <a:chOff x="1523880" y="380880"/>
            <a:chExt cx="4114800" cy="1037880"/>
          </a:xfrm>
        </p:grpSpPr>
        <p:sp>
          <p:nvSpPr>
            <p:cNvPr id="409" name=""/>
            <p:cNvSpPr/>
            <p:nvPr/>
          </p:nvSpPr>
          <p:spPr>
            <a:xfrm>
              <a:off x="2971800" y="838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local automatic objec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1523880" y="380880"/>
              <a:ext cx="1447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1523880" y="1295280"/>
            <a:ext cx="4114800" cy="794520"/>
            <a:chOff x="1523880" y="1295280"/>
            <a:chExt cx="4114800" cy="794520"/>
          </a:xfrm>
        </p:grpSpPr>
        <p:sp>
          <p:nvSpPr>
            <p:cNvPr id="412" name=""/>
            <p:cNvSpPr/>
            <p:nvPr/>
          </p:nvSpPr>
          <p:spPr>
            <a:xfrm>
              <a:off x="2971800" y="17524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local automatic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1523880" y="1295280"/>
              <a:ext cx="1447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1523880" y="3048120"/>
            <a:ext cx="4114800" cy="838080"/>
            <a:chOff x="1523880" y="3048120"/>
            <a:chExt cx="4114800" cy="838080"/>
          </a:xfrm>
        </p:grpSpPr>
        <p:sp>
          <p:nvSpPr>
            <p:cNvPr id="415" name=""/>
            <p:cNvSpPr/>
            <p:nvPr/>
          </p:nvSpPr>
          <p:spPr>
            <a:xfrm>
              <a:off x="2971800" y="30481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local automatic object in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1523880" y="3200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1523880" y="3505320"/>
            <a:ext cx="4114800" cy="838080"/>
            <a:chOff x="1523880" y="3505320"/>
            <a:chExt cx="4114800" cy="838080"/>
          </a:xfrm>
        </p:grpSpPr>
        <p:sp>
          <p:nvSpPr>
            <p:cNvPr id="418" name=""/>
            <p:cNvSpPr/>
            <p:nvPr/>
          </p:nvSpPr>
          <p:spPr>
            <a:xfrm>
              <a:off x="2971800" y="35053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local object in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1523880" y="3657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1523880" y="4191120"/>
            <a:ext cx="4114800" cy="838080"/>
            <a:chOff x="1523880" y="4191120"/>
            <a:chExt cx="4114800" cy="838080"/>
          </a:xfrm>
        </p:grpSpPr>
        <p:sp>
          <p:nvSpPr>
            <p:cNvPr id="421" name=""/>
            <p:cNvSpPr/>
            <p:nvPr/>
          </p:nvSpPr>
          <p:spPr>
            <a:xfrm>
              <a:off x="2971800" y="41911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local automatic object in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1523880" y="4343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DAFCA-AFC9-4E9F-B419-0E3C0C26C909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838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CREATE FUNCTION: EXECUTION ENDS\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cre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02CD6-71DA-4213-A643-81CF5E327A3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1   constructor runs   (global before mai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FUNCTION: EXECUTION BEGI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2   constructor runs   (local automatic in mai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3   constructor runs   (local static in mai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FUNCTION: EXECUTION BEGI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5   constructor runs   (local automatic in create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6   constructor runs   (local static in create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7   constructor runs   (local automatic in create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FUNCTION: EXECUTION E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7   destructor runs    (local automatic in create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5   destructor runs    (local automatic in create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FUNCTION: EXECUTION RESUM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4   constructor runs   (local automatic in mai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FUNCTION: EXECUTION E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4   destructor runs    (local automatic in mai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2   destructor runs    (local automatic in mai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6   destructor runs    (local static in create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3   destructor runs    (local static in mai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1   destructor runs    (global before mai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181120" y="990360"/>
            <a:ext cx="3810600" cy="3657960"/>
            <a:chOff x="5181120" y="990360"/>
            <a:chExt cx="3810600" cy="3657960"/>
          </a:xfrm>
        </p:grpSpPr>
        <p:sp>
          <p:nvSpPr>
            <p:cNvPr id="428" name=""/>
            <p:cNvSpPr/>
            <p:nvPr/>
          </p:nvSpPr>
          <p:spPr>
            <a:xfrm>
              <a:off x="6324480" y="23004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structors for local automatic objects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in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ed in reverse order of constructo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 flipV="1">
              <a:off x="5181120" y="990360"/>
              <a:ext cx="1143000" cy="14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5181120" y="2452680"/>
              <a:ext cx="1143000" cy="12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181120" y="2452680"/>
              <a:ext cx="1143000" cy="19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5181120" y="2452680"/>
              <a:ext cx="1143000" cy="21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4876560" y="1142640"/>
            <a:ext cx="4115160" cy="3962880"/>
            <a:chOff x="4876560" y="1142640"/>
            <a:chExt cx="4115160" cy="3962880"/>
          </a:xfrm>
        </p:grpSpPr>
        <p:sp>
          <p:nvSpPr>
            <p:cNvPr id="434" name=""/>
            <p:cNvSpPr/>
            <p:nvPr/>
          </p:nvSpPr>
          <p:spPr>
            <a:xfrm>
              <a:off x="6324480" y="22795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exists until program term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flipV="1">
              <a:off x="4876560" y="1142640"/>
              <a:ext cx="1447560" cy="128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4876560" y="2452680"/>
              <a:ext cx="1447560" cy="26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723920" y="304560"/>
            <a:ext cx="4267800" cy="5181840"/>
            <a:chOff x="4723920" y="304560"/>
            <a:chExt cx="4267800" cy="5181840"/>
          </a:xfrm>
        </p:grpSpPr>
        <p:sp>
          <p:nvSpPr>
            <p:cNvPr id="438" name=""/>
            <p:cNvSpPr/>
            <p:nvPr/>
          </p:nvSpPr>
          <p:spPr>
            <a:xfrm>
              <a:off x="6324480" y="24526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lobal object constructed befo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in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ecution and destroyed la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4723920" y="304560"/>
              <a:ext cx="1600200" cy="23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4723920" y="2604960"/>
              <a:ext cx="1600200" cy="28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5410080" y="1828440"/>
            <a:ext cx="3581640" cy="1936080"/>
            <a:chOff x="5410080" y="1828440"/>
            <a:chExt cx="3581640" cy="1936080"/>
          </a:xfrm>
        </p:grpSpPr>
        <p:sp>
          <p:nvSpPr>
            <p:cNvPr id="442" name=""/>
            <p:cNvSpPr/>
            <p:nvPr/>
          </p:nvSpPr>
          <p:spPr>
            <a:xfrm>
              <a:off x="6324480" y="269712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al automatic objects destroyed after function execution ends in reverse order of constru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5410080" y="1828440"/>
              <a:ext cx="914400" cy="10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5410080" y="2279160"/>
              <a:ext cx="91440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5410080" y="2849400"/>
              <a:ext cx="914400" cy="2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5410080" y="2849400"/>
              <a:ext cx="91440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5029200" y="1981080"/>
            <a:ext cx="3962520" cy="2895840"/>
            <a:chOff x="5029200" y="1981080"/>
            <a:chExt cx="3962520" cy="2895840"/>
          </a:xfrm>
        </p:grpSpPr>
        <p:sp>
          <p:nvSpPr>
            <p:cNvPr id="448" name=""/>
            <p:cNvSpPr/>
            <p:nvPr/>
          </p:nvSpPr>
          <p:spPr>
            <a:xfrm>
              <a:off x="6324480" y="28494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constructed on first function call and destroyed af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execution end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5029200" y="1981080"/>
              <a:ext cx="1295280" cy="102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5105520" y="3002040"/>
              <a:ext cx="1218960" cy="187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26ACA-2673-4C93-95F5-C79CB9D03A01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4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</a:t>
            </a:r>
            <a:r>
              <a:rPr b="1" i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et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Get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 validity checks before modify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ify if invalid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cate with return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uery”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rol format of data retur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AE7BF-8748-4378-825A-6AEC0A46ACAA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3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18: time3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claration of class Tim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s defined in time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event multiple inclusions of header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IME3_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IME3_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un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, minute, 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Hou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Minu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econ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functions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Hour()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hour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Minute(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Second()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5029200" y="2798640"/>
            <a:ext cx="2819520" cy="838440"/>
            <a:chOff x="5029200" y="2798640"/>
            <a:chExt cx="2819520" cy="838440"/>
          </a:xfrm>
        </p:grpSpPr>
        <p:sp>
          <p:nvSpPr>
            <p:cNvPr id="456" name=""/>
            <p:cNvSpPr/>
            <p:nvPr/>
          </p:nvSpPr>
          <p:spPr>
            <a:xfrm>
              <a:off x="6477120" y="2798640"/>
              <a:ext cx="1371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5029200" y="2951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5067360" y="3962520"/>
            <a:ext cx="2819520" cy="837720"/>
            <a:chOff x="5067360" y="3962520"/>
            <a:chExt cx="2819520" cy="837720"/>
          </a:xfrm>
        </p:grpSpPr>
        <p:sp>
          <p:nvSpPr>
            <p:cNvPr id="459" name=""/>
            <p:cNvSpPr/>
            <p:nvPr/>
          </p:nvSpPr>
          <p:spPr>
            <a:xfrm>
              <a:off x="6515280" y="3962520"/>
              <a:ext cx="1371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et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5067360" y="4114800"/>
              <a:ext cx="14479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93830-6608-4C81-A26D-EF69C0E084EC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3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590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Universal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universal-time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Standard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standard-time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;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23 (24-hour clock forma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ute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0 - 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;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CC848-C75D-4D87-AFC9-623F30AFB38E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3.cpp 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19: time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-function definitions for Time clas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fil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definition of class Time from time3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me3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 function to initialize private dat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s member function setTime to set variabl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values are 0 (see class definitio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::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Time( hr, min, sec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im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A0C84-D9DD-422B-916A-7F35F54716A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Fig. 6.1: fig06_0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Create a structure, set its members, and print i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setfil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structure definition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stru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 {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hour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0-23 (24-hour clock forma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inute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0-59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cond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0-59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end struct Time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rintUnivers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 &amp;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rintStandar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 &amp;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895480" y="2133720"/>
            <a:ext cx="4114800" cy="838080"/>
            <a:chOff x="2895480" y="2133720"/>
            <a:chExt cx="4114800" cy="838080"/>
          </a:xfrm>
        </p:grpSpPr>
        <p:sp>
          <p:nvSpPr>
            <p:cNvPr id="108" name=""/>
            <p:cNvSpPr/>
            <p:nvPr/>
          </p:nvSpPr>
          <p:spPr>
            <a:xfrm>
              <a:off x="4343400" y="2133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e structure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ith three integer memb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895480" y="2286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429000" y="3733920"/>
            <a:ext cx="4114800" cy="1066680"/>
            <a:chOff x="3429000" y="3733920"/>
            <a:chExt cx="4114800" cy="1066680"/>
          </a:xfrm>
        </p:grpSpPr>
        <p:sp>
          <p:nvSpPr>
            <p:cNvPr id="111" name=""/>
            <p:cNvSpPr/>
            <p:nvPr/>
          </p:nvSpPr>
          <p:spPr>
            <a:xfrm>
              <a:off x="4876920" y="37339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ss references to consta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 to eliminate copying overhea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429000" y="38862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3429000" y="3886200"/>
              <a:ext cx="1447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876ED-F12D-4794-BD0A-43166A728C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3.cpp 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, minute and second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set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Hour( h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Minute( 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Second( 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 value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setHou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 )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our = ( h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h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h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Hour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minute value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setMinu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 )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inute = ( m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m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m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Minute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2514600" y="1143000"/>
            <a:ext cx="4114800" cy="809280"/>
            <a:chOff x="2514600" y="1143000"/>
            <a:chExt cx="4114800" cy="809280"/>
          </a:xfrm>
        </p:grpSpPr>
        <p:sp>
          <p:nvSpPr>
            <p:cNvPr id="468" name=""/>
            <p:cNvSpPr/>
            <p:nvPr/>
          </p:nvSpPr>
          <p:spPr>
            <a:xfrm>
              <a:off x="3962520" y="13716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set functions to perform validity check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 flipV="1">
              <a:off x="2514600" y="1143000"/>
              <a:ext cx="1447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352320" y="3048120"/>
            <a:ext cx="4267800" cy="1274760"/>
            <a:chOff x="3352320" y="3048120"/>
            <a:chExt cx="4267800" cy="1274760"/>
          </a:xfrm>
        </p:grpSpPr>
        <p:sp>
          <p:nvSpPr>
            <p:cNvPr id="471" name=""/>
            <p:cNvSpPr/>
            <p:nvPr/>
          </p:nvSpPr>
          <p:spPr>
            <a:xfrm>
              <a:off x="4952880" y="348444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functions perform validity checks before modifying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3504960" y="36370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 flipV="1">
              <a:off x="3352320" y="3048120"/>
              <a:ext cx="1600200" cy="58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8A3E6-0D18-416F-A1AE-675BF6D431B2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3.cpp 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second value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setSecon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 )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cond = ( s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s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s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Second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hour value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getHour()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Hou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minute value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getMinute()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ute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590560" y="0"/>
            <a:ext cx="4115160" cy="838080"/>
            <a:chOff x="2590560" y="0"/>
            <a:chExt cx="4115160" cy="838080"/>
          </a:xfrm>
        </p:grpSpPr>
        <p:sp>
          <p:nvSpPr>
            <p:cNvPr id="477" name=""/>
            <p:cNvSpPr/>
            <p:nvPr/>
          </p:nvSpPr>
          <p:spPr>
            <a:xfrm>
              <a:off x="4038480" y="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function performs validity checks before modifying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2590560" y="1522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3276360" y="2514600"/>
            <a:ext cx="4115160" cy="1143000"/>
            <a:chOff x="3276360" y="2514600"/>
            <a:chExt cx="4115160" cy="1143000"/>
          </a:xfrm>
        </p:grpSpPr>
        <p:sp>
          <p:nvSpPr>
            <p:cNvPr id="480" name=""/>
            <p:cNvSpPr/>
            <p:nvPr/>
          </p:nvSpPr>
          <p:spPr>
            <a:xfrm>
              <a:off x="4724280" y="28195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et functions allow client to read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3276360" y="29718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 flipV="1">
              <a:off x="3276360" y="2514600"/>
              <a:ext cx="1447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89BA7-D470-4F19-992B-661819E1075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3.cpp 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second value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getSecond()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ime in universal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printUniversal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etfil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0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hou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minute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co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Uni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ime in standard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printStandar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( ( hou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hou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hou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fil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co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hour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M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Standa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2286000" y="838080"/>
            <a:ext cx="4114800" cy="885600"/>
            <a:chOff x="2286000" y="838080"/>
            <a:chExt cx="4114800" cy="885600"/>
          </a:xfrm>
        </p:grpSpPr>
        <p:sp>
          <p:nvSpPr>
            <p:cNvPr id="486" name=""/>
            <p:cNvSpPr/>
            <p:nvPr/>
          </p:nvSpPr>
          <p:spPr>
            <a:xfrm>
              <a:off x="3733920" y="11430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et function allows client to read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 flipV="1">
              <a:off x="2286000" y="83808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6D505-B741-4E7C-8B81-3616C8D4B616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20: fig06_2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the Time class set and get fun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definition of class Time from time3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me3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crementMinutes( Time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t;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Tim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time using individual set functions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setHou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et hour to valid value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setMin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minute to valid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setSeco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et second to valid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3429000" y="2798640"/>
            <a:ext cx="4114800" cy="838440"/>
            <a:chOff x="3429000" y="2798640"/>
            <a:chExt cx="4114800" cy="838440"/>
          </a:xfrm>
        </p:grpSpPr>
        <p:sp>
          <p:nvSpPr>
            <p:cNvPr id="491" name=""/>
            <p:cNvSpPr/>
            <p:nvPr/>
          </p:nvSpPr>
          <p:spPr>
            <a:xfrm>
              <a:off x="4876920" y="279864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set functions to set valid valu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3429000" y="2951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DF227-C492-4102-A3F8-F59743F9C1E2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get functions to obtain hour, minute and 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sult of setting all valid values:\n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 Hou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.getHou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 Minute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t.getMinut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Secon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.getSecon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time using individual set functions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t.setHour( 234 );    // invalid hour set to 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setMin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minute to valid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t.setSecond( 6373 ); // invalid second set to 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hour, minute and second after sett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valid hour and second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Result of attempting to set invalid hour and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second:\n  Hour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t.getHou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Minut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.getMinut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Secon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.getSecond() &lt;&lt; "\n\n"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setTi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crementMinutes( 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rement t's minute by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3886200" y="665280"/>
            <a:ext cx="4114800" cy="838080"/>
            <a:chOff x="3886200" y="665280"/>
            <a:chExt cx="4114800" cy="838080"/>
          </a:xfrm>
        </p:grpSpPr>
        <p:sp>
          <p:nvSpPr>
            <p:cNvPr id="496" name=""/>
            <p:cNvSpPr/>
            <p:nvPr/>
          </p:nvSpPr>
          <p:spPr>
            <a:xfrm>
              <a:off x="5334120" y="665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 to set invalid values using set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3886200" y="8175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3886200" y="2133720"/>
            <a:ext cx="4114800" cy="838080"/>
            <a:chOff x="3886200" y="2133720"/>
            <a:chExt cx="4114800" cy="838080"/>
          </a:xfrm>
        </p:grpSpPr>
        <p:sp>
          <p:nvSpPr>
            <p:cNvPr id="499" name=""/>
            <p:cNvSpPr/>
            <p:nvPr/>
          </p:nvSpPr>
          <p:spPr>
            <a:xfrm>
              <a:off x="5334120" y="2133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alid values result in setting data member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3886200" y="2286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3886200" y="3276720"/>
            <a:ext cx="4114800" cy="838080"/>
            <a:chOff x="3886200" y="3276720"/>
            <a:chExt cx="4114800" cy="838080"/>
          </a:xfrm>
        </p:grpSpPr>
        <p:sp>
          <p:nvSpPr>
            <p:cNvPr id="502" name=""/>
            <p:cNvSpPr/>
            <p:nvPr/>
          </p:nvSpPr>
          <p:spPr>
            <a:xfrm>
              <a:off x="5334120" y="3276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dify data members using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3886200" y="3429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75B57-112D-4C8F-9775-B05F99F04387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 specified number of minutes to a Tim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crementMinutes( Time &amp;t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crementing minute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times:\nStart tim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t.printStandar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count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t.setMinute( ( tt.getMinute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t.getMinute()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t.setHour( ( tt.getHour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minute + 1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t.printStandar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incrementMinu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4228920" y="1066680"/>
            <a:ext cx="4115160" cy="1447920"/>
            <a:chOff x="4228920" y="1066680"/>
            <a:chExt cx="4115160" cy="1447920"/>
          </a:xfrm>
        </p:grpSpPr>
        <p:sp>
          <p:nvSpPr>
            <p:cNvPr id="507" name=""/>
            <p:cNvSpPr/>
            <p:nvPr/>
          </p:nvSpPr>
          <p:spPr>
            <a:xfrm>
              <a:off x="5676840" y="10666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ing get functions to read data and set functions to modify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4228920" y="12193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4228920" y="1219320"/>
              <a:ext cx="14475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C26F6-1051-4AF4-965A-BC864044F37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590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of setting all valid value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our: 17  Minute: 34  Second: 2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of attempting to set invalid hour and second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our: 0  Minute: 43  Second: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crementing minute 3 time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 time: 11:58:00 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inute + 1: 11:59:00 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inute + 1: 12:00:00 P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inute + 1: 12:01:00 P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2666880" y="1294920"/>
            <a:ext cx="4114800" cy="1524960"/>
            <a:chOff x="2666880" y="1294920"/>
            <a:chExt cx="4114800" cy="1524960"/>
          </a:xfrm>
        </p:grpSpPr>
        <p:sp>
          <p:nvSpPr>
            <p:cNvPr id="513" name=""/>
            <p:cNvSpPr/>
            <p:nvPr/>
          </p:nvSpPr>
          <p:spPr>
            <a:xfrm>
              <a:off x="4114800" y="17524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ing to set data members with invalid values results in error message and members set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 flipV="1">
              <a:off x="2666880" y="1294920"/>
              <a:ext cx="14479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F2B8B-E066-456F-974C-F95F2CE918E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5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ubtle Trap: Returning a Reference to a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private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Data Memb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 to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ias for name of objec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receive value in assignment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s original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ing 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s can return 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ference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able to modif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5D6E4-AE1F-42AD-B0F8-2D42C25EDCB1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4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21: time4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claration of class Tim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s defined in time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event multiple inclusions of header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IME4_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IME4_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Hou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int &amp;badSetHour( int );  // DANGEROUS reference retur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ut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857320" y="2625840"/>
            <a:ext cx="4115160" cy="838080"/>
            <a:chOff x="2857320" y="2625840"/>
            <a:chExt cx="4115160" cy="838080"/>
          </a:xfrm>
        </p:grpSpPr>
        <p:sp>
          <p:nvSpPr>
            <p:cNvPr id="520" name=""/>
            <p:cNvSpPr/>
            <p:nvPr/>
          </p:nvSpPr>
          <p:spPr>
            <a:xfrm>
              <a:off x="4305240" y="262584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to demonstrate effects of returning referenc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2857320" y="27781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361A9-7DD5-45C2-8473-661FC3916C6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4.cpp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22: time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-function definitions for Time clas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definition of class Time from time4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me4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 function to initialize private dat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s member function setTime to set variabl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values are 0 (see class definitio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::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Time( hr, min, sec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im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values of hour, minute and 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::setTime(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our = ( h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h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h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inute = ( m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m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m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cond = ( s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s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s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set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A1BCC-D745-4C4B-9F30-183E57ED652C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dinnerTime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ariable of new type Time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nnerTime.hou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 member of dinnerTime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nnerTime.minut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minute member of dinner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nnerTime.secon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et second member of dinner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inner will be held a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Universal( dinnerTi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universal time,\nwhich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Standard( dinnerTime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standard time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nnerTime.hou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 to invalid value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nnerTime.minut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minute to invalid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ime with invalid value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Universal( dinnerTi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676160" y="304920"/>
            <a:ext cx="4115160" cy="1218960"/>
            <a:chOff x="1676160" y="304920"/>
            <a:chExt cx="4115160" cy="1218960"/>
          </a:xfrm>
        </p:grpSpPr>
        <p:sp>
          <p:nvSpPr>
            <p:cNvPr id="117" name=""/>
            <p:cNvSpPr/>
            <p:nvPr/>
          </p:nvSpPr>
          <p:spPr>
            <a:xfrm>
              <a:off x="3124080" y="3049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dot operator to initialize structure memb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676160" y="4572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676160" y="457200"/>
              <a:ext cx="14475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1676160" y="457200"/>
              <a:ext cx="14475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819160" y="2590920"/>
            <a:ext cx="4115160" cy="838080"/>
            <a:chOff x="2819160" y="2590920"/>
            <a:chExt cx="4115160" cy="838080"/>
          </a:xfrm>
        </p:grpSpPr>
        <p:sp>
          <p:nvSpPr>
            <p:cNvPr id="122" name=""/>
            <p:cNvSpPr/>
            <p:nvPr/>
          </p:nvSpPr>
          <p:spPr>
            <a:xfrm>
              <a:off x="4267080" y="25909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rect access to data allows assignment of bad valu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819160" y="27432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8BD32-BA38-419E-8995-7A9FB9A040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4.cpp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hou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getHou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Hou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// POOR PROGRAMMING PRACTICE: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// Returning a reference to a private data memb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int &amp;Time::badSetHour( int hh )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our = ( hh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hh 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hh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return hour;  // DANGEROUS reference return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badSetHour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1904760" y="2133720"/>
            <a:ext cx="4115160" cy="838080"/>
            <a:chOff x="1904760" y="2133720"/>
            <a:chExt cx="4115160" cy="838080"/>
          </a:xfrm>
        </p:grpSpPr>
        <p:sp>
          <p:nvSpPr>
            <p:cNvPr id="527" name=""/>
            <p:cNvSpPr/>
            <p:nvPr/>
          </p:nvSpPr>
          <p:spPr>
            <a:xfrm>
              <a:off x="3352680" y="21337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referenc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1904760" y="22860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0DE69-DB28-441E-9F01-58466C32EA6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23: fig06_2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a public member function th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s a reference to a private data memb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definition of class Time from time4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me4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// store in hourRef the reference returned by badSetHou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int &amp;hourRef = t.badSetHour( 20 );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our before modification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hourRef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// use hourRef to set invalid value in Time object 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hourRef = 30;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Hour after modification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.getHou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3962160" y="2895480"/>
            <a:ext cx="4115160" cy="838440"/>
            <a:chOff x="3962160" y="2895480"/>
            <a:chExt cx="4115160" cy="838440"/>
          </a:xfrm>
        </p:grpSpPr>
        <p:sp>
          <p:nvSpPr>
            <p:cNvPr id="532" name=""/>
            <p:cNvSpPr/>
            <p:nvPr/>
          </p:nvSpPr>
          <p:spPr>
            <a:xfrm>
              <a:off x="5410080" y="28954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adSet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turns referenc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3962160" y="30481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057400" y="4038480"/>
            <a:ext cx="4114800" cy="838440"/>
            <a:chOff x="2057400" y="4038480"/>
            <a:chExt cx="4114800" cy="838440"/>
          </a:xfrm>
        </p:grpSpPr>
        <p:sp>
          <p:nvSpPr>
            <p:cNvPr id="535" name=""/>
            <p:cNvSpPr/>
            <p:nvPr/>
          </p:nvSpPr>
          <p:spPr>
            <a:xfrm>
              <a:off x="3505320" y="4038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ference allows setting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2057400" y="4191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D0854-FB4A-4C83-9D08-6F49D0EFA65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048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// Dangerous: Function call that retur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// a reference can be used as an lvalue!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t.badSetHour( 12 ) = 74;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"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\n\n*********************************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     &lt;&lt; "POOR PROGRAMMING PRACTICE!!!!!!!!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     &lt;&lt; "badSetHour as an lvalue, Hour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t.getHou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*********************************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3048120"/>
            <a:ext cx="7010280" cy="1676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our before modification: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our after modification: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OR PROGRAMMING PRACTICE!!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adSetHour as an lvalue, Hour: 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2286000" y="838080"/>
            <a:ext cx="4114800" cy="885600"/>
            <a:chOff x="2286000" y="838080"/>
            <a:chExt cx="4114800" cy="885600"/>
          </a:xfrm>
        </p:grpSpPr>
        <p:sp>
          <p:nvSpPr>
            <p:cNvPr id="541" name=""/>
            <p:cNvSpPr/>
            <p:nvPr/>
          </p:nvSpPr>
          <p:spPr>
            <a:xfrm>
              <a:off x="3733920" y="11430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n use function call as lvalue to set invalid valu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flipV="1">
              <a:off x="2286000" y="83808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3352680" y="3484440"/>
            <a:ext cx="4114800" cy="838440"/>
            <a:chOff x="3352680" y="3484440"/>
            <a:chExt cx="4114800" cy="838440"/>
          </a:xfrm>
        </p:grpSpPr>
        <p:sp>
          <p:nvSpPr>
            <p:cNvPr id="544" name=""/>
            <p:cNvSpPr/>
            <p:nvPr/>
          </p:nvSpPr>
          <p:spPr>
            <a:xfrm>
              <a:off x="4800600" y="348444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ing reference allowed invalid setting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3352680" y="3637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8A8E9-464D-4AFC-821E-6285F5B47313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6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fault Memberwise Assign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ment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assign one object to another of same ty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: memberwise 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right member assigned individually to lef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ing, return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s passed as function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s returned from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: pass-by-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y of object passed, retur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y 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y original values into new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0F4B6-AF68-47B3-BE10-FE526A5FAA8F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24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24: fig06_24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that class objects can be assign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each other using default memberwise assignmen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D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9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nt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ea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AB383-9846-4B27-BC6A-726B623AEC77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24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e constructor with no range check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::D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onth = 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y = 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ear =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at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Date in the format mm-dd-yyy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::prin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month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-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ay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-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ea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 date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 date2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ate2 defaults to 1/1/199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878C1-9431-42BC-9D13-D976EA124F02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24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24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352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te1 = "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1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ate2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2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2 = date1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efault memberwise assign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default memberwise assignment, date2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2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327672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1 = 7-4-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2 = 1-1-19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default memberwise assignment, date2 = 7-4-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2057400" y="492120"/>
            <a:ext cx="4114800" cy="1310760"/>
            <a:chOff x="2057400" y="492120"/>
            <a:chExt cx="4114800" cy="1310760"/>
          </a:xfrm>
        </p:grpSpPr>
        <p:sp>
          <p:nvSpPr>
            <p:cNvPr id="556" name=""/>
            <p:cNvSpPr/>
            <p:nvPr/>
          </p:nvSpPr>
          <p:spPr>
            <a:xfrm>
              <a:off x="3505320" y="49212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ault memberwise assignment assigns each member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dividually to each member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2057400" y="644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51F16-AB2C-421B-A901-28C1BA54BAC6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7    Software Reusability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reus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libra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fully te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docu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dely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eds development of powerful, high-quality soft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pid applications development (R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ulting probl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aloging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censing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ion mechani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F7847-2881-4E01-9DCB-4CFB603A1128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ime in universal-time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Univers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&amp;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etfil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0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t.hou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t.minut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t.seco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Uni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ime in standard-time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Standar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&amp;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( ( t.hou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t.hou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t.hou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fil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t.minut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t.seco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t.hour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M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Standa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419720"/>
            <a:ext cx="7010280" cy="1218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inner will be held at 18:30:00 universal tim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ch is 6:30:00 PM standard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 with invalid values: 29:73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438280" y="990360"/>
            <a:ext cx="5905800" cy="2057760"/>
            <a:chOff x="2438280" y="990360"/>
            <a:chExt cx="5905800" cy="2057760"/>
          </a:xfrm>
        </p:grpSpPr>
        <p:sp>
          <p:nvSpPr>
            <p:cNvPr id="128" name=""/>
            <p:cNvSpPr/>
            <p:nvPr/>
          </p:nvSpPr>
          <p:spPr>
            <a:xfrm>
              <a:off x="5676840" y="15238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parameterized stream manipul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fil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2438280" y="990360"/>
              <a:ext cx="3238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5257800" y="1676520"/>
              <a:ext cx="41904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819160" y="1218960"/>
            <a:ext cx="5105520" cy="2286360"/>
            <a:chOff x="2819160" y="1218960"/>
            <a:chExt cx="5105520" cy="2286360"/>
          </a:xfrm>
        </p:grpSpPr>
        <p:sp>
          <p:nvSpPr>
            <p:cNvPr id="132" name=""/>
            <p:cNvSpPr/>
            <p:nvPr/>
          </p:nvSpPr>
          <p:spPr>
            <a:xfrm>
              <a:off x="5257800" y="2133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dot operator to access data memb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2819160" y="2286000"/>
              <a:ext cx="24382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819160" y="2286000"/>
              <a:ext cx="24382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2819160" y="1218960"/>
              <a:ext cx="243828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2819160" y="1447920"/>
              <a:ext cx="24382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B0286-200C-4BDE-A4C6-5CA55D5F88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6T18:12:00Z</dcterms:created>
  <dc:creator>Audrey Lee</dc:creator>
  <dc:description/>
  <dc:language>en-US</dc:language>
  <cp:lastModifiedBy>Pearson Education</cp:lastModifiedBy>
  <dcterms:modified xsi:type="dcterms:W3CDTF">2002-08-05T13:03:15Z</dcterms:modified>
  <cp:revision>134</cp:revision>
  <dc:subject/>
  <dc:title>Chapter 6: Classes and Data Abstraction </dc:title>
</cp:coreProperties>
</file>