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7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30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1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14.xml" ContentType="application/vnd.openxmlformats-officedocument.presentationml.slide+xml"/>
  <Override PartName="/ppt/slides/slide89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5383A-2FF9-45B9-835A-7265E70288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72504-064E-48C1-8144-04AFC60BCB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30157-81EE-4797-8917-2093932403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F4E0F-0B60-4A3B-A5D8-0B08413B55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BCFDA-B112-45ED-B633-9C22987557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DE8C7-1123-47D0-9258-31BB24B3FF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3A5AA-B554-4B6E-83FD-B8F76DC42B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6D35D-C9EB-4A3C-968A-13199A0ABE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24591-BF8D-46F3-97FC-FF6DCAC764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66DD7-19D4-48ED-AA80-A7A218D4B8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FBE59-0ED5-4F85-B883-37E922DDB7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E4CB1-0569-4153-80F3-6846EF1FA7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19B87-A9D6-437B-B9D5-9D18DD8D1D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F652C-B89B-4176-ABD1-FDDFB7F049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6E311-0D56-477B-A8F3-A65A03352C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B4107-AFC4-496E-8A61-AC94E1B9DE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4F846-4CCE-45CA-825B-F09A7B4468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52D21-57E7-450A-8872-982EE4482F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5655A-F692-4083-B4AA-3890C2B4E0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DB014-8800-4384-ABBE-8DEB60562F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079A4-58CD-4BF1-A12C-D8F6F1D7FC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ADB81-1017-4BC3-AD4C-5BB34CCCEB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9FCEA-B78E-4363-8F5F-6918579F39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8BA70-07ED-443C-839C-7F46244B6C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7125-6925-4F15-9DD0-5823AADB5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56F9-C3CB-459E-BA9A-3E12DEE63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4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4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4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4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6 - Web Programming with CGI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295280"/>
            <a:ext cx="77724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6.1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6.2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HTTP Request Ty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6.3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Multi-Tier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6.4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Accessing Web Ser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6.5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Apache HTTP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6.6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Requesting XHTML Doc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6.7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Introduction to CG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6.8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Simple HTTP 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6.9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Simple CGI Scri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6.10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Sending Input to a CGI Scri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6.11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Using XHTML Forms to Send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6.12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Other He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6.13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Case Study: An Interactive Web 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6.14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Cook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6.15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Server-Side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6.16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Case Study: Shopping C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6.17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Internet and Web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3A588-CBF3-4E83-ACD7-EA8F6E3C612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 to CGI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Gateway Interface (CG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s applications to interact with Web serv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rectly interact with clients/Web brow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make decision based on user in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ynamic Web p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generated when page reques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tic Web pag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s before request made (lik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st.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Common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specific to any operating system or langu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use C, C++, Perl, Python, Visual Basic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F0815-7D42-4701-BAEB-9B40E97EF0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op.cpp (3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available books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center&gt;&lt;br/&gt;Books available for sale&lt;br/&gt;"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a href=\"/cgi-bin/logout.cgi\"&gt;Sign Out"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a&gt;&lt;br/&gt;&lt;br/&gt;"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able border = \"1\" cellpadding = \"7\" 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le is op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serData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rieve data from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serData.getline( book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okString = boo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serData.getline( year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yearString = yea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serData.getline( isbn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sbnString = isb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serData.getline( price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ceString = pr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3D761-14FD-4376-905D-FBE875CB734A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op.cpp (4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r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d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bookString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t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d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yearString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t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d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sbnString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t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d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priceString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td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le is still open after rea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serData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form with buy button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d&gt;&lt;form method=\"post\" "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tion=\"/cgi-bin/viewcart.cgi\"&gt;"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input type=\"hidden\" name=\"add\"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=\"true\"/&gt;"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input type=\"hidden\" name=\"isbn\"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=\"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isbnString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"/&gt;"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input type=\"submit\""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=\"Buy\"/&gt;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form&gt;&lt;/td&gt;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tr&gt;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table&gt;&lt;/center&gt;&lt;/body&gt;&lt;/html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8B5B4-B0EF-4AD2-B33E-020977048F82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op.cpp (5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114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o output header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ad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-Type: text/html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XML declaration and DOC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?xml version = \"1.0\"?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!DOCTYPE html PUBLIC \"-//W3C//DTD XHTML 1.0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ansitional//EN\" \"http://www.w3.org/TR/xhtml1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DTD/xhtml1-transitional.dtd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tml element and some of its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tml xmlns = \"http://www.w3.org/1999/xhtml\"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ead&gt;&lt;title&gt;Login Page&lt;/title&gt;&lt;/hea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ody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02476-3EAD-475F-AAD3-A11418C185B4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op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casestudy_6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5495760" cy="451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D54E7-431F-49CF-ABB8-190EEEF56FA7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ewcar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6.23: viewcart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gram to view books in the shopping car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er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o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f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f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f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Book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FEEB0-A14C-4EF9-B962-66F97921A5BC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ewcar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324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ariable to store query 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er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cartData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ariable to hold contents of 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data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cookie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isbnEntere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tentLengt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rieve cookie data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getenv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_COOKI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artData = getenv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_COOKI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okieString = cartData;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a was enter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getenv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_LENGT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Length = atoi( getenv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_LENGT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.read( query, contentLength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taString = que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ind location of isbn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Location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Add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amp;isb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nLocation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b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504F5-4652-4C0B-8BC1-48BB1ACB409E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ewcar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rieve isbn number to add to 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sbnEntered = dataString.substr( isbnLoca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rite cooki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expire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riday, 14-MAY-10 16:00:00 GM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rtLocation = cookie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RT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okie exists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artLocation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okieString = cookieString.substr( cartLoca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cookie data exis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ookieString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okieString = isbnEnter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okie data exis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okieString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,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isbnEnter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cookie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t-Cookie: CART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ookieString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; expires=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expires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; path=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3352680" y="3048120"/>
            <a:ext cx="4114800" cy="838080"/>
            <a:chOff x="3352680" y="3048120"/>
            <a:chExt cx="4114800" cy="838080"/>
          </a:xfrm>
        </p:grpSpPr>
        <p:sp>
          <p:nvSpPr>
            <p:cNvPr id="439" name=""/>
            <p:cNvSpPr/>
            <p:nvPr/>
          </p:nvSpPr>
          <p:spPr>
            <a:xfrm>
              <a:off x="4800600" y="304812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ppend to old cook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3352680" y="3200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8ACEA-17B1-45FA-802E-D396C7E5749D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ewcar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-Type: text/html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XML declaration and DOC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?xml version = \"1.0\"?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!DOCTYPE html PUBLIC \"-//W3C//DTD XHTML 1.0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ansitional//EN\" \"http://www.w3.org/TR/xhtml1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DTD/xhtml1-transitional.dtd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tml element and some of its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tml xmlns = \"http://www.w3.org/1999/xhtml\"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ead&gt;&lt;title&gt;Shopping Cart&lt;/title&gt;&lt;/hea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ody&gt;&lt;center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Here is your current order: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okie data exists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ookieString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putBooks( cookieString, isbnEntere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body&gt;&lt;/html&gt;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AABA1-4B0D-4496-B67D-28CD20796330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ewcar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o output books in catalog.t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Book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cookieRef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isbnRef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k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ear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n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c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book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year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isbn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price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open file for in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fstream userData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talog.t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os::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le could not be open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userData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r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uld not open database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F9F39-EFF1-4B39-AFC0-998FF17CA101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ewcar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6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link to log out and table to display book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a href=\"/cgi-bin/logout.cgi\"&gt;Sign Ou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a&gt;&lt;br&gt;&lt;br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able border = 1 cellpadding = 7 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le is op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serData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rieve book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serData.getline( book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okString = boo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rieve year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serData.getline( year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yearString = yea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rieve isbn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serData.getline( isbn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sbnString = isb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rieve pr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serData.getline( price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ceString = pr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1D000-BA5A-4575-A20A-14D56E46DDED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8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imple HTTP Transa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basic understanding of net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bes methods and hea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 server/client to interact in uniform, predictable 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b p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st form, XHTML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in text file, has markings (markup) to describ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itle&gt;My Web Page&lt;/titl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ates text between markup elements is title of web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yperlin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user clicks, Web browser loads new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839F8-09A7-4E92-B7B5-0E2CB250A3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ewcar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7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ch = cookieRef.find( isb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tch has been ma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atch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isbnRef == isbnString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table row with book information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r&gt;"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form method=\"post\""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tion=\"/cgi-bin/viewcart.cgi\"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d&gt;" &lt;&lt; bookString &lt;&lt; "&lt;/td&gt;"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d&gt;" &lt;&lt; yearString &lt;&lt; "&lt;/td&gt;"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d&gt;" &lt;&lt; isbnString &lt;&lt; "&lt;/td&gt;"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d&gt;" &lt;&lt; priceString &lt;&lt; "&lt;/td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form&gt;&lt;/tr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link to add more book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a href=\"/cgi-bin/shop.cgi\"&gt;Back to book list&lt;/a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utputBook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C2ECF-B8AE-4F8B-9CC9-10C4701B614C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ewcar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casestudy_8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6172200" cy="289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6418F-D345-4CA5-9B1C-38A050B301CF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gout.cpp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6.24: logout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gram to log out of the syste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ti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riteCooki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rite the cooki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writeCooki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-Type: text/html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057400" y="3581280"/>
            <a:ext cx="4114800" cy="838440"/>
            <a:chOff x="2057400" y="3581280"/>
            <a:chExt cx="4114800" cy="838440"/>
          </a:xfrm>
        </p:grpSpPr>
        <p:sp>
          <p:nvSpPr>
            <p:cNvPr id="454" name=""/>
            <p:cNvSpPr/>
            <p:nvPr/>
          </p:nvSpPr>
          <p:spPr>
            <a:xfrm>
              <a:off x="3505320" y="35812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writeCooki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erase previous inform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2057400" y="3733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2A34A-0DBB-4FE1-B468-A66F1FADFE22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gout.cpp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343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XML declaration and DOC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"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&lt;?xml version = \"1.0\"?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!DOCTYPE html PUBLIC \"-//W3C//DTD XHTML 1.0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ansitional//EN\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tml element and its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tml xmlns = \"http://www.w3.org/1999/xhtml\"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ead&gt;&lt;title&gt;Logged Out&lt;/title&gt;&lt;/hea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ody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center&gt;&lt;p&gt;You are now logged out&lt;br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ou will be billed accordingly&lt;br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o login again,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a href=\"/cgi-bin/login.cgi\"&gt;click here&lt;/a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body&gt;&lt;/html&gt;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CB39D-254F-4135-BB67-C15D7CF9BA81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gout.cpp 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gou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666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o write cooki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riteCooki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ing containing expiration date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expire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riday, 14-MAY-10 16:00:00 GM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cookie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t-Cookie: CART=; expires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xpir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; path=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riteCooki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60" name="casestudy_7" descr=""/>
          <p:cNvPicPr/>
          <p:nvPr/>
        </p:nvPicPr>
        <p:blipFill>
          <a:blip r:embed="rId1"/>
          <a:stretch/>
        </p:blipFill>
        <p:spPr>
          <a:xfrm>
            <a:off x="1600200" y="3247920"/>
            <a:ext cx="3448080" cy="210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692D4-C6DD-4122-B5AB-A7DCC96DFDB1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8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imple HTTP Transa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://www.deitel.com/books/downloads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http:/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HTTP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ww.deitel.c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stname of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books/downloads.htm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resourc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wnloads.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th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book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ten a virtual directory, hides real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7DC67-5A3E-4316-BE13-7669558418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8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imple HTTP Transa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ep 1: Send HTTP request to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 /books/downloads/html HTTP/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ost: www.deite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 is HTTP method (client wants to get resour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and path of re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ocol name and version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ep 2: Server respon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line of response could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/1.1 200 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/1.1 404 Not F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89690-9B5B-4658-B290-29BB635FCF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8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imple HTTP Transa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ep 2: Server response (continu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 headers (info about data being s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ent-Type: text/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ME types used by browser to proces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age/g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xt/pl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, blank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ates end of HTTP hea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lly, contents of document 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ent interprets XHTML, displays resul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20B43-CAE2-42CE-BF24-B45AC511D1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9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imple CGI Scrip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ing a page continuous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play current time or wea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ually editing is tedio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wever, can write C++ program easi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to output current time and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_t currentTime;    // time_t defined in &lt;c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( &amp;currentTime );  // asctime and localtime defined in &lt;c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asctime( localtime( &amp;currentTime ) )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ocalti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turns pointer to "broken-down"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urs, seconds, minutes sepa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scti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nverts "broken-down" time into st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ed Jul 31 13:10:37 200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CFD4A-B56F-49CA-BB62-9B1B1ED484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9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imple CGI Scrip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, need to output to Web brow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th CGI, redirect output to Web server itsel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 goes to client's brows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goes to standard out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C++ program executed as CGI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output redirected to client Web 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execut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t C++ executable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gi-b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irect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nged extension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ex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cg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caltime.c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run scrip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://localhost/cgi-bin/localtime.c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F0C3B-9B79-493D-8054-B58436A1F7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caltim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6.5: localtime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s the current date and time in a Web brows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ti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_t currentTime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ariable for storing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eader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-Type: text/html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XML declaration and DOCTYPE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?xml version = \"1.0\"?&gt;"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!DOCTYPE html PUBLIC \"-//W3C//DTD XHTML 1.0 "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ansitional//EN\" \"http://www.w3.org/TR/xhtml1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DTD/xhtml1-transitional.dtd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( &amp;currentTime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ore time in current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438280" y="2362320"/>
            <a:ext cx="4114800" cy="1067400"/>
            <a:chOff x="2438280" y="2362320"/>
            <a:chExt cx="4114800" cy="1067400"/>
          </a:xfrm>
        </p:grpSpPr>
        <p:sp>
          <p:nvSpPr>
            <p:cNvPr id="166" name=""/>
            <p:cNvSpPr/>
            <p:nvPr/>
          </p:nvSpPr>
          <p:spPr>
            <a:xfrm>
              <a:off x="3886200" y="23623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ost of program creates the text HTTP response, containing the contents of the XHTML fi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438280" y="25146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3EAFC-1AAF-4B99-8540-42F8FD5A1A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caltim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caltim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209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tml element and some of its contents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tml xmlns = \"http://www.w3.org/1999/xhtml\"&gt;"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ead&gt;&lt;title&gt;Current date and time&lt;/title&gt;&lt;/head&gt;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ody&gt;&lt;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asctime( localtime( &amp;currentTime )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p&gt;&lt;/body&gt;&lt;/html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70" name="localtime" descr=""/>
          <p:cNvPicPr/>
          <p:nvPr/>
        </p:nvPicPr>
        <p:blipFill>
          <a:blip r:embed="rId1"/>
          <a:stretch/>
        </p:blipFill>
        <p:spPr>
          <a:xfrm>
            <a:off x="914400" y="2567160"/>
            <a:ext cx="4105440" cy="1723680"/>
          </a:xfrm>
          <a:prstGeom prst="rect">
            <a:avLst/>
          </a:prstGeom>
          <a:ln w="0">
            <a:noFill/>
          </a:ln>
        </p:spPr>
      </p:pic>
      <p:grpSp>
        <p:nvGrpSpPr>
          <p:cNvPr id="171" name=""/>
          <p:cNvGrpSpPr/>
          <p:nvPr/>
        </p:nvGrpSpPr>
        <p:grpSpPr>
          <a:xfrm>
            <a:off x="3505320" y="1066320"/>
            <a:ext cx="3124080" cy="871200"/>
            <a:chOff x="3505320" y="1066320"/>
            <a:chExt cx="3124080" cy="871200"/>
          </a:xfrm>
        </p:grpSpPr>
        <p:sp>
          <p:nvSpPr>
            <p:cNvPr id="172" name=""/>
            <p:cNvSpPr/>
            <p:nvPr/>
          </p:nvSpPr>
          <p:spPr>
            <a:xfrm>
              <a:off x="3962520" y="160020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the current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3505320" y="1066320"/>
              <a:ext cx="457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53C53-9024-44C9-847D-FD2100FAAA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9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imple CGI Scrip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sends output to client via HT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ent treats it like a server respon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ds header, XHTML elements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ed l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ep 1: Client reques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://localhost/cgi-bin/localtime.c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ly configured server realizes CGI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s not to deliver it like a regular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ep 2: Server runs scrip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ep 3: Output of script goes to Web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ep 4: Server adds heade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HTTP/1.1 200 O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tire output to client, which processes and disp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25722-EF06-4DBF-8D1F-AFB3103249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1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ponds to client, provides resource (like XHTML pag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HTML replacing 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information in Appendix B of 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RL is a request for a doc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b server maps URL (Uniform Resource Locator) to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requested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ypertext Transfer Protoc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atform independ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nsfer requests and files over Inter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EE985-D129-4DCE-8AE5-46D31ECD14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9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imple CGI Scrip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view output of scri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u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ocaltime.cg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rom command l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st like in other chap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Windows, change back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ex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GI programs must inser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tent-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XHTML file, Web server adds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E4B58-9324-4F34-BA40-DA318581FFF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caltime.cgi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7010280" cy="3505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ent-Type: text/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xml version = "1.0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DOCTYPE html PUBLIC "-//W3C//DTD XHTML 1.0 Transitional//EN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"http://www.w3.org/TR/xhtml1/DTD/xhtml1-transitional.dtd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tml xmlns = "http://www.w3.org/1999/xhtm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itle&gt;Current date and time&lt;/tit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&gt;Mon Jul 15 13:52:45 2002&lt;/p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/html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E8FE8-B1F2-470E-8D50-F48E43EF9C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9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imple CGI Scrip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vironment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fo about client and server environ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of Web 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of document on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env( const char * variableName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s value of environment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s in X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tr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ble row st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s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td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ew table ce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d&gt; My data &lt;/t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85634-D458-4FBB-88C5-E8DB0E54EA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vironmen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248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6.8: environment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gram to display CGI environment variabl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environmentVariabl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MSPEC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OCUMENT_ROO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ATEWAY_INTERFA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_ACCEP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_ACCEPT_ENCOD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_ACCEPT_LANGUA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_CONNEC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_HO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_USER_AGE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T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QUERY_STR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MOTE_ADD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MOTE_POR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QUEST_METHO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QUEST_URI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CRIPT_FILE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CRIPT_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RVER_ADD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RVER_ADMI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RVER_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RVER_POR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RVER_PROTOCO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RVER_SIGNATUR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RVER_SOFTWAR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-Type: text/html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047760" y="2438280"/>
            <a:ext cx="4115160" cy="838440"/>
            <a:chOff x="3047760" y="2438280"/>
            <a:chExt cx="4115160" cy="838440"/>
          </a:xfrm>
        </p:grpSpPr>
        <p:sp>
          <p:nvSpPr>
            <p:cNvPr id="185" name=""/>
            <p:cNvSpPr/>
            <p:nvPr/>
          </p:nvSpPr>
          <p:spPr>
            <a:xfrm>
              <a:off x="4495680" y="24382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rray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 containing the various environment variabl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047760" y="25909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36D40-94CB-4EB7-A2D1-4203EC8F57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vironmen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XML declaration and DOC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?xml version = \"1.0\"?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!DOCTYPE html PUBLIC \"-//W3C//DTD XHTML 1.0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ansitional//EN\" \"http://www.w3.org/TR/xhtml1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DTD/xhtml1-transitional.dtd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tml element and some of its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tml xmlns = \"http://www.w3.org/1999/xhtml\"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ead&gt;&lt;title&gt;Environment Variables&lt;/title&gt;&lt;/hea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ody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egin outputting t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able border = \"0\" cellspacing = \"2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terate through environment variables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r&gt;&lt;td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vironmentVariables[ i ]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td&gt;&lt;td&gt;"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getenv( environmentVariables[ i ].data(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td&gt;&lt;/tr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table&gt;&lt;/body&gt;&lt;/html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00400" y="3276720"/>
            <a:ext cx="4114800" cy="838080"/>
            <a:chOff x="3200400" y="3276720"/>
            <a:chExt cx="4114800" cy="838080"/>
          </a:xfrm>
        </p:grpSpPr>
        <p:sp>
          <p:nvSpPr>
            <p:cNvPr id="190" name=""/>
            <p:cNvSpPr/>
            <p:nvPr/>
          </p:nvSpPr>
          <p:spPr>
            <a:xfrm>
              <a:off x="4648320" y="32767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output a C-sty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har 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3200400" y="3429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6B618-7E79-4218-9A3E-39F72869DF3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vironmen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environment_1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6399360" cy="477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96A08-B71A-4B4E-ACF5-2BEC89D6C52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vironmen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environment_2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6399000" cy="360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51735-43A2-4683-871E-453DED88761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10  Sending Input to a CGI Scrip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ly any data to CGI scri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vironment varia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QUERY_ST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s info appended to URL in get requ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somesi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com/cgi-bin/script.cgi?state=Califor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es data follow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?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QUERY_ST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=Califor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stion mark delimiter (not stored in query str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pcoming 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user entry query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700"/>
              </a:spcAft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=Jill&amp;age=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0541E-7694-4807-B70B-7791659DECE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erystring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6.9: querystring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QUERY_STRING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query = getenv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QUERY_STR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-Type: text/html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XML declaration and DOC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?xml version = \"1.0\"?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!DOCTYPE html PUBLIC \"-//W3C//DTD XHTML 1.0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ansitional//EN\" \"http://www.w3.org/TR/xhtml1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DTD/xhtml1-transitional.dtd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047760" y="2362320"/>
            <a:ext cx="4115160" cy="838080"/>
            <a:chOff x="3047760" y="2362320"/>
            <a:chExt cx="4115160" cy="838080"/>
          </a:xfrm>
        </p:grpSpPr>
        <p:sp>
          <p:nvSpPr>
            <p:cNvPr id="201" name=""/>
            <p:cNvSpPr/>
            <p:nvPr/>
          </p:nvSpPr>
          <p:spPr>
            <a:xfrm>
              <a:off x="4495680" y="23623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o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QUERY_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located in the UR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3047760" y="25146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1B0E2-95B5-4CE2-9D2A-DAE0405CD64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erystring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tml element and some of its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tml xmlns = \"http://www.w3.org/1999/xhtml\"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ead&gt;&lt;title&gt;Name/Value Pairs&lt;/title&gt;&lt;/hea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ody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2&gt;Name/Value Pairs&lt;/h2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query contained no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query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ease add some name-value pairs to the URL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bove.&lt;br/&gt;Or try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a href=\"querystring.cgi?name=Joe&amp;age=29\"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is&lt;/a&gt;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r entered query 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The query string is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query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body&gt;&lt;/html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733560" y="2819520"/>
            <a:ext cx="4115160" cy="838080"/>
            <a:chOff x="3733560" y="2819520"/>
            <a:chExt cx="4115160" cy="838080"/>
          </a:xfrm>
        </p:grpSpPr>
        <p:sp>
          <p:nvSpPr>
            <p:cNvPr id="206" name=""/>
            <p:cNvSpPr/>
            <p:nvPr/>
          </p:nvSpPr>
          <p:spPr>
            <a:xfrm>
              <a:off x="5181480" y="281952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query is not empty, print i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3733560" y="29718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886200" y="1752480"/>
            <a:ext cx="4114800" cy="838440"/>
            <a:chOff x="3886200" y="1752480"/>
            <a:chExt cx="4114800" cy="838440"/>
          </a:xfrm>
        </p:grpSpPr>
        <p:sp>
          <p:nvSpPr>
            <p:cNvPr id="209" name=""/>
            <p:cNvSpPr/>
            <p:nvPr/>
          </p:nvSpPr>
          <p:spPr>
            <a:xfrm>
              <a:off x="5334120" y="17524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nk to URL with query string inser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3886200" y="1905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9D5E6-FEA5-48CD-8EBD-CDDB87C1F93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HTTP Request Typ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 request methods (typ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ies how client makes requests of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HTML element with buttons, text fields, GUI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enter data into a web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send data to server; part of U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searchsomething.com/search?query=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ser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 aft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user input (query str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 limit on size (depends on serv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cannot see query fie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elds can exceed get size li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F38CF-D6D4-4484-A55B-6463E76D8F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erystring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querystring_1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4219560" cy="2171880"/>
          </a:xfrm>
          <a:prstGeom prst="rect">
            <a:avLst/>
          </a:prstGeom>
          <a:ln w="0">
            <a:noFill/>
          </a:ln>
        </p:spPr>
      </p:pic>
      <p:pic>
        <p:nvPicPr>
          <p:cNvPr id="213" name="querystring_2" descr=""/>
          <p:cNvPicPr/>
          <p:nvPr/>
        </p:nvPicPr>
        <p:blipFill>
          <a:blip r:embed="rId2"/>
          <a:stretch/>
        </p:blipFill>
        <p:spPr>
          <a:xfrm>
            <a:off x="1219320" y="3352680"/>
            <a:ext cx="421956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84B55-CD89-4C3A-8164-71AEB769B01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erystring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querystring_3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4219560" cy="2171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8F9ED-D430-4E3E-B175-D2FFDA2E2CD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11  Using XHTML Forms to Send Inpu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ng input into URLs clum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s on Web p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sy way to input in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curs when user submits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us, will call CGI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eth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of HTTP request to use (GET, PO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demonstrate both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HTML form can have any number of el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3889D-5DFF-4499-AC79-94CB2C4B462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31840" y="368280"/>
          <a:ext cx="8356680" cy="895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368280"/>
                    <a:ext cx="8356680" cy="895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04DE7-3920-4D19-B47E-02547E6FBA4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31840" y="1328760"/>
          <a:ext cx="8308800" cy="890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1328760"/>
                    <a:ext cx="8308800" cy="89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EA6CC-115D-43DC-96EB-8F180E15BC5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11  Using XHTML Forms to Send Inpu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u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form method = "get" action = "getquery.cgi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nput type = "text" name = "word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nput type = "submit" value = "Submit Word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for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or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a single-line text input bo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submit button pres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d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ordEnte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ppended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UERY_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B112F-4BBA-4E7C-8098-D6C76696B41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tquery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6.11: getquery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es GET method with XHTML for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name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word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query = getenv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QUERY_STR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-Type: text/html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352680" y="2819520"/>
            <a:ext cx="4114800" cy="838080"/>
            <a:chOff x="3352680" y="2819520"/>
            <a:chExt cx="4114800" cy="838080"/>
          </a:xfrm>
        </p:grpSpPr>
        <p:sp>
          <p:nvSpPr>
            <p:cNvPr id="229" name=""/>
            <p:cNvSpPr/>
            <p:nvPr/>
          </p:nvSpPr>
          <p:spPr>
            <a:xfrm>
              <a:off x="4800600" y="28195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et query string, if any. If this is the first time the page is loaded, this will be empt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3352680" y="2971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846DB-C400-4845-9841-159C3C003FC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tquery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114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XML declaration and DOC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?xml version = \"1.0\"?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!DOCTYPE html PUBLIC \"-//W3C//DTD XHTML 1.0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ansitional//EN\" \"http://www.w3.org/TR/xhtml1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DTD/xhtml1-transitional.dtd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tml element and some of its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tml xmlns = \"http://www.w3.org/1999/xhtml\"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ead&gt;&lt;title&gt;Using GET with Forms&lt;/title&gt;&lt;/hea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ody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xhtml for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Enter one of your favorite words here:&lt;/p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form method = \"get\" action = \"getquery.cgi\"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input type = \"text\" name = \"word\"/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input type = \"submit\" value = \"Submit Word\"/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form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819160" y="1981080"/>
            <a:ext cx="4115160" cy="838440"/>
            <a:chOff x="2819160" y="1981080"/>
            <a:chExt cx="4115160" cy="838440"/>
          </a:xfrm>
        </p:grpSpPr>
        <p:sp>
          <p:nvSpPr>
            <p:cNvPr id="234" name=""/>
            <p:cNvSpPr/>
            <p:nvPr/>
          </p:nvSpPr>
          <p:spPr>
            <a:xfrm>
              <a:off x="4267080" y="19810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form. Note that the form calls this CGI script when submit press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2819160" y="21337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07F14-52AA-4250-8C0F-A2EBC10484E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tquery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query is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query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Please enter a word.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r entered query 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ordLocation = query.find_first_of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ord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ordString = query.substr( wordLoca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word was enter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wordString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Please enter a word.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ord was enter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Your word is: " &lt;&lt; wordString &lt;&lt; "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body&gt;&lt;/html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276360" y="76320"/>
            <a:ext cx="4115160" cy="1067400"/>
            <a:chOff x="3276360" y="76320"/>
            <a:chExt cx="4115160" cy="1067400"/>
          </a:xfrm>
        </p:grpSpPr>
        <p:sp>
          <p:nvSpPr>
            <p:cNvPr id="239" name=""/>
            <p:cNvSpPr/>
            <p:nvPr/>
          </p:nvSpPr>
          <p:spPr>
            <a:xfrm>
              <a:off x="4724280" y="7632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n the first execution of this script, query is empty. When the user enters a word, the script is run agai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3276360" y="228600"/>
              <a:ext cx="1447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3885840" y="1752120"/>
            <a:ext cx="3810240" cy="1510200"/>
            <a:chOff x="3885840" y="1752120"/>
            <a:chExt cx="3810240" cy="1510200"/>
          </a:xfrm>
        </p:grpSpPr>
        <p:sp>
          <p:nvSpPr>
            <p:cNvPr id="242" name=""/>
            <p:cNvSpPr/>
            <p:nvPr/>
          </p:nvSpPr>
          <p:spPr>
            <a:xfrm>
              <a:off x="5029200" y="24382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ode the query string on the second execution of the scrip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3885840" y="1752120"/>
              <a:ext cx="11430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A3A67-4E47-4C65-9365-A75C2A46F66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tquery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getquery_1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4305600" cy="2314440"/>
          </a:xfrm>
          <a:prstGeom prst="rect">
            <a:avLst/>
          </a:prstGeom>
          <a:ln w="0">
            <a:noFill/>
          </a:ln>
        </p:spPr>
      </p:pic>
      <p:pic>
        <p:nvPicPr>
          <p:cNvPr id="246" name="getquery_2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4305600" cy="231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9DAB5-0001-4A65-AD93-8FABCCE793A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ulti-Tier Archite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-tier application (multi-ti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vide functiona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formation ti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es data in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ddle ti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iness and presentation log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s interaction of clients an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and is not allow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es data from information tier, presents to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ent tier (top ti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interface (users act directly with this ti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s middle tier to get data from information 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5CB82-9DB2-4BC8-9EE7-061743508E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tquery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getquery_3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4305240" cy="2314440"/>
          </a:xfrm>
          <a:prstGeom prst="rect">
            <a:avLst/>
          </a:prstGeom>
          <a:ln w="0">
            <a:noFill/>
          </a:ln>
        </p:spPr>
      </p:pic>
      <p:pic>
        <p:nvPicPr>
          <p:cNvPr id="249" name="getquery_4" descr=""/>
          <p:cNvPicPr/>
          <p:nvPr/>
        </p:nvPicPr>
        <p:blipFill>
          <a:blip r:embed="rId2"/>
          <a:stretch/>
        </p:blipFill>
        <p:spPr>
          <a:xfrm>
            <a:off x="1219320" y="3048120"/>
            <a:ext cx="4305240" cy="231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87BA7-BE26-4088-B482-3C25FE69B43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11  Using XHTML Forms to Send Inpu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iously, use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w, 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th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esn't 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QUERY_ST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tead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TENT_LENG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characters read b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d data u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.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 &gt;&gt; 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aits for newline, which may never 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ually will time out and script term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ther iss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Ls do not allow certain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s replaced by plus 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FC72E-FF89-4FA7-BB5A-079FB5278FC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t.cpp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248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6.12: post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es POST method with XHTML for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stString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ariable to hold POST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data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name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word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tentLengt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ent was submit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getenv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_LENGT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Length = atoi( getenv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_LENGT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.read( postString, contentLength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taString = post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124080" y="4114800"/>
            <a:ext cx="4114800" cy="838080"/>
            <a:chOff x="3124080" y="4114800"/>
            <a:chExt cx="4114800" cy="838080"/>
          </a:xfrm>
        </p:grpSpPr>
        <p:sp>
          <p:nvSpPr>
            <p:cNvPr id="255" name=""/>
            <p:cNvSpPr/>
            <p:nvPr/>
          </p:nvSpPr>
          <p:spPr>
            <a:xfrm>
              <a:off x="4572000" y="41148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a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TENT_LENGT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haracter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3124080" y="4267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A1604-11A5-403E-9755-1B6DD5580AD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t.cpp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-Type: text/html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XML declaration and DOC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?xml version = \"1.0\"?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!DOCTYPE html PUBLIC \"-//W3C//DTD XHTML 1.0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ansitional//EN\" \"http://www.w3.org/TR/xhtml1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DTD/xhtml1-transitional.dtd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XHTML element and some of its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tml xmlns = \"http://www.w3.org/1999/xhtml\"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ead&gt;&lt;title&gt;Using POST with Forms&lt;/title&gt;&lt;/hea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ody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XHTML for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Enter one of your favorite words here:&lt;/p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form method = \"post\" action = \"post.cgi\"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input type = \"text\" name = \"word\" /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input type = \"submit\" value = \"Submit Word\" /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form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819160" y="2819520"/>
            <a:ext cx="4115160" cy="838080"/>
            <a:chOff x="2819160" y="2819520"/>
            <a:chExt cx="4115160" cy="838080"/>
          </a:xfrm>
        </p:grpSpPr>
        <p:sp>
          <p:nvSpPr>
            <p:cNvPr id="260" name=""/>
            <p:cNvSpPr/>
            <p:nvPr/>
          </p:nvSpPr>
          <p:spPr>
            <a:xfrm>
              <a:off x="4267080" y="28195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form as before, but us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819160" y="29718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62652-A8E4-4D76-9BDA-03E85A9C978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t.cpp 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705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a was sent using PO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ontentLength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Locati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ataString.find_first_of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ord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Location = dataString.find_first_of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amp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rieve entered w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ordString = dataString.substr( nameLocation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ndLocation - nameLoca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data was entered in text fiel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wordString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Please enter a word.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w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Your word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wordString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data was s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Please enter a word.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body&gt;&lt;/html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5E301-E738-49C0-BC00-7435FDFBC52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t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ost_1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4305600" cy="2314800"/>
          </a:xfrm>
          <a:prstGeom prst="rect">
            <a:avLst/>
          </a:prstGeom>
          <a:ln w="0">
            <a:noFill/>
          </a:ln>
        </p:spPr>
      </p:pic>
      <p:pic>
        <p:nvPicPr>
          <p:cNvPr id="266" name="post_2" descr=""/>
          <p:cNvPicPr/>
          <p:nvPr/>
        </p:nvPicPr>
        <p:blipFill>
          <a:blip r:embed="rId2"/>
          <a:stretch/>
        </p:blipFill>
        <p:spPr>
          <a:xfrm>
            <a:off x="1295280" y="3124080"/>
            <a:ext cx="4305600" cy="2314800"/>
          </a:xfrm>
          <a:prstGeom prst="rect">
            <a:avLst/>
          </a:prstGeom>
          <a:ln w="0">
            <a:noFill/>
          </a:ln>
        </p:spPr>
      </p:pic>
      <p:grpSp>
        <p:nvGrpSpPr>
          <p:cNvPr id="267" name=""/>
          <p:cNvGrpSpPr/>
          <p:nvPr/>
        </p:nvGrpSpPr>
        <p:grpSpPr>
          <a:xfrm>
            <a:off x="3504960" y="3124080"/>
            <a:ext cx="4115160" cy="838440"/>
            <a:chOff x="3504960" y="3124080"/>
            <a:chExt cx="4115160" cy="838440"/>
          </a:xfrm>
        </p:grpSpPr>
        <p:sp>
          <p:nvSpPr>
            <p:cNvPr id="268" name=""/>
            <p:cNvSpPr/>
            <p:nvPr/>
          </p:nvSpPr>
          <p:spPr>
            <a:xfrm>
              <a:off x="4952880" y="31240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that post hides the input from the UR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3504960" y="32767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BF431-4806-4C64-B219-2507F6FD708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t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ost_3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4305240" cy="2314800"/>
          </a:xfrm>
          <a:prstGeom prst="rect">
            <a:avLst/>
          </a:prstGeom>
          <a:ln w="0">
            <a:noFill/>
          </a:ln>
        </p:spPr>
      </p:pic>
      <p:pic>
        <p:nvPicPr>
          <p:cNvPr id="272" name="post_4" descr=""/>
          <p:cNvPicPr/>
          <p:nvPr/>
        </p:nvPicPr>
        <p:blipFill>
          <a:blip r:embed="rId2"/>
          <a:stretch/>
        </p:blipFill>
        <p:spPr>
          <a:xfrm>
            <a:off x="1371600" y="3429000"/>
            <a:ext cx="4305240" cy="231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4F21E-6269-4BD2-810F-6DF0A6FF6C0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12  Other Head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HTTP hea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tent-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fresh: redirects client to new location after some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fresh: "5; URL = http://www.deitel.com/newpage.html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reshes after 5 sec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out URL, refreshes current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tion: redirects client immediate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tion: http://www.deitel.com/newpage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ed by server, client una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tus: change status response (i.e.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00 O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us: 204 No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ates successful request, but no new page loa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BB866-6FD4-492D-88BD-DA84A6AE655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12  Other Head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of CGI interaction with ser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 of headers and content via standard o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ver setting environment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UERY_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en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200AF-411D-4AEB-AE0B-51663E64B8D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13  Case Study: An Interactive Web Pag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page to display weekly spec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Query for name and passwo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simplicity, does not encryp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ning page static XHTM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data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rtal.c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rtal.cg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splay specials, if password cor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e separation of functiona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static XHTML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s a dynamic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7F73F-16F9-4BA9-A6FB-5101F72E3DF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ulti-Tier Archite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85800" y="1308240"/>
            <a:ext cx="7772400" cy="4787640"/>
            <a:chOff x="685800" y="1308240"/>
            <a:chExt cx="7772400" cy="4787640"/>
          </a:xfrm>
        </p:grpSpPr>
        <p:sp>
          <p:nvSpPr>
            <p:cNvPr id="97" name=""/>
            <p:cNvSpPr/>
            <p:nvPr/>
          </p:nvSpPr>
          <p:spPr>
            <a:xfrm>
              <a:off x="685800" y="1308240"/>
              <a:ext cx="7772400" cy="478764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1010520" y="1796040"/>
              <a:ext cx="7123680" cy="3830400"/>
              <a:chOff x="1010520" y="1796040"/>
              <a:chExt cx="7123680" cy="3830400"/>
            </a:xfrm>
          </p:grpSpPr>
          <p:sp>
            <p:nvSpPr>
              <p:cNvPr id="99" name=""/>
              <p:cNvSpPr/>
              <p:nvPr/>
            </p:nvSpPr>
            <p:spPr>
              <a:xfrm>
                <a:off x="4846320" y="2499480"/>
                <a:ext cx="919440" cy="111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6362" y="0"/>
                    </a:moveTo>
                    <a:lnTo>
                      <a:pt x="15446" y="0"/>
                    </a:lnTo>
                    <a:lnTo>
                      <a:pt x="18169" y="0"/>
                    </a:lnTo>
                    <a:lnTo>
                      <a:pt x="19977" y="19833"/>
                    </a:lnTo>
                    <a:lnTo>
                      <a:pt x="0" y="19833"/>
                    </a:lnTo>
                    <a:lnTo>
                      <a:pt x="2723" y="0"/>
                    </a:lnTo>
                    <a:lnTo>
                      <a:pt x="6362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637160" y="2428200"/>
                <a:ext cx="1338120" cy="259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6242" y="0"/>
                    </a:moveTo>
                    <a:lnTo>
                      <a:pt x="19984" y="19929"/>
                    </a:lnTo>
                    <a:lnTo>
                      <a:pt x="0" y="19929"/>
                    </a:lnTo>
                    <a:lnTo>
                      <a:pt x="4371" y="0"/>
                    </a:lnTo>
                    <a:lnTo>
                      <a:pt x="16242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921920" y="1796040"/>
                <a:ext cx="793800" cy="6321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3" y="0"/>
                    </a:moveTo>
                    <a:lnTo>
                      <a:pt x="19973" y="19971"/>
                    </a:lnTo>
                    <a:lnTo>
                      <a:pt x="0" y="19971"/>
                    </a:lnTo>
                    <a:lnTo>
                      <a:pt x="0" y="0"/>
                    </a:lnTo>
                    <a:lnTo>
                      <a:pt x="19973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008320" y="1907640"/>
                <a:ext cx="626760" cy="40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6" y="0"/>
                    </a:moveTo>
                    <a:lnTo>
                      <a:pt x="19966" y="19955"/>
                    </a:lnTo>
                    <a:lnTo>
                      <a:pt x="0" y="19955"/>
                    </a:lnTo>
                    <a:lnTo>
                      <a:pt x="0" y="0"/>
                    </a:lnTo>
                    <a:lnTo>
                      <a:pt x="19966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694040" y="3246120"/>
                <a:ext cx="1238040" cy="8920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3" y="0"/>
                    </a:moveTo>
                    <a:lnTo>
                      <a:pt x="19983" y="19979"/>
                    </a:lnTo>
                    <a:lnTo>
                      <a:pt x="0" y="19979"/>
                    </a:lnTo>
                    <a:lnTo>
                      <a:pt x="0" y="0"/>
                    </a:lnTo>
                    <a:lnTo>
                      <a:pt x="19983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694040" y="3246120"/>
                <a:ext cx="1238040" cy="8920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3" y="0"/>
                    </a:moveTo>
                    <a:lnTo>
                      <a:pt x="19983" y="19979"/>
                    </a:lnTo>
                    <a:lnTo>
                      <a:pt x="0" y="19979"/>
                    </a:lnTo>
                    <a:lnTo>
                      <a:pt x="0" y="0"/>
                    </a:lnTo>
                    <a:lnTo>
                      <a:pt x="19983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678920" y="3599280"/>
                <a:ext cx="1239120" cy="20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600" spc="-1" strike="noStrike">
                    <a:solidFill>
                      <a:srgbClr val="000000"/>
                    </a:solidFill>
                    <a:latin typeface="AvantGarde"/>
                  </a:rPr>
                  <a:t>Applic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699920" y="3623400"/>
                <a:ext cx="1338840" cy="14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600" spc="-1" strike="noStrike">
                    <a:solidFill>
                      <a:srgbClr val="000000"/>
                    </a:solidFill>
                    <a:latin typeface="AvantGarde"/>
                  </a:rPr>
                  <a:t>Middle ti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570320" y="5068080"/>
                <a:ext cx="1684800" cy="14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600" spc="-1" strike="noStrike">
                    <a:solidFill>
                      <a:srgbClr val="000000"/>
                    </a:solidFill>
                    <a:latin typeface="AvantGarde"/>
                  </a:rPr>
                  <a:t>Information ti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613880" y="2247480"/>
                <a:ext cx="1469160" cy="14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600" spc="-1" strike="noStrike">
                    <a:solidFill>
                      <a:srgbClr val="000000"/>
                    </a:solidFill>
                    <a:latin typeface="AvantGarde"/>
                  </a:rPr>
                  <a:t>Client ti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982400" y="2502360"/>
                <a:ext cx="129240" cy="111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833"/>
                    </a:moveTo>
                    <a:lnTo>
                      <a:pt x="19833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283360" y="2502360"/>
                <a:ext cx="720" cy="111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833"/>
                    </a:move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543640" y="2502360"/>
                <a:ext cx="41760" cy="111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487" y="19833"/>
                    </a:move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414400" y="2502360"/>
                <a:ext cx="41760" cy="111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487" y="19833"/>
                    </a:move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112000" y="2502360"/>
                <a:ext cx="84240" cy="111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833"/>
                    </a:moveTo>
                    <a:lnTo>
                      <a:pt x="19744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637160" y="2425320"/>
                <a:ext cx="1338120" cy="259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6242" y="0"/>
                    </a:moveTo>
                    <a:lnTo>
                      <a:pt x="19984" y="19929"/>
                    </a:lnTo>
                    <a:lnTo>
                      <a:pt x="0" y="19929"/>
                    </a:lnTo>
                    <a:lnTo>
                      <a:pt x="4371" y="0"/>
                    </a:lnTo>
                    <a:lnTo>
                      <a:pt x="16242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981320" y="2688480"/>
                <a:ext cx="720" cy="557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6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981320" y="4138560"/>
                <a:ext cx="720" cy="557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6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585760" y="4138560"/>
                <a:ext cx="720" cy="557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6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585760" y="2688480"/>
                <a:ext cx="720" cy="557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6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010520" y="4398840"/>
                <a:ext cx="712368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97" y="0"/>
                    </a:moveTo>
                    <a:lnTo>
                      <a:pt x="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010520" y="2948400"/>
                <a:ext cx="712368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97" y="0"/>
                    </a:moveTo>
                    <a:lnTo>
                      <a:pt x="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1" name=""/>
              <p:cNvGrpSpPr/>
              <p:nvPr/>
            </p:nvGrpSpPr>
            <p:grpSpPr>
              <a:xfrm>
                <a:off x="4921920" y="1796040"/>
                <a:ext cx="794160" cy="632160"/>
                <a:chOff x="4921920" y="1796040"/>
                <a:chExt cx="794160" cy="63216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4921920" y="1796040"/>
                  <a:ext cx="794160" cy="6321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3" y="0"/>
                      </a:moveTo>
                      <a:lnTo>
                        <a:pt x="19973" y="19971"/>
                      </a:lnTo>
                      <a:lnTo>
                        <a:pt x="0" y="19971"/>
                      </a:lnTo>
                      <a:lnTo>
                        <a:pt x="0" y="0"/>
                      </a:lnTo>
                      <a:lnTo>
                        <a:pt x="19973" y="0"/>
                      </a:lnTo>
                      <a:close/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004720" y="1907640"/>
                  <a:ext cx="627120" cy="4089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66" y="0"/>
                      </a:moveTo>
                      <a:lnTo>
                        <a:pt x="19966" y="19955"/>
                      </a:lnTo>
                      <a:lnTo>
                        <a:pt x="0" y="19955"/>
                      </a:lnTo>
                      <a:lnTo>
                        <a:pt x="0" y="0"/>
                      </a:lnTo>
                      <a:lnTo>
                        <a:pt x="19966" y="0"/>
                      </a:lnTo>
                      <a:close/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" name=""/>
              <p:cNvSpPr/>
              <p:nvPr/>
            </p:nvSpPr>
            <p:spPr>
              <a:xfrm>
                <a:off x="4846320" y="2499480"/>
                <a:ext cx="919440" cy="111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6362" y="0"/>
                    </a:moveTo>
                    <a:lnTo>
                      <a:pt x="15446" y="0"/>
                    </a:lnTo>
                    <a:lnTo>
                      <a:pt x="18169" y="0"/>
                    </a:lnTo>
                    <a:lnTo>
                      <a:pt x="19977" y="19833"/>
                    </a:lnTo>
                    <a:lnTo>
                      <a:pt x="0" y="19833"/>
                    </a:lnTo>
                    <a:lnTo>
                      <a:pt x="2723" y="0"/>
                    </a:lnTo>
                    <a:lnTo>
                      <a:pt x="6362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" name=""/>
              <p:cNvGrpSpPr/>
              <p:nvPr/>
            </p:nvGrpSpPr>
            <p:grpSpPr>
              <a:xfrm>
                <a:off x="4896360" y="2539800"/>
                <a:ext cx="835920" cy="37800"/>
                <a:chOff x="4896360" y="2539800"/>
                <a:chExt cx="835920" cy="378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4939200" y="2539800"/>
                  <a:ext cx="776880" cy="7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2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4896360" y="2576880"/>
                  <a:ext cx="835920" cy="7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4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" name=""/>
              <p:cNvSpPr/>
              <p:nvPr/>
            </p:nvSpPr>
            <p:spPr>
              <a:xfrm>
                <a:off x="4670280" y="5344920"/>
                <a:ext cx="1259640" cy="281520"/>
              </a:xfrm>
              <a:prstGeom prst="ellipse">
                <a:avLst/>
              </a:prstGeom>
              <a:solidFill>
                <a:srgbClr val="4db3e6"/>
              </a:solidFill>
              <a:ln w="6480">
                <a:solidFill>
                  <a:srgbClr val="4db3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670280" y="5344920"/>
                <a:ext cx="1259640" cy="28152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4673520" y="4842000"/>
                <a:ext cx="1252800" cy="666360"/>
                <a:chOff x="4673520" y="4842000"/>
                <a:chExt cx="1252800" cy="66636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5925600" y="4842000"/>
                  <a:ext cx="720" cy="6663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72"/>
                      </a:moveTo>
                      <a:lnTo>
                        <a:pt x="0" y="0"/>
                      </a:lnTo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" name=""/>
                <p:cNvGrpSpPr/>
                <p:nvPr/>
              </p:nvGrpSpPr>
              <p:grpSpPr>
                <a:xfrm>
                  <a:off x="4673520" y="4842000"/>
                  <a:ext cx="1252800" cy="666360"/>
                  <a:chOff x="4673520" y="4842000"/>
                  <a:chExt cx="1252800" cy="66636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>
                    <a:off x="4674240" y="4842000"/>
                    <a:ext cx="1252080" cy="66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3" y="0"/>
                        </a:moveTo>
                        <a:lnTo>
                          <a:pt x="19983" y="19972"/>
                        </a:lnTo>
                        <a:lnTo>
                          <a:pt x="0" y="19972"/>
                        </a:lnTo>
                        <a:lnTo>
                          <a:pt x="0" y="0"/>
                        </a:lnTo>
                        <a:lnTo>
                          <a:pt x="19983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4673520" y="4842000"/>
                    <a:ext cx="720" cy="66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19972"/>
                        </a:move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35" name=""/>
              <p:cNvSpPr/>
              <p:nvPr/>
            </p:nvSpPr>
            <p:spPr>
              <a:xfrm>
                <a:off x="4673520" y="4689720"/>
                <a:ext cx="1253160" cy="281520"/>
              </a:xfrm>
              <a:prstGeom prst="ellipse">
                <a:avLst/>
              </a:prstGeom>
              <a:solidFill>
                <a:srgbClr val="4db3e6"/>
              </a:solidFill>
              <a:ln w="3240">
                <a:solidFill>
                  <a:srgbClr val="4db3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673520" y="4689720"/>
                <a:ext cx="1253160" cy="28152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673520" y="4830120"/>
                <a:ext cx="720" cy="6775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3"/>
                    </a:move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931360" y="4834440"/>
                <a:ext cx="1080" cy="672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2"/>
                    </a:move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740480" y="5150520"/>
                <a:ext cx="11235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600" spc="-1" strike="noStrike">
                    <a:solidFill>
                      <a:srgbClr val="000000"/>
                    </a:solidFill>
                    <a:latin typeface="AvantGarde"/>
                  </a:rPr>
                  <a:t>Databas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80CD2-810C-4FA3-9DA6-7369FE277D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vel.html  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Transitional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TR/xhtml1/DTD/xhtml1-transitional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ig. 16.13: travel.html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Bug2Bug Travel Homepage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ug2Bug Trave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1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lcome to Bug2Bug Trave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1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form method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ct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cgi-bin/portal.cgi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ease enter your name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amebox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sswor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sswordbox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assword is not encrypte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utt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D98C4-1FD8-4909-8CF3-D8B0FF3B248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vel.htm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travel_1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5610240" cy="33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B3C44-8628-4E5D-AF43-374FDBD179D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.cpp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6.14: portal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andles entry to Bug2Bug Travel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stString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data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name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password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tentLengt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a was pos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getenv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_LENGT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Length = atoi( getenv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_LENGT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C4AAA-199F-437F-B386-E5196C06869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.cpp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791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.read( postString, contentLength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aString = post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arch string for input data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location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amebox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Namelocation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amp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ssword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sswordbox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Password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amp;butt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values for name and password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nameString = dataString.substr( namelocation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dNamelocation - namelocation )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asswordString = dataString.substr( password, endPassword -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sswor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-Type: text/html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XML declaration and DOC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?xml version = \"1.0\"?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!DOCTYPE html PUBLIC \"-//W3C//DTD XHTML 1.0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ansitional//EN\" \"http://www.w3.org/TR/xhtml1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DTD/xhtml1-transitional.dtd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3123720" y="399600"/>
            <a:ext cx="3886560" cy="581040"/>
            <a:chOff x="3123720" y="399600"/>
            <a:chExt cx="3886560" cy="581040"/>
          </a:xfrm>
        </p:grpSpPr>
        <p:sp>
          <p:nvSpPr>
            <p:cNvPr id="288" name=""/>
            <p:cNvSpPr/>
            <p:nvPr/>
          </p:nvSpPr>
          <p:spPr>
            <a:xfrm>
              <a:off x="4343400" y="39996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a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from standard inpu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3123720" y="399600"/>
              <a:ext cx="1219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63491-FCDE-45EC-AC08-7DAB1DB2FAB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.cpp 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tml element and some of its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tml xmlns = \"http://www.w3.org/1999/xhtml\"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ead&gt;&lt;title&gt;Bug2Bug Travel&lt;/title&gt;&lt;/hea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ody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specia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1&gt;Welcome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nameString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!&lt;/h1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Here are our weekly specials:&lt;/p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ul&gt;&lt;li&gt;Boston to Taiwan ($875)&lt;/li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li&gt;San Diego to Hong Kong ($750)&lt;/li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li&gt;Chicago to Mexico City ($568)&lt;/li&gt;&lt;/ul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assword is corr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asswordString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ast2coa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r /&gt;&lt;p&gt;Current member special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attle to Tokyo ($400)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assword was incorr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Sorry. You have entered an incorrec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ssword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body&gt;&lt;/html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666880" y="2209680"/>
            <a:ext cx="4114800" cy="838440"/>
            <a:chOff x="2666880" y="2209680"/>
            <a:chExt cx="4114800" cy="838440"/>
          </a:xfrm>
        </p:grpSpPr>
        <p:sp>
          <p:nvSpPr>
            <p:cNvPr id="293" name=""/>
            <p:cNvSpPr/>
            <p:nvPr/>
          </p:nvSpPr>
          <p:spPr>
            <a:xfrm>
              <a:off x="4114800" y="22096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eck password, display special if corr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2666880" y="2362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7E663-C7B3-442C-BFB2-5F1F48AF95A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travel_2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5610240" cy="33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348E8-FA32-43AA-827A-8C7FBF798CF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travel_3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5610240" cy="35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DBAC0-ECFB-4179-9F25-C646875A5D4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14  Cooki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k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mall text files Web server sends the brows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es information, track user's progress in si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pping c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 si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most major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keep track of identity, how often visit a si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his reason, security/privacy conc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not erase hard drive, breaking into c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disab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EBF78-6B16-48C6-80E0-8D8526EEB52C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14  Cooki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 lines of text before hea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rst lin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-Cooki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ates that following data stored in cook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ur example, output post data, delimited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iration d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pires=+30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st for 30 d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pires=Friday, 14-MAY-10 16:00:00 GM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es which servers in domain can read cook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empty, any server in domain can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th=\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55120-8377-45F2-9862-716BEDEE313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14  Cooki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String = getenv( "HTTP_COOKIE"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arch for data fiel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9B72F-294E-4559-9A61-A21A634902A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ccessing Web Serv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URL to access Web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s machine name (host nam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l Web server (on own machin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calho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ferences local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ote Web server (machine on networ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main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resents group of hosts on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es with top-level-domain and host nam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ww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p-level-domain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c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r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main Name Server (DNS) translates name to IP addr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P used by comp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ww.deitel.c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63.110.43.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calho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lway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27.0.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B15D6-6CC7-4D75-8C97-87491118FA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okieform.html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Transitional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TR/xhtml1/DTD/xhtml1-transitional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ig. 16.15: cookieform.html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Cookie Demonstration     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ing a cookie to the client comput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1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lick Write Cookie to save your cookie data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1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form method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t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ct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cgi-bin/writecookie.cgi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r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ge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r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FE299-9903-4BD8-B052-63A22813E1C8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okieform.html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819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vorite Color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r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lo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utt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9D95A-4BBE-4A4D-A555-104A3B8222B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okieform.htm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cookies_1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493380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30F80-B447-4E0E-8F15-D1CF8FF09DFC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ritecooki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6.16: writecookie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gram to write a cookie to a client's machin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er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data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name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age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color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tentLengt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xpiration date of cookie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expire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riday, 14-MAY-10 16:00:00 GM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3429000" y="4343400"/>
            <a:ext cx="4114800" cy="838080"/>
            <a:chOff x="3429000" y="4343400"/>
            <a:chExt cx="4114800" cy="838080"/>
          </a:xfrm>
        </p:grpSpPr>
        <p:sp>
          <p:nvSpPr>
            <p:cNvPr id="314" name=""/>
            <p:cNvSpPr/>
            <p:nvPr/>
          </p:nvSpPr>
          <p:spPr>
            <a:xfrm>
              <a:off x="4876920" y="43434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pecify expiration date of cooki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3429000" y="44956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F60FE-C399-4F94-B622-89438FAFA43E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ritecooki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a was enter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getenv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_LENGT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Length = atoi( getenv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_LENGT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d data from standard in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.read( query, contentLength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taString = que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arch string for data and store loc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Location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Name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amp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geLocation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g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Age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amp;colo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Location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lor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Color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amp;butt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value for user's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String = dataString.substr( nameLocation, endName -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eLoca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value for user's age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geLocation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geString = dataString.substr( ageLocation, endAge -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geLoca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734F6-98BD-4F7B-9D6D-D4033246B877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ritecooki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value for user's favorite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olorLocation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lorString = dataString.substr( colorLocation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ndColor - colorLoca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cookie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t-Cookie: 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nameString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ge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ageString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lor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olorString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; expires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xpires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; path=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eader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-Type: text/html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XML declaration and DOC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?xml version = \"1.0\"?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!DOCTYPE html PUBLIC \"-//W3C//DTD XHTML 1.0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ansitional//EN\" \"http://www.w3.org/TR/xhtml1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DTD/xhtml1-transitional.dtd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tml element and some of its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tml xmlns = \"http://www.w3.org/1999/xhtml\"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ead&gt;&lt;title&gt;Cookie Saved&lt;/title&gt;&lt;/hea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ody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514600" y="609480"/>
            <a:ext cx="4114800" cy="838440"/>
            <a:chOff x="2514600" y="609480"/>
            <a:chExt cx="4114800" cy="838440"/>
          </a:xfrm>
        </p:grpSpPr>
        <p:sp>
          <p:nvSpPr>
            <p:cNvPr id="321" name=""/>
            <p:cNvSpPr/>
            <p:nvPr/>
          </p:nvSpPr>
          <p:spPr>
            <a:xfrm>
              <a:off x="3962520" y="6094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 cookie data (comes before other headers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2514600" y="762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50C83-0395-4BBC-92AB-5D231A93D22E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ritecooki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048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user's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The cookies have been set with the following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data:&lt;/p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Name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nameString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br/&gt;&lt;/p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Age:"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ageString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r/&gt;&lt;/p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Color: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colorString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r/&gt;&lt;/p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Click &lt;a href=\"/cgi-bin/read_cookie.cgi\"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ere&lt;/a&gt; to read saved cookie data:&lt;/p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body&gt;&lt;/html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2E61D-F65A-483A-A83B-D1E2D0CF1E3E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ritecooki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cookies_2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4933800" cy="299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822FF-85F4-41E4-B3B2-6AA56BFBF807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adcooki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6.17: readcookie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gram to read cookie data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data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name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age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color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aString = getenv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_COOKI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arch through cookie data string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Location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Name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ge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2209680" y="3505320"/>
            <a:ext cx="4114800" cy="838080"/>
            <a:chOff x="2209680" y="3505320"/>
            <a:chExt cx="4114800" cy="838080"/>
          </a:xfrm>
        </p:grpSpPr>
        <p:sp>
          <p:nvSpPr>
            <p:cNvPr id="330" name=""/>
            <p:cNvSpPr/>
            <p:nvPr/>
          </p:nvSpPr>
          <p:spPr>
            <a:xfrm>
              <a:off x="3657600" y="350532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ad cookie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209680" y="36576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80803-4933-44E7-B4E8-3096711FED36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adcooki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geLocation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ge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Age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lor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Location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lor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ore cookie data in string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nameString = dataString.substr( nameLocation, endName -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Loca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geString = dataString.substr( ageLocation, endAge -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geLocation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lorString = dataString.substr( colorLoca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-Type: text/html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XML declaration and DOC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?xml version = \"1.0\"?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!DOCTYPE html PUBLIC \"-//W3C//DTD XHTML 1.0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ansitional//EN\" \"http://www.w3.org/TR/xhtml1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DTD/xhtml1-transitional.dtd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output html element and some of its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tml xmlns = \"http://www.w3.org/1999/xhtml\"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ead&gt;&lt;title&gt;Read Cookies&lt;/title&gt;&lt;/hea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ody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7F765-AF76-460C-910F-32FFA051D9DA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pache HTTP Serv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r Web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bility, cost (free), efficien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n-sour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uns on Unix, Linux, Window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ww.apache.or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own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tallation instructions a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ww.deitel.c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running, command-prompt window ope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21_10" descr=""/>
          <p:cNvPicPr/>
          <p:nvPr/>
        </p:nvPicPr>
        <p:blipFill>
          <a:blip r:embed="rId1"/>
          <a:stretch/>
        </p:blipFill>
        <p:spPr>
          <a:xfrm>
            <a:off x="1152360" y="4334040"/>
            <a:ext cx="6315120" cy="84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9DDDE-A818-428A-9F5C-E244DD1999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adcooki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657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a was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dataString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3&gt;The following data is saved in a cookie o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your computer&lt;/h3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Name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nameString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r/&gt;&lt;/p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Age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&lt;&lt; ageString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r/&gt;&lt;/p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p&gt;Colo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olorString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r/&gt;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data was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No cookie data.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body&gt;&lt;/html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08384-D78C-4DF3-9C23-699C40075FD7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adcooki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cookies_3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4933800" cy="272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FCC4E-8C56-46C9-B822-BCF804FA41D1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15  Server-Side Fi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s located on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re secure way of maintaining important inf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ed permission to change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st data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ients.d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word reques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 simplifi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ients.d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ored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gi-b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ublicly acce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data validation (proper format for entr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7D20F-BC49-4D3A-A5EF-800BF6B92E40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vefile.htm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Transitional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TR/xhtml1/DTD/xhtml1-transitional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ig. 16.18: savefile.html        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orm to input client information 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ease enter your contact inform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ease enter your information in the form below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ote: You must fill in all fields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form method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t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ct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cgi-bin/savefile.cgi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First Nam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0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ast Nam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5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46C31-B6D0-4CEE-96F9-AA047F82C058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vefile.htm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ddres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addres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r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ow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ow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siz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0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tat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at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siz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&lt;br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Zip Cod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zipcod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siz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5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untry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untry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siz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0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-mail Addres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ail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se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ea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EC94A-0489-44C4-8929-57DDF4D5F8EB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vefile.htm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savefile_1" descr=""/>
          <p:cNvPicPr/>
          <p:nvPr/>
        </p:nvPicPr>
        <p:blipFill>
          <a:blip r:embed="rId1"/>
          <a:stretch/>
        </p:blipFill>
        <p:spPr>
          <a:xfrm>
            <a:off x="1600200" y="838080"/>
            <a:ext cx="4476600" cy="422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EC76B-353B-433D-87B2-B533009CD03F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vefil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6.19: savefile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gram to enter user's contact information into 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rver-side fi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er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o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f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f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stString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tentLengt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2251E-C0E7-49DB-993F-01FCC190CAA3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vefil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ariables to store user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data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first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last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addres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tow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at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zipcod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country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emai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a was pos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getenv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_LENGT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Length = atoi( getenv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_LENGT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.read( postString, contentLength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aString = post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arch for first '+'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rLocation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+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arch for next '+'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harLocation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ring::npo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taString.replace( charLocation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rLocation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+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harLocation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C1D5D-0085-41F0-A986-1D7ACAAC9233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vefil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324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location of fir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stStart 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First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amp;la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irstname = dataString.substr( firstStar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dFirst - firstStar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location of la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astStart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st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Last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amp;addres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astname = dataString.substr( lastStar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dLast - lastStar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location of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Start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ress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Address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amp;tow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ddress = dataString.substr( addressStar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dAddress - addressStar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location of tow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wnStart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ow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Town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amp;stat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own = dataString.substr( townStart, endTown - townStart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91D39-0FF6-4FD5-9033-431B457D4567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vefil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location of st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Start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at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State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amp;zipcod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ate = dataString.substr( stateStar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dState - stateStar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location of zip c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zipStart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zipcod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Zip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amp;countr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zipcode = dataString.substr( zipStart, endZip - zipStar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location of coun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ryStart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untry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Country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amp;emai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ntry = dataString.substr( countryStar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dCountry - countryStar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location of e-mail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ailStart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ail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Email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amp;subm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mail = dataString.substr( emailStar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dEmail - emailStar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7F802-AAAA-4BF0-A66B-CC8914C42442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6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questing XHTML Docume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che HTTP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e XHTML documents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htdoc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irect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s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\Program Files\Apache Group\Ap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Linux,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usr/local/http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xact location may v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p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est.htm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rom Chapter 16 examples on CD-R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t in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do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 the 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http://localhost/test.htm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Apache, root of URL refers to default direct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need to enter directory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8C835-9EDE-40E6-A825-6D58EC5625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vefil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-Type: text/html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XML declaration and DOC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?xml version = \"1.0\"?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!DOCTYPE html PUBLIC \"-//W3C//DTD XHTML 1.0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ansitional//EN\" \"http://www.w3.org/TR/xhtml1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DTD/xhtml1-transitional.dtd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tml element and some of its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tml xmlns = \"http://www.w3.org/1999/xhtml\"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ead&gt;&lt;title&gt;Contact Information entered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title&gt;&lt;/head&gt;&lt;body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to file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fstream outFi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ients.t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os::app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le was not opened proper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outFil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r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rror: could not open contact file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666880" y="2590920"/>
            <a:ext cx="4114800" cy="838080"/>
            <a:chOff x="2666880" y="2590920"/>
            <a:chExt cx="4114800" cy="838080"/>
          </a:xfrm>
        </p:grpSpPr>
        <p:sp>
          <p:nvSpPr>
            <p:cNvPr id="357" name=""/>
            <p:cNvSpPr/>
            <p:nvPr/>
          </p:nvSpPr>
          <p:spPr>
            <a:xfrm>
              <a:off x="4114800" y="25909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p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lients.t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or writ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2666880" y="27432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A3EBA-07A6-4B6E-AB20-6715AA279CAC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vefil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6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248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ppend data to clients.txt file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File &lt;&lt; firstnam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lastnam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address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town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stat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ountry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zipcod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mail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data to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able&gt;&lt;tbody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r&gt;&lt;td&gt;First Name:&lt;/td&gt;&lt;t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firstnam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td&gt;&lt;/tr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r&gt;&lt;td&gt;Last Name:&lt;/td&gt;&lt;t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lastnam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td&gt;&lt;/tr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r&gt;&lt;td&gt;Address:&lt;/td&gt;&lt;t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address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td&gt;&lt;/tr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r&gt;&lt;td&gt;Town:&lt;/td&gt;&lt;t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town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td&gt;&lt;/tr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r&gt;&lt;td&gt;State:&lt;/td&gt;&lt;t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tat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td&gt;&lt;/tr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r&gt;&lt;td&gt;Zip Code:&lt;/td&gt;&lt;t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zipcod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td&gt;&lt;/tr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r&gt;&lt;td&gt;Country:&lt;/td&gt;&lt;t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country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td&gt;&lt;/tr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r&gt;&lt;td&gt;Email:&lt;/td&gt;&lt;t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mail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td&gt;&lt;/tr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tbody&gt;&lt;/table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body&gt;\n&lt;/html&gt;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60070-EA01-42C6-BD3E-69461DB98277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vefil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7 of 7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vefil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066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63" name="savefile_2" descr=""/>
          <p:cNvPicPr/>
          <p:nvPr/>
        </p:nvPicPr>
        <p:blipFill>
          <a:blip r:embed="rId1"/>
          <a:stretch/>
        </p:blipFill>
        <p:spPr>
          <a:xfrm>
            <a:off x="1523880" y="1200240"/>
            <a:ext cx="4353120" cy="321948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0" y="4648320"/>
            <a:ext cx="7010280" cy="1523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s.d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ane D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3 Main Str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oston MA USA 123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ane@do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6F880-A674-46A2-8839-1DDD43B0E8CF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16  Case Study: Shopping Car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pping c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ord what user wants to purch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, remove i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ww.amazon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, remove i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uy books from virtual bookst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 scripts, 2 server-side files, cook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rst script: user lo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 to create new member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name/password pairs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rdata.t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word vali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F65C0-919C-4364-B647-AD69CDCF301A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gin.cpp (1 of 1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6.21: login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gram to output an XHTML form, verify th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rname and password entered, and add member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er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o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f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f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f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ad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riteCooki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981080" y="4191120"/>
            <a:ext cx="4114800" cy="838080"/>
            <a:chOff x="1981080" y="4191120"/>
            <a:chExt cx="4114800" cy="838080"/>
          </a:xfrm>
        </p:grpSpPr>
        <p:sp>
          <p:nvSpPr>
            <p:cNvPr id="370" name=""/>
            <p:cNvSpPr/>
            <p:nvPr/>
          </p:nvSpPr>
          <p:spPr>
            <a:xfrm>
              <a:off x="3429000" y="41911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rites empty cookie to user's machin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1981080" y="4343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1752480" y="2819520"/>
            <a:ext cx="4572000" cy="1962000"/>
            <a:chOff x="1752480" y="2819520"/>
            <a:chExt cx="4572000" cy="1962000"/>
          </a:xfrm>
        </p:grpSpPr>
        <p:sp>
          <p:nvSpPr>
            <p:cNvPr id="373" name=""/>
            <p:cNvSpPr/>
            <p:nvPr/>
          </p:nvSpPr>
          <p:spPr>
            <a:xfrm>
              <a:off x="3657600" y="28195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rite XHTML header information, set page title, etc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1752480" y="3276720"/>
              <a:ext cx="1905120" cy="150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BA274-FBDE-4C36-B8D2-D2B33AE0CAC3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gin.cpp (2 of 1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er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data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ings to store username and passw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user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passWor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newCheck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tentLengt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Passwor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a was pos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getenv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_LENGT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trieve query 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Length = atoi( getenv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_LENGT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.read( query, contentLength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taString = que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username lo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serLocation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User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amp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2590560" y="2362320"/>
            <a:ext cx="4115160" cy="838080"/>
            <a:chOff x="2590560" y="2362320"/>
            <a:chExt cx="4115160" cy="838080"/>
          </a:xfrm>
        </p:grpSpPr>
        <p:sp>
          <p:nvSpPr>
            <p:cNvPr id="378" name=""/>
            <p:cNvSpPr/>
            <p:nvPr/>
          </p:nvSpPr>
          <p:spPr>
            <a:xfrm>
              <a:off x="4038480" y="236232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et user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2590560" y="25146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CB0B3-C0B2-4091-92BA-6E14EB61A840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gin.cpp (3 of 1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ind password lo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sswordLocation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ssword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dPassword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amp;new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ew membership requested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ndPassword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assWord = dataString.substr( passwordLocation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ndPassword - passwordLocation );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xisting memb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assWord = dataString.substr( passwordLoca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serName = dataString.substr( userLocation, endUser -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serLoca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data was retriev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dataString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ead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Please login.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981080" y="3505320"/>
            <a:ext cx="4114800" cy="838080"/>
            <a:chOff x="1981080" y="3505320"/>
            <a:chExt cx="4114800" cy="838080"/>
          </a:xfrm>
        </p:grpSpPr>
        <p:sp>
          <p:nvSpPr>
            <p:cNvPr id="383" name=""/>
            <p:cNvSpPr/>
            <p:nvPr/>
          </p:nvSpPr>
          <p:spPr>
            <a:xfrm>
              <a:off x="3429000" y="35053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no data provided, show login form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981080" y="36576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8EAEB-F5F8-4A48-855F-0E4799935CC2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gin.cpp (4 of 1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733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login form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form method = \"post\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action = \"/cgi-bin/login.cgi\"&gt;&lt;p&gt;"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User Nam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input type = \"text\" name = \"user\"/&gt;&lt;br/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Passwor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input type = \"password\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name = \"password\"/&gt;&lt;br/&gt;"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New? &lt;input type = \"checkbox\""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name = \"new\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value = \"1\"/&gt;&lt;/p&gt;"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input type = \"submit\" value = \"login\"/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/form&gt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;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BD04A-F23B-4E8C-A625-B38C8C42BDE7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gin.cpp (5 of 1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791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cess entered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 new memb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ndPassword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fileUser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filePasswor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Take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pen password file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fstream userData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data.t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os::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uld not open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userData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er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uld not open database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d username and password from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serData &gt;&gt; fileUsername &gt;&gt; filePassword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ame is already taken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serName == fileUser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nameTake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2361960" y="228600"/>
            <a:ext cx="4572360" cy="4419720"/>
            <a:chOff x="2361960" y="228600"/>
            <a:chExt cx="4572360" cy="4419720"/>
          </a:xfrm>
        </p:grpSpPr>
        <p:sp>
          <p:nvSpPr>
            <p:cNvPr id="390" name=""/>
            <p:cNvSpPr/>
            <p:nvPr/>
          </p:nvSpPr>
          <p:spPr>
            <a:xfrm>
              <a:off x="4267080" y="2286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a new member, check that the name is not take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2819160" y="3808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2361960" y="380880"/>
              <a:ext cx="1904760" cy="426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C8FFB-A6C8-4013-AF39-AEA44451E84B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gin.cpp (6 of 1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419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r name is tak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ameTake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head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This name has already been taken.&lt;/p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a href=\"/cgi-bin/login.cgi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y Again&lt;/a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cess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rite cooki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writeCooki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head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pen user data file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fstream userData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data.t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os::app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18165-C541-486A-9FBD-42B6C75BB801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6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questing XHTML Docume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48" name="21_13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4761000" cy="149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32270-9DEA-4511-A144-9230BBD193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gin.cpp (7 of 1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uld not open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userData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er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uld not open database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rite user data to file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userData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userNam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passWor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Your information has been processed.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a href=\"/cgi-bin/shop.cgi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art Shopping&lt;/a&gt;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arch for password if enter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ings to store username and password from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fileUser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filePasswor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uthenticate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serFoun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4114800" y="838080"/>
            <a:ext cx="4114800" cy="838440"/>
            <a:chOff x="4114800" y="838080"/>
            <a:chExt cx="4114800" cy="838440"/>
          </a:xfrm>
        </p:grpSpPr>
        <p:sp>
          <p:nvSpPr>
            <p:cNvPr id="398" name=""/>
            <p:cNvSpPr/>
            <p:nvPr/>
          </p:nvSpPr>
          <p:spPr>
            <a:xfrm>
              <a:off x="5562720" y="8380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fter password saved to file, provide link for next pag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4114800" y="9907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66D3F-95FD-48EA-8767-86990DDF586C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gin.cpp (8 of 1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pen password file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fstream userData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data.t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os::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uld not open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userData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er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uld not open database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d in user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serData &gt;&gt; fileUsername &gt;&gt; filePassword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rname and password match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serName == fileUsername &amp;&amp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assWord == filePassword )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authenticate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rname was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serName == fileUser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userFoun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whil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r is authentica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uthenticated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writeCooki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head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74B82-4C17-49F4-8EEB-5948927C794A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gin.cpp (9 of 1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Thank you for returning,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&lt;&lt; userNam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!&lt;/p&gt;"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a href=\"/cgi-bin/shop.cgi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art Shopping&lt;/a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r not authentica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head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assword is incorr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serFoun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You have entered an incorrect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ssword. Please try again.&lt;/p&gt;"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a href=\"/cgi-bin/login.cgi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ck to login&lt;/a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r is not register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You are not a registered user.&lt;/p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a href=\"/cgi-bin/login.cgi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gister&lt;/a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4343400" y="837720"/>
            <a:ext cx="3124080" cy="1266840"/>
            <a:chOff x="4343400" y="837720"/>
            <a:chExt cx="3124080" cy="1266840"/>
          </a:xfrm>
        </p:grpSpPr>
        <p:sp>
          <p:nvSpPr>
            <p:cNvPr id="405" name=""/>
            <p:cNvSpPr/>
            <p:nvPr/>
          </p:nvSpPr>
          <p:spPr>
            <a:xfrm>
              <a:off x="4800600" y="15238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gistered user authenticated, provide link for next page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 flipV="1">
              <a:off x="4343400" y="837720"/>
              <a:ext cx="4572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8DACA-14AE-47D8-957C-5EFC1998B772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gin.cpp (10 of 1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body&gt;\n&lt;/html&gt;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o output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ad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-Type: text/html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XML declaration and DOC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?xml version = \"1.0\"?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!DOCTYPE html PUBLIC \"-//W3C//DTD XHTML 1.0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ansitional//EN\" \"http://www.w3.org/TR/xhtml1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DTD/xhtml1-transitional.dtd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tml element and some of its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tml xmlns = \"http://www.w3.org/1999/xhtml\"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ead&gt;&lt;title&gt;Login Page&lt;/title&gt;&lt;/hea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ody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05E0E-4FF6-410F-B3BA-F4035C8579E3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gin.cpp (11 of 11)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gin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905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o write cookie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riteCooki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expire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riday, 14-MAY-04 16:00:00 GM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t-Cookie: CART=; expires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xpires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; path=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riteCooki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11" name="casestudy_login" descr=""/>
          <p:cNvPicPr/>
          <p:nvPr/>
        </p:nvPicPr>
        <p:blipFill>
          <a:blip r:embed="rId1"/>
          <a:stretch/>
        </p:blipFill>
        <p:spPr>
          <a:xfrm>
            <a:off x="1295280" y="2666880"/>
            <a:ext cx="4172040" cy="281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D7503-CCFA-402C-981F-C696D45384E1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gin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casestudy_1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4371840" cy="2781360"/>
          </a:xfrm>
          <a:prstGeom prst="rect">
            <a:avLst/>
          </a:prstGeom>
          <a:ln w="0">
            <a:noFill/>
          </a:ln>
        </p:spPr>
      </p:pic>
      <p:pic>
        <p:nvPicPr>
          <p:cNvPr id="414" name="casestudy_2" descr=""/>
          <p:cNvPicPr/>
          <p:nvPr/>
        </p:nvPicPr>
        <p:blipFill>
          <a:blip r:embed="rId2"/>
          <a:stretch/>
        </p:blipFill>
        <p:spPr>
          <a:xfrm>
            <a:off x="1143000" y="3276720"/>
            <a:ext cx="4371840" cy="170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EB6B9-783C-4D87-9174-47D6FB0A6FD8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gin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3 of 3)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casestudy_3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4371840" cy="1952640"/>
          </a:xfrm>
          <a:prstGeom prst="rect">
            <a:avLst/>
          </a:prstGeom>
          <a:ln w="0">
            <a:noFill/>
          </a:ln>
        </p:spPr>
      </p:pic>
      <p:pic>
        <p:nvPicPr>
          <p:cNvPr id="417" name="casestudy_4" descr=""/>
          <p:cNvPicPr/>
          <p:nvPr/>
        </p:nvPicPr>
        <p:blipFill>
          <a:blip r:embed="rId2"/>
          <a:stretch/>
        </p:blipFill>
        <p:spPr>
          <a:xfrm>
            <a:off x="1371600" y="2438280"/>
            <a:ext cx="4371840" cy="195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1E0B5-69C3-40D7-8328-DEDB16CB5C3C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16  Case Study: Shopping Car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hop.c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play books user can purch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 data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alog.t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ve "buy" form butt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is ISBN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pushed, ru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ewcart.c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08899-4784-47DA-922A-744EB4018F53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op.cpp (1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6.22: shop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gram to display available book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er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o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f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f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f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ad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8E614-8B69-4904-AA2C-EFE2A0A94F7B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op.cpp (2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ariables to store product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k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ear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n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c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book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year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isbn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price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Take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pen file for input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fstream userData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talog.t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os::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le could not be open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userData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r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uld not open database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header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354E6-23ED-471A-AFBC-214FA5A7A5F2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1T20:13:00Z</dcterms:created>
  <dc:creator>kalid</dc:creator>
  <dc:description/>
  <dc:language>en-US</dc:language>
  <cp:lastModifiedBy>Pearson Education</cp:lastModifiedBy>
  <dcterms:modified xsi:type="dcterms:W3CDTF">2002-08-22T20:13:34Z</dcterms:modified>
  <cp:revision>743</cp:revision>
  <dc:subject/>
  <dc:title>PowerPoint Presentation</dc:title>
</cp:coreProperties>
</file>