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847A-985B-4E25-A388-F82AAED49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8FD3-2008-4CEF-88A2-20F83F44E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1CD0-A2A0-4CC3-8A5E-5850E9D29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C522-D892-4B96-A2D6-AA3957295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39B2-2391-4F5D-A5BC-DB78DE2BCC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C320-0FAE-486F-8436-44053F85B3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30BA-7C3E-49DE-95C3-F8A2AEA21F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BFB3-808D-46CF-878D-10DF3003D9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24C96-B5CF-4C46-810C-4B0BC9FF86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B1D2-CAFC-4BB8-A012-EE44AC98F3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0528-64E7-4A3D-8E37-54F1D7EF0E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EFDA-0926-460B-BB48-D90CC1899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532E-5F9D-48A2-A4CD-683523DD60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5E70-0FD0-4A1A-A197-E5EB66990D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573E-5640-42BE-BED4-95DA5E791F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DA2DD-90A5-4752-AB35-124C5F1881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FD23-93FD-4D05-BB4A-9B181E60B5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1859-C2E0-4356-80CB-20CBF693E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DE14-CEF2-45B1-8571-DBAA11ED1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F22C-86B5-4905-AD38-339A20F83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94E3-161F-453C-8112-8A568D7AC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FBF7-81C2-4B77-A7FA-9EA87DA30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856F-9E82-4B89-BDC1-FFD158DEF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6141-AAFA-4F0B-A8A3-69C332FB7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921E-2303-45EC-97A6-0EE1CD982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8F16-D7F2-434C-87F5-404F4AD1F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7 - Data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716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lf-Referential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ynamic Memory Allocation and Data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inked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1F8E-3847-476B-BF96-9C110C078D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d linked lis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 node at fr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 node at 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node from fr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node from 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llowing illust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 h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rst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a) is before, (b) is af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79A8-0EBE-4E38-B53A-2150377077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sert at fro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990720" y="1219320"/>
            <a:ext cx="7696080" cy="3235320"/>
            <a:chOff x="990720" y="1219320"/>
            <a:chExt cx="7696080" cy="3235320"/>
          </a:xfrm>
        </p:grpSpPr>
        <p:sp>
          <p:nvSpPr>
            <p:cNvPr id="193" name=""/>
            <p:cNvSpPr/>
            <p:nvPr/>
          </p:nvSpPr>
          <p:spPr>
            <a:xfrm>
              <a:off x="990720" y="1219320"/>
              <a:ext cx="7696080" cy="323532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475360" y="1405800"/>
              <a:ext cx="4361400" cy="2806560"/>
              <a:chOff x="2475360" y="1405800"/>
              <a:chExt cx="4361400" cy="2806560"/>
            </a:xfrm>
          </p:grpSpPr>
          <p:sp>
            <p:nvSpPr>
              <p:cNvPr id="195" name=""/>
              <p:cNvSpPr/>
              <p:nvPr/>
            </p:nvSpPr>
            <p:spPr>
              <a:xfrm>
                <a:off x="6070680" y="166896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00960" y="166788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86920" y="240444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96640" y="314028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68160" y="313920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6200" y="3874680"/>
                <a:ext cx="767880" cy="334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88360" y="3874680"/>
                <a:ext cx="380160" cy="335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90160" y="3140280"/>
                <a:ext cx="380520" cy="334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88360" y="2401560"/>
                <a:ext cx="382320" cy="335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91240" y="1670760"/>
                <a:ext cx="383400" cy="33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891240" y="166968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50720" y="1811160"/>
                <a:ext cx="6480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97720" y="166608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82560" y="166608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10040" y="1733760"/>
                <a:ext cx="1591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41680" y="1807200"/>
                <a:ext cx="64800" cy="576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62200" y="183564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51920" y="166608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6067800" y="1666080"/>
                <a:ext cx="384480" cy="339480"/>
                <a:chOff x="6067800" y="1666080"/>
                <a:chExt cx="384480" cy="339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067800" y="1666080"/>
                  <a:ext cx="384480" cy="339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121800" y="1733760"/>
                  <a:ext cx="275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6452280" y="166608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04440" y="1405800"/>
                <a:ext cx="96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first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79520" y="183564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86920" y="2401560"/>
                <a:ext cx="384840" cy="339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46400" y="2543040"/>
                <a:ext cx="64800" cy="576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4785120" y="2401560"/>
                <a:ext cx="768960" cy="339120"/>
                <a:chOff x="4785120" y="2401560"/>
                <a:chExt cx="768960" cy="339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169600" y="2401560"/>
                  <a:ext cx="384480" cy="3391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4785120" y="2401560"/>
                  <a:ext cx="384480" cy="339120"/>
                  <a:chOff x="4785120" y="2401560"/>
                  <a:chExt cx="384480" cy="339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4785120" y="2401560"/>
                    <a:ext cx="38448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839120" y="2469240"/>
                    <a:ext cx="274680" cy="24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1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6" name=""/>
              <p:cNvSpPr/>
              <p:nvPr/>
            </p:nvSpPr>
            <p:spPr>
              <a:xfrm>
                <a:off x="5169600" y="2401560"/>
                <a:ext cx="384480" cy="339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35200" y="2141280"/>
                <a:ext cx="7365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new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79520" y="257148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475360" y="1420560"/>
                <a:ext cx="248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887280" y="313740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046400" y="3278880"/>
                <a:ext cx="6480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7160" y="313740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4792320" y="3137400"/>
                <a:ext cx="384480" cy="339480"/>
                <a:chOff x="4792320" y="3137400"/>
                <a:chExt cx="384480" cy="3394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792320" y="3137400"/>
                  <a:ext cx="384480" cy="339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904640" y="3205080"/>
                  <a:ext cx="159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341680" y="3278880"/>
                <a:ext cx="6480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362200" y="330696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6067800" y="3137400"/>
                <a:ext cx="768960" cy="339480"/>
                <a:chOff x="6067800" y="3137400"/>
                <a:chExt cx="768960" cy="3394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452280" y="3137400"/>
                  <a:ext cx="384480" cy="339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" name=""/>
                <p:cNvGrpSpPr/>
                <p:nvPr/>
              </p:nvGrpSpPr>
              <p:grpSpPr>
                <a:xfrm>
                  <a:off x="6067800" y="3137400"/>
                  <a:ext cx="384480" cy="339480"/>
                  <a:chOff x="6067800" y="3137400"/>
                  <a:chExt cx="384480" cy="3394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6067800" y="3137400"/>
                    <a:ext cx="384480" cy="33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6121800" y="3205080"/>
                    <a:ext cx="274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1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3" name=""/>
              <p:cNvSpPr/>
              <p:nvPr/>
            </p:nvSpPr>
            <p:spPr>
              <a:xfrm>
                <a:off x="6452280" y="313740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304440" y="2877120"/>
                <a:ext cx="9673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first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79520" y="3306960"/>
                <a:ext cx="695520" cy="565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9" y="1996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sysDot"/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87280" y="387288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46400" y="4014360"/>
                <a:ext cx="6480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5120" y="387288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39120" y="3940920"/>
                <a:ext cx="2746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35200" y="3612600"/>
                <a:ext cx="7365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new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079520" y="404280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75360" y="2892240"/>
                <a:ext cx="248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69960" y="3872880"/>
                <a:ext cx="38412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28720" y="4014360"/>
                <a:ext cx="6516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89080" y="3486960"/>
                <a:ext cx="571680" cy="542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7165"/>
                    </a:lnTo>
                    <a:lnTo>
                      <a:pt x="19963" y="7165"/>
                    </a:lnTo>
                    <a:lnTo>
                      <a:pt x="19963" y="1996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sysDot"/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" name=""/>
          <p:cNvGrpSpPr/>
          <p:nvPr/>
        </p:nvGrpSpPr>
        <p:grpSpPr>
          <a:xfrm>
            <a:off x="5329080" y="4211280"/>
            <a:ext cx="3662640" cy="1078920"/>
            <a:chOff x="5329080" y="4211280"/>
            <a:chExt cx="3662640" cy="1078920"/>
          </a:xfrm>
        </p:grpSpPr>
        <p:sp>
          <p:nvSpPr>
            <p:cNvPr id="257" name=""/>
            <p:cNvSpPr/>
            <p:nvPr/>
          </p:nvSpPr>
          <p:spPr>
            <a:xfrm>
              <a:off x="5334120" y="49528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Ptr-&gt;nextPtr = firs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5329080" y="4211280"/>
              <a:ext cx="46224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33280" y="3451320"/>
            <a:ext cx="3657600" cy="1963800"/>
            <a:chOff x="233280" y="3451320"/>
            <a:chExt cx="3657600" cy="1963800"/>
          </a:xfrm>
        </p:grpSpPr>
        <p:sp>
          <p:nvSpPr>
            <p:cNvPr id="260" name=""/>
            <p:cNvSpPr/>
            <p:nvPr/>
          </p:nvSpPr>
          <p:spPr>
            <a:xfrm>
              <a:off x="233280" y="4591080"/>
              <a:ext cx="3657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newPt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ist empty, th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lastPtr = new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475000" y="3451320"/>
              <a:ext cx="1415880" cy="11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BB62-018C-419E-908C-12203D5EB8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sert at bac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371600" y="990720"/>
            <a:ext cx="6477120" cy="3157560"/>
            <a:chOff x="1371600" y="990720"/>
            <a:chExt cx="6477120" cy="3157560"/>
          </a:xfrm>
        </p:grpSpPr>
        <p:sp>
          <p:nvSpPr>
            <p:cNvPr id="264" name=""/>
            <p:cNvSpPr/>
            <p:nvPr/>
          </p:nvSpPr>
          <p:spPr>
            <a:xfrm>
              <a:off x="1371600" y="990720"/>
              <a:ext cx="6477120" cy="3157560"/>
            </a:xfrm>
            <a:prstGeom prst="rect">
              <a:avLst/>
            </a:prstGeom>
            <a:solidFill>
              <a:srgbClr val="ffe699"/>
            </a:solidFill>
            <a:ln w="0">
              <a:solidFill>
                <a:srgbClr val="ffe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49720" y="2889360"/>
              <a:ext cx="324000" cy="323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60760" y="1119240"/>
              <a:ext cx="9000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76920" y="1119240"/>
              <a:ext cx="7920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43160" y="1166760"/>
              <a:ext cx="2095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31080" y="1136520"/>
              <a:ext cx="620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new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9720" y="2889360"/>
              <a:ext cx="324000" cy="323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3280" y="3024360"/>
              <a:ext cx="55440" cy="554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60760" y="2647800"/>
              <a:ext cx="8143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76920" y="264780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43160" y="2678040"/>
              <a:ext cx="2095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31080" y="2647800"/>
              <a:ext cx="620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new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5040" y="1384200"/>
              <a:ext cx="32076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43600" y="1382760"/>
              <a:ext cx="323640" cy="32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78600" y="1519200"/>
              <a:ext cx="53640" cy="540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98720" y="1384200"/>
              <a:ext cx="32076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98720" y="1382760"/>
              <a:ext cx="324000" cy="32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32280" y="1519200"/>
              <a:ext cx="55440" cy="540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59600" y="2890800"/>
              <a:ext cx="32040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57800" y="2890800"/>
              <a:ext cx="32400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92800" y="3025800"/>
              <a:ext cx="54000" cy="554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98720" y="2890800"/>
              <a:ext cx="32076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8720" y="2890800"/>
              <a:ext cx="32400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2280" y="3025800"/>
              <a:ext cx="55440" cy="554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59600" y="1384200"/>
              <a:ext cx="32040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7800" y="1382760"/>
              <a:ext cx="324000" cy="32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92800" y="1519200"/>
              <a:ext cx="54000" cy="540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3052800" y="2133720"/>
              <a:ext cx="3906720" cy="323640"/>
              <a:chOff x="3052800" y="2133720"/>
              <a:chExt cx="3906720" cy="3236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6310440" y="2133720"/>
                <a:ext cx="647280" cy="322920"/>
                <a:chOff x="6310440" y="2133720"/>
                <a:chExt cx="647280" cy="3229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634080" y="2133720"/>
                  <a:ext cx="323640" cy="3229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6310440" y="2133720"/>
                  <a:ext cx="323640" cy="322920"/>
                  <a:chOff x="6310440" y="2133720"/>
                  <a:chExt cx="323640" cy="32292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6310440" y="2133720"/>
                    <a:ext cx="3236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6453360" y="2359800"/>
                    <a:ext cx="36720" cy="7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7" name=""/>
              <p:cNvSpPr/>
              <p:nvPr/>
            </p:nvSpPr>
            <p:spPr>
              <a:xfrm>
                <a:off x="5533920" y="213372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5210280" y="2133720"/>
                <a:ext cx="323640" cy="322920"/>
                <a:chOff x="5210280" y="2133720"/>
                <a:chExt cx="323640" cy="3229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210280" y="2133720"/>
                  <a:ext cx="323640" cy="3229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353560" y="2359800"/>
                  <a:ext cx="36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4127400" y="213372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270680" y="2359800"/>
                <a:ext cx="36360" cy="7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5280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195720" y="2360880"/>
                <a:ext cx="36360" cy="7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5280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87720" y="2180880"/>
                <a:ext cx="25236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3208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21000" y="2180880"/>
                <a:ext cx="14472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35360" y="2134440"/>
                <a:ext cx="32328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5211360" y="2134440"/>
                <a:ext cx="324000" cy="322920"/>
                <a:chOff x="5211360" y="2134440"/>
                <a:chExt cx="324000" cy="3229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211360" y="2134440"/>
                  <a:ext cx="324000" cy="3229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246280" y="2180880"/>
                  <a:ext cx="252720" cy="25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535360" y="2134440"/>
                <a:ext cx="32328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6312240" y="2134440"/>
                <a:ext cx="647280" cy="322920"/>
                <a:chOff x="6312240" y="2134440"/>
                <a:chExt cx="647280" cy="3229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635880" y="2134440"/>
                  <a:ext cx="323640" cy="3229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6312240" y="2134440"/>
                  <a:ext cx="323640" cy="322920"/>
                  <a:chOff x="6312240" y="2134440"/>
                  <a:chExt cx="323640" cy="32292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6312240" y="2134440"/>
                    <a:ext cx="3236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6406560" y="2198880"/>
                    <a:ext cx="133920" cy="23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"/>
              <p:cNvSpPr/>
              <p:nvPr/>
            </p:nvSpPr>
            <p:spPr>
              <a:xfrm>
                <a:off x="663588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377520" y="2136240"/>
                <a:ext cx="322560" cy="320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7644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10360" y="2269080"/>
                <a:ext cx="54720" cy="5436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35560" y="2293200"/>
                <a:ext cx="593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53560" y="2134440"/>
                <a:ext cx="322920" cy="320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53560" y="2133720"/>
                <a:ext cx="32400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87840" y="2268000"/>
                <a:ext cx="54720" cy="54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11960" y="2291400"/>
                <a:ext cx="5936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3052800" y="3641760"/>
              <a:ext cx="3906720" cy="326880"/>
              <a:chOff x="3052800" y="3641760"/>
              <a:chExt cx="3906720" cy="32688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3052800" y="3645000"/>
                <a:ext cx="323640" cy="322560"/>
                <a:chOff x="3052800" y="3645000"/>
                <a:chExt cx="323640" cy="3225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052800" y="3645000"/>
                  <a:ext cx="323640" cy="32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195720" y="3870360"/>
                  <a:ext cx="3708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133520" y="3642480"/>
                <a:ext cx="645120" cy="322200"/>
                <a:chOff x="4133520" y="3642480"/>
                <a:chExt cx="645120" cy="3222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456080" y="3642480"/>
                  <a:ext cx="322560" cy="322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4133520" y="3642480"/>
                  <a:ext cx="322560" cy="322200"/>
                  <a:chOff x="4133520" y="3642480"/>
                  <a:chExt cx="322560" cy="3222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4133520" y="3642480"/>
                    <a:ext cx="32256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4275000" y="3867480"/>
                    <a:ext cx="36720" cy="7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7" name=""/>
              <p:cNvSpPr/>
              <p:nvPr/>
            </p:nvSpPr>
            <p:spPr>
              <a:xfrm>
                <a:off x="5534280" y="364176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5210640" y="3641760"/>
                <a:ext cx="323640" cy="324360"/>
                <a:chOff x="5210640" y="3641760"/>
                <a:chExt cx="323640" cy="3243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210640" y="3641760"/>
                  <a:ext cx="323640" cy="324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353560" y="3868560"/>
                  <a:ext cx="36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663588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312240" y="3644280"/>
                <a:ext cx="323640" cy="324360"/>
                <a:chOff x="6312240" y="3644280"/>
                <a:chExt cx="323640" cy="3243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312240" y="3644280"/>
                  <a:ext cx="323640" cy="324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455160" y="3871440"/>
                  <a:ext cx="3672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05352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099600" y="3709080"/>
                <a:ext cx="23076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1172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57440" y="3709080"/>
                <a:ext cx="23076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3588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6312240" y="3644280"/>
                <a:ext cx="323640" cy="324360"/>
                <a:chOff x="6312240" y="3644280"/>
                <a:chExt cx="323640" cy="3243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312240" y="3644280"/>
                  <a:ext cx="323640" cy="324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406560" y="3709080"/>
                  <a:ext cx="13392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663588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535360" y="3644280"/>
                <a:ext cx="32328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69280" y="3779280"/>
                <a:ext cx="54720" cy="55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15360" y="3806640"/>
                <a:ext cx="593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prstDash val="sysDot"/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54280" y="3642480"/>
                <a:ext cx="322560" cy="32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54280" y="3641760"/>
                <a:ext cx="32400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88560" y="3776760"/>
                <a:ext cx="54360" cy="54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12680" y="3800160"/>
                <a:ext cx="593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74280" y="3646080"/>
                <a:ext cx="323280" cy="32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74280" y="3644280"/>
                <a:ext cx="32400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508560" y="3779280"/>
                <a:ext cx="54720" cy="55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532680" y="3803760"/>
                <a:ext cx="593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4129560" y="3644280"/>
                <a:ext cx="323640" cy="318960"/>
                <a:chOff x="4129560" y="3644280"/>
                <a:chExt cx="323640" cy="3189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129560" y="3644280"/>
                  <a:ext cx="323640" cy="31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19944"/>
                      </a:move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lnTo>
                        <a:pt x="19944" y="1994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223880" y="3706560"/>
                  <a:ext cx="13428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8" name=""/>
            <p:cNvSpPr/>
            <p:nvPr/>
          </p:nvSpPr>
          <p:spPr>
            <a:xfrm>
              <a:off x="3087720" y="1573200"/>
              <a:ext cx="10800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11720" y="1573200"/>
              <a:ext cx="14148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08640" y="1519200"/>
              <a:ext cx="9864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54240" y="3051000"/>
              <a:ext cx="14148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46800" y="3051000"/>
              <a:ext cx="10800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38720" y="3081240"/>
              <a:ext cx="1054080" cy="5605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334120" y="3968640"/>
            <a:ext cx="3657600" cy="1321560"/>
            <a:chOff x="5334120" y="3968640"/>
            <a:chExt cx="3657600" cy="1321560"/>
          </a:xfrm>
        </p:grpSpPr>
        <p:sp>
          <p:nvSpPr>
            <p:cNvPr id="375" name=""/>
            <p:cNvSpPr/>
            <p:nvPr/>
          </p:nvSpPr>
          <p:spPr>
            <a:xfrm>
              <a:off x="5334120" y="49528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astPtr-&gt;nextPtr = new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5668920" y="3968640"/>
              <a:ext cx="122400" cy="9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800600" y="3214440"/>
            <a:ext cx="3657600" cy="3130920"/>
            <a:chOff x="4800600" y="3214440"/>
            <a:chExt cx="3657600" cy="3130920"/>
          </a:xfrm>
        </p:grpSpPr>
        <p:sp>
          <p:nvSpPr>
            <p:cNvPr id="378" name=""/>
            <p:cNvSpPr/>
            <p:nvPr/>
          </p:nvSpPr>
          <p:spPr>
            <a:xfrm>
              <a:off x="4800600" y="5521320"/>
              <a:ext cx="3657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astPtr = new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ist empty, th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lastPtr = new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257800" y="3214440"/>
              <a:ext cx="0" cy="23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0EA7-F584-4737-BE52-188D13E501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move from fro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41400" y="914400"/>
            <a:ext cx="7288200" cy="4343400"/>
            <a:chOff x="941400" y="914400"/>
            <a:chExt cx="7288200" cy="4343400"/>
          </a:xfrm>
        </p:grpSpPr>
        <p:sp>
          <p:nvSpPr>
            <p:cNvPr id="382" name=""/>
            <p:cNvSpPr/>
            <p:nvPr/>
          </p:nvSpPr>
          <p:spPr>
            <a:xfrm>
              <a:off x="941400" y="914400"/>
              <a:ext cx="7288200" cy="4343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55720" y="3062160"/>
              <a:ext cx="365400" cy="365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5251320" y="3913200"/>
              <a:ext cx="728640" cy="363240"/>
              <a:chOff x="5251320" y="3913200"/>
              <a:chExt cx="728640" cy="36324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5251320" y="3913200"/>
                <a:ext cx="364320" cy="363240"/>
                <a:chOff x="5251320" y="3913200"/>
                <a:chExt cx="364320" cy="3632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251320" y="3913200"/>
                  <a:ext cx="364320" cy="363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12240" y="4167720"/>
                  <a:ext cx="41040" cy="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5615640" y="3913200"/>
                <a:ext cx="364320" cy="363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66480" y="4064400"/>
                <a:ext cx="61560" cy="61560"/>
              </a:xfrm>
              <a:prstGeom prst="ellips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2392200" y="1063440"/>
              <a:ext cx="916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08840" y="1063440"/>
              <a:ext cx="8064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20960" y="1106280"/>
              <a:ext cx="236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06560" y="321444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59120" y="3232080"/>
              <a:ext cx="1206360" cy="669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97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lgDash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92200" y="2763720"/>
              <a:ext cx="916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5880" y="2763720"/>
              <a:ext cx="8064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20960" y="2806560"/>
              <a:ext cx="236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13280" y="4097160"/>
              <a:ext cx="668520" cy="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05120" y="4992480"/>
              <a:ext cx="8064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temp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560" y="3913200"/>
              <a:ext cx="36360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94120" y="4167000"/>
              <a:ext cx="410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35360" y="3913200"/>
              <a:ext cx="36360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4960" y="3965400"/>
              <a:ext cx="2840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3195720" y="3913200"/>
              <a:ext cx="365040" cy="365040"/>
              <a:chOff x="3195720" y="3913200"/>
              <a:chExt cx="365040" cy="365040"/>
            </a:xfrm>
          </p:grpSpPr>
          <p:sp>
            <p:nvSpPr>
              <p:cNvPr id="405" name=""/>
              <p:cNvSpPr/>
              <p:nvPr/>
            </p:nvSpPr>
            <p:spPr>
              <a:xfrm>
                <a:off x="3195720" y="3915000"/>
                <a:ext cx="363960" cy="362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95720" y="3913200"/>
                <a:ext cx="365040" cy="36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346920" y="4065120"/>
                <a:ext cx="61560" cy="6156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403880" y="3913200"/>
              <a:ext cx="36324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4040280" y="3913200"/>
              <a:ext cx="363600" cy="363240"/>
              <a:chOff x="4040280" y="3913200"/>
              <a:chExt cx="363600" cy="363240"/>
            </a:xfrm>
          </p:grpSpPr>
          <p:sp>
            <p:nvSpPr>
              <p:cNvPr id="410" name=""/>
              <p:cNvSpPr/>
              <p:nvPr/>
            </p:nvSpPr>
            <p:spPr>
              <a:xfrm>
                <a:off x="4040280" y="3913200"/>
                <a:ext cx="363600" cy="363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00480" y="4168080"/>
                <a:ext cx="4140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4402080" y="3914640"/>
              <a:ext cx="363600" cy="36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52920" y="406404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79920" y="4092480"/>
              <a:ext cx="66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7120" y="3965400"/>
              <a:ext cx="162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3913200"/>
              <a:ext cx="36504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6481800" y="3913200"/>
              <a:ext cx="363600" cy="363240"/>
              <a:chOff x="6481800" y="3913200"/>
              <a:chExt cx="363600" cy="363240"/>
            </a:xfrm>
          </p:grpSpPr>
          <p:sp>
            <p:nvSpPr>
              <p:cNvPr id="418" name=""/>
              <p:cNvSpPr/>
              <p:nvPr/>
            </p:nvSpPr>
            <p:spPr>
              <a:xfrm>
                <a:off x="6481800" y="3913200"/>
                <a:ext cx="363600" cy="363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42360" y="4167720"/>
                <a:ext cx="41400" cy="8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6846840" y="3914640"/>
              <a:ext cx="365040" cy="365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38880" y="1350720"/>
              <a:ext cx="36180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57520" y="1350720"/>
              <a:ext cx="36036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06560" y="150156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11880" y="3065400"/>
              <a:ext cx="36180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09960" y="4556160"/>
              <a:ext cx="36504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60440" y="470664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35360" y="3913200"/>
              <a:ext cx="36180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95560" y="4167000"/>
              <a:ext cx="41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74960" y="3965400"/>
              <a:ext cx="2858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97160" y="3914640"/>
              <a:ext cx="36216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76600" y="2212920"/>
              <a:ext cx="36360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2466720"/>
              <a:ext cx="41400" cy="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16200" y="2265120"/>
              <a:ext cx="284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40200" y="2214360"/>
              <a:ext cx="36036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57720" y="2212920"/>
              <a:ext cx="36180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3894120" y="2212920"/>
              <a:ext cx="363600" cy="363600"/>
              <a:chOff x="3894120" y="2212920"/>
              <a:chExt cx="363600" cy="363600"/>
            </a:xfrm>
          </p:grpSpPr>
          <p:sp>
            <p:nvSpPr>
              <p:cNvPr id="437" name=""/>
              <p:cNvSpPr/>
              <p:nvPr/>
            </p:nvSpPr>
            <p:spPr>
              <a:xfrm>
                <a:off x="3894120" y="2212920"/>
                <a:ext cx="363600" cy="363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54680" y="2467440"/>
                <a:ext cx="41400" cy="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4255920" y="2212920"/>
              <a:ext cx="36036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90960" y="2265120"/>
              <a:ext cx="162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94560" y="2212920"/>
              <a:ext cx="36504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6330960" y="2212920"/>
              <a:ext cx="363600" cy="363600"/>
              <a:chOff x="6330960" y="2212920"/>
              <a:chExt cx="363600" cy="363600"/>
            </a:xfrm>
          </p:grpSpPr>
          <p:sp>
            <p:nvSpPr>
              <p:cNvPr id="443" name=""/>
              <p:cNvSpPr/>
              <p:nvPr/>
            </p:nvSpPr>
            <p:spPr>
              <a:xfrm>
                <a:off x="6330960" y="2212920"/>
                <a:ext cx="363600" cy="363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91520" y="2467440"/>
                <a:ext cx="41400" cy="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6697800" y="2214360"/>
              <a:ext cx="36324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199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5075280" y="2212920"/>
              <a:ext cx="363600" cy="363600"/>
              <a:chOff x="5075280" y="2212920"/>
              <a:chExt cx="363600" cy="363600"/>
            </a:xfrm>
          </p:grpSpPr>
          <p:sp>
            <p:nvSpPr>
              <p:cNvPr id="447" name=""/>
              <p:cNvSpPr/>
              <p:nvPr/>
            </p:nvSpPr>
            <p:spPr>
              <a:xfrm>
                <a:off x="5075280" y="2212920"/>
                <a:ext cx="363600" cy="363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235480" y="2467440"/>
                <a:ext cx="41400" cy="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5438880" y="2212920"/>
              <a:ext cx="36504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2109960" y="1350720"/>
              <a:ext cx="5101920" cy="3570480"/>
              <a:chOff x="2109960" y="1350720"/>
              <a:chExt cx="5101920" cy="3570480"/>
            </a:xfrm>
          </p:grpSpPr>
          <p:sp>
            <p:nvSpPr>
              <p:cNvPr id="451" name=""/>
              <p:cNvSpPr/>
              <p:nvPr/>
            </p:nvSpPr>
            <p:spPr>
              <a:xfrm>
                <a:off x="2655360" y="30636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01720" y="3913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39560" y="3913920"/>
                <a:ext cx="35784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847560" y="39150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6482880" y="3915000"/>
                <a:ext cx="364320" cy="364320"/>
                <a:chOff x="6482880" y="3915000"/>
                <a:chExt cx="364320" cy="3643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482880" y="3915000"/>
                  <a:ext cx="364320" cy="36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582960" y="3967560"/>
                  <a:ext cx="16308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252040" y="3913920"/>
                <a:ext cx="728640" cy="364320"/>
                <a:chOff x="5252040" y="3913920"/>
                <a:chExt cx="728640" cy="36432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5252040" y="3913920"/>
                  <a:ext cx="364320" cy="364320"/>
                  <a:chOff x="5252040" y="3913920"/>
                  <a:chExt cx="364320" cy="36432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5252040" y="3913920"/>
                    <a:ext cx="364320" cy="36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303520" y="3986640"/>
                    <a:ext cx="25956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1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2" name=""/>
                <p:cNvSpPr/>
                <p:nvPr/>
              </p:nvSpPr>
              <p:spPr>
                <a:xfrm>
                  <a:off x="5616360" y="3913920"/>
                  <a:ext cx="364320" cy="36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767200" y="4065840"/>
                  <a:ext cx="61560" cy="6156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6338520" y="1350720"/>
                <a:ext cx="364320" cy="363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655360" y="1350720"/>
                <a:ext cx="364320" cy="363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09720" y="30636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09960" y="455688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5360" y="3913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96080" y="39150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76600" y="2212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38040" y="22140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54840" y="2212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90160" y="2216160"/>
                <a:ext cx="364320" cy="358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697800" y="22140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6333120" y="2214000"/>
                <a:ext cx="364320" cy="364320"/>
                <a:chOff x="6333120" y="2214000"/>
                <a:chExt cx="364320" cy="3643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333120" y="2214000"/>
                  <a:ext cx="364320" cy="36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19944"/>
                      </a:move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lnTo>
                        <a:pt x="19944" y="1994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433200" y="2266560"/>
                  <a:ext cx="16308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5074920" y="2212920"/>
                <a:ext cx="364320" cy="364320"/>
                <a:chOff x="5074920" y="2212920"/>
                <a:chExt cx="364320" cy="3643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5074920" y="2212920"/>
                  <a:ext cx="364320" cy="36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19944"/>
                      </a:move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lnTo>
                        <a:pt x="19944" y="1994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114160" y="2265480"/>
                  <a:ext cx="28476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>
                <a:off x="5439240" y="2212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 flipH="1">
              <a:off x="2835360" y="1560240"/>
              <a:ext cx="144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2322360" y="4249440"/>
              <a:ext cx="48420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0000" y="237636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37000" y="2404800"/>
              <a:ext cx="66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00400" y="237636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27400" y="2404800"/>
              <a:ext cx="6681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237636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65680" y="2404800"/>
              <a:ext cx="66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52680" y="405288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79680" y="4081320"/>
              <a:ext cx="66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91160" y="149832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519960" y="1560240"/>
              <a:ext cx="144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91160" y="320040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6519960" y="3262320"/>
              <a:ext cx="144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76320" y="3276720"/>
            <a:ext cx="2514600" cy="1279440"/>
            <a:chOff x="76320" y="3276720"/>
            <a:chExt cx="2514600" cy="1279440"/>
          </a:xfrm>
        </p:grpSpPr>
        <p:sp>
          <p:nvSpPr>
            <p:cNvPr id="497" name=""/>
            <p:cNvSpPr/>
            <p:nvPr/>
          </p:nvSpPr>
          <p:spPr>
            <a:xfrm>
              <a:off x="76320" y="32767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Ptr = firs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622680"/>
              <a:ext cx="66024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859200" y="4280040"/>
            <a:ext cx="4473720" cy="1312920"/>
            <a:chOff x="3859200" y="4280040"/>
            <a:chExt cx="4473720" cy="1312920"/>
          </a:xfrm>
        </p:grpSpPr>
        <p:sp>
          <p:nvSpPr>
            <p:cNvPr id="500" name=""/>
            <p:cNvSpPr/>
            <p:nvPr/>
          </p:nvSpPr>
          <p:spPr>
            <a:xfrm>
              <a:off x="3859200" y="4768920"/>
              <a:ext cx="447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firstPtr-&gt;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there are no more node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lastPtr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4254120" y="4280040"/>
              <a:ext cx="14292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676520" y="5257440"/>
            <a:ext cx="2514600" cy="1023480"/>
            <a:chOff x="1676520" y="5257440"/>
            <a:chExt cx="2514600" cy="1023480"/>
          </a:xfrm>
        </p:grpSpPr>
        <p:sp>
          <p:nvSpPr>
            <p:cNvPr id="503" name=""/>
            <p:cNvSpPr/>
            <p:nvPr/>
          </p:nvSpPr>
          <p:spPr>
            <a:xfrm>
              <a:off x="1676520" y="59436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 temp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2322360" y="5257440"/>
              <a:ext cx="268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9E3F-E886-4842-A375-B77C9C6A93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move from bac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990720"/>
            <a:ext cx="7238880" cy="4714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70480" y="237024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3264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29240" y="262404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70480" y="2371680"/>
            <a:ext cx="36216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32640" y="2371680"/>
            <a:ext cx="36180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77040" y="2443320"/>
            <a:ext cx="149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32640" y="2371680"/>
            <a:ext cx="36180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270480" y="4048200"/>
            <a:ext cx="3621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32640" y="4048200"/>
            <a:ext cx="36180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29240" y="430056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0480" y="4049640"/>
            <a:ext cx="36216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632640" y="4049640"/>
            <a:ext cx="36180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77040" y="4121280"/>
            <a:ext cx="149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32640" y="40482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89760" y="32148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46720" y="3213000"/>
            <a:ext cx="36180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46720" y="3213000"/>
            <a:ext cx="36180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95760" y="336240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84760" y="483552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84760" y="483552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34160" y="4986360"/>
            <a:ext cx="61920" cy="6048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14800" y="404352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76960" y="404352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75360" y="4297320"/>
            <a:ext cx="4104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035680" y="2370240"/>
            <a:ext cx="361800" cy="361800"/>
            <a:chOff x="5035680" y="2370240"/>
            <a:chExt cx="361800" cy="361800"/>
          </a:xfrm>
        </p:grpSpPr>
        <p:sp>
          <p:nvSpPr>
            <p:cNvPr id="532" name=""/>
            <p:cNvSpPr/>
            <p:nvPr/>
          </p:nvSpPr>
          <p:spPr>
            <a:xfrm>
              <a:off x="5035680" y="2370240"/>
              <a:ext cx="361800" cy="36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95520" y="2623320"/>
              <a:ext cx="41040" cy="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39748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035680" y="2370240"/>
            <a:ext cx="361800" cy="361800"/>
            <a:chOff x="5035680" y="2370240"/>
            <a:chExt cx="361800" cy="361800"/>
          </a:xfrm>
        </p:grpSpPr>
        <p:sp>
          <p:nvSpPr>
            <p:cNvPr id="536" name=""/>
            <p:cNvSpPr/>
            <p:nvPr/>
          </p:nvSpPr>
          <p:spPr>
            <a:xfrm>
              <a:off x="5035680" y="2370240"/>
              <a:ext cx="361800" cy="36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74920" y="2422080"/>
              <a:ext cx="281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539748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33640" y="2371680"/>
            <a:ext cx="3603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4000" y="2370240"/>
            <a:ext cx="3603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92400" y="262260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92560" y="2370240"/>
            <a:ext cx="35892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9256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30760" y="2373480"/>
            <a:ext cx="361800" cy="3553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29040" y="2422440"/>
            <a:ext cx="1620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30760" y="4049640"/>
            <a:ext cx="3585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91120" y="4049640"/>
            <a:ext cx="3603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89520" y="4302000"/>
            <a:ext cx="4104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84640" y="4048200"/>
            <a:ext cx="35892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89320" y="4049640"/>
            <a:ext cx="36216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25720" y="4052880"/>
            <a:ext cx="362160" cy="3556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925800" y="4100400"/>
            <a:ext cx="1620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630520" y="2368440"/>
            <a:ext cx="35892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89280" y="262260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3052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68680" y="2422440"/>
            <a:ext cx="282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89440" y="2370240"/>
            <a:ext cx="3585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98944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630520" y="4048200"/>
            <a:ext cx="35892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89280" y="430056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630520" y="40482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68680" y="4098960"/>
            <a:ext cx="282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9440" y="4049640"/>
            <a:ext cx="3585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89440" y="4049640"/>
            <a:ext cx="36180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446200" y="3214800"/>
            <a:ext cx="35892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44760" y="32148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3800" y="3365640"/>
            <a:ext cx="61920" cy="601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446200" y="1525680"/>
            <a:ext cx="35892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46200" y="152568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595600" y="1676520"/>
            <a:ext cx="61920" cy="601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89760" y="1525680"/>
            <a:ext cx="3585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87960" y="152568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37360" y="1676520"/>
            <a:ext cx="61920" cy="601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44880" y="1244520"/>
            <a:ext cx="1006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firs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37400" y="1244520"/>
            <a:ext cx="88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as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22600" y="1290600"/>
            <a:ext cx="233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3264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19944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89760" y="32148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240600" y="3365640"/>
            <a:ext cx="60120" cy="601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44880" y="2952720"/>
            <a:ext cx="909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firs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37400" y="2952720"/>
            <a:ext cx="801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as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22600" y="2978280"/>
            <a:ext cx="233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35560" y="5291280"/>
            <a:ext cx="800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emp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48000" y="2946240"/>
            <a:ext cx="1125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ren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16600" y="4046400"/>
            <a:ext cx="36180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78400" y="4046400"/>
            <a:ext cx="36216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067360" y="4118040"/>
            <a:ext cx="2588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80200" y="40482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19944" y="0"/>
                </a:lnTo>
              </a:path>
            </a:pathLst>
          </a:custGeom>
          <a:noFill/>
          <a:ln w="32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70480" y="1676520"/>
            <a:ext cx="158760" cy="69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30520" y="1736640"/>
            <a:ext cx="15876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418140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51080" y="4210200"/>
            <a:ext cx="6685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334040" y="418140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61040" y="4210200"/>
            <a:ext cx="6681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250524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151080" y="2533680"/>
            <a:ext cx="6685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251928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370400" y="2548080"/>
            <a:ext cx="6681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2720" y="250524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89720" y="2533680"/>
            <a:ext cx="6681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5195880" y="3424320"/>
            <a:ext cx="1062000" cy="619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5896080" y="4411800"/>
            <a:ext cx="404640" cy="57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57680" y="3424320"/>
            <a:ext cx="378000" cy="619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362320" y="4606920"/>
            <a:ext cx="3276360" cy="337320"/>
            <a:chOff x="2362320" y="4606920"/>
            <a:chExt cx="3276360" cy="337320"/>
          </a:xfrm>
        </p:grpSpPr>
        <p:sp>
          <p:nvSpPr>
            <p:cNvPr id="605" name=""/>
            <p:cNvSpPr/>
            <p:nvPr/>
          </p:nvSpPr>
          <p:spPr>
            <a:xfrm>
              <a:off x="2362320" y="46069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Ptr = las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63960" y="4724280"/>
              <a:ext cx="77472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820800" y="628560"/>
            <a:ext cx="4437000" cy="2317680"/>
            <a:chOff x="820800" y="628560"/>
            <a:chExt cx="4437000" cy="2317680"/>
          </a:xfrm>
        </p:grpSpPr>
        <p:sp>
          <p:nvSpPr>
            <p:cNvPr id="608" name=""/>
            <p:cNvSpPr/>
            <p:nvPr/>
          </p:nvSpPr>
          <p:spPr>
            <a:xfrm>
              <a:off x="820800" y="628560"/>
              <a:ext cx="4437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"Walk" list until get next-to-last node, until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rrentPtr-&gt;nextPtr = las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48000" y="1219320"/>
              <a:ext cx="109872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00800" y="3424320"/>
            <a:ext cx="2681280" cy="1672200"/>
            <a:chOff x="6400800" y="3424320"/>
            <a:chExt cx="2681280" cy="1672200"/>
          </a:xfrm>
        </p:grpSpPr>
        <p:sp>
          <p:nvSpPr>
            <p:cNvPr id="611" name=""/>
            <p:cNvSpPr/>
            <p:nvPr/>
          </p:nvSpPr>
          <p:spPr>
            <a:xfrm>
              <a:off x="6400800" y="4759200"/>
              <a:ext cx="2681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astPtr = curren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408720" y="3424320"/>
              <a:ext cx="1301760" cy="13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257800" y="5444640"/>
            <a:ext cx="2514600" cy="1023480"/>
            <a:chOff x="5257800" y="5444640"/>
            <a:chExt cx="2514600" cy="1023480"/>
          </a:xfrm>
        </p:grpSpPr>
        <p:sp>
          <p:nvSpPr>
            <p:cNvPr id="614" name=""/>
            <p:cNvSpPr/>
            <p:nvPr/>
          </p:nvSpPr>
          <p:spPr>
            <a:xfrm>
              <a:off x="5257800" y="61308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 temp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5903640" y="5444640"/>
              <a:ext cx="268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A724-59E9-4F9D-8B88-3EF44653C7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 has two class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two class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ype depends on class templ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ed lis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 manipulatio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At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At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From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From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166B-7CBE-4FEF-92A8-6121D5BA32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nod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3: listnod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ListNod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STNOD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STNOD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ward declaration of class Lis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Nod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 List a fri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DETYPE 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ata in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DETYPE data;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nextPtr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ext node in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List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828440" y="1066680"/>
            <a:ext cx="4724640" cy="2895840"/>
            <a:chOff x="1828440" y="1066680"/>
            <a:chExt cx="4724640" cy="2895840"/>
          </a:xfrm>
        </p:grpSpPr>
        <p:sp>
          <p:nvSpPr>
            <p:cNvPr id="621" name=""/>
            <p:cNvSpPr/>
            <p:nvPr/>
          </p:nvSpPr>
          <p:spPr>
            <a:xfrm>
              <a:off x="3886200" y="1066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mplat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 type of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pends on how the class template is u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828440" y="1600200"/>
              <a:ext cx="20574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2F2D0-2685-4DB4-A665-4BEECE86E1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nod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Node&lt; NODETYPE &gt;::List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info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data( info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nex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istNod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opy of data in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TYPE ListNode&lt; NODETYPE &gt;::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9821-EDEA-4117-A2B2-87D79915A5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1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4: lis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List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S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S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nod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Nod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List()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AtFro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AtBack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Front( NODETYPE &amp;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Back( NODETYPE &amp;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B8DB-DF2D-46AA-B766-91EEEDC182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2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first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firs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lastPtr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last nod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function to allocate new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getNew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i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NODETYPE &gt;::Lis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firs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las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is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971440" y="838080"/>
            <a:ext cx="3277080" cy="1419120"/>
            <a:chOff x="2971440" y="838080"/>
            <a:chExt cx="3277080" cy="1419120"/>
          </a:xfrm>
        </p:grpSpPr>
        <p:sp>
          <p:nvSpPr>
            <p:cNvPr id="630" name=""/>
            <p:cNvSpPr/>
            <p:nvPr/>
          </p:nvSpPr>
          <p:spPr>
            <a:xfrm>
              <a:off x="3581280" y="1676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2971440" y="838080"/>
              <a:ext cx="6094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6027-D209-4752-B0FE-B2F1E572C9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size 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, str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ow and shrink as program ru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ed l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/remove items any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/remove from top of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 line, insert at back, remove from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-speed searching/sorting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1D74-843F-424A-8C17-B06B32E1A0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3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 NODETYPE &gt;::~Li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Empty() ) {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ist is not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stroying nodes 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Node&lt; NODETYPE &gt; *current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Node&lt; NODETYPE &gt; *temp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remaining no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mpPtr = curren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tempPtr-&gt;data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Ptr = currentPtr-&gt;nex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 nodes destroyed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ist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8A10-583C-44A7-AFCD-B32FF35C1B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4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node at front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class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insertAtFro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newPtr = getNewNode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Ptr = las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is not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ewPtr-&gt;next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sertAt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580920" y="837720"/>
            <a:ext cx="3886560" cy="1648080"/>
            <a:chOff x="3580920" y="837720"/>
            <a:chExt cx="3886560" cy="1648080"/>
          </a:xfrm>
        </p:grpSpPr>
        <p:sp>
          <p:nvSpPr>
            <p:cNvPr id="637" name=""/>
            <p:cNvSpPr/>
            <p:nvPr/>
          </p:nvSpPr>
          <p:spPr>
            <a:xfrm>
              <a:off x="4800600" y="1905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a new node as described in the previous diagram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3580920" y="837720"/>
              <a:ext cx="12193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7B7B-79A4-4E3F-9063-B7BF7A5201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5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node at back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insertAtBack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newPtr = getNewNode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Ptr = las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List is not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Ptr-&gt;nex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sertAtB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337E-1609-4A3C-9DD4-588B043314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6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node from front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removeFromFront(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Node&lt; NODETYPE &gt; *temp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rstPtr == last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Ptr = las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Ptr = firstPtr-&gt;nex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= tempPtr-&gt;data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being 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delete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removeFrom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51B6-E57E-41EA-8348-7129D73166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7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node from back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removeFromBack(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Node&lt; NODETYPE &gt; *tempPtr = la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rstPtr == last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Ptr = las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Node&lt; NODETYPE &gt; *current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second-to-last element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Ptr-&gt;nextPtr != lastPtr 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Ptr = currentPtr-&gt;nextPtr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stPtr = curren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Ptr-&gt;nex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= tempPtr-&gt;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77FD-7C4F-4011-8D40-1C19BAD0A6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8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removeFromB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List empty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is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Pt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pointer to newly allocated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Node&lt; NODETYPE &gt; *List&lt; NODETYPE &gt;::getNew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Node&lt; NODETYPE &gt;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New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276360" y="3048120"/>
            <a:ext cx="4115160" cy="1218960"/>
            <a:chOff x="3276360" y="3048120"/>
            <a:chExt cx="4115160" cy="1218960"/>
          </a:xfrm>
        </p:grpSpPr>
        <p:sp>
          <p:nvSpPr>
            <p:cNvPr id="648" name=""/>
            <p:cNvSpPr/>
            <p:nvPr/>
          </p:nvSpPr>
          <p:spPr>
            <a:xfrm>
              <a:off x="4724280" y="3048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to dynamically allocate a n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276360" y="3200400"/>
              <a:ext cx="14475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A3310-8CAC-4BC9-ABB5-4EE72FC890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9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contents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"The list is empty\n\n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current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list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currentPtr-&gt;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Ptr = currentPtr-&gt;nex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13272-0742-4171-BE5E-C90581D78E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5: fig17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is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test a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List( List&lt; T &gt; &amp;listObjec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type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a List of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ype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value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struction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instru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437920" y="609120"/>
            <a:ext cx="3429360" cy="1891440"/>
            <a:chOff x="2437920" y="609120"/>
            <a:chExt cx="3429360" cy="1891440"/>
          </a:xfrm>
        </p:grpSpPr>
        <p:sp>
          <p:nvSpPr>
            <p:cNvPr id="655" name=""/>
            <p:cNvSpPr/>
            <p:nvPr/>
          </p:nvSpPr>
          <p:spPr>
            <a:xfrm>
              <a:off x="3200400" y="1676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gram to give user a menu to add/remove nodes from a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2437920" y="609120"/>
              <a:ext cx="7621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74C04-8B41-4429-9517-13F35777BB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ype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in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insertAtFront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type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in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insertAtBack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Object.removeFromFront( value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removed from lis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5877-769E-4739-95B9-533441B4F2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Object.removeFromBack( value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removed from lis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end do/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 list test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est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program instructions to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truction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one of the following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1 to insert at beginning of list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2 to insert at end of list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3 to delete from beginning of list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4 to delete from end of list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5 to end list process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instru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9D304-035C-413C-9088-69E7C92801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lf-Referential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referential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pointer to object of sam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 together to form useful data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s, stacks, queues,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5800" y="3657600"/>
            <a:ext cx="7467480" cy="833400"/>
            <a:chOff x="685800" y="3657600"/>
            <a:chExt cx="7467480" cy="833400"/>
          </a:xfrm>
        </p:grpSpPr>
        <p:sp>
          <p:nvSpPr>
            <p:cNvPr id="94" name=""/>
            <p:cNvSpPr/>
            <p:nvPr/>
          </p:nvSpPr>
          <p:spPr>
            <a:xfrm>
              <a:off x="685800" y="3657600"/>
              <a:ext cx="7467480" cy="833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993760" y="3849480"/>
              <a:ext cx="2851560" cy="446760"/>
              <a:chOff x="2993760" y="3849480"/>
              <a:chExt cx="2851560" cy="44676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5099760" y="3855600"/>
                <a:ext cx="744840" cy="440640"/>
                <a:chOff x="5099760" y="3855600"/>
                <a:chExt cx="744840" cy="440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099760" y="3855600"/>
                  <a:ext cx="74484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2" y="0"/>
                      </a:moveTo>
                      <a:lnTo>
                        <a:pt x="19972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2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410080" y="4039200"/>
                  <a:ext cx="125280" cy="7452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241520" y="3855600"/>
                <a:ext cx="373320" cy="440640"/>
                <a:chOff x="4241520" y="3855600"/>
                <a:chExt cx="373320" cy="4406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241520" y="3855600"/>
                  <a:ext cx="37332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394880" y="4039200"/>
                  <a:ext cx="63000" cy="7452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868200" y="3855600"/>
                <a:ext cx="373320" cy="440640"/>
                <a:chOff x="3868200" y="3855600"/>
                <a:chExt cx="373320" cy="4406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868200" y="3855600"/>
                  <a:ext cx="37332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021560" y="4039200"/>
                  <a:ext cx="63000" cy="7452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2993760" y="3849480"/>
                <a:ext cx="373320" cy="441000"/>
                <a:chOff x="2993760" y="3849480"/>
                <a:chExt cx="373320" cy="441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993760" y="3849480"/>
                  <a:ext cx="373320" cy="4410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148200" y="4033080"/>
                  <a:ext cx="63360" cy="7452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4241520" y="3855600"/>
                <a:ext cx="372960" cy="440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3868200" y="3855600"/>
                <a:ext cx="373320" cy="440640"/>
                <a:chOff x="3868200" y="3855600"/>
                <a:chExt cx="373320" cy="440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868200" y="3855600"/>
                  <a:ext cx="37332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920760" y="3943800"/>
                  <a:ext cx="2667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099040" y="3855600"/>
                <a:ext cx="746280" cy="440640"/>
                <a:chOff x="5099040" y="3855600"/>
                <a:chExt cx="746280" cy="4406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472000" y="3855600"/>
                  <a:ext cx="37332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" name=""/>
                <p:cNvGrpSpPr/>
                <p:nvPr/>
              </p:nvGrpSpPr>
              <p:grpSpPr>
                <a:xfrm>
                  <a:off x="5099040" y="3855600"/>
                  <a:ext cx="372960" cy="440640"/>
                  <a:chOff x="5099040" y="3855600"/>
                  <a:chExt cx="372960" cy="44064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5099040" y="3855600"/>
                    <a:ext cx="37296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5151600" y="3943800"/>
                    <a:ext cx="266400" cy="31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1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7" name=""/>
              <p:cNvSpPr/>
              <p:nvPr/>
            </p:nvSpPr>
            <p:spPr>
              <a:xfrm>
                <a:off x="4395960" y="4039200"/>
                <a:ext cx="63000" cy="745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4680" y="4075920"/>
                <a:ext cx="684360" cy="1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72000" y="3855600"/>
                <a:ext cx="373320" cy="440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993760" y="3849480"/>
                <a:ext cx="373320" cy="441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48200" y="4033080"/>
                <a:ext cx="63360" cy="745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83480" y="4069800"/>
                <a:ext cx="684360" cy="1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4572000" y="4262400"/>
            <a:ext cx="3429000" cy="1592280"/>
            <a:chOff x="4572000" y="4262400"/>
            <a:chExt cx="3429000" cy="1592280"/>
          </a:xfrm>
        </p:grpSpPr>
        <p:sp>
          <p:nvSpPr>
            <p:cNvPr id="124" name=""/>
            <p:cNvSpPr/>
            <p:nvPr/>
          </p:nvSpPr>
          <p:spPr>
            <a:xfrm>
              <a:off x="4572000" y="5486400"/>
              <a:ext cx="342900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UL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pointer (points to noth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714640" y="4262400"/>
              <a:ext cx="3049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86000" y="4262040"/>
            <a:ext cx="2173320" cy="1638360"/>
            <a:chOff x="2286000" y="4262040"/>
            <a:chExt cx="2173320" cy="1638360"/>
          </a:xfrm>
        </p:grpSpPr>
        <p:sp>
          <p:nvSpPr>
            <p:cNvPr id="127" name=""/>
            <p:cNvSpPr/>
            <p:nvPr/>
          </p:nvSpPr>
          <p:spPr>
            <a:xfrm>
              <a:off x="2286000" y="5257800"/>
              <a:ext cx="1447920" cy="642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member and 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367080" y="4262040"/>
              <a:ext cx="655560" cy="9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367080" y="4262040"/>
              <a:ext cx="1092240" cy="9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C2BB-E614-4158-BF07-C548677A75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List of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List( integerLis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List of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List( doubleLis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7FF4-B38B-409E-9C42-52CF9D2FC0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a List of intege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one of the follow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to insert at beginning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to insert at end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to delete from beginning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to delete from end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to end list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: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 3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B01E-05E8-497A-B10F-B27AB37318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 3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list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ABC7-5388-48DF-98FF-B9C8FE9CA0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a List of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one of the follow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to insert at beginning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to insert at end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to delete from beginning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to delete from end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to end list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double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double: 2.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double: 3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 3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double: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.2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9926-A2CB-4B3C-AF78-FE90C664C38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4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.3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list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node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nodes destroy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36B1-D9D2-416C-A1F1-D7D72970EB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link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y linked list (used in examp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 to firs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 in one direction (null-termin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rcular, singly-lin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but last node points to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y-link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de has a forward and backwards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 forward or back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node null-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rcular, double-lin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but first and last node jo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1B65-B925-4816-9C87-9E30861EC0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ck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s can be added/removed from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ed version of link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 stack of 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st-in, first-out (LIFO)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tom of stack has null li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sh: add node to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p: remove node from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value in referenc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8030-0A7A-448D-9CD8-A52CDB0577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ck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lls: know how to return to ca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address pushed on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recent function call on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unction A calls B which calls 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store automatic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ped of stack when no longer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by compil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in the exercises in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-92160" y="5013360"/>
            <a:ext cx="3368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15000" y="2374920"/>
            <a:ext cx="18288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B  B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  A  A  A 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5222-5B27-411E-969A-D9774F4BC96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ck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stack from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At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From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ck inheri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ck contains a priv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operations on tha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stack implementation si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9935-DDF8-4B2D-8759-FD12991397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k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0: stack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Stack class definition derived from class Li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STACKTYPE &gt;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sh calls List function insertAt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At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us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p calls List function removeFrom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( STACK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895480" y="914400"/>
            <a:ext cx="4038840" cy="838080"/>
            <a:chOff x="2895480" y="914400"/>
            <a:chExt cx="4038840" cy="838080"/>
          </a:xfrm>
        </p:grpSpPr>
        <p:sp>
          <p:nvSpPr>
            <p:cNvPr id="684" name=""/>
            <p:cNvSpPr/>
            <p:nvPr/>
          </p:nvSpPr>
          <p:spPr>
            <a:xfrm>
              <a:off x="4267080" y="9144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2895480" y="106668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885840" y="2401920"/>
            <a:ext cx="4001040" cy="824040"/>
            <a:chOff x="3885840" y="2401920"/>
            <a:chExt cx="4001040" cy="824040"/>
          </a:xfrm>
        </p:grpSpPr>
        <p:sp>
          <p:nvSpPr>
            <p:cNvPr id="687" name=""/>
            <p:cNvSpPr/>
            <p:nvPr/>
          </p:nvSpPr>
          <p:spPr>
            <a:xfrm>
              <a:off x="4610160" y="2401920"/>
              <a:ext cx="3276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which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sertAtFr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moveFromFr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885840" y="2743200"/>
              <a:ext cx="723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F3F9C-988A-4E04-9313-F62C912D1D6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lf-Referential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Node {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Node( int 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void setData( int 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int getData() const;  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void setNextPtr( Node * 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const Node *getNextPtr() cons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int data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Node *nextPtr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to object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xt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191D-1991-4A2A-82E9-B702C70557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k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StackEmpty calls List function is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tack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Empt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Stack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Stack calls List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ck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pri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AA01-20F8-4AD3-8C00-62157C91289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1: fig17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Stack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ck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Stack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tack of i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cessing an integer St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sh integers onto 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Stack.push( i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Stack.printSt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p integers from 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Inte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E9F1-12F8-40FD-A169-B4259A8C746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tStack.isStack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Stack.pop( popInteg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opInteg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opped from st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Stack.printSt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Stack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tack of dou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cessing a double Stack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sh floating-point values onto double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Stack.push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Stack.printStack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+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6AA0-DEF1-43D7-B421-BFEE7AE4E3D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p floating-point values from double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Dou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oubleStack.isStack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Stack.pop( popDoub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opDoubl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opped from st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Stack.printSt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EEA8-E84D-42F8-A2E4-1FDC5D05C28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n integer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 2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 doubl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E243-2653-4601-BF39-E72C4ED761E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list is: 4.4 3.3 2.2 1.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4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.3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.2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node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node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6B82-31CB-4210-9699-D6C2868FA5E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kcomposit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2: stackcomposition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Stack class definition with composed List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CKCOM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CKCOM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 constructor; List constructor does init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sh calls stackList object's insertAtFro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ckList.insertAt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us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p calls stackList object's removeFromFro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( STACK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List.removeFrom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590560" y="1143000"/>
            <a:ext cx="4115160" cy="838080"/>
            <a:chOff x="2590560" y="1143000"/>
            <a:chExt cx="4115160" cy="838080"/>
          </a:xfrm>
        </p:grpSpPr>
        <p:sp>
          <p:nvSpPr>
            <p:cNvPr id="704" name=""/>
            <p:cNvSpPr/>
            <p:nvPr/>
          </p:nvSpPr>
          <p:spPr>
            <a:xfrm>
              <a:off x="4038480" y="11430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ernative implement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ing compos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2590560" y="1295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1676160" y="2057400"/>
            <a:ext cx="5029560" cy="1600200"/>
            <a:chOff x="1676160" y="2057400"/>
            <a:chExt cx="5029560" cy="1600200"/>
          </a:xfrm>
        </p:grpSpPr>
        <p:sp>
          <p:nvSpPr>
            <p:cNvPr id="707" name=""/>
            <p:cNvSpPr/>
            <p:nvPr/>
          </p:nvSpPr>
          <p:spPr>
            <a:xfrm>
              <a:off x="4038480" y="20574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 priv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, use to manipulate stac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676160" y="2209680"/>
              <a:ext cx="23619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E9EF-0D54-4C50-81E3-42651BF56DB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kcomposit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StackEmpty calls stackList object's isEmp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tack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List.isEmpt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Stack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Stack calls stackList object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ck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ckList.pri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&lt; STACKTYPE &gt; stackLis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osed Li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6D49-7C07-452E-923B-0761BA31AD7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Que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waiting in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s added to back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ai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removed from front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-in, first-out (FIFO)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/remove called enqueue/de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spoo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s wait in queue until printer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ckets on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requests from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C43F-485B-448D-ADE2-1EA4C3E9457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Que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ue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bef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AtBac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que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From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que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E260-EAC2-44BA-8EB5-096A10DA481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and Data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tain and release memory during program 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d remove n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type of object to cre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inter to newly creat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 *newPtr = new Node( 1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_all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enough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node's objec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4B44-A3EE-43DD-B2F7-0914B4F4B5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u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3: queu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Queue class definition derived from class Li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QUEUETYPE &gt;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queue calls List function insertAtB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que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AtBack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en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queue calls List function removeFrom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queue( QUEUE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971800" y="1066680"/>
            <a:ext cx="4114800" cy="838440"/>
            <a:chOff x="2971800" y="1066680"/>
            <a:chExt cx="4114800" cy="838440"/>
          </a:xfrm>
        </p:grpSpPr>
        <p:sp>
          <p:nvSpPr>
            <p:cNvPr id="718" name=""/>
            <p:cNvSpPr/>
            <p:nvPr/>
          </p:nvSpPr>
          <p:spPr>
            <a:xfrm>
              <a:off x="441972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 from templat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297180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047760" y="1981080"/>
            <a:ext cx="4115160" cy="2362320"/>
            <a:chOff x="3047760" y="1981080"/>
            <a:chExt cx="4115160" cy="2362320"/>
          </a:xfrm>
        </p:grpSpPr>
        <p:sp>
          <p:nvSpPr>
            <p:cNvPr id="721" name=""/>
            <p:cNvSpPr/>
            <p:nvPr/>
          </p:nvSpPr>
          <p:spPr>
            <a:xfrm>
              <a:off x="4495680" y="1981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use the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0477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200400" y="2133720"/>
              <a:ext cx="12952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D5715-CFE6-4419-BEB6-13AE2D8D606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u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QueueEmpty calls List function is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Queue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Empt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Queue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Queue calls List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Que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E256-EE83-49DA-8740-5AD50387339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4: fig17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Queue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ue.h"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Queu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Queu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Que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Queue of i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cessing an integer Que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queue integers onto int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Queue.enqueue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Queue.printQue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queue integers from int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queueInte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F980-4694-4618-868B-56ED58E3094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tQueue.isQueue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Queue.dequeue( dequeueInteg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dequeueInteg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equeu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Queue.printQue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Queue&lt; double &gt; doubleQue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Queue of dou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ocessing a double Que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queue floating-point values onto double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Queue.enqueue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Queue.printQueue(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8D1B-BF18-42F2-BD00-BD2D36AA2E2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queue floating-point values from double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queueDou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oubleQueue.isQueue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Queue.dequeue( dequeueDoub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dequeueDoubl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equeu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Queue.printQue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9196-6A2D-459D-BC69-35B48959DAB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n integer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 1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 1 2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 2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 double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 2.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C5B8C-A35E-4474-8517-4BC2AB1C4B3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 2.2 3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 2.2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.2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.3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list is: 4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4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node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nodes destroy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28F7-8CB3-42D6-AA07-5E0DCFBEDB9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s, queues, sta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linear, two-dimens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e nodes have 2 or more li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nary trees have exactly 2 links/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, both, or one link can be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AFDF-1EDF-4830-A4A5-4811449184B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oot n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first node on 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 refers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 child is roo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child is roo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eaf n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node with no child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es drawn from root downw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228680" y="4073400"/>
            <a:ext cx="4867200" cy="2403360"/>
            <a:chOff x="1228680" y="4073400"/>
            <a:chExt cx="4867200" cy="2403360"/>
          </a:xfrm>
        </p:grpSpPr>
        <p:sp>
          <p:nvSpPr>
            <p:cNvPr id="741" name=""/>
            <p:cNvSpPr/>
            <p:nvPr/>
          </p:nvSpPr>
          <p:spPr>
            <a:xfrm>
              <a:off x="1228680" y="4073400"/>
              <a:ext cx="4867200" cy="24033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12360" y="43020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86080" y="4309920"/>
              <a:ext cx="2649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95520" y="4421160"/>
              <a:ext cx="46080" cy="4752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86080" y="4814640"/>
              <a:ext cx="2649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62040" y="4868640"/>
              <a:ext cx="1144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88680" y="486720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69680" y="486720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52840" y="4814640"/>
              <a:ext cx="2649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62280" y="4925880"/>
              <a:ext cx="46080" cy="4752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3362040" y="4443120"/>
              <a:ext cx="114480" cy="374400"/>
              <a:chOff x="3362040" y="4443120"/>
              <a:chExt cx="114480" cy="374400"/>
            </a:xfrm>
          </p:grpSpPr>
          <p:sp>
            <p:nvSpPr>
              <p:cNvPr id="752" name=""/>
              <p:cNvSpPr/>
              <p:nvPr/>
            </p:nvSpPr>
            <p:spPr>
              <a:xfrm>
                <a:off x="3418200" y="4443120"/>
                <a:ext cx="1080" cy="301680"/>
              </a:xfrm>
              <a:custGeom>
                <a:avLst/>
                <a:gdLst/>
                <a:ahLst/>
                <a:rect l="l" t="t" r="r" b="b"/>
                <a:pathLst>
                  <a:path w="0" h="273">
                    <a:moveTo>
                      <a:pt x="0" y="273"/>
                    </a:moveTo>
                    <a:lnTo>
                      <a:pt x="0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3418200" y="4443120"/>
                <a:ext cx="1080" cy="301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62040" y="4741560"/>
                <a:ext cx="114480" cy="75960"/>
              </a:xfrm>
              <a:custGeom>
                <a:avLst/>
                <a:gdLst/>
                <a:ahLst/>
                <a:rect l="l" t="t" r="r" b="b"/>
                <a:pathLst>
                  <a:path w="104" h="69">
                    <a:moveTo>
                      <a:pt x="0" y="0"/>
                    </a:moveTo>
                    <a:lnTo>
                      <a:pt x="51" y="69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3019320" y="4814640"/>
              <a:ext cx="2649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28760" y="4925880"/>
              <a:ext cx="46080" cy="4752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2795400" y="4948200"/>
              <a:ext cx="356760" cy="356760"/>
              <a:chOff x="2795400" y="4948200"/>
              <a:chExt cx="356760" cy="356760"/>
            </a:xfrm>
          </p:grpSpPr>
          <p:sp>
            <p:nvSpPr>
              <p:cNvPr id="758" name=""/>
              <p:cNvSpPr/>
              <p:nvPr/>
            </p:nvSpPr>
            <p:spPr>
              <a:xfrm>
                <a:off x="2846160" y="4948200"/>
                <a:ext cx="306000" cy="307440"/>
              </a:xfrm>
              <a:custGeom>
                <a:avLst/>
                <a:gdLst/>
                <a:ahLst/>
                <a:rect l="l" t="t" r="r" b="b"/>
                <a:pathLst>
                  <a:path w="277" h="278">
                    <a:moveTo>
                      <a:pt x="0" y="278"/>
                    </a:moveTo>
                    <a:lnTo>
                      <a:pt x="277" y="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2846160" y="4948200"/>
                <a:ext cx="306000" cy="307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95400" y="5211360"/>
                <a:ext cx="97200" cy="93600"/>
              </a:xfrm>
              <a:custGeom>
                <a:avLst/>
                <a:gdLst/>
                <a:ahLst/>
                <a:rect l="l" t="t" r="r" b="b"/>
                <a:pathLst>
                  <a:path w="88" h="85">
                    <a:moveTo>
                      <a:pt x="12" y="0"/>
                    </a:moveTo>
                    <a:lnTo>
                      <a:pt x="0" y="85"/>
                    </a:lnTo>
                    <a:lnTo>
                      <a:pt x="88" y="7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3686040" y="4948200"/>
              <a:ext cx="355680" cy="356760"/>
              <a:chOff x="3686040" y="4948200"/>
              <a:chExt cx="355680" cy="356760"/>
            </a:xfrm>
          </p:grpSpPr>
          <p:sp>
            <p:nvSpPr>
              <p:cNvPr id="762" name=""/>
              <p:cNvSpPr/>
              <p:nvPr/>
            </p:nvSpPr>
            <p:spPr>
              <a:xfrm>
                <a:off x="3686040" y="4948200"/>
                <a:ext cx="306000" cy="307440"/>
              </a:xfrm>
              <a:custGeom>
                <a:avLst/>
                <a:gdLst/>
                <a:ahLst/>
                <a:rect l="l" t="t" r="r" b="b"/>
                <a:pathLst>
                  <a:path w="278" h="278">
                    <a:moveTo>
                      <a:pt x="278" y="278"/>
                    </a:moveTo>
                    <a:lnTo>
                      <a:pt x="0" y="0"/>
                    </a:lnTo>
                    <a:lnTo>
                      <a:pt x="278" y="2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>
                <a:off x="3686040" y="4948200"/>
                <a:ext cx="306000" cy="307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47040" y="5211360"/>
                <a:ext cx="94680" cy="93600"/>
              </a:xfrm>
              <a:custGeom>
                <a:avLst/>
                <a:gdLst/>
                <a:ahLst/>
                <a:rect l="l" t="t" r="r" b="b"/>
                <a:pathLst>
                  <a:path w="86" h="85">
                    <a:moveTo>
                      <a:pt x="0" y="75"/>
                    </a:moveTo>
                    <a:lnTo>
                      <a:pt x="86" y="85"/>
                    </a:lnTo>
                    <a:lnTo>
                      <a:pt x="76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2930400" y="5305320"/>
              <a:ext cx="2667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62200" y="5305320"/>
              <a:ext cx="266760" cy="26352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39960" y="5357520"/>
              <a:ext cx="112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66600" y="53560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47600" y="53560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95440" y="5305320"/>
              <a:ext cx="2667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174920" y="5305320"/>
              <a:ext cx="2667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08160" y="5305320"/>
              <a:ext cx="265320" cy="26352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984480" y="5357520"/>
              <a:ext cx="1144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12560" y="53560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93560" y="53560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41760" y="5305320"/>
              <a:ext cx="26640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620880" y="5438520"/>
              <a:ext cx="153720" cy="296640"/>
              <a:chOff x="3620880" y="5438520"/>
              <a:chExt cx="153720" cy="296640"/>
            </a:xfrm>
          </p:grpSpPr>
          <p:sp>
            <p:nvSpPr>
              <p:cNvPr id="778" name=""/>
              <p:cNvSpPr/>
              <p:nvPr/>
            </p:nvSpPr>
            <p:spPr>
              <a:xfrm>
                <a:off x="3671280" y="5438520"/>
                <a:ext cx="103320" cy="231840"/>
              </a:xfrm>
              <a:custGeom>
                <a:avLst/>
                <a:gdLst/>
                <a:ahLst/>
                <a:rect l="l" t="t" r="r" b="b"/>
                <a:pathLst>
                  <a:path w="94" h="210">
                    <a:moveTo>
                      <a:pt x="0" y="210"/>
                    </a:moveTo>
                    <a:lnTo>
                      <a:pt x="94" y="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3671280" y="5438520"/>
                <a:ext cx="103320" cy="231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620880" y="5641560"/>
                <a:ext cx="105480" cy="93600"/>
              </a:xfrm>
              <a:custGeom>
                <a:avLst/>
                <a:gdLst/>
                <a:ahLst/>
                <a:rect l="l" t="t" r="r" b="b"/>
                <a:pathLst>
                  <a:path w="96" h="85">
                    <a:moveTo>
                      <a:pt x="0" y="0"/>
                    </a:moveTo>
                    <a:lnTo>
                      <a:pt x="21" y="85"/>
                    </a:lnTo>
                    <a:lnTo>
                      <a:pt x="96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3730680" y="5734080"/>
              <a:ext cx="266400" cy="26640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63920" y="5734080"/>
              <a:ext cx="264960" cy="2649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39880" y="5786280"/>
              <a:ext cx="114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68320" y="5786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47520" y="5786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7160" y="5734080"/>
              <a:ext cx="266760" cy="26640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92200" y="5310000"/>
              <a:ext cx="262080" cy="263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03280" y="5742000"/>
              <a:ext cx="262080" cy="261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728880" y="5742000"/>
              <a:ext cx="263520" cy="261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82840" y="5310000"/>
              <a:ext cx="263520" cy="263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109E-4DBB-4013-88A7-AE140A1B014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s in left subtree less than parent 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s in right subtree greater than 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allow duplicate values (good way to remove th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 searches,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 comparisons for a balanced 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294920" y="3657600"/>
            <a:ext cx="5730480" cy="2323440"/>
            <a:chOff x="1294920" y="3657600"/>
            <a:chExt cx="5730480" cy="2323440"/>
          </a:xfrm>
        </p:grpSpPr>
        <p:sp>
          <p:nvSpPr>
            <p:cNvPr id="794" name=""/>
            <p:cNvSpPr/>
            <p:nvPr/>
          </p:nvSpPr>
          <p:spPr>
            <a:xfrm>
              <a:off x="1294920" y="3663720"/>
              <a:ext cx="2368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61880" y="3661200"/>
              <a:ext cx="4705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59720" y="365760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453920" y="36576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2714760" y="3954600"/>
              <a:ext cx="1520280" cy="570960"/>
              <a:chOff x="2714760" y="3954600"/>
              <a:chExt cx="1520280" cy="570960"/>
            </a:xfrm>
          </p:grpSpPr>
          <p:sp>
            <p:nvSpPr>
              <p:cNvPr id="799" name=""/>
              <p:cNvSpPr/>
              <p:nvPr/>
            </p:nvSpPr>
            <p:spPr>
              <a:xfrm>
                <a:off x="2714760" y="3954600"/>
                <a:ext cx="1520280" cy="570960"/>
              </a:xfrm>
              <a:custGeom>
                <a:avLst/>
                <a:gdLst/>
                <a:ahLst/>
                <a:rect l="l" t="t" r="r" b="b"/>
                <a:pathLst>
                  <a:path w="753" h="440">
                    <a:moveTo>
                      <a:pt x="0" y="440"/>
                    </a:moveTo>
                    <a:lnTo>
                      <a:pt x="753" y="0"/>
                    </a:lnTo>
                    <a:lnTo>
                      <a:pt x="0" y="4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2714760" y="3954600"/>
                <a:ext cx="1520280" cy="57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4235760" y="3954600"/>
              <a:ext cx="1519920" cy="570960"/>
              <a:chOff x="4235760" y="3954600"/>
              <a:chExt cx="1519920" cy="570960"/>
            </a:xfrm>
          </p:grpSpPr>
          <p:sp>
            <p:nvSpPr>
              <p:cNvPr id="802" name=""/>
              <p:cNvSpPr/>
              <p:nvPr/>
            </p:nvSpPr>
            <p:spPr>
              <a:xfrm>
                <a:off x="4235760" y="3954600"/>
                <a:ext cx="1519920" cy="570960"/>
              </a:xfrm>
              <a:custGeom>
                <a:avLst/>
                <a:gdLst/>
                <a:ahLst/>
                <a:rect l="l" t="t" r="r" b="b"/>
                <a:pathLst>
                  <a:path w="753" h="440">
                    <a:moveTo>
                      <a:pt x="753" y="440"/>
                    </a:moveTo>
                    <a:lnTo>
                      <a:pt x="0" y="0"/>
                    </a:lnTo>
                    <a:lnTo>
                      <a:pt x="753" y="4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flipV="1">
                <a:off x="4235760" y="3954600"/>
                <a:ext cx="1519920" cy="57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2541240" y="4478040"/>
              <a:ext cx="4701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540880" y="44737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32920" y="44737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1846440" y="4770720"/>
              <a:ext cx="815040" cy="327600"/>
              <a:chOff x="1846440" y="4770720"/>
              <a:chExt cx="815040" cy="327600"/>
            </a:xfrm>
          </p:grpSpPr>
          <p:sp>
            <p:nvSpPr>
              <p:cNvPr id="808" name=""/>
              <p:cNvSpPr/>
              <p:nvPr/>
            </p:nvSpPr>
            <p:spPr>
              <a:xfrm>
                <a:off x="1846440" y="4771080"/>
                <a:ext cx="815040" cy="327240"/>
              </a:xfrm>
              <a:custGeom>
                <a:avLst/>
                <a:gdLst/>
                <a:ahLst/>
                <a:rect l="l" t="t" r="r" b="b"/>
                <a:pathLst>
                  <a:path w="404" h="252">
                    <a:moveTo>
                      <a:pt x="0" y="252"/>
                    </a:moveTo>
                    <a:lnTo>
                      <a:pt x="404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1846440" y="4770720"/>
                <a:ext cx="81504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2662200" y="4770720"/>
              <a:ext cx="813600" cy="327600"/>
              <a:chOff x="2662200" y="4770720"/>
              <a:chExt cx="813600" cy="327600"/>
            </a:xfrm>
          </p:grpSpPr>
          <p:sp>
            <p:nvSpPr>
              <p:cNvPr id="811" name=""/>
              <p:cNvSpPr/>
              <p:nvPr/>
            </p:nvSpPr>
            <p:spPr>
              <a:xfrm>
                <a:off x="2662200" y="4771080"/>
                <a:ext cx="813600" cy="327240"/>
              </a:xfrm>
              <a:custGeom>
                <a:avLst/>
                <a:gdLst/>
                <a:ahLst/>
                <a:rect l="l" t="t" r="r" b="b"/>
                <a:pathLst>
                  <a:path w="403" h="252">
                    <a:moveTo>
                      <a:pt x="403" y="252"/>
                    </a:moveTo>
                    <a:lnTo>
                      <a:pt x="0" y="0"/>
                    </a:lnTo>
                    <a:lnTo>
                      <a:pt x="403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flipV="1">
                <a:off x="2662200" y="4770720"/>
                <a:ext cx="8136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5582520" y="4478040"/>
              <a:ext cx="4701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82160" y="44737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73480" y="44737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4888080" y="4770720"/>
              <a:ext cx="867960" cy="327600"/>
              <a:chOff x="4888080" y="4770720"/>
              <a:chExt cx="867960" cy="327600"/>
            </a:xfrm>
          </p:grpSpPr>
          <p:sp>
            <p:nvSpPr>
              <p:cNvPr id="817" name=""/>
              <p:cNvSpPr/>
              <p:nvPr/>
            </p:nvSpPr>
            <p:spPr>
              <a:xfrm>
                <a:off x="4888080" y="4771080"/>
                <a:ext cx="867960" cy="327240"/>
              </a:xfrm>
              <a:custGeom>
                <a:avLst/>
                <a:gdLst/>
                <a:ahLst/>
                <a:rect l="l" t="t" r="r" b="b"/>
                <a:pathLst>
                  <a:path w="430" h="252">
                    <a:moveTo>
                      <a:pt x="0" y="252"/>
                    </a:moveTo>
                    <a:lnTo>
                      <a:pt x="430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888080" y="4770720"/>
                <a:ext cx="86796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5756040" y="4770720"/>
              <a:ext cx="870480" cy="327600"/>
              <a:chOff x="5756040" y="4770720"/>
              <a:chExt cx="870480" cy="327600"/>
            </a:xfrm>
          </p:grpSpPr>
          <p:sp>
            <p:nvSpPr>
              <p:cNvPr id="820" name=""/>
              <p:cNvSpPr/>
              <p:nvPr/>
            </p:nvSpPr>
            <p:spPr>
              <a:xfrm>
                <a:off x="5756400" y="4771080"/>
                <a:ext cx="870120" cy="327240"/>
              </a:xfrm>
              <a:custGeom>
                <a:avLst/>
                <a:gdLst/>
                <a:ahLst/>
                <a:rect l="l" t="t" r="r" b="b"/>
                <a:pathLst>
                  <a:path w="431" h="252">
                    <a:moveTo>
                      <a:pt x="431" y="252"/>
                    </a:moveTo>
                    <a:lnTo>
                      <a:pt x="0" y="0"/>
                    </a:lnTo>
                    <a:lnTo>
                      <a:pt x="431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flipV="1">
                <a:off x="5756040" y="4770720"/>
                <a:ext cx="87012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1672920" y="5049000"/>
              <a:ext cx="4683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72560" y="5045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64600" y="5045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1521360" y="5342400"/>
              <a:ext cx="271800" cy="326880"/>
              <a:chOff x="1521360" y="5342400"/>
              <a:chExt cx="271800" cy="326880"/>
            </a:xfrm>
          </p:grpSpPr>
          <p:sp>
            <p:nvSpPr>
              <p:cNvPr id="826" name=""/>
              <p:cNvSpPr/>
              <p:nvPr/>
            </p:nvSpPr>
            <p:spPr>
              <a:xfrm>
                <a:off x="1521360" y="5342400"/>
                <a:ext cx="271800" cy="326880"/>
              </a:xfrm>
              <a:custGeom>
                <a:avLst/>
                <a:gdLst/>
                <a:ahLst/>
                <a:rect l="l" t="t" r="r" b="b"/>
                <a:pathLst>
                  <a:path w="135" h="252">
                    <a:moveTo>
                      <a:pt x="0" y="252"/>
                    </a:moveTo>
                    <a:lnTo>
                      <a:pt x="135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1521360" y="5342400"/>
                <a:ext cx="271800" cy="32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1793880" y="5342400"/>
              <a:ext cx="270000" cy="326880"/>
              <a:chOff x="1793880" y="5342400"/>
              <a:chExt cx="270000" cy="326880"/>
            </a:xfrm>
          </p:grpSpPr>
          <p:sp>
            <p:nvSpPr>
              <p:cNvPr id="829" name=""/>
              <p:cNvSpPr/>
              <p:nvPr/>
            </p:nvSpPr>
            <p:spPr>
              <a:xfrm>
                <a:off x="1793880" y="5342400"/>
                <a:ext cx="270000" cy="326880"/>
              </a:xfrm>
              <a:custGeom>
                <a:avLst/>
                <a:gdLst/>
                <a:ahLst/>
                <a:rect l="l" t="t" r="r" b="b"/>
                <a:pathLst>
                  <a:path w="134" h="252">
                    <a:moveTo>
                      <a:pt x="134" y="252"/>
                    </a:moveTo>
                    <a:lnTo>
                      <a:pt x="0" y="0"/>
                    </a:lnTo>
                    <a:lnTo>
                      <a:pt x="134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 flipV="1">
                <a:off x="1793880" y="5342400"/>
                <a:ext cx="270000" cy="32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3302280" y="5049000"/>
              <a:ext cx="4683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00120" y="5045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691440" y="5045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3258000" y="5342400"/>
              <a:ext cx="274320" cy="326880"/>
              <a:chOff x="3258000" y="5342400"/>
              <a:chExt cx="274320" cy="326880"/>
            </a:xfrm>
          </p:grpSpPr>
          <p:sp>
            <p:nvSpPr>
              <p:cNvPr id="835" name=""/>
              <p:cNvSpPr/>
              <p:nvPr/>
            </p:nvSpPr>
            <p:spPr>
              <a:xfrm>
                <a:off x="3258000" y="5342400"/>
                <a:ext cx="274320" cy="326880"/>
              </a:xfrm>
              <a:custGeom>
                <a:avLst/>
                <a:gdLst/>
                <a:ahLst/>
                <a:rect l="l" t="t" r="r" b="b"/>
                <a:pathLst>
                  <a:path w="136" h="252">
                    <a:moveTo>
                      <a:pt x="0" y="252"/>
                    </a:moveTo>
                    <a:lnTo>
                      <a:pt x="136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3258000" y="5342400"/>
                <a:ext cx="274320" cy="32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3532680" y="5342400"/>
              <a:ext cx="267840" cy="326880"/>
              <a:chOff x="3532680" y="5342400"/>
              <a:chExt cx="267840" cy="326880"/>
            </a:xfrm>
          </p:grpSpPr>
          <p:sp>
            <p:nvSpPr>
              <p:cNvPr id="838" name=""/>
              <p:cNvSpPr/>
              <p:nvPr/>
            </p:nvSpPr>
            <p:spPr>
              <a:xfrm>
                <a:off x="3532680" y="5342400"/>
                <a:ext cx="267840" cy="326880"/>
              </a:xfrm>
              <a:custGeom>
                <a:avLst/>
                <a:gdLst/>
                <a:ahLst/>
                <a:rect l="l" t="t" r="r" b="b"/>
                <a:pathLst>
                  <a:path w="133" h="252">
                    <a:moveTo>
                      <a:pt x="133" y="252"/>
                    </a:moveTo>
                    <a:lnTo>
                      <a:pt x="0" y="0"/>
                    </a:lnTo>
                    <a:lnTo>
                      <a:pt x="133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 flipV="1">
                <a:off x="3532680" y="5342400"/>
                <a:ext cx="267840" cy="32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4714200" y="5049000"/>
              <a:ext cx="4683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713840" y="5045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6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5160" y="5045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835160" y="5342040"/>
              <a:ext cx="270000" cy="323280"/>
              <a:chOff x="4835160" y="5342040"/>
              <a:chExt cx="270000" cy="323280"/>
            </a:xfrm>
          </p:grpSpPr>
          <p:sp>
            <p:nvSpPr>
              <p:cNvPr id="844" name=""/>
              <p:cNvSpPr/>
              <p:nvPr/>
            </p:nvSpPr>
            <p:spPr>
              <a:xfrm>
                <a:off x="4835160" y="5342400"/>
                <a:ext cx="270000" cy="322920"/>
              </a:xfrm>
              <a:custGeom>
                <a:avLst/>
                <a:gdLst/>
                <a:ahLst/>
                <a:rect l="l" t="t" r="r" b="b"/>
                <a:pathLst>
                  <a:path w="134" h="249">
                    <a:moveTo>
                      <a:pt x="134" y="249"/>
                    </a:moveTo>
                    <a:lnTo>
                      <a:pt x="0" y="0"/>
                    </a:lnTo>
                    <a:lnTo>
                      <a:pt x="134" y="2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 flipV="1">
                <a:off x="4835160" y="5342040"/>
                <a:ext cx="270000" cy="322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6453000" y="5049000"/>
              <a:ext cx="4687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52640" y="5045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9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41800" y="5045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996800" y="5619960"/>
              <a:ext cx="4683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96440" y="5614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6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9064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303200" y="5619960"/>
              <a:ext cx="2743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0248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49832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888560" y="5619960"/>
              <a:ext cx="4705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888200" y="5614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28060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84480" y="5619960"/>
              <a:ext cx="4705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84120" y="5614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7652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27720" y="5619960"/>
              <a:ext cx="4705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27360" y="5614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1904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488A-9497-437F-A022-AA3D33EE242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and Data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new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locates memory allocat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lls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returned to system, can be used in fu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 deleted, only the space it poin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C93E-4B54-4833-8CE2-858357763D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ng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recursiv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at ro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current node empty, insert new node here (base 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value &gt; node, insert into 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value &lt; node, insert into 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either &gt; nor &lt;, must b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 dupl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E2FD-7154-40B6-8D27-714FEF583DB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traver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-order (print tree values from least to grea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left subtree (call function 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rigth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648B-E623-48A6-97CA-66C571F1FE6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2 templat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ee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ot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OrderTra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OrderTra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OrderTra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2921-05F8-466C-AEDD-21F035115CA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nod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7: treenod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TreeNod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EENOD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EENOD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ward declaration of class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Nod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d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lef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data( d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righ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eeNod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2438280" y="2895480"/>
            <a:ext cx="4114800" cy="838440"/>
            <a:chOff x="2438280" y="2895480"/>
            <a:chExt cx="4114800" cy="838440"/>
          </a:xfrm>
        </p:grpSpPr>
        <p:sp>
          <p:nvSpPr>
            <p:cNvPr id="873" name=""/>
            <p:cNvSpPr/>
            <p:nvPr/>
          </p:nvSpPr>
          <p:spPr>
            <a:xfrm>
              <a:off x="3886200" y="2895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inary trees have two poin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43828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D4B0-4A6C-4057-990E-2DDE1AA7209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nod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copy of node'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DETYPE 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getData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left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lef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DETYP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right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righ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ree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416E2-A210-43C1-ACD9-C2C134EC01A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8: tre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Tre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eenode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roo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CEF4-8D3E-4067-80E7-B5DB7E28AE5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NodeHelper(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eeNode&lt; NODETYPE &gt; *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OrderHelper( TreeNode&lt; NODETYPE &gt; *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OrderHelper( TreeNode&lt; NODETYPE &gt; *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OrderHelper( TreeNode&lt; NODETYPE &gt; *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ee&lt; NODETYPE &gt;::Tre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oo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node in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insert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sertNodeHelper( &amp;rootPtr, valu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sert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D147-F44B-4ADF-BC16-68B5CD1FE99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called by insertNode; receives a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a pointer so that the function can modify pointer'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insertNodeHelp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*pt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btree is empty; create new TreeNode containing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*pt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*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Node&lt; NODETYPE &gt;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btree is not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ata to insert is less than data in curren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 &lt; ( *ptr )-&gt;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sertNodeHelper( &amp;( ( *ptr )-&gt;leftPtr ),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ata to insert is greater than data in curren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 &gt; ( *ptr )-&gt;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sertNodeHelper( &amp;( ( *ptr )-&gt;rightPtr ),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uplicate data value ign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u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insertNodeHel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2285640" y="1066680"/>
            <a:ext cx="6629760" cy="3257640"/>
            <a:chOff x="2285640" y="1066680"/>
            <a:chExt cx="6629760" cy="3257640"/>
          </a:xfrm>
        </p:grpSpPr>
        <p:sp>
          <p:nvSpPr>
            <p:cNvPr id="884" name=""/>
            <p:cNvSpPr/>
            <p:nvPr/>
          </p:nvSpPr>
          <p:spPr>
            <a:xfrm>
              <a:off x="6248520" y="1066680"/>
              <a:ext cx="2666880" cy="3257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ursive function to insert a new node. If the current node is empty, insert the new node her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ew value greater than current nod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, insert into right subtre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ess, insert into left subtre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either case applies, node is a duplicate -- ign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2285640" y="1676520"/>
              <a:ext cx="3962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D308-31D6-48B0-9B07-00673350BAB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pre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pre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eOrderHelper( rootPt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eOrder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to perform pre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preOrderHelp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pt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 !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tr-&gt;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nod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eOrderHelper( ptr-&gt;leftPtr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left subtre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eOrderHelper( ptr-&gt;right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righ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preOrderHel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3429000" y="2590920"/>
            <a:ext cx="4114800" cy="838080"/>
            <a:chOff x="3429000" y="2590920"/>
            <a:chExt cx="4114800" cy="838080"/>
          </a:xfrm>
        </p:grpSpPr>
        <p:sp>
          <p:nvSpPr>
            <p:cNvPr id="889" name=""/>
            <p:cNvSpPr/>
            <p:nvPr/>
          </p:nvSpPr>
          <p:spPr>
            <a:xfrm>
              <a:off x="4876920" y="25909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order: print, left,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42900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B62C-9E8D-42A6-8E0A-939A110B11D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in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in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OrderHelper( rootPt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inOrder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to perform in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inOrderHelp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pt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OrderHelper( ptr-&gt;leftPtr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left subtre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tr-&gt;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nod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OrderHelper( ptr-&gt;right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righ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OrderHel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3809880" y="2362320"/>
            <a:ext cx="4114800" cy="838080"/>
            <a:chOff x="3809880" y="2362320"/>
            <a:chExt cx="4114800" cy="838080"/>
          </a:xfrm>
        </p:grpSpPr>
        <p:sp>
          <p:nvSpPr>
            <p:cNvPr id="894" name=""/>
            <p:cNvSpPr/>
            <p:nvPr/>
          </p:nvSpPr>
          <p:spPr>
            <a:xfrm>
              <a:off x="5257800" y="23623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 order: left, print,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38098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5A36A-5EE4-44BF-AD25-4FA59F00293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ed lis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ection of self-referential class objects (nodes) connected by pointers (link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ed using pointer to first node of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nodes accessed using the links in each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 in last node is null (ze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stored dynam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created a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can have data of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CA39-11C3-44EB-801F-47D8A0734D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post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post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stOrderHelper( rootPt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stOrder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to perform post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postOrderHelp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pt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 !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tOrderHelper( ptr-&gt;leftPtr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left subtre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tOrderHelper( ptr-&gt;right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righ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tr-&gt;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nod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stOrderHel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3581280" y="2362320"/>
            <a:ext cx="4114800" cy="838080"/>
            <a:chOff x="3581280" y="2362320"/>
            <a:chExt cx="4114800" cy="838080"/>
          </a:xfrm>
        </p:grpSpPr>
        <p:sp>
          <p:nvSpPr>
            <p:cNvPr id="899" name=""/>
            <p:cNvSpPr/>
            <p:nvPr/>
          </p:nvSpPr>
          <p:spPr>
            <a:xfrm>
              <a:off x="5029200" y="23623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torder: left, right, pr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35812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2856-436D-4694-AAD6-FCCB644F26C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9: fig17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ee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ee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Tre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ree of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10 integer valu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in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Tree.insertNode( in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1E64-2BB7-4E04-A6A1-84B99E5B17B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Pre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Tree.pre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Tree.in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st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Tree.post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Tre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ree of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\nEnter 10 double valu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doubl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Tree.insertNode( doubl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e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Tree.pre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A7AC5-7838-4E23-8500-34E9A5B06F6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Tree.in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st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Tree.post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EBB0-3DE5-4CFD-940F-8B6F4536F26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0 integer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 25 75 12 33 67 88 6 13 6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 25 12 6 13 33 75 67 68 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12 13 25 33 50 67 68 75 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st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13 12 33 25 68 67 88 75 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0 double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9.2 16.5 82.7 3.3 65.2 90.8 1.1 4.4 89.5 9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9.2 16.5 3.3 1.1 4.4 82.7 65.2 90.8 89.5 9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3.3 4.4 16.5 39.2 65.2 82.7 89.5 90.8 9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st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4.4 3.3 16.5 65.2 89.5 92.5 90.8 82.7 39.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7A49-C009-4FDB-AE55-A152CB1EB3F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98400" y="1905120"/>
            <a:ext cx="7620120" cy="2116080"/>
            <a:chOff x="698400" y="1905120"/>
            <a:chExt cx="7620120" cy="2116080"/>
          </a:xfrm>
        </p:grpSpPr>
        <p:sp>
          <p:nvSpPr>
            <p:cNvPr id="140" name=""/>
            <p:cNvSpPr/>
            <p:nvPr/>
          </p:nvSpPr>
          <p:spPr>
            <a:xfrm>
              <a:off x="698400" y="1905120"/>
              <a:ext cx="7620120" cy="211608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003400" y="2152800"/>
              <a:ext cx="4987800" cy="1538280"/>
              <a:chOff x="2003400" y="2152800"/>
              <a:chExt cx="4987800" cy="15382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2482920" y="3309840"/>
                <a:ext cx="761760" cy="381240"/>
                <a:chOff x="2482920" y="3309840"/>
                <a:chExt cx="761760" cy="3812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863800" y="3309840"/>
                  <a:ext cx="3808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2482920" y="3309840"/>
                  <a:ext cx="380880" cy="381240"/>
                  <a:chOff x="2482920" y="3309840"/>
                  <a:chExt cx="380880" cy="38124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2482920" y="3309840"/>
                    <a:ext cx="38088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651400" y="3576600"/>
                    <a:ext cx="43200" cy="8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7" name=""/>
              <p:cNvGrpSpPr/>
              <p:nvPr/>
            </p:nvGrpSpPr>
            <p:grpSpPr>
              <a:xfrm>
                <a:off x="3755880" y="3309840"/>
                <a:ext cx="761760" cy="381240"/>
                <a:chOff x="3755880" y="3309840"/>
                <a:chExt cx="761760" cy="3812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136760" y="3309840"/>
                  <a:ext cx="3808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3755880" y="3309840"/>
                  <a:ext cx="380880" cy="381240"/>
                  <a:chOff x="3755880" y="3309840"/>
                  <a:chExt cx="380880" cy="3812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3755880" y="3309840"/>
                    <a:ext cx="38088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923640" y="3576600"/>
                    <a:ext cx="43200" cy="8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227640" y="3308400"/>
                <a:ext cx="762120" cy="380880"/>
                <a:chOff x="6227640" y="3308400"/>
                <a:chExt cx="762120" cy="3808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608880" y="3308400"/>
                  <a:ext cx="380880" cy="38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6227640" y="3308400"/>
                  <a:ext cx="381240" cy="380880"/>
                  <a:chOff x="6227640" y="3308400"/>
                  <a:chExt cx="381240" cy="3808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6227640" y="3308400"/>
                    <a:ext cx="38124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395760" y="3575160"/>
                    <a:ext cx="43200" cy="8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7" name=""/>
              <p:cNvSpPr/>
              <p:nvPr/>
            </p:nvSpPr>
            <p:spPr>
              <a:xfrm>
                <a:off x="2293920" y="2435400"/>
                <a:ext cx="379440" cy="37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35760" y="2436840"/>
                <a:ext cx="379440" cy="37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482920" y="3309840"/>
                <a:ext cx="38088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63800" y="3309840"/>
                <a:ext cx="38088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93800" y="3386160"/>
                <a:ext cx="1587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22560" y="346860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41640" y="3500280"/>
                <a:ext cx="698400" cy="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133880" y="3309840"/>
                <a:ext cx="38088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3753000" y="3309840"/>
                <a:ext cx="380880" cy="381240"/>
                <a:chOff x="3753000" y="3309840"/>
                <a:chExt cx="380880" cy="381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53000" y="3309840"/>
                  <a:ext cx="3808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64240" y="3386160"/>
                  <a:ext cx="157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4292640" y="3468600"/>
                <a:ext cx="63360" cy="6516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11720" y="3500280"/>
                <a:ext cx="698400" cy="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6227640" y="3308400"/>
                <a:ext cx="762120" cy="380880"/>
                <a:chOff x="6227640" y="3308400"/>
                <a:chExt cx="762120" cy="3808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608880" y="3308400"/>
                  <a:ext cx="380880" cy="38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6227640" y="3308400"/>
                  <a:ext cx="381240" cy="380880"/>
                  <a:chOff x="6227640" y="3308400"/>
                  <a:chExt cx="381240" cy="3808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6227640" y="3308400"/>
                    <a:ext cx="38124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338520" y="3384360"/>
                    <a:ext cx="1576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Q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5" name=""/>
              <p:cNvSpPr/>
              <p:nvPr/>
            </p:nvSpPr>
            <p:spPr>
              <a:xfrm>
                <a:off x="5530680" y="3500280"/>
                <a:ext cx="698760" cy="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10320" y="3309840"/>
                <a:ext cx="38088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03400" y="2152800"/>
                <a:ext cx="9572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first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03920" y="2152800"/>
                <a:ext cx="8431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last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11640" y="3322800"/>
                <a:ext cx="385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35760" y="2433600"/>
                <a:ext cx="380880" cy="380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92720" y="2592360"/>
                <a:ext cx="65160" cy="63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92480" y="2433600"/>
                <a:ext cx="380880" cy="380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49440" y="2592360"/>
                <a:ext cx="65160" cy="63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2482920" y="2567160"/>
            <a:ext cx="110880" cy="65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29440" y="2567160"/>
            <a:ext cx="109440" cy="65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024D-91C7-4E17-9446-ABC1ACEC6D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ed lists vs.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can become fu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ng "extra" space in array wasteful, may never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ed lists can grow/shrink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ed lists only become full when system runs out of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ed lists can be maintained in sorted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element at proper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ing elements do not need to be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83EB-3C1C-4E18-8906-60BEA0398B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0:20:57Z</dcterms:created>
  <dc:creator>kalid</dc:creator>
  <dc:description/>
  <dc:language>en-US</dc:language>
  <cp:lastModifiedBy>Pearson Education</cp:lastModifiedBy>
  <dcterms:modified xsi:type="dcterms:W3CDTF">2002-08-28T19:50:15Z</dcterms:modified>
  <cp:revision>576</cp:revision>
  <dc:subject/>
  <dc:title>PowerPoint Presentation</dc:title>
</cp:coreProperties>
</file>