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38D9-4E5E-459B-BB43-228C784C6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1A2F-440F-4697-AE59-E4E0B0FF2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AF2C-3F83-4F8E-AE1E-030FC1FC8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E07B-59E4-4293-B876-3D9C7C253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8929-8ED8-41FB-BFED-2C7768C102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51DF-7BD2-4DB2-B66E-FD9829A865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107AF-F2A1-4421-B285-FDE4FFA3F0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FEB0-5B2D-4E66-A09F-40CAE1C2CA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5AAE-8D53-483F-B45B-C675E8602F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00F25-F36C-4D92-830A-60001BE611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7165-40B5-43DE-B955-76EB67C86C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5B43-D04C-448A-ADED-1E54A6942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67FC-8FAA-4198-AADE-53DA6264AB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0CC0-E4CA-426B-99E6-3BB6737E3A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145F-D730-4E86-A2E2-E534355658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956C-28EA-4170-9EF9-D07E1AE0BF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8CF3-F691-4C18-9461-6F1BC6E13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C7A8-1240-45C6-9CA9-2AFFA8DB9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54EC-8989-424B-8EC9-A22C62109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E863-EECE-476D-8552-DAB662B4C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93C1-F2B2-4AFD-BF13-599235D7A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CC01-8D12-461C-9071-2D2D0A572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F264-85EB-40AB-B665-0A35A2E60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1A3E-2379-4E4A-A56F-AA5017697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3BE4-B784-495E-985F-B978C2C7F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A43D-5CA7-4104-B292-BC7326ED8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3 - Exception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xception-Handling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Other Error-Hand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imple Exception-Handling Example: Divide by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throwing an 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xception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Processing Unexpected Exce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8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ack Unw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9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nstructors, Destructors and Exception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0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xceptions and Inher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Processing new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lass auto_ptr and Dynamic Memory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andard Library Exception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E339-6BE5-4389-A61E-DCA49901F8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Exception-Handling Example: Divide by Ze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 divide-by-zero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new exception cla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ByZero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divisio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deno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zero, throw excep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mpt to di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enclo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ByZeroExce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A23E-8F41-448E-9542-C8CC7E0E54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1: fig13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imple exception-handling example that checks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-by-zero excep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exce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ByZeroException objects should be thrown by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on detecting division-by-zero exception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videByZeroException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{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specifies default error message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videByZeroException::DivideByZeroException()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ed to divide by zero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ivideByZeroException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360" y="1816200"/>
            <a:ext cx="3353040" cy="2450880"/>
            <a:chOff x="3276360" y="1816200"/>
            <a:chExt cx="3353040" cy="2450880"/>
          </a:xfrm>
        </p:grpSpPr>
        <p:sp>
          <p:nvSpPr>
            <p:cNvPr id="110" name=""/>
            <p:cNvSpPr/>
            <p:nvPr/>
          </p:nvSpPr>
          <p:spPr>
            <a:xfrm>
              <a:off x="3962520" y="1816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new exception class (inheri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Pass a descriptive message to the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276360" y="2286000"/>
              <a:ext cx="685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76360" y="2286000"/>
              <a:ext cx="685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0E635-61CE-4B83-9632-93919D270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division and throw DivideByZeroException object 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-by-zero exception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ot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erato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nominat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DivideByZeroException if trying to divide by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enominato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videByZeroException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erminate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divisio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numerator ) / denomin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quot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-specified num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-specified denomin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of div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 (end-of-file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85640" y="1752120"/>
            <a:ext cx="3810240" cy="1891440"/>
            <a:chOff x="2285640" y="1752120"/>
            <a:chExt cx="3810240" cy="1891440"/>
          </a:xfrm>
        </p:grpSpPr>
        <p:sp>
          <p:nvSpPr>
            <p:cNvPr id="116" name=""/>
            <p:cNvSpPr/>
            <p:nvPr/>
          </p:nvSpPr>
          <p:spPr>
            <a:xfrm>
              <a:off x="2971800" y="281952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the denominator is zero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videByZero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285640" y="17521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09DD-923D-4635-B41E-C323529423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 user to enter two integers to divi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in &gt;&gt; number1 &gt;&gt; number2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y block contains code that might throw exception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code that should not execute if an exception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quotient( number1, number2 )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quotient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 &lt;&lt; endl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ception handler handles a divide-by-zero exception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ivideByZeroException &amp;divideByZeroException )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divideByZeroException.what() &lt;&lt; endl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two integers (end-of-file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norm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361960" y="3429000"/>
            <a:ext cx="4038840" cy="3107520"/>
            <a:chOff x="2361960" y="3429000"/>
            <a:chExt cx="4038840" cy="3107520"/>
          </a:xfrm>
        </p:grpSpPr>
        <p:sp>
          <p:nvSpPr>
            <p:cNvPr id="121" name=""/>
            <p:cNvSpPr/>
            <p:nvPr/>
          </p:nvSpPr>
          <p:spPr>
            <a:xfrm>
              <a:off x="3429000" y="3765600"/>
              <a:ext cx="2971800" cy="2770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structur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s.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can cat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videByZero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, and print an error message. If no exception occurs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is skipp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h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the string describing the exce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361960" y="3429000"/>
              <a:ext cx="106668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98D8-6C45-4577-9147-AA47D17605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100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quotient is: 14.28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100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occurred: attempted to divide by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^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83AE-3CA2-4C7C-ABCA-44906A3509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throwing an Excep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hrowing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exception handler cannot process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till rethrow if handler did som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throw exception to another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next enclo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s try to 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tatement 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;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587C-B884-4EF9-A139-67F336AA5A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2: fig13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exception rethrow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exce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row, catch and rethrow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owExcep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exception and catch it immedia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Function throwException throws an excep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t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&amp;caugh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Exception handled in function throwExceptio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Function throwException rethrows exce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hrow exception for further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99840" y="1905120"/>
            <a:ext cx="4648680" cy="4038480"/>
            <a:chOff x="1599840" y="1905120"/>
            <a:chExt cx="4648680" cy="4038480"/>
          </a:xfrm>
        </p:grpSpPr>
        <p:sp>
          <p:nvSpPr>
            <p:cNvPr id="130" name=""/>
            <p:cNvSpPr/>
            <p:nvPr/>
          </p:nvSpPr>
          <p:spPr>
            <a:xfrm>
              <a:off x="3581280" y="19051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ception handler generates a default exception (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It immediately catches and rethrows it (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362320" y="2514600"/>
              <a:ext cx="12189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599840" y="2514600"/>
              <a:ext cx="198108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80E5-9153-46F5-BD7F-4CF84C134B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also should not prin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hrow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in invokes function throwExcep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ow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should not prin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&amp;caugh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xception handled in mai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control continues after catch in mai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514600" y="533160"/>
            <a:ext cx="3657600" cy="1433880"/>
            <a:chOff x="2514600" y="533160"/>
            <a:chExt cx="3657600" cy="1433880"/>
          </a:xfrm>
        </p:grpSpPr>
        <p:sp>
          <p:nvSpPr>
            <p:cNvPr id="136" name=""/>
            <p:cNvSpPr/>
            <p:nvPr/>
          </p:nvSpPr>
          <p:spPr>
            <a:xfrm>
              <a:off x="3505320" y="1143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should never be reached, sin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mmediately exits th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514600" y="533160"/>
              <a:ext cx="9907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90920" y="2438280"/>
            <a:ext cx="4038480" cy="976680"/>
            <a:chOff x="2590920" y="2438280"/>
            <a:chExt cx="4038480" cy="976680"/>
          </a:xfrm>
        </p:grpSpPr>
        <p:sp>
          <p:nvSpPr>
            <p:cNvPr id="139" name=""/>
            <p:cNvSpPr/>
            <p:nvPr/>
          </p:nvSpPr>
          <p:spPr>
            <a:xfrm>
              <a:off x="396252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hrows an exception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is caught and hand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590920" y="243828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D582-84CB-45DA-875A-92F6E46A57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invokes function throw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hrowException throws an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handled in function throw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hrowException rethrow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handled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control continues after catch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34CA-5C1D-491C-84E3-E3D98771AC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 Specif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exceptions function can 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throw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omeFunction( double value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 ( ExceptionA, ExceptionB, ExceptionC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// function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thr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nd derived class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rows other type,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exp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default, terminates program (more 13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throw list, can throw any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mpty throw list, cannot throw any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5DED-F7C1-4D1D-82A0-B005BC3D37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problem occurred in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"exception" to a program that usually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olve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may be able to contin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d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fault-tolerant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n example, we will handle a divide-by-zero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A95C-78A7-4EAF-A644-D7B3DE7FE4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cessing Unexpected Excep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function register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unexp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termin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what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default,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edefined, still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fter new function fini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 for s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pointer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must take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D112-F179-4E6B-906C-1B30FFA1D7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 Unw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xception thrown but not ca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es to enclo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es current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winds function call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k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can handle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ne found, unwinds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xception never ca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1102-13C5-4647-9F3F-1642FC4B65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3: fig13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ck unwind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dexcep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untime_err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3 throws run-tim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3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_err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untime_error in function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r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2 invokes function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3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971800" y="1981080"/>
            <a:ext cx="4114800" cy="1219320"/>
            <a:chOff x="2971800" y="1981080"/>
            <a:chExt cx="4114800" cy="1219320"/>
          </a:xfrm>
        </p:grpSpPr>
        <p:grpSp>
          <p:nvGrpSpPr>
            <p:cNvPr id="152" name=""/>
            <p:cNvGrpSpPr/>
            <p:nvPr/>
          </p:nvGrpSpPr>
          <p:grpSpPr>
            <a:xfrm>
              <a:off x="2971800" y="1981080"/>
              <a:ext cx="4114800" cy="1067400"/>
              <a:chOff x="2971800" y="1981080"/>
              <a:chExt cx="4114800" cy="1067400"/>
            </a:xfrm>
          </p:grpSpPr>
          <p:sp>
            <p:nvSpPr>
              <p:cNvPr id="153" name=""/>
              <p:cNvSpPr/>
              <p:nvPr/>
            </p:nvSpPr>
            <p:spPr>
              <a:xfrm>
                <a:off x="4419720" y="1981080"/>
                <a:ext cx="266688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e the use of the throw list. Throws a runtime error exception, defined i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stdexcept&gt;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971800" y="2133720"/>
                <a:ext cx="1447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H="1">
              <a:off x="4114440" y="2133720"/>
              <a:ext cx="304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0409-FF9D-4555-927D-4A4D9A5E15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1 invokes function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2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stack unw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function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unction1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run-tim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&amp;error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f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rror.what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6386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occurred: runtime_error in function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981080" y="1752480"/>
            <a:ext cx="4114800" cy="1554120"/>
            <a:chOff x="1981080" y="1752480"/>
            <a:chExt cx="4114800" cy="1554120"/>
          </a:xfrm>
        </p:grpSpPr>
        <p:sp>
          <p:nvSpPr>
            <p:cNvPr id="160" name=""/>
            <p:cNvSpPr/>
            <p:nvPr/>
          </p:nvSpPr>
          <p:spPr>
            <a:xfrm>
              <a:off x="3429000" y="175248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hich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exception occurs, and unwinds until an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can be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98108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1C84-3F64-417B-89CB-480A363F8F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, Destructors and Exception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in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ails; cannot allocate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turn a value - how to inform us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pe user examines object, notices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some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alternative: throw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 automatically called for membe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for automatic variable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tch exceptions in de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F57D-A9E9-47FB-A156-93B95F73E0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0  Exceptions an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derived from ba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handle base class, can handl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morphic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EAFB-38C6-4B1A-8B9D-E07672926E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1  Processing new Fail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ils to ge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d_allo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e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compilers hav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 depends on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55F3-B5A0-4663-A960-25F87B12EE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4: fig13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pre-standard new returning 0 when memo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is not allocat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ocate memory for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returns 0 on failure to alloc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[ i ]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mory allocation failed for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19520" y="2895480"/>
            <a:ext cx="4114800" cy="838440"/>
            <a:chOff x="2819520" y="2895480"/>
            <a:chExt cx="4114800" cy="838440"/>
          </a:xfrm>
        </p:grpSpPr>
        <p:sp>
          <p:nvSpPr>
            <p:cNvPr id="171" name=""/>
            <p:cNvSpPr/>
            <p:nvPr/>
          </p:nvSpPr>
          <p:spPr>
            <a:xfrm>
              <a:off x="4267440" y="2895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onstr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n allocation failu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81952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E575-98C3-40A7-9ABA-A2EACEEE20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ccessful memory al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43828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0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1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2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3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ory allocation failed for ptr[ 4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F68B-AFDA-4A14-9F92-514D6F50F6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5: fig13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ndard new throwing bad_alloc when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not be allocat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operator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ad_allo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alloc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cate memory for ptr[ i ]; new throws bad_allo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</a:t>
            </a: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on fail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tr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18960" y="3124080"/>
            <a:ext cx="4115160" cy="838440"/>
            <a:chOff x="1218960" y="3124080"/>
            <a:chExt cx="4115160" cy="838440"/>
          </a:xfrm>
        </p:grpSpPr>
        <p:sp>
          <p:nvSpPr>
            <p:cNvPr id="179" name=""/>
            <p:cNvSpPr/>
            <p:nvPr/>
          </p:nvSpPr>
          <p:spPr>
            <a:xfrm>
              <a:off x="2666880" y="3124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onstr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throws an exce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218960" y="3276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C7A9-E7B9-4E64-A0EE-04B4FDC669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eceding task did not execute correctl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err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next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eceding task did not execute correctl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error process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ing logic and error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make program difficult to read/deb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 handling removes error correction from "main line"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0000-6CB0-4ECF-B909-15A406D894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bad_alloc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bad_alloc &amp;memoryAllocation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memoryAllocationException.what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590920"/>
            <a:ext cx="7010280" cy="1447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0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1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2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3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occurred: Allocation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81FF-F807-4CBF-8FA3-483B460101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1  Processing new Fail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_new_hand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new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 function to call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function pointer to function th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registered, function called instead of throwing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F1A3-85E7-4BAD-8CC5-43CA0C07DC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6: fig13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et_new_handl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operator new and set_new_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_new_hand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ort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NewHandler()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NewHandler was call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bort()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et_new_handler to handle failed memory al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00200" y="2209680"/>
            <a:ext cx="4114800" cy="838440"/>
            <a:chOff x="1600200" y="2209680"/>
            <a:chExt cx="4114800" cy="838440"/>
          </a:xfrm>
        </p:grpSpPr>
        <p:sp>
          <p:nvSpPr>
            <p:cNvPr id="189" name=""/>
            <p:cNvSpPr/>
            <p:nvPr/>
          </p:nvSpPr>
          <p:spPr>
            <a:xfrm>
              <a:off x="3048120" y="2209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ustom handler must take no arguments and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6002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0DC03-15BD-4B45-981B-9F1FC2EC0E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that customNewHandler should be called on fai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mory allocation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_new_handler( customNewHandler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ocate memory for ptr[ i ]; customNewHandler will b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called on failed memory al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962520"/>
            <a:ext cx="701028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0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1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2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3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NewHandler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437920" y="838080"/>
            <a:ext cx="3429360" cy="2257200"/>
            <a:chOff x="2437920" y="838080"/>
            <a:chExt cx="3429360" cy="2257200"/>
          </a:xfrm>
        </p:grpSpPr>
        <p:sp>
          <p:nvSpPr>
            <p:cNvPr id="195" name=""/>
            <p:cNvSpPr/>
            <p:nvPr/>
          </p:nvSpPr>
          <p:spPr>
            <a:xfrm>
              <a:off x="3200400" y="2514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_new_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838080"/>
              <a:ext cx="7621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1935-4C8B-4548-AD70-4819D0038C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2  Class auto_ptr and Dynamic Memory 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pointer, allocate memory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if exception occurs before you c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l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uto_p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memor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gular pointers (h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pointer goes out of scope, ca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memory lea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uto_ptr&lt; MyClass &gt; newPointer( new MyClass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Po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dynamically allocate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D84F-7D8B-42D1-AAFB-CE91C863B0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7: fig13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uto_pt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memo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auto_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o_pt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value( 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structor for Integ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F3862-BAEC-40D3-B953-0DF36F6C71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ger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Integ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structor for Integ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ger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to set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nte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to retur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teg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D959-1734-494C-BFEE-F8A4553C7A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auto_ptr to manipulate Integ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ing an auto_ptr object that points to an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"aim" auto_ptr at Integer object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_ptr&lt; Integer &gt; ptrToInte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sing the auto_ptr to manipulate the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auto_ptr to set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ToInteger-&gt;set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auto_ptr to get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 after set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*ptrToInteger ).getInteg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rminating progr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7760" y="838080"/>
            <a:ext cx="4115160" cy="838440"/>
            <a:chOff x="3047760" y="838080"/>
            <a:chExt cx="4115160" cy="838440"/>
          </a:xfrm>
        </p:grpSpPr>
        <p:sp>
          <p:nvSpPr>
            <p:cNvPr id="206" name=""/>
            <p:cNvSpPr/>
            <p:nvPr/>
          </p:nvSpPr>
          <p:spPr>
            <a:xfrm>
              <a:off x="4495680" y="838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uto_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can be manipulated like a regular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047760" y="990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267080" y="3048120"/>
            <a:ext cx="4114800" cy="1554120"/>
            <a:chOff x="4267080" y="3048120"/>
            <a:chExt cx="4114800" cy="1554120"/>
          </a:xfrm>
        </p:grpSpPr>
        <p:sp>
          <p:nvSpPr>
            <p:cNvPr id="209" name=""/>
            <p:cNvSpPr/>
            <p:nvPr/>
          </p:nvSpPr>
          <p:spPr>
            <a:xfrm>
              <a:off x="5715000" y="304812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t explicitly called, b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uto_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be destroyed once it leaves scope. Thus, the destructor fo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b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2670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FE48-0F63-4BCB-BE27-223E686CC5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an auto_ptr object that points to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ructor for Integer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auto_ptr to manipulate the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after setInteger: 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 for Integer 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D3B3-72E5-4ECB-B138-0A04AFDE2FE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3  Standard Library Exception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verridden to provide error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pl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untime_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c_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all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ca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n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ynamic_c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tch all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(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( exception AnyExcep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not catch user-defined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ED79-20B6-4769-8D58-C6B42FDF0F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ynchronous errors (divide by zero, null poin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handle asynchronous errors (independent of pro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I/O, mouse, keyboard, network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to handl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hat has err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rows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xception handl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f it exists) can deal with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tch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nd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exception handl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ncaugh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terminat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FC87-5B63-45BB-A643-E234BF310A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de that may raise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exceptionTyp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de to handle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 encloses code that may raise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 foll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 and handle exception, if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parameter; if named, can access exceptio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4369-A016-4BEF-B038-2DE874894D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 where exception occur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xception hand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skips remainder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mes af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hand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s for enclo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(stack unwinding, 13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skip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CA72-9307-4B66-838E-B978914492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ther Error-Handling Techniq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ical for personal (not commercial)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may f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rt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appropri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ppropriate for mission-critical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error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fortunately, may not test for these when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or error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 exit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pass error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AC01-E924-4AE9-989D-D076733B78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ther Error-Handling Techniq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jum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ngjum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etjm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ump from deeply nested function to call error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danger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dicated error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have a special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13.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510C-8B76-4536-80A1-AEF8CED60C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Exception-Handling Example: Divide by Ze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ws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hen error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throw almost anything (exception object, integer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my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 can take a string (to describe excep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at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that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960D-4AB7-4D59-A531-4C3F593CDC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9:54:53Z</dcterms:created>
  <dc:creator>kalid</dc:creator>
  <dc:description/>
  <dc:language>en-US</dc:language>
  <cp:lastModifiedBy>UAGUIMA</cp:lastModifiedBy>
  <dcterms:modified xsi:type="dcterms:W3CDTF">2002-08-15T19:22:02Z</dcterms:modified>
  <cp:revision>427</cp:revision>
  <dc:subject/>
  <dc:title>fig13_01.cpp (1 of 3)  </dc:title>
</cp:coreProperties>
</file>