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B0CE-885C-487A-A99C-FAEA78559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08AA-3875-4604-9535-91FD2C35A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0D40-121C-47B2-BC7E-C5F8BD735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0C62-1AB5-469C-8ABA-98D671487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C300-D98C-4C1D-B8E2-10F31FF3B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F443-3F75-4DA7-ABD0-807A50780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37B8-7C2F-46FE-8ABD-88CDE4074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C105-C3C5-4B03-A2C9-99936FCE1F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8240-87A9-449B-967A-A3C8A60C93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0CC4-D706-4221-8D2F-1BBD0D28D3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BBDE-65FA-4FA4-9E05-44FD61623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D3B2-42D2-4A92-B07D-4422A12BC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46DA-0D77-48B3-BDB5-8CEEC607E5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FB82-9AB1-4C15-BDEF-317BCF69CD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ED7F-632F-409E-8DE9-4017B218E6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11F7-5C4E-4C5F-BAF0-EB25857C94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A246-FAE9-4E0A-AA19-9CCEB8608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9263-6D3E-4E39-8BBD-738EF18F3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8180-FB33-4289-B9C7-E25A41D43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4A5C-B84E-449D-AADE-6AD25AC5E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042C-B72C-414E-9261-BB65F02B9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6D51-1595-401A-AA7A-BC307E7CD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FEC6-D5CB-4293-82E3-8BFEE045C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0F77-6E32-4C11-ACF0-25D8A07FF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BB9-0B56-4451-8EF5-B1D42AD6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58D-1CB6-4DAE-897E-02AA7FE4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Function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typ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Inherita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A3F3-BB00-47DE-99CD-50A5EEDFA5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2: tstack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STACK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STACK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(stack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tackPt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~Stack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an element onto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T&amp;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an element off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0" y="492120"/>
            <a:ext cx="4114800" cy="1067400"/>
            <a:chOff x="2286000" y="492120"/>
            <a:chExt cx="4114800" cy="1067400"/>
          </a:xfrm>
        </p:grpSpPr>
        <p:sp>
          <p:nvSpPr>
            <p:cNvPr id="126" name=""/>
            <p:cNvSpPr/>
            <p:nvPr/>
          </p:nvSpPr>
          <p:spPr>
            <a:xfrm>
              <a:off x="3733920" y="492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y class-template definition;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typ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to be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8600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120" y="4343040"/>
            <a:ext cx="4725000" cy="1038240"/>
            <a:chOff x="1752120" y="4343040"/>
            <a:chExt cx="4725000" cy="1038240"/>
          </a:xfrm>
        </p:grpSpPr>
        <p:sp>
          <p:nvSpPr>
            <p:cNvPr id="129" name=""/>
            <p:cNvSpPr/>
            <p:nvPr/>
          </p:nvSpPr>
          <p:spPr>
            <a:xfrm>
              <a:off x="3809880" y="4800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arameter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361960" y="43430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752120" y="457200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221A-BD14-4EB3-997A-0C65E6D3AF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tack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tack is f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ul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 ==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F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# of elements in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 of th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*stack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04760" y="3165480"/>
            <a:ext cx="4115160" cy="838080"/>
            <a:chOff x="1904760" y="3165480"/>
            <a:chExt cx="4115160" cy="838080"/>
          </a:xfrm>
        </p:grpSpPr>
        <p:sp>
          <p:nvSpPr>
            <p:cNvPr id="135" name=""/>
            <p:cNvSpPr/>
            <p:nvPr/>
          </p:nvSpPr>
          <p:spPr>
            <a:xfrm>
              <a:off x="3352680" y="31654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element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04760" y="3317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F3E3-5A9F-4B14-9CD5-BF0FFCD90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&lt; T &gt;::St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s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initially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memory for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ack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 onto 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uccessful, return true;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&lt; T &gt;::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push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Full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Ptr[ ++top ] = push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item on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09680" y="533520"/>
            <a:ext cx="5029200" cy="2361960"/>
            <a:chOff x="2209680" y="533520"/>
            <a:chExt cx="5029200" cy="2361960"/>
          </a:xfrm>
        </p:grpSpPr>
        <p:sp>
          <p:nvSpPr>
            <p:cNvPr id="140" name=""/>
            <p:cNvSpPr/>
            <p:nvPr/>
          </p:nvSpPr>
          <p:spPr>
            <a:xfrm>
              <a:off x="4572000" y="1676520"/>
              <a:ext cx="2666880" cy="100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s preceded with hea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empla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62320" y="182880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209680" y="533520"/>
              <a:ext cx="2362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47560" y="838080"/>
            <a:ext cx="4800600" cy="2669760"/>
            <a:chOff x="1447560" y="838080"/>
            <a:chExt cx="4800600" cy="2669760"/>
          </a:xfrm>
        </p:grpSpPr>
        <p:sp>
          <p:nvSpPr>
            <p:cNvPr id="144" name=""/>
            <p:cNvSpPr/>
            <p:nvPr/>
          </p:nvSpPr>
          <p:spPr>
            <a:xfrm>
              <a:off x="3447720" y="2197080"/>
              <a:ext cx="2800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inary scope 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ith class-template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tie definition to class template’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927800" y="2349360"/>
              <a:ext cx="1519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1447560" y="838080"/>
              <a:ext cx="199980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360" y="665280"/>
            <a:ext cx="4876560" cy="1737360"/>
            <a:chOff x="2133360" y="665280"/>
            <a:chExt cx="4876560" cy="1737360"/>
          </a:xfrm>
        </p:grpSpPr>
        <p:sp>
          <p:nvSpPr>
            <p:cNvPr id="148" name=""/>
            <p:cNvSpPr/>
            <p:nvPr/>
          </p:nvSpPr>
          <p:spPr>
            <a:xfrm>
              <a:off x="3849120" y="665280"/>
              <a:ext cx="3160800" cy="1737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creates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or example, compiler gener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ackPtr =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[ size 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133360" y="817560"/>
              <a:ext cx="1715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8580-53A9-4B9B-9CC6-CBBBF21EF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element off 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uccessful, return true;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&lt; T &gt;::pop( T &amp;pop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pValue = stackPtr[ top--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item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736560"/>
            <a:ext cx="4572000" cy="1235520"/>
            <a:chOff x="2286000" y="736560"/>
            <a:chExt cx="4572000" cy="1235520"/>
          </a:xfrm>
        </p:grpSpPr>
        <p:sp>
          <p:nvSpPr>
            <p:cNvPr id="153" name=""/>
            <p:cNvSpPr/>
            <p:nvPr/>
          </p:nvSpPr>
          <p:spPr>
            <a:xfrm>
              <a:off x="4191120" y="965160"/>
              <a:ext cx="2666880" cy="100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 preceded with hea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</a:rPr>
                <a:t>templa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lt;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T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286000" y="736560"/>
              <a:ext cx="1905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80720" y="1050840"/>
            <a:ext cx="4800960" cy="1936440"/>
            <a:chOff x="1980720" y="1050840"/>
            <a:chExt cx="4800960" cy="1936440"/>
          </a:xfrm>
        </p:grpSpPr>
        <p:sp>
          <p:nvSpPr>
            <p:cNvPr id="156" name=""/>
            <p:cNvSpPr/>
            <p:nvPr/>
          </p:nvSpPr>
          <p:spPr>
            <a:xfrm>
              <a:off x="3981600" y="1676520"/>
              <a:ext cx="2800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inary scope 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ith class-template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tie definition to class template’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1980720" y="1050840"/>
              <a:ext cx="200052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822C-B8FE-42AA-95B6-A296E909F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3: fig11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-class-templat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stack1.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shing elements onto double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oubleStack.push( doubleValue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ouble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Value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double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61960" y="1143000"/>
            <a:ext cx="4115160" cy="838080"/>
            <a:chOff x="2361960" y="1143000"/>
            <a:chExt cx="4115160" cy="838080"/>
          </a:xfrm>
        </p:grpSpPr>
        <p:sp>
          <p:nvSpPr>
            <p:cNvPr id="161" name=""/>
            <p:cNvSpPr/>
            <p:nvPr/>
          </p:nvSpPr>
          <p:spPr>
            <a:xfrm>
              <a:off x="38098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 to class template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3619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09880" y="2057400"/>
            <a:ext cx="4114800" cy="838080"/>
            <a:chOff x="3809880" y="2057400"/>
            <a:chExt cx="4114800" cy="838080"/>
          </a:xfrm>
        </p:grpSpPr>
        <p:sp>
          <p:nvSpPr>
            <p:cNvPr id="164" name=""/>
            <p:cNvSpPr/>
            <p:nvPr/>
          </p:nvSpPr>
          <p:spPr>
            <a:xfrm>
              <a:off x="52578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8098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57320" y="3048120"/>
            <a:ext cx="4115160" cy="838080"/>
            <a:chOff x="2857320" y="3048120"/>
            <a:chExt cx="4115160" cy="838080"/>
          </a:xfrm>
        </p:grpSpPr>
        <p:sp>
          <p:nvSpPr>
            <p:cNvPr id="167" name=""/>
            <p:cNvSpPr/>
            <p:nvPr/>
          </p:nvSpPr>
          <p:spPr>
            <a:xfrm>
              <a:off x="430524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85732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2E5F-7B81-48A4-9C79-2494713DBE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oubleStack.pop( double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ouble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ushing elements onto int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Stack.push( intValu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nt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int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Stack.pop( intValue )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nt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57320" y="609120"/>
            <a:ext cx="4115160" cy="1053000"/>
            <a:chOff x="2857320" y="609120"/>
            <a:chExt cx="4115160" cy="1053000"/>
          </a:xfrm>
        </p:grpSpPr>
        <p:sp>
          <p:nvSpPr>
            <p:cNvPr id="172" name=""/>
            <p:cNvSpPr/>
            <p:nvPr/>
          </p:nvSpPr>
          <p:spPr>
            <a:xfrm>
              <a:off x="430524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57320" y="609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95680" y="2798640"/>
            <a:ext cx="4114800" cy="824040"/>
            <a:chOff x="4495680" y="2798640"/>
            <a:chExt cx="4114800" cy="824040"/>
          </a:xfrm>
        </p:grpSpPr>
        <p:sp>
          <p:nvSpPr>
            <p:cNvPr id="175" name=""/>
            <p:cNvSpPr/>
            <p:nvPr/>
          </p:nvSpPr>
          <p:spPr>
            <a:xfrm>
              <a:off x="5943600" y="2798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similarity of cod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in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d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495680" y="2798640"/>
              <a:ext cx="1447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634D-54DA-4E6E-9D71-748FA06621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85800"/>
            <a:ext cx="7010280" cy="358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9A50-6784-49D8-80E6-EA3F1F20DB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4: fig1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test program. Function main us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to manipulate objects of type Stack&lt; T &gt;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stack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to manipulate Stack&lt; T 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tack(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T &gt; &amp;theStack,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ference to Stack&lt; T &gt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value,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ial value to push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increment,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for subsequ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ackName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of the Stack &lt; T &gt;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Pushing elements on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ack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heStack.push( value ) ) {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 increment;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381200" y="2133720"/>
            <a:ext cx="4762440" cy="1310760"/>
            <a:chOff x="4381200" y="2133720"/>
            <a:chExt cx="4762440" cy="1310760"/>
          </a:xfrm>
        </p:grpSpPr>
        <p:sp>
          <p:nvSpPr>
            <p:cNvPr id="183" name=""/>
            <p:cNvSpPr/>
            <p:nvPr/>
          </p:nvSpPr>
          <p:spPr>
            <a:xfrm>
              <a:off x="6056640" y="2133720"/>
              <a:ext cx="3087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emplate to mani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iminates similar code from previous fil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in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381200" y="2286000"/>
              <a:ext cx="1675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1238-A5B2-4BDF-9609-C958866C2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valu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ack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heStack.pop( value )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testSt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Stack( doubleStac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Stac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Stack( intStac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7F92-6B91-4741-B72A-D901337704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6.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5 4.4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empty. Cannot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full. Cannot push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8 7 6 5 4 3 2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empty. Cannot pop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040" y="1981080"/>
            <a:ext cx="3772440" cy="1419120"/>
            <a:chOff x="3200040" y="1981080"/>
            <a:chExt cx="3772440" cy="1419120"/>
          </a:xfrm>
        </p:grpSpPr>
        <p:sp>
          <p:nvSpPr>
            <p:cNvPr id="190" name=""/>
            <p:cNvSpPr/>
            <p:nvPr/>
          </p:nvSpPr>
          <p:spPr>
            <a:xfrm>
              <a:off x="430524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output identical to tha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g11_03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3200040" y="1981080"/>
              <a:ext cx="1104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21A6-A133-4CED-B32B-13B867A074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ntire range of related (overloaded)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ntire range of relat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A369-4C1B-4C1D-AB63-585B357DA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typ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co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, int elements 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 = string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037-E30C-44BC-8A2E-4675EBF3FB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ing 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or specific typ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match common clas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rray&lt; Martian 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body of 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0029-FA33-4F73-B6CC-2FF1492E46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ways of relating templates and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 derived from non-templat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-template specialization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template class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1177-3434-4568-993F-593546A284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between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2EDB-6EF3-4682-AC50-090E331B19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ll 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float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float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double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double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4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ll 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3283-9651-48AF-A060-C4C4CD030A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5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&lt;float&gt;::f5( X&lt; float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iend of every class-templat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Z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-template specializ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1CFB-E07C-4C20-822E-3F619E23F2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-template spec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has own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has own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785B-4CEB-4CE3-96E2-60BA9C9150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oper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cal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function 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generates separate object-cod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CD89-EE30-486B-A122-63F134145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formal type parameters in angle bracket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ameter preceded by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chang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typename ElementTyp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BorderType, class FillTyp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typ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to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of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with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4251-C4F3-47BB-AF9A-55106DCE5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1: fig11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emplate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print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*arr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array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61960" y="1143000"/>
            <a:ext cx="4115160" cy="838080"/>
            <a:chOff x="2361960" y="1143000"/>
            <a:chExt cx="4115160" cy="838080"/>
          </a:xfrm>
        </p:grpSpPr>
        <p:sp>
          <p:nvSpPr>
            <p:cNvPr id="98" name=""/>
            <p:cNvSpPr/>
            <p:nvPr/>
          </p:nvSpPr>
          <p:spPr>
            <a:xfrm>
              <a:off x="38098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emplate definition; declare single 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3619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0720" y="2092320"/>
            <a:ext cx="3505680" cy="885600"/>
            <a:chOff x="1980720" y="2092320"/>
            <a:chExt cx="3505680" cy="885600"/>
          </a:xfrm>
        </p:grpSpPr>
        <p:sp>
          <p:nvSpPr>
            <p:cNvPr id="101" name=""/>
            <p:cNvSpPr/>
            <p:nvPr/>
          </p:nvSpPr>
          <p:spPr>
            <a:xfrm>
              <a:off x="2819520" y="2397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ype parameter; use any valid identifi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980720" y="20923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2987280"/>
            <a:ext cx="3504600" cy="1391760"/>
            <a:chOff x="1676520" y="2987280"/>
            <a:chExt cx="3504600" cy="1391760"/>
          </a:xfrm>
        </p:grpSpPr>
        <p:sp>
          <p:nvSpPr>
            <p:cNvPr id="104" name=""/>
            <p:cNvSpPr/>
            <p:nvPr/>
          </p:nvSpPr>
          <p:spPr>
            <a:xfrm>
              <a:off x="2514600" y="3311640"/>
              <a:ext cx="266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r-defined type, stream-insertion operator must be overloaded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676520" y="2987280"/>
              <a:ext cx="83808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93EE-68AB-486F-96BB-2AE666366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aCount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 bCount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.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[ cCount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6th position for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a contain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nteger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, aCount )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 b contain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double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b, bCoun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 contains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character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c, cCoun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4920" y="1905120"/>
            <a:ext cx="6706080" cy="2669760"/>
            <a:chOff x="1294920" y="1905120"/>
            <a:chExt cx="6706080" cy="2669760"/>
          </a:xfrm>
        </p:grpSpPr>
        <p:sp>
          <p:nvSpPr>
            <p:cNvPr id="109" name=""/>
            <p:cNvSpPr/>
            <p:nvPr/>
          </p:nvSpPr>
          <p:spPr>
            <a:xfrm>
              <a:off x="2514600" y="2473200"/>
              <a:ext cx="5486400" cy="2101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s complete function-template specialization for printing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oi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printArray(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onst 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*array,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onst 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nt 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 =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i &lt; count; i++ 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cout &lt;&lt; array[ i ]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 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t &lt;&lt; 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 </a:t>
              </a:r>
              <a:r>
                <a:rPr b="1" lang="en-US" sz="1200" spc="-1" strike="noStrike">
                  <a:solidFill>
                    <a:srgbClr val="008000"/>
                  </a:solidFill>
                  <a:latin typeface="Courier New"/>
                  <a:ea typeface="Courier New"/>
                </a:rPr>
                <a:t>// end function printArray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294920" y="1905120"/>
              <a:ext cx="12193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3880" y="1981080"/>
            <a:ext cx="4114800" cy="1067400"/>
            <a:chOff x="1523880" y="1981080"/>
            <a:chExt cx="4114800" cy="1067400"/>
          </a:xfrm>
        </p:grpSpPr>
        <p:sp>
          <p:nvSpPr>
            <p:cNvPr id="112" name=""/>
            <p:cNvSpPr/>
            <p:nvPr/>
          </p:nvSpPr>
          <p:spPr>
            <a:xfrm>
              <a:off x="2971800" y="1981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inf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instantiates function-template specialization whe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5238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3095640"/>
            <a:ext cx="4114800" cy="1067400"/>
            <a:chOff x="1523880" y="3095640"/>
            <a:chExt cx="4114800" cy="1067400"/>
          </a:xfrm>
        </p:grpSpPr>
        <p:sp>
          <p:nvSpPr>
            <p:cNvPr id="115" name=""/>
            <p:cNvSpPr/>
            <p:nvPr/>
          </p:nvSpPr>
          <p:spPr>
            <a:xfrm>
              <a:off x="2971800" y="30956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inf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instantiates function-template specialization whe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23880" y="324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8C08-FE9C-4306-BF6F-8392667185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b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 6.6 7.7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6DDC-0910-4B63-A12E-86A813DB1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function-template speci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 templates with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template functions with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function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performs match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find precise match of function name and argu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s, function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function-template specialization with precise m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E2AD-945D-4060-9451-37C3A5B8B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O (last-in-first-out)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i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 notion of stack gener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tiate type-specific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one or more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 “generic class” template to form class-templat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CB5F-A6CC-4055-B718-6505DD5BEC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0:27Z</dcterms:created>
  <dc:creator>Audrey Lee</dc:creator>
  <dc:description/>
  <dc:language>en-US</dc:language>
  <cp:lastModifiedBy>Pearson Education</cp:lastModifiedBy>
  <dcterms:modified xsi:type="dcterms:W3CDTF">2002-08-12T15:11:58Z</dcterms:modified>
  <cp:revision>43</cp:revision>
  <dc:subject/>
  <dc:title>fig11_01.cpp (1 of 2)  </dc:title>
</cp:coreProperties>
</file>