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3DA1-B04C-4280-988C-0725FA634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2F45-308C-4A85-B4AA-ECBB7C78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B7C5-780C-485E-8563-814CBA6A3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586E-F4B2-4F00-85F7-0FF15627C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751C-92C2-41DA-A6E3-E8363C813A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6116-A117-4F03-9F7C-0117A70BA6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9A03-89B2-48C1-88FE-9F15F9F2A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AE7C-51B8-4C2D-86F2-68480D1B0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8D1B-A8C4-40FE-BE7C-6AD24D972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2844-3EB3-40EB-9AA9-01DA6FF18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E50D-D1C0-41AF-AB28-F3FC3C454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44B0-12F3-4858-9770-F193A8DC3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C5D6-ECAD-4CA6-A163-5CF19B91A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5B08-BEA9-4F30-9127-EF5977C7AC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084A-BD15-46C1-99F6-2EF67F693F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9605-FEFD-4602-BCA5-EA0EBC9F6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D9F8-2B71-417D-AC04-3052AB93F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D901-A076-4CA2-A7B3-16A29C635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A27C-8894-4263-A0C9-1F588B1E8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E195-7C77-4DC9-902D-FB234E43F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995B-0A62-46CE-97A9-FD9D72413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2B5A-A427-445C-9C5A-283707617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D079-288C-4BB6-AF9B-392219D05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0734-9CE9-4359-8FE8-C639B1A65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EEB-036F-4BD9-AB07-B61D73F3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8E7-DF32-425E-A1BE-0F9B6013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 - Object-Oriented Programming: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e Classes and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 between Base Classes and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Three-Level Inheritance Hierarc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structors and Destructors in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“Uses A” and “Knows A” Relationship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Inherita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ftware Engineering with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81D0-F1F1-4F11-B7B6-F33B3AAF06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21120" y="3546360"/>
            <a:ext cx="1908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14800" y="3951360"/>
            <a:ext cx="1908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1640" y="3043080"/>
            <a:ext cx="2088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37160" y="3159000"/>
            <a:ext cx="180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9280" y="3546360"/>
            <a:ext cx="19080" cy="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25600" y="3951360"/>
            <a:ext cx="1908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2440" y="4357800"/>
            <a:ext cx="1908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16120" y="4764240"/>
            <a:ext cx="19080" cy="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40040" y="4357800"/>
            <a:ext cx="1908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7280" y="4764240"/>
            <a:ext cx="20520" cy="1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5576760"/>
            <a:ext cx="2052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8720" y="5576760"/>
            <a:ext cx="19080" cy="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3875040"/>
            <a:ext cx="1908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990960"/>
            <a:ext cx="1440" cy="19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3160" y="4686480"/>
            <a:ext cx="2088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68680" y="4802040"/>
            <a:ext cx="1800" cy="20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13160" y="549900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8680" y="5614920"/>
            <a:ext cx="180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69720" y="2057400"/>
            <a:ext cx="8469360" cy="3363840"/>
            <a:chOff x="369720" y="2057400"/>
            <a:chExt cx="8469360" cy="3363840"/>
          </a:xfrm>
        </p:grpSpPr>
        <p:grpSp>
          <p:nvGrpSpPr>
            <p:cNvPr id="173" name=""/>
            <p:cNvGrpSpPr/>
            <p:nvPr/>
          </p:nvGrpSpPr>
          <p:grpSpPr>
            <a:xfrm>
              <a:off x="3503160" y="2057400"/>
              <a:ext cx="1792440" cy="458640"/>
              <a:chOff x="3503160" y="2057400"/>
              <a:chExt cx="1792440" cy="4586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504960" y="2057400"/>
                <a:ext cx="1790640" cy="458640"/>
                <a:chOff x="3504960" y="2057400"/>
                <a:chExt cx="1790640" cy="458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504960" y="2057400"/>
                  <a:ext cx="17906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504960" y="2057400"/>
                  <a:ext cx="17906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503160" y="2195640"/>
                <a:ext cx="179244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Sha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42760" y="3370320"/>
              <a:ext cx="2636640" cy="458640"/>
              <a:chOff x="842760" y="3370320"/>
              <a:chExt cx="2636640" cy="458640"/>
            </a:xfrm>
          </p:grpSpPr>
          <p:sp>
            <p:nvSpPr>
              <p:cNvPr id="179" name=""/>
              <p:cNvSpPr/>
              <p:nvPr/>
            </p:nvSpPr>
            <p:spPr>
              <a:xfrm>
                <a:off x="842760" y="3370320"/>
                <a:ext cx="26366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42760" y="3370320"/>
                <a:ext cx="26366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40960" y="3508200"/>
              <a:ext cx="2638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woDimensional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393880" y="3370320"/>
              <a:ext cx="2637000" cy="458640"/>
              <a:chOff x="5393880" y="3370320"/>
              <a:chExt cx="2637000" cy="458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395680" y="3370320"/>
                <a:ext cx="2635200" cy="458640"/>
                <a:chOff x="5395680" y="3370320"/>
                <a:chExt cx="2635200" cy="458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395680" y="3370320"/>
                  <a:ext cx="263520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95680" y="3370320"/>
                  <a:ext cx="263520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5393880" y="3508200"/>
                <a:ext cx="2637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ThreeDimensionalSha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71160" y="4962600"/>
              <a:ext cx="1093680" cy="458640"/>
              <a:chOff x="371160" y="4962600"/>
              <a:chExt cx="1093680" cy="458640"/>
            </a:xfrm>
          </p:grpSpPr>
          <p:sp>
            <p:nvSpPr>
              <p:cNvPr id="188" name=""/>
              <p:cNvSpPr/>
              <p:nvPr/>
            </p:nvSpPr>
            <p:spPr>
              <a:xfrm>
                <a:off x="3711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11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69720" y="5100480"/>
              <a:ext cx="1095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614240" y="4962600"/>
              <a:ext cx="1095480" cy="458640"/>
              <a:chOff x="1614240" y="4962600"/>
              <a:chExt cx="1095480" cy="458640"/>
            </a:xfrm>
          </p:grpSpPr>
          <p:sp>
            <p:nvSpPr>
              <p:cNvPr id="192" name=""/>
              <p:cNvSpPr/>
              <p:nvPr/>
            </p:nvSpPr>
            <p:spPr>
              <a:xfrm>
                <a:off x="1614240" y="4962600"/>
                <a:ext cx="10954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14240" y="4962600"/>
                <a:ext cx="10954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612440" y="5100480"/>
              <a:ext cx="1097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858760" y="4962600"/>
              <a:ext cx="1093680" cy="458640"/>
              <a:chOff x="2858760" y="4962600"/>
              <a:chExt cx="1093680" cy="458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8587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587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2857320" y="5100480"/>
              <a:ext cx="1095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ri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909680" y="4962600"/>
              <a:ext cx="1094040" cy="458640"/>
              <a:chOff x="4909680" y="4962600"/>
              <a:chExt cx="1094040" cy="458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909680" y="4962600"/>
                <a:ext cx="10940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09680" y="4962600"/>
                <a:ext cx="10940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908240" y="5100480"/>
              <a:ext cx="10954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151320" y="4962600"/>
              <a:ext cx="1095480" cy="458640"/>
              <a:chOff x="6151320" y="4962600"/>
              <a:chExt cx="1095480" cy="458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152760" y="4962600"/>
                <a:ext cx="1094040" cy="458640"/>
                <a:chOff x="6152760" y="4962600"/>
                <a:chExt cx="1094040" cy="45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152760" y="4962600"/>
                  <a:ext cx="10940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7" y="0"/>
                      </a:moveTo>
                      <a:lnTo>
                        <a:pt x="19977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7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152760" y="4962600"/>
                  <a:ext cx="10940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7" y="0"/>
                      </a:moveTo>
                      <a:lnTo>
                        <a:pt x="19977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7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151320" y="5100480"/>
                <a:ext cx="109548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Cub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395840" y="4962600"/>
              <a:ext cx="1443240" cy="458640"/>
              <a:chOff x="7395840" y="4962600"/>
              <a:chExt cx="1443240" cy="4586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7397640" y="4962600"/>
                <a:ext cx="1441440" cy="458640"/>
                <a:chOff x="7397640" y="4962600"/>
                <a:chExt cx="1441440" cy="458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397640" y="4962600"/>
                  <a:ext cx="14414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19983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397640" y="4962600"/>
                  <a:ext cx="14414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19983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7395840" y="5100480"/>
                <a:ext cx="144324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Tetrahed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06440" y="2516040"/>
              <a:ext cx="2585880" cy="854280"/>
              <a:chOff x="3106440" y="2516040"/>
              <a:chExt cx="2585880" cy="854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106440" y="2516040"/>
                <a:ext cx="646200" cy="85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2"/>
                    </a:moveTo>
                    <a:lnTo>
                      <a:pt x="19962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5400" y="2516040"/>
                <a:ext cx="646920" cy="85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6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917280" y="3828960"/>
              <a:ext cx="2487600" cy="1133640"/>
              <a:chOff x="917280" y="3828960"/>
              <a:chExt cx="2487600" cy="113364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0000" y="3828960"/>
                <a:ext cx="108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17280" y="3828960"/>
                <a:ext cx="85212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1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120" y="3828960"/>
                <a:ext cx="85176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1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470200" y="3828960"/>
              <a:ext cx="2486160" cy="1133640"/>
              <a:chOff x="5470200" y="3828960"/>
              <a:chExt cx="2486160" cy="1133640"/>
            </a:xfrm>
          </p:grpSpPr>
          <p:sp>
            <p:nvSpPr>
              <p:cNvPr id="221" name=""/>
              <p:cNvSpPr/>
              <p:nvPr/>
            </p:nvSpPr>
            <p:spPr>
              <a:xfrm>
                <a:off x="6711840" y="3828960"/>
                <a:ext cx="108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70200" y="3828960"/>
                <a:ext cx="85104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1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04960" y="3828960"/>
                <a:ext cx="85140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1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693720" y="1144440"/>
            <a:ext cx="37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. 9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for Sha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82DF-548B-452D-81FC-A1DB2C27B0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wi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TwoDimensionalShape : public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ccessible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through inherited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with original member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FDD4-0FF7-4EC3-89D8-0E161C13AF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accessible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use membe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8AA4-0B95-4DEB-925B-390D87848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ship between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and derived clas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Point/circle inheritanc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97AE-27F7-4158-9EB7-26DF9B67E1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4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90760" y="3657600"/>
            <a:ext cx="4115160" cy="838080"/>
            <a:chOff x="4190760" y="3657600"/>
            <a:chExt cx="4115160" cy="838080"/>
          </a:xfrm>
        </p:grpSpPr>
        <p:sp>
          <p:nvSpPr>
            <p:cNvPr id="234" name=""/>
            <p:cNvSpPr/>
            <p:nvPr/>
          </p:nvSpPr>
          <p:spPr>
            <a:xfrm>
              <a:off x="5638680" y="3657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coordinat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190760" y="380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2568-D0B7-4B44-B8FA-49E88163AF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5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EC22-4E7E-4512-A1CB-5DC3E455F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E123-55B1-4CFC-A62B-7995C35B68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1ECC-E81D-4B37-B019-59989A2101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6: point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Poi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oint.getX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oint.ge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of 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57320" y="1828800"/>
            <a:ext cx="4115160" cy="838080"/>
            <a:chOff x="2857320" y="1828800"/>
            <a:chExt cx="4115160" cy="838080"/>
          </a:xfrm>
        </p:grpSpPr>
        <p:sp>
          <p:nvSpPr>
            <p:cNvPr id="245" name=""/>
            <p:cNvSpPr/>
            <p:nvPr/>
          </p:nvSpPr>
          <p:spPr>
            <a:xfrm>
              <a:off x="4305240" y="18288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85732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895480" y="3311640"/>
            <a:ext cx="4114800" cy="838080"/>
            <a:chOff x="2895480" y="3311640"/>
            <a:chExt cx="4114800" cy="838080"/>
          </a:xfrm>
        </p:grpSpPr>
        <p:sp>
          <p:nvSpPr>
            <p:cNvPr id="248" name=""/>
            <p:cNvSpPr/>
            <p:nvPr/>
          </p:nvSpPr>
          <p:spPr>
            <a:xfrm>
              <a:off x="4343400" y="3311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set functions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89548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267080"/>
            <a:ext cx="4114800" cy="838440"/>
            <a:chOff x="2057400" y="4267080"/>
            <a:chExt cx="4114800" cy="838440"/>
          </a:xfrm>
        </p:grpSpPr>
        <p:sp>
          <p:nvSpPr>
            <p:cNvPr id="251" name=""/>
            <p:cNvSpPr/>
            <p:nvPr/>
          </p:nvSpPr>
          <p:spPr>
            <a:xfrm>
              <a:off x="3505320" y="4267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new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057400" y="4419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0C81-ACD7-43E8-81DB-7BA0A932D9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8380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1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of point is [10, 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6DB7-4F0F-4EBF-B1F0-4927CBE7F7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class from existing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rb existing class’s data and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with new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inherits from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specialized group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inherited from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usto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9171-3103-419F-8335-0133B4295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7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514600" y="2473200"/>
            <a:ext cx="4114800" cy="838440"/>
            <a:chOff x="2514600" y="2473200"/>
            <a:chExt cx="4114800" cy="838440"/>
          </a:xfrm>
        </p:grpSpPr>
        <p:sp>
          <p:nvSpPr>
            <p:cNvPr id="259" name=""/>
            <p:cNvSpPr/>
            <p:nvPr/>
          </p:nvSpPr>
          <p:spPr>
            <a:xfrm>
              <a:off x="3962520" y="247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ode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514600" y="26258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A777-1D43-43AC-811A-08D963DDF9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-coordinate of Circle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-coordinate of Circle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04760" y="304920"/>
            <a:ext cx="4115160" cy="838080"/>
            <a:chOff x="1904760" y="304920"/>
            <a:chExt cx="4115160" cy="838080"/>
          </a:xfrm>
        </p:grpSpPr>
        <p:sp>
          <p:nvSpPr>
            <p:cNvPr id="264" name=""/>
            <p:cNvSpPr/>
            <p:nvPr/>
          </p:nvSpPr>
          <p:spPr>
            <a:xfrm>
              <a:off x="3352680" y="304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ordinate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904760" y="457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1139400"/>
            <a:ext cx="4572360" cy="889200"/>
            <a:chOff x="1447560" y="1139400"/>
            <a:chExt cx="4572360" cy="889200"/>
          </a:xfrm>
        </p:grpSpPr>
        <p:sp>
          <p:nvSpPr>
            <p:cNvPr id="267" name=""/>
            <p:cNvSpPr/>
            <p:nvPr/>
          </p:nvSpPr>
          <p:spPr>
            <a:xfrm>
              <a:off x="33526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ode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447560" y="1139400"/>
              <a:ext cx="190476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60CA-C396-4B95-B2B0-2A105441B0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8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2B51-C252-431A-8EE3-FD48470F87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F0DA-2F65-4420-9051-74DF9CAE65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895480" y="1066680"/>
            <a:ext cx="4114800" cy="1037880"/>
            <a:chOff x="2895480" y="1066680"/>
            <a:chExt cx="4114800" cy="1037880"/>
          </a:xfrm>
        </p:grpSpPr>
        <p:sp>
          <p:nvSpPr>
            <p:cNvPr id="276" name=""/>
            <p:cNvSpPr/>
            <p:nvPr/>
          </p:nvSpPr>
          <p:spPr>
            <a:xfrm>
              <a:off x="43434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sure non-negative valu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895480" y="10666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5854-C7A5-472C-A64F-B65C099855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2CD9-2153-4A28-B738-6CE79894AD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9: circle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857320" y="2819520"/>
            <a:ext cx="4115160" cy="838080"/>
            <a:chOff x="2857320" y="2819520"/>
            <a:chExt cx="4115160" cy="838080"/>
          </a:xfrm>
        </p:grpSpPr>
        <p:sp>
          <p:nvSpPr>
            <p:cNvPr id="283" name=""/>
            <p:cNvSpPr/>
            <p:nvPr/>
          </p:nvSpPr>
          <p:spPr>
            <a:xfrm>
              <a:off x="430524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85732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3D39-C14C-4322-97C2-BC1071644F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14600" y="415440"/>
            <a:ext cx="3962520" cy="1114560"/>
            <a:chOff x="2514600" y="415440"/>
            <a:chExt cx="3962520" cy="1114560"/>
          </a:xfrm>
        </p:grpSpPr>
        <p:sp>
          <p:nvSpPr>
            <p:cNvPr id="288" name=""/>
            <p:cNvSpPr/>
            <p:nvPr/>
          </p:nvSpPr>
          <p:spPr>
            <a:xfrm>
              <a:off x="3809880" y="949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et functions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514600" y="4154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09320" y="1599840"/>
            <a:ext cx="4267800" cy="824400"/>
            <a:chOff x="2209320" y="1599840"/>
            <a:chExt cx="4267800" cy="824400"/>
          </a:xfrm>
        </p:grpSpPr>
        <p:sp>
          <p:nvSpPr>
            <p:cNvPr id="291" name=""/>
            <p:cNvSpPr/>
            <p:nvPr/>
          </p:nvSpPr>
          <p:spPr>
            <a:xfrm>
              <a:off x="3809880" y="1600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new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209320" y="15998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6F5D-1E71-4BF2-B5C3-08083DE321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is 56.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D756-22FC-4D66-87C2-0E88B2927F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0: circl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09680" y="838080"/>
            <a:ext cx="4114800" cy="838440"/>
            <a:chOff x="2209680" y="838080"/>
            <a:chExt cx="4114800" cy="838440"/>
          </a:xfrm>
        </p:grpSpPr>
        <p:sp>
          <p:nvSpPr>
            <p:cNvPr id="298" name=""/>
            <p:cNvSpPr/>
            <p:nvPr/>
          </p:nvSpPr>
          <p:spPr>
            <a:xfrm>
              <a:off x="36576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2096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301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120" y="1904760"/>
            <a:ext cx="3962880" cy="870840"/>
            <a:chOff x="1752120" y="1904760"/>
            <a:chExt cx="3962880" cy="870840"/>
          </a:xfrm>
        </p:grpSpPr>
        <p:sp>
          <p:nvSpPr>
            <p:cNvPr id="304" name=""/>
            <p:cNvSpPr/>
            <p:nvPr/>
          </p:nvSpPr>
          <p:spPr>
            <a:xfrm>
              <a:off x="3048120" y="2438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on indicates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752120" y="190476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209320" y="1904760"/>
            <a:ext cx="3886560" cy="1114200"/>
            <a:chOff x="2209320" y="1904760"/>
            <a:chExt cx="3886560" cy="1114200"/>
          </a:xfrm>
        </p:grpSpPr>
        <p:sp>
          <p:nvSpPr>
            <p:cNvPr id="307" name=""/>
            <p:cNvSpPr/>
            <p:nvPr/>
          </p:nvSpPr>
          <p:spPr>
            <a:xfrm>
              <a:off x="34290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type of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209320" y="19047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3A24-161C-4934-88D1-7952D2441B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explicitly (one level up hierarc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two or more levels up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es possibly un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CEE6-30C6-4A6E-84E7-A8A5A3F945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7160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1: circle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member-function 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::Circl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x = x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y = y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2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828800" y="3311640"/>
            <a:ext cx="4114800" cy="1067400"/>
            <a:chOff x="1828800" y="3311640"/>
            <a:chExt cx="4114800" cy="1067400"/>
          </a:xfrm>
        </p:grpSpPr>
        <p:sp>
          <p:nvSpPr>
            <p:cNvPr id="313" name=""/>
            <p:cNvSpPr/>
            <p:nvPr/>
          </p:nvSpPr>
          <p:spPr>
            <a:xfrm>
              <a:off x="3276720" y="33116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2880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BE79-65A2-4A88-B312-5E1A200B69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D768-C91C-4543-88B8-B40C62AAD3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Center = [" &lt;&lt; x &lt;&lt; ", " &lt;&lt; y &lt;&lt; 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048120" y="2806560"/>
            <a:ext cx="4495680" cy="1079640"/>
            <a:chOff x="3048120" y="2806560"/>
            <a:chExt cx="4495680" cy="1079640"/>
          </a:xfrm>
        </p:grpSpPr>
        <p:sp>
          <p:nvSpPr>
            <p:cNvPr id="320" name=""/>
            <p:cNvSpPr/>
            <p:nvPr/>
          </p:nvSpPr>
          <p:spPr>
            <a:xfrm>
              <a:off x="4876920" y="28065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048120" y="2959200"/>
              <a:ext cx="18288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190760" y="2959200"/>
              <a:ext cx="6858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39EC-16FE-4BD5-AB9A-0E0A3653AB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26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12) : error C2248: 'x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0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x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13) : error C2248: 'y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1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y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56) : error C2248: 'x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0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56) : error C2248: 'y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1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y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837720"/>
            <a:ext cx="4229280" cy="3957120"/>
            <a:chOff x="4038480" y="837720"/>
            <a:chExt cx="4229280" cy="3957120"/>
          </a:xfrm>
        </p:grpSpPr>
        <p:sp>
          <p:nvSpPr>
            <p:cNvPr id="326" name=""/>
            <p:cNvSpPr/>
            <p:nvPr/>
          </p:nvSpPr>
          <p:spPr>
            <a:xfrm>
              <a:off x="5600880" y="3727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914720" y="837720"/>
              <a:ext cx="685800" cy="30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4572000" y="1828440"/>
              <a:ext cx="1028880" cy="20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4038480" y="2971800"/>
              <a:ext cx="156240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038480" y="3879720"/>
              <a:ext cx="1562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E3C0-3DA8-40A1-96C4-3D1A031ADB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2: point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: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23520" y="3416400"/>
            <a:ext cx="4115160" cy="1067400"/>
            <a:chOff x="1523520" y="3416400"/>
            <a:chExt cx="4115160" cy="1067400"/>
          </a:xfrm>
        </p:grpSpPr>
        <p:sp>
          <p:nvSpPr>
            <p:cNvPr id="334" name=""/>
            <p:cNvSpPr/>
            <p:nvPr/>
          </p:nvSpPr>
          <p:spPr>
            <a:xfrm>
              <a:off x="2971440" y="3416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coordinat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, accessible to derived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523520" y="35686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75B6-9928-4D5C-9D44-5CD80098FA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3: point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::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2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4444-C92C-4A7B-BB71-6362565AC8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B9DB-F6DC-4506-A10E-E90D305C89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E7D1-A61F-4C83-A322-C258460565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4: circl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904760" y="838080"/>
            <a:ext cx="4115160" cy="838440"/>
            <a:chOff x="1904760" y="838080"/>
            <a:chExt cx="4115160" cy="838440"/>
          </a:xfrm>
        </p:grpSpPr>
        <p:sp>
          <p:nvSpPr>
            <p:cNvPr id="345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904760" y="990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348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0FEA-2299-4E1A-8805-496B3BC6CF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0E44-96C9-4DDF-9F66-3F6508331C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object of derived class also object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objects not objects of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All cars vehicles, but not all vehicl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can effect change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-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inherited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to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8D6C-D2A7-47F2-ADED-757A9EC751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5: circl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::Circle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3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828800" y="1828800"/>
            <a:ext cx="4114800" cy="1079640"/>
            <a:chOff x="1828800" y="1828800"/>
            <a:chExt cx="4114800" cy="1079640"/>
          </a:xfrm>
        </p:grpSpPr>
        <p:sp>
          <p:nvSpPr>
            <p:cNvPr id="355" name=""/>
            <p:cNvSpPr/>
            <p:nvPr/>
          </p:nvSpPr>
          <p:spPr>
            <a:xfrm>
              <a:off x="327672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inherited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8288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828800" y="1981080"/>
              <a:ext cx="144792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76160" y="1600200"/>
            <a:ext cx="4115160" cy="838080"/>
            <a:chOff x="1676160" y="1600200"/>
            <a:chExt cx="4115160" cy="838080"/>
          </a:xfrm>
        </p:grpSpPr>
        <p:sp>
          <p:nvSpPr>
            <p:cNvPr id="359" name=""/>
            <p:cNvSpPr/>
            <p:nvPr/>
          </p:nvSpPr>
          <p:spPr>
            <a:xfrm>
              <a:off x="3124080" y="1600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irst implicitly calls base class’s default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6761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BF7B-BC26-4BCF-8310-01F982CDB5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EC2E-2216-4BEE-99E8-8A93FBEEC7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971800" y="1289160"/>
            <a:ext cx="4952880" cy="1079280"/>
            <a:chOff x="2971800" y="1289160"/>
            <a:chExt cx="4952880" cy="1079280"/>
          </a:xfrm>
        </p:grpSpPr>
        <p:sp>
          <p:nvSpPr>
            <p:cNvPr id="366" name=""/>
            <p:cNvSpPr/>
            <p:nvPr/>
          </p:nvSpPr>
          <p:spPr>
            <a:xfrm>
              <a:off x="5257800" y="1289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inherited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971800" y="1441440"/>
              <a:ext cx="22860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190760" y="1441440"/>
              <a:ext cx="106668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3B24-8AA9-466C-A8B5-98C7E3CB752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6: circletest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3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3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724280" y="3484440"/>
            <a:ext cx="4114800" cy="1163880"/>
            <a:chOff x="4724280" y="3484440"/>
            <a:chExt cx="4114800" cy="1163880"/>
          </a:xfrm>
        </p:grpSpPr>
        <p:sp>
          <p:nvSpPr>
            <p:cNvPr id="372" name=""/>
            <p:cNvSpPr/>
            <p:nvPr/>
          </p:nvSpPr>
          <p:spPr>
            <a:xfrm>
              <a:off x="61722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get functions to access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7242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876920" y="3637080"/>
              <a:ext cx="1295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57320" y="2798640"/>
            <a:ext cx="4115160" cy="838440"/>
            <a:chOff x="2857320" y="2798640"/>
            <a:chExt cx="4115160" cy="838440"/>
          </a:xfrm>
        </p:grpSpPr>
        <p:sp>
          <p:nvSpPr>
            <p:cNvPr id="376" name=""/>
            <p:cNvSpPr/>
            <p:nvPr/>
          </p:nvSpPr>
          <p:spPr>
            <a:xfrm>
              <a:off x="4305240" y="279864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57320" y="2951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876920" y="4038480"/>
            <a:ext cx="3962160" cy="838440"/>
            <a:chOff x="4876920" y="4038480"/>
            <a:chExt cx="3962160" cy="838440"/>
          </a:xfrm>
        </p:grpSpPr>
        <p:sp>
          <p:nvSpPr>
            <p:cNvPr id="379" name=""/>
            <p:cNvSpPr/>
            <p:nvPr/>
          </p:nvSpPr>
          <p:spPr>
            <a:xfrm>
              <a:off x="61722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876920" y="41911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4E89-DD17-4158-AAA9-FF46AF40AB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1960" y="304560"/>
            <a:ext cx="4724640" cy="1055880"/>
            <a:chOff x="2361960" y="304560"/>
            <a:chExt cx="4724640" cy="1055880"/>
          </a:xfrm>
        </p:grpSpPr>
        <p:sp>
          <p:nvSpPr>
            <p:cNvPr id="384" name=""/>
            <p:cNvSpPr/>
            <p:nvPr/>
          </p:nvSpPr>
          <p:spPr>
            <a:xfrm>
              <a:off x="4419720" y="536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set functions to modif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2361960" y="304560"/>
              <a:ext cx="2057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2361960" y="53640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123720" y="730080"/>
            <a:ext cx="3962880" cy="1087560"/>
            <a:chOff x="3123720" y="730080"/>
            <a:chExt cx="3962880" cy="1087560"/>
          </a:xfrm>
        </p:grpSpPr>
        <p:sp>
          <p:nvSpPr>
            <p:cNvPr id="388" name=""/>
            <p:cNvSpPr/>
            <p:nvPr/>
          </p:nvSpPr>
          <p:spPr>
            <a:xfrm>
              <a:off x="441972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function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123720" y="730080"/>
              <a:ext cx="12956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8930-3322-401C-ABE0-30888E0746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56.7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3E2C-978B-430E-A94A-E8CC53400C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ship between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es can modify values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ght increase i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set/get function 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validit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can assign illeg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member functions more likely dependent on base class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implementation changes may result in derived class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ile (brittle)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16FF-60AB-47BD-A927-EA1615E875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7: point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47920" y="3429000"/>
            <a:ext cx="4114800" cy="837720"/>
            <a:chOff x="1447920" y="3429000"/>
            <a:chExt cx="4114800" cy="837720"/>
          </a:xfrm>
        </p:grpSpPr>
        <p:sp>
          <p:nvSpPr>
            <p:cNvPr id="397" name=""/>
            <p:cNvSpPr/>
            <p:nvPr/>
          </p:nvSpPr>
          <p:spPr>
            <a:xfrm>
              <a:off x="2895840" y="3429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tter software-engineering practice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v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en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447920" y="35812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BC78-78CF-492B-8FE7-E5231C9ECF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8: point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3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3::Point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3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276360" y="1600200"/>
            <a:ext cx="4115160" cy="838080"/>
            <a:chOff x="3276360" y="1600200"/>
            <a:chExt cx="4115160" cy="838080"/>
          </a:xfrm>
        </p:grpSpPr>
        <p:sp>
          <p:nvSpPr>
            <p:cNvPr id="402" name=""/>
            <p:cNvSpPr/>
            <p:nvPr/>
          </p:nvSpPr>
          <p:spPr>
            <a:xfrm>
              <a:off x="47242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s specify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2763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3DD8-B95D-4478-BAFA-18F0418953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0BE6-AF52-40AE-868C-98882ECA4BC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cus on commonalities among objects i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a” vs. “has-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-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object treated as base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icle properties/behaviors also car properties/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-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contains one or more objects of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eering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5DAF-DC9D-4B0C-BEE6-794E372055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14600" y="1066320"/>
            <a:ext cx="4952880" cy="1357920"/>
            <a:chOff x="2514600" y="1066320"/>
            <a:chExt cx="4952880" cy="1357920"/>
          </a:xfrm>
        </p:grpSpPr>
        <p:sp>
          <p:nvSpPr>
            <p:cNvPr id="409" name=""/>
            <p:cNvSpPr/>
            <p:nvPr/>
          </p:nvSpPr>
          <p:spPr>
            <a:xfrm>
              <a:off x="480060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14600" y="1066320"/>
              <a:ext cx="2286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10663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2274-BFEF-444B-BC75-6E2647FE8AF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9: circl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28800" y="914400"/>
            <a:ext cx="4114800" cy="837720"/>
            <a:chOff x="1828800" y="914400"/>
            <a:chExt cx="4114800" cy="837720"/>
          </a:xfrm>
        </p:grpSpPr>
        <p:sp>
          <p:nvSpPr>
            <p:cNvPr id="415" name=""/>
            <p:cNvSpPr/>
            <p:nvPr/>
          </p:nvSpPr>
          <p:spPr>
            <a:xfrm>
              <a:off x="327672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82880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418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7949-77E2-4AAD-B9FA-DB658750D4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77A6-DFD1-4459-B8A2-BDE0CF183E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0: circl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::Circle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3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4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286000" y="1523880"/>
            <a:ext cx="4114800" cy="838440"/>
            <a:chOff x="2286000" y="1523880"/>
            <a:chExt cx="4114800" cy="838440"/>
          </a:xfrm>
        </p:grpSpPr>
        <p:sp>
          <p:nvSpPr>
            <p:cNvPr id="425" name=""/>
            <p:cNvSpPr/>
            <p:nvPr/>
          </p:nvSpPr>
          <p:spPr>
            <a:xfrm>
              <a:off x="373392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initializer syntax passes arguments to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2860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E6B7-F06C-4516-A8A4-0B964901729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14600" y="1523880"/>
            <a:ext cx="4114800" cy="838440"/>
            <a:chOff x="2514600" y="1523880"/>
            <a:chExt cx="4114800" cy="838440"/>
          </a:xfrm>
        </p:grpSpPr>
        <p:sp>
          <p:nvSpPr>
            <p:cNvPr id="430" name=""/>
            <p:cNvSpPr/>
            <p:nvPr/>
          </p:nvSpPr>
          <p:spPr>
            <a:xfrm>
              <a:off x="396252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directly accessing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5146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E45B-74C1-4CFF-BD2F-44CB47F4372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3::prin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3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743200" y="1066320"/>
            <a:ext cx="4038480" cy="1753200"/>
            <a:chOff x="2743200" y="1066320"/>
            <a:chExt cx="4038480" cy="1753200"/>
          </a:xfrm>
        </p:grpSpPr>
        <p:sp>
          <p:nvSpPr>
            <p:cNvPr id="435" name=""/>
            <p:cNvSpPr/>
            <p:nvPr/>
          </p:nvSpPr>
          <p:spPr>
            <a:xfrm>
              <a:off x="4114800" y="1521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directly accessing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3733920" y="1066320"/>
              <a:ext cx="38088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743200" y="1066320"/>
              <a:ext cx="137160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276720" y="1673280"/>
              <a:ext cx="83808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95480" y="990720"/>
            <a:ext cx="4114800" cy="838080"/>
            <a:chOff x="2895480" y="990720"/>
            <a:chExt cx="4114800" cy="838080"/>
          </a:xfrm>
        </p:grpSpPr>
        <p:sp>
          <p:nvSpPr>
            <p:cNvPr id="440" name=""/>
            <p:cNvSpPr/>
            <p:nvPr/>
          </p:nvSpPr>
          <p:spPr>
            <a:xfrm>
              <a:off x="434340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89548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286000" y="1828800"/>
            <a:ext cx="4114800" cy="1067400"/>
            <a:chOff x="2286000" y="1828800"/>
            <a:chExt cx="4114800" cy="1067400"/>
          </a:xfrm>
        </p:grpSpPr>
        <p:sp>
          <p:nvSpPr>
            <p:cNvPr id="443" name=""/>
            <p:cNvSpPr/>
            <p:nvPr/>
          </p:nvSpPr>
          <p:spPr>
            <a:xfrm>
              <a:off x="373392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2860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3DCF-D6A8-405C-8B78-9FD791F337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1: circletest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4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95120" y="2819520"/>
            <a:ext cx="4115160" cy="838080"/>
            <a:chOff x="2895120" y="2819520"/>
            <a:chExt cx="4115160" cy="838080"/>
          </a:xfrm>
        </p:grpSpPr>
        <p:sp>
          <p:nvSpPr>
            <p:cNvPr id="448" name=""/>
            <p:cNvSpPr/>
            <p:nvPr/>
          </p:nvSpPr>
          <p:spPr>
            <a:xfrm>
              <a:off x="434304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89512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24280" y="3484440"/>
            <a:ext cx="4114800" cy="1163880"/>
            <a:chOff x="4724280" y="3484440"/>
            <a:chExt cx="4114800" cy="1163880"/>
          </a:xfrm>
        </p:grpSpPr>
        <p:sp>
          <p:nvSpPr>
            <p:cNvPr id="451" name=""/>
            <p:cNvSpPr/>
            <p:nvPr/>
          </p:nvSpPr>
          <p:spPr>
            <a:xfrm>
              <a:off x="61722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get functions to access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7242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876920" y="3637080"/>
              <a:ext cx="1295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76920" y="4038480"/>
            <a:ext cx="3962160" cy="838440"/>
            <a:chOff x="4876920" y="4038480"/>
            <a:chExt cx="3962160" cy="838440"/>
          </a:xfrm>
        </p:grpSpPr>
        <p:sp>
          <p:nvSpPr>
            <p:cNvPr id="455" name=""/>
            <p:cNvSpPr/>
            <p:nvPr/>
          </p:nvSpPr>
          <p:spPr>
            <a:xfrm>
              <a:off x="61722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876920" y="41911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E808-215C-4818-A8DF-3D0FFC036DE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circ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361960" y="304560"/>
            <a:ext cx="4724640" cy="1055880"/>
            <a:chOff x="2361960" y="304560"/>
            <a:chExt cx="4724640" cy="1055880"/>
          </a:xfrm>
        </p:grpSpPr>
        <p:sp>
          <p:nvSpPr>
            <p:cNvPr id="460" name=""/>
            <p:cNvSpPr/>
            <p:nvPr/>
          </p:nvSpPr>
          <p:spPr>
            <a:xfrm>
              <a:off x="4419720" y="536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set functions to modif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361960" y="304560"/>
              <a:ext cx="2057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2361960" y="53640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123720" y="730080"/>
            <a:ext cx="3962880" cy="1087560"/>
            <a:chOff x="3123720" y="730080"/>
            <a:chExt cx="3962880" cy="1087560"/>
          </a:xfrm>
        </p:grpSpPr>
        <p:sp>
          <p:nvSpPr>
            <p:cNvPr id="464" name=""/>
            <p:cNvSpPr/>
            <p:nvPr/>
          </p:nvSpPr>
          <p:spPr>
            <a:xfrm>
              <a:off x="441972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function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3123720" y="730080"/>
              <a:ext cx="12956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2717-4418-4A57-8115-92A99B84ED7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is 56.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5A12-FDFE-4C07-B258-DA7AA22B716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Three-Level Inheritance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level point/circle/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1651-B3DF-42DE-B949-C80E6258384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es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f one class “is an” object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Rectangle is quadrilat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typically represents larger set of objects than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s, trucks, boats, bicycl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, more-specific subset of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C9C7-D6C1-4F69-B3AB-EEF920FD38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2: cylinder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4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heigh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057400" y="838080"/>
            <a:ext cx="4114800" cy="838440"/>
            <a:chOff x="2057400" y="838080"/>
            <a:chExt cx="4114800" cy="838440"/>
          </a:xfrm>
        </p:grpSpPr>
        <p:sp>
          <p:nvSpPr>
            <p:cNvPr id="473" name=""/>
            <p:cNvSpPr/>
            <p:nvPr/>
          </p:nvSpPr>
          <p:spPr>
            <a:xfrm>
              <a:off x="350532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05740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133360" y="4267080"/>
            <a:ext cx="4115160" cy="838080"/>
            <a:chOff x="2133360" y="4267080"/>
            <a:chExt cx="4115160" cy="838080"/>
          </a:xfrm>
        </p:grpSpPr>
        <p:sp>
          <p:nvSpPr>
            <p:cNvPr id="476" name=""/>
            <p:cNvSpPr/>
            <p:nvPr/>
          </p:nvSpPr>
          <p:spPr>
            <a:xfrm>
              <a:off x="3581280" y="4267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e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133360" y="44193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624A-E8F1-4CF7-8E2A-C0926F332D1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990720"/>
            <a:ext cx="7010280" cy="3962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3: cylinder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: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: Circle4( xValue, yValue, radiusValu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eight( heightValu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ylinder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895480" y="2739960"/>
            <a:ext cx="4114800" cy="838440"/>
            <a:chOff x="2895480" y="2739960"/>
            <a:chExt cx="4114800" cy="838440"/>
          </a:xfrm>
        </p:grpSpPr>
        <p:sp>
          <p:nvSpPr>
            <p:cNvPr id="482" name=""/>
            <p:cNvSpPr/>
            <p:nvPr/>
          </p:nvSpPr>
          <p:spPr>
            <a:xfrm>
              <a:off x="4343400" y="27399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initializer syntax passes arguments to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95480" y="2892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A75D-9774-4FB3-B6D2-6658160E3B2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ight = ( height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define Circle4 function getArea to calculate Cylinder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ircle4::getArea()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ircumference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657240" y="2743200"/>
            <a:ext cx="4115160" cy="1067400"/>
            <a:chOff x="3657240" y="2743200"/>
            <a:chExt cx="4115160" cy="1067400"/>
          </a:xfrm>
        </p:grpSpPr>
        <p:sp>
          <p:nvSpPr>
            <p:cNvPr id="487" name=""/>
            <p:cNvSpPr/>
            <p:nvPr/>
          </p:nvSpPr>
          <p:spPr>
            <a:xfrm>
              <a:off x="5105160" y="274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rface are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65724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66880" y="3048120"/>
            <a:ext cx="4114800" cy="1067400"/>
            <a:chOff x="2666880" y="3048120"/>
            <a:chExt cx="4114800" cy="1067400"/>
          </a:xfrm>
        </p:grpSpPr>
        <p:sp>
          <p:nvSpPr>
            <p:cNvPr id="490" name=""/>
            <p:cNvSpPr/>
            <p:nvPr/>
          </p:nvSpPr>
          <p:spPr>
            <a:xfrm>
              <a:off x="4114800" y="3048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666880" y="320004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4F61-1EB4-40F5-8011-044D167FD50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ylinder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Area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::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Heigh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00400" y="1295280"/>
            <a:ext cx="4114800" cy="838080"/>
            <a:chOff x="3200400" y="1295280"/>
            <a:chExt cx="4114800" cy="838080"/>
          </a:xfrm>
        </p:grpSpPr>
        <p:sp>
          <p:nvSpPr>
            <p:cNvPr id="495" name=""/>
            <p:cNvSpPr/>
            <p:nvPr/>
          </p:nvSpPr>
          <p:spPr>
            <a:xfrm>
              <a:off x="464832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200400" y="1447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362320" y="1593720"/>
            <a:ext cx="4114800" cy="1067400"/>
            <a:chOff x="2362320" y="1593720"/>
            <a:chExt cx="4114800" cy="1067400"/>
          </a:xfrm>
        </p:grpSpPr>
        <p:sp>
          <p:nvSpPr>
            <p:cNvPr id="498" name=""/>
            <p:cNvSpPr/>
            <p:nvPr/>
          </p:nvSpPr>
          <p:spPr>
            <a:xfrm>
              <a:off x="3810240" y="15937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2320" y="174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209320" y="216000"/>
            <a:ext cx="4800960" cy="1067400"/>
            <a:chOff x="2209320" y="216000"/>
            <a:chExt cx="4800960" cy="1067400"/>
          </a:xfrm>
        </p:grpSpPr>
        <p:sp>
          <p:nvSpPr>
            <p:cNvPr id="501" name=""/>
            <p:cNvSpPr/>
            <p:nvPr/>
          </p:nvSpPr>
          <p:spPr>
            <a:xfrm>
              <a:off x="4343400" y="216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09320" y="368280"/>
              <a:ext cx="213372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24F7-E5C5-4F9E-98FE-EF07610E7A4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4: cylinder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ylin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tantiate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 cyli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Radiu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eigh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876560" y="3809880"/>
            <a:ext cx="4115160" cy="990720"/>
            <a:chOff x="4876560" y="3809880"/>
            <a:chExt cx="4115160" cy="990720"/>
          </a:xfrm>
        </p:grpSpPr>
        <p:sp>
          <p:nvSpPr>
            <p:cNvPr id="506" name=""/>
            <p:cNvSpPr/>
            <p:nvPr/>
          </p:nvSpPr>
          <p:spPr>
            <a:xfrm>
              <a:off x="6324480" y="3809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in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876560" y="3962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029200" y="396252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911840" y="4267080"/>
            <a:ext cx="4079880" cy="838440"/>
            <a:chOff x="4911840" y="4267080"/>
            <a:chExt cx="4079880" cy="838440"/>
          </a:xfrm>
        </p:grpSpPr>
        <p:sp>
          <p:nvSpPr>
            <p:cNvPr id="510" name=""/>
            <p:cNvSpPr/>
            <p:nvPr/>
          </p:nvSpPr>
          <p:spPr>
            <a:xfrm>
              <a:off x="6324480" y="4267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911840" y="4419720"/>
              <a:ext cx="141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063760" y="4419720"/>
            <a:ext cx="3927960" cy="838080"/>
            <a:chOff x="5063760" y="4419720"/>
            <a:chExt cx="3927960" cy="838080"/>
          </a:xfrm>
        </p:grpSpPr>
        <p:sp>
          <p:nvSpPr>
            <p:cNvPr id="513" name=""/>
            <p:cNvSpPr/>
            <p:nvPr/>
          </p:nvSpPr>
          <p:spPr>
            <a:xfrm>
              <a:off x="6324480" y="4419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063760" y="4648320"/>
              <a:ext cx="126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CF92-EFF4-471C-81F0-9CA8E431FBC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Heigh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eigh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cylind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ylinder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514600" y="342720"/>
            <a:ext cx="4495680" cy="581040"/>
            <a:chOff x="2514600" y="342720"/>
            <a:chExt cx="4495680" cy="581040"/>
          </a:xfrm>
        </p:grpSpPr>
        <p:sp>
          <p:nvSpPr>
            <p:cNvPr id="518" name=""/>
            <p:cNvSpPr/>
            <p:nvPr/>
          </p:nvSpPr>
          <p:spPr>
            <a:xfrm>
              <a:off x="4343400" y="343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in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2514600" y="34272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514600" y="4953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276360" y="761760"/>
            <a:ext cx="3733920" cy="581040"/>
            <a:chOff x="3276360" y="761760"/>
            <a:chExt cx="3733920" cy="581040"/>
          </a:xfrm>
        </p:grpSpPr>
        <p:sp>
          <p:nvSpPr>
            <p:cNvPr id="522" name=""/>
            <p:cNvSpPr/>
            <p:nvPr/>
          </p:nvSpPr>
          <p:spPr>
            <a:xfrm>
              <a:off x="4343400" y="762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3276360" y="76176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082680" y="914400"/>
            <a:ext cx="3927600" cy="732960"/>
            <a:chOff x="3082680" y="914400"/>
            <a:chExt cx="3927600" cy="732960"/>
          </a:xfrm>
        </p:grpSpPr>
        <p:sp>
          <p:nvSpPr>
            <p:cNvPr id="525" name=""/>
            <p:cNvSpPr/>
            <p:nvPr/>
          </p:nvSpPr>
          <p:spPr>
            <a:xfrm>
              <a:off x="43434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3082680" y="914400"/>
              <a:ext cx="126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379240" y="1809720"/>
            <a:ext cx="3927600" cy="732960"/>
            <a:chOff x="2379240" y="1809720"/>
            <a:chExt cx="3927600" cy="732960"/>
          </a:xfrm>
        </p:grpSpPr>
        <p:sp>
          <p:nvSpPr>
            <p:cNvPr id="528" name=""/>
            <p:cNvSpPr/>
            <p:nvPr/>
          </p:nvSpPr>
          <p:spPr>
            <a:xfrm>
              <a:off x="3639960" y="1962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redefin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379240" y="1809720"/>
              <a:ext cx="126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23920" y="4647960"/>
            <a:ext cx="3927600" cy="732960"/>
            <a:chOff x="4723920" y="4647960"/>
            <a:chExt cx="3927600" cy="732960"/>
          </a:xfrm>
        </p:grpSpPr>
        <p:sp>
          <p:nvSpPr>
            <p:cNvPr id="531" name=""/>
            <p:cNvSpPr/>
            <p:nvPr/>
          </p:nvSpPr>
          <p:spPr>
            <a:xfrm>
              <a:off x="5984640" y="4800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redefin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723920" y="4647960"/>
              <a:ext cx="126036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A5D3-D1D2-4A3B-82E6-B1D5952D5BF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1295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; Height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is 567.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5F99-9CCB-4F48-BA9A-F119D03CCFE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ng derived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of con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 invokes base clas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or ex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of inheritance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constructor called in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nstructor body to finish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or calle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or body finishes execution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ing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ase-class constructor initializes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by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45E3-4FC8-44ED-9A38-EA16F4953AB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derived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of de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order of constructor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 of derived-class called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 of next base class up hierarchy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up hierarchy until final bas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final base-class destructor, object removed fro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955C-3296-464E-8B9E-E6CCE34045E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-class constructors, destructors, assign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constructors, assignment operators ca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5CB6-AB15-46E1-BE21-FAEBBE9E9D5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057400"/>
          <a:ext cx="7010640" cy="38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0106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2CD5-A812-43A3-BAB7-BF113A078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5: point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Point4(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114440" y="1054080"/>
            <a:ext cx="4305600" cy="1231920"/>
            <a:chOff x="4114440" y="1054080"/>
            <a:chExt cx="4305600" cy="1231920"/>
          </a:xfrm>
        </p:grpSpPr>
        <p:sp>
          <p:nvSpPr>
            <p:cNvPr id="545" name=""/>
            <p:cNvSpPr/>
            <p:nvPr/>
          </p:nvSpPr>
          <p:spPr>
            <a:xfrm>
              <a:off x="5753160" y="105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output messages to demonstrate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305240" y="12063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114440" y="1206360"/>
              <a:ext cx="1638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6361-13E0-4550-B937-2B1066B2AC0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6: point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::Point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4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::~Point4()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 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551" name=""/>
            <p:cNvSpPr/>
            <p:nvPr/>
          </p:nvSpPr>
          <p:spPr>
            <a:xfrm>
              <a:off x="4343400" y="2133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con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895480" y="4114800"/>
            <a:ext cx="4114800" cy="838080"/>
            <a:chOff x="2895480" y="4114800"/>
            <a:chExt cx="4114800" cy="838080"/>
          </a:xfrm>
        </p:grpSpPr>
        <p:sp>
          <p:nvSpPr>
            <p:cNvPr id="554" name=""/>
            <p:cNvSpPr/>
            <p:nvPr/>
          </p:nvSpPr>
          <p:spPr>
            <a:xfrm>
              <a:off x="4343400" y="4114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de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895480" y="426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D25C-2418-44A2-AB83-950AA56BC42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4 de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75B9-2ED9-484C-AC8E-102C774E0C5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3F59-2AB1-4CFB-A576-810E9D6248F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7: circl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Circle5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5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495680" y="1892160"/>
            <a:ext cx="4114800" cy="1384560"/>
            <a:chOff x="4495680" y="1892160"/>
            <a:chExt cx="4114800" cy="1384560"/>
          </a:xfrm>
        </p:grpSpPr>
        <p:sp>
          <p:nvSpPr>
            <p:cNvPr id="563" name=""/>
            <p:cNvSpPr/>
            <p:nvPr/>
          </p:nvSpPr>
          <p:spPr>
            <a:xfrm>
              <a:off x="5943600" y="1892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output messages to demonstrate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495680" y="204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648320" y="2044800"/>
              <a:ext cx="129528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6683-FF0D-4928-9D5D-A1ED4640CC3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5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770B-924E-4F3F-A8AF-040DABC0873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8: circle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::Circle5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4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5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95480" y="2552760"/>
            <a:ext cx="4114800" cy="838080"/>
            <a:chOff x="2895480" y="2552760"/>
            <a:chExt cx="4114800" cy="838080"/>
          </a:xfrm>
        </p:grpSpPr>
        <p:sp>
          <p:nvSpPr>
            <p:cNvPr id="571" name=""/>
            <p:cNvSpPr/>
            <p:nvPr/>
          </p:nvSpPr>
          <p:spPr>
            <a:xfrm>
              <a:off x="4343400" y="25527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con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895480" y="27050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6BB2-5327-4323-B6F0-18AAE93BFD6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::~Circle5(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 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5 de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95480" y="1066320"/>
            <a:ext cx="4114800" cy="977040"/>
            <a:chOff x="2895480" y="1066320"/>
            <a:chExt cx="4114800" cy="977040"/>
          </a:xfrm>
        </p:grpSpPr>
        <p:sp>
          <p:nvSpPr>
            <p:cNvPr id="576" name=""/>
            <p:cNvSpPr/>
            <p:nvPr/>
          </p:nvSpPr>
          <p:spPr>
            <a:xfrm>
              <a:off x="4343400" y="1219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de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895480" y="106632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5B02-4039-4528-8CBE-BD29A7EBCEE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4063-55E6-41E8-88ED-94A8627ED6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5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4::prin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4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153C-2B40-403C-BF6A-DE0C435963E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relationships: tree-like hierarchy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class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 data/behaviors to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 data/behaviors from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F706-3020-422D-A8D0-A50B1DFBE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9: fig09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rder in which base-class and derived-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s are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5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scop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4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cop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 circl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 circle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514600" y="2327400"/>
            <a:ext cx="4114800" cy="838080"/>
            <a:chOff x="2514600" y="2327400"/>
            <a:chExt cx="4114800" cy="838080"/>
          </a:xfrm>
        </p:grpSpPr>
        <p:sp>
          <p:nvSpPr>
            <p:cNvPr id="585" name=""/>
            <p:cNvSpPr/>
            <p:nvPr/>
          </p:nvSpPr>
          <p:spPr>
            <a:xfrm>
              <a:off x="3962520" y="232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goes in and out of scope immediat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14600" y="247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514600" y="3484440"/>
            <a:ext cx="4114800" cy="1544760"/>
            <a:chOff x="2514600" y="3484440"/>
            <a:chExt cx="4114800" cy="1544760"/>
          </a:xfrm>
        </p:grpSpPr>
        <p:sp>
          <p:nvSpPr>
            <p:cNvPr id="588" name=""/>
            <p:cNvSpPr/>
            <p:nvPr/>
          </p:nvSpPr>
          <p:spPr>
            <a:xfrm>
              <a:off x="3962520" y="34844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demonstrate order of derived-class and base-class constructor/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5146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14600" y="3637080"/>
              <a:ext cx="1447920" cy="13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0576-BC50-47E6-8AA4-B764856FB72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066680"/>
            <a:ext cx="7010280" cy="312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de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constructor: Center = [72, 29]; Radius =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constructor: Center = [5, 5]; Radius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destructor: Center = [5, 5]; Radius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de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destructor: Center = [72, 29]; Radius =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4 destructor: [72, 29]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895120" y="492120"/>
            <a:ext cx="4115160" cy="1079640"/>
            <a:chOff x="2895120" y="492120"/>
            <a:chExt cx="4115160" cy="1079640"/>
          </a:xfrm>
        </p:grpSpPr>
        <p:sp>
          <p:nvSpPr>
            <p:cNvPr id="595" name=""/>
            <p:cNvSpPr/>
            <p:nvPr/>
          </p:nvSpPr>
          <p:spPr>
            <a:xfrm>
              <a:off x="4343040" y="49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called for object in block; destructor called immediately as execution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895120" y="64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895120" y="644400"/>
              <a:ext cx="144756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95120" y="1143000"/>
            <a:ext cx="4115160" cy="1067400"/>
            <a:chOff x="2895120" y="1143000"/>
            <a:chExt cx="4115160" cy="1067400"/>
          </a:xfrm>
        </p:grpSpPr>
        <p:sp>
          <p:nvSpPr>
            <p:cNvPr id="599" name=""/>
            <p:cNvSpPr/>
            <p:nvPr/>
          </p:nvSpPr>
          <p:spPr>
            <a:xfrm>
              <a:off x="4343040" y="1143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executes first when instantiating 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9512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895120" y="1295280"/>
            <a:ext cx="4115160" cy="1310760"/>
            <a:chOff x="2895120" y="1295280"/>
            <a:chExt cx="4115160" cy="1310760"/>
          </a:xfrm>
        </p:grpSpPr>
        <p:sp>
          <p:nvSpPr>
            <p:cNvPr id="602" name=""/>
            <p:cNvSpPr/>
            <p:nvPr/>
          </p:nvSpPr>
          <p:spPr>
            <a:xfrm>
              <a:off x="4343040" y="12952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body executes after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constructor finishes execu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8951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895120" y="1752480"/>
            <a:ext cx="4115160" cy="1067400"/>
            <a:chOff x="2895120" y="1752480"/>
            <a:chExt cx="4115160" cy="1067400"/>
          </a:xfrm>
        </p:grpSpPr>
        <p:sp>
          <p:nvSpPr>
            <p:cNvPr id="605" name=""/>
            <p:cNvSpPr/>
            <p:nvPr/>
          </p:nvSpPr>
          <p:spPr>
            <a:xfrm>
              <a:off x="4343040" y="1752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executes first when instantiating 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895120" y="1904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95120" y="1905120"/>
            <a:ext cx="4115160" cy="1310760"/>
            <a:chOff x="2895120" y="1905120"/>
            <a:chExt cx="4115160" cy="1310760"/>
          </a:xfrm>
        </p:grpSpPr>
        <p:sp>
          <p:nvSpPr>
            <p:cNvPr id="608" name=""/>
            <p:cNvSpPr/>
            <p:nvPr/>
          </p:nvSpPr>
          <p:spPr>
            <a:xfrm>
              <a:off x="4343040" y="1905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body executes after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constructor finishes execu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895120" y="2057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895480" y="2362320"/>
            <a:ext cx="4114800" cy="1143000"/>
            <a:chOff x="2895480" y="2362320"/>
            <a:chExt cx="4114800" cy="1143000"/>
          </a:xfrm>
        </p:grpSpPr>
        <p:sp>
          <p:nvSpPr>
            <p:cNvPr id="611" name=""/>
            <p:cNvSpPr/>
            <p:nvPr/>
          </p:nvSpPr>
          <p:spPr>
            <a:xfrm>
              <a:off x="434340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895480" y="25146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95480" y="2819520"/>
            <a:ext cx="4114800" cy="1143000"/>
            <a:chOff x="2895480" y="2819520"/>
            <a:chExt cx="4114800" cy="1143000"/>
          </a:xfrm>
        </p:grpSpPr>
        <p:sp>
          <p:nvSpPr>
            <p:cNvPr id="615" name=""/>
            <p:cNvSpPr/>
            <p:nvPr/>
          </p:nvSpPr>
          <p:spPr>
            <a:xfrm>
              <a:off x="43434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8954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895480" y="29718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D74E-DFBC-497F-806D-716753E7C1B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uses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pointer, reference or objec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(assoc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aware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pointer handle or reference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ledge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C23B-3A21-4D35-83EA-902E733E6C7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ublic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tect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6320" y="1523880"/>
          <a:ext cx="8762760" cy="47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3880"/>
                    <a:ext cx="876276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FAAE-0273-4717-A7ED-56A55ECAAA0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9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ing exist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additiona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efine base-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irect access to base class’s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to objec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pendent software vendors (ISV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proprietary code for sale/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in object-cod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derive new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accessing ISV proprietary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2DE5-AD11-4F38-B2F5-B7E1752837F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57200" y="1676520"/>
            <a:ext cx="7315200" cy="4316040"/>
            <a:chOff x="457200" y="1676520"/>
            <a:chExt cx="7315200" cy="4316040"/>
          </a:xfrm>
        </p:grpSpPr>
        <p:sp>
          <p:nvSpPr>
            <p:cNvPr id="106" name=""/>
            <p:cNvSpPr/>
            <p:nvPr/>
          </p:nvSpPr>
          <p:spPr>
            <a:xfrm>
              <a:off x="3457440" y="1676520"/>
              <a:ext cx="200052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7" y="0"/>
                  </a:moveTo>
                  <a:lnTo>
                    <a:pt x="1998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8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5360" y="275472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11440" y="2754720"/>
              <a:ext cx="112860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6680" y="369756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0680" y="464040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4640400"/>
              <a:ext cx="17445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0720" y="5583600"/>
              <a:ext cx="271764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19991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1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580080" y="2641680"/>
              <a:ext cx="1192320" cy="506520"/>
              <a:chOff x="6580080" y="2641680"/>
              <a:chExt cx="1192320" cy="506520"/>
            </a:xfrm>
          </p:grpSpPr>
          <p:sp>
            <p:nvSpPr>
              <p:cNvPr id="114" name=""/>
              <p:cNvSpPr/>
              <p:nvPr/>
            </p:nvSpPr>
            <p:spPr>
              <a:xfrm>
                <a:off x="6580080" y="2641680"/>
                <a:ext cx="1192320" cy="49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02480" y="2641680"/>
                <a:ext cx="169560" cy="131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5560" y="2721240"/>
                <a:ext cx="981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457440" y="1743480"/>
              <a:ext cx="20005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ommunityMe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0000" y="2848320"/>
              <a:ext cx="1130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94120" y="2754720"/>
              <a:ext cx="112572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2680" y="2848320"/>
              <a:ext cx="1127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4734000"/>
              <a:ext cx="17445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dminist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8880" y="4734000"/>
              <a:ext cx="112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e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0600" y="5677200"/>
              <a:ext cx="2719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dministratorTe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3440" y="3791160"/>
              <a:ext cx="11304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6200" y="369756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16200" y="3791160"/>
              <a:ext cx="1127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Facul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27400" y="1990800"/>
              <a:ext cx="2460600" cy="763920"/>
              <a:chOff x="3227400" y="1990800"/>
              <a:chExt cx="2460600" cy="763920"/>
            </a:xfrm>
          </p:grpSpPr>
          <p:sp>
            <p:nvSpPr>
              <p:cNvPr id="128" name=""/>
              <p:cNvSpPr/>
              <p:nvPr/>
            </p:nvSpPr>
            <p:spPr>
              <a:xfrm>
                <a:off x="4456440" y="1990800"/>
                <a:ext cx="108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27400" y="1990800"/>
                <a:ext cx="66636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22000" y="1990800"/>
                <a:ext cx="66600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581200" y="3069000"/>
              <a:ext cx="1189080" cy="628560"/>
              <a:chOff x="2581200" y="3069000"/>
              <a:chExt cx="1189080" cy="628560"/>
            </a:xfrm>
          </p:grpSpPr>
          <p:sp>
            <p:nvSpPr>
              <p:cNvPr id="132" name=""/>
              <p:cNvSpPr/>
              <p:nvPr/>
            </p:nvSpPr>
            <p:spPr>
              <a:xfrm>
                <a:off x="3411360" y="3069000"/>
                <a:ext cx="35892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64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81200" y="3069000"/>
                <a:ext cx="35856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792440" y="4011840"/>
              <a:ext cx="1187280" cy="628560"/>
              <a:chOff x="1792440" y="4011840"/>
              <a:chExt cx="1187280" cy="628560"/>
            </a:xfrm>
          </p:grpSpPr>
          <p:sp>
            <p:nvSpPr>
              <p:cNvPr id="135" name=""/>
              <p:cNvSpPr/>
              <p:nvPr/>
            </p:nvSpPr>
            <p:spPr>
              <a:xfrm>
                <a:off x="2621880" y="4011840"/>
                <a:ext cx="35784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64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2440" y="4011840"/>
                <a:ext cx="35784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85960" y="4954680"/>
              <a:ext cx="1189080" cy="628920"/>
              <a:chOff x="1785960" y="4954680"/>
              <a:chExt cx="1189080" cy="628920"/>
            </a:xfrm>
          </p:grpSpPr>
          <p:sp>
            <p:nvSpPr>
              <p:cNvPr id="138" name=""/>
              <p:cNvSpPr/>
              <p:nvPr/>
            </p:nvSpPr>
            <p:spPr>
              <a:xfrm>
                <a:off x="2616120" y="4954680"/>
                <a:ext cx="358920" cy="628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0"/>
                    </a:moveTo>
                    <a:lnTo>
                      <a:pt x="0" y="19964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5960" y="4954680"/>
                <a:ext cx="358560" cy="628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29" y="19964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172120" y="2848320"/>
              <a:ext cx="11304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lum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827600" y="3581640"/>
              <a:ext cx="1192320" cy="506520"/>
              <a:chOff x="4827600" y="3581640"/>
              <a:chExt cx="1192320" cy="506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27600" y="3581640"/>
                <a:ext cx="1192320" cy="49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50000" y="3581640"/>
                <a:ext cx="169560" cy="131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33080" y="3661200"/>
                <a:ext cx="981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989520" y="4572360"/>
              <a:ext cx="1191960" cy="505800"/>
              <a:chOff x="3989520" y="4572360"/>
              <a:chExt cx="1191960" cy="505800"/>
            </a:xfrm>
          </p:grpSpPr>
          <p:sp>
            <p:nvSpPr>
              <p:cNvPr id="146" name=""/>
              <p:cNvSpPr/>
              <p:nvPr/>
            </p:nvSpPr>
            <p:spPr>
              <a:xfrm>
                <a:off x="3989520" y="4572360"/>
                <a:ext cx="1191960" cy="493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11560" y="4572360"/>
                <a:ext cx="169560" cy="131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95000" y="4651560"/>
                <a:ext cx="9810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989520" y="5486760"/>
              <a:ext cx="1191960" cy="505800"/>
              <a:chOff x="3989520" y="5486760"/>
              <a:chExt cx="1191960" cy="505800"/>
            </a:xfrm>
          </p:grpSpPr>
          <p:sp>
            <p:nvSpPr>
              <p:cNvPr id="150" name=""/>
              <p:cNvSpPr/>
              <p:nvPr/>
            </p:nvSpPr>
            <p:spPr>
              <a:xfrm>
                <a:off x="3989520" y="5486760"/>
                <a:ext cx="1191960" cy="493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11560" y="5486760"/>
                <a:ext cx="169560" cy="131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95000" y="5565960"/>
                <a:ext cx="9810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ultiple </a:t>
                </a: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696960" y="1157400"/>
            <a:ext cx="59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. 9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for univers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unityMe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3FD9-766B-4790-AE90-6B650889D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20:19:09Z</dcterms:created>
  <dc:creator>Audrey Lee</dc:creator>
  <dc:description/>
  <dc:language>en-US</dc:language>
  <cp:lastModifiedBy>Pearson Education</cp:lastModifiedBy>
  <dcterms:modified xsi:type="dcterms:W3CDTF">2002-08-12T15:10:31Z</dcterms:modified>
  <cp:revision>97</cp:revision>
  <dc:subject/>
  <dc:title>PowerPoint Presentation</dc:title>
</cp:coreProperties>
</file>