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98DA-6F43-45A6-9563-876C871BD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AF37-08A0-44B8-AFBC-715CF99F5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14EC-42B3-426C-A8D0-8E06BE8C9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92ED-1A0F-4EA1-B7B4-148B56BD5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8F9A-5DF0-4BFE-A078-653579DA7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BD91-1AD7-4502-B956-0B86646966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C3DB-590E-497F-85A7-EAA377662B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6C87-95D3-4A04-921D-584B2344B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8EEC-E847-4881-8721-8ADD81BE8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AC80-9362-4685-BF80-430EF8034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109D-BC3D-430B-BC90-6F430097E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7626-BACD-4B8D-85E1-991C8AFE8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098D-1E28-43DE-A233-A683A9446F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6AFB-8D8C-4529-AF9C-FC5D67F15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06F4-80F9-4952-8148-C2AA3EEED3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07F3-9035-4F8C-8EE5-83AB5D145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2AB2-D6E9-4B98-B6AD-15C7700D35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956F-29E0-486F-AC0E-342F0BD06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A516-19DD-4776-8A2F-F71D816F3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58E2-FC7C-4593-A687-A881AB1D3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A18D-7F31-4581-825A-A1D11C2B9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04AB-F424-4A48-8385-053F8918D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A983-5DEC-49A2-985F-9A3E2786F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568B-52D1-49E4-A116-F5D3C8632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7D1-7943-43AD-89BD-3C15A327A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B7F6-4B76-4A62-91B7-93C0709B8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6 - Web Programming with CG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HTTP Request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-Ti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ccessing Web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pache HTT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questing XHTML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HTTP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CGI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nding Input to a CGI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Using XHTML Forms to Sen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Other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ase Study: An Interactive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ok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rver-Sid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ase Study: Shopping 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E8A6-847A-4A6D-83C6-0DF3A5175A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CG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Gateway Interface (CG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applications to interact with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ly interact with clients/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ke decision based on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generated when page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Web p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s before request made (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o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pecific to any operating system or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C, C++, Perl, Python, Visual Bas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5819-EF6D-4242-82D8-1F9D8EE70B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vailable book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center&gt;&lt;br/&gt;Books available for sale&lt;br/&gt;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out.cgi\"&gt;Sign Out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a&gt;&lt;br/&gt;&lt;br/&gt;"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\"1\" cellpadding = \"7\" 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data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boo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tring =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yea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earString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isb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String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pri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String =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DC94-710E-4684-832E-91AEDF40A87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k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sbn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ric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still open after 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form with buy button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&lt;form method=\"post\" "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=\"/cgi-bin/viewcart.cgi\"&gt;"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hidden\" name=\"add\"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true\"/&gt;"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hidden\" name=\"isbn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sbnString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/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submit\"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Buy\"/&gt;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&lt;/td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r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able&gt;&lt;/center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0331-C362-407C-976B-D38E1666F92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head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in Page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6224-28FB-4DAF-AC18-BB202BA9B9B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casestudy_6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5495760" cy="451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9C7B-A28D-41E9-A0ED-CE9F87A2F05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3: viewcar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view books in the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Boo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B931-57E0-49D0-978B-EA57391B608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stor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artData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hold contents of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oki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Enter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cookie data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Data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String = cartData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location of isbn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d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053A-D307-4589-81EE-65CFF2C4017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isbn number to add to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Entered = dataString.substr( isbn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Location = cookie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okie exists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= cookieString.substr( cart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cookie data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= isbnEnter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okie data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Enter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oki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expires=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352680" y="3048120"/>
            <a:ext cx="4114800" cy="838080"/>
            <a:chOff x="3352680" y="3048120"/>
            <a:chExt cx="4114800" cy="838080"/>
          </a:xfrm>
        </p:grpSpPr>
        <p:sp>
          <p:nvSpPr>
            <p:cNvPr id="439" name=""/>
            <p:cNvSpPr/>
            <p:nvPr/>
          </p:nvSpPr>
          <p:spPr>
            <a:xfrm>
              <a:off x="4800600" y="3048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to old cook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3526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0469-99DC-4C0E-9B9E-04841223FB6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Shopping Cart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&lt;cente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Here is your current order: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okie data exists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tring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Books( cookieString, isbnEnter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34C9-3932-4EE2-9B9C-F24D885632A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books in catalog.t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Boo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cookieRef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isbn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book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yea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ric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open file fo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DBF8-9744-4BF1-9E3C-83C951F5E84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k to log out and table to display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out.cgi\"&gt;Sign 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a&gt;&lt;br&gt;&lt;b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1 cellpadding = 7 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book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boo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tring =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yea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yea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earString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isb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String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pri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String =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0D69-8945-42E7-B5A9-5D82CB80740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basic understanding of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methods and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server/client to interact in uniform, predictabl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st form, XHT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in text file, has markings (markup) to describ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My Web Page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ext between markup elements is title of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user clicks, Web browser loads new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F66C-5CF0-4057-AE83-7E355EA50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ch = cookieRef.find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 has been m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ch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isbnRef == isbnStr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table row with book informatio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"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=\"post\""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=\"/cgi-bin/viewcart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book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year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isbn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priceString &lt;&lt; "&lt;/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&lt;/t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link to add more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Back to book list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BF9A-5965-4C26-9A8A-B5D1B102A10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casestudy_8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1722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EA0D-4992-4616-B241-3BDF0021E30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4: logou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log out of the syst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th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057400" y="3581280"/>
            <a:ext cx="4114800" cy="838440"/>
            <a:chOff x="2057400" y="3581280"/>
            <a:chExt cx="4114800" cy="838440"/>
          </a:xfrm>
        </p:grpSpPr>
        <p:sp>
          <p:nvSpPr>
            <p:cNvPr id="454" name=""/>
            <p:cNvSpPr/>
            <p:nvPr/>
          </p:nvSpPr>
          <p:spPr>
            <a:xfrm>
              <a:off x="350532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rase previous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0574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6E1A-40A6-44CF-9791-5F1BF6DA648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ged Out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center&gt;&lt;p&gt;You are now logged out&lt;b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will be billed accordingly&lt;b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login again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click here&lt;/a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4928-1948-4735-8139-BEE9CF7871B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ontaining expiration date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pi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rite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0" name="casestudy_7" descr=""/>
          <p:cNvPicPr/>
          <p:nvPr/>
        </p:nvPicPr>
        <p:blipFill>
          <a:blip r:embed="rId1"/>
          <a:stretch/>
        </p:blipFill>
        <p:spPr>
          <a:xfrm>
            <a:off x="1600200" y="3247920"/>
            <a:ext cx="3448080" cy="21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EBC2-57D3-4D13-88B7-C751D278358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deitel.com/books/download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HTT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name of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books/downloads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resour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loads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a virtual directory, hides real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5CFB-F7FB-450A-A4C0-E8013D9DBC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1: Send HTTP request to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books/downloads/html HTTP/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: www.dei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is HTTP method (client wants to get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nd path of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name and vers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line of response c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404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DD39-660F-4C9B-9113-E362E4B12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esponse 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headers (info about data being 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E types used by browser to proce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/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/p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blank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end of HTTP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, contents of document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interprets XHTML, displays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EE6F-877C-49A7-B702-A561FCF995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ing a page 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current time or wea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ually editing is tedi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write C++ program easi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to output current time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_t currentTime;    // time_t defined in &lt;c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( &amp;currentTime );  // asctime and localtime defined in &lt;c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asctime( localtime( &amp;currentTime ) 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pointer to "broken-down"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s, seconds, minutes sepa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ts "broken-down" time into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ed Jul 31 13:10:37 200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FAA6-317D-47AF-8D4C-A2881B4C23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need to output to Web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CGI, redirect output to Web server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goes to client's 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standar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++ program executed as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redirected to client 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++ executabl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gi-b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d extension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un scri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cgi-bin/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C332-B688-4136-A861-1AD054D40B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5: localtim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the current date and time in a Web brows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_t currentTim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for storing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&amp;currentTim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time in curren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38280" y="2362320"/>
            <a:ext cx="4114800" cy="1067400"/>
            <a:chOff x="2438280" y="2362320"/>
            <a:chExt cx="4114800" cy="1067400"/>
          </a:xfrm>
        </p:grpSpPr>
        <p:sp>
          <p:nvSpPr>
            <p:cNvPr id="166" name=""/>
            <p:cNvSpPr/>
            <p:nvPr/>
          </p:nvSpPr>
          <p:spPr>
            <a:xfrm>
              <a:off x="38862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st of program creates the text HTTP response, containing the contents of the XHTM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4382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2621-10D6-4B65-9AE0-6216E80777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urrent date and time&lt;/title&gt;&lt;/head&gt;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sctime( localtime( &amp;currentTime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0" name="localtime" descr=""/>
          <p:cNvPicPr/>
          <p:nvPr/>
        </p:nvPicPr>
        <p:blipFill>
          <a:blip r:embed="rId1"/>
          <a:stretch/>
        </p:blipFill>
        <p:spPr>
          <a:xfrm>
            <a:off x="914400" y="2567160"/>
            <a:ext cx="4105440" cy="17236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505320" y="1066320"/>
            <a:ext cx="3124080" cy="871200"/>
            <a:chOff x="3505320" y="1066320"/>
            <a:chExt cx="3124080" cy="871200"/>
          </a:xfrm>
        </p:grpSpPr>
        <p:sp>
          <p:nvSpPr>
            <p:cNvPr id="172" name=""/>
            <p:cNvSpPr/>
            <p:nvPr/>
          </p:nvSpPr>
          <p:spPr>
            <a:xfrm>
              <a:off x="3962520" y="16002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current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505320" y="10663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6B98-4A66-44E5-AF5A-4C0B991FE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ends output to client via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reats it like a serv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header, XHTML elemen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1: Client reque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cgi-bin/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ly configured server realizes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s not to deliver it like a regular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uns scri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3: Output of script goes to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4: Server adds head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tire output to client, which processes and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5F27-E831-4F65-81AB-BAB4EEE6BE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client, provides resource (like XHTML p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HTML replacing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formation in Appendix B of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 is a request for a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 maps URL (Uniform Resource Locator)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quested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text Transfer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requests and files over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C54B-E7AC-4895-895F-A28A7E0D8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output of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time.cg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command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like in other ch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indows, change back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GI programs must ins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XHTML file, Web server add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9EB0-0D0A-4877-8481-6024CE627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g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-Type: text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http://www.w3.org/TR/xhtml1/DTD/xhtml1-transitional.dtd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 = "http://www.w3.org/1999/xhtm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urrent date and time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Mon Jul 15 13:52:45 2002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2921-C36F-4012-851C-FECEE923FE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 about client and server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document 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env( const char * variableNam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value of environm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 in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 row 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w table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 My data 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7DFE-5C5F-43AB-B997-ACFC2DB89F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8: environme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display CGI environment variab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nvironmentVariab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SPE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_RO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ATEWAY_INTER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_ENCOD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_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NN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USER_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_ADD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_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_METHO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_UR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RIPT_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RIPT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ADD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ADM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PROTOC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SIGNATU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SOFTWA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7760" y="2438280"/>
            <a:ext cx="4115160" cy="838440"/>
            <a:chOff x="3047760" y="2438280"/>
            <a:chExt cx="4115160" cy="838440"/>
          </a:xfrm>
        </p:grpSpPr>
        <p:sp>
          <p:nvSpPr>
            <p:cNvPr id="185" name=""/>
            <p:cNvSpPr/>
            <p:nvPr/>
          </p:nvSpPr>
          <p:spPr>
            <a:xfrm>
              <a:off x="4495680" y="2438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containing the various environment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047760" y="2590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2D57-0221-4178-BD60-E6554C7E9C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Environment Variable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outputting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\"0\" cellspacing = \"2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environment variables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vironmentVariables[ i ]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td&gt;"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getenv( environmentVariables[ i ].data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able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400" y="3276720"/>
            <a:ext cx="4114800" cy="838080"/>
            <a:chOff x="3200400" y="3276720"/>
            <a:chExt cx="4114800" cy="838080"/>
          </a:xfrm>
        </p:grpSpPr>
        <p:sp>
          <p:nvSpPr>
            <p:cNvPr id="190" name=""/>
            <p:cNvSpPr/>
            <p:nvPr/>
          </p:nvSpPr>
          <p:spPr>
            <a:xfrm>
              <a:off x="464832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output a C-sty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2004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F945-7890-46D2-9CDC-FB47442D6A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environment_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39936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BAA1-0AA5-4181-B3D3-D2DCF7E7A2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environment_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6399000" cy="36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C361-B482-4F89-8AFA-C58E6800A3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0  Sending Input to a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any data to CGI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vironment vari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fo appended to URL in get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mesi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m/cgi-bin/script.cgi?state=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data fo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=Califor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 delimiter (not stored in query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user entry quer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Jill&amp;age=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DC71-E0DE-480E-9AC7-6DDCFFF6C2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9: querystring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QUERY_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query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047760" y="2362320"/>
            <a:ext cx="4115160" cy="838080"/>
            <a:chOff x="3047760" y="2362320"/>
            <a:chExt cx="4115160" cy="838080"/>
          </a:xfrm>
        </p:grpSpPr>
        <p:sp>
          <p:nvSpPr>
            <p:cNvPr id="201" name=""/>
            <p:cNvSpPr/>
            <p:nvPr/>
          </p:nvSpPr>
          <p:spPr>
            <a:xfrm>
              <a:off x="4495680" y="2362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QUERY_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ocated in the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477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8FB9-2111-489A-B221-B966C54A07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Name/Value Pair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2&gt;Name/Value Pairs&lt;/h2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query contained no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r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add some name-value pairs to the URL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ve.&lt;br/&gt;Or try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querystring.cgi?name=Joe&amp;age=29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&lt;/a&gt;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entered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e query string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query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560" y="2819520"/>
            <a:ext cx="4115160" cy="838080"/>
            <a:chOff x="3733560" y="2819520"/>
            <a:chExt cx="4115160" cy="838080"/>
          </a:xfrm>
        </p:grpSpPr>
        <p:sp>
          <p:nvSpPr>
            <p:cNvPr id="206" name=""/>
            <p:cNvSpPr/>
            <p:nvPr/>
          </p:nvSpPr>
          <p:spPr>
            <a:xfrm>
              <a:off x="518148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query is not empty, print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7335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886200" y="1752480"/>
            <a:ext cx="4114800" cy="838440"/>
            <a:chOff x="3886200" y="1752480"/>
            <a:chExt cx="4114800" cy="838440"/>
          </a:xfrm>
        </p:grpSpPr>
        <p:sp>
          <p:nvSpPr>
            <p:cNvPr id="209" name=""/>
            <p:cNvSpPr/>
            <p:nvPr/>
          </p:nvSpPr>
          <p:spPr>
            <a:xfrm>
              <a:off x="53341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 to URL with query string inser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8862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DBF6-B6AE-4B18-8918-683D619C95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TTP Request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request methods (typ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how client makes requests of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HTML element with buttons, text fields, GUI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enter data into a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send data to server; part of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earchsomething.com/search?query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r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r input (query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limit on size (depends on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not see query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can exceed get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3964-DD97-465B-9184-E519599C44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querystring_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4219560" cy="2171880"/>
          </a:xfrm>
          <a:prstGeom prst="rect">
            <a:avLst/>
          </a:prstGeom>
          <a:ln w="0">
            <a:noFill/>
          </a:ln>
        </p:spPr>
      </p:pic>
      <p:pic>
        <p:nvPicPr>
          <p:cNvPr id="213" name="querystring_2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421956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3D3A-A196-449B-8CE6-49AE7F9D5A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querystring_3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19560" cy="21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5101-45AD-4013-937E-8DD214A9B8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ng input into URLs clum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s on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way to inpu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s when user submits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us, will call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HTTP request to use (GET, P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demonstrate both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HTML form can have any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7650-60E6-4DF1-96A5-49C4CBAC88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1840" y="368280"/>
          <a:ext cx="8356680" cy="89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368280"/>
                    <a:ext cx="8356680" cy="89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E12E-CC89-41DE-8926-8D15AB6555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1840" y="1328760"/>
          <a:ext cx="8308800" cy="89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328760"/>
                    <a:ext cx="8308800" cy="89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CB4E-D5A3-42E4-BC48-128694E061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 = "get" action = "getquery.cgi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 = "text" name = "wor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 = "submit" value = "Submit Wor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ingle-line text input 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submit button pr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En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nd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486D-146E-4CBF-9958-766B682495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1: getquer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s GET method with XHTML for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query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52680" y="2819520"/>
            <a:ext cx="4114800" cy="838080"/>
            <a:chOff x="3352680" y="2819520"/>
            <a:chExt cx="4114800" cy="838080"/>
          </a:xfrm>
        </p:grpSpPr>
        <p:sp>
          <p:nvSpPr>
            <p:cNvPr id="229" name=""/>
            <p:cNvSpPr/>
            <p:nvPr/>
          </p:nvSpPr>
          <p:spPr>
            <a:xfrm>
              <a:off x="48006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query string, if any. If this is the first time the page is loaded, this will be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526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0DB5-F409-442C-A26D-861B2696D4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Using GET with Form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Enter one of your favorite words here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get\" action = \"getquery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text\" name = \"word\"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submit\" value = \"Submit Word\"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819160" y="1981080"/>
            <a:ext cx="4115160" cy="838440"/>
            <a:chOff x="2819160" y="1981080"/>
            <a:chExt cx="4115160" cy="838440"/>
          </a:xfrm>
        </p:grpSpPr>
        <p:sp>
          <p:nvSpPr>
            <p:cNvPr id="234" name=""/>
            <p:cNvSpPr/>
            <p:nvPr/>
          </p:nvSpPr>
          <p:spPr>
            <a:xfrm>
              <a:off x="4267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form. Note that the form calls this CGI script when submit pres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819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D130-CEF7-45BD-AF7A-E53A3975B7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ry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r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entered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dLocation = query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String = query.substr( word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word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ord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word is: " &lt;&lt; wordString &lt;&lt; 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360" y="76320"/>
            <a:ext cx="4115160" cy="1067400"/>
            <a:chOff x="3276360" y="76320"/>
            <a:chExt cx="4115160" cy="1067400"/>
          </a:xfrm>
        </p:grpSpPr>
        <p:sp>
          <p:nvSpPr>
            <p:cNvPr id="239" name=""/>
            <p:cNvSpPr/>
            <p:nvPr/>
          </p:nvSpPr>
          <p:spPr>
            <a:xfrm>
              <a:off x="4724280" y="763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 the first execution of this script, query is empty. When the user enters a word, the script is run aga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276360" y="2286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85840" y="1752120"/>
            <a:ext cx="3810240" cy="1510200"/>
            <a:chOff x="3885840" y="1752120"/>
            <a:chExt cx="3810240" cy="1510200"/>
          </a:xfrm>
        </p:grpSpPr>
        <p:sp>
          <p:nvSpPr>
            <p:cNvPr id="242" name=""/>
            <p:cNvSpPr/>
            <p:nvPr/>
          </p:nvSpPr>
          <p:spPr>
            <a:xfrm>
              <a:off x="502920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ode the query string on the second execution of the scri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885840" y="175212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431C-8AC2-47C5-975E-32180C4AC3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getquery_1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4305600" cy="2314440"/>
          </a:xfrm>
          <a:prstGeom prst="rect">
            <a:avLst/>
          </a:prstGeom>
          <a:ln w="0">
            <a:noFill/>
          </a:ln>
        </p:spPr>
      </p:pic>
      <p:pic>
        <p:nvPicPr>
          <p:cNvPr id="246" name="getquery_2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430560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CB70-0312-4EF6-A4B6-1B79A1964D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-Ti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tier application (multi-t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data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and presentation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interaction of client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nd is not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data from information tier, presents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 (top ti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 (users act directly with this t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middle tier to get data from 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14C6-50AC-4380-B4F5-ED3E586B9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getquery_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4305240" cy="2314440"/>
          </a:xfrm>
          <a:prstGeom prst="rect">
            <a:avLst/>
          </a:prstGeom>
          <a:ln w="0">
            <a:noFill/>
          </a:ln>
        </p:spPr>
      </p:pic>
      <p:pic>
        <p:nvPicPr>
          <p:cNvPr id="249" name="getquery_4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430524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525B-348F-4307-8B45-2BD9AC571C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, us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n'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_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rea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data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its for newline, which may never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ly will time out and script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s do not allow certain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s replaced by plus 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E48A-2FBC-4E44-85E6-68E99DBAB8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2: po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s POST method with XHTML for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hold POS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ent was submit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124080" y="4114800"/>
            <a:ext cx="4114800" cy="838080"/>
            <a:chOff x="3124080" y="4114800"/>
            <a:chExt cx="4114800" cy="838080"/>
          </a:xfrm>
        </p:grpSpPr>
        <p:sp>
          <p:nvSpPr>
            <p:cNvPr id="255" name=""/>
            <p:cNvSpPr/>
            <p:nvPr/>
          </p:nvSpPr>
          <p:spPr>
            <a:xfrm>
              <a:off x="4572000" y="4114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TENT_LENG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24080" y="426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D74E-79AC-4135-93AD-798BF015E98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Using POST with Form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Enter one of your favorite words here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post\" action = \"post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text\" name = \"word\" 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submit\" value = \"Submit Word\" 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819160" y="2819520"/>
            <a:ext cx="4115160" cy="838080"/>
            <a:chOff x="2819160" y="2819520"/>
            <a:chExt cx="4115160" cy="838080"/>
          </a:xfrm>
        </p:grpSpPr>
        <p:sp>
          <p:nvSpPr>
            <p:cNvPr id="260" name=""/>
            <p:cNvSpPr/>
            <p:nvPr/>
          </p:nvSpPr>
          <p:spPr>
            <a:xfrm>
              <a:off x="4267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form as before, but 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191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80F4-5B93-4A7E-AC0B-F02C3E714F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sent using 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tentLength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tring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Location = dataString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entered 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String = dataString.substr( nameLoc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Location -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entered in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wor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word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A1D4-C650-4330-B3A4-ADF331D8CB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ost_1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4305600" cy="2314800"/>
          </a:xfrm>
          <a:prstGeom prst="rect">
            <a:avLst/>
          </a:prstGeom>
          <a:ln w="0">
            <a:noFill/>
          </a:ln>
        </p:spPr>
      </p:pic>
      <p:pic>
        <p:nvPicPr>
          <p:cNvPr id="266" name="post_2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4305600" cy="23148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3504960" y="3124080"/>
            <a:ext cx="4115160" cy="838440"/>
            <a:chOff x="3504960" y="3124080"/>
            <a:chExt cx="4115160" cy="838440"/>
          </a:xfrm>
        </p:grpSpPr>
        <p:sp>
          <p:nvSpPr>
            <p:cNvPr id="268" name=""/>
            <p:cNvSpPr/>
            <p:nvPr/>
          </p:nvSpPr>
          <p:spPr>
            <a:xfrm>
              <a:off x="49528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post hides the input from the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049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C7C7-18F5-4836-B1CF-3F4217EDCC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ost_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4305240" cy="2314800"/>
          </a:xfrm>
          <a:prstGeom prst="rect">
            <a:avLst/>
          </a:prstGeom>
          <a:ln w="0">
            <a:noFill/>
          </a:ln>
        </p:spPr>
      </p:pic>
      <p:pic>
        <p:nvPicPr>
          <p:cNvPr id="272" name="post_4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30524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544A-E9AD-4AF4-B951-D60F028C7A6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2  Other Head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HTTP h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resh: redirects client to new location after some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fresh: "5; URL = http://www.deitel.com/newpage.html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s after 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URL, refreshes current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: redirects client immedi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 http://www.deitel.com/newpag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ed by server, client un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us: change status respons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00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: 204 No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successful request, but no new page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180E-D770-419A-86AB-3CF84508B3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2  Other Head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GI interaction with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headers and content via standard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setting environment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e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5F37-FBAB-4822-B3EC-21474ED9D35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3  Case Study: An Interactive Web P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 to display weekly spe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for name and 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mplicity, does not encry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ing page static X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data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l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l.c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lay specials, if password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separation of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tic XHTML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a dynamic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DB32-8D23-4582-B563-7246189A2AD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-Ti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5800" y="1308240"/>
            <a:ext cx="7772400" cy="4787640"/>
            <a:chOff x="685800" y="1308240"/>
            <a:chExt cx="7772400" cy="4787640"/>
          </a:xfrm>
        </p:grpSpPr>
        <p:sp>
          <p:nvSpPr>
            <p:cNvPr id="97" name=""/>
            <p:cNvSpPr/>
            <p:nvPr/>
          </p:nvSpPr>
          <p:spPr>
            <a:xfrm>
              <a:off x="685800" y="1308240"/>
              <a:ext cx="7772400" cy="4787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10520" y="1796040"/>
              <a:ext cx="7123680" cy="3830400"/>
              <a:chOff x="1010520" y="1796040"/>
              <a:chExt cx="7123680" cy="3830400"/>
            </a:xfrm>
          </p:grpSpPr>
          <p:sp>
            <p:nvSpPr>
              <p:cNvPr id="99" name=""/>
              <p:cNvSpPr/>
              <p:nvPr/>
            </p:nvSpPr>
            <p:spPr>
              <a:xfrm>
                <a:off x="4846320" y="2499480"/>
                <a:ext cx="919440" cy="11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362" y="0"/>
                    </a:moveTo>
                    <a:lnTo>
                      <a:pt x="15446" y="0"/>
                    </a:lnTo>
                    <a:lnTo>
                      <a:pt x="18169" y="0"/>
                    </a:lnTo>
                    <a:lnTo>
                      <a:pt x="19977" y="19833"/>
                    </a:lnTo>
                    <a:lnTo>
                      <a:pt x="0" y="19833"/>
                    </a:lnTo>
                    <a:lnTo>
                      <a:pt x="2723" y="0"/>
                    </a:lnTo>
                    <a:lnTo>
                      <a:pt x="636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37160" y="2428200"/>
                <a:ext cx="1338120" cy="25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242" y="0"/>
                    </a:moveTo>
                    <a:lnTo>
                      <a:pt x="19984" y="19929"/>
                    </a:lnTo>
                    <a:lnTo>
                      <a:pt x="0" y="19929"/>
                    </a:lnTo>
                    <a:lnTo>
                      <a:pt x="4371" y="0"/>
                    </a:lnTo>
                    <a:lnTo>
                      <a:pt x="1624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21920" y="1796040"/>
                <a:ext cx="793800" cy="63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9973" y="19971"/>
                    </a:lnTo>
                    <a:lnTo>
                      <a:pt x="0" y="19971"/>
                    </a:lnTo>
                    <a:lnTo>
                      <a:pt x="0" y="0"/>
                    </a:lnTo>
                    <a:lnTo>
                      <a:pt x="19973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8320" y="1907640"/>
                <a:ext cx="626760" cy="40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6" y="0"/>
                    </a:moveTo>
                    <a:lnTo>
                      <a:pt x="19966" y="19955"/>
                    </a:lnTo>
                    <a:lnTo>
                      <a:pt x="0" y="19955"/>
                    </a:lnTo>
                    <a:lnTo>
                      <a:pt x="0" y="0"/>
                    </a:lnTo>
                    <a:lnTo>
                      <a:pt x="19966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94040" y="3246120"/>
                <a:ext cx="1238040" cy="892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3" y="0"/>
                    </a:moveTo>
                    <a:lnTo>
                      <a:pt x="19983" y="19979"/>
                    </a:lnTo>
                    <a:lnTo>
                      <a:pt x="0" y="19979"/>
                    </a:lnTo>
                    <a:lnTo>
                      <a:pt x="0" y="0"/>
                    </a:lnTo>
                    <a:lnTo>
                      <a:pt x="19983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94040" y="3246120"/>
                <a:ext cx="1238040" cy="892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3" y="0"/>
                    </a:moveTo>
                    <a:lnTo>
                      <a:pt x="19983" y="19979"/>
                    </a:lnTo>
                    <a:lnTo>
                      <a:pt x="0" y="19979"/>
                    </a:lnTo>
                    <a:lnTo>
                      <a:pt x="0" y="0"/>
                    </a:lnTo>
                    <a:lnTo>
                      <a:pt x="19983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78920" y="3599280"/>
                <a:ext cx="1239120" cy="20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99920" y="3623400"/>
                <a:ext cx="133884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Middle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70320" y="5068080"/>
                <a:ext cx="168480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Information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13880" y="2247480"/>
                <a:ext cx="146916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Client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2400" y="2502360"/>
                <a:ext cx="12924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1983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83360" y="2502360"/>
                <a:ext cx="72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43640" y="2502360"/>
                <a:ext cx="4176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487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14400" y="2502360"/>
                <a:ext cx="4176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487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12000" y="2502360"/>
                <a:ext cx="8424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1974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37160" y="2425320"/>
                <a:ext cx="1338120" cy="25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242" y="0"/>
                    </a:moveTo>
                    <a:lnTo>
                      <a:pt x="19984" y="19929"/>
                    </a:lnTo>
                    <a:lnTo>
                      <a:pt x="0" y="19929"/>
                    </a:lnTo>
                    <a:lnTo>
                      <a:pt x="4371" y="0"/>
                    </a:lnTo>
                    <a:lnTo>
                      <a:pt x="1624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268848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81320" y="413856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5760" y="413856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85760" y="268848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10520" y="4398840"/>
                <a:ext cx="71236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7" y="0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10520" y="2948400"/>
                <a:ext cx="71236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7" y="0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4921920" y="1796040"/>
                <a:ext cx="794160" cy="632160"/>
                <a:chOff x="4921920" y="1796040"/>
                <a:chExt cx="794160" cy="632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21920" y="1796040"/>
                  <a:ext cx="794160" cy="632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3" y="0"/>
                      </a:moveTo>
                      <a:lnTo>
                        <a:pt x="19973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73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04720" y="1907640"/>
                  <a:ext cx="627120" cy="40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6" y="0"/>
                      </a:moveTo>
                      <a:lnTo>
                        <a:pt x="19966" y="19955"/>
                      </a:lnTo>
                      <a:lnTo>
                        <a:pt x="0" y="19955"/>
                      </a:lnTo>
                      <a:lnTo>
                        <a:pt x="0" y="0"/>
                      </a:lnTo>
                      <a:lnTo>
                        <a:pt x="19966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4846320" y="2499480"/>
                <a:ext cx="919440" cy="11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362" y="0"/>
                    </a:moveTo>
                    <a:lnTo>
                      <a:pt x="15446" y="0"/>
                    </a:lnTo>
                    <a:lnTo>
                      <a:pt x="18169" y="0"/>
                    </a:lnTo>
                    <a:lnTo>
                      <a:pt x="19977" y="19833"/>
                    </a:lnTo>
                    <a:lnTo>
                      <a:pt x="0" y="19833"/>
                    </a:lnTo>
                    <a:lnTo>
                      <a:pt x="2723" y="0"/>
                    </a:lnTo>
                    <a:lnTo>
                      <a:pt x="636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4896360" y="2539800"/>
                <a:ext cx="835920" cy="37800"/>
                <a:chOff x="4896360" y="2539800"/>
                <a:chExt cx="835920" cy="3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939200" y="2539800"/>
                  <a:ext cx="7768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96360" y="2576880"/>
                  <a:ext cx="83592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4670280" y="5344920"/>
                <a:ext cx="1259640" cy="281520"/>
              </a:xfrm>
              <a:prstGeom prst="ellipse">
                <a:avLst/>
              </a:prstGeom>
              <a:solidFill>
                <a:srgbClr val="4db3e6"/>
              </a:solidFill>
              <a:ln w="648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70280" y="5344920"/>
                <a:ext cx="1259640" cy="2815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4673520" y="4842000"/>
                <a:ext cx="1252800" cy="666360"/>
                <a:chOff x="4673520" y="4842000"/>
                <a:chExt cx="1252800" cy="666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25600" y="4842000"/>
                  <a:ext cx="720" cy="666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72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673520" y="4842000"/>
                  <a:ext cx="1252800" cy="666360"/>
                  <a:chOff x="4673520" y="4842000"/>
                  <a:chExt cx="1252800" cy="666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4240" y="4842000"/>
                    <a:ext cx="12520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3" y="0"/>
                        </a:moveTo>
                        <a:lnTo>
                          <a:pt x="19983" y="19972"/>
                        </a:lnTo>
                        <a:lnTo>
                          <a:pt x="0" y="19972"/>
                        </a:lnTo>
                        <a:lnTo>
                          <a:pt x="0" y="0"/>
                        </a:lnTo>
                        <a:lnTo>
                          <a:pt x="1998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673520" y="4842000"/>
                    <a:ext cx="72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72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5" name=""/>
              <p:cNvSpPr/>
              <p:nvPr/>
            </p:nvSpPr>
            <p:spPr>
              <a:xfrm>
                <a:off x="4673520" y="4689720"/>
                <a:ext cx="1253160" cy="28152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73520" y="4689720"/>
                <a:ext cx="1253160" cy="2815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3520" y="4830120"/>
                <a:ext cx="720" cy="67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31360" y="4834440"/>
                <a:ext cx="1080" cy="67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40480" y="5150520"/>
                <a:ext cx="1123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1ACB-B725-41BB-ABDC-6F4465E8F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el.html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6.13: travel.html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ug2Bug Travel Homepage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g2Bug Trave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Bug2Bug Trave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portal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bo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bo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 is not encrypt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83D2D-9363-4492-9CC2-D428DD17AF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el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ravel_1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61024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4DFA-A16D-4CD9-839B-EF7C02B28C8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4: portal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ntry to Bug2Bug Trav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ass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6455-4ABD-479A-8643-4D45D47892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string for input data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box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box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s for name and password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ameString = dataString.substr( nameloc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Namelocation - namelocation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sswordString = dataString.substr( password, endPassword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123720" y="399600"/>
            <a:ext cx="3886560" cy="581040"/>
            <a:chOff x="3123720" y="399600"/>
            <a:chExt cx="3886560" cy="581040"/>
          </a:xfrm>
        </p:grpSpPr>
        <p:sp>
          <p:nvSpPr>
            <p:cNvPr id="288" name=""/>
            <p:cNvSpPr/>
            <p:nvPr/>
          </p:nvSpPr>
          <p:spPr>
            <a:xfrm>
              <a:off x="4343400" y="3999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from standard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3123720" y="39960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1177-35B6-42FB-BA7E-EA8F7B94127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Bug2Bug Travel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peci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Welcom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ameString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!&lt;/h1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Here are our weekly specials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ul&gt;&lt;li&gt;Boston to Taiwan ($875)&lt;/li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li&gt;San Diego to Hong Kong ($750)&lt;/li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li&gt;Chicago to Mexico City ($568)&lt;/li&gt;&lt;/u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ss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ast2coa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r /&gt;&lt;p&gt;Current member special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ttle to Tokyo ($400)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was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Sorry. You have entered an incorre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66880" y="2209680"/>
            <a:ext cx="4114800" cy="838440"/>
            <a:chOff x="2666880" y="2209680"/>
            <a:chExt cx="4114800" cy="838440"/>
          </a:xfrm>
        </p:grpSpPr>
        <p:sp>
          <p:nvSpPr>
            <p:cNvPr id="293" name=""/>
            <p:cNvSpPr/>
            <p:nvPr/>
          </p:nvSpPr>
          <p:spPr>
            <a:xfrm>
              <a:off x="411480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eck password, display special if corr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6668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C6BF-49E9-466E-A085-FC2F2B026ED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travel_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61024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3089-9CCC-438A-A3B2-074032C977C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travel_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56102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51B5-BCCE-40FB-A512-D9303480E97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text files Web server sends the 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information, track user's progress in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si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most major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keep track of identity, how often visit a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is reason, security/privacy con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erase hard drive, breaking into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AECE-949C-4004-8366-95DC6762DC5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lines of text before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l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-Cook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following data stored in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ur example, output post data, delimi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iration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ires=+30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or 30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ires=Friday, 14-MAY-10 16:00:00 GM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which servers in domain can read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mpty, any server in domain can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th=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138B-9001-41AC-B03C-6174794B4C1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String = getenv( "HTTP_COOKIE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data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B14E-63EE-43A3-B1FE-D66073BFD02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ing Web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URL to access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achine name (host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Web server (on own machi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s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Web server (machine on networ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group of hosts on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with top-level-domain and host n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level-domai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Name Server (DNS) translates name to IP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 used by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3.110.43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way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956C-822F-4B6C-87FE-79D895CCD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 16.15: cookieform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ookie Demonstration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ing a cookie to the client comput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Write Cookie to save your cookie data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writecookie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D11B-7D8C-4949-A03B-A9C19748201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vorite Color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8655-10EB-4015-994F-7D9B2BF8A5C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cookies_1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9338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3093-A710-4573-A911-BBEF8FEEAD3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6: writecooki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write a cookie to a client's mach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g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lo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piration date of cooki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29000" y="4343400"/>
            <a:ext cx="4114800" cy="838080"/>
            <a:chOff x="3429000" y="4343400"/>
            <a:chExt cx="4114800" cy="838080"/>
          </a:xfrm>
        </p:grpSpPr>
        <p:sp>
          <p:nvSpPr>
            <p:cNvPr id="314" name=""/>
            <p:cNvSpPr/>
            <p:nvPr/>
          </p:nvSpPr>
          <p:spPr>
            <a:xfrm>
              <a:off x="487692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y expiration date of cooki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42900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33CB-6059-40F5-AD2E-E96FA3F97B8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data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string for data and store lo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g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String = dataString.substr( nameLocation, endNam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age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ge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geString = dataString.substr( ageLocation, endAg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g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43C7-265B-47A9-A350-ECB9B052AA3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favorit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String = dataString.substr( colorLoc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Color - colo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g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lorString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ookie Saved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14600" y="609480"/>
            <a:ext cx="4114800" cy="838440"/>
            <a:chOff x="2514600" y="609480"/>
            <a:chExt cx="4114800" cy="838440"/>
          </a:xfrm>
        </p:grpSpPr>
        <p:sp>
          <p:nvSpPr>
            <p:cNvPr id="321" name=""/>
            <p:cNvSpPr/>
            <p:nvPr/>
          </p:nvSpPr>
          <p:spPr>
            <a:xfrm>
              <a:off x="3962520" y="609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cookie data (comes before other header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514600" y="762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EF9E-1954-4E5E-9210-CEED26DD464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ser's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e cookies have been set with the following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ata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am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ameString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Age:"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ageString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Color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lo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Click &lt;a href=\"/cgi-bin/read_cookie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re&lt;/a&gt; to read saved cookie data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E3D3-CD0F-4CE0-A936-C34C4D0DF09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cookies_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33800" cy="29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19EE-0A0A-41A9-BECB-78ADF592F11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6.17: readcooki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read cooki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g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lo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through cookie data string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209680" y="3505320"/>
            <a:ext cx="4114800" cy="838080"/>
            <a:chOff x="2209680" y="3505320"/>
            <a:chExt cx="4114800" cy="838080"/>
          </a:xfrm>
        </p:grpSpPr>
        <p:sp>
          <p:nvSpPr>
            <p:cNvPr id="330" name=""/>
            <p:cNvSpPr/>
            <p:nvPr/>
          </p:nvSpPr>
          <p:spPr>
            <a:xfrm>
              <a:off x="3657600" y="3505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cooki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2096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5FE7-A6C6-46D2-92E1-5C6C013469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g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cookie data in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ameString = dataString.substr( nameLocation, endNam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geString = dataString.substr( ageLocation, endAg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geLocation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lorString = dataString.substr( colo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Read Cookie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B8D1-0CE1-45D9-80F4-7B489012DC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pache HTTP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bility, cost (free),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-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on Unix, Linux, Wind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ww.apache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llation instructions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running, command-prompt window op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21_10" descr=""/>
          <p:cNvPicPr/>
          <p:nvPr/>
        </p:nvPicPr>
        <p:blipFill>
          <a:blip r:embed="rId1"/>
          <a:stretch/>
        </p:blipFill>
        <p:spPr>
          <a:xfrm>
            <a:off x="1152360" y="4334040"/>
            <a:ext cx="6315120" cy="84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3CFC-9995-4C46-A0B4-91F7AA1FC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String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3&gt;The following data is saved in a cookie 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your computer&lt;/h3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am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String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Ag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&lt; ageString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Col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lo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o cookie data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2990-6231-4B40-B820-54D5B00245A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cookies_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4933800" cy="27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E851-0A98-484F-820C-D2C3FC49ABF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5  Server-Sid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located 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secure way of maintaining important 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permission to chang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data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s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word requ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simpl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ents.d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ublicly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ata validation (proper format for e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B357-0006-4C96-A1B1-927544C43B5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 16.18: savefile.html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m to input client information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contact inform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information in the form below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: You must fill in all fields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savefile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 Nam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 Nam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4E52-B4ED-4205-B623-CD07B7F6EF5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w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w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lt;br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Zip Cod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ry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-mail Addre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ea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52BD-57D3-467F-8E9A-608E521493A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savefile_1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447660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9D7D-9F48-481A-9750-34992A18DC4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9: savefi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enter user's contact information into 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er-side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BBEB-E22C-4992-8811-744F5A2B5EA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s to store us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ddre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tow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zipco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untr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mai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first '+'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next '+'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rLocation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.replace( charLoca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arLoca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E542-C692-42E8-AAEC-6BE56169843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Start 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Firs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dataString.substr( first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First - first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Las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dataString.substr( last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Last - last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ddress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tow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ddress = dataString.substr( address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Address - address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t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wn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w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Tow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wn = dataString.substr( townStart, endTown - townStart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17B3-2008-4AF8-AC4F-CC32FD75D1B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st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tat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e = dataString.substr( state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State - state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Zip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zipcode = dataString.substr( zipStart, endZip - zip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coun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ry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untry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ry = dataString.substr( country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untry - country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e-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Email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ail = dataString.substr( email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Email - email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B7DD-85A5-4267-A91A-E45C1061FFE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questing XHTML Doc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che HTTP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XHTML documen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do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\Program Files\Apache Group\Ap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Linux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usr/local/http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act location may v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st.htm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Chapter 16 examples on CD-R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localhost/test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pache, root of URL refers to default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to enter director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6F14-17DF-4EBE-80EB-F9816944A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ontact Information entere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itle&gt;&lt;/head&gt;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to fil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ap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was not opened proper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: could not open contact fil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66880" y="2590920"/>
            <a:ext cx="4114800" cy="838080"/>
            <a:chOff x="2666880" y="2590920"/>
            <a:chExt cx="4114800" cy="838080"/>
          </a:xfrm>
        </p:grpSpPr>
        <p:sp>
          <p:nvSpPr>
            <p:cNvPr id="357" name=""/>
            <p:cNvSpPr/>
            <p:nvPr/>
          </p:nvSpPr>
          <p:spPr>
            <a:xfrm>
              <a:off x="411480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s.t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6688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E775-2F61-409F-B51E-F5D3AA617AD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data to clients.txt fil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File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ddres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w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a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r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zipcod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mail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data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&gt;&lt;tbody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First Nam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Last Nam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Address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ddres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Town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w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Stat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a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Zip Cod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zipcod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Country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ountr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Email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ai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body&gt;&lt;/table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\n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156A-C0F2-46E2-AF98-916283D711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3" name="savefile_2" descr=""/>
          <p:cNvPicPr/>
          <p:nvPr/>
        </p:nvPicPr>
        <p:blipFill>
          <a:blip r:embed="rId1"/>
          <a:stretch/>
        </p:blipFill>
        <p:spPr>
          <a:xfrm>
            <a:off x="1523880" y="1200240"/>
            <a:ext cx="4353120" cy="3219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648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s.d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 D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 Mai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ston MA USA 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@do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41E2-B4FD-4D1C-94FF-6645032288F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6  Case Study: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what user wants to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, remov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amaz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, remov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y books from virtua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scripts, 2 server-side files, cook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cript: user lo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to create new memb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ame/password pair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data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8F95-8B76-4A01-ABA2-FF6A8401DEB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1: login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output an XHTML form, verif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and password entered, and add me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981080" y="4191120"/>
            <a:ext cx="4114800" cy="838080"/>
            <a:chOff x="1981080" y="4191120"/>
            <a:chExt cx="4114800" cy="838080"/>
          </a:xfrm>
        </p:grpSpPr>
        <p:sp>
          <p:nvSpPr>
            <p:cNvPr id="370" name=""/>
            <p:cNvSpPr/>
            <p:nvPr/>
          </p:nvSpPr>
          <p:spPr>
            <a:xfrm>
              <a:off x="34290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s empty cookie to user's mach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810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752480" y="2819520"/>
            <a:ext cx="4572000" cy="1962000"/>
            <a:chOff x="1752480" y="2819520"/>
            <a:chExt cx="4572000" cy="1962000"/>
          </a:xfrm>
        </p:grpSpPr>
        <p:sp>
          <p:nvSpPr>
            <p:cNvPr id="373" name=""/>
            <p:cNvSpPr/>
            <p:nvPr/>
          </p:nvSpPr>
          <p:spPr>
            <a:xfrm>
              <a:off x="36576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XHTML header information, set page title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752480" y="3276720"/>
              <a:ext cx="1905120" cy="15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996E-B108-4743-8E3E-CE5A1ABC885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2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to store username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ewChec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username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User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378" name=""/>
            <p:cNvSpPr/>
            <p:nvPr/>
          </p:nvSpPr>
          <p:spPr>
            <a:xfrm>
              <a:off x="4038480" y="2362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user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228D-017E-42B3-83B2-FE482A6AFA1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3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password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membership requeste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dPassword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ssWord = dataString.substr( passwordLoc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Password - passwordLocation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sting m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ssWord = dataString.substr( password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dataString.substr( userLocation, endUser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se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retrie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login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981080" y="3505320"/>
            <a:ext cx="4114800" cy="838080"/>
            <a:chOff x="1981080" y="350532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3429000" y="350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data provided, show login for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810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E033-A01E-4883-8D7B-C48AEBADFB5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4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ogin form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post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ction = \"/cgi-bin/login.cgi\"&gt;&lt;p&gt;"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e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text\" name = \"user\"/&gt;&lt;br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asswor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password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 = \"password\"/&gt;&lt;br/&gt;"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ew? &lt;input type = \"checkbox\"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name = \"new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 = \"1\"/&gt;&lt;/p&gt;"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submit\" value = \"login\"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form&g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4EB0-03CC-4137-B2FF-A44A31778A3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5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ntered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ew m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dPassword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password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username and passw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&gt;&gt; fileUsername &gt;&gt; filePasswo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is already taken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361960" y="228600"/>
            <a:ext cx="4572360" cy="4419720"/>
            <a:chOff x="2361960" y="228600"/>
            <a:chExt cx="4572360" cy="4419720"/>
          </a:xfrm>
        </p:grpSpPr>
        <p:sp>
          <p:nvSpPr>
            <p:cNvPr id="390" name=""/>
            <p:cNvSpPr/>
            <p:nvPr/>
          </p:nvSpPr>
          <p:spPr>
            <a:xfrm>
              <a:off x="42670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a new member, check that the name is not ta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8191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1960" y="380880"/>
              <a:ext cx="1904760" cy="42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1199-BEAB-4A43-8532-27CB954F149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6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name is tak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Take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is name has already been taken.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y Again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user data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app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BE6B-5240-423E-A09D-518D99F860E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questing XHTML Doc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8" name="21_1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761000" cy="14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71DA-BC69-4993-91A9-FEAC36A26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7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user data to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user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information has been processed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 Shopping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password if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to store username and passw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entic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F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114800" y="838080"/>
            <a:ext cx="4114800" cy="838440"/>
            <a:chOff x="4114800" y="838080"/>
            <a:chExt cx="4114800" cy="838440"/>
          </a:xfrm>
        </p:grpSpPr>
        <p:sp>
          <p:nvSpPr>
            <p:cNvPr id="398" name=""/>
            <p:cNvSpPr/>
            <p:nvPr/>
          </p:nvSpPr>
          <p:spPr>
            <a:xfrm>
              <a:off x="556272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fter password saved to file, provide link for next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11480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A02F-721D-43F5-ABEE-E9412CAB3ED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8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password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us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&gt;&gt; fileUsername &gt;&gt; filePasswo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and password match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ssWord == filePassword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uthentic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serF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is authentic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uthenticate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FBA9-185F-4567-8578-77F5ACE349B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9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ank you for returning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user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&lt;/p&gt;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 Shopping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not authentic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is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Fou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have entered an incorr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. Please try again.&lt;/p&gt;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 to login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is not regis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are not a registered user.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343400" y="837720"/>
            <a:ext cx="3124080" cy="1266840"/>
            <a:chOff x="4343400" y="837720"/>
            <a:chExt cx="3124080" cy="1266840"/>
          </a:xfrm>
        </p:grpSpPr>
        <p:sp>
          <p:nvSpPr>
            <p:cNvPr id="405" name=""/>
            <p:cNvSpPr/>
            <p:nvPr/>
          </p:nvSpPr>
          <p:spPr>
            <a:xfrm>
              <a:off x="48006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ed user authenticated, provide link for next p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343400" y="83772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4CA2-4EA0-43A6-8D81-A16FF8353BA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0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\n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in Page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B9A3-D7BB-43B3-9C91-21FB5B5E2CE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1 of 11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write cooki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04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rite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casestudy_login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417204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BAFF-030C-42B0-9F12-3915ED10215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casestudy_1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4371840" cy="2781360"/>
          </a:xfrm>
          <a:prstGeom prst="rect">
            <a:avLst/>
          </a:prstGeom>
          <a:ln w="0">
            <a:noFill/>
          </a:ln>
        </p:spPr>
      </p:pic>
      <p:pic>
        <p:nvPicPr>
          <p:cNvPr id="414" name="casestudy_2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437184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7BA3-3A25-4244-866F-5EC3C0E9D52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3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casestudy_3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371840" cy="1952640"/>
          </a:xfrm>
          <a:prstGeom prst="rect">
            <a:avLst/>
          </a:prstGeom>
          <a:ln w="0">
            <a:noFill/>
          </a:ln>
        </p:spPr>
      </p:pic>
      <p:pic>
        <p:nvPicPr>
          <p:cNvPr id="417" name="casestudy_4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4371840" cy="19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8CDC-6C5A-42EE-B670-AA3DDF90663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6  Case Study: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.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books user can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data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alog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"buy" form 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is ISB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ushed,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cart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0B62-4AE6-42F2-A860-DB8FCFEA2ED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2: sho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display available book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8EA7-4594-4BE2-B4CF-80679E0C294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s to store produc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book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yea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ric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file for input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ade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F5FB-0232-4E01-BFB5-4A8BF57AE90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0:13:00Z</dcterms:created>
  <dc:creator>kalid</dc:creator>
  <dc:description/>
  <dc:language>en-US</dc:language>
  <cp:lastModifiedBy>Pearson Education</cp:lastModifiedBy>
  <dcterms:modified xsi:type="dcterms:W3CDTF">2002-08-22T20:13:34Z</dcterms:modified>
  <cp:revision>743</cp:revision>
  <dc:subject/>
  <dc:title>PowerPoint Presentation</dc:title>
</cp:coreProperties>
</file>