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1929-3887-4EF7-AF3E-E37AADEA0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73ED-1598-4D82-99FB-E1905E0B8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68F6-F751-4D33-99D7-02A4245D1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40D5-0797-4D4C-AAFC-9A75AFAF3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23ED-191C-429D-8C57-4BF1610C9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F053-EC4C-49BD-A8FD-D241D0A1E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5682-DCB3-4905-80A6-FF955D915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699D-7F30-437D-AA08-83508BD67B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568A-78E3-43FC-B0A9-335749C145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FDC6-82EC-40A6-98CC-0B3B30FA92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6E02-F4B9-46C8-9171-2E9E91F8A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8110-523C-43E1-9130-8BA564FAB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6339-834A-4D08-BBFC-DFC216C242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6CC4-63FA-4EE9-AA4F-F0B388472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71A9-7822-4345-982D-43B8BFEE6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A756-5F29-4F5A-A5E5-F493C6AEF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F1F4-071C-4369-A40F-C742E8318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75A7-1BC8-4E71-937C-7A384E4F2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8466-57C6-498A-96E4-3C1E3A3ED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4A1C-08E7-4D46-892F-CED8C96E9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65F2-5127-48AF-BEB6-C52AA45F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54DB-2382-4897-9AEC-2DE85D339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3B1D-CAC3-48D7-8509-7EF8F4907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B30B-B25A-4B9C-9D5A-69EF31052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1249-6140-4736-8E68-1EFE75AC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2FD6-9239-4FB6-B94C-D2C77EEE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347840"/>
            <a:ext cx="807732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ndard Library Classe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5B4A-3CD4-48AA-8C53-D14C4C9052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ready overloaded to process each built-i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process a user-defin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a telephon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out formatted number auto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23) 456-78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72E9-E725-4B1E-8C1B-1EF4D272E2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: fig08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ing the stream-insertio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extraction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oneNumb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&amp;, PhoneNumber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Cod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area cod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hang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exchang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-digit lin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hone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23520" y="2819520"/>
            <a:ext cx="5105880" cy="2295000"/>
            <a:chOff x="1523520" y="2819520"/>
            <a:chExt cx="5105880" cy="2295000"/>
          </a:xfrm>
        </p:grpSpPr>
        <p:sp>
          <p:nvSpPr>
            <p:cNvPr id="115" name=""/>
            <p:cNvSpPr/>
            <p:nvPr/>
          </p:nvSpPr>
          <p:spPr>
            <a:xfrm>
              <a:off x="3186000" y="2819520"/>
              <a:ext cx="3443400" cy="2295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non-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, since th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on the right of the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lt;&lt; objec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gt;&gt;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520" y="2971800"/>
              <a:ext cx="16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0E61-9CE5-490D-B421-BC5C5EAE4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insertion operator; cannot b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t &lt;&lt; somePhoneNumber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nu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.areaCod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num.exchang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.line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a &lt;&lt; b &lt;&lt; c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extraction operator; cannot b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n &gt;&gt; somePhoneNumber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PhoneNumber &amp;num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(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areaCod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rea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) an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exchan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exchang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kip dash (-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gt;&gt; num.lin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lin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a &gt;&gt; b &gt;&gt; c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19360" y="1296720"/>
            <a:ext cx="4648320" cy="1438200"/>
            <a:chOff x="4419360" y="1296720"/>
            <a:chExt cx="4648320" cy="1438200"/>
          </a:xfrm>
        </p:grpSpPr>
        <p:sp>
          <p:nvSpPr>
            <p:cNvPr id="120" name=""/>
            <p:cNvSpPr/>
            <p:nvPr/>
          </p:nvSpPr>
          <p:spPr>
            <a:xfrm>
              <a:off x="5562720" y="1297080"/>
              <a:ext cx="350496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expression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nterpreted as the function call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c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419360" y="12967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360" y="2362320"/>
            <a:ext cx="6820200" cy="2406960"/>
            <a:chOff x="2133360" y="2362320"/>
            <a:chExt cx="6820200" cy="2406960"/>
          </a:xfrm>
        </p:grpSpPr>
        <p:sp>
          <p:nvSpPr>
            <p:cNvPr id="123" name=""/>
            <p:cNvSpPr/>
            <p:nvPr/>
          </p:nvSpPr>
          <p:spPr>
            <a:xfrm>
              <a:off x="5067360" y="2971800"/>
              <a:ext cx="3886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allows objects to be cascaded.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1 &lt;&lt; phone2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s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1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133360" y="2362320"/>
              <a:ext cx="2933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880" y="3276720"/>
            <a:ext cx="4114800" cy="838080"/>
            <a:chOff x="1523880" y="327672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29718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gnor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kips specified number of characters from input (1 by default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238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38280" y="4495320"/>
            <a:ext cx="4114800" cy="1511280"/>
            <a:chOff x="2438280" y="4495320"/>
            <a:chExt cx="4114800" cy="1511280"/>
          </a:xfrm>
        </p:grpSpPr>
        <p:sp>
          <p:nvSpPr>
            <p:cNvPr id="129" name=""/>
            <p:cNvSpPr/>
            <p:nvPr/>
          </p:nvSpPr>
          <p:spPr>
            <a:xfrm>
              <a:off x="3886200" y="46958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tricts number of characters read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(4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lows 3 characters to be read, leaving room for the null charac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438280" y="4495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98BC-EF02-4943-8A5E-847215B0B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honeNumber phon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object ph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phone number in the form (123) 456-7890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in &gt;&gt; phone invokes operator&gt;&g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gt;&gt;( cin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phone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phone number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ut &lt;&lt; phone invokes operator&lt;&l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lt;&lt;( cout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hone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one number entered was: 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E621-D3EF-439B-8914-E32927799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 must be class object or referenc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on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2DC2-1365-464A-9B52-96F0595C99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 (8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test for empty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!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!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6B8F-7BC7-43FF-8B5C-54A627B04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rgument must be class object or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String &amp;operator+=(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924F-8EFC-492A-A6A4-E42B34FBC0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7EA9-D598-4330-BEF4-44AE10B818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compared meaningfully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ray assignment (array 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input/output entire arrays at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lement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1336-35D7-401F-B498-2A4AACD934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ever copy of objec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value (return value or par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an object with a copy of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ewArray( oldArray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d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for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( const Array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k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pas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make copy by calling copy construct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10F7-AC04-4A59-93EA-CAF02F6831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perators with objects (operator 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er than function calls for certain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sensitive to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, bitwise left-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on multiple types (integers, float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iscuss when to use o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8269-7051-4113-BA28-C431FA5966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4: array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for storing arrays of integ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Array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quality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5480" y="3111480"/>
            <a:ext cx="4114800" cy="1536840"/>
            <a:chOff x="2895480" y="3111480"/>
            <a:chExt cx="4114800" cy="1536840"/>
          </a:xfrm>
        </p:grpSpPr>
        <p:sp>
          <p:nvSpPr>
            <p:cNvPr id="149" name=""/>
            <p:cNvSpPr/>
            <p:nvPr/>
          </p:nvSpPr>
          <p:spPr>
            <a:xfrm>
              <a:off x="4343400" y="3111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perators overloaded as member functions (excep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must be non-member function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895480" y="35053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123720" y="3111480"/>
              <a:ext cx="1219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666520" y="3885840"/>
            <a:ext cx="4877280" cy="766440"/>
            <a:chOff x="2666520" y="3885840"/>
            <a:chExt cx="4877280" cy="766440"/>
          </a:xfrm>
        </p:grpSpPr>
        <p:sp>
          <p:nvSpPr>
            <p:cNvPr id="153" name=""/>
            <p:cNvSpPr/>
            <p:nvPr/>
          </p:nvSpPr>
          <p:spPr>
            <a:xfrm>
              <a:off x="3962520" y="431496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for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666520" y="38858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E760-37C2-463E-9729-F83B88142A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quality operator; returns opposite of == operato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Array::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!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non-const objects return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const objects return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14240" y="1066320"/>
            <a:ext cx="3886560" cy="1296360"/>
            <a:chOff x="2514240" y="1066320"/>
            <a:chExt cx="3886560" cy="1296360"/>
          </a:xfrm>
        </p:grpSpPr>
        <p:sp>
          <p:nvSpPr>
            <p:cNvPr id="158" name=""/>
            <p:cNvSpPr/>
            <p:nvPr/>
          </p:nvSpPr>
          <p:spPr>
            <a:xfrm>
              <a:off x="3733920" y="1295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simply returns opposi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 Thus, only need to defin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14240" y="1066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1288-9D27-4B1B-9E03-ED58E97BE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8.5: array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idate array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arraySiz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3860-5998-4AD5-9A17-0AC334D604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receive a reference to prevent infinite recu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size( arrayToCopy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arrayToCopy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array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33360" y="1523880"/>
            <a:ext cx="4953240" cy="838440"/>
            <a:chOff x="2133360" y="1523880"/>
            <a:chExt cx="4953240" cy="838440"/>
          </a:xfrm>
        </p:grpSpPr>
        <p:sp>
          <p:nvSpPr>
            <p:cNvPr id="165" name=""/>
            <p:cNvSpPr/>
            <p:nvPr/>
          </p:nvSpPr>
          <p:spPr>
            <a:xfrm>
              <a:off x="3581280" y="152388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must declare a new integer array so the objects do not point to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133360" y="19051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3683-CD94-4D8A-AD85-7653131BA3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assignment op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turn avoids: ( a1 = a2 ) =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arrays of different sizes, deallocate origi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eft-side array, then allocate new left-sid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ze = right.size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size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right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rra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57400" y="1676520"/>
            <a:ext cx="4419720" cy="838080"/>
            <a:chOff x="2057400" y="1676520"/>
            <a:chExt cx="4419720" cy="838080"/>
          </a:xfrm>
        </p:grpSpPr>
        <p:sp>
          <p:nvSpPr>
            <p:cNvPr id="170" name=""/>
            <p:cNvSpPr/>
            <p:nvPr/>
          </p:nvSpPr>
          <p:spPr>
            <a:xfrm>
              <a:off x="3505320" y="16765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nt to avoid self-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057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BA71-FBFA-48DA-9EA9-C3C859A881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ables x = y = z, for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two arrays are equal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true, otherwise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of different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!= right.ptr[ i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tur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rrays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27C1-0425-45AB-9E64-598CFAD62E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non-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creates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76360" y="838080"/>
            <a:ext cx="4648320" cy="1128960"/>
            <a:chOff x="3276360" y="838080"/>
            <a:chExt cx="4648320" cy="1128960"/>
          </a:xfrm>
        </p:grpSpPr>
        <p:sp>
          <p:nvSpPr>
            <p:cNvPr id="177" name=""/>
            <p:cNvSpPr/>
            <p:nvPr/>
          </p:nvSpPr>
          <p:spPr>
            <a:xfrm>
              <a:off x="4343400" y="1143000"/>
              <a:ext cx="3581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[5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.operator[]( 5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276360" y="8380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57400" y="2438280"/>
            <a:ext cx="4800600" cy="580680"/>
            <a:chOff x="2057400" y="2438280"/>
            <a:chExt cx="4800600" cy="580680"/>
          </a:xfrm>
        </p:grpSpPr>
        <p:sp>
          <p:nvSpPr>
            <p:cNvPr id="180" name=""/>
            <p:cNvSpPr/>
            <p:nvPr/>
          </p:nvSpPr>
          <p:spPr>
            <a:xfrm>
              <a:off x="3505320" y="24382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dlib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ends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057400" y="243828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347D-8CC2-4587-8286-E6D431F688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 creates an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s values for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 &gt;&g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x &gt;&g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6E4C-1E66-4507-9A57-7076E0BC8B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rivate ptr-bas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as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8778-7CD2-4537-9DF6-101537519A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6: fig08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ven-element Arr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2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0-element Array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1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array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getSize(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F7F2-30A5-4E54-A259-58FB86C3F6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i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user-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existing operators with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function for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addition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662E-3244-49D6-A043-1B8C8805A8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s1 &gt;&g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array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rray integers3 using integers1 as a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r; print size and content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5000-7AC9-4CAE-8AAA-C9C50AA78F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assignment (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target is sm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use out-of-range subscrip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[15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tegers1[ 15 ] = 1000;  // ERROR: out of ran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EBE8-9395-41C9-9A59-C0314E32C5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 11 12 13 14 15 16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array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8110-3FAE-4B3F-A3F4-AB1B2311AF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3667-8A65-4603-8F63-97BB195AEE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15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6AC3-A531-45B9-9EBC-428F6863EA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itionally, cast integers to floa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eed to convert between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 (conversion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o built-in typ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returns type to which you are conve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A93E-2523-4828-AB46-F7A32BF306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s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tempora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ar *)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 char*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F94-BA2F-435B-A624-99270D8D0D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 can prevent need f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 // s is a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 not have to over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only do 1 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4B2C-0A20-48DC-94DB-715BBFA382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creation,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rns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single-argument constructor is a conversion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C8A3-809E-43A0-BFF6-E78D6ADAA8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7: string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String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/default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ring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ment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== s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&lt; s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14600" y="2590920"/>
            <a:ext cx="4114800" cy="838080"/>
            <a:chOff x="2514600" y="2590920"/>
            <a:chExt cx="4114800" cy="838080"/>
          </a:xfrm>
        </p:grpSpPr>
        <p:sp>
          <p:nvSpPr>
            <p:cNvPr id="20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sion constructor to mak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146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76360" y="3733920"/>
            <a:ext cx="4419360" cy="2284200"/>
            <a:chOff x="3276360" y="3733920"/>
            <a:chExt cx="4419360" cy="2284200"/>
          </a:xfrm>
        </p:grpSpPr>
        <p:sp>
          <p:nvSpPr>
            <p:cNvPr id="212" name=""/>
            <p:cNvSpPr/>
            <p:nvPr/>
          </p:nvSpPr>
          <p:spPr>
            <a:xfrm>
              <a:off x="4831560" y="3733920"/>
              <a:ext cx="286416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 +=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.operator+=(s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lso concaten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compiler will cas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it can only do 1 level of cas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276360" y="3886200"/>
              <a:ext cx="1554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FFA5-AC3D-4784-97A5-9971A6408F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 on a 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must be overloaded for tha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wise assignment betwee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ddress of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can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provides concis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1.add(object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2 + objec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5A51-71B0-4218-A822-EBAC1C260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!= s2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=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l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 &lt;=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=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0D9B-972A-402C-AE1E-060AF7CD51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leng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er to start of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09680" y="1295280"/>
            <a:ext cx="4114800" cy="1220040"/>
            <a:chOff x="2209680" y="1295280"/>
            <a:chExt cx="4114800" cy="1220040"/>
          </a:xfrm>
        </p:grpSpPr>
        <p:sp>
          <p:nvSpPr>
            <p:cNvPr id="219" name=""/>
            <p:cNvSpPr/>
            <p:nvPr/>
          </p:nvSpPr>
          <p:spPr>
            <a:xfrm>
              <a:off x="365760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 the function call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a substring. This operator can have any amount of opera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209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971800" y="152280"/>
            <a:ext cx="4114800" cy="824040"/>
            <a:chOff x="2971800" y="152280"/>
            <a:chExt cx="4114800" cy="824040"/>
          </a:xfrm>
        </p:grpSpPr>
        <p:sp>
          <p:nvSpPr>
            <p:cNvPr id="222" name=""/>
            <p:cNvSpPr/>
            <p:nvPr/>
          </p:nvSpPr>
          <p:spPr>
            <a:xfrm>
              <a:off x="44197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overloaded subscript operators,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71800" y="3049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EFE5-FF91-4EEC-8D88-90BF21EAD4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8: string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cat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 constructor converts char * to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 *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strlen( s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version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s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ring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7BFF-7A3F-4F74-9B50-A749093D77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copy.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py.s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copy.sPt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ing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~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laim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~String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= operator; avoids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rator= called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void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s memory lea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gth = right.length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ring( right.sPtr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C4B6-F619-46BD-AB10-3A1AC8F811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assignment of a String to itsel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assign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right operand to this objec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in thi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_t newLength = length + right.leng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new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, sPtr 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 + length, right.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right.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ol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temp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array to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new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length to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F33C-861F-4E78-AA37-E3DEF062CD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qual to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less than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7C9B-7832-496D-B35A-F2E4A0D0F1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D79B-17FB-4E84-88C7-D695E2D140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 beginning at index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length sub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ndex is out of range or substring length &lt; 0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n empty String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ndex &gt;= length || sub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ed to a String object automat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length of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sub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 ( index + subLength &gt; length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length - 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sub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temporary array for substring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ing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substring into char array and terminat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tempPtr, &amp;sPtr[ index ], l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mpPtr[ len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F1AC-41AD-4668-A3F1-7F0E315EC1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mporary String object containing the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empString( temp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temp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temporary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String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opy of the tempora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e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constructors and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sPtr, string2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py literal 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t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4288-CD45-4028-A46E-D47E357527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s.s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uffer to store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te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 = temp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ring class assign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D264-FF5B-4624-A47D-F99F2474E4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operators act on built-i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cannot change integer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operator (order of evalu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entheses to force order-of-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(left-to-right or right-to-le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oper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nitary, only acts on one 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must be overloaded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8203-7864-4AC2-A14D-9900E0715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9: fig08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: 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3077-BC95-41C1-A3DC-184944CD7A1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empty (!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!s3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3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F715-59F1-409F-8339-22C0908C54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function call operator () for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0 for 14 characters, s1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ubstring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(15, 0),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is "to end of str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s4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F0B6-0A6B-4F7A-9F87-70EAB6EFF3C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using subscript operator to create l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st subscript out of rang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[30] yield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s1[ 30 ] = 'd';     // ERROR: subscript out of rang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4471-9CC9-4EC0-BAD3-0B44A018DCF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19160" y="3886200"/>
            <a:ext cx="4115160" cy="1310760"/>
            <a:chOff x="2819160" y="3886200"/>
            <a:chExt cx="4115160" cy="1310760"/>
          </a:xfrm>
        </p:grpSpPr>
        <p:sp>
          <p:nvSpPr>
            <p:cNvPr id="251" name=""/>
            <p:cNvSpPr/>
            <p:nvPr/>
          </p:nvSpPr>
          <p:spPr>
            <a:xfrm>
              <a:off x="4267080" y="38862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and destructor are called for the tempora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onverted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 “to you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4038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5153-106F-4EE1-B1A0-410A10F85B1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5025-49FA-40CB-8249-B50C60C3674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30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7E78-C595-4E16-AD66-6B5CD4F79F6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/decrement operator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1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operator++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&amp;operator++( Date &amp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AEAB-6634-4CB9-A277-07048D971B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tinguish pre/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increment has a dummy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operator++(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operator++( Data &amp;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,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parameter does not have a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ven in functio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B3A5-8A86-476D-927E-28807CF0458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refere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value (can be as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emporary object with o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value (cannot be on left side of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analo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F39A-9E93-4779-92A6-51645E9D2F2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434340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-533520" y="1219320"/>
          <a:ext cx="9677520" cy="228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33520" y="1219320"/>
                    <a:ext cx="96775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1FA3-3D71-4576-8CBA-AD267E1A2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increment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day, month and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determine if day is last of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6E36-380A-49C2-9327-7637BF4820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0: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increment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incre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days, modif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a leap year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s this end of month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14600" y="2743200"/>
            <a:ext cx="4114800" cy="838080"/>
            <a:chOff x="2514600" y="274320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3962520" y="274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pre and post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5146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22E1-EC5C-4E8C-8A00-D87924001B4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[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of days per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lpIncrement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B5EE-7C17-43E8-BDAD-EC942B0E25A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1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member 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atic member at file scop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class-wide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day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Date( m, d, 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onth, day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( m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m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( yy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y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yy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8648-76F3-470E-A40F-B61D96D5EF9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days[ month ]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reincrement opera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to create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ostincrement operator; note that the dumm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parameter does not have a parameter na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temp =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ld current state of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unincremented, saved, temporary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return; not a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666880" y="3429000"/>
            <a:ext cx="4114800" cy="2527560"/>
            <a:chOff x="2666880" y="3429000"/>
            <a:chExt cx="4114800" cy="2527560"/>
          </a:xfrm>
        </p:grpSpPr>
        <p:sp>
          <p:nvSpPr>
            <p:cNvPr id="277" name=""/>
            <p:cNvSpPr/>
            <p:nvPr/>
          </p:nvSpPr>
          <p:spPr>
            <a:xfrm>
              <a:off x="4114800" y="3429000"/>
              <a:ext cx="2666880" cy="2527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updates object and returns a copy of the original. Do not return a reference to temp, because it is a local variable that will be destroy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note that the integer parameter does not have a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6668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6ED3-354C-4365-B204-1F4FAC53970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days to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tionalDay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dditionalDay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the year is a leap year, return tr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Yea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eap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15F4-C058-40CE-8D3E-B5CB2259DF4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he day is the last day of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day of Feb. in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days[ mon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dOf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help incremen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helpIncr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y is not end of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endOfMonth( day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y is end of month and month &lt;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0377-43AF-47ED-A370-FFCFF87E9B2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st day of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help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onth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n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ebr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r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u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ul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gu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pt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cto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v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c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monthName[ d.month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d.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.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FD72-0429-4BF3-9D88-845A83F9AE9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2: fig08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s to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2 += 7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d2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3.setD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  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++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960E-6C79-49B4-BF77-742FDE77BB0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the pre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++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4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esting the post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4++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++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4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3521-6E46-4460-A98F-0DB5DDC1B10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to implicitly ge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left operand for binary operators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object must be of same class as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arameters for both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object of different class tha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operand of bin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perand of unit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A4F5-E6AB-49EA-A02B-A835956C5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3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5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1749-709B-45E3-928E-7A3634E514F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built into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ailable for anyone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ou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ally resizabl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ou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C807-C70F-4096-8993-CBF804C0AF7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 != &gt;= &gt; &lt;=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ion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A865-F21C-41A9-A15E-354A64A1CDC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b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0, 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0, gets 14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ring beginning at loca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o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ange checking (if subscript inva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at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at subscrip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bounds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nd program if invalid (learn more in Chapter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5A53-51E6-4384-96A4-4C94D959F6A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3: fig08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9860-C338-4A78-9469-7F5463CB928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emp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s3.empty(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3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B498-C6F8-41BA-8A4D-217F913036A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C-styl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subs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 location 0 fo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 characters, s1.substr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tr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.substr(15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996C-8297-4476-83B2-B47D623DB3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using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cript out of range with string member function "a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.at( 30 ) yield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s1.at( 30 ) = 'd';     // ERROR: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3AC5-E2B4-4F8A-8B11-0C180549CDC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s3.empty(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 location 0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 characters, s1.substr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D67F-FC20-4713-85DA-7D7C035DAF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.substr(15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.at( 30 )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D0EB-0DC5-40A8-8EC4-72E97DD5297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ly,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e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us, both must be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1230-713B-427F-8176-784B5971C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n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 int &gt; myArray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.size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specific element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quality, equality,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6814-8121-4E7D-A1A6-68FB1DFBEDA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4: fig0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class vec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7-element vector&lt; int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0-element vector&lt; in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ADCA-4F3E-4732-90F1-64622CFC344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1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vector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vector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0DF8-3B16-4884-BD05-5A5768FA635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integers3 using integers1 as an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r; print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assignment (=) opera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193D-F71C-4B06-AA80-8D146BE3075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to use out of range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.at( 15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egers1.at( 15 ) = 1000;  // ERROR: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8FF4-3437-4095-AEAB-060B848223B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0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D9F4-F351-47F3-AEAF-04BBB6511C0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vector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31D9-ABC8-4C51-BF99-EEAD5253FD2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.at( 15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E468-6AB3-4008-890F-07BB97D84C4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tativ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w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commuta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both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+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two different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operator can only be member function when its class is on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ugeIntClass + Long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ther way, need a non-member overload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+ HugeInt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7F15-50FA-4947-BF44-14E2527692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55:00Z</dcterms:created>
  <dc:creator>kalid</dc:creator>
  <dc:description/>
  <dc:language>en-US</dc:language>
  <cp:lastModifiedBy>Pearson Education</cp:lastModifiedBy>
  <dcterms:modified xsi:type="dcterms:W3CDTF">2002-08-08T15:25:32Z</dcterms:modified>
  <cp:revision>621</cp:revision>
  <dc:subject/>
  <dc:title>Chapter 8 - Operator Overloading</dc:title>
</cp:coreProperties>
</file>