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E763-F6F8-4512-8659-68A591264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24E8-31EE-4182-8585-B4B4C82EC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DFD7-8306-446C-B398-7CB41F00F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970B-BC94-4234-9699-A5F506390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8134-A563-4E80-AA7B-801C759567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CA8A-DB1A-43E4-A988-446D02EA4F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B6E9-4045-4064-AF5B-211BC94B19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2372-55BC-4D33-A43E-866C2CA3C2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15FC-46E1-40F1-94AB-74564AAAB6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B1EF-003B-4EC8-98F3-9455D8DE43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135A-F512-4886-A22D-E1BF96D797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155D-63D4-44A0-901C-1181CF011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1B85-B6E1-4EAD-B580-1F9AE92ECE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3BD9B-D1FC-4814-BEE3-471797CC5A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E8E44-4723-4500-A785-63C2213715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9575-14F4-45CC-B364-7BA7384AFF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93C7-D138-4B1E-B1DB-AB85EB8B3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635D-08CE-4FD9-8D88-0589A0D1D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AC86-049D-45C0-A629-75CBC860E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2E36-DDDA-4BD4-9832-AE18B8E7F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6489-712D-4F78-AC41-37E3B8F1D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CF20-61D3-47F3-B01E-E9881FDFA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EA19-3E90-4CE0-8826-0C4CE995D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FAB3-9F75-4C90-B4B9-0AB58D9D6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05A7-F316-4EAC-8130-CC2A193DB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3674-C630-469E-AB8D-A9AA74F21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5 - Pointers and String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9528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 Variable Declarations and Initializ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 Opera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lling Functions by Refere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with Poin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Bubble Sort Using Pass-by-Refere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 Expressions and Pointer Arithmet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lationship Between Pointers and Array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rrays of Poin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Card Shuffling and Dealing Simu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Poin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 to Character and String Process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damentals of Characters and String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ing Manipulation Functions of the String-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8C41-8161-4C7A-B81E-4CDFFBE873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 by Referenc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-by-reference with pointer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pass-by-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ointers and indirection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address of argument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not pas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ause array name already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 used as alias/nickname for variable insid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8021-2D8B-48FE-A360-56E24C4995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6: fig05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be a variable using pass-by-valu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iginal value of numb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number by value to cub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 = cubeByValue(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new value of number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124080" y="2895480"/>
            <a:ext cx="4114800" cy="838440"/>
            <a:chOff x="3124080" y="2895480"/>
            <a:chExt cx="4114800" cy="838440"/>
          </a:xfrm>
        </p:grpSpPr>
        <p:sp>
          <p:nvSpPr>
            <p:cNvPr id="165" name=""/>
            <p:cNvSpPr/>
            <p:nvPr/>
          </p:nvSpPr>
          <p:spPr>
            <a:xfrm>
              <a:off x="45720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number by value; resul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12408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44ED3-6589-43A1-B929-FEB246398A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ube of integer argument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 )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 * n * n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be local variable n and retur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ubeByValue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5238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value of number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value of number is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362320" y="609480"/>
            <a:ext cx="4114800" cy="657000"/>
            <a:chOff x="2362320" y="609480"/>
            <a:chExt cx="4114800" cy="657000"/>
          </a:xfrm>
        </p:grpSpPr>
        <p:sp>
          <p:nvSpPr>
            <p:cNvPr id="171" name=""/>
            <p:cNvSpPr/>
            <p:nvPr/>
          </p:nvSpPr>
          <p:spPr>
            <a:xfrm>
              <a:off x="3810240" y="685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ceives parameter passed-by-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362320" y="60948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80720" y="1066680"/>
            <a:ext cx="3505680" cy="1037880"/>
            <a:chOff x="1980720" y="1066680"/>
            <a:chExt cx="3505680" cy="1037880"/>
          </a:xfrm>
        </p:grpSpPr>
        <p:sp>
          <p:nvSpPr>
            <p:cNvPr id="174" name=""/>
            <p:cNvSpPr/>
            <p:nvPr/>
          </p:nvSpPr>
          <p:spPr>
            <a:xfrm>
              <a:off x="3200400" y="15238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be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local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1980720" y="1066680"/>
              <a:ext cx="1219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9D69-484D-4628-AA43-6391AC5C39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7: fig05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be a variable using pass-by-referen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a pointer argum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iginal value of numb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 address of number to cub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ubeByReference( &amp;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new value of number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14600" y="3048120"/>
            <a:ext cx="4114800" cy="838080"/>
            <a:chOff x="2514600" y="3048120"/>
            <a:chExt cx="4114800" cy="838080"/>
          </a:xfrm>
        </p:grpSpPr>
        <p:sp>
          <p:nvSpPr>
            <p:cNvPr id="179" name=""/>
            <p:cNvSpPr/>
            <p:nvPr/>
          </p:nvSpPr>
          <p:spPr>
            <a:xfrm>
              <a:off x="3962520" y="30481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y address 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ass address of numb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251460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952880" y="4572000"/>
            <a:ext cx="3200400" cy="1052640"/>
            <a:chOff x="4952880" y="4572000"/>
            <a:chExt cx="3200400" cy="1052640"/>
          </a:xfrm>
        </p:grpSpPr>
        <p:sp>
          <p:nvSpPr>
            <p:cNvPr id="182" name=""/>
            <p:cNvSpPr/>
            <p:nvPr/>
          </p:nvSpPr>
          <p:spPr>
            <a:xfrm>
              <a:off x="6019920" y="4800600"/>
              <a:ext cx="2133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odified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4952880" y="4572000"/>
              <a:ext cx="1067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857320" y="1066680"/>
            <a:ext cx="4115160" cy="838440"/>
            <a:chOff x="2857320" y="1066680"/>
            <a:chExt cx="4115160" cy="838440"/>
          </a:xfrm>
        </p:grpSpPr>
        <p:sp>
          <p:nvSpPr>
            <p:cNvPr id="185" name=""/>
            <p:cNvSpPr/>
            <p:nvPr/>
          </p:nvSpPr>
          <p:spPr>
            <a:xfrm>
              <a:off x="4305240" y="1066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totype indicates parameter is point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857320" y="1219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C0B7D-3720-4C84-853D-4241D1E212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 of *nPtr; modifies variable number i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nPtr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nPtr = *nPtr * *nPtr * *n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be *nPtr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ubeByReferenc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6002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value of number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new value of number is 1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048120" y="568440"/>
            <a:ext cx="3886200" cy="1371960"/>
            <a:chOff x="3048120" y="568440"/>
            <a:chExt cx="3886200" cy="1371960"/>
          </a:xfrm>
        </p:grpSpPr>
        <p:sp>
          <p:nvSpPr>
            <p:cNvPr id="191" name=""/>
            <p:cNvSpPr/>
            <p:nvPr/>
          </p:nvSpPr>
          <p:spPr>
            <a:xfrm>
              <a:off x="4267080" y="873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ceives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.e., pointer to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3048120" y="568440"/>
              <a:ext cx="1218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914400" y="1025640"/>
            <a:ext cx="5105520" cy="1911240"/>
            <a:chOff x="914400" y="1025640"/>
            <a:chExt cx="5105520" cy="1911240"/>
          </a:xfrm>
        </p:grpSpPr>
        <p:sp>
          <p:nvSpPr>
            <p:cNvPr id="194" name=""/>
            <p:cNvSpPr/>
            <p:nvPr/>
          </p:nvSpPr>
          <p:spPr>
            <a:xfrm>
              <a:off x="3619440" y="2112840"/>
              <a:ext cx="2400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y and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using indirection 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3047760" y="1025640"/>
              <a:ext cx="571320" cy="12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1045800"/>
              <a:ext cx="11811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1752480" y="1045800"/>
              <a:ext cx="18669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914400" y="1025640"/>
              <a:ext cx="2705040" cy="12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AB68-2A8B-4E51-9EFD-32FCEB958B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with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of variable should not be mod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when function does not need to change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ward function enough access to accomplish task, but no m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ways to pass pointer to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constant pointer to nonconstan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st amount of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constant pointer to constan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pointer to nonconstan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pointer to constan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st amount of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1DE6-232A-46A4-AB6C-FB91BF8822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0: fig05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ing lowercase letters to uppercase let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non-constant pointer to non-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ctype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islower and toup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vertToUppercas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rase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racters and $32.98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hrase before conversion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phr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nvertToUppercase( phr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phrase after conversion is: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phras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95120" y="1523880"/>
            <a:ext cx="4115160" cy="838440"/>
            <a:chOff x="2895120" y="1523880"/>
            <a:chExt cx="4115160" cy="838440"/>
          </a:xfrm>
        </p:grpSpPr>
        <p:sp>
          <p:nvSpPr>
            <p:cNvPr id="204" name=""/>
            <p:cNvSpPr/>
            <p:nvPr/>
          </p:nvSpPr>
          <p:spPr>
            <a:xfrm>
              <a:off x="434304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is nonconstant pointer to nonconsta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89512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504960" y="3165480"/>
            <a:ext cx="4115160" cy="838080"/>
            <a:chOff x="3504960" y="3165480"/>
            <a:chExt cx="4115160" cy="838080"/>
          </a:xfrm>
        </p:grpSpPr>
        <p:sp>
          <p:nvSpPr>
            <p:cNvPr id="207" name=""/>
            <p:cNvSpPr/>
            <p:nvPr/>
          </p:nvSpPr>
          <p:spPr>
            <a:xfrm>
              <a:off x="4952880" y="31654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vertToUpperc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odifies variable phr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504960" y="33177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2491-9A32-49AE-82A6-2BA3DB9D69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 string to uppercase letters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vertToUppercas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Ptr )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*s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rrent character is not '\0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lower( *sPtr 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character is lowercase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*sPtr = toupper( *s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 to uppercas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s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sPtr to next character in string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onvertToUppercas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04812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hrase before conversion is: characters and $32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hrase after conversion is:  CHARACTERS AND $32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352680" y="571320"/>
            <a:ext cx="4114800" cy="961920"/>
            <a:chOff x="3352680" y="571320"/>
            <a:chExt cx="4114800" cy="961920"/>
          </a:xfrm>
        </p:grpSpPr>
        <p:sp>
          <p:nvSpPr>
            <p:cNvPr id="213" name=""/>
            <p:cNvSpPr/>
            <p:nvPr/>
          </p:nvSpPr>
          <p:spPr>
            <a:xfrm>
              <a:off x="4800600" y="9525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nonconstant pointer to nonconsta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352680" y="571320"/>
              <a:ext cx="1447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752480" y="1447920"/>
            <a:ext cx="3733920" cy="1052640"/>
            <a:chOff x="1752480" y="1447920"/>
            <a:chExt cx="3733920" cy="1052640"/>
          </a:xfrm>
        </p:grpSpPr>
        <p:sp>
          <p:nvSpPr>
            <p:cNvPr id="216" name=""/>
            <p:cNvSpPr/>
            <p:nvPr/>
          </p:nvSpPr>
          <p:spPr>
            <a:xfrm>
              <a:off x="2819520" y="1676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slow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character is lower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1752480" y="1447920"/>
              <a:ext cx="1067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133360" y="1676160"/>
            <a:ext cx="3353040" cy="2392560"/>
            <a:chOff x="2133360" y="1676160"/>
            <a:chExt cx="3353040" cy="2392560"/>
          </a:xfrm>
        </p:grpSpPr>
        <p:sp>
          <p:nvSpPr>
            <p:cNvPr id="219" name=""/>
            <p:cNvSpPr/>
            <p:nvPr/>
          </p:nvSpPr>
          <p:spPr>
            <a:xfrm>
              <a:off x="2819520" y="251460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upp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corresponding uppercase character if original character lowercase; otherwi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upp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original (uppercase) charac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2133360" y="1676160"/>
              <a:ext cx="6858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371600" y="2168640"/>
            <a:ext cx="4114800" cy="1920240"/>
            <a:chOff x="1371600" y="2168640"/>
            <a:chExt cx="4114800" cy="1920240"/>
          </a:xfrm>
        </p:grpSpPr>
        <p:sp>
          <p:nvSpPr>
            <p:cNvPr id="222" name=""/>
            <p:cNvSpPr/>
            <p:nvPr/>
          </p:nvSpPr>
          <p:spPr>
            <a:xfrm>
              <a:off x="2819520" y="27781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hen 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++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lied to pointer that points to array, memory address stored in pointer modified to point to next element of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1371600" y="2168640"/>
              <a:ext cx="144792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DCF97-BF9D-4761-A894-DF686290FD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1: fig05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 string one character at a time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non-constant pointer to 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Characte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rase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 characters of a 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Characters( phr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895480" y="1066680"/>
            <a:ext cx="4114800" cy="838440"/>
            <a:chOff x="2895480" y="1066680"/>
            <a:chExt cx="4114800" cy="838440"/>
          </a:xfrm>
        </p:grpSpPr>
        <p:sp>
          <p:nvSpPr>
            <p:cNvPr id="227" name=""/>
            <p:cNvSpPr/>
            <p:nvPr/>
          </p:nvSpPr>
          <p:spPr>
            <a:xfrm>
              <a:off x="43434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is nonconstant pointer to constant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8954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57320" y="2625840"/>
            <a:ext cx="4115160" cy="838080"/>
            <a:chOff x="2857320" y="2625840"/>
            <a:chExt cx="4115160" cy="838080"/>
          </a:xfrm>
        </p:grpSpPr>
        <p:sp>
          <p:nvSpPr>
            <p:cNvPr id="230" name=""/>
            <p:cNvSpPr/>
            <p:nvPr/>
          </p:nvSpPr>
          <p:spPr>
            <a:xfrm>
              <a:off x="4305240" y="262584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poin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hr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Charact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857320" y="2778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0C53-24B1-4132-BC3D-54546D5765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5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Ptr cannot modify the character to which it point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.e., sPtr is a "read-only"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Characte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; *s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sPtr++ )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init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sPtr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9810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 characters of a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971440" y="838080"/>
            <a:ext cx="3886560" cy="1372320"/>
            <a:chOff x="2971440" y="838080"/>
            <a:chExt cx="3886560" cy="1372320"/>
          </a:xfrm>
        </p:grpSpPr>
        <p:sp>
          <p:nvSpPr>
            <p:cNvPr id="236" name=""/>
            <p:cNvSpPr/>
            <p:nvPr/>
          </p:nvSpPr>
          <p:spPr>
            <a:xfrm>
              <a:off x="4191120" y="1143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nonconstant pointer to constant data; cannot modify character to whi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971440" y="83808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200400" y="1294920"/>
            <a:ext cx="3657600" cy="1266840"/>
            <a:chOff x="3200400" y="1294920"/>
            <a:chExt cx="3657600" cy="1266840"/>
          </a:xfrm>
        </p:grpSpPr>
        <p:sp>
          <p:nvSpPr>
            <p:cNvPr id="239" name=""/>
            <p:cNvSpPr/>
            <p:nvPr/>
          </p:nvSpPr>
          <p:spPr>
            <a:xfrm>
              <a:off x="419112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oint to next charac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3200400" y="1294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A40C6-6E86-4D76-AE09-5FABD59E2E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but difficult to ma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pass-by-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 relationship with arrays and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E2F9-8946-4151-8B38-DBD69FFEA7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2: fig05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modify data through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constant pointer to 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( &amp;y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 attempts illegal mod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Ptr cannot modify the value of the variable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which it points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x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*xPtr = 100;  // error: cannot modify a con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2578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cpphtp4_examples\ch05\Fig05_12.cpp(21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l-value specifies const ob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676520" y="1218960"/>
            <a:ext cx="3962160" cy="1037880"/>
            <a:chOff x="1676520" y="1218960"/>
            <a:chExt cx="3962160" cy="1037880"/>
          </a:xfrm>
        </p:grpSpPr>
        <p:sp>
          <p:nvSpPr>
            <p:cNvPr id="245" name=""/>
            <p:cNvSpPr/>
            <p:nvPr/>
          </p:nvSpPr>
          <p:spPr>
            <a:xfrm>
              <a:off x="2971800" y="16761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is nonconstant pointer to constant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1676520" y="121896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219320" y="2590920"/>
            <a:ext cx="4419360" cy="1052640"/>
            <a:chOff x="1219320" y="2590920"/>
            <a:chExt cx="4419360" cy="1052640"/>
          </a:xfrm>
        </p:grpSpPr>
        <p:sp>
          <p:nvSpPr>
            <p:cNvPr id="248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ttempt illegal modif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219320" y="2590920"/>
              <a:ext cx="1752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523880" y="3733920"/>
            <a:ext cx="4114800" cy="838080"/>
            <a:chOff x="1523880" y="3733920"/>
            <a:chExt cx="4114800" cy="838080"/>
          </a:xfrm>
        </p:grpSpPr>
        <p:sp>
          <p:nvSpPr>
            <p:cNvPr id="251" name=""/>
            <p:cNvSpPr/>
            <p:nvPr/>
          </p:nvSpPr>
          <p:spPr>
            <a:xfrm>
              <a:off x="2971800" y="3733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pointed to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52388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123720" y="4800600"/>
            <a:ext cx="3962880" cy="590400"/>
            <a:chOff x="3123720" y="4800600"/>
            <a:chExt cx="3962880" cy="590400"/>
          </a:xfrm>
        </p:grpSpPr>
        <p:sp>
          <p:nvSpPr>
            <p:cNvPr id="254" name=""/>
            <p:cNvSpPr/>
            <p:nvPr/>
          </p:nvSpPr>
          <p:spPr>
            <a:xfrm>
              <a:off x="4419720" y="4800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rror produced when attempting to comp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123720" y="4952880"/>
              <a:ext cx="129564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EFED-EB51-4039-B553-26C6D577C4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with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ways point to same memory 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for array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57DB-1DE2-4F78-AB70-0FF792AC72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3: fig05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modify a constant point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tr is a constant pointer to an integer that can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 modified through ptr, but ptr always points to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ame memory location.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 = &amp;x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llowed: *ptr is not 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ptr = &amp;y;  // error: ptr is const; cannot assign new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3434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cpphtp4_examples\ch05\Fig05_13.cpp(15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l-value specifies const ob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743200" y="1828800"/>
            <a:ext cx="4114800" cy="838080"/>
            <a:chOff x="2743200" y="1828800"/>
            <a:chExt cx="4114800" cy="838080"/>
          </a:xfrm>
        </p:grpSpPr>
        <p:sp>
          <p:nvSpPr>
            <p:cNvPr id="262" name=""/>
            <p:cNvSpPr/>
            <p:nvPr/>
          </p:nvSpPr>
          <p:spPr>
            <a:xfrm>
              <a:off x="4191120" y="1828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onstant pointer to integ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74320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523880" y="2133720"/>
            <a:ext cx="4114800" cy="838080"/>
            <a:chOff x="1523880" y="2133720"/>
            <a:chExt cx="4114800" cy="838080"/>
          </a:xfrm>
        </p:grpSpPr>
        <p:sp>
          <p:nvSpPr>
            <p:cNvPr id="265" name=""/>
            <p:cNvSpPr/>
            <p:nvPr/>
          </p:nvSpPr>
          <p:spPr>
            <a:xfrm>
              <a:off x="297180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pointed to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since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not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52388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523880" y="2438280"/>
            <a:ext cx="4114800" cy="838080"/>
            <a:chOff x="1523880" y="2438280"/>
            <a:chExt cx="4114800" cy="838080"/>
          </a:xfrm>
        </p:grpSpPr>
        <p:sp>
          <p:nvSpPr>
            <p:cNvPr id="268" name=""/>
            <p:cNvSpPr/>
            <p:nvPr/>
          </p:nvSpPr>
          <p:spPr>
            <a:xfrm>
              <a:off x="2971800" y="2438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not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oint to new address 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523880" y="25905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743200" y="3276720"/>
            <a:ext cx="4114800" cy="1143000"/>
            <a:chOff x="2743200" y="3276720"/>
            <a:chExt cx="4114800" cy="1143000"/>
          </a:xfrm>
        </p:grpSpPr>
        <p:sp>
          <p:nvSpPr>
            <p:cNvPr id="271" name=""/>
            <p:cNvSpPr/>
            <p:nvPr/>
          </p:nvSpPr>
          <p:spPr>
            <a:xfrm>
              <a:off x="4191120" y="32767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e 15 generates compiler error by attempting to assign new address to constant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743200" y="342900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B119F-82C4-4D54-9933-51B9772AC2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4: fig05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modify a constant pointer to 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tr is a constant pointer to a constant integer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tr always points to the same location; the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 that location cannot be modifi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 = &amp;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*pt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*ptr = 7;  // error: *ptr is const; cannot assign new val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ptr = &amp;y;  // error: ptr is const; cannot assign new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514600" y="2438280"/>
            <a:ext cx="4114800" cy="838440"/>
            <a:chOff x="2514600" y="2438280"/>
            <a:chExt cx="4114800" cy="838440"/>
          </a:xfrm>
        </p:grpSpPr>
        <p:sp>
          <p:nvSpPr>
            <p:cNvPr id="276" name=""/>
            <p:cNvSpPr/>
            <p:nvPr/>
          </p:nvSpPr>
          <p:spPr>
            <a:xfrm>
              <a:off x="396252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onstant pointer to integer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51460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523880" y="3311640"/>
            <a:ext cx="4114800" cy="838080"/>
            <a:chOff x="1523880" y="3311640"/>
            <a:chExt cx="4114800" cy="838080"/>
          </a:xfrm>
        </p:grpSpPr>
        <p:sp>
          <p:nvSpPr>
            <p:cNvPr id="279" name=""/>
            <p:cNvSpPr/>
            <p:nvPr/>
          </p:nvSpPr>
          <p:spPr>
            <a:xfrm>
              <a:off x="2971800" y="33116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not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pointed to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clared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523880" y="346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523880" y="3581280"/>
            <a:ext cx="4114800" cy="838080"/>
            <a:chOff x="1523880" y="3581280"/>
            <a:chExt cx="4114800" cy="838080"/>
          </a:xfrm>
        </p:grpSpPr>
        <p:sp>
          <p:nvSpPr>
            <p:cNvPr id="282" name=""/>
            <p:cNvSpPr/>
            <p:nvPr/>
          </p:nvSpPr>
          <p:spPr>
            <a:xfrm>
              <a:off x="2971800" y="3581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not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oint to new address 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23880" y="37335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7C62-FF9B-4D8E-81B5-9B47B3BEA9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5\Fig05_14.cpp(19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cpphtp4_examples\ch05\Fig05_14.cpp(20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l-value specifies const 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657600" y="420480"/>
            <a:ext cx="3962160" cy="1281600"/>
            <a:chOff x="3657600" y="420480"/>
            <a:chExt cx="3962160" cy="1281600"/>
          </a:xfrm>
        </p:grpSpPr>
        <p:sp>
          <p:nvSpPr>
            <p:cNvPr id="287" name=""/>
            <p:cNvSpPr/>
            <p:nvPr/>
          </p:nvSpPr>
          <p:spPr>
            <a:xfrm>
              <a:off x="4952880" y="8780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e 19 generates compiler error by attempting to modify constant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657600" y="42048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352680" y="825120"/>
            <a:ext cx="4114800" cy="1524960"/>
            <a:chOff x="3352680" y="825120"/>
            <a:chExt cx="4114800" cy="1524960"/>
          </a:xfrm>
        </p:grpSpPr>
        <p:sp>
          <p:nvSpPr>
            <p:cNvPr id="290" name=""/>
            <p:cNvSpPr/>
            <p:nvPr/>
          </p:nvSpPr>
          <p:spPr>
            <a:xfrm>
              <a:off x="4800600" y="1282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e 20 generates compiler error by attempting to assign new address to constant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3352680" y="82512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FE77-57B9-4283-A170-3D7684F786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ubble Sort Using Pass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nt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ccess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array elements: sca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ed by value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by reference using address opera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2828-5B56-4C18-9299-5D4F3813F4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5: fig05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puts values into an array, sorts the values in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cending order, and prints the resulting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 items in original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7450-A07D-4A35-8C9D-E4F1E85D55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ubbleSort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a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n array of integers using bubble sort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arra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o control p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control comparisons during each p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wap adjacent elements if they are out of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ray[ k ] &gt; array[ k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wap( &amp;array[ k ], &amp;array[ k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666880" y="2400480"/>
            <a:ext cx="4114800" cy="1310760"/>
            <a:chOff x="2666880" y="2400480"/>
            <a:chExt cx="4114800" cy="1310760"/>
          </a:xfrm>
        </p:grpSpPr>
        <p:sp>
          <p:nvSpPr>
            <p:cNvPr id="299" name=""/>
            <p:cNvSpPr/>
            <p:nvPr/>
          </p:nvSpPr>
          <p:spPr>
            <a:xfrm>
              <a:off x="4114800" y="24004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*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rather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array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o indicat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ubbleS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ceives single-subscripted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666880" y="2552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581280" y="2400480"/>
            <a:ext cx="4114800" cy="838080"/>
            <a:chOff x="3581280" y="2400480"/>
            <a:chExt cx="4114800" cy="838080"/>
          </a:xfrm>
        </p:grpSpPr>
        <p:sp>
          <p:nvSpPr>
            <p:cNvPr id="302" name=""/>
            <p:cNvSpPr/>
            <p:nvPr/>
          </p:nvSpPr>
          <p:spPr>
            <a:xfrm>
              <a:off x="5029200" y="2400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eives size of array as argument;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ens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not modif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581280" y="2552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FD91B-2E08-4952-86AB-0B5549A420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ubbleS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values at memory locations to which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1Ptr and element2Ptr point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1Pt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2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 = *element1Ptr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element1Ptr = *element2Ptr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element2Ptr = hold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wap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289548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4   6   8  10  12  37  45  68 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85640" y="1447560"/>
            <a:ext cx="6020280" cy="1281600"/>
            <a:chOff x="2285640" y="1447560"/>
            <a:chExt cx="6020280" cy="1281600"/>
          </a:xfrm>
        </p:grpSpPr>
        <p:sp>
          <p:nvSpPr>
            <p:cNvPr id="308" name=""/>
            <p:cNvSpPr/>
            <p:nvPr/>
          </p:nvSpPr>
          <p:spPr>
            <a:xfrm>
              <a:off x="5638680" y="1905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rguments by reference, allowing function to swap values at memory loc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4419720" y="144756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2285640" y="1447560"/>
              <a:ext cx="3352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1C59-4ACA-4F4C-873D-4E316FBB81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ubble Sort Using Pass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ary operator returns size of operand in b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rrays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size of 1 element ) * ( number of element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( int ) =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izeof(myArr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 print 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0EDB-0E8C-4295-8ECC-0C139E2D22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memory addresses as valu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ly, variable contains specific value (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ontain address of variable that has specific value (in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ing value through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dicates variable i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pointers require multiple asteri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1, *myPt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5680" y="2743200"/>
            <a:ext cx="1749600" cy="549360"/>
            <a:chOff x="4495680" y="2743200"/>
            <a:chExt cx="1749600" cy="549360"/>
          </a:xfrm>
        </p:grpSpPr>
        <p:sp>
          <p:nvSpPr>
            <p:cNvPr id="94" name=""/>
            <p:cNvSpPr/>
            <p:nvPr/>
          </p:nvSpPr>
          <p:spPr>
            <a:xfrm>
              <a:off x="5746680" y="2743200"/>
              <a:ext cx="490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738760" y="2911680"/>
              <a:ext cx="506520" cy="380880"/>
              <a:chOff x="5738760" y="2911680"/>
              <a:chExt cx="506520" cy="380880"/>
            </a:xfrm>
          </p:grpSpPr>
          <p:sp>
            <p:nvSpPr>
              <p:cNvPr id="96" name=""/>
              <p:cNvSpPr/>
              <p:nvPr/>
            </p:nvSpPr>
            <p:spPr>
              <a:xfrm>
                <a:off x="5738760" y="2911680"/>
                <a:ext cx="506520" cy="380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28480" y="3033360"/>
                <a:ext cx="125640" cy="1656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495680" y="2743200"/>
              <a:ext cx="1243080" cy="549360"/>
              <a:chOff x="4495680" y="2743200"/>
              <a:chExt cx="1243080" cy="54936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4495680" y="2743200"/>
                <a:ext cx="763560" cy="549360"/>
                <a:chOff x="4495680" y="2743200"/>
                <a:chExt cx="763560" cy="5493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495680" y="2743200"/>
                  <a:ext cx="763560" cy="1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cou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624560" y="2911680"/>
                  <a:ext cx="506160" cy="38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67" y="0"/>
                      </a:moveTo>
                      <a:lnTo>
                        <a:pt x="19967" y="19967"/>
                      </a:lnTo>
                      <a:lnTo>
                        <a:pt x="0" y="19967"/>
                      </a:lnTo>
                      <a:lnTo>
                        <a:pt x="0" y="0"/>
                      </a:lnTo>
                      <a:lnTo>
                        <a:pt x="1996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26160" y="3063960"/>
                  <a:ext cx="101520" cy="763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4929120" y="3105360"/>
                <a:ext cx="8096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9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6035760" y="3070080"/>
            <a:ext cx="150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46160"/>
            <a:ext cx="54864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49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305920" y="1676520"/>
            <a:ext cx="560160" cy="676080"/>
            <a:chOff x="8305920" y="1676520"/>
            <a:chExt cx="560160" cy="676080"/>
          </a:xfrm>
        </p:grpSpPr>
        <p:sp>
          <p:nvSpPr>
            <p:cNvPr id="108" name=""/>
            <p:cNvSpPr/>
            <p:nvPr/>
          </p:nvSpPr>
          <p:spPr>
            <a:xfrm>
              <a:off x="8313480" y="1676520"/>
              <a:ext cx="542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8305920" y="1882800"/>
              <a:ext cx="560160" cy="469800"/>
              <a:chOff x="8305920" y="1882800"/>
              <a:chExt cx="560160" cy="469800"/>
            </a:xfrm>
          </p:grpSpPr>
          <p:sp>
            <p:nvSpPr>
              <p:cNvPr id="110" name=""/>
              <p:cNvSpPr/>
              <p:nvPr/>
            </p:nvSpPr>
            <p:spPr>
              <a:xfrm>
                <a:off x="8305920" y="1882800"/>
                <a:ext cx="560160" cy="469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515800" y="2032920"/>
                <a:ext cx="138960" cy="20448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BC3D-3D6F-4B8E-BAFD-803E94592C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6: fig05_1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of operator when used on an arra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the number of bytes in the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 get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number of bytes in the array is "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array )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number of bytes returned by getSize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getSize( array )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971800" y="2743200"/>
            <a:ext cx="4114800" cy="838080"/>
            <a:chOff x="2971800" y="2743200"/>
            <a:chExt cx="4114800" cy="838080"/>
          </a:xfrm>
        </p:grpSpPr>
        <p:sp>
          <p:nvSpPr>
            <p:cNvPr id="316" name=""/>
            <p:cNvSpPr/>
            <p:nvPr/>
          </p:nvSpPr>
          <p:spPr>
            <a:xfrm>
              <a:off x="4419720" y="2743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lied to an array returns total number of bytes in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971800" y="2895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209320" y="4343040"/>
            <a:ext cx="4267800" cy="1281600"/>
            <a:chOff x="2209320" y="4343040"/>
            <a:chExt cx="4267800" cy="1281600"/>
          </a:xfrm>
        </p:grpSpPr>
        <p:sp>
          <p:nvSpPr>
            <p:cNvPr id="319" name=""/>
            <p:cNvSpPr/>
            <p:nvPr/>
          </p:nvSpPr>
          <p:spPr>
            <a:xfrm>
              <a:off x="3809880" y="4800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number of bytes used to st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ddre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2209320" y="4343040"/>
              <a:ext cx="1600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56973-E219-4C22-B19F-BA9ADC2F3D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ize of 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 get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t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5238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umber of bytes in the array is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umber of bytes returned by getSize is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133360" y="1046160"/>
            <a:ext cx="4115160" cy="961560"/>
            <a:chOff x="2133360" y="1046160"/>
            <a:chExt cx="4115160" cy="961560"/>
          </a:xfrm>
        </p:grpSpPr>
        <p:sp>
          <p:nvSpPr>
            <p:cNvPr id="325" name=""/>
            <p:cNvSpPr/>
            <p:nvPr/>
          </p:nvSpPr>
          <p:spPr>
            <a:xfrm>
              <a:off x="3581280" y="14270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number of bytes of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2133360" y="1046160"/>
              <a:ext cx="1447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768E7-DEA8-4231-8FAC-48837860C3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7: fig05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sizeof opera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= ar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F6FE-DD1F-4298-96F7-982FFDE0EB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izeof c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char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s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short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int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l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long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f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float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d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double)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sizeof ld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tsizeof(long double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sizeof arra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09880" y="324000"/>
            <a:ext cx="4114800" cy="808920"/>
            <a:chOff x="3809880" y="324000"/>
            <a:chExt cx="4114800" cy="808920"/>
          </a:xfrm>
        </p:grpSpPr>
        <p:sp>
          <p:nvSpPr>
            <p:cNvPr id="332" name=""/>
            <p:cNvSpPr/>
            <p:nvPr/>
          </p:nvSpPr>
          <p:spPr>
            <a:xfrm>
              <a:off x="5257800" y="552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n be used on variabl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3809880" y="3240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95320" y="552600"/>
            <a:ext cx="4115160" cy="885240"/>
            <a:chOff x="4495320" y="552600"/>
            <a:chExt cx="4115160" cy="885240"/>
          </a:xfrm>
        </p:grpSpPr>
        <p:sp>
          <p:nvSpPr>
            <p:cNvPr id="335" name=""/>
            <p:cNvSpPr/>
            <p:nvPr/>
          </p:nvSpPr>
          <p:spPr>
            <a:xfrm>
              <a:off x="5943240" y="85716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n be used on typ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4495320" y="55260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1449-0D57-4B5F-8D29-31373FD74C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c = 1    sizeof(char) =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s = 2    sizeof(short) =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i = 4    sizeof(int)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l = 4    sizeof(long)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f = 4    sizeof(float)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d = 8    sizeof(double)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ld = 8   sizeof(long double)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array =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of ptr = 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F7B0-41B3-4532-B6E0-17CEF4B44E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ment/decrement pointer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+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/subtract an integer to/from a pointer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may be subtracted from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 arithmetic meaningless unless performed on pointer to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e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 on a machine using 4 by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first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[ 0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is at location 3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 +=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0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952880" y="4503600"/>
            <a:ext cx="3662280" cy="1667880"/>
            <a:chOff x="4952880" y="4503600"/>
            <a:chExt cx="3662280" cy="1667880"/>
          </a:xfrm>
        </p:grpSpPr>
        <p:sp>
          <p:nvSpPr>
            <p:cNvPr id="342" name=""/>
            <p:cNvSpPr/>
            <p:nvPr/>
          </p:nvSpPr>
          <p:spPr>
            <a:xfrm>
              <a:off x="4952880" y="5934960"/>
              <a:ext cx="19357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pointer variable </a:t>
              </a: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vPt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73400" y="5632560"/>
              <a:ext cx="330840" cy="327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83920" y="5741640"/>
              <a:ext cx="109800" cy="109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5856120" y="5118120"/>
              <a:ext cx="551880" cy="327600"/>
              <a:chOff x="5856120" y="5118120"/>
              <a:chExt cx="551880" cy="32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5856120" y="511812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4080" y="518364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0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408360" y="5118120"/>
              <a:ext cx="551520" cy="327600"/>
              <a:chOff x="6408360" y="5118120"/>
              <a:chExt cx="551520" cy="327600"/>
            </a:xfrm>
          </p:grpSpPr>
          <p:sp>
            <p:nvSpPr>
              <p:cNvPr id="349" name=""/>
              <p:cNvSpPr/>
              <p:nvPr/>
            </p:nvSpPr>
            <p:spPr>
              <a:xfrm>
                <a:off x="6408360" y="511812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65960" y="518364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1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959880" y="5118120"/>
              <a:ext cx="551520" cy="327600"/>
              <a:chOff x="6959880" y="5118120"/>
              <a:chExt cx="551520" cy="327600"/>
            </a:xfrm>
          </p:grpSpPr>
          <p:sp>
            <p:nvSpPr>
              <p:cNvPr id="352" name=""/>
              <p:cNvSpPr/>
              <p:nvPr/>
            </p:nvSpPr>
            <p:spPr>
              <a:xfrm>
                <a:off x="6959880" y="511812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17480" y="518364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2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8063640" y="5118120"/>
              <a:ext cx="551520" cy="327600"/>
              <a:chOff x="8063640" y="5118120"/>
              <a:chExt cx="551520" cy="327600"/>
            </a:xfrm>
          </p:grpSpPr>
          <p:sp>
            <p:nvSpPr>
              <p:cNvPr id="355" name=""/>
              <p:cNvSpPr/>
              <p:nvPr/>
            </p:nvSpPr>
            <p:spPr>
              <a:xfrm>
                <a:off x="8063640" y="511812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121240" y="518364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4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7511400" y="5118120"/>
              <a:ext cx="551880" cy="327600"/>
              <a:chOff x="7511400" y="5118120"/>
              <a:chExt cx="551880" cy="327600"/>
            </a:xfrm>
          </p:grpSpPr>
          <p:sp>
            <p:nvSpPr>
              <p:cNvPr id="358" name=""/>
              <p:cNvSpPr/>
              <p:nvPr/>
            </p:nvSpPr>
            <p:spPr>
              <a:xfrm>
                <a:off x="7511400" y="511812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69360" y="518364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3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585612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836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5988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1140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6364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61360" y="469476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12880" y="469476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64400" y="4694760"/>
              <a:ext cx="4345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6640" y="469476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68160" y="469476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1240" y="4503600"/>
              <a:ext cx="744840" cy="2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34680" y="5261400"/>
              <a:ext cx="723960" cy="486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5" y="0"/>
                  </a:moveTo>
                  <a:lnTo>
                    <a:pt x="0" y="0"/>
                  </a:lnTo>
                  <a:lnTo>
                    <a:pt x="0" y="199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828800" y="19890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34336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9106-6490-41D6-B62B-655589BFEF3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umber of elements between two 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= v[ 2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v[ 0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- vPtr =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 can be assigned to another pointer if both of sam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same type, cast operator must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ption: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pointer, represents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sting needed to convert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s cannot be de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560A-6C95-4202-B0FD-4101463F972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quality and relational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isons meaningless unless pointers point to members of same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addresses stored i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could show that one pointer points to higher numbered element of array than other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use to determine whether pointer is 0 (does not point to anyth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7F18-EECE-46B9-B505-157FA34361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nd pointers closely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like constan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do array subscripting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array elements with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 n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accessed by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( bPtr +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pointer/offse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b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+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can be treated a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( b + 3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be subscripted (pointer/subscript not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DE52-22BE-4FFC-939B-83EF0A7B7B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0: fig05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ubscripting and pointer notations with array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bPtr = b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bPtr to point to array 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b using array subscrip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b printed with: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subscript nota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b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b using the array name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inter/offse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/offset notation where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ointer is the array nam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190760" y="3311640"/>
            <a:ext cx="3657960" cy="838080"/>
            <a:chOff x="4190760" y="3311640"/>
            <a:chExt cx="3657960" cy="838080"/>
          </a:xfrm>
        </p:grpSpPr>
        <p:sp>
          <p:nvSpPr>
            <p:cNvPr id="383" name=""/>
            <p:cNvSpPr/>
            <p:nvPr/>
          </p:nvSpPr>
          <p:spPr>
            <a:xfrm>
              <a:off x="5638680" y="331164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array subscript no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190760" y="3463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6204-5B4F-495C-9573-84DC77A47F7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eclare pointers to any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4D51-736E-44D8-B8DD-92A9CEE2F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fset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offset1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offset1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(b +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ffset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) =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*( b + offset1 )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b using bPtr and array subscrip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 subscript nota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Ptr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Ptr[ j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/offset nota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array b using bPtr and pointer/offse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fset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offset2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offset2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(bPtr +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ffset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)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*( bPtr + offset2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819160" y="838080"/>
            <a:ext cx="4267440" cy="768240"/>
            <a:chOff x="2819160" y="838080"/>
            <a:chExt cx="4267440" cy="768240"/>
          </a:xfrm>
        </p:grpSpPr>
        <p:sp>
          <p:nvSpPr>
            <p:cNvPr id="388" name=""/>
            <p:cNvSpPr/>
            <p:nvPr/>
          </p:nvSpPr>
          <p:spPr>
            <a:xfrm>
              <a:off x="4419720" y="1025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array name and pointer/offset no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2819160" y="838080"/>
              <a:ext cx="160020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419360" y="2189160"/>
            <a:ext cx="3657960" cy="809280"/>
            <a:chOff x="4419360" y="2189160"/>
            <a:chExt cx="3657960" cy="809280"/>
          </a:xfrm>
        </p:grpSpPr>
        <p:sp>
          <p:nvSpPr>
            <p:cNvPr id="391" name=""/>
            <p:cNvSpPr/>
            <p:nvPr/>
          </p:nvSpPr>
          <p:spPr>
            <a:xfrm>
              <a:off x="5867280" y="241776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pointer subscript no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4419360" y="218916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819520" y="3733560"/>
            <a:ext cx="4267080" cy="961920"/>
            <a:chOff x="2819520" y="3733560"/>
            <a:chExt cx="4267080" cy="961920"/>
          </a:xfrm>
        </p:grpSpPr>
        <p:sp>
          <p:nvSpPr>
            <p:cNvPr id="394" name=""/>
            <p:cNvSpPr/>
            <p:nvPr/>
          </p:nvSpPr>
          <p:spPr>
            <a:xfrm>
              <a:off x="4533840" y="4114800"/>
              <a:ext cx="2552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pointer/offset no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2819520" y="3733560"/>
              <a:ext cx="1714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010B-007E-4996-94D5-7ED1A70C7DA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b printed with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subscrip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[0]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[1] =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[2] =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[3] =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/offset notation where the pointer is the arra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 + 0)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 + 1) =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 + 2) =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b + 3) = 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 subscrip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Ptr[0]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Ptr[1] =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Ptr[2] =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Ptr[3] =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/offse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Ptr + 0)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Ptr + 1) =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Ptr + 2) =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bPtr + 3) = 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E630-5637-4E6A-9670-39F69ECEF62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1: fig05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ing a string using array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pointer not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4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ood By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py1( string1, string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py2( string3, string4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3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5005-6850-43C8-90EB-16D3F8E86A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s2 to s1 using array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1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( s1[ i ] = s2[ i ]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hing in body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op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s2 to s1 using pointer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1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; ( *s1 = *s2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s1++, s2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hing in body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op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419112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3 = Good By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352320" y="662040"/>
            <a:ext cx="4115160" cy="838080"/>
            <a:chOff x="3352320" y="662040"/>
            <a:chExt cx="4115160" cy="838080"/>
          </a:xfrm>
        </p:grpSpPr>
        <p:sp>
          <p:nvSpPr>
            <p:cNvPr id="404" name=""/>
            <p:cNvSpPr/>
            <p:nvPr/>
          </p:nvSpPr>
          <p:spPr>
            <a:xfrm>
              <a:off x="4800240" y="66204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array subscript notation to copy string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haracter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352320" y="814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019240" y="2438280"/>
            <a:ext cx="4114800" cy="838440"/>
            <a:chOff x="2019240" y="2438280"/>
            <a:chExt cx="4114800" cy="838440"/>
          </a:xfrm>
        </p:grpSpPr>
        <p:sp>
          <p:nvSpPr>
            <p:cNvPr id="407" name=""/>
            <p:cNvSpPr/>
            <p:nvPr/>
          </p:nvSpPr>
          <p:spPr>
            <a:xfrm>
              <a:off x="3467160" y="2438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pointer notation to copy string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haracter array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01924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038480" y="3484080"/>
            <a:ext cx="4114800" cy="1357920"/>
            <a:chOff x="4038480" y="3484080"/>
            <a:chExt cx="4114800" cy="1357920"/>
          </a:xfrm>
        </p:grpSpPr>
        <p:sp>
          <p:nvSpPr>
            <p:cNvPr id="410" name=""/>
            <p:cNvSpPr/>
            <p:nvPr/>
          </p:nvSpPr>
          <p:spPr>
            <a:xfrm>
              <a:off x="5486400" y="40179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both pointers to point to next elements in corresponding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4038480" y="348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AAC9-AE1C-4ACA-A9CF-1A6BB320CFE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 of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can contai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ly used to store array of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[ 4 ] = {"Hearts", "Diamonds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lubs", "Spades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lement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 st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does not store strings, only pointers to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has fixed size, but strings can be of any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2297160"/>
            <a:ext cx="5486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33520" y="4038480"/>
            <a:ext cx="7848360" cy="1447920"/>
            <a:chOff x="533520" y="4038480"/>
            <a:chExt cx="7848360" cy="1447920"/>
          </a:xfrm>
        </p:grpSpPr>
        <p:grpSp>
          <p:nvGrpSpPr>
            <p:cNvPr id="416" name=""/>
            <p:cNvGrpSpPr/>
            <p:nvPr/>
          </p:nvGrpSpPr>
          <p:grpSpPr>
            <a:xfrm>
              <a:off x="533520" y="5124600"/>
              <a:ext cx="2190960" cy="361800"/>
              <a:chOff x="533520" y="5124600"/>
              <a:chExt cx="2190960" cy="36180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533520" y="5124600"/>
                <a:ext cx="1565280" cy="361800"/>
                <a:chOff x="533520" y="5124600"/>
                <a:chExt cx="1565280" cy="3618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1629720" y="5124600"/>
                  <a:ext cx="469080" cy="361800"/>
                  <a:chOff x="1629720" y="5124600"/>
                  <a:chExt cx="469080" cy="3618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629720" y="512460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784520" y="524520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1" name=""/>
                <p:cNvSpPr/>
                <p:nvPr/>
              </p:nvSpPr>
              <p:spPr>
                <a:xfrm>
                  <a:off x="533520" y="518472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3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1942200" y="5305320"/>
                <a:ext cx="782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33520" y="4762440"/>
              <a:ext cx="2190960" cy="361800"/>
              <a:chOff x="533520" y="4762440"/>
              <a:chExt cx="2190960" cy="3618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533520" y="4762440"/>
                <a:ext cx="1565280" cy="361800"/>
                <a:chOff x="533520" y="4762440"/>
                <a:chExt cx="1565280" cy="361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1629720" y="4762440"/>
                  <a:ext cx="469080" cy="361800"/>
                  <a:chOff x="1629720" y="4762440"/>
                  <a:chExt cx="469080" cy="3618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1629720" y="476244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1784880" y="488304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>
                  <a:off x="533520" y="482256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2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1942560" y="494316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533520" y="4400280"/>
              <a:ext cx="2190960" cy="361800"/>
              <a:chOff x="533520" y="4400280"/>
              <a:chExt cx="2190960" cy="36180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533520" y="4400280"/>
                <a:ext cx="1565280" cy="361800"/>
                <a:chOff x="533520" y="4400280"/>
                <a:chExt cx="1565280" cy="36180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1629720" y="4400280"/>
                  <a:ext cx="469080" cy="361800"/>
                  <a:chOff x="1629720" y="4400280"/>
                  <a:chExt cx="469080" cy="36180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629720" y="44002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784880" y="45208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5" name=""/>
                <p:cNvSpPr/>
                <p:nvPr/>
              </p:nvSpPr>
              <p:spPr>
                <a:xfrm>
                  <a:off x="533520" y="44604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1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1942560" y="45810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533520" y="4038480"/>
              <a:ext cx="2190960" cy="361800"/>
              <a:chOff x="533520" y="4038480"/>
              <a:chExt cx="2190960" cy="36180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533520" y="4038480"/>
                <a:ext cx="1565280" cy="361800"/>
                <a:chOff x="533520" y="4038480"/>
                <a:chExt cx="1565280" cy="36180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629720" y="4038480"/>
                  <a:ext cx="469080" cy="361800"/>
                  <a:chOff x="1629720" y="4038480"/>
                  <a:chExt cx="469080" cy="3618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629720" y="40384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784880" y="41590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>
                  <a:off x="533520" y="40986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0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1942560" y="42192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724480" y="4098600"/>
              <a:ext cx="625680" cy="282600"/>
              <a:chOff x="2724480" y="4098600"/>
              <a:chExt cx="625680" cy="282600"/>
            </a:xfrm>
          </p:grpSpPr>
          <p:sp>
            <p:nvSpPr>
              <p:cNvPr id="445" name=""/>
              <p:cNvSpPr/>
              <p:nvPr/>
            </p:nvSpPr>
            <p:spPr>
              <a:xfrm>
                <a:off x="27244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752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H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350160" y="4098600"/>
              <a:ext cx="625680" cy="282600"/>
              <a:chOff x="3350160" y="4098600"/>
              <a:chExt cx="625680" cy="282600"/>
            </a:xfrm>
          </p:grpSpPr>
          <p:sp>
            <p:nvSpPr>
              <p:cNvPr id="448" name=""/>
              <p:cNvSpPr/>
              <p:nvPr/>
            </p:nvSpPr>
            <p:spPr>
              <a:xfrm>
                <a:off x="33501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4009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976200" y="4098600"/>
              <a:ext cx="625680" cy="282600"/>
              <a:chOff x="3976200" y="4098600"/>
              <a:chExt cx="625680" cy="282600"/>
            </a:xfrm>
          </p:grpSpPr>
          <p:sp>
            <p:nvSpPr>
              <p:cNvPr id="451" name=""/>
              <p:cNvSpPr/>
              <p:nvPr/>
            </p:nvSpPr>
            <p:spPr>
              <a:xfrm>
                <a:off x="39762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0269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601880" y="4098600"/>
              <a:ext cx="625680" cy="282600"/>
              <a:chOff x="4601880" y="4098600"/>
              <a:chExt cx="625680" cy="282600"/>
            </a:xfrm>
          </p:grpSpPr>
          <p:sp>
            <p:nvSpPr>
              <p:cNvPr id="454" name=""/>
              <p:cNvSpPr/>
              <p:nvPr/>
            </p:nvSpPr>
            <p:spPr>
              <a:xfrm>
                <a:off x="46018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6526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r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5227560" y="4098600"/>
              <a:ext cx="625680" cy="282600"/>
              <a:chOff x="5227560" y="4098600"/>
              <a:chExt cx="625680" cy="282600"/>
            </a:xfrm>
          </p:grpSpPr>
          <p:sp>
            <p:nvSpPr>
              <p:cNvPr id="457" name=""/>
              <p:cNvSpPr/>
              <p:nvPr/>
            </p:nvSpPr>
            <p:spPr>
              <a:xfrm>
                <a:off x="52275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2783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t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5853600" y="4098600"/>
              <a:ext cx="625680" cy="282600"/>
              <a:chOff x="5853600" y="4098600"/>
              <a:chExt cx="625680" cy="282600"/>
            </a:xfrm>
          </p:grpSpPr>
          <p:sp>
            <p:nvSpPr>
              <p:cNvPr id="460" name=""/>
              <p:cNvSpPr/>
              <p:nvPr/>
            </p:nvSpPr>
            <p:spPr>
              <a:xfrm>
                <a:off x="58536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043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451920" y="4098600"/>
              <a:ext cx="678960" cy="282600"/>
              <a:chOff x="6451920" y="4098600"/>
              <a:chExt cx="678960" cy="282600"/>
            </a:xfrm>
          </p:grpSpPr>
          <p:sp>
            <p:nvSpPr>
              <p:cNvPr id="463" name=""/>
              <p:cNvSpPr/>
              <p:nvPr/>
            </p:nvSpPr>
            <p:spPr>
              <a:xfrm>
                <a:off x="64792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451920" y="409860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2724480" y="4450680"/>
              <a:ext cx="625680" cy="282600"/>
              <a:chOff x="2724480" y="4450680"/>
              <a:chExt cx="625680" cy="282600"/>
            </a:xfrm>
          </p:grpSpPr>
          <p:sp>
            <p:nvSpPr>
              <p:cNvPr id="466" name=""/>
              <p:cNvSpPr/>
              <p:nvPr/>
            </p:nvSpPr>
            <p:spPr>
              <a:xfrm>
                <a:off x="27244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752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350160" y="4450680"/>
              <a:ext cx="625680" cy="282600"/>
              <a:chOff x="3350160" y="4450680"/>
              <a:chExt cx="625680" cy="282600"/>
            </a:xfrm>
          </p:grpSpPr>
          <p:sp>
            <p:nvSpPr>
              <p:cNvPr id="469" name=""/>
              <p:cNvSpPr/>
              <p:nvPr/>
            </p:nvSpPr>
            <p:spPr>
              <a:xfrm>
                <a:off x="33501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0092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976200" y="4450680"/>
              <a:ext cx="625680" cy="282600"/>
              <a:chOff x="3976200" y="4450680"/>
              <a:chExt cx="625680" cy="282600"/>
            </a:xfrm>
          </p:grpSpPr>
          <p:sp>
            <p:nvSpPr>
              <p:cNvPr id="472" name=""/>
              <p:cNvSpPr/>
              <p:nvPr/>
            </p:nvSpPr>
            <p:spPr>
              <a:xfrm>
                <a:off x="39762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269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601880" y="4450680"/>
              <a:ext cx="625680" cy="282600"/>
              <a:chOff x="4601880" y="4450680"/>
              <a:chExt cx="625680" cy="282600"/>
            </a:xfrm>
          </p:grpSpPr>
          <p:sp>
            <p:nvSpPr>
              <p:cNvPr id="475" name=""/>
              <p:cNvSpPr/>
              <p:nvPr/>
            </p:nvSpPr>
            <p:spPr>
              <a:xfrm>
                <a:off x="46018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526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m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5227560" y="4450680"/>
              <a:ext cx="625680" cy="282600"/>
              <a:chOff x="5227560" y="4450680"/>
              <a:chExt cx="625680" cy="282600"/>
            </a:xfrm>
          </p:grpSpPr>
          <p:sp>
            <p:nvSpPr>
              <p:cNvPr id="478" name=""/>
              <p:cNvSpPr/>
              <p:nvPr/>
            </p:nvSpPr>
            <p:spPr>
              <a:xfrm>
                <a:off x="52275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7796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53600" y="4450680"/>
              <a:ext cx="625680" cy="282600"/>
              <a:chOff x="5853600" y="4450680"/>
              <a:chExt cx="625680" cy="282600"/>
            </a:xfrm>
          </p:grpSpPr>
          <p:sp>
            <p:nvSpPr>
              <p:cNvPr id="481" name=""/>
              <p:cNvSpPr/>
              <p:nvPr/>
            </p:nvSpPr>
            <p:spPr>
              <a:xfrm>
                <a:off x="5853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90400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n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479280" y="4450680"/>
              <a:ext cx="625680" cy="282600"/>
              <a:chOff x="6479280" y="4450680"/>
              <a:chExt cx="625680" cy="282600"/>
            </a:xfrm>
          </p:grpSpPr>
          <p:sp>
            <p:nvSpPr>
              <p:cNvPr id="484" name=""/>
              <p:cNvSpPr/>
              <p:nvPr/>
            </p:nvSpPr>
            <p:spPr>
              <a:xfrm>
                <a:off x="6479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52968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7104600" y="4450680"/>
              <a:ext cx="625680" cy="282600"/>
              <a:chOff x="7104600" y="4450680"/>
              <a:chExt cx="625680" cy="282600"/>
            </a:xfrm>
          </p:grpSpPr>
          <p:sp>
            <p:nvSpPr>
              <p:cNvPr id="487" name=""/>
              <p:cNvSpPr/>
              <p:nvPr/>
            </p:nvSpPr>
            <p:spPr>
              <a:xfrm>
                <a:off x="7104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1553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7702920" y="4450680"/>
              <a:ext cx="678960" cy="282600"/>
              <a:chOff x="7702920" y="4450680"/>
              <a:chExt cx="678960" cy="282600"/>
            </a:xfrm>
          </p:grpSpPr>
          <p:sp>
            <p:nvSpPr>
              <p:cNvPr id="490" name=""/>
              <p:cNvSpPr/>
              <p:nvPr/>
            </p:nvSpPr>
            <p:spPr>
              <a:xfrm>
                <a:off x="7730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702920" y="445068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724480" y="4812840"/>
              <a:ext cx="625680" cy="282600"/>
              <a:chOff x="2724480" y="4812840"/>
              <a:chExt cx="625680" cy="282600"/>
            </a:xfrm>
          </p:grpSpPr>
          <p:sp>
            <p:nvSpPr>
              <p:cNvPr id="493" name=""/>
              <p:cNvSpPr/>
              <p:nvPr/>
            </p:nvSpPr>
            <p:spPr>
              <a:xfrm>
                <a:off x="27244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77524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C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350160" y="4812840"/>
              <a:ext cx="625680" cy="282600"/>
              <a:chOff x="3350160" y="4812840"/>
              <a:chExt cx="625680" cy="282600"/>
            </a:xfrm>
          </p:grpSpPr>
          <p:sp>
            <p:nvSpPr>
              <p:cNvPr id="496" name=""/>
              <p:cNvSpPr/>
              <p:nvPr/>
            </p:nvSpPr>
            <p:spPr>
              <a:xfrm>
                <a:off x="335016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40092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976200" y="4812840"/>
              <a:ext cx="625680" cy="282600"/>
              <a:chOff x="3976200" y="4812840"/>
              <a:chExt cx="625680" cy="282600"/>
            </a:xfrm>
          </p:grpSpPr>
          <p:sp>
            <p:nvSpPr>
              <p:cNvPr id="499" name=""/>
              <p:cNvSpPr/>
              <p:nvPr/>
            </p:nvSpPr>
            <p:spPr>
              <a:xfrm>
                <a:off x="3976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2660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601880" y="4812840"/>
              <a:ext cx="625320" cy="282600"/>
              <a:chOff x="4601880" y="4812840"/>
              <a:chExt cx="625320" cy="282600"/>
            </a:xfrm>
          </p:grpSpPr>
          <p:sp>
            <p:nvSpPr>
              <p:cNvPr id="502" name=""/>
              <p:cNvSpPr/>
              <p:nvPr/>
            </p:nvSpPr>
            <p:spPr>
              <a:xfrm>
                <a:off x="4601880" y="48128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65228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b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227200" y="4812840"/>
              <a:ext cx="625680" cy="282600"/>
              <a:chOff x="5227200" y="4812840"/>
              <a:chExt cx="625680" cy="282600"/>
            </a:xfrm>
          </p:grpSpPr>
          <p:sp>
            <p:nvSpPr>
              <p:cNvPr id="505" name=""/>
              <p:cNvSpPr/>
              <p:nvPr/>
            </p:nvSpPr>
            <p:spPr>
              <a:xfrm>
                <a:off x="5227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7796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5825880" y="4812840"/>
              <a:ext cx="678960" cy="282600"/>
              <a:chOff x="5825880" y="4812840"/>
              <a:chExt cx="678960" cy="282600"/>
            </a:xfrm>
          </p:grpSpPr>
          <p:sp>
            <p:nvSpPr>
              <p:cNvPr id="508" name=""/>
              <p:cNvSpPr/>
              <p:nvPr/>
            </p:nvSpPr>
            <p:spPr>
              <a:xfrm>
                <a:off x="58528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25880" y="48128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2724480" y="5174640"/>
              <a:ext cx="625680" cy="282600"/>
              <a:chOff x="2724480" y="5174640"/>
              <a:chExt cx="625680" cy="282600"/>
            </a:xfrm>
          </p:grpSpPr>
          <p:sp>
            <p:nvSpPr>
              <p:cNvPr id="511" name=""/>
              <p:cNvSpPr/>
              <p:nvPr/>
            </p:nvSpPr>
            <p:spPr>
              <a:xfrm>
                <a:off x="27244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7752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350160" y="5174640"/>
              <a:ext cx="625680" cy="282600"/>
              <a:chOff x="3350160" y="5174640"/>
              <a:chExt cx="625680" cy="282600"/>
            </a:xfrm>
          </p:grpSpPr>
          <p:sp>
            <p:nvSpPr>
              <p:cNvPr id="514" name=""/>
              <p:cNvSpPr/>
              <p:nvPr/>
            </p:nvSpPr>
            <p:spPr>
              <a:xfrm>
                <a:off x="33501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40092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3976200" y="5174640"/>
              <a:ext cx="625680" cy="282600"/>
              <a:chOff x="3976200" y="5174640"/>
              <a:chExt cx="625680" cy="282600"/>
            </a:xfrm>
          </p:grpSpPr>
          <p:sp>
            <p:nvSpPr>
              <p:cNvPr id="517" name=""/>
              <p:cNvSpPr/>
              <p:nvPr/>
            </p:nvSpPr>
            <p:spPr>
              <a:xfrm>
                <a:off x="3976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2660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601880" y="5174640"/>
              <a:ext cx="625320" cy="282600"/>
              <a:chOff x="4601880" y="5174640"/>
              <a:chExt cx="625320" cy="282600"/>
            </a:xfrm>
          </p:grpSpPr>
          <p:sp>
            <p:nvSpPr>
              <p:cNvPr id="520" name=""/>
              <p:cNvSpPr/>
              <p:nvPr/>
            </p:nvSpPr>
            <p:spPr>
              <a:xfrm>
                <a:off x="4601880" y="51746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5228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227200" y="5174640"/>
              <a:ext cx="625680" cy="282600"/>
              <a:chOff x="5227200" y="5174640"/>
              <a:chExt cx="625680" cy="282600"/>
            </a:xfrm>
          </p:grpSpPr>
          <p:sp>
            <p:nvSpPr>
              <p:cNvPr id="523" name=""/>
              <p:cNvSpPr/>
              <p:nvPr/>
            </p:nvSpPr>
            <p:spPr>
              <a:xfrm>
                <a:off x="5227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27796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5852880" y="5174640"/>
              <a:ext cx="625680" cy="282600"/>
              <a:chOff x="5852880" y="5174640"/>
              <a:chExt cx="625680" cy="282600"/>
            </a:xfrm>
          </p:grpSpPr>
          <p:sp>
            <p:nvSpPr>
              <p:cNvPr id="526" name=""/>
              <p:cNvSpPr/>
              <p:nvPr/>
            </p:nvSpPr>
            <p:spPr>
              <a:xfrm>
                <a:off x="58528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9036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451200" y="5174640"/>
              <a:ext cx="678960" cy="282600"/>
              <a:chOff x="6451200" y="5174640"/>
              <a:chExt cx="678960" cy="282600"/>
            </a:xfrm>
          </p:grpSpPr>
          <p:sp>
            <p:nvSpPr>
              <p:cNvPr id="529" name=""/>
              <p:cNvSpPr/>
              <p:nvPr/>
            </p:nvSpPr>
            <p:spPr>
              <a:xfrm>
                <a:off x="64785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451200" y="51746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0" y="3373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5768-E9D2-4744-892F-B141AB58375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shuffl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array of pointers to strings, to store suit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 double scripted array (suit by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 1-52 into the array to specify the order in which the cards are dea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2054160"/>
            <a:ext cx="54864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4343400"/>
            <a:ext cx="4459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ck[2][12]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incho"/>
              </a:rPr>
              <a:t> represents the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0" y="2774880"/>
            <a:ext cx="9144000" cy="2355840"/>
            <a:chOff x="0" y="2774880"/>
            <a:chExt cx="9144000" cy="2355840"/>
          </a:xfrm>
        </p:grpSpPr>
        <p:sp>
          <p:nvSpPr>
            <p:cNvPr id="537" name=""/>
            <p:cNvSpPr/>
            <p:nvPr/>
          </p:nvSpPr>
          <p:spPr>
            <a:xfrm>
              <a:off x="476280" y="328932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Hea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6280" y="3533760"/>
              <a:ext cx="120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Diam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76280" y="3780000"/>
              <a:ext cx="7700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6280" y="402588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p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986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6532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32360" y="325296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988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990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56552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32560" y="325296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6572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992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32760" y="325296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32160" y="325296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6592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994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986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653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23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988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990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55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325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657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992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327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321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659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2994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986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6532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32360" y="374328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988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990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6552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32560" y="374328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6572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992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232760" y="374328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32160" y="374328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6592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986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6532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32360" y="398952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988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990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6552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32560" y="398952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6572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992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32760" y="398952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32160" y="398952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76592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2994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60600" y="323532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60600" y="3479760"/>
              <a:ext cx="237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60600" y="3726000"/>
              <a:ext cx="237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60600" y="397188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994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884240" y="2774880"/>
              <a:ext cx="489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1776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5128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h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8444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1796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5148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8464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ev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1816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E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51680" y="2774880"/>
              <a:ext cx="630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84840" y="2774880"/>
              <a:ext cx="489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836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J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5188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Qu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8504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462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797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129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464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799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131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466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801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133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468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9144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824960" y="2933640"/>
              <a:ext cx="41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35812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780960" y="3882960"/>
              <a:ext cx="1600200" cy="533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68" y="199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3581280" y="4568040"/>
              <a:ext cx="99072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6" y="199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98960" y="4884840"/>
              <a:ext cx="76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0080" y="4873680"/>
              <a:ext cx="6289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5029200" y="4645080"/>
              <a:ext cx="4572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2"/>
                  </a:moveTo>
                  <a:lnTo>
                    <a:pt x="1991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458784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85A5-D7B2-40AE-B209-26CDFEC609A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udocode for shuffling and dea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38280" y="251460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randomly selected unoccupied slot of deck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320" y="2362320"/>
            <a:ext cx="21333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38280" y="426708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d card number in deck array and print face and suit of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943600" y="1828800"/>
            <a:ext cx="312408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ile chosen slot of deck has been previously chosen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chosen slot of de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943600" y="4267080"/>
            <a:ext cx="31240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For each slot of the deck array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slot contains card number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Print the face and suit of the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48120" y="19810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1981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280" y="2362320"/>
            <a:ext cx="1981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1440" bIns="9144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Initialize the suit array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Initialize the face array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Initialize the deck array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Shuffle the deck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Deal 52 cards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523880" y="3048120"/>
            <a:ext cx="9144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371600" y="4572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486400" y="2347920"/>
            <a:ext cx="45720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486400" y="45720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7D27-1FCA-4A11-BC8D-0C26D79E4C1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4: fig05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d shuffling dealing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rand and s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ff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[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suit array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ui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r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amond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ub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pa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124080" y="4267080"/>
            <a:ext cx="4114800" cy="838440"/>
            <a:chOff x="3124080" y="4267080"/>
            <a:chExt cx="4114800" cy="838440"/>
          </a:xfrm>
        </p:grpSpPr>
        <p:sp>
          <p:nvSpPr>
            <p:cNvPr id="647" name=""/>
            <p:cNvSpPr/>
            <p:nvPr/>
          </p:nvSpPr>
          <p:spPr>
            <a:xfrm>
              <a:off x="4572000" y="4267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u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 contains poin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124080" y="4419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28AF9-266F-4C79-826B-3658D49DA42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face array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a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u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r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v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igh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deck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c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ed random 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uffle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al( deck, face, su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352680" y="1295280"/>
            <a:ext cx="4114800" cy="961920"/>
            <a:chOff x="3352680" y="1295280"/>
            <a:chExt cx="4114800" cy="961920"/>
          </a:xfrm>
        </p:grpSpPr>
        <p:sp>
          <p:nvSpPr>
            <p:cNvPr id="652" name=""/>
            <p:cNvSpPr/>
            <p:nvPr/>
          </p:nvSpPr>
          <p:spPr>
            <a:xfrm>
              <a:off x="4800600" y="1676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 contains poin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3352680" y="12952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B21F-4340-437F-BB19-FF73EF82E77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uffle cards in 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ff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each of the 52 cards, choose slot of deck random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ard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ard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oose new random location until unoccupied sl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w =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umn =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wDeck[ row ][ column ]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o/whi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card number in chosen slot of 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row ][ column ] = car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huff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352680" y="2154240"/>
            <a:ext cx="4114800" cy="838080"/>
            <a:chOff x="3352680" y="2154240"/>
            <a:chExt cx="4114800" cy="838080"/>
          </a:xfrm>
        </p:grpSpPr>
        <p:sp>
          <p:nvSpPr>
            <p:cNvPr id="657" name=""/>
            <p:cNvSpPr/>
            <p:nvPr/>
          </p:nvSpPr>
          <p:spPr>
            <a:xfrm>
              <a:off x="4800600" y="21542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rrent position is at randomly selected row and colum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352680" y="230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EC0B-6CC6-4BDB-9D51-0FD537C5D7C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dress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memory address of its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yPt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Ptr = &amp;y;    // yPtr gets address of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“points to”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09480" y="4041720"/>
            <a:ext cx="7696080" cy="2359080"/>
            <a:chOff x="609480" y="4041720"/>
            <a:chExt cx="7696080" cy="2359080"/>
          </a:xfrm>
        </p:grpSpPr>
        <p:sp>
          <p:nvSpPr>
            <p:cNvPr id="117" name=""/>
            <p:cNvSpPr/>
            <p:nvPr/>
          </p:nvSpPr>
          <p:spPr>
            <a:xfrm>
              <a:off x="623880" y="5006880"/>
              <a:ext cx="55080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46480" y="4618080"/>
              <a:ext cx="54900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0099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4802040"/>
              <a:ext cx="1446480" cy="370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0"/>
                  </a:moveTo>
                  <a:lnTo>
                    <a:pt x="0" y="199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4811760"/>
              <a:ext cx="577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43120" y="5138640"/>
              <a:ext cx="110880" cy="66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29000" y="4422600"/>
              <a:ext cx="1825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29000" y="4703760"/>
              <a:ext cx="1825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429000" y="4346640"/>
              <a:ext cx="4876560" cy="685800"/>
              <a:chOff x="3429000" y="4346640"/>
              <a:chExt cx="4876560" cy="68580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3429000" y="4346640"/>
                <a:ext cx="2060280" cy="685800"/>
                <a:chOff x="3429000" y="4346640"/>
                <a:chExt cx="2060280" cy="685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740840" y="4346640"/>
                  <a:ext cx="51588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p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3429000" y="4652640"/>
                  <a:ext cx="2060280" cy="379800"/>
                  <a:chOff x="3429000" y="4652640"/>
                  <a:chExt cx="2060280" cy="3798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3429000" y="4715640"/>
                    <a:ext cx="75348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5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4182480" y="4652640"/>
                    <a:ext cx="1306800" cy="379800"/>
                    <a:chOff x="4182480" y="4652640"/>
                    <a:chExt cx="1306800" cy="37980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4458600" y="4715640"/>
                      <a:ext cx="753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18248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6245640" y="4346640"/>
                <a:ext cx="2059920" cy="685800"/>
                <a:chOff x="6245640" y="4346640"/>
                <a:chExt cx="2059920" cy="6858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572240" y="4346640"/>
                  <a:ext cx="1591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6245640" y="4652640"/>
                  <a:ext cx="2059920" cy="379800"/>
                  <a:chOff x="6245640" y="4652640"/>
                  <a:chExt cx="2059920" cy="3798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245640" y="471564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6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998760" y="4652640"/>
                    <a:ext cx="1306800" cy="379800"/>
                    <a:chOff x="6998760" y="4652640"/>
                    <a:chExt cx="1306800" cy="37980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7571880" y="4715640"/>
                      <a:ext cx="159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99876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39" name=""/>
            <p:cNvSpPr/>
            <p:nvPr/>
          </p:nvSpPr>
          <p:spPr>
            <a:xfrm>
              <a:off x="3200400" y="4041720"/>
              <a:ext cx="0" cy="23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34120" y="5565600"/>
              <a:ext cx="1676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ddress of y is value of 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324480" y="495576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4952880" y="4879440"/>
              <a:ext cx="609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B081-CED4-4E4F-A725-BC8AFD94DD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al cards in 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Face[]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Suit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each of the 52 c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ard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ard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hrough rows of w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w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w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hrough columns of wDeck for current 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lumn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lumn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lot contains current card, display c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Deck[ row ][ column ] == car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wFace[ column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left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wSuit[ row ]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( card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200400" y="2646360"/>
            <a:ext cx="4876920" cy="838080"/>
            <a:chOff x="3200400" y="2646360"/>
            <a:chExt cx="4876920" cy="838080"/>
          </a:xfrm>
        </p:grpSpPr>
        <p:sp>
          <p:nvSpPr>
            <p:cNvPr id="662" name=""/>
            <p:cNvSpPr/>
            <p:nvPr/>
          </p:nvSpPr>
          <p:spPr>
            <a:xfrm>
              <a:off x="5410080" y="264636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use face to be output right justified in field of 5 charac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3962160" y="2819520"/>
              <a:ext cx="144756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3200400" y="2819520"/>
              <a:ext cx="220968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114800" y="2819520"/>
            <a:ext cx="4114800" cy="838080"/>
            <a:chOff x="4114800" y="2819520"/>
            <a:chExt cx="4114800" cy="838080"/>
          </a:xfrm>
        </p:grpSpPr>
        <p:sp>
          <p:nvSpPr>
            <p:cNvPr id="666" name=""/>
            <p:cNvSpPr/>
            <p:nvPr/>
          </p:nvSpPr>
          <p:spPr>
            <a:xfrm>
              <a:off x="556272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use suit to be output left justified in field of 8 charac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11480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4876560" y="297180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4AA6-9EE6-4A60-89B9-AAF4EDA71C4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Spades         Seven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Spades         Eight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Diamonds       Three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Spades          Fiv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Diamonds       Thre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Clubs            Six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Clubs           Nin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Hearts         Queen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Spades         Deuce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Hearts         Deuc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Clubs          Deuc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Hearts         Seven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Spades         Eight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Spades          King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Clubs            Ace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Hearts          Four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Hearts         Eight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Hearts           Ten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Diamonds        King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Hearts          King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Spades          Four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Clubs            Six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Hearts          Jack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ng of Clubs          Three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Clubs           Fiv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ve of Hearts           Ace of Diamo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6925-9DBD-474E-ACD8-73E1E2CF1CB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address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how array name is address of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starting address of code that defin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ointers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to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ed from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d i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ed to other functio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68B8-B227-4D9A-B59F-9304F1A10EF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functions us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paramet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( *compare ) 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 function with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compare ) ( int1, int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eference pointer to function to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( int1, int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conf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may think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 of actual function 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D4BA-0981-4E1D-8EE2-A8AC492D99D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5: fig05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urpose sorting program using function point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*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scend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end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038480" y="2209680"/>
            <a:ext cx="4114800" cy="1067400"/>
            <a:chOff x="4038480" y="2209680"/>
            <a:chExt cx="4114800" cy="1067400"/>
          </a:xfrm>
        </p:grpSpPr>
        <p:sp>
          <p:nvSpPr>
            <p:cNvPr id="678" name=""/>
            <p:cNvSpPr/>
            <p:nvPr/>
          </p:nvSpPr>
          <p:spPr>
            <a:xfrm>
              <a:off x="5486400" y="2209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is pointer to function that receives two integer parameters and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403848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36B7-4FA3-434E-B244-E2E71EC9167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1 to sort in ascending order,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2 to sort in descending ord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or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original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origin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counter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 in ascending order; pass function ascend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an argument to specify ascending sorting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rd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bble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scend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a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 in descending order; pass function desce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an agrument to specify descending sorting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bble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escend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de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6F9F-5F9D-4AC5-9D08-BEF38F010A9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ort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counter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urpose bubble sort; parameter compare is a point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comparison function that determines sorting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ub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k[], cons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*compare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o control p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size; pas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o control number of comparisons per p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adjacent elements are out of order, swap th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*compare)( work[ count ], work[ cou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wap( &amp;work[ count ], &amp;work[ cou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895480" y="2209680"/>
            <a:ext cx="4114800" cy="1067400"/>
            <a:chOff x="2895480" y="2209680"/>
            <a:chExt cx="4114800" cy="1067400"/>
          </a:xfrm>
        </p:grpSpPr>
        <p:sp>
          <p:nvSpPr>
            <p:cNvPr id="685" name=""/>
            <p:cNvSpPr/>
            <p:nvPr/>
          </p:nvSpPr>
          <p:spPr>
            <a:xfrm>
              <a:off x="4343400" y="2209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pointer to function that receives two integer parameters and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89548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2666520" y="3200040"/>
            <a:ext cx="4343760" cy="828720"/>
            <a:chOff x="2666520" y="3200040"/>
            <a:chExt cx="4343760" cy="828720"/>
          </a:xfrm>
        </p:grpSpPr>
        <p:sp>
          <p:nvSpPr>
            <p:cNvPr id="688" name=""/>
            <p:cNvSpPr/>
            <p:nvPr/>
          </p:nvSpPr>
          <p:spPr>
            <a:xfrm>
              <a:off x="4343400" y="344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entheses necessary to indicate pointer to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2666520" y="3200040"/>
              <a:ext cx="167652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286000" y="4170240"/>
            <a:ext cx="4114800" cy="838440"/>
            <a:chOff x="2286000" y="4170240"/>
            <a:chExt cx="4114800" cy="838440"/>
          </a:xfrm>
        </p:grpSpPr>
        <p:sp>
          <p:nvSpPr>
            <p:cNvPr id="691" name=""/>
            <p:cNvSpPr/>
            <p:nvPr/>
          </p:nvSpPr>
          <p:spPr>
            <a:xfrm>
              <a:off x="3733920" y="41702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passe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dereference pointer to execute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286000" y="4322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5614D-D61E-4B39-A951-5EAC7B0787F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ub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values at memory locations to whic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1Ptr and element2Ptr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onst element1Pt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onst element2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 = *element1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element1Ptr = *element2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element2Ptr = ho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w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elements are out of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an ascending order sort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scend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)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&lt; a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if b is less tha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scending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BBAF-FA6A-48FA-9762-8A4CE15CFB7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elements are out of orde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a descending order sort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end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)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&gt; a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if b is greater tha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scending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175248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2 to sort in descending ord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   4   6   8  10  12  37  45  68  8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358128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sort in descending ord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de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9  68  45  37  12  10   8   6   4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4169-8DD6-44C3-8B22-B1A49CF29D0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of pointer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nu-driven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to each function stored in array of pointers to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unctions must have same return type and same paramet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nu choic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ubscript into array of functio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CB03-9233-446C-96A4-B97E32B748A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direction/dereferencing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ynonym for object its pointer operand point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eca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eferenced pointer is l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yptr = 9;      // assigns 9 t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verses of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7BBC-E972-4F68-8CD5-96BEF13C31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6: fig05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n array of pointers to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of 3 pointers to functions that each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ke an int argument and return void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*f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= { function1, function2, function3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number between 0 and 2, 3 to e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857320" y="3048120"/>
            <a:ext cx="4115160" cy="838080"/>
            <a:chOff x="2857320" y="3048120"/>
            <a:chExt cx="4115160" cy="838080"/>
          </a:xfrm>
        </p:grpSpPr>
        <p:sp>
          <p:nvSpPr>
            <p:cNvPr id="704" name=""/>
            <p:cNvSpPr/>
            <p:nvPr/>
          </p:nvSpPr>
          <p:spPr>
            <a:xfrm>
              <a:off x="4305240" y="3048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initialized with names of three functions; function names are poin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285732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AE76-6069-4A43-8934-D88458604B5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user's 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choic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function at location choice in array 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pass choice as an argument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*f[ choice ])( choice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number between 0 and 2, 3 to e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execution comple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entere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o function1 was called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437920" y="1558440"/>
            <a:ext cx="3886560" cy="1281600"/>
            <a:chOff x="2437920" y="1558440"/>
            <a:chExt cx="3886560" cy="1281600"/>
          </a:xfrm>
        </p:grpSpPr>
        <p:sp>
          <p:nvSpPr>
            <p:cNvPr id="709" name=""/>
            <p:cNvSpPr/>
            <p:nvPr/>
          </p:nvSpPr>
          <p:spPr>
            <a:xfrm>
              <a:off x="3657600" y="2016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chosen function by dereferencing corresponding element in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2437920" y="155844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0E41-EFE5-48C5-9F6B-939585818FB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enter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o function2 was called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entere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o function3 was called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304812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, 3 to end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 0 so function1 wa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, 3 to end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 1 so function2 wa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, 3 to end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 2 so function3 wa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, 3 to end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execution completed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1D28E-FC8D-47FB-80C8-BF99FD8C3FE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value represented as character in single qu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z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integer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es of characters treated as single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include letters, digits, special characters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literal (string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losed in double quotes, 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 like C+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characters, ends with null charact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is constan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 to string’s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165E-2191-4C85-9C90-33EBA10BD72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olor[] = "blue"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5 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elemen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lorPtr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poin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let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blu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where in mem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ternative for character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olor[] = { ‘b’, ‘l’, ‘u’, ‘e’, ‘\0’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C5AD-850F-4E68-AD8C-2C86038C053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input to character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ord[ 20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characters until whitespace or 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could exceed array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etw( 20 ) &gt;&gt; wo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19 characters (space reserved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6307-8823-4F3D-B573-868E3DA1B8D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line of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getline( array, size, delimiter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input into specifi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ntil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less th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m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 is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entence[ 8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line( sentence, 80,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2BE3-4A39-4088-B832-7FFF5D4FE30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handling libra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cstring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ides function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 string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strings for characters and other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kenize strings (separate strings into logical piec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04AC-8A60-45CE-B9DD-47A2F7C9EC7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286000" y="3270240"/>
            <a:ext cx="4572000" cy="317520"/>
            <a:chOff x="2286000" y="3270240"/>
            <a:chExt cx="4572000" cy="317520"/>
          </a:xfrm>
        </p:grpSpPr>
        <p:sp>
          <p:nvSpPr>
            <p:cNvPr id="726" name=""/>
            <p:cNvSpPr/>
            <p:nvPr/>
          </p:nvSpPr>
          <p:spPr>
            <a:xfrm>
              <a:off x="2286000" y="3270240"/>
              <a:ext cx="12700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56080" y="3270240"/>
              <a:ext cx="3301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8" name=""/>
          <p:cNvGraphicFramePr/>
          <p:nvPr/>
        </p:nvGraphicFramePr>
        <p:xfrm>
          <a:off x="533520" y="1143000"/>
          <a:ext cx="8153280" cy="51181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py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py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 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at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at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cmp( const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a value of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C346-058E-424C-9353-037FE58A008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457200" y="1219320"/>
          <a:ext cx="8229600" cy="5029200"/>
        </p:xfrm>
        <a:graphic>
          <a:graphicData uri="http://schemas.openxmlformats.org/drawingml/2006/table">
            <a:tbl>
              <a:tblPr/>
              <a:tblGrid>
                <a:gridCol w="4435560"/>
                <a:gridCol w="37940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ncmp( const char *s1, const char *s2, size_t n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up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tok( char *s1, const char *s2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equence of calls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rto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reaks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“tokens”—logical pieces such as words in a line of text—delimited by characters contained in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all contain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, and subsequent calls to continue tokenizing the same string contai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. A pointer to the current to­ken is returned by each call. If there are no more tokens when the function is called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_t strlen( const char *s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s the length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number of characters preceding the terminating null character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E288-7CA5-4666-AFC5-B225D0EE5B2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 5.4: fig05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Using the &amp; and *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 is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Ptr is a pointer to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a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aPtr = &amp;a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Ptr assigned address of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The address of 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&amp;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The value of aPt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a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\nThe value of 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The value of *aPt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*a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 "\n\nShowing that * and &amp; are inverses of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 "each other.\n&amp;*a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&amp;*a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 "\n*&amp;aPtr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 *&amp;aPt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505320" y="4267080"/>
            <a:ext cx="4572000" cy="990720"/>
            <a:chOff x="3505320" y="4267080"/>
            <a:chExt cx="4572000" cy="990720"/>
          </a:xfrm>
        </p:grpSpPr>
        <p:sp>
          <p:nvSpPr>
            <p:cNvPr id="148" name=""/>
            <p:cNvSpPr/>
            <p:nvPr/>
          </p:nvSpPr>
          <p:spPr>
            <a:xfrm>
              <a:off x="6095880" y="42670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inverses of each other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647960" y="4419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05320" y="4419720"/>
              <a:ext cx="2590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BA48-2D7E-4FBC-A6C1-6FD2310EAA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cpy( char *s1, const char *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second argument into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rgument must be large enough to store string and terminating nu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ncpy( char *s1, const char *s2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number of characters to be copied from string into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necessarily copy terminating nu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49ED-FF4C-4FA6-B5E0-DAE7538E843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8: fig05_2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py and strncp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strcpy and strnc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Birthday to Yo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y, x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tents of x into 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in array x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tring in array y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first 14 characters of x into z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z, x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es not copy null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z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nd '\0' to z's cont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in array z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z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2133360" y="914400"/>
            <a:ext cx="4115160" cy="838080"/>
            <a:chOff x="2133360" y="914400"/>
            <a:chExt cx="4115160" cy="838080"/>
          </a:xfrm>
        </p:grpSpPr>
        <p:sp>
          <p:nvSpPr>
            <p:cNvPr id="736" name=""/>
            <p:cNvSpPr/>
            <p:nvPr/>
          </p:nvSpPr>
          <p:spPr>
            <a:xfrm>
              <a:off x="3581280" y="9144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c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nc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2133360" y="106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133360" y="2646360"/>
            <a:ext cx="4115160" cy="838080"/>
            <a:chOff x="2133360" y="2646360"/>
            <a:chExt cx="4115160" cy="838080"/>
          </a:xfrm>
        </p:grpSpPr>
        <p:sp>
          <p:nvSpPr>
            <p:cNvPr id="739" name=""/>
            <p:cNvSpPr/>
            <p:nvPr/>
          </p:nvSpPr>
          <p:spPr>
            <a:xfrm>
              <a:off x="3581280" y="264636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y entire string in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to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2133360" y="27986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2666880" y="3962520"/>
            <a:ext cx="4114800" cy="1067400"/>
            <a:chOff x="2666880" y="3962520"/>
            <a:chExt cx="4114800" cy="1067400"/>
          </a:xfrm>
        </p:grpSpPr>
        <p:sp>
          <p:nvSpPr>
            <p:cNvPr id="742" name=""/>
            <p:cNvSpPr/>
            <p:nvPr/>
          </p:nvSpPr>
          <p:spPr>
            <a:xfrm>
              <a:off x="4114800" y="3962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y first 14 characters of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to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Note that this does not write terminating null charac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2666880" y="411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209680" y="4267080"/>
            <a:ext cx="4114800" cy="838080"/>
            <a:chOff x="2209680" y="4267080"/>
            <a:chExt cx="4114800" cy="838080"/>
          </a:xfrm>
        </p:grpSpPr>
        <p:sp>
          <p:nvSpPr>
            <p:cNvPr id="745" name=""/>
            <p:cNvSpPr/>
            <p:nvPr/>
          </p:nvSpPr>
          <p:spPr>
            <a:xfrm>
              <a:off x="3657600" y="4267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terminating null charac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2209680" y="44193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82E18-0D89-45EC-995C-54F3D534C54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1066680"/>
            <a:ext cx="70102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n array x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n array y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string in array z is: Happy Birth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4495680" y="492120"/>
            <a:ext cx="4114800" cy="838080"/>
            <a:chOff x="4495680" y="492120"/>
            <a:chExt cx="4114800" cy="838080"/>
          </a:xfrm>
        </p:grpSpPr>
        <p:sp>
          <p:nvSpPr>
            <p:cNvPr id="751" name=""/>
            <p:cNvSpPr/>
            <p:nvPr/>
          </p:nvSpPr>
          <p:spPr>
            <a:xfrm>
              <a:off x="5943600" y="4921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ing to cop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495680" y="644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495680" y="720720"/>
            <a:ext cx="4114800" cy="838080"/>
            <a:chOff x="4495680" y="720720"/>
            <a:chExt cx="4114800" cy="838080"/>
          </a:xfrm>
        </p:grpSpPr>
        <p:sp>
          <p:nvSpPr>
            <p:cNvPr id="754" name=""/>
            <p:cNvSpPr/>
            <p:nvPr/>
          </p:nvSpPr>
          <p:spPr>
            <a:xfrm>
              <a:off x="5943600" y="7207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 string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c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495680" y="87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885840" y="914400"/>
            <a:ext cx="4724640" cy="838080"/>
            <a:chOff x="3885840" y="914400"/>
            <a:chExt cx="4724640" cy="838080"/>
          </a:xfrm>
        </p:grpSpPr>
        <p:sp>
          <p:nvSpPr>
            <p:cNvPr id="757" name=""/>
            <p:cNvSpPr/>
            <p:nvPr/>
          </p:nvSpPr>
          <p:spPr>
            <a:xfrm>
              <a:off x="594360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 first 14 character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nc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885840" y="1066680"/>
              <a:ext cx="2057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2C5B-CEF0-40A9-B2AD-A7849BE009C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enat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cat( char *s1, const char *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nds second argument to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haracter of second argument replaces null character terminating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 first argument large enough to store concatenated result and nu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ncat( char *s1, const char *s2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nds specified number of characters from second argument to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nds terminating null character to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7AA0-0BFD-4A6A-9B13-C4542730468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9: fig05_2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at and strnca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strcat and strn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Yea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at( s1, s2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e s2 to 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trcat(s1, s2):\n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e first 6 characters of s1 to s3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at( s3, s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s '\0' after last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133360" y="914400"/>
            <a:ext cx="4115160" cy="838080"/>
            <a:chOff x="2133360" y="914400"/>
            <a:chExt cx="4115160" cy="838080"/>
          </a:xfrm>
        </p:grpSpPr>
        <p:sp>
          <p:nvSpPr>
            <p:cNvPr id="764" name=""/>
            <p:cNvSpPr/>
            <p:nvPr/>
          </p:nvSpPr>
          <p:spPr>
            <a:xfrm>
              <a:off x="3581280" y="9144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c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nc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2133360" y="106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752480" y="3048120"/>
            <a:ext cx="4114800" cy="838080"/>
            <a:chOff x="1752480" y="3048120"/>
            <a:chExt cx="4114800" cy="838080"/>
          </a:xfrm>
        </p:grpSpPr>
        <p:sp>
          <p:nvSpPr>
            <p:cNvPr id="767" name=""/>
            <p:cNvSpPr/>
            <p:nvPr/>
          </p:nvSpPr>
          <p:spPr>
            <a:xfrm>
              <a:off x="3200400" y="30481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17524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209680" y="4419720"/>
            <a:ext cx="4114800" cy="838080"/>
            <a:chOff x="2209680" y="4419720"/>
            <a:chExt cx="4114800" cy="838080"/>
          </a:xfrm>
        </p:grpSpPr>
        <p:sp>
          <p:nvSpPr>
            <p:cNvPr id="770" name=""/>
            <p:cNvSpPr/>
            <p:nvPr/>
          </p:nvSpPr>
          <p:spPr>
            <a:xfrm>
              <a:off x="3657600" y="4419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first 6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2209680" y="457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590D3-2101-41B4-8F54-66B4DFD63F8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trncat(s3, s1, 6):\n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3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at( s3, s1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e s1 to s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trcat(s3, s1):\ns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3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3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2438280"/>
            <a:ext cx="7010280" cy="3353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trcat(s1, s2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trncat(s3, s1, 6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= Ha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trcat(s3, s1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= Happy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752480" y="228600"/>
            <a:ext cx="4114800" cy="609480"/>
            <a:chOff x="1752480" y="228600"/>
            <a:chExt cx="4114800" cy="609480"/>
          </a:xfrm>
        </p:grpSpPr>
        <p:sp>
          <p:nvSpPr>
            <p:cNvPr id="776" name=""/>
            <p:cNvSpPr/>
            <p:nvPr/>
          </p:nvSpPr>
          <p:spPr>
            <a:xfrm>
              <a:off x="3200400" y="2286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1752480" y="3808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BD062-3583-4E7F-A7D1-0D754227FEC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s represented as numeric c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compared using numeric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codes / character 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Standard Code for Information Intercha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BC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ed Binary Coded Decimal Interchange Co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96F2-92D2-41A0-8FD3-B5B1D16B78F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trcmp( const char *s1, const char *s2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character by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if strings 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 value if first string less than second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value if first string greater than second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trncmp( const char *s1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 char *s2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up to specified number of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comparing if reaches null character in one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DFF3-E31C-4F3E-847B-CA9D8938A07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30: fig05_3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mp and strncm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strcmp and strncm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New Ye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New Ye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Holiday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3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rcmp(s1, s2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trcmp( s1, s2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cmp(s1, s3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cmp( s1, s3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cmp(s3, s1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trcmp( s3, 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828440" y="1749600"/>
            <a:ext cx="4115160" cy="838080"/>
            <a:chOff x="1828440" y="1749600"/>
            <a:chExt cx="4115160" cy="838080"/>
          </a:xfrm>
        </p:grpSpPr>
        <p:sp>
          <p:nvSpPr>
            <p:cNvPr id="785" name=""/>
            <p:cNvSpPr/>
            <p:nvPr/>
          </p:nvSpPr>
          <p:spPr>
            <a:xfrm>
              <a:off x="3276360" y="1749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cm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ncm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1828440" y="1901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4190760" y="4038480"/>
            <a:ext cx="4115160" cy="838440"/>
            <a:chOff x="4190760" y="4038480"/>
            <a:chExt cx="4115160" cy="838440"/>
          </a:xfrm>
        </p:grpSpPr>
        <p:sp>
          <p:nvSpPr>
            <p:cNvPr id="788" name=""/>
            <p:cNvSpPr/>
            <p:nvPr/>
          </p:nvSpPr>
          <p:spPr>
            <a:xfrm>
              <a:off x="5638680" y="40384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4190760" y="4191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971800" y="4384800"/>
            <a:ext cx="4114800" cy="838080"/>
            <a:chOff x="2971800" y="4384800"/>
            <a:chExt cx="4114800" cy="838080"/>
          </a:xfrm>
        </p:grpSpPr>
        <p:sp>
          <p:nvSpPr>
            <p:cNvPr id="791" name=""/>
            <p:cNvSpPr/>
            <p:nvPr/>
          </p:nvSpPr>
          <p:spPr>
            <a:xfrm>
              <a:off x="4419720" y="43848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1800" y="45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190760" y="4730760"/>
            <a:ext cx="4115160" cy="837720"/>
            <a:chOff x="4190760" y="4730760"/>
            <a:chExt cx="4115160" cy="837720"/>
          </a:xfrm>
        </p:grpSpPr>
        <p:sp>
          <p:nvSpPr>
            <p:cNvPr id="794" name=""/>
            <p:cNvSpPr/>
            <p:nvPr/>
          </p:nvSpPr>
          <p:spPr>
            <a:xfrm>
              <a:off x="5638680" y="473076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4190760" y="488304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1712-37E0-455C-9A67-72CA3421251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rncmp(s1, s3, 6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ncmp( s1, s3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ncmp(s1, s3, 7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trncmp( s1, s3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ncmp(s3, s1, 7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trncmp( s3, s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24382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= Happy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cmp(s1, s2)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cmp(s1, s3) =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cmp(s3, s1) =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ncmp(s1, s3, 6)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ncmp(s1, s3, 7) =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ncmp(s3, s1, 7) =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971440" y="76320"/>
            <a:ext cx="3810240" cy="609480"/>
            <a:chOff x="2971440" y="76320"/>
            <a:chExt cx="3810240" cy="609480"/>
          </a:xfrm>
        </p:grpSpPr>
        <p:sp>
          <p:nvSpPr>
            <p:cNvPr id="800" name=""/>
            <p:cNvSpPr/>
            <p:nvPr/>
          </p:nvSpPr>
          <p:spPr>
            <a:xfrm>
              <a:off x="4114800" y="76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up to 6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2971440" y="2286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123720" y="228600"/>
            <a:ext cx="3810240" cy="609480"/>
            <a:chOff x="3123720" y="228600"/>
            <a:chExt cx="3810240" cy="609480"/>
          </a:xfrm>
        </p:grpSpPr>
        <p:sp>
          <p:nvSpPr>
            <p:cNvPr id="803" name=""/>
            <p:cNvSpPr/>
            <p:nvPr/>
          </p:nvSpPr>
          <p:spPr>
            <a:xfrm>
              <a:off x="4267080" y="228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up to 7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123720" y="38088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657240" y="685800"/>
            <a:ext cx="3810240" cy="609480"/>
            <a:chOff x="3657240" y="685800"/>
            <a:chExt cx="3810240" cy="609480"/>
          </a:xfrm>
        </p:grpSpPr>
        <p:sp>
          <p:nvSpPr>
            <p:cNvPr id="806" name=""/>
            <p:cNvSpPr/>
            <p:nvPr/>
          </p:nvSpPr>
          <p:spPr>
            <a:xfrm>
              <a:off x="4800600" y="685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up to 7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657240" y="83808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FE9F-49C9-445B-BCC0-B625FC57B15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990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1440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ddress of a is 0012FE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Ptr is 0012FE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*aPtr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ing that * and &amp; are inverses of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*aPtr = 0012FE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&amp;aPtr = 0012FED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52120" y="2666520"/>
            <a:ext cx="3886560" cy="977040"/>
            <a:chOff x="1752120" y="2666520"/>
            <a:chExt cx="3886560" cy="977040"/>
          </a:xfrm>
        </p:grpSpPr>
        <p:sp>
          <p:nvSpPr>
            <p:cNvPr id="155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inverses; same result when both applied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1752120" y="2666520"/>
              <a:ext cx="1219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75212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B6DB-6320-4499-A3E1-FF1428F268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eaking strings into tokens, separated by delimiting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kens usually logical units, such as words (separated by spac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This is my string"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4 word tokens (separated by spac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tok( char *s1, const char *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call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all contains two arguments, string to be tokenized and string containing delimiting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next delimiting character and replaces with nu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calls continue token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with first argu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80EB-A5A6-4AEB-AE00-70B3E3AA108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31: fig05_3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to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strto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tence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is a sentence with 7 toke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token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to be tokenized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tokens are: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gin tokenization of 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okenPtr = strtok( sentenc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133360" y="914400"/>
            <a:ext cx="4115160" cy="838080"/>
            <a:chOff x="2133360" y="914400"/>
            <a:chExt cx="4115160" cy="838080"/>
          </a:xfrm>
        </p:grpSpPr>
        <p:sp>
          <p:nvSpPr>
            <p:cNvPr id="813" name=""/>
            <p:cNvSpPr/>
            <p:nvPr/>
          </p:nvSpPr>
          <p:spPr>
            <a:xfrm>
              <a:off x="3581280" y="914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t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133360" y="106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133360" y="3311640"/>
            <a:ext cx="4115160" cy="838080"/>
            <a:chOff x="2133360" y="3311640"/>
            <a:chExt cx="4115160" cy="838080"/>
          </a:xfrm>
        </p:grpSpPr>
        <p:sp>
          <p:nvSpPr>
            <p:cNvPr id="816" name=""/>
            <p:cNvSpPr/>
            <p:nvPr/>
          </p:nvSpPr>
          <p:spPr>
            <a:xfrm>
              <a:off x="3581280" y="33116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rst cal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t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gins tokeniza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133360" y="3463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5C77-B995-44BB-946D-04AD357A3C3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inue tokenizing sentence until tokenPtr becomes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oken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token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kenPtr = strto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et next toke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strtok, sentence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ntenc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857320" y="1066680"/>
            <a:ext cx="4115160" cy="1281240"/>
            <a:chOff x="2857320" y="1066680"/>
            <a:chExt cx="4115160" cy="1281240"/>
          </a:xfrm>
        </p:grpSpPr>
        <p:sp>
          <p:nvSpPr>
            <p:cNvPr id="821" name=""/>
            <p:cNvSpPr/>
            <p:nvPr/>
          </p:nvSpPr>
          <p:spPr>
            <a:xfrm>
              <a:off x="4305240" y="15238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bsequent call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t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first argument to indicate continu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 flipV="1">
              <a:off x="2857320" y="1066680"/>
              <a:ext cx="14475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4887-4E3D-4277-860E-120DA51FEE7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to be tokenized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is a sentence with 7 toke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tokens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trtok, sentence = Th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E695-C8C1-47A9-A4BA-607C348E60C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ng string l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_t strlen( const char *s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number of characters in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ing null character not included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0F1C-DE6D-4F98-BC61-30A73E549F2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32: fig05_3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le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strl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cdefghijklmnopqrstuvwxyz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o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s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length of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len( string1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length of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len( string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length of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len( string3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2133360" y="914400"/>
            <a:ext cx="4115160" cy="838080"/>
            <a:chOff x="2133360" y="914400"/>
            <a:chExt cx="4115160" cy="838080"/>
          </a:xfrm>
        </p:grpSpPr>
        <p:sp>
          <p:nvSpPr>
            <p:cNvPr id="830" name=""/>
            <p:cNvSpPr/>
            <p:nvPr/>
          </p:nvSpPr>
          <p:spPr>
            <a:xfrm>
              <a:off x="3581280" y="914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l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2133360" y="106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038480" y="3809880"/>
            <a:ext cx="4114800" cy="838440"/>
            <a:chOff x="4038480" y="3809880"/>
            <a:chExt cx="4114800" cy="838440"/>
          </a:xfrm>
        </p:grpSpPr>
        <p:sp>
          <p:nvSpPr>
            <p:cNvPr id="833" name=""/>
            <p:cNvSpPr/>
            <p:nvPr/>
          </p:nvSpPr>
          <p:spPr>
            <a:xfrm>
              <a:off x="5486400" y="3809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l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etermine length of string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38480" y="3962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266720" y="396252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>
              <a:off x="4266720" y="38098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BB31-5470-4D52-BC29-0BEFA26035E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ength of "abcdefghijklmnopqrstuvwxyz" is 2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ength of "four" is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length of "Boston" is 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FAFB-CD30-48A6-912D-083ECD1ABA7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 by 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ways to pass arguments to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-by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-by-reference with reference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-by-reference with pointer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turn one value from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s passed to function using referenc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ify original values of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than one value “returned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80E3-A697-4357-93A3-7A156F4E36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3:16:45Z</dcterms:created>
  <dc:creator>Audrey Lee</dc:creator>
  <dc:description/>
  <dc:language>en-US</dc:language>
  <cp:lastModifiedBy>Pearson Education</cp:lastModifiedBy>
  <dcterms:modified xsi:type="dcterms:W3CDTF">2002-08-01T20:32:44Z</dcterms:modified>
  <cp:revision>161</cp:revision>
  <dc:subject/>
  <dc:title>Chapter 5 - Pointers and Strings</dc:title>
</cp:coreProperties>
</file>