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0D582-E268-443B-A296-29DD4EF5B2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403CF-9472-4618-AE8C-025B21B525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971D7-0EAB-4E5D-ACE4-53C37CE178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7C80D-028D-4074-89CB-71E2BECFA5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C391C-2E9F-4F4B-89E3-295A750DDC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C9AAB-2426-4189-8CC8-46DA94CB6A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3898B-55C9-45FF-9866-578B21C06B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0EC1E-F6C4-4C2E-BFAE-F6DEFAAFAC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75830-2FD8-4DC6-B68E-BEF0B99E13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168D2-7595-406B-84A6-CB44043C30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0BAB0-F4E3-499B-BC65-284331DC1D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33C48-F505-47E4-8A6C-574075CB63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ED50E-244B-44C5-A00E-FFE3E45C31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06817-9C0A-448B-B47E-2FE7E9BB66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1E1B0-9E4D-41A6-AC9C-17089350AB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2C4F4-05E1-4564-AAED-D141A7BDDE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52FE9-21BB-4099-A335-31E005E059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87B04-B18E-4B64-8FAD-B38CA6676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D5A9E-01A7-4D90-B107-0EA395FFDC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A704E-B5F5-47BB-8947-6F68D2E37A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573BC-9C87-4441-A8D8-D8655B4988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5052E-68CE-4801-BD58-1F8B0ABF48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C146A-55DE-4035-976F-778C38741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5329A-C895-48A2-B8CE-8026CC092A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33F4-B0EB-4B05-B301-46734C048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B6BA-0232-42A3-BD2E-7380B9ECA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Programming: Polymorphism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219320"/>
            <a:ext cx="807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elationships Among Objects in an Inheritance Hierarc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2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voking Base-Class Functions from Derived-Class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2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Aiming Derived-Class Pointers at Base-Class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2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Derived-Class Member-Function Calls via Base-Class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2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Virtual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olymorphism Exam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ype Fields and switch 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Abstract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ase Study: Inheriting Interface and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olymorphism, Virtual Functions and Dynamic Binding “Under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he Hoo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Virtual Destru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74683-763E-4AF3-ADE2-A31D858D27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adiu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Radiu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Diame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Radius() * getRadiu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94359-498C-4C29-9CD3-12BC750927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86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ircle object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enter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::prin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oke Point's print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radius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Radius();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047760" y="228600"/>
            <a:ext cx="4115160" cy="1310760"/>
            <a:chOff x="3047760" y="228600"/>
            <a:chExt cx="4115160" cy="1310760"/>
          </a:xfrm>
        </p:grpSpPr>
        <p:sp>
          <p:nvSpPr>
            <p:cNvPr id="120" name=""/>
            <p:cNvSpPr/>
            <p:nvPr/>
          </p:nvSpPr>
          <p:spPr>
            <a:xfrm>
              <a:off x="4495680" y="22860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defines its print function. It call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print function to output the x,y coordinates of the center, then prints the radiu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047760" y="3808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5C6F8-2397-44FC-8F5D-3AAEB5EDEF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5: fig10_0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iming base-class and derived-class pointers at base-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derived-class objects, respectivel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 po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 *point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ase-class po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 circ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 *circle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rived-class po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51775-F9D3-4515-996C-D8F545B90F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loating-point numeric format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fixed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objects point and circ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 point and circle objects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oi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.print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okes Point's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Circl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prin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okes Circle's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im base-class pointer at base-class object and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Ptr = &amp;point;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Calling print with base-class pointer to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base-class object invokes base-class print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unc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Ptr-&gt;prin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okes Point's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im derived-class pointer at derived-class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nd print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Ptr = &amp;circle;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Calling print with derived-class pointer to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erived-class object invokes derived-clas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 func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Ptr-&gt;prin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okes Circle's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285640" y="76320"/>
            <a:ext cx="4343760" cy="5181480"/>
            <a:chOff x="2285640" y="76320"/>
            <a:chExt cx="4343760" cy="5181480"/>
          </a:xfrm>
        </p:grpSpPr>
        <p:sp>
          <p:nvSpPr>
            <p:cNvPr id="127" name=""/>
            <p:cNvSpPr/>
            <p:nvPr/>
          </p:nvSpPr>
          <p:spPr>
            <a:xfrm>
              <a:off x="3962520" y="7632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objects and pointers to call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. The pointers and objects are of the same class, so the prop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is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285640" y="762120"/>
              <a:ext cx="167652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438280" y="762120"/>
              <a:ext cx="152424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514600" y="762120"/>
              <a:ext cx="1447920" cy="449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B1F5B-7BBF-4BAA-9EAA-37C1EA4EC1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666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im base-class pointer at derived-class object and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Ptr = &amp;circle;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Calling print with base-class pointer to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rived-class object\ninvokes base-class print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unction on that derived-class object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Ptr-&gt;print()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invokes Point's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057040" y="1523520"/>
            <a:ext cx="3810240" cy="2041200"/>
            <a:chOff x="2057040" y="1523520"/>
            <a:chExt cx="3810240" cy="2041200"/>
          </a:xfrm>
        </p:grpSpPr>
        <p:sp>
          <p:nvSpPr>
            <p:cNvPr id="134" name=""/>
            <p:cNvSpPr/>
            <p:nvPr/>
          </p:nvSpPr>
          <p:spPr>
            <a:xfrm>
              <a:off x="3200400" y="1523880"/>
              <a:ext cx="2666880" cy="2040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iming a base-class pointer at a derived object is allowed (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“is a”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 However, it call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print function, determined by the pointer type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 allow us to change thi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2057040" y="1523520"/>
              <a:ext cx="11430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5A755-E722-474C-A4BC-14D1F996A3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505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point and circle object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: [30, 50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: center = [120, 89]; radius = 2.7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ing print with base-class pointer t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ase-class object invokes base-class print func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30, 50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ing print with derived-class pointer to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-class object invokes derived-class print func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enter = [120, 89]; radius = 2.7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ing print with base-class pointer to derived-class objec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vokes base-class print function on that derived-class objec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120, 89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3E111-D6A3-48CE-A8F6-EA7C41F62C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.2 Aiming Derived-Class Pointers at Base-Class Objec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ious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imed base-class pointer at derived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“is a”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m a derived-class pointer at a base-class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“is a”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not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data/functions th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oes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Radi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efined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not defined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cast base-object’s address to derived-class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ed downcasting (more in 10.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derived-class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3F30F-CD94-4B4B-B251-B9FF2DC9F4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6: fig10_0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iming a derived-class pointer at a base-class objec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 po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 *circle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// aim derived-class pointer at base-class object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circlePtr = &amp;point;  // Error: a Point is not a Circ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73392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10\fig10_06\Fig10_06.cpp(12) : error C2440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'=' : cannot convert from 'class Point *' to 'class Circle *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s pointed to are unrelated; conversion requ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interpret_cast, C-style cast or function-style 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FB187-213D-4A02-9BE8-663C75E70C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.3 Derived-Class Member-Function Calls via Base-Class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e (pointer/re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-pointer can aim at derived-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can only call base-class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ling derived-class functions is a compiler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not defined in base-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t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type of pointer/reference determines functions it can 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1D020-831D-49F8-82E2-542DAC1981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952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7: fig10_0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tempting to invoke derived-class-only member fun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rough a base-class point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oin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 *point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 circ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im base-class pointer at derived-class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Ptr = &amp;circ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voke base-class member functions on derived-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r>
              <a:rPr b="1" lang="en-US" sz="1200" spc="-1" strike="noStrike">
                <a:solidFill>
                  <a:srgbClr val="66ff33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object through base-class po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pointPtr-&gt;getX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= pointPtr-&gt;get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Ptr-&gt;setX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Ptr-&gt;set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Ptr-&gt;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51EF4-6A9A-403B-A412-E5B6E310D6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1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 in the general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eat objects in same class hierarchy as if all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rtual functions and dynamic bin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explain how polymorphism 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s programs extensi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classes added easily, can still be proce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ur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abstract base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a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s common interface (functional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ylin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a natural 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87CA0-0E19-4039-9A69-4A668F8DCE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666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// attempt to invoke derived-class-only member fun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// on derived-class object through base-class pointer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double radius = pointPtr-&gt;getRadius();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pointPtr-&gt;setRadius( 33.33 );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double diameter = pointPtr-&gt;getDiameter();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double circumference = pointPtr-&gt;getCircumference()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double area = pointPtr-&gt;getArea();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971800" y="1676160"/>
            <a:ext cx="2666880" cy="2210760"/>
            <a:chOff x="2971800" y="1676160"/>
            <a:chExt cx="2666880" cy="2210760"/>
          </a:xfrm>
        </p:grpSpPr>
        <p:sp>
          <p:nvSpPr>
            <p:cNvPr id="150" name=""/>
            <p:cNvSpPr/>
            <p:nvPr/>
          </p:nvSpPr>
          <p:spPr>
            <a:xfrm>
              <a:off x="2971800" y="28195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se functions are only defined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However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2971800" y="1676160"/>
              <a:ext cx="4572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80ED3-4A1D-49EE-80C2-4DB8BF279B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334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10\fig10_07\fig10_07.cpp(25) : error C2039: 'getRadius' : is not a member of 'Point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10\fig10_07\point.h(6) 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e declaration of 'Point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10\fig10_07\fig10_07.cpp(26) : error C2039: 'setRadius' : is not a member of 'Point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10\fig10_07\point.h(6) 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e declaration of 'Point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10\fig10_07\fig10_07.cpp(27) : error C2039: 'getDiameter' : is not a member of 'Point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10\fig10_07\point.h(6) 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e declaration of 'Point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10\fig10_07\fig10_07.cpp(28) : error C2039: 'getCircumference' : is not a member of 'Point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10\fig10_07\point.h(6) 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e declaration of 'Point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10\fig10_07\fig10_07.cpp(29) : error C2039: 'getArea' : is not a member of 'Point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10\fig10_07\point.h(6) 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e declaration of 'Point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4F671-5FF5-4D02-892C-318C539D13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.4 Virtual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, pointer-class determines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 (not pointer) determines function cal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iang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erived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a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has ow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draw any sha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base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er, cal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determines prop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unction at run time (dynamical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at all shapes gener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DB508-4AA6-4428-90FF-19B5EF2829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.4 Virtual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bas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rid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each derived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 redefining, but new function must have same sign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function declar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 only be overrid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 void draw() 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declar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all derived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practice to explicitly decla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oose proper function to call at run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occurs off pointer hand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function called from object, uses that object’s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FBD12-F291-474B-9CDC-FCF23B5F54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.4 Virtual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d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ample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-class pointer to derived-class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call derived-class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456B3-1B30-426C-9BFE-DF8F7499AA7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8: point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definition represents an x-y coordinate pai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OINT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OINT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Poin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x part of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y part of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057400" y="2819520"/>
            <a:ext cx="4114800" cy="838080"/>
            <a:chOff x="2057400" y="2819520"/>
            <a:chExt cx="4114800" cy="838080"/>
          </a:xfrm>
        </p:grpSpPr>
        <p:sp>
          <p:nvSpPr>
            <p:cNvPr id="163" name=""/>
            <p:cNvSpPr/>
            <p:nvPr/>
          </p:nvSpPr>
          <p:spPr>
            <a:xfrm>
              <a:off x="3505320" y="28195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nt declar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It will b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 all derived class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2057400" y="2971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3DF44-4E3C-4C0A-8367-79B088CCB4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553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9: circle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contains x-y coordinate pair and radiu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ircl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's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lass Circ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DCB7F-6658-4631-8E59-7A878B9D0AA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10: fig10_1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roducing polymorphism, virtual functions and dynami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binding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 po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 *point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 circ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 *circle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02F09-E50A-460C-BFFD-E128B5B46E9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loating-point numeric format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fixed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objects point and circle using static b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voking print function on point and circle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objects with static binding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Poi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.print()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tic b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Circl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print()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tic b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objects point and circle using dynamic b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Invoking print function on point and circle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objects with dynamic bind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im base-class pointer at base-class object and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Ptr = &amp;point;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Calling virtual function print with base-class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ointer to base-class object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invokes base-class print func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Ptr-&gt;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E2C9D-CA0D-47FA-81F7-2DF5EA26ABB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im derived-class pointer at derived-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ject and print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Ptr = &amp;circle;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Calling virtual function print with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erived-class pointer to derived-class object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invokes derived-class print func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Ptr-&gt;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im base-class pointer at derived-class object and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Ptr = &amp;circle;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Calling virtual function print with base-class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ointer to derived-class object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invokes derived-class print func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Ptr-&gt;prin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lymorphism: invokes circle's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057040" y="3276720"/>
            <a:ext cx="3810240" cy="1982520"/>
            <a:chOff x="2057040" y="3276720"/>
            <a:chExt cx="3810240" cy="1982520"/>
          </a:xfrm>
        </p:grpSpPr>
        <p:sp>
          <p:nvSpPr>
            <p:cNvPr id="174" name=""/>
            <p:cNvSpPr/>
            <p:nvPr/>
          </p:nvSpPr>
          <p:spPr>
            <a:xfrm>
              <a:off x="3200400" y="3705120"/>
              <a:ext cx="266688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 run time, the program determines th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aiming at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, and call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print function. This is an example of polymorphism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2057040" y="3276720"/>
              <a:ext cx="11430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7E65A-E09D-4619-9197-5F81459BBCE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lationships Among Objects in an Inheritance Hierarch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iously (Section 9.4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herited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ipulat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s using 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voke functions using base-class/derived-class poin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roduc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con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-class object can be treated as base-class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-a”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 class is not a derived class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AC3BD-B7FE-4E10-BB95-CD2CAE3BBD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fig10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334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voking print function on point and circ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s with static b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: [30, 50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: Center = [120, 89]; Radius = 2.7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voking print function on point and circ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s with dynamic b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ing virtual function print with base-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er to base-class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vokes base-class print func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30, 50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ing virtual function print wi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-class pointer to derived-class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vokes derived-class print func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enter = [120, 89]; Radius = 2.7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ing virtual function print with base-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er to derived-class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vokes derived-class print func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enter = [120, 89]; Radius = 2.7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44065-1B00-41ED-9F33-19FC3C31FBA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.4 Virtual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message, “print”, given to many objec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through a base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ssage takes on “many forms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-pointer to base-object, derived-pointer to deriv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aightfor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-pointer to derived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call base-class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-pointer to base-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ed if explicit cast made (more in section 10.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45C8D-BB95-4383-92B1-7AADFC14CF9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lymorphism Examp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erives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Quadrilate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re specif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adrilat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operation 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adrilatera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done 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.e., perimeter, are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designing video g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pace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rti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aceShi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erB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 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refresh scr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reen manager h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base-class pointers to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ssage to each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message has “many forms” of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83E72-A860-420C-828D-E5654313228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lymorphism Examp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deo game example, continu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sy to add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ercuri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erits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ace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s own definition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reen manager does not need to change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gardless of object’s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rcuri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s “plug right i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and many objects without knowing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ensible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classes eas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E49A4-5CC7-43FA-A088-DFF97F1E222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ype Fields and switch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way to determine object's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ive base class an attribu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call prop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forget to test for case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it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add/remove a class, must updat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uc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consuming and error pr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ter to use poly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ss branching logic, simpler programs, less debug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9F3EF-C908-48AE-8905-89FC51D805D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bstract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 class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le purpose: to be a base class (called abstract base class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omple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es fill in "missing pieces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make objects from abstract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ever, can have pointers and 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ret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instantiate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 all functions they def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specif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E428D-4289-4025-B443-B6866F22D3D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bstract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 classes not required, but help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ke a class abs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ed one or more "pure" virtual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 function with initializer of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 void draw() const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gular virtual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implementations, overriding is op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re virtual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implementation, must be overrid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bstract classes can have data and concrete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d to have one or more pure virtual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34C4D-2C5B-4594-A3DD-98465F7C047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bstract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 base class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ful for polymorphis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bstract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a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pure virtual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iang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erived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a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must implem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reen manager knows that each object can draw itsel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ors (more Chapter 2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alk through elements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base-class pointer to se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ssage to ea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78A45-84C5-4955-B7C8-1181EA681C7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Inheriting Interface and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abstract base 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h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re virtual functions (must be implement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implementation does not make s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rtual functions (may be redefin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Are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ly 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t redefined, uses base class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 class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yl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EF7C9-E4D1-4506-8AAD-D0C6567C225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Inheriting Interface and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85800" y="1295280"/>
            <a:ext cx="7848720" cy="4724640"/>
            <a:chOff x="685800" y="1295280"/>
            <a:chExt cx="7848720" cy="4724640"/>
          </a:xfrm>
        </p:grpSpPr>
        <p:sp>
          <p:nvSpPr>
            <p:cNvPr id="196" name=""/>
            <p:cNvSpPr/>
            <p:nvPr/>
          </p:nvSpPr>
          <p:spPr>
            <a:xfrm>
              <a:off x="685800" y="1295280"/>
              <a:ext cx="7848720" cy="472464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991080" y="1588680"/>
              <a:ext cx="7238160" cy="4136040"/>
              <a:chOff x="991080" y="1588680"/>
              <a:chExt cx="7238160" cy="41360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1951200" y="1923840"/>
                <a:ext cx="1569240" cy="950040"/>
                <a:chOff x="1951200" y="1923840"/>
                <a:chExt cx="1569240" cy="9500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1951200" y="1923840"/>
                  <a:ext cx="1569240" cy="950040"/>
                  <a:chOff x="1951200" y="1923840"/>
                  <a:chExt cx="1569240" cy="9500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1951200" y="192384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1951200" y="192384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2" name=""/>
                <p:cNvSpPr/>
                <p:nvPr/>
              </p:nvSpPr>
              <p:spPr>
                <a:xfrm>
                  <a:off x="2037240" y="2035440"/>
                  <a:ext cx="1396080" cy="7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0.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3520800" y="1923840"/>
                <a:ext cx="1569240" cy="950040"/>
                <a:chOff x="3520800" y="1923840"/>
                <a:chExt cx="1569240" cy="950040"/>
              </a:xfrm>
            </p:grpSpPr>
            <p:grpSp>
              <p:nvGrpSpPr>
                <p:cNvPr id="204" name=""/>
                <p:cNvGrpSpPr/>
                <p:nvPr/>
              </p:nvGrpSpPr>
              <p:grpSpPr>
                <a:xfrm>
                  <a:off x="3520800" y="1923840"/>
                  <a:ext cx="1569240" cy="950040"/>
                  <a:chOff x="3520800" y="1923840"/>
                  <a:chExt cx="1569240" cy="95004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3520800" y="192384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520800" y="192384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3606840" y="2035440"/>
                  <a:ext cx="1396080" cy="7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0.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5090040" y="1923840"/>
                <a:ext cx="1569600" cy="950040"/>
                <a:chOff x="5090040" y="1923840"/>
                <a:chExt cx="1569600" cy="950040"/>
              </a:xfrm>
            </p:grpSpPr>
            <p:grpSp>
              <p:nvGrpSpPr>
                <p:cNvPr id="209" name=""/>
                <p:cNvGrpSpPr/>
                <p:nvPr/>
              </p:nvGrpSpPr>
              <p:grpSpPr>
                <a:xfrm>
                  <a:off x="5090040" y="1923840"/>
                  <a:ext cx="1569600" cy="950040"/>
                  <a:chOff x="5090040" y="1923840"/>
                  <a:chExt cx="1569600" cy="9500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5090040" y="1923840"/>
                    <a:ext cx="156960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5090040" y="1923840"/>
                    <a:ext cx="156960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2" name=""/>
                <p:cNvSpPr/>
                <p:nvPr/>
              </p:nvSpPr>
              <p:spPr>
                <a:xfrm>
                  <a:off x="5176440" y="2035440"/>
                  <a:ext cx="1396080" cy="7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= 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6660000" y="1923840"/>
                <a:ext cx="1569240" cy="950040"/>
                <a:chOff x="6660000" y="1923840"/>
                <a:chExt cx="1569240" cy="950040"/>
              </a:xfrm>
            </p:grpSpPr>
            <p:grpSp>
              <p:nvGrpSpPr>
                <p:cNvPr id="214" name=""/>
                <p:cNvGrpSpPr/>
                <p:nvPr/>
              </p:nvGrpSpPr>
              <p:grpSpPr>
                <a:xfrm>
                  <a:off x="6660000" y="1923840"/>
                  <a:ext cx="1569240" cy="950040"/>
                  <a:chOff x="6660000" y="1923840"/>
                  <a:chExt cx="1569240" cy="95004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>
                    <a:off x="6660000" y="192384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6660000" y="192384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7" name=""/>
                <p:cNvSpPr/>
                <p:nvPr/>
              </p:nvSpPr>
              <p:spPr>
                <a:xfrm>
                  <a:off x="6746040" y="2035440"/>
                  <a:ext cx="1396080" cy="7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= 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1951200" y="2874240"/>
                <a:ext cx="1569240" cy="950400"/>
                <a:chOff x="1951200" y="2874240"/>
                <a:chExt cx="1569240" cy="9504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1951200" y="2874240"/>
                  <a:ext cx="1569240" cy="950400"/>
                  <a:chOff x="1951200" y="2874240"/>
                  <a:chExt cx="1569240" cy="9504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1951200" y="2874240"/>
                    <a:ext cx="1569240" cy="9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1951200" y="2874240"/>
                    <a:ext cx="1569240" cy="9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2037240" y="2985840"/>
                  <a:ext cx="1396080" cy="7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0.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3520800" y="2874240"/>
                <a:ext cx="1569240" cy="950400"/>
                <a:chOff x="3520800" y="2874240"/>
                <a:chExt cx="1569240" cy="950400"/>
              </a:xfrm>
            </p:grpSpPr>
            <p:grpSp>
              <p:nvGrpSpPr>
                <p:cNvPr id="224" name=""/>
                <p:cNvGrpSpPr/>
                <p:nvPr/>
              </p:nvGrpSpPr>
              <p:grpSpPr>
                <a:xfrm>
                  <a:off x="3520800" y="2874240"/>
                  <a:ext cx="1569240" cy="950400"/>
                  <a:chOff x="3520800" y="2874240"/>
                  <a:chExt cx="1569240" cy="9504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3520800" y="2874240"/>
                    <a:ext cx="1569240" cy="9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3520800" y="2874240"/>
                    <a:ext cx="1569240" cy="9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7" name=""/>
                <p:cNvSpPr/>
                <p:nvPr/>
              </p:nvSpPr>
              <p:spPr>
                <a:xfrm>
                  <a:off x="3606480" y="2985840"/>
                  <a:ext cx="1396440" cy="7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0.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090040" y="2874240"/>
                <a:ext cx="1569600" cy="950400"/>
                <a:chOff x="5090040" y="2874240"/>
                <a:chExt cx="1569600" cy="950400"/>
              </a:xfrm>
            </p:grpSpPr>
            <p:grpSp>
              <p:nvGrpSpPr>
                <p:cNvPr id="229" name=""/>
                <p:cNvGrpSpPr/>
                <p:nvPr/>
              </p:nvGrpSpPr>
              <p:grpSpPr>
                <a:xfrm>
                  <a:off x="5090040" y="2874240"/>
                  <a:ext cx="1569600" cy="950400"/>
                  <a:chOff x="5090040" y="2874240"/>
                  <a:chExt cx="1569600" cy="95040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>
                    <a:off x="5090040" y="2874240"/>
                    <a:ext cx="1569600" cy="9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5090040" y="2874240"/>
                    <a:ext cx="1569600" cy="9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2" name=""/>
                <p:cNvSpPr/>
                <p:nvPr/>
              </p:nvSpPr>
              <p:spPr>
                <a:xfrm>
                  <a:off x="5176440" y="2985840"/>
                  <a:ext cx="1396080" cy="7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"Point"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6660000" y="2874240"/>
                <a:ext cx="1569240" cy="950400"/>
                <a:chOff x="6660000" y="2874240"/>
                <a:chExt cx="1569240" cy="950400"/>
              </a:xfrm>
            </p:grpSpPr>
            <p:grpSp>
              <p:nvGrpSpPr>
                <p:cNvPr id="234" name=""/>
                <p:cNvGrpSpPr/>
                <p:nvPr/>
              </p:nvGrpSpPr>
              <p:grpSpPr>
                <a:xfrm>
                  <a:off x="6660000" y="2874240"/>
                  <a:ext cx="1569240" cy="950400"/>
                  <a:chOff x="6660000" y="2874240"/>
                  <a:chExt cx="1569240" cy="95040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6660000" y="2874240"/>
                    <a:ext cx="1569240" cy="9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6660000" y="2874240"/>
                    <a:ext cx="1569240" cy="9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7" name=""/>
                <p:cNvSpPr/>
                <p:nvPr/>
              </p:nvSpPr>
              <p:spPr>
                <a:xfrm>
                  <a:off x="6746040" y="2985840"/>
                  <a:ext cx="1396080" cy="7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[x,y]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1951200" y="3824640"/>
                <a:ext cx="1569240" cy="950040"/>
                <a:chOff x="1951200" y="3824640"/>
                <a:chExt cx="1569240" cy="950040"/>
              </a:xfrm>
            </p:grpSpPr>
            <p:grpSp>
              <p:nvGrpSpPr>
                <p:cNvPr id="239" name=""/>
                <p:cNvGrpSpPr/>
                <p:nvPr/>
              </p:nvGrpSpPr>
              <p:grpSpPr>
                <a:xfrm>
                  <a:off x="1951200" y="3824640"/>
                  <a:ext cx="1569240" cy="950040"/>
                  <a:chOff x="1951200" y="3824640"/>
                  <a:chExt cx="1569240" cy="95004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1951200" y="382464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1951200" y="382464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2" name=""/>
                <p:cNvSpPr/>
                <p:nvPr/>
              </p:nvSpPr>
              <p:spPr>
                <a:xfrm>
                  <a:off x="2037240" y="3936240"/>
                  <a:ext cx="1396080" cy="7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i="1" sz="1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i="1" sz="14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3520800" y="3824640"/>
                <a:ext cx="1569240" cy="950040"/>
                <a:chOff x="3520800" y="3824640"/>
                <a:chExt cx="1569240" cy="950040"/>
              </a:xfrm>
            </p:grpSpPr>
            <p:grpSp>
              <p:nvGrpSpPr>
                <p:cNvPr id="244" name=""/>
                <p:cNvGrpSpPr/>
                <p:nvPr/>
              </p:nvGrpSpPr>
              <p:grpSpPr>
                <a:xfrm>
                  <a:off x="3520800" y="3824640"/>
                  <a:ext cx="1569240" cy="950040"/>
                  <a:chOff x="3520800" y="3824640"/>
                  <a:chExt cx="1569240" cy="95004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>
                    <a:off x="3520800" y="382464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3520800" y="382464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3606480" y="3936240"/>
                  <a:ext cx="1396440" cy="7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0.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5090040" y="3824640"/>
                <a:ext cx="1569600" cy="950040"/>
                <a:chOff x="5090040" y="3824640"/>
                <a:chExt cx="1569600" cy="950040"/>
              </a:xfrm>
            </p:grpSpPr>
            <p:grpSp>
              <p:nvGrpSpPr>
                <p:cNvPr id="249" name=""/>
                <p:cNvGrpSpPr/>
                <p:nvPr/>
              </p:nvGrpSpPr>
              <p:grpSpPr>
                <a:xfrm>
                  <a:off x="5090040" y="3824640"/>
                  <a:ext cx="1569600" cy="950040"/>
                  <a:chOff x="5090040" y="3824640"/>
                  <a:chExt cx="1569600" cy="95004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>
                    <a:off x="5090040" y="3824640"/>
                    <a:ext cx="156960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5090040" y="3824640"/>
                    <a:ext cx="156960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2" name=""/>
                <p:cNvSpPr/>
                <p:nvPr/>
              </p:nvSpPr>
              <p:spPr>
                <a:xfrm>
                  <a:off x="5176440" y="3936240"/>
                  <a:ext cx="1396080" cy="7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"Circle"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6660000" y="3824640"/>
                <a:ext cx="1569240" cy="950040"/>
                <a:chOff x="6660000" y="3824640"/>
                <a:chExt cx="1569240" cy="95004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6660000" y="3824640"/>
                  <a:ext cx="1569240" cy="950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71"/>
                      </a:lnTo>
                      <a:lnTo>
                        <a:pt x="0" y="19971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660000" y="3824640"/>
                  <a:ext cx="1569240" cy="950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71"/>
                      </a:lnTo>
                      <a:lnTo>
                        <a:pt x="0" y="19971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6746040" y="4076280"/>
                <a:ext cx="1396080" cy="50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400" spc="-1" strike="noStrike">
                    <a:solidFill>
                      <a:srgbClr val="000000"/>
                    </a:solidFill>
                    <a:latin typeface="Courier New"/>
                  </a:rPr>
                  <a:t>center=[x,y]; radius=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1951200" y="4774680"/>
                <a:ext cx="1569240" cy="950040"/>
                <a:chOff x="1951200" y="4774680"/>
                <a:chExt cx="1569240" cy="950040"/>
              </a:xfrm>
            </p:grpSpPr>
            <p:grpSp>
              <p:nvGrpSpPr>
                <p:cNvPr id="258" name=""/>
                <p:cNvGrpSpPr/>
                <p:nvPr/>
              </p:nvGrpSpPr>
              <p:grpSpPr>
                <a:xfrm>
                  <a:off x="1951200" y="4774680"/>
                  <a:ext cx="1569240" cy="950040"/>
                  <a:chOff x="1951200" y="4774680"/>
                  <a:chExt cx="1569240" cy="95004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>
                    <a:off x="1951200" y="477468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1951200" y="477468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1" name=""/>
                <p:cNvSpPr/>
                <p:nvPr/>
              </p:nvSpPr>
              <p:spPr>
                <a:xfrm>
                  <a:off x="2037240" y="4886280"/>
                  <a:ext cx="1396080" cy="78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i="1" sz="1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i="1" sz="14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2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+2</a:t>
                  </a:r>
                  <a:r>
                    <a:rPr b="0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i="1" sz="1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3520800" y="4774680"/>
                <a:ext cx="1569240" cy="950040"/>
                <a:chOff x="3520800" y="4774680"/>
                <a:chExt cx="1569240" cy="950040"/>
              </a:xfrm>
            </p:grpSpPr>
            <p:grpSp>
              <p:nvGrpSpPr>
                <p:cNvPr id="263" name=""/>
                <p:cNvGrpSpPr/>
                <p:nvPr/>
              </p:nvGrpSpPr>
              <p:grpSpPr>
                <a:xfrm>
                  <a:off x="3520800" y="4774680"/>
                  <a:ext cx="1569240" cy="950040"/>
                  <a:chOff x="3520800" y="4774680"/>
                  <a:chExt cx="1569240" cy="95004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3520800" y="477468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3520800" y="477468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6" name=""/>
                <p:cNvSpPr/>
                <p:nvPr/>
              </p:nvSpPr>
              <p:spPr>
                <a:xfrm>
                  <a:off x="3606480" y="4886280"/>
                  <a:ext cx="1396440" cy="78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i="1" sz="1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i="1" sz="14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090040" y="4774680"/>
                <a:ext cx="1569600" cy="950040"/>
                <a:chOff x="5090040" y="4774680"/>
                <a:chExt cx="1569600" cy="950040"/>
              </a:xfrm>
            </p:grpSpPr>
            <p:grpSp>
              <p:nvGrpSpPr>
                <p:cNvPr id="268" name=""/>
                <p:cNvGrpSpPr/>
                <p:nvPr/>
              </p:nvGrpSpPr>
              <p:grpSpPr>
                <a:xfrm>
                  <a:off x="5090040" y="4774680"/>
                  <a:ext cx="1569600" cy="950040"/>
                  <a:chOff x="5090040" y="4774680"/>
                  <a:chExt cx="1569600" cy="95004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5090040" y="4774680"/>
                    <a:ext cx="156960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5090040" y="4774680"/>
                    <a:ext cx="156960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1" name=""/>
                <p:cNvSpPr/>
                <p:nvPr/>
              </p:nvSpPr>
              <p:spPr>
                <a:xfrm>
                  <a:off x="5176440" y="4886280"/>
                  <a:ext cx="1396080" cy="78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"Cylinder"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660000" y="4774680"/>
                <a:ext cx="1569240" cy="950040"/>
                <a:chOff x="6660000" y="4774680"/>
                <a:chExt cx="1569240" cy="95004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6660000" y="4774680"/>
                  <a:ext cx="1569240" cy="950040"/>
                  <a:chOff x="6660000" y="4774680"/>
                  <a:chExt cx="1569240" cy="95004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6660000" y="477468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6660000" y="477468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6" name=""/>
                <p:cNvSpPr/>
                <p:nvPr/>
              </p:nvSpPr>
              <p:spPr>
                <a:xfrm>
                  <a:off x="6746040" y="4886280"/>
                  <a:ext cx="1396080" cy="78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center=[x,y]; radius=r; height=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" name=""/>
              <p:cNvSpPr/>
              <p:nvPr/>
            </p:nvSpPr>
            <p:spPr>
              <a:xfrm>
                <a:off x="2037600" y="1588680"/>
                <a:ext cx="139572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400" spc="-1" strike="noStrike">
                    <a:solidFill>
                      <a:srgbClr val="000000"/>
                    </a:solidFill>
                    <a:latin typeface="Courier New"/>
                  </a:rPr>
                  <a:t>getAre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746040" y="1588680"/>
                <a:ext cx="139608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400" spc="-1" strike="noStrike">
                    <a:solidFill>
                      <a:srgbClr val="000000"/>
                    </a:solidFill>
                    <a:latin typeface="Courier New"/>
                  </a:rPr>
                  <a:t>pri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176800" y="1588680"/>
                <a:ext cx="139608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400" spc="-1" strike="noStrike">
                    <a:solidFill>
                      <a:srgbClr val="000000"/>
                    </a:solidFill>
                    <a:latin typeface="Courier New"/>
                  </a:rPr>
                  <a:t>get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606480" y="1588680"/>
                <a:ext cx="139644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400" spc="-1" strike="noStrike">
                    <a:solidFill>
                      <a:srgbClr val="000000"/>
                    </a:solidFill>
                    <a:latin typeface="Courier New"/>
                  </a:rPr>
                  <a:t>getVolu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991080" y="2287440"/>
                <a:ext cx="87264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400" spc="-1" strike="noStrike">
                    <a:solidFill>
                      <a:srgbClr val="000000"/>
                    </a:solidFill>
                    <a:latin typeface="Courier New"/>
                  </a:rPr>
                  <a:t>Shap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991080" y="3237480"/>
                <a:ext cx="87264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400" spc="-1" strike="noStrike">
                    <a:solidFill>
                      <a:srgbClr val="000000"/>
                    </a:solidFill>
                    <a:latin typeface="Courier New"/>
                  </a:rPr>
                  <a:t>Poi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991080" y="4187880"/>
                <a:ext cx="87264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400" spc="-1" strike="noStrike">
                    <a:solidFill>
                      <a:srgbClr val="000000"/>
                    </a:solidFill>
                    <a:latin typeface="Courier New"/>
                  </a:rPr>
                  <a:t>Circ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991080" y="5138280"/>
                <a:ext cx="87264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400" spc="-1" strike="noStrike">
                    <a:solidFill>
                      <a:srgbClr val="000000"/>
                    </a:solidFill>
                    <a:latin typeface="Courier New"/>
                  </a:rPr>
                  <a:t>Cylin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04146-C0B7-43D1-AF3E-C61E49B6561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.1 Invoking Base-Class Functions from Derived-Class Objec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m pointers (base, derived) at objects (base, deriv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 pointer aimed at base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 pointer aimed at derived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straightfor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 pointer aimed at derived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a”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“is a”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invoke base class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call depends on the class of the pointer/hand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depend on object to which it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unctions, this can be changed (more la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9C46A-B74C-4E50-A55B-B6C90E3C3C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ape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12: shape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ape abstract-base-class defini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AP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AP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++ standard string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virtual function that returns shape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virtual function that returns shape volu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Volu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ure virtual functions; overridden in derived cla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shape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shape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2514600" y="2209680"/>
            <a:ext cx="4114800" cy="2362320"/>
            <a:chOff x="2514600" y="2209680"/>
            <a:chExt cx="4114800" cy="2362320"/>
          </a:xfrm>
        </p:grpSpPr>
        <p:sp>
          <p:nvSpPr>
            <p:cNvPr id="288" name=""/>
            <p:cNvSpPr/>
            <p:nvPr/>
          </p:nvSpPr>
          <p:spPr>
            <a:xfrm>
              <a:off x="3962520" y="2209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irtual and pure virtual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14600" y="2362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2895480" y="2362320"/>
              <a:ext cx="106704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F9431-63D9-4221-9F29-A5636B5F559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ape.cpp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13: shape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ape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ap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ap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area of shape; 0.0 by defa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volume of shape; 0.0 by defa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Volu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Volu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2B023-FC06-4938-A13A-EA13C730846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14: point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definition represents an x-y coordinate pai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OINT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OINT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ap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ap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name of shape (i.e., "Point"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Poin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2743200" y="2590920"/>
            <a:ext cx="4114800" cy="1523880"/>
            <a:chOff x="2743200" y="2590920"/>
            <a:chExt cx="4114800" cy="1523880"/>
          </a:xfrm>
        </p:grpSpPr>
        <p:sp>
          <p:nvSpPr>
            <p:cNvPr id="296" name=""/>
            <p:cNvSpPr/>
            <p:nvPr/>
          </p:nvSpPr>
          <p:spPr>
            <a:xfrm>
              <a:off x="4191120" y="259092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int only redefin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sin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Are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Volu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e zero (it can use the default implementation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2743200" y="3124080"/>
              <a:ext cx="14479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F60D9-E636-4ABF-A252-4F6FDC1E9FA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752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x part of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y part of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CF82E-B12F-480E-B9FE-E43041E7170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15: point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::Poi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x( xValue ), y(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mpty bod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oi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 = xValu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need for valid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3ABD2-6D70-413B-A477-9DE718D2EF0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 = yValu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need for valid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14072-8B8E-479A-A1BB-153569BD624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048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ride pure virtual function getName: return name of 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Point::ge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ge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ride pure virtual function print: output Poin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[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X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Y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]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286000" y="837720"/>
            <a:ext cx="3581280" cy="2881800"/>
            <a:chOff x="2286000" y="837720"/>
            <a:chExt cx="3581280" cy="2881800"/>
          </a:xfrm>
        </p:grpSpPr>
        <p:sp>
          <p:nvSpPr>
            <p:cNvPr id="307" name=""/>
            <p:cNvSpPr/>
            <p:nvPr/>
          </p:nvSpPr>
          <p:spPr>
            <a:xfrm>
              <a:off x="3200400" y="2895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ust override pure virtual functio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>
              <a:off x="2286000" y="837720"/>
              <a:ext cx="91440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2286000" y="2666520"/>
              <a:ext cx="9144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6D9C7-DA5C-4AE8-AD71-2D53AC3C854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16: circle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contains x-y coordinate pair and radiu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et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name of shape (i.e., "Circle"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ircl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0C675-0589-487C-A1FE-5FBF59291A0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752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's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lass Circ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57C3F-7062-48A8-AD47-E667A4E226F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17: circle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::Circ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Point( xValue, yValue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base-class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Radius( radius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ircl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radiu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adius = ( radiusValu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radius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65A90-11BE-4272-A907-6B63B62921F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Fig. 10.1: point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Point class definition represents an x-y coordinate pai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POINT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POINT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oi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Poi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output Poin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rivate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x part of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y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y part of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end class 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209680" y="2819520"/>
            <a:ext cx="4114800" cy="838080"/>
            <a:chOff x="2209680" y="2819520"/>
            <a:chExt cx="4114800" cy="838080"/>
          </a:xfrm>
        </p:grpSpPr>
        <p:sp>
          <p:nvSpPr>
            <p:cNvPr id="98" name=""/>
            <p:cNvSpPr/>
            <p:nvPr/>
          </p:nvSpPr>
          <p:spPr>
            <a:xfrm>
              <a:off x="3657600" y="28195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se class print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209680" y="2971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E6D07-52A0-4D5D-BD0E-86D14CBCCB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adiu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Radiu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Diame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E4134-A02F-49D3-8A1E-3AEE794B788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ride virtual function getArea: return area of Circ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Radius() * getRadiu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ride virutual function getName: return name of Circ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Circle::ge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ge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ride virtual function print: output Circl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enter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::prin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oke Point's print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radius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Radiu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285640" y="1142640"/>
            <a:ext cx="3886560" cy="1038240"/>
            <a:chOff x="2285640" y="1142640"/>
            <a:chExt cx="3886560" cy="1038240"/>
          </a:xfrm>
        </p:grpSpPr>
        <p:sp>
          <p:nvSpPr>
            <p:cNvPr id="321" name=""/>
            <p:cNvSpPr/>
            <p:nvPr/>
          </p:nvSpPr>
          <p:spPr>
            <a:xfrm>
              <a:off x="3505320" y="16002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verrid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Are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cause it now applies to Circ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 flipV="1">
              <a:off x="2285640" y="1142640"/>
              <a:ext cx="12193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75912-ED7D-42EA-B55A-3BCE4F2934E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linder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18: cylinder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ylinder class inherits from class Circ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YLINDER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YLINDER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ylinder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ylind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Heigh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Cylinder's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Heigh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ylinder's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ylinder's area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Volu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ylinder's volu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018D7-61BB-416E-B7C9-ED5B019CFF4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linder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590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name of shape (i.e., "Cylinder"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ylin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ylinder's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ylin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FAD76-0642-4C4B-876E-5C5FC28B6CD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linder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19: cylinder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ylinder class inherits from class Circ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ylinder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ylinder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ylinder::Cylind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Valu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: Circle( xValue, yValue, radius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Height( height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ylind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Cylinder's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ylinder::setHeight( double height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eight = ( heightValu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height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34452-9795-4CC7-B06D-688AE84B497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linder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Cylinder's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ylinder::getHeigh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ride virtual function getArea: return Cylinder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ylinder::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Circle::getArea() +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de reu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tCircumference() * getHeigh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ride virtual function getVolume: return Cylinder volu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ylinder::getVolu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Area() * getHeigh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de reu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Volu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4A0E7-BECB-4874-9120-F36CBDE003F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linder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352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ride virtual function getName: return name of Cylin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Cylinder::ge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ylind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ge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ylinder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ylinder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::prin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de reu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height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Heigh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36439-2A1E-424B-99B5-F369D01E281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20: fig10_2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iver for shape, point, circle, cylinder hierarch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vec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ap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ap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Point class defini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.h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defini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ylinder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ylinder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irtualViaPoint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 *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irtualViaReferen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CB84B-BB37-4DE8-91FF-3E9ED452756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loating-point number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fixed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 po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a 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 circ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a Circ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ylinder cylin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a Cylin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point.getName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static b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.print();    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tic b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circle.getName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tic b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print();   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tic b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cylinder.getName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tic b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ylinder.print();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tatic b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FD4DD-781A-45B0-ADF8-1867CB2E7E5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724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vector of three base-class poin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ector&lt; Shape * &gt; shapeVecto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im shapeVector[0] at derived-class Poin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hapeVector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&amp;point;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im shapeVector[1] at derived-class Circl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hapeVector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&amp;circle;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im shapeVector[2] at derived-class Cylinder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hapeVector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&amp;cylinder;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p through shapeVector and call virtualViaPo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o print the shape name, attributes, area and volum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f each object using dynamic b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irtual function calls made off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se-class pointers: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shapeVector.size(); i++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irtualViaPointer( shapeVector[ i ] 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2514240" y="457200"/>
            <a:ext cx="4724280" cy="3886200"/>
            <a:chOff x="2514240" y="457200"/>
            <a:chExt cx="4724280" cy="3886200"/>
          </a:xfrm>
        </p:grpSpPr>
        <p:sp>
          <p:nvSpPr>
            <p:cNvPr id="340" name=""/>
            <p:cNvSpPr/>
            <p:nvPr/>
          </p:nvSpPr>
          <p:spPr>
            <a:xfrm>
              <a:off x="4338000" y="457200"/>
              <a:ext cx="2900520" cy="3014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vector of generic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ointers, and aim them at various objects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ViaPoin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alls the virtual functions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etc.) using the base-class point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types are dynamically bound at run-ti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flipV="1">
              <a:off x="3177000" y="609480"/>
              <a:ext cx="1160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011400" y="1066680"/>
              <a:ext cx="1325880" cy="7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514240" y="1066680"/>
              <a:ext cx="1823400" cy="32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AD226-AD22-4495-8F3E-948C5AA56C6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.cpp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2: point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::Poi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x( xValue ), y(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mpty bod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oi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 = xValu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need for valid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AA2CE-2596-4CF2-AF64-9513CDA5E8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p through shapeVector and call virtualVia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o print the shape name, attributes, area and volum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f each object using dynamic b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irtual function calls made off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se-class references: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shapeVector.size(); j++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irtualViaReference( *shapeVector[ j ]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ke virtual function calls off a base-class po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dynamic binding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irtualViaPoint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 *baseClassPtr )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baseClassPtr-&gt;getName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aseClassPtr-&gt;print();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rea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aseClassPtr-&gt;getArea()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olum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aseClassPtr-&gt;getVolum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virtualViaPointer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2666880" y="838080"/>
            <a:ext cx="4114800" cy="838440"/>
            <a:chOff x="2666880" y="838080"/>
            <a:chExt cx="4114800" cy="838440"/>
          </a:xfrm>
        </p:grpSpPr>
        <p:sp>
          <p:nvSpPr>
            <p:cNvPr id="347" name=""/>
            <p:cNvSpPr/>
            <p:nvPr/>
          </p:nvSpPr>
          <p:spPr>
            <a:xfrm>
              <a:off x="4114800" y="838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references instead of pointers, for the same eff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2666880" y="990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3047760" y="3048120"/>
            <a:ext cx="4115160" cy="838080"/>
            <a:chOff x="3047760" y="3048120"/>
            <a:chExt cx="4115160" cy="838080"/>
          </a:xfrm>
        </p:grpSpPr>
        <p:sp>
          <p:nvSpPr>
            <p:cNvPr id="350" name=""/>
            <p:cNvSpPr/>
            <p:nvPr/>
          </p:nvSpPr>
          <p:spPr>
            <a:xfrm>
              <a:off x="4495680" y="30481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virtual functions; the proper class function will be called at run-ti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047760" y="32004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756E6-1754-42F4-B48B-C1EC670E881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ke virtual function calls off a base-class reference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dynamic binding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irtualViaReferen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 &amp;baseClassRef )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baseClassRef.getName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aseClassRef.print();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rea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aseClassRef.getArea()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olum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aseClassRef.getVolume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virtualViaReference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07156-BCF7-43B0-8BB4-4AA35A37FD53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91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: [7, 11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: center is [22, 8]; radius is 3.5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ylinder: center is [10, 10]; radius is 3.30; height is 1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irtual function calls made off base-class pointer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: [7, 11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ea is 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me is 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: center is [22, 8]; radius is 3.5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ea is 38.4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me is 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ylinder: center is [10, 10]; radius is 3.30; height is 1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ea is 275.7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me is 342.1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D8813-5AA0-4231-89DD-17BAFD14CB0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27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irtual function calls made off base-class reference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: [7, 11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ea is 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me is 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: center is [22, 8]; radius is 3.5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ea is 38.4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me is 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ylinder: center is [10, 10]; radius is 3.30; height is 1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ea is 275.7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is 342.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DF6E7-D83F-4363-B5AB-E489DB5C654B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lymorphism, Virtual Functions and Dynamic Binding “Under the Hood”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morphism has over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used in STL (Standard Template Library) to optimize perform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 table (vta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ry class with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has a vt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, vtable has pointer to the proper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derived class has same function as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pointer aims at base-class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tailed explanation in Fig. 10.2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E8066-5F72-4430-BBF7-5336D3689A1C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Virtual Destruc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class pointer to derived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destroyed 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behavior unspecifi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f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 base-class destructor virt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s derived-class destructors vir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w, wh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sed appropriate destructor cal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derived-class object destroy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-class destructor executes fir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-class destructor executes afterwa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 cannot be vir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42D32-3D51-42E9-98A1-1288E95F8F5D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9  Case Study: Payroll System Using Polymorphis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 payroll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virtual functions and polymorphis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 types of employees, paid week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aried (fixed salary, no matter the h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urly (overtime [&gt;40 hours] pays time and a hal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ssion (paid percentage of sa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-plus-commission (base salary + percentage of sa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ss wants to raise pay by 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9118B-F380-40A2-9DB9-9F50122C3F2A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9  Case Study: Payroll System Using Polymorphis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re virtual func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arning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returns pa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e virtual because need to know employee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calculate for generic 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 classes derive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914400" y="3349800"/>
            <a:ext cx="7162920" cy="2746080"/>
            <a:chOff x="914400" y="3349800"/>
            <a:chExt cx="7162920" cy="2746080"/>
          </a:xfrm>
        </p:grpSpPr>
        <p:sp>
          <p:nvSpPr>
            <p:cNvPr id="367" name=""/>
            <p:cNvSpPr/>
            <p:nvPr/>
          </p:nvSpPr>
          <p:spPr>
            <a:xfrm>
              <a:off x="914400" y="3349800"/>
              <a:ext cx="7162920" cy="274608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1272240" y="3537360"/>
              <a:ext cx="6446520" cy="2370960"/>
              <a:chOff x="1272240" y="3537360"/>
              <a:chExt cx="6446520" cy="2370960"/>
            </a:xfrm>
          </p:grpSpPr>
          <p:sp>
            <p:nvSpPr>
              <p:cNvPr id="369" name=""/>
              <p:cNvSpPr/>
              <p:nvPr/>
            </p:nvSpPr>
            <p:spPr>
              <a:xfrm>
                <a:off x="2944440" y="3911400"/>
                <a:ext cx="875160" cy="678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1"/>
                    </a:moveTo>
                    <a:lnTo>
                      <a:pt x="19977" y="0"/>
                    </a:lnTo>
                  </a:path>
                </a:pathLst>
              </a:custGeom>
              <a:solidFill>
                <a:srgbClr val="000000"/>
              </a:solidFill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0" name=""/>
              <p:cNvGrpSpPr/>
              <p:nvPr/>
            </p:nvGrpSpPr>
            <p:grpSpPr>
              <a:xfrm>
                <a:off x="3619800" y="3537360"/>
                <a:ext cx="1751400" cy="374040"/>
                <a:chOff x="3619800" y="3537360"/>
                <a:chExt cx="1751400" cy="374040"/>
              </a:xfrm>
            </p:grpSpPr>
            <p:grpSp>
              <p:nvGrpSpPr>
                <p:cNvPr id="371" name=""/>
                <p:cNvGrpSpPr/>
                <p:nvPr/>
              </p:nvGrpSpPr>
              <p:grpSpPr>
                <a:xfrm>
                  <a:off x="3620160" y="3537360"/>
                  <a:ext cx="1751040" cy="374040"/>
                  <a:chOff x="3620160" y="3537360"/>
                  <a:chExt cx="1751040" cy="37404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3620160" y="3537360"/>
                    <a:ext cx="1751040" cy="37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9" y="0"/>
                        </a:moveTo>
                        <a:lnTo>
                          <a:pt x="19989" y="19947"/>
                        </a:lnTo>
                        <a:lnTo>
                          <a:pt x="0" y="19947"/>
                        </a:lnTo>
                        <a:lnTo>
                          <a:pt x="0" y="0"/>
                        </a:lnTo>
                        <a:lnTo>
                          <a:pt x="19989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3620160" y="3537360"/>
                    <a:ext cx="1751040" cy="37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9" y="0"/>
                        </a:moveTo>
                        <a:lnTo>
                          <a:pt x="19989" y="19947"/>
                        </a:lnTo>
                        <a:lnTo>
                          <a:pt x="0" y="19947"/>
                        </a:lnTo>
                        <a:lnTo>
                          <a:pt x="0" y="0"/>
                        </a:lnTo>
                        <a:lnTo>
                          <a:pt x="19989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4" name=""/>
                <p:cNvSpPr/>
                <p:nvPr/>
              </p:nvSpPr>
              <p:spPr>
                <a:xfrm>
                  <a:off x="3619800" y="3648960"/>
                  <a:ext cx="1751400" cy="19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sz="1200" spc="-1" strike="noStrike">
                      <a:solidFill>
                        <a:srgbClr val="000000"/>
                      </a:solidFill>
                      <a:latin typeface="Courier New"/>
                    </a:rPr>
                    <a:t>Employe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1272240" y="4590360"/>
                <a:ext cx="1910520" cy="359280"/>
                <a:chOff x="1272240" y="4590360"/>
                <a:chExt cx="1910520" cy="359280"/>
              </a:xfrm>
            </p:grpSpPr>
            <p:grpSp>
              <p:nvGrpSpPr>
                <p:cNvPr id="376" name=""/>
                <p:cNvGrpSpPr/>
                <p:nvPr/>
              </p:nvGrpSpPr>
              <p:grpSpPr>
                <a:xfrm>
                  <a:off x="1272960" y="4590360"/>
                  <a:ext cx="1909800" cy="359280"/>
                  <a:chOff x="1272960" y="4590360"/>
                  <a:chExt cx="1909800" cy="35928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>
                    <a:off x="1272960" y="4590360"/>
                    <a:ext cx="1909800" cy="35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1272960" y="4590360"/>
                    <a:ext cx="1909800" cy="35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9" name=""/>
                <p:cNvSpPr/>
                <p:nvPr/>
              </p:nvSpPr>
              <p:spPr>
                <a:xfrm>
                  <a:off x="1272240" y="4698000"/>
                  <a:ext cx="1910520" cy="18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SalariedEmploye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5808240" y="4590360"/>
                <a:ext cx="1910520" cy="359280"/>
                <a:chOff x="5808240" y="4590360"/>
                <a:chExt cx="1910520" cy="359280"/>
              </a:xfrm>
            </p:grpSpPr>
            <p:grpSp>
              <p:nvGrpSpPr>
                <p:cNvPr id="381" name=""/>
                <p:cNvGrpSpPr/>
                <p:nvPr/>
              </p:nvGrpSpPr>
              <p:grpSpPr>
                <a:xfrm>
                  <a:off x="5808960" y="4590360"/>
                  <a:ext cx="1909800" cy="359280"/>
                  <a:chOff x="5808960" y="4590360"/>
                  <a:chExt cx="1909800" cy="35928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>
                    <a:off x="5808960" y="4590360"/>
                    <a:ext cx="1909800" cy="35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5808960" y="4590360"/>
                    <a:ext cx="1909800" cy="35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4" name=""/>
                <p:cNvSpPr/>
                <p:nvPr/>
              </p:nvSpPr>
              <p:spPr>
                <a:xfrm>
                  <a:off x="5808240" y="4698000"/>
                  <a:ext cx="1910520" cy="18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HourlyEmploye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5" name=""/>
              <p:cNvSpPr/>
              <p:nvPr/>
            </p:nvSpPr>
            <p:spPr>
              <a:xfrm>
                <a:off x="5172480" y="3911400"/>
                <a:ext cx="875160" cy="678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7" y="19971"/>
                    </a:move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495320" y="4939920"/>
                <a:ext cx="360" cy="6091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7"/>
                    </a:move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7" name=""/>
              <p:cNvGrpSpPr/>
              <p:nvPr/>
            </p:nvGrpSpPr>
            <p:grpSpPr>
              <a:xfrm>
                <a:off x="3539880" y="4590360"/>
                <a:ext cx="1911240" cy="359280"/>
                <a:chOff x="3539880" y="4590360"/>
                <a:chExt cx="1911240" cy="359280"/>
              </a:xfrm>
            </p:grpSpPr>
            <p:grpSp>
              <p:nvGrpSpPr>
                <p:cNvPr id="388" name=""/>
                <p:cNvGrpSpPr/>
                <p:nvPr/>
              </p:nvGrpSpPr>
              <p:grpSpPr>
                <a:xfrm>
                  <a:off x="3540960" y="4590360"/>
                  <a:ext cx="1910160" cy="359280"/>
                  <a:chOff x="3540960" y="4590360"/>
                  <a:chExt cx="1910160" cy="35928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3540960" y="4590360"/>
                    <a:ext cx="1910160" cy="35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3540960" y="4590360"/>
                    <a:ext cx="1910160" cy="35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1" name=""/>
                <p:cNvSpPr/>
                <p:nvPr/>
              </p:nvSpPr>
              <p:spPr>
                <a:xfrm>
                  <a:off x="3539880" y="4698000"/>
                  <a:ext cx="1911240" cy="18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CommissionEmploye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2" name=""/>
              <p:cNvSpPr/>
              <p:nvPr/>
            </p:nvSpPr>
            <p:spPr>
              <a:xfrm>
                <a:off x="4495320" y="3911400"/>
                <a:ext cx="360" cy="678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1"/>
                    </a:move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3" name=""/>
              <p:cNvGrpSpPr/>
              <p:nvPr/>
            </p:nvGrpSpPr>
            <p:grpSpPr>
              <a:xfrm>
                <a:off x="3102120" y="5549040"/>
                <a:ext cx="2786400" cy="359280"/>
                <a:chOff x="3102120" y="5549040"/>
                <a:chExt cx="2786400" cy="359280"/>
              </a:xfrm>
            </p:grpSpPr>
            <p:grpSp>
              <p:nvGrpSpPr>
                <p:cNvPr id="394" name=""/>
                <p:cNvGrpSpPr/>
                <p:nvPr/>
              </p:nvGrpSpPr>
              <p:grpSpPr>
                <a:xfrm>
                  <a:off x="3102840" y="5549040"/>
                  <a:ext cx="2785680" cy="359280"/>
                  <a:chOff x="3102840" y="5549040"/>
                  <a:chExt cx="2785680" cy="35928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3102840" y="5549040"/>
                    <a:ext cx="2785680" cy="35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3" y="0"/>
                        </a:moveTo>
                        <a:lnTo>
                          <a:pt x="19993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93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3102840" y="5549040"/>
                    <a:ext cx="2785680" cy="35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3" y="0"/>
                        </a:moveTo>
                        <a:lnTo>
                          <a:pt x="19993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93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7" name=""/>
                <p:cNvSpPr/>
                <p:nvPr/>
              </p:nvSpPr>
              <p:spPr>
                <a:xfrm>
                  <a:off x="3102120" y="5656680"/>
                  <a:ext cx="2786400" cy="18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BasePlusCommissionEmploye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649DA-A9AA-4E21-ABC2-221303D4E42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9  Case Study: Payroll System Using Polymorphis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ca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ynamic_ca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 object's type at run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0 if not of proper type (cannot be ca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wClass *ptr = dynamic_cast &lt; NewClass *&gt; objec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yp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typeinfo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age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ypeid(objec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_inf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information about type of operand, including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id(object).nam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9010C-B7F7-4833-908B-E73FED974449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23: employee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 abstract base clas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MPLOYE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MPLOYE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++ standard string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ploye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FirstNa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getFirs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LastNa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getLas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ocialSecurityNumb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getSocialSecurityNumb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F6960-93EB-4B9A-AABC-D4357E8738D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.cpp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 = yValu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need for valid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Point object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[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X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Y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]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057400" y="4191120"/>
            <a:ext cx="4114800" cy="838080"/>
            <a:chOff x="2057400" y="4191120"/>
            <a:chExt cx="4114800" cy="838080"/>
          </a:xfrm>
        </p:grpSpPr>
        <p:sp>
          <p:nvSpPr>
            <p:cNvPr id="105" name=""/>
            <p:cNvSpPr/>
            <p:nvPr/>
          </p:nvSpPr>
          <p:spPr>
            <a:xfrm>
              <a:off x="3505320" y="41911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the x,y coordinates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057400" y="4343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FD66D-8F7C-4DDE-8F09-94F07E631E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971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ure virtual function makes Employee abstract base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arning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ure virtu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irtu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fir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la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ocialSecurity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C3241-83E0-4FF9-98F6-1374B14EDAF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724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24: employee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bstract-base-class Employee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te: No definitions are given for pure virtual func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::Employe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firs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la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SS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firstName( first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lastName( last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socialSecurityNumber( SS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ty bod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Employe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88C68-BC20-4D0C-92B3-5D1C2460ADF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248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fir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Employee::getFirs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stName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Fir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la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Employee::getLas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stName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La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social security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Employee::getSocialSecurityNumb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ocialSecurityNumber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SocialSecurity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fir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::setFirstNa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firs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irstName = firs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Fir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FDDC0-4398-4051-84B3-D024988C0897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la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::setLastNa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las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astName = last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La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social security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::setSocialSecurityNumb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numb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ocialSecurityNumber = numbe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ould vali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SocialSecurity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Employee's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getFirstName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LastNam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ocial security numb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getSocialSecurityNumber() &lt;&lt; endl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2209680" y="2666880"/>
            <a:ext cx="4114800" cy="838440"/>
            <a:chOff x="2209680" y="2666880"/>
            <a:chExt cx="4114800" cy="838440"/>
          </a:xfrm>
        </p:grpSpPr>
        <p:sp>
          <p:nvSpPr>
            <p:cNvPr id="411" name=""/>
            <p:cNvSpPr/>
            <p:nvPr/>
          </p:nvSpPr>
          <p:spPr>
            <a:xfrm>
              <a:off x="3657600" y="26668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ault implementation for virtual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209680" y="28195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B752F-04BB-429C-BF0E-32C7C402D12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aried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25: salaried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alariedEmployee class derived from Employe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ALARIED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ALARIED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ariedEmployee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alariedEmploye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WeeklySalar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WeeklySalar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arning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"salaried employee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eklySalary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Salaried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ALARIED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819160" y="1981080"/>
            <a:ext cx="4267440" cy="1797480"/>
            <a:chOff x="2819160" y="1981080"/>
            <a:chExt cx="4267440" cy="1797480"/>
          </a:xfrm>
        </p:grpSpPr>
        <p:sp>
          <p:nvSpPr>
            <p:cNvPr id="416" name=""/>
            <p:cNvSpPr/>
            <p:nvPr/>
          </p:nvSpPr>
          <p:spPr>
            <a:xfrm>
              <a:off x="4419720" y="1981080"/>
              <a:ext cx="266688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ew functions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aried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.</a:t>
              </a:r>
              <a:br>
                <a:rPr sz="1600"/>
              </a:b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arning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ust be overridden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overridden to specify that this is a salaried employe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895480" y="2590920"/>
              <a:ext cx="15242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2819160" y="2590920"/>
              <a:ext cx="16002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BA421-3208-4E30-AB2C-BD009F95DCEA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aried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26: salaried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alariedEmployee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laried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alariedEmploye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alariedEmployee construct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alariedEmployee::SalariedEmploye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firs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las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socialSecurityNumber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ar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Employee( first, last, socialSecurityNumb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WeeklySalary( salary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alariedEmploye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salaried employee's sala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ariedEmployee::setWeeklySalar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ar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weeklySalary = salary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salary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WeeklySala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2133360" y="1981080"/>
            <a:ext cx="4115160" cy="838440"/>
            <a:chOff x="2133360" y="1981080"/>
            <a:chExt cx="4115160" cy="838440"/>
          </a:xfrm>
        </p:grpSpPr>
        <p:sp>
          <p:nvSpPr>
            <p:cNvPr id="422" name=""/>
            <p:cNvSpPr/>
            <p:nvPr/>
          </p:nvSpPr>
          <p:spPr>
            <a:xfrm>
              <a:off x="3581280" y="19810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base class constructor for basic field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2133360" y="21337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BD855-D9A1-489C-8266-62A730C4F0B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aried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salaried employee's p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ariedEmployee::earning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WeeklySalary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earn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salaried employee's sala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ariedEmployee::getWeeklySalar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eklySala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WeeklySala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salaried employee's nam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ariedEmployee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alaried employe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ployee::print()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code reu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3123720" y="685440"/>
            <a:ext cx="3048480" cy="1038240"/>
            <a:chOff x="3123720" y="685440"/>
            <a:chExt cx="3048480" cy="1038240"/>
          </a:xfrm>
        </p:grpSpPr>
        <p:sp>
          <p:nvSpPr>
            <p:cNvPr id="427" name=""/>
            <p:cNvSpPr/>
            <p:nvPr/>
          </p:nvSpPr>
          <p:spPr>
            <a:xfrm>
              <a:off x="3505320" y="11430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ust implement pure virtual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3123720" y="685440"/>
              <a:ext cx="3812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29126-91BF-40D6-8694-6FD7B489836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urly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27: hourly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ourlyEmployee class defini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HOURLY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HOURLY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lyEmployee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ourlyEmploye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Wag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Wag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Hour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Hour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arning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age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age per hou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s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ours worked for wee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Hourly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OURLY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E451C-4AA4-4A3A-BE22-9658B74AC9A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urly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28: hourly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ourlyEmployee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ourly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 for class Hourly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ourlyEmployee::HourlyEmploye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firs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las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socialSecurityNumber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lyWag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sWorke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Employee( first, last, socialSecurityNumber )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Wage( hourlyW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Hours( hoursWorke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HourlyEmploye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ly employee's w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lyEmployee::setWag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ageAmou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wage = wageAmount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wageAmoun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W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B29E8-C4AB-4BAC-B8E5-4B9698FBEA2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urly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ly employee's hours work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lyEmployee::setHour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sWorke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ours = ( hoursWorked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hoursWorked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8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oursWorked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Hou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hours work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lyEmployee::getHour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Hou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w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lyEmployee::getWag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W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25BAF-FA4B-41BF-8864-32CD6B71C4F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553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3: circle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contains x-y coordinate pair and radiu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ircl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's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irc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590920" y="1981080"/>
            <a:ext cx="3886200" cy="2819520"/>
            <a:chOff x="2590920" y="1981080"/>
            <a:chExt cx="3886200" cy="2819520"/>
          </a:xfrm>
        </p:grpSpPr>
        <p:sp>
          <p:nvSpPr>
            <p:cNvPr id="110" name=""/>
            <p:cNvSpPr/>
            <p:nvPr/>
          </p:nvSpPr>
          <p:spPr>
            <a:xfrm>
              <a:off x="3809880" y="22096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herit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but redefines it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2590920" y="1981080"/>
              <a:ext cx="121896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590920" y="2590920"/>
              <a:ext cx="121896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A94F4-DCBB-45B0-BC66-7A16CADD47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urly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hourly employee's p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lyEmployee::earning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hours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over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age * hour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time is paid at wage * 1.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wage + ( hours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* wage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earn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hourly employee's inform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lyEmployee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hourly employe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ployee::prin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de reu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0653D-8E0F-4ED1-A0BF-460CA78CB60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ission.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553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29: commission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missionEmployee class derived from Employe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MMISSION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MMISSION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issionEmployee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mmissionEmploye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CommissionR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CommissionRat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GrossSale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GrossSale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arning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ossSales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ross weekly sa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issionRat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mission percent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ommission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MISSION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2286000" y="2209680"/>
            <a:ext cx="4114800" cy="1447920"/>
            <a:chOff x="2286000" y="2209680"/>
            <a:chExt cx="4114800" cy="1447920"/>
          </a:xfrm>
        </p:grpSpPr>
        <p:sp>
          <p:nvSpPr>
            <p:cNvPr id="440" name=""/>
            <p:cNvSpPr/>
            <p:nvPr/>
          </p:nvSpPr>
          <p:spPr>
            <a:xfrm>
              <a:off x="3733920" y="22096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ust set rate and sal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2286000" y="2362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37920" y="2362320"/>
              <a:ext cx="12956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55ED2-73C7-4D8F-91B2-FDBCFE2157D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ission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30: commission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missionEmployee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mission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mission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missionEmployee construc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issionEmployee::CommissionEmploye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fir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las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socialSecurityNumber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ossWeeklySale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rc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Employee( first, last, socialSecurityNumber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GrossSales( grossWeeklySal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CommissionRate( perc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ommissionEmploye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ommission employee's r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issionEmployee::getCommissionRat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issionRat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CommissionR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CF9C8-3C3E-4ED4-A9D7-0B82E3324953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ission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ommission employee's gross sales am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issionEmployee::getGrossSale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ossSal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GrossSa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commission employee's weekly base sala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issionEmployee::setGrossSale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es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grossSales = sales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sales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GrossSa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commission employee's commi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issionEmployee::setCommissionR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t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commissionRate = ( rate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rat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rate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CommissionR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BEA6D-48EE-47CB-800A-CF472C56EFCB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ission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276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commission employee's earn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issionEmployee::earning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CommissionRate() * getGrossSales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earn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commission employee's 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issionEmployee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commission employe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ployee::prin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de reu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F03CA-F447-48AF-9D0A-EBB91ED3226B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seplus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31: baseplus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asePlusCommissionEmployee class derived from Employe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ASEPLUS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ASEPLUS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mission.h"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PlusCommissionEmployee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issionEmploye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asePlusCommissionEmploye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BaseSalar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BaseSalar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arning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Salary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base salary per wee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BasePlusCommission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ASEPLUS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3962160" y="304920"/>
            <a:ext cx="3810240" cy="1295280"/>
            <a:chOff x="3962160" y="304920"/>
            <a:chExt cx="3810240" cy="1295280"/>
          </a:xfrm>
        </p:grpSpPr>
        <p:sp>
          <p:nvSpPr>
            <p:cNvPr id="452" name=""/>
            <p:cNvSpPr/>
            <p:nvPr/>
          </p:nvSpPr>
          <p:spPr>
            <a:xfrm>
              <a:off x="5105520" y="3049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herit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mmission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and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directly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3962160" y="838080"/>
              <a:ext cx="11430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8173E-58C1-4248-B132-FE366B883E33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seplus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32: baseplus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asePlusCommissionEmployee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seplus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 for class BasePlusCommission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asePlusCommissionEmployee::BasePlusCommissionEmploye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firs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las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socialSecurityNumber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ossSalesAmoun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t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SalaryAmou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CommissionEmployee( first, last, socialSecurityNumber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grossSalesAmount, rate )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BaseSalary( baseSalaryAmou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BasePlusCommissionEmploye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base-salaried commission employee's w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PlusCommissionEmployee::setBaseSalar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ar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aseSalary = salary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salary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BaseSala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30D83-992C-460E-8FF3-E9778002B470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seplus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base-salaried commission employee's base sala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PlusCommissionEmployee::getBaseSalar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Salary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BaseSala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base-salaried commission employee's earn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PlusCommissionEmployee::earning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BaseSalary() + CommissionEmployee::earnings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earn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base-salaried commission employee's nam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PlusCommissionEmployee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base-salaried commission employe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ployee::prin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de reu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8E49C-8ACF-4284-AA56-68917BF38FE9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3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33: fig10_3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iver for Employee hierarch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vec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typeinf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 base clas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laried.h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alariedEmployee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commission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missionEmployee clas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seplus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asePlusCommissionEmployee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ourly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ourlyEmployee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F903C-B6C1-4695-9C4D-4020161E9AFE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3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14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floating-point output format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fixed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vector employe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ector &lt; Employee * &gt; employee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vector with Employe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ploye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ariedEmploye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oh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mi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11-11-111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00.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ploye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issionEmploye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on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22-22-222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.0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ploye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PlusCommissionEmploye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b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ewi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333-33-3333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.0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ploye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lyEmploye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Kare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44-44-4444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16.7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BB161-2834-4F70-B37C-227E56C521AC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4: circle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::Circ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Point( xValue, yValue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base-class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Radius( radius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ircl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radiu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adius = ( radiusValu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radius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175EB-11BF-4109-B86B-53FF56CDCE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3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nerically process each element in vector employe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employees.size()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employee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mployees[ i ]-&gt;print(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owncast pointer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sePlusCommissionEmployee *commissionPtr =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ynam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 BasePlusCommissionEmployee *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employees[ i ] );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rmine whether element points to base-salarie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mmission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mmissionPtr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ld base salary: $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commissionPtr-&gt;getBaseSalary(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mmissionPtr-&gt;setBaseSalar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commissionPtr-&gt;getBaseSalary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ew base salary with 10% increase is: $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commissionPtr-&gt;getBaseSalary(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arned $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mployees[ i ]-&gt;earnings(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3047760" y="228600"/>
            <a:ext cx="5715360" cy="1371600"/>
            <a:chOff x="3047760" y="228600"/>
            <a:chExt cx="5715360" cy="1371600"/>
          </a:xfrm>
        </p:grpSpPr>
        <p:sp>
          <p:nvSpPr>
            <p:cNvPr id="465" name=""/>
            <p:cNvSpPr/>
            <p:nvPr/>
          </p:nvSpPr>
          <p:spPr>
            <a:xfrm>
              <a:off x="4114800" y="228600"/>
              <a:ext cx="46483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downcasting to cast the employee object in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asePlusCommission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If it points to the correct type of object, the pointer is non-zero. This way, we can give a raise to onl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asePlusCommission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3047760" y="914400"/>
              <a:ext cx="10666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9683F-2F55-4085-B75B-DC1E16CA6C71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3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lease memory held by vector employe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employees.size(); j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lass name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eleting object of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ype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*employees[ j ] ).na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s[ j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3047760" y="1495440"/>
            <a:ext cx="3353040" cy="1996560"/>
            <a:chOff x="3047760" y="1495440"/>
            <a:chExt cx="3353040" cy="1996560"/>
          </a:xfrm>
        </p:grpSpPr>
        <p:sp>
          <p:nvSpPr>
            <p:cNvPr id="470" name=""/>
            <p:cNvSpPr/>
            <p:nvPr/>
          </p:nvSpPr>
          <p:spPr>
            <a:xfrm>
              <a:off x="3733920" y="218124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ype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turn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ype_info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 This object contains information about the operand, including its na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 flipV="1">
              <a:off x="3047760" y="1495440"/>
              <a:ext cx="6858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573DC-E580-4B44-A50A-0C553E5E1D7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3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alaried employee: John Smi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ocial security number: 111-11-11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arned $80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ission employee: Sue Jon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ocial security number: 222-22-222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arned $60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ase-salaried commission employee: Bob Lewi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ocial security number: 333-33-333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ld base salary: $30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base salary with 10% increase is: $33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arned $53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ourly employee: Karen Pr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ocial security number: 444-44-444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arned $67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ing object of class Salaried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ing object of class Commission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ing object of class BasePlusCommission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ing object of class Hourly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6ED41-B800-4A70-93DD-933C91A044D0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7T19:49:19Z</dcterms:created>
  <dc:creator>kalid</dc:creator>
  <dc:description/>
  <dc:language>en-US</dc:language>
  <cp:lastModifiedBy>Pearson Education</cp:lastModifiedBy>
  <dcterms:modified xsi:type="dcterms:W3CDTF">2002-08-12T15:11:29Z</dcterms:modified>
  <cp:revision>553</cp:revision>
  <dc:subject/>
  <dc:title>PowerPoint Presentation</dc:title>
</cp:coreProperties>
</file>