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D691-5ACD-4087-BCD4-F26715BEB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42E4-27D1-4A05-9B40-3340FEEE7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D2D4-5FD3-4BFA-88AD-9FAD5735F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56F9-3FA4-4063-9786-7015B45ED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6D85-20C2-4348-98BA-3B9D0A449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DD05-20D8-475E-96F3-909A129CB9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1AC6-5D19-4314-90A0-449B319CB3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4D9A-5F3B-49AC-9BB7-59FAA2C586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3501-DF2B-419D-9023-9ADB5FA400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5285-B01A-4A1A-97CC-88CC1C19E4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AD07-DE43-4C3D-BC9B-2BDA49CBE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A0AF-D067-4AD1-BB9E-76DC91951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A1B0-D601-4A80-ADAE-F740882EDA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A8A5-8F96-4E83-B2FF-FC07F9664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CA4F-36B9-49A6-BC47-EDFFB10814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8710-B780-4FB3-AC7F-FA26C39E61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D547-166B-4AD5-818E-77E4AB84E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8A1E-7155-46A0-8FCC-74DBE8764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3E97-350B-48C2-9B09-21FCAA492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F4EF-FEAC-4B64-A245-F1B5669D5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359B-8F35-4364-8F1E-B735AD34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2543-98EF-4057-A68B-CDBDAAFB9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81F5-4B41-425A-89C9-D53D1C465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35EF-FD1C-46EA-95C7-E8C58FE83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420-2E54-419F-AC17-F162CF1A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37F8-F52E-417E-9F99-FD67B016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5396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the Standard Template Library (S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quenc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vector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ist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deque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ssociativ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tainer Adap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iority_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F847-B17D-42A6-BC7D-3232C4DC9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5: fig2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and output with it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istream_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istream_iterator for reading int values from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putInt( cin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inputIn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iterator to next inpu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00200" y="1752480"/>
            <a:ext cx="4114800" cy="1752840"/>
            <a:chOff x="1600200" y="1752480"/>
            <a:chExt cx="4114800" cy="1752840"/>
          </a:xfrm>
        </p:grpSpPr>
        <p:sp>
          <p:nvSpPr>
            <p:cNvPr id="108" name=""/>
            <p:cNvSpPr/>
            <p:nvPr/>
          </p:nvSpPr>
          <p:spPr>
            <a:xfrm>
              <a:off x="3048120" y="1752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re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compilation reasons, we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0020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8120" y="2914560"/>
            <a:ext cx="5715000" cy="971640"/>
            <a:chOff x="3048120" y="2914560"/>
            <a:chExt cx="5715000" cy="971640"/>
          </a:xfrm>
        </p:grpSpPr>
        <p:sp>
          <p:nvSpPr>
            <p:cNvPr id="111" name=""/>
            <p:cNvSpPr/>
            <p:nvPr/>
          </p:nvSpPr>
          <p:spPr>
            <a:xfrm>
              <a:off x="6095880" y="29145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and assign the iterator like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048120" y="3076560"/>
              <a:ext cx="304776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0F13-1693-41D7-AA1E-C6117962FA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cumulat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sum of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_each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every element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odif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orm(iter1, iter2, iter3, functi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ll elements in rang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resul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8DC1-43C2-4A31-AA89-449E4535E96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0: fig21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ematical algorithms of the standard libra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is defined 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 before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ADE4-2F85-447F-B82C-A4F2755D5DD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elements of v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andom_shuffle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int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with value 8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d::count( v2.begin(), v2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of elements matching 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that are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count_if( v2.begin(), v2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Number of elements greater than 9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2D8A-4612-4176-BCC0-87AB5E02358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in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Min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in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ax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ax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elements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tal of the elements in Vector v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accumulat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quar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every element in v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or_each( v.begin(), v.end(), outputSqua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ub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each element in v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results in cub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transform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.begin(), v.end(), cubes.begin(), calculateCub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8B72-1111-45A7-B16B-40E3C8805BA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cub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ubes.begin(), cub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value *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Squ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1DCC-436D-458A-A899-ACCFD706176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ub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* value *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lculate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1523880"/>
            <a:ext cx="7010280" cy="403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andom_shuffle: 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andom_shuffle: 5 4 1 3 7 8 9 10 6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00 2 8 1 50 3 8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matching 8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greater than 9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 element in Vector v2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element in Vector v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tal of the elements in Vector v is: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16 1 9 49 64 81 100 36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ub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5 64 1 27 343 512 729 1000 21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3954-A0DF-40BA-941F-C2EE4B0E493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6 Basic Searching and Sorting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n ran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_if(iter1, iter2, function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whe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rts elements in ascending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inary_search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es ascending sorted list for val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binary 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7EB8-1E4E-4AC9-A434-B9BE497C7CB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1: fig21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earch and sort algorithm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6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cation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3B27-6D0A-4E8E-8EAF-C02E66EE23C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Found 16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6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00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100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value greater than 10 in v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_if( v.begin(), v.end(), greater1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first value greater than 10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locatio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o values greater than 10 were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83D7-D3BC-42FE-ADBE-EE203C43882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 after s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3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00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5AD8-1227-4D92-AE8E-0DB0A452648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eam_iterator for writing int values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Int( cout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outputInt = number1 + numb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result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38280"/>
            <a:ext cx="70102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: 12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is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1960" y="1294920"/>
            <a:ext cx="3276720" cy="2592000"/>
            <a:chOff x="2361960" y="1294920"/>
            <a:chExt cx="3276720" cy="2592000"/>
          </a:xfrm>
        </p:grpSpPr>
        <p:sp>
          <p:nvSpPr>
            <p:cNvPr id="117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similar. Assigning to this iterator outpu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361960" y="129492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C455-8B4B-491E-B1E3-4282D2B9A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15238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 10 2 17 5 16 8 13 11 20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16 at loc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value greater than 10 is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at loc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: 2 5 7 8 10 11 13 16 17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was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was not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6D76-5FCC-492A-A177-907C8BECC42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7 swap, iter_swap and swap_ran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(element1, element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wo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 a[ 0 ], a[ 1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_sw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he values to which the iterators 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_ranges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the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lements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779E-82F1-495C-85CE-C0F6AB557BA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2: fig21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ter_swap, swap and swap_ran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at locations 0 and 1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17C1-2B03-4D96-9981-13224926941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terators to swap elements at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and 1 of array a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ter_swap(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iter_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in first five elements of array a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lements in last five elem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_ranges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the first five elements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the last five element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EFB8-7B90-4C92-B242-5DF989EA1ED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1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iter_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the first fiv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the last five ele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10 1 2 3 4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C34D-1E23-49F3-A7A3-51A7D23F592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8 copy_backward, merge, unique and rever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_backward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elements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ge(iter1, iter2, 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pies both list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(iter1, iter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duplicate elements from a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new end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EFAF-22D3-4046-A954-AD71F1B688F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3: fig21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copy_backward, 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que and rever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E8B9-1EB2-4FD1-A7DF-8149D48BCA2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( v1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v1 into results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_backward( v1.begin(), v1.end(), result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py_backward, result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.begin(), result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( v1.size() + v2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elements of v1 and v2 into results2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erge( v1.begin(), v1.end(), v2.begin(), v2.end()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2.begin() 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merge of v1 and v2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iminate duplicate values from results2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endLocation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Location =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unique( results2.begin(), results2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unique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endLocation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DC2E-5F85-477C-AD1A-1DD32B70D25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after revers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 elements of v1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( v1.begin()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819520"/>
            <a:ext cx="701028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2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py_backward, results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 of v1 and v2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5 7 7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verse: 9 7 5 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5ACB-E2F9-49D7-A7EA-697836B563F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9 inplace_merge, unique_copy and reverse_cop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lace_merge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s two sorted sequenc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-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side the sam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_copy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all unique elements in sorted array (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copy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pie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A500-676B-4B3C-BA5B-E123E9502E2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Categories (Fig. 21.6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elements from container, can only move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elements to container, only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input and output, retains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pass (can pass through sequence tw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forward, but can move backwards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bidirectional, but can also jump to an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8688-E2DB-495A-B7F4-72B16AFEC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4: fig21_3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place_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_copy and unique_co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_inser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first half of v1 with second half of v1 such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1 contains sorted set of elements after merg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nplace_merge( v1.begin(), v1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404D-1C6D-4A97-A4B7-6F6336A561F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lace_merge,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only unique elements of v1 into results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unique_copy(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_copy results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1.begin(), results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verse_copy, results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of v1 into results2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_copy(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2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FD97-C37A-473D-B5A4-97CE6F13859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lace_merge, v1 contains: 1 1 3 3 5 5 7 7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_copy results1 contains: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verse_copy, results2 contains: 9 9 7 7 5 5 3 3 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B1DF-AE0B-44F7-A171-D5702898371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ludes(iter1, iter2, iter3, iter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range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  1 2 3 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  1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 includes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difference(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first set (1-2) that are not in second set (3-4) in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intersection(iter1, iter2, iter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common elements from the two sets (1-2, 3-4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3122-D3EE-4FF8-A0DE-21003C7EBA0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symmetric_difference(iter1, iter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set (1-2) but not set (3-4), and vice versa,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: 1 2 3 4 5 6 7 8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: 4 5 6 7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: 1 2 3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ion( 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either or both se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8D4F-2E3B-4538-85C6-54DD698825F1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5: fig21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cludes, set_differenc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_intersection, set_symmetric_difference and set_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52E3-64D9-4F32-B244-7D40355B375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2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1 includes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1 does not include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3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includes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does not include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not in a2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std::set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ifference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sectio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in both a1 and a2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intersect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ersec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DD5F-A6B0-40DD-BA5C-7A86FF15A00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intersection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rsection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mmetric_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that are not in a2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s of a2 that are not in a1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symmetric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ymmetric_difference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symmetric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symmetric_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onSe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that are in either or both s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un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unionSet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union of a1 and a3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unionSet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7C6E-B063-45B4-BAD8-87404B1323F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2 contain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3 contains: 4 5 6 11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includes a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does not include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intersection of a1 and a2 i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union of a1 and a3 is: 1 2 3 4 5 6 7 8 9 10 11 1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07FD-795B-45E8-B8B0-60780DD3F45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1 lower_bound, upper_bound and equal_ran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wer_bound(iter1, iter2, valu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rted elements, returns iterator to the first location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inserted and elements remain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per_bou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returns iterator to last element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_range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iterators,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them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AAE8-AD67-405B-9687-C5D049BE1B2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Types Supported (Fig. 21.8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idirec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 (all bidirec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 (no iterators suppor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BD15-19F4-4104-80D3-DF85F058D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6: fig21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lower_bound, upper_bound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qual_range for a sorted sequence of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w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D005-621D-4085-81B4-F084CAE0D53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upp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6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eq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equal_range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Low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lower_bound to locate the fir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B712-25B5-420A-BF13-44ED16D5677F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5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upper_bound to locate the la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7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7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7 is elemen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equal_range to locate the first an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point 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5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423D-D65F-4782-A49C-E5D9FFF8702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106668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2 4 4 4 6 6 6 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equal_r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lower_bound to locate the fir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upper_bound to locate the la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7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7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equal_range to locate the firs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point 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D4BC-3195-4175-BAAF-6F6F945E96E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ort - sort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p binary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element at top of he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ldren always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heap in the range of the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random access iterat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rray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_heap(iter1, iter2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s a heap sequence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9BF8-88C1-4DA0-930E-4F8377D05D2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terators must specify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last element in object to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s other elements already in heap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_heap(iter1, iter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the top element of a heap and puts it at the end of the contain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hecks that all other elements still in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 of the iterators must be a hea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the elements popped,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2851-86A1-46C1-89BD-7496AD4B7E3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7: fig21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push_heap, pop_hea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_heap and sort_hea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v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heap from vector v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ake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429000" y="4191120"/>
            <a:ext cx="4114800" cy="838080"/>
            <a:chOff x="3429000" y="4191120"/>
            <a:chExt cx="4114800" cy="838080"/>
          </a:xfrm>
        </p:grpSpPr>
        <p:sp>
          <p:nvSpPr>
            <p:cNvPr id="513" name=""/>
            <p:cNvSpPr/>
            <p:nvPr/>
          </p:nvSpPr>
          <p:spPr>
            <a:xfrm>
              <a:off x="4876920" y="4191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hea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4290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4A0A-5ABA-4D69-8CD2-82C36DBFA9E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 with sort_hea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sort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the heapsort with push_heap and pop_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rray a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array a into v2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tain elements of v2 in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push_back( a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ush_heap( v2.begin(), v2.end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push_heap(a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]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124080" y="2971800"/>
            <a:ext cx="4114800" cy="838080"/>
            <a:chOff x="3124080" y="2971800"/>
            <a:chExt cx="4114800" cy="838080"/>
          </a:xfrm>
        </p:grpSpPr>
        <p:sp>
          <p:nvSpPr>
            <p:cNvPr id="518" name=""/>
            <p:cNvSpPr/>
            <p:nvPr/>
          </p:nvSpPr>
          <p:spPr>
            <a:xfrm>
              <a:off x="4572000" y="2971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one at a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1240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54CD-DE27-4F55-8E5A-91F2A3B0396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from heap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v2.size(); ++j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he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op_heap( v2.begin(), v2.end() -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72B9-E355-4859-A099-8E837B90B61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 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0])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1]): 100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2]): 100 3 5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3]): 100 77 5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4]): 100 77 52 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5]): 100 77 52 3 22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6]): 100 77 52 3 22 3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7]): 100 98 52 77 22 31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8]): 100 98 52 77 22 31 1 3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9]): 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6A47-6B09-434F-B3FB-ACEC8D78E456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=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!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functionality of input and output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2DD3-A097-47CC-BC23-70086ED3B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0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 77 52 22 40 31 1 3 13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98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7 40 52 22 13 31 1 3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77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 40 31 22 13 3 1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5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22 31 1 13 3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4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22 3 1 13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13 3 1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2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1 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DAFB-42C9-44AC-AE34-2557CB04977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3 min and ma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mall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larg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8CF9-DA6F-40ED-A2E9-D4282056E27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8: fig21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min and max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in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min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5A3E-952D-4B72-B94E-7002DBF1018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12 and 7 is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12 and 7 is: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'G' and 'Z' is: 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'G' and 'Z' is: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33A5-5896-4077-B11B-616FB3C5A444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4 Algorithms Not Covered in This Ch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ner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th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v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23D1-2406-494D-8718-AA977EFD48CF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t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 set of bi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nipulate bit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set &lt;size&gt; b;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 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)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bitNumber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bit (on to off, off to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all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bitNumber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reference to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t(bitNumber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 checking, returns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59C0-47FF-4C9F-9063-C5B0252CB279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est(bitNumber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ge checking; if bit on,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ize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cou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bits set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ny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any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non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no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n use &amp;=, |=, !=, &lt;&lt;=, &gt;&gt;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&amp;=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AND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string(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ulong(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E010-BF72-4610-921F-EB729CD47B9E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0: fig21_40.cpp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bitset to demonstrate the Sieve of Eratosthen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bit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se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bitset&lt; size &gt; siev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eve.fli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C124-0424-476D-8A3C-FCDB878D1FB8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Sieve of Eratosth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Bit = sqrt( sieve.siz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nalBit; ++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i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j &lt; size; j += 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ieve.reset(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ime numbers in the range 2 to 1023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ime numbers in range 2-10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; ++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k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++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962160" y="298440"/>
            <a:ext cx="4115160" cy="1067400"/>
            <a:chOff x="3962160" y="298440"/>
            <a:chExt cx="4115160" cy="1067400"/>
          </a:xfrm>
        </p:grpSpPr>
        <p:sp>
          <p:nvSpPr>
            <p:cNvPr id="543" name=""/>
            <p:cNvSpPr/>
            <p:nvPr/>
          </p:nvSpPr>
          <p:spPr>
            <a:xfrm>
              <a:off x="5410080" y="29844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eve of Eratosthenes: turn off bits for all multiples of a number. What bits remain are pr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962160" y="450720"/>
              <a:ext cx="144756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84A2-1EB9-47B4-8F8A-EA56E971CAE1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rom user to determine whether value is pr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1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[ valu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2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7D1C-E04F-4277-928D-F3E7542968CD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[i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C05-A512-4BCC-BCD9-58214FFA60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rime numbers in the range 2 to 1023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3    5    7   11   13   17   19   23   29   31  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 43   47   53   59   61   67   71   73   79   83   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7  101  103  107  109  113  127  131  137  139  149  15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7  163  167  173  179  181  191  193  197  199  211  2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  229  233  239  241  251  257  263  269  271  277  2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83  293  307  311  313  317  331  337  347  349  353  3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7  373  379  383  389  397  401  409  419  421  431  4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9  443  449  457  461  463  467  479  487  491  499  5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9  521  523  541  547  557  563  569  571  577  587  5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99  601  607  613  617  619  631  641  643  647  653  6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1  673  677  683  691  701  709  719  727  733  739  7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1  757  761  769  773  787  797  809  811  821  823  8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29  839  853  857  859  863  877  881  883  887  907  9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9  929  937  941  947  953  967  971  977  983  991  9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9 1013 1019 10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1 to 1023 (-1 to end): 3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89 is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is not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92A4-2D65-4D55-A18F-5EEB0108EB73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bjec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functional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s invoked using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85680" y="2255760"/>
          <a:ext cx="608976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2255760"/>
                    <a:ext cx="60897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1D1C-FD8A-499A-8C3D-EA2B44D01A72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2: fig21_4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function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unctional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_function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adds square of its second argumen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unning total in its first argument, then returns su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umSquar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038480" y="2514600"/>
            <a:ext cx="4114800" cy="838080"/>
            <a:chOff x="4038480" y="2514600"/>
            <a:chExt cx="4114800" cy="838080"/>
          </a:xfrm>
        </p:grpSpPr>
        <p:sp>
          <p:nvSpPr>
            <p:cNvPr id="556" name=""/>
            <p:cNvSpPr/>
            <p:nvPr/>
          </p:nvSpPr>
          <p:spPr>
            <a:xfrm>
              <a:off x="5486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to be u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038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EE6C-0F93-4E23-A6BE-D5FB0F136E42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class template defines overloaded operat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adds suare of its second argument and running total i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s first argument, then returns sum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T &gt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Class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inary_function&lt; T, T, T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quare of value to total and return resul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operator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valu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SquaresCla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228920" y="1295280"/>
            <a:ext cx="4115160" cy="838440"/>
            <a:chOff x="4228920" y="1295280"/>
            <a:chExt cx="4115160" cy="838440"/>
          </a:xfrm>
        </p:grpSpPr>
        <p:sp>
          <p:nvSpPr>
            <p:cNvPr id="561" name=""/>
            <p:cNvSpPr/>
            <p:nvPr/>
          </p:nvSpPr>
          <p:spPr>
            <a:xfrm>
              <a:off x="5676840" y="129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object (it can also encapsulate data). Over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289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8E4E-CC60-4306-A876-502B0761975C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 function sumSquare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 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sumSquar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419720" y="2333520"/>
            <a:ext cx="4419360" cy="1797480"/>
            <a:chOff x="4419720" y="2333520"/>
            <a:chExt cx="4419360" cy="1797480"/>
          </a:xfrm>
        </p:grpSpPr>
        <p:sp>
          <p:nvSpPr>
            <p:cNvPr id="566" name=""/>
            <p:cNvSpPr/>
            <p:nvPr/>
          </p:nvSpPr>
          <p:spPr>
            <a:xfrm>
              <a:off x="6172200" y="23335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ly pa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the first argument, with the first element as the second. It then uses the return value as the first argument, and iterates through the other el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419720" y="2819520"/>
              <a:ext cx="1752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987E-CD13-476D-A89D-880468B0A5A3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-function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Cla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object of typ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SquaresClass&lt; int &gt;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89548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umSquares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object of type SumSquaresClass&lt; int &gt;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66880" y="1066320"/>
            <a:ext cx="3733920" cy="1571760"/>
            <a:chOff x="2666880" y="1066320"/>
            <a:chExt cx="3733920" cy="1571760"/>
          </a:xfrm>
        </p:grpSpPr>
        <p:sp>
          <p:nvSpPr>
            <p:cNvPr id="572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a funct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666880" y="10663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C199-DA29-4C7A-9632-47E96E62A00D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3 Introduction to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has algorithms used generically acro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e on elements indirectly via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operate on sequences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pairs of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often return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element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made algorithms save programmers time and eff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B72D-575D-4261-BDD2-F465322D4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quenc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robust 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3F61-1F17-4DB0-8631-4C4C92CAD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ructure with contiguous memory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element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data must be sorted and easily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emory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es larger, contiguous area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tself t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ol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random access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B3C8-DD61-489B-979D-E129CA8836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vector 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v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const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modify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reverse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s elements in reverse order (end to begin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start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end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AF38-AC30-4AD3-B976-D12F2FC31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9528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ll, fill_n, generate and generate_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qual, mismatch and lexicographical_com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move, remove_if, remove_copy and remov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e, replace_if, replace_copy and replac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5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thematical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6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Basic Searching and Sorting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7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, iter_swap and swap_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8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py_backward, merge, unique and 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9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place_merge, unique_copy and reverse_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0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ower_bound, upper_bound and equal_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eap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in and 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 Not Covered in This Ch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bit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unction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B0B2-7679-4EDD-9894-2AB11E95E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push_back(valu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element to end (found in all sequence  contain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ze of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apaci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uch vector can hold before realloca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location doubles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v(a, a + SI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elements from 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92D5-4D1A-4A64-8CDC-C154A4F1F1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fore loc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+ 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array elements (up to, but not includ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rray + SIZ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a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 from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1, 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s starting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le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entire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3E8A-FC4C-4C39-B139-BE3B11ED6A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front(), v.b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irst and las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a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at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bove, with range 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_of_bou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DA15-031B-4E9C-8736-BC67DBF90D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ostream_iterator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outputStream, separator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utputs values of a certai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terator outpu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pa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haracter separating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ostream_iterator&lt; int &gt; output( cout, " 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copy( iterator1, iterator2, outpu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output,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6F63-D826-49E7-BDD3-24748DFF1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4: fig2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vector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 &lt;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size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1960" y="3505320"/>
            <a:ext cx="4115160" cy="838080"/>
            <a:chOff x="2361960" y="3505320"/>
            <a:chExt cx="4115160" cy="838080"/>
          </a:xfrm>
        </p:grpSpPr>
        <p:sp>
          <p:nvSpPr>
            <p:cNvPr id="146" name=""/>
            <p:cNvSpPr/>
            <p:nvPr/>
          </p:nvSpPr>
          <p:spPr>
            <a:xfrm>
              <a:off x="38098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3619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71800" y="4170240"/>
            <a:ext cx="4114800" cy="1316160"/>
            <a:chOff x="2971800" y="4170240"/>
            <a:chExt cx="4114800" cy="1316160"/>
          </a:xfrm>
        </p:grpSpPr>
        <p:sp>
          <p:nvSpPr>
            <p:cNvPr id="149" name=""/>
            <p:cNvSpPr/>
            <p:nvPr/>
          </p:nvSpPr>
          <p:spPr>
            <a:xfrm>
              <a:off x="4419720" y="41702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718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276360" y="434340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68A0-67DC-46E1-BE6E-4CABD51205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ush_back is in every sequence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ize of integers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Output array using pointe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 ptr !=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utput vector using iterato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Vector( integ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versed contents of vector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247680"/>
            <a:ext cx="5371920" cy="590400"/>
            <a:chOff x="3048120" y="247680"/>
            <a:chExt cx="5371920" cy="590400"/>
          </a:xfrm>
        </p:grpSpPr>
        <p:sp>
          <p:nvSpPr>
            <p:cNvPr id="155" name=""/>
            <p:cNvSpPr/>
            <p:nvPr/>
          </p:nvSpPr>
          <p:spPr>
            <a:xfrm>
              <a:off x="575316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to en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_b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48120" y="399960"/>
              <a:ext cx="27050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70B7-0E29-496F-8928-2112342D5B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reverse_iterator reverse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verseIterator = integers.r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verseIterator!= integers.rend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reverseIterator )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reverse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for outputting vector element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T &gt;::const_iterator constIterato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stIterator = integers2.begin(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 != integers2.end(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++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const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Vector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1640" y="457200"/>
            <a:ext cx="3772440" cy="1204920"/>
            <a:chOff x="4571640" y="457200"/>
            <a:chExt cx="3772440" cy="1204920"/>
          </a:xfrm>
        </p:grpSpPr>
        <p:sp>
          <p:nvSpPr>
            <p:cNvPr id="160" name=""/>
            <p:cNvSpPr/>
            <p:nvPr/>
          </p:nvSpPr>
          <p:spPr>
            <a:xfrm>
              <a:off x="56768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wards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verse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724280" y="457200"/>
              <a:ext cx="952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71640" y="838080"/>
              <a:ext cx="1104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2590920"/>
            <a:ext cx="4114800" cy="1676160"/>
            <a:chOff x="3886200" y="2590920"/>
            <a:chExt cx="4114800" cy="1676160"/>
          </a:xfrm>
        </p:grpSpPr>
        <p:sp>
          <p:nvSpPr>
            <p:cNvPr id="164" name=""/>
            <p:cNvSpPr/>
            <p:nvPr/>
          </p:nvSpPr>
          <p:spPr>
            <a:xfrm>
              <a:off x="533412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function to 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wa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862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886200" y="274320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421E-D6E0-442B-8629-C195257B9C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ize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capacity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ize of v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apacity of v is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array a using pointer notation: 1 2 3 4 5 6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v using iterator notation: 2 3 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d contents of vector v: 4 3 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8F6E-F214-46B0-8B4D-8DB3A7B8DC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5: fig21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vector class temp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-manipulation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integer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r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fro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a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47960" y="2743200"/>
            <a:ext cx="4115160" cy="838080"/>
            <a:chOff x="4647960" y="2743200"/>
            <a:chExt cx="4115160" cy="838080"/>
          </a:xfrm>
        </p:grpSpPr>
        <p:sp>
          <p:nvSpPr>
            <p:cNvPr id="172" name=""/>
            <p:cNvSpPr/>
            <p:nvPr/>
          </p:nvSpPr>
          <p:spPr>
            <a:xfrm>
              <a:off x="6095880" y="2743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nitialized using an array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479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76920" y="3809880"/>
            <a:ext cx="4114800" cy="762120"/>
            <a:chOff x="4876920" y="3809880"/>
            <a:chExt cx="4114800" cy="762120"/>
          </a:xfrm>
        </p:grpSpPr>
        <p:sp>
          <p:nvSpPr>
            <p:cNvPr id="175" name=""/>
            <p:cNvSpPr/>
            <p:nvPr/>
          </p:nvSpPr>
          <p:spPr>
            <a:xfrm>
              <a:off x="5715000" y="380988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range of iterato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76920" y="4057560"/>
              <a:ext cx="83808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4347-9ACC-4C01-8178-18FB159A74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element to 7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position 2 to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22 as 2nd elemen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after chang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out-of-ran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tch out_of_rang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out_of_range outOfRan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Excep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OfRange.wha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first elemen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integers after erasing first ele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743200" y="609120"/>
            <a:ext cx="5334120" cy="809640"/>
            <a:chOff x="2743200" y="609120"/>
            <a:chExt cx="5334120" cy="809640"/>
          </a:xfrm>
        </p:grpSpPr>
        <p:sp>
          <p:nvSpPr>
            <p:cNvPr id="180" name=""/>
            <p:cNvSpPr/>
            <p:nvPr/>
          </p:nvSpPr>
          <p:spPr>
            <a:xfrm>
              <a:off x="54100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743200" y="609120"/>
              <a:ext cx="2666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352320" y="2057400"/>
            <a:ext cx="3810600" cy="590400"/>
            <a:chOff x="3352320" y="2057400"/>
            <a:chExt cx="3810600" cy="590400"/>
          </a:xfrm>
        </p:grpSpPr>
        <p:sp>
          <p:nvSpPr>
            <p:cNvPr id="183" name=""/>
            <p:cNvSpPr/>
            <p:nvPr/>
          </p:nvSpPr>
          <p:spPr>
            <a:xfrm>
              <a:off x="44956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range checking, and can throw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52320" y="2209680"/>
              <a:ext cx="114300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1C2E-1B2C-488E-8141-4C28C70AE0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the Standard Template Library (ST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template-based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: template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ors: like pointers, access elements of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: data manipulation, searching, sort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 oriented programming: reuse, reuse,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n introduction to STL, a huge class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1BAC-657E-4FA6-908D-F6184E20D1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remaining element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, integer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erasing all elements, vector integer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from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,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before cle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integers; clear calls erase to empty a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clea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clear, vector integer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6426-7C1C-43A3-8228-5BF8F77844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contains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element of integer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element of integers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after changes: 7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: invalid vector&lt;T&gt;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after erasing first element: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erasing all elements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before clear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lear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E7DB-2334-4E84-B3C5-AECBF01627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anywhere in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 (two pointers per n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lis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E95D-9C48-4D6A-82CA-1018645B52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for obj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or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s in ascending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plice(iterator, otherObjec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merge( otherObjec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serts 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uniq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duplicat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3E2C-3D60-40EB-B32A-174DA5CE64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wap(otherObject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assign(iterator1, iterato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contents with elements in range of it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remove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all instances o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3755-F2AB-47D7-A54B-D3B73B0055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7: fig21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list class 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ther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item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198" name=""/>
            <p:cNvSpPr/>
            <p:nvPr/>
          </p:nvSpPr>
          <p:spPr>
            <a:xfrm>
              <a:off x="4419720" y="3581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0423-E9DF-4A90-ABAA-89B42556C4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after sorting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at end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plice( values.end(),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splic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or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7400" y="247680"/>
            <a:ext cx="4114800" cy="2114640"/>
            <a:chOff x="2057400" y="247680"/>
            <a:chExt cx="4114800" cy="2114640"/>
          </a:xfrm>
        </p:grpSpPr>
        <p:sp>
          <p:nvSpPr>
            <p:cNvPr id="203" name=""/>
            <p:cNvSpPr/>
            <p:nvPr/>
          </p:nvSpPr>
          <p:spPr>
            <a:xfrm>
              <a:off x="350532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ou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574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361960" y="399960"/>
              <a:ext cx="1143000" cy="19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5799-07A3-4C6C-A4A9-6A000E301F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sort(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back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b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 and pop_back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uniqu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duplicat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98C7-44E8-4C25-B28D-3EDD963545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of values and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wap(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wap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contents of values with elements of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assign( otherValues.begin(), otherValues.end(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assign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remov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all 4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move( 4 )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CF49-5D48-4A6E-9D71-6C119CEA2F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List function template definition;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copy algorithm to output lis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Ref.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ostream_iterator&lt; T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listRef.begin(), listRef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8E2C-FDA7-45BC-AF1D-FFCD303EBE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1 Introduction to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ntai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data structures (vectors, linked l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, can find elements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adap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ontainers, with reduced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have some comm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98B7-1601-472D-9FE5-8A71822469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1 4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after sorting contains: 1 2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plice, values contains: 1 2 3 4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ort, values contains: 1 2 2 3 4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1 2 2 2 3 4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 and pop_back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2 2 3 4 4 4 6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ssign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, values contains: 2 2 3 3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move( 4 ), values contains: 2 2 3 3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0297-18A0-4019-9A70-794B0A1138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3 deque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"deek"): double-ended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deq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ed access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in front and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contiguous memory: has "smarter"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basic operations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sert at fro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ete from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5787-2CBC-4176-846B-1E918ED3A5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8: fig21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deq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deque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que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deq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obtain elements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values.size(); ++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57400" y="1981080"/>
            <a:ext cx="4114800" cy="1752840"/>
            <a:chOff x="2057400" y="1981080"/>
            <a:chExt cx="4114800" cy="1752840"/>
          </a:xfrm>
        </p:grpSpPr>
        <p:sp>
          <p:nvSpPr>
            <p:cNvPr id="219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q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285640" y="21337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C9D2-4302-450C-825D-C51B2C33D6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firs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modify element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values[ 1 ] = 5.4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7339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3.5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, values contains: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values[ 1 ] = 5.4, values contains: 2.2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6874-E51C-4495-A76D-8F7BB87EE6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ociativ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contain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cess to store/retrieve el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keys (search ke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in sort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 duplicat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keys and associat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 ha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F220-F1D0-43E1-95EA-E60C3128A7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torage, retrieval of keys (no val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dupl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e by comparator functio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creating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ger 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in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ator func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&lt; int, std::less&lt;int&gt; &gt;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will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6625-A2A8-47F1-A7E7-2DD52E36F6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inser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 into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coun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occurrences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fi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low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location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upp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ocation after last occurre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3DAB-A3DF-41E4-9B19-4C7AEB9D4B4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pairs of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conta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ms.equal_rang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0F83-7683-4EF5-9624-ABF529EBBC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9: fig21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class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se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ms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 intMultise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 is typedef for "integer multise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86200" y="1523880"/>
            <a:ext cx="4114800" cy="1067400"/>
            <a:chOff x="3886200" y="152388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53341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help clarify program. This declares an integer multiset that stores values in ascending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8862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03D-FD76-422E-A8E9-84DBC08049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or that cannot be used to change el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::const_iterator resul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15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intMultiset.end()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iterator not at 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nd value 15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search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20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intMultiset.end()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ll be true h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d not find value 2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d not find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a into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intMultiset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Multiset.begin(), intMulti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200400" y="1752480"/>
            <a:ext cx="4114800" cy="838440"/>
            <a:chOff x="3200400" y="1752480"/>
            <a:chExt cx="4114800" cy="838440"/>
          </a:xfrm>
        </p:grpSpPr>
        <p:sp>
          <p:nvSpPr>
            <p:cNvPr id="241" name=""/>
            <p:cNvSpPr/>
            <p:nvPr/>
          </p:nvSpPr>
          <p:spPr>
            <a:xfrm>
              <a:off x="46483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88D8-2E13-4C6C-B8F1-7E3C92C359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L Container Classes (Fig. 21.1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47D8-CE6C-41C3-8EF4-2E11D1762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 and upper bound of 22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low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upp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of const_iterato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ims::const_iterator, ims::const_iterator &gt; 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lower and upper b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22 in intMultiset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intMultiset.equal_r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qual_range of 22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29000" y="1752480"/>
            <a:ext cx="4114800" cy="838440"/>
            <a:chOff x="3429000" y="1752480"/>
            <a:chExt cx="4114800" cy="838440"/>
          </a:xfrm>
        </p:grpSpPr>
        <p:sp>
          <p:nvSpPr>
            <p:cNvPr id="246" name=""/>
            <p:cNvSpPr/>
            <p:nvPr/>
          </p:nvSpPr>
          <p:spPr>
            <a:xfrm>
              <a:off x="487692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get the lower and upper boun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429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B558-29EC-4412-BDAC-B86BB89A2DB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d not find value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intMultiset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7 9 13 15 15 18 22 22 30 85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22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22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_range of 2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6F9C-EC70-47C0-9C2C-983CB72D7D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2 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identical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ignored and not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bidirectional iterators (but not random acc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se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std::less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B64B-5634-450B-AA7A-A3CA51AF20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0: fig21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set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double_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_set doubleSe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38480" y="1523880"/>
            <a:ext cx="4114800" cy="838440"/>
            <a:chOff x="4038480" y="1523880"/>
            <a:chExt cx="4114800" cy="838440"/>
          </a:xfrm>
        </p:grpSpPr>
        <p:sp>
          <p:nvSpPr>
            <p:cNvPr id="255" name=""/>
            <p:cNvSpPr/>
            <p:nvPr/>
          </p:nvSpPr>
          <p:spPr>
            <a:xfrm>
              <a:off x="5486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Syntax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038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29EB-5470-4B69-8F2E-E780F41B05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containing const_iterator and bo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double_set::const_it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3.8 in doubleSet; insert returns pair in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first represents location of 13.8 in doubleSet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second represents whether 13.8 was inserted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not in set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9.5 in doubleSe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already in 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81280" y="1143000"/>
            <a:ext cx="4114800" cy="838080"/>
            <a:chOff x="3581280" y="11430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502920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representing whether or not the item was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E236-E9BD-49C3-9762-F9820B6FEAA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057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.8 was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5 was not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2145-421E-4920-8AB2-08B4F325A3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storage and retrieval of keys and associate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 keys allowed (multiple values for a single ke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many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one student can take many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 (with a key and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B772-2082-45BC-B173-862F8E0079A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multimap&lt; int, double, std::less&lt; int &gt; &gt;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implify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std::multimap&lt;int, double, std::less&lt;int&gt;&gt; m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id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apObject.insert( mmid::value_type( 1, 3.4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s ke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mid::value_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6DA4-0196-4330-9527-23BB99E39CD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1: fig21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ulti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map type used in this progr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 in the multim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two value_type objects in pairs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33560" y="1066680"/>
            <a:ext cx="4115160" cy="1295640"/>
            <a:chOff x="3733560" y="1066680"/>
            <a:chExt cx="4115160" cy="1295640"/>
          </a:xfrm>
        </p:grpSpPr>
        <p:sp>
          <p:nvSpPr>
            <p:cNvPr id="272" name=""/>
            <p:cNvSpPr/>
            <p:nvPr/>
          </p:nvSpPr>
          <p:spPr>
            <a:xfrm>
              <a:off x="51814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fo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maps integer keys to double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733560" y="15238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480" y="2685960"/>
            <a:ext cx="4114800" cy="1886040"/>
            <a:chOff x="1752480" y="2685960"/>
            <a:chExt cx="4114800" cy="1886040"/>
          </a:xfrm>
        </p:grpSpPr>
        <p:sp>
          <p:nvSpPr>
            <p:cNvPr id="275" name=""/>
            <p:cNvSpPr/>
            <p:nvPr/>
          </p:nvSpPr>
          <p:spPr>
            <a:xfrm>
              <a:off x="3200400" y="2685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multimap and insert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52480" y="283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362320" y="2838600"/>
              <a:ext cx="838080" cy="17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F434-766C-4B21-8DC3-63E394BEBE6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five value_type objects in pai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map 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mid::const_iterator iter = pairs.begin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666880" y="1828800"/>
            <a:ext cx="4114800" cy="838080"/>
            <a:chOff x="2666880" y="1828800"/>
            <a:chExt cx="4114800" cy="838080"/>
          </a:xfrm>
        </p:grpSpPr>
        <p:sp>
          <p:nvSpPr>
            <p:cNvPr id="281" name=""/>
            <p:cNvSpPr/>
            <p:nvPr/>
          </p:nvSpPr>
          <p:spPr>
            <a:xfrm>
              <a:off x="411480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terator to print enti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68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BB58-0A08-44A0-99F3-A867A4B7533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Member Functions (Fig. 21.2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for all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, copy constructor,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&lt; &lt;= &gt; &gt;= == 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r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F08E-33FA-49F2-B437-C2FEDBCAB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pairs with key 15 in the multi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pairs with key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map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77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99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AD98-42E2-4EB7-9215-AAD01A77845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4 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only unique key/value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o-one mapping (duplicates igno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30] = 4000.2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the value of key 30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00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subscript no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reates new key/value p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d::map&lt; int, double, std::less&lt; int &gt; 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7F1A-1667-472D-B626-847A2A06A6A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2: fig21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ap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ight value_type objects in pai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10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52120" y="1523880"/>
            <a:ext cx="5220360" cy="1752840"/>
            <a:chOff x="1752120" y="1523880"/>
            <a:chExt cx="5220360" cy="1752840"/>
          </a:xfrm>
        </p:grpSpPr>
        <p:sp>
          <p:nvSpPr>
            <p:cNvPr id="290" name=""/>
            <p:cNvSpPr/>
            <p:nvPr/>
          </p:nvSpPr>
          <p:spPr>
            <a:xfrm>
              <a:off x="43052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ain,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to simplify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8573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752120" y="1676520"/>
              <a:ext cx="2552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00600" y="3484440"/>
            <a:ext cx="4114800" cy="1544760"/>
            <a:chOff x="4800600" y="3484440"/>
            <a:chExt cx="4114800" cy="1544760"/>
          </a:xfrm>
        </p:grpSpPr>
        <p:sp>
          <p:nvSpPr>
            <p:cNvPr id="294" name=""/>
            <p:cNvSpPr/>
            <p:nvPr/>
          </p:nvSpPr>
          <p:spPr>
            <a:xfrm>
              <a:off x="6248520" y="34844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uplicate key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800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800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C947-4D47-4210-84C4-D38CB05488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 = pairs.begin(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change value for key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99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insert value for key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65.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ubscript operations, pairs contain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2 = pairs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2 != pairs.end(); ++iter2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2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2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57320" y="1371600"/>
            <a:ext cx="4115160" cy="1523880"/>
            <a:chOff x="2857320" y="1371600"/>
            <a:chExt cx="4115160" cy="1523880"/>
          </a:xfrm>
        </p:grpSpPr>
        <p:sp>
          <p:nvSpPr>
            <p:cNvPr id="300" name=""/>
            <p:cNvSpPr/>
            <p:nvPr/>
          </p:nvSpPr>
          <p:spPr>
            <a:xfrm>
              <a:off x="430524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subscript operator to add or change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57320" y="1523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857320" y="15238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3A27-7C99-4118-9B82-87AAF5121C3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22.2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ubscript operations,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9999.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     8765.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7617-8190-42B4-AB84-D113BAA6784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Adap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_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first class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upport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provide actual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can selec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C62D-AB22-495C-9FFC-937948168FC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1 stack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ack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nd deletions at one 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vector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list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Other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anotherStack; // default de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behavior, just perform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07E3-0231-4622-8E8A-655E1075FA6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3: fig21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stack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ack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Elements function-template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default underlying de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DequeStack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vec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Vector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lis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Lis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733560" y="3362400"/>
            <a:ext cx="4115160" cy="2047680"/>
            <a:chOff x="3733560" y="3362400"/>
            <a:chExt cx="4115160" cy="2047680"/>
          </a:xfrm>
        </p:grpSpPr>
        <p:sp>
          <p:nvSpPr>
            <p:cNvPr id="312" name=""/>
            <p:cNvSpPr/>
            <p:nvPr/>
          </p:nvSpPr>
          <p:spPr>
            <a:xfrm>
              <a:off x="5181480" y="3362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stacks with various implement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733560" y="3514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62520" y="3514680"/>
              <a:ext cx="1218960" cy="11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190760" y="3514680"/>
              <a:ext cx="990360" cy="18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226F-AA7C-479F-920B-1468229E417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the values 0-9 onto each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DequeStack.push( i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VectorStack.push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ListStack.push( i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nd remove elements from each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opping from intDeque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Deque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Vector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Vector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List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List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76360" y="838080"/>
            <a:ext cx="4115160" cy="337320"/>
            <a:chOff x="3276360" y="838080"/>
            <a:chExt cx="4115160" cy="337320"/>
          </a:xfrm>
        </p:grpSpPr>
        <p:sp>
          <p:nvSpPr>
            <p:cNvPr id="319" name=""/>
            <p:cNvSpPr/>
            <p:nvPr/>
          </p:nvSpPr>
          <p:spPr>
            <a:xfrm>
              <a:off x="4724280" y="8380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276360" y="990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7BB7-E39A-4EC7-82AA-686DD013384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s from stack object to which stackRef ref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tackRef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ackRef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Ref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6668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Deque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Vector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List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6260-0012-45A1-9871-0F54825B7B4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typedefs (Fig. 21.4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fferenc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4E03-9A7A-4768-84BD-995A6C5955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2 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t back, deletions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-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queue&lt;double&gt; valu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d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424A-F9C7-4FF8-BF62-FB6786B8541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4: fig21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que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valu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.front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fro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s.pop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90560" y="1752480"/>
            <a:ext cx="4115160" cy="1600200"/>
            <a:chOff x="2590560" y="1752480"/>
            <a:chExt cx="4115160" cy="1600200"/>
          </a:xfrm>
        </p:grpSpPr>
        <p:sp>
          <p:nvSpPr>
            <p:cNvPr id="329" name=""/>
            <p:cNvSpPr/>
            <p:nvPr/>
          </p:nvSpPr>
          <p:spPr>
            <a:xfrm>
              <a:off x="4038480" y="1752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d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590560" y="1905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90560" y="1905120"/>
              <a:ext cx="14475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6F1F-07EE-4C87-96D5-68B05CCB78E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371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values: 3.2 9.8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D544-E0DB-4296-97CD-805FD98F3B9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3 priority_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happen in sorted order, deletions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ighest prior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lways remov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psort algorithm puts largest elements at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T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, programmer can specify other c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(value), pop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top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A074-CA91-4899-9BD2-F4FC0CB2064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5: fig21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priority_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ority_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riority_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riorit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prior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prioriti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prioriti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iorities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orities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971800" y="1752480"/>
            <a:ext cx="4114800" cy="838440"/>
            <a:chOff x="2971800" y="1752480"/>
            <a:chExt cx="4114800" cy="838440"/>
          </a:xfrm>
        </p:grpSpPr>
        <p:sp>
          <p:nvSpPr>
            <p:cNvPr id="340" name=""/>
            <p:cNvSpPr/>
            <p:nvPr/>
          </p:nvSpPr>
          <p:spPr>
            <a:xfrm>
              <a:off x="44197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riority que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666520" y="2971800"/>
            <a:ext cx="3810600" cy="2133720"/>
            <a:chOff x="2666520" y="2971800"/>
            <a:chExt cx="3810600" cy="2133720"/>
          </a:xfrm>
        </p:grpSpPr>
        <p:sp>
          <p:nvSpPr>
            <p:cNvPr id="343" name=""/>
            <p:cNvSpPr/>
            <p:nvPr/>
          </p:nvSpPr>
          <p:spPr>
            <a:xfrm>
              <a:off x="3809880" y="2971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items using push. When using pop, highest priority (largest) items removed fir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971800" y="32004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666520" y="320040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5E83-F577-4210-8730-0CA5BBED210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952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priorities: 9.8 5.4 3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D8C4-2569-4259-834C-DFE7B9BE265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ST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incompatible among vend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built into contain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separates containers an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o add new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efficient, avoi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algorith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AD63-1CFE-4711-80FE-7BF2FD62B12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 fill, fill_n, generate and generate_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hang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(iterator1, iterator2, 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range of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(iterator1, n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tart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iterator2, fun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each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quantity, fun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, "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73A8-E31C-4D65-B590-5AA68C43CB6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6: fig21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fill, fill_n, gene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generate_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har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chars with 5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( chars.begin(), chars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chars after filling with 5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6" name=""/>
            <p:cNvSpPr/>
            <p:nvPr/>
          </p:nvSpPr>
          <p:spPr>
            <a:xfrm>
              <a:off x="411480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, to be used with variou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72000" y="3505320"/>
            <a:ext cx="4114800" cy="838080"/>
            <a:chOff x="4572000" y="3505320"/>
            <a:chExt cx="4114800" cy="838080"/>
          </a:xfrm>
        </p:grpSpPr>
        <p:sp>
          <p:nvSpPr>
            <p:cNvPr id="359" name=""/>
            <p:cNvSpPr/>
            <p:nvPr/>
          </p:nvSpPr>
          <p:spPr>
            <a:xfrm>
              <a:off x="601992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57200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2CE0-4FD1-41B9-AB34-AA7A990C6E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first five elements of chars with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filling five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ith A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all elements of chars with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( chars.begin(), chars.end(), nextLetter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letters A-J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first five elements of ch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nextLette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xtLett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K-O for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rst five elemen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23920" y="1066680"/>
            <a:ext cx="4343760" cy="2362320"/>
            <a:chOff x="4723920" y="1066680"/>
            <a:chExt cx="4343760" cy="2362320"/>
          </a:xfrm>
        </p:grpSpPr>
        <p:sp>
          <p:nvSpPr>
            <p:cNvPr id="364" name=""/>
            <p:cNvSpPr/>
            <p:nvPr/>
          </p:nvSpPr>
          <p:spPr>
            <a:xfrm>
              <a:off x="6400800" y="1066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_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xtLet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1219320"/>
              <a:ext cx="16765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210C-C918-4F66-802B-E3D27F0076A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similar to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first element in a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or operators same for all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ex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fir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terators with sequences (rang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62A6-AA71-41FB-89A7-E44A11C361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next letter in the alphabet (starts with A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with 5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5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five elements wit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A A A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letters A-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 C D E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K-O for the first fiv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L M N O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AEBD-BE3A-412A-9085-9B24759A14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quences are equal (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of unequa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(iterator1, iterator2, iterator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sequence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equence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iterators pointing to mis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ismatch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erators equal to las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 &lt; iterator, iterator &gt; myPair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PairObject = mismatch( iter1, iter2, 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D625-72B5-47D7-A45B-DA10EBB173E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xicographical_comp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contents of two character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lement in first sequence smaller than corresponding element in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 result = lexicographical_compare(iter1, iter2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DE68-408F-4C25-A3F0-5D65395C4C3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7: fig21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equa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smatch and lexicographical_compa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F44E-10DB-4F8F-A3B4-6EDADEC33C9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2 for equalit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equal( v1.begin(), v1.end(), v2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2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3 for equalit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equal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3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represents pair of vector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mismatch between v1 and v3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mismatch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429000" y="1295280"/>
            <a:ext cx="4114800" cy="838440"/>
            <a:chOff x="3429000" y="12952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8769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q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ompar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4290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190760" y="4800600"/>
            <a:ext cx="4115160" cy="838080"/>
            <a:chOff x="4190760" y="4800600"/>
            <a:chExt cx="4115160" cy="838080"/>
          </a:xfrm>
        </p:grpSpPr>
        <p:sp>
          <p:nvSpPr>
            <p:cNvPr id="382" name=""/>
            <p:cNvSpPr/>
            <p:nvPr/>
          </p:nvSpPr>
          <p:spPr>
            <a:xfrm>
              <a:off x="56386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sm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190760" y="4952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0A53-D748-4C6C-A2B6-A00DBB8B9F4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re is a mismatch between v1 and v3 a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location.first - v1.begin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where v1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v3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YE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lexicographical comparison of c1 and c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lexicographical_compare(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1, c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2, c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result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or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124080" y="1523880"/>
            <a:ext cx="4876920" cy="838440"/>
            <a:chOff x="3124080" y="1523880"/>
            <a:chExt cx="4876920" cy="838440"/>
          </a:xfrm>
        </p:grpSpPr>
        <p:sp>
          <p:nvSpPr>
            <p:cNvPr id="387" name=""/>
            <p:cNvSpPr/>
            <p:nvPr/>
          </p:nvSpPr>
          <p:spPr>
            <a:xfrm>
              <a:off x="4572000" y="152388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exicographical_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1240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71C0-86CE-463B-BF3A-5656D4358B7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contains: 1 2 3 4 1000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equal to vector v2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not equal to vector v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is a mismatch between v1 and v3 at location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v1 contains 5 and v3 contains 1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is greater than or equal to BYE BY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AE51-623A-46CA-BFE2-A4345C18DF7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( iter1, iter2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ll instanc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rang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wards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size of container or delet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"new" end of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s after new iterator are undefin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one vector to another while removing an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_copy(iter1, iter2, iter3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not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it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ran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F2FF-42A4-4B7E-B3D0-7A5A5F70FEF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element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specifie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if(iter1,iter2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pass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range of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xcept those for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copy_if(iter1, iter2, iter3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0105-63ED-4E0F-B29C-BF9763FA690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8: fig21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move, remov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_copy and remov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newLast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1D88-4A62-4960-BD53-1BCDC3D1B8A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istream_iterator&lt; int &gt; inputInt( c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ad inpu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to read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ostream_iterator&lt; int &gt; outputInt(c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utp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outputInt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out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s iterator so we can output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670-8A24-4D46-A38C-BBB30187B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10 from v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std::remov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mov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, removing 10s in the proces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( v2.begin(), v2.end(), c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 after removing all 10s from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.begin(), c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876560" y="609120"/>
            <a:ext cx="3810240" cy="1053000"/>
            <a:chOff x="4876560" y="609120"/>
            <a:chExt cx="3810240" cy="1053000"/>
          </a:xfrm>
        </p:grpSpPr>
        <p:sp>
          <p:nvSpPr>
            <p:cNvPr id="400" name=""/>
            <p:cNvSpPr/>
            <p:nvPr/>
          </p:nvSpPr>
          <p:spPr>
            <a:xfrm>
              <a:off x="6019920" y="838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ov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an iterator pointing to the new las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4876560" y="60912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800600" y="2362320"/>
            <a:ext cx="4114800" cy="837720"/>
            <a:chOff x="4800600" y="2362320"/>
            <a:chExt cx="4114800" cy="837720"/>
          </a:xfrm>
        </p:grpSpPr>
        <p:sp>
          <p:nvSpPr>
            <p:cNvPr id="403" name=""/>
            <p:cNvSpPr/>
            <p:nvPr/>
          </p:nvSpPr>
          <p:spPr>
            <a:xfrm>
              <a:off x="62485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duplica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ith 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600" y="25146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ADBC-DF88-4E76-AB1A-AB0B35C4C86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greater than 9 from v3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remove_if( v3.begin(), v3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from v4 to c2, removing elements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n 9 in the proce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_if(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from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876560" y="837720"/>
            <a:ext cx="3733920" cy="977040"/>
            <a:chOff x="4876560" y="837720"/>
            <a:chExt cx="3733920" cy="977040"/>
          </a:xfrm>
        </p:grpSpPr>
        <p:sp>
          <p:nvSpPr>
            <p:cNvPr id="408" name=""/>
            <p:cNvSpPr/>
            <p:nvPr/>
          </p:nvSpPr>
          <p:spPr>
            <a:xfrm>
              <a:off x="594360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eater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whether to remove the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4876560" y="837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590560" y="3200400"/>
            <a:ext cx="4876920" cy="838080"/>
            <a:chOff x="2590560" y="3200400"/>
            <a:chExt cx="4876920" cy="838080"/>
          </a:xfrm>
        </p:grpSpPr>
        <p:sp>
          <p:nvSpPr>
            <p:cNvPr id="411" name=""/>
            <p:cNvSpPr/>
            <p:nvPr/>
          </p:nvSpPr>
          <p:spPr>
            <a:xfrm>
              <a:off x="40384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_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590560" y="3352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805F-AA8F-407C-AC5E-26351F70C83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6BA3-F8DC-4101-8049-896BE085759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moving all 10s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 after removing all 10s from v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from v4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 0 0 0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3164-1B41-483A-85E0-EAEAD9BC038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4 replace, replace_if, replace_copy and replac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( iter1, iter2, value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xcept replac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if( iter1, iter2, function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value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(iter1, iter2, iter3, valu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ffect orig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_if( iter1, iter2, iter3, function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6D00-DD6A-4C66-B4D9-D680E66D65D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9: fig21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place, replac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_copy and replac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before replac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C167-B229-4051-AC50-F8574D1F2CB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10s in v1 with 100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( v1.begin(), v1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1 after replacing 10s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plac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1, replacing 10s with 100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(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begin(), v2.end(), c1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1 after replacing all 10s in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1.begin(), c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placing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14440" y="247680"/>
            <a:ext cx="4724640" cy="3181320"/>
            <a:chOff x="4114440" y="247680"/>
            <a:chExt cx="4724640" cy="3181320"/>
          </a:xfrm>
        </p:grpSpPr>
        <p:sp>
          <p:nvSpPr>
            <p:cNvPr id="424" name=""/>
            <p:cNvSpPr/>
            <p:nvPr/>
          </p:nvSpPr>
          <p:spPr>
            <a:xfrm>
              <a:off x="617220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028840" y="39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114440" y="399960"/>
              <a:ext cx="2057400" cy="30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F41-B0D6-402D-AF24-2F50D93BB40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values greater than 9 in v3 with 100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if( v3.begin(), v3.end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placing all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9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v4 to c2, replacing elements greater than 9 with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_if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an 9 in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D5F9-9208-40CC-9970-1DEDA824BE0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5248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before replacing all 1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placing 10s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placing all 10s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1 after replacing all 10s in v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placing values greater than 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placing all valu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9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placing all values greater than 9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placing all values greater than 9 in v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280F-7128-4E79-9FD0-E01C3DF1C86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om_shuffl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ly mixes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_if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s number of instance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small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rg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BAB0-0B28-4FB1-A6B6-B57F6C77164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10-01T19:54:26Z</dcterms:modified>
  <cp:revision>1091</cp:revision>
  <dc:subject/>
  <dc:title>PowerPoint Presentation</dc:title>
</cp:coreProperties>
</file>