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9F92-6FBB-4086-A06F-3FB3D9FE0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E1F2-B017-463C-BFD4-6020ADB82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CCA2-6ACB-410D-8553-4BEEBCB34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66BE-1841-41D1-A964-82408827B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4ACF-7B6B-4F57-A6BD-284947609E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0A5B-67FE-4006-8751-37A33E0BF8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93CE-560D-46B4-A9AB-362FC66496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F712-DB84-4333-928A-C99A1082C6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752A-ADA1-462F-853B-D873138DCE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A231-652E-484C-BE24-AAC10DC7FB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501B-1235-45DE-9C41-DD5C332EC4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2AE3-DFA3-4C85-B09A-77F050A0A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33745-0C57-46A3-8786-53E286C1A2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6871-3043-426F-8133-9740B50AEE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9A9E-2139-48B3-B9FC-7E2D00E3F6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6702-E57F-4A15-997B-31D594A802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AD26-2A2D-4D9C-B20C-4CCE255A5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B31A-2391-49E1-8BFB-98C5897DB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6AC2-3688-4B53-A6D8-C51347212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773A-A0B2-4A16-A19D-3E44C6210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C3CD-4C74-474C-B6C7-5FC24F0A1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8765-A16C-4B66-9D18-E75CBFAB3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F86A-C741-4F74-9C9F-0229FDD1A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B10F-C85F-409B-BE80-72F3010FA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EEAD-CD32-465E-951C-D251361FE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B7E5-90E0-4B3D-85AD-DB6A52DCF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- Fun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ogram Components in C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ath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Defini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Proto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eader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andom Number Gen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: A Game of Chance and Introduc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orage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cope Ru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curs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 Using Recursion: The Fibonacci Seri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cursion vs. It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s with Empty Parameter Lis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909B-2878-470A-8856-B6E0876C98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ls compiler argument type and return typ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quare( in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ake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turn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ained in more detail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/invoking 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heses an operator used to call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argumen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gets its own copy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finished, passes back res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C095-6DDD-44BC-8B53-CF17991A74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function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turn-value-type  function-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parameter-li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declarations and statement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 separated list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 needed for each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arguments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leave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-value-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 of result returned (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hing retur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7511-7186-4128-A07B-AB1A31CB5F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quare( int 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y *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data, and control goes to function’s ca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data to return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ends when reaches right br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goes to ca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cannot be defined inside oth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8497-E193-46FE-AC48-10E82D2804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3: fig03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ing and using a programmer-defined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 and calculate and outp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quare of x each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quare( x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90560" y="2362320"/>
            <a:ext cx="4115160" cy="838080"/>
            <a:chOff x="2590560" y="2362320"/>
            <a:chExt cx="4115160" cy="838080"/>
          </a:xfrm>
        </p:grpSpPr>
        <p:sp>
          <p:nvSpPr>
            <p:cNvPr id="115" name=""/>
            <p:cNvSpPr/>
            <p:nvPr/>
          </p:nvSpPr>
          <p:spPr>
            <a:xfrm>
              <a:off x="4038480" y="236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enthe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use function to be called. When done, it returns th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5905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76160" y="762120"/>
            <a:ext cx="4115160" cy="1310760"/>
            <a:chOff x="1676160" y="762120"/>
            <a:chExt cx="4115160" cy="1310760"/>
          </a:xfrm>
        </p:grpSpPr>
        <p:sp>
          <p:nvSpPr>
            <p:cNvPr id="118" name=""/>
            <p:cNvSpPr/>
            <p:nvPr/>
          </p:nvSpPr>
          <p:spPr>
            <a:xfrm>
              <a:off x="3124080" y="7621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rototype: specifies data types of arguments and return value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pect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retur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67616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AC5D-C86C-46B0-A047-793EFF2342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 function definition returns square of an integ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is a copy of argument to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s square of y as an in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67652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4  9  16  25  36  49  64  81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057400" y="990720"/>
            <a:ext cx="4495680" cy="1122480"/>
            <a:chOff x="2057400" y="990720"/>
            <a:chExt cx="4495680" cy="1122480"/>
          </a:xfrm>
        </p:grpSpPr>
        <p:sp>
          <p:nvSpPr>
            <p:cNvPr id="124" name=""/>
            <p:cNvSpPr/>
            <p:nvPr/>
          </p:nvSpPr>
          <p:spPr>
            <a:xfrm>
              <a:off x="3886200" y="12891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copy of the argument passed.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 * 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qu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057400" y="990720"/>
              <a:ext cx="1828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4572-5E48-469D-9066-6F63B51016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4: fig03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ing the maximum of three floating-point numb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ree floating-point numb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1 &gt;&gt; number2 &gt;&gt; numbe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umber1, number2 and number3 are arguments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maximum function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number1, number2, number3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8440" y="2209320"/>
            <a:ext cx="3810240" cy="1434240"/>
            <a:chOff x="1828440" y="2209320"/>
            <a:chExt cx="3810240" cy="1434240"/>
          </a:xfrm>
        </p:grpSpPr>
        <p:sp>
          <p:nvSpPr>
            <p:cNvPr id="129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3 arguments (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828440" y="220932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CB12-C4B7-4184-B440-0B95EB19AD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ximum definition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, y and z are parameters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 = x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ume x is largest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y &gt; max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f y is larger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y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y to max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 &gt; max )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z is larger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z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z to max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 is largest valu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670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99.32 37.3 27.19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99.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1.1 3.333 2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3.3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27.9 14.31 88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88.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457200"/>
            <a:ext cx="4114800" cy="838080"/>
            <a:chOff x="2514600" y="457200"/>
            <a:chExt cx="4114800" cy="838080"/>
          </a:xfrm>
        </p:grpSpPr>
        <p:sp>
          <p:nvSpPr>
            <p:cNvPr id="135" name=""/>
            <p:cNvSpPr/>
            <p:nvPr/>
          </p:nvSpPr>
          <p:spPr>
            <a:xfrm>
              <a:off x="3962520" y="457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ma separated list for multiple parame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514600" y="609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6BA7-DF23-431D-8D76-BF0A5F961F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 (number and data typ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yp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returns noth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needed if function definition after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must match function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, double, doubl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 x, double y, double z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EBDE-980D-4591-9C71-F3AB1FA800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 of prototype with name and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, double, doubl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 Coer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 arguments to be of proper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)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sqrt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sion r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usually converted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truncat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4 t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xed type goes to highest type (promo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43200" y="2286000"/>
            <a:ext cx="4038480" cy="503640"/>
            <a:chOff x="2743200" y="2286000"/>
            <a:chExt cx="4038480" cy="503640"/>
          </a:xfrm>
        </p:grpSpPr>
        <p:sp>
          <p:nvSpPr>
            <p:cNvPr id="142" name=""/>
            <p:cNvSpPr/>
            <p:nvPr/>
          </p:nvSpPr>
          <p:spPr>
            <a:xfrm>
              <a:off x="3352680" y="2482560"/>
              <a:ext cx="31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ion sign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743200" y="25146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32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816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66BA-FF6E-46B3-9224-96A5144411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1120" y="1338120"/>
          <a:ext cx="776592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338120"/>
                    <a:ext cx="776592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1DCE-ACE9-462C-9E7D-AB087252A9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- Fun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line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ferences and Reference Parame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fault Argume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ary Scope Resolution Operato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Templat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7760-4481-40D7-9D62-4567F2A2E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eader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con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s of data types and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ending with .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-defined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header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05F6-D4F6-45D1-931D-8864E77C15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 = rand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unsigned integer between 0 and RAND_MAX (usually 3276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 and shi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(remainder) operator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 %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%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–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 % 6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() % 6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nerates a number betwe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ca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1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kes the range 1 to 6 (shi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xt: program to roll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E3A1-3A44-4121-8D23-ABFA7F1F47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7: fig03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ed, scaled integers produced by 1 + rand() % 6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 for r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2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ick random number from 1 to 6 and output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ounter divisible by 5,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9880" y="3505320"/>
            <a:ext cx="4114800" cy="838080"/>
            <a:chOff x="3809880" y="3505320"/>
            <a:chExt cx="4114800" cy="838080"/>
          </a:xfrm>
        </p:grpSpPr>
        <p:sp>
          <p:nvSpPr>
            <p:cNvPr id="156" name=""/>
            <p:cNvSpPr/>
            <p:nvPr/>
          </p:nvSpPr>
          <p:spPr>
            <a:xfrm>
              <a:off x="5257800" y="3505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caled and shifted to be a number between 1 and 6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8098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0F21-E03D-4649-BF3B-17FC829F46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066680"/>
            <a:ext cx="70102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6         5         5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         1         5 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6         2         4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2         3         4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5111-B774-49A1-AF8E-D3F1885DB8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show distribu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6000 rolls of a 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number of 1’s, 2’s, 3’s, etc. ro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roughly 1000 of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373C-80F5-4C5D-8740-334348D422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8: fig03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a six-sided die 6000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 for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4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5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6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one roll of the d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94E7-F9DC-4A0C-B0BD-F0ECB654CE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6000 times and summarize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c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 number from 1 to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face value and increment appropriate cou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a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4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5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B5C5D-CB6B-45CE-AA42-AA19F3D32E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6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value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should never get here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"Frequenc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6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05120" y="1676520"/>
            <a:ext cx="3962160" cy="1296000"/>
            <a:chOff x="1905120" y="1676520"/>
            <a:chExt cx="3962160" cy="1296000"/>
          </a:xfrm>
        </p:grpSpPr>
        <p:sp>
          <p:nvSpPr>
            <p:cNvPr id="170" name=""/>
            <p:cNvSpPr/>
            <p:nvPr/>
          </p:nvSpPr>
          <p:spPr>
            <a:xfrm>
              <a:off x="3200400" y="1905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case included even though it should never be reached. This is a matter of good coding sty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905120" y="1676520"/>
              <a:ext cx="1295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48BC-4FCF-4A65-A0ED-98FC9F1A0A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   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100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10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98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9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00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9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670E-C163-4B81-880C-2F2D7D7EA9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rand() repeated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s the same sequence of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t sequence of "random"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sequence generated whenever program r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different random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 see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 random starting point in the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seed will give the same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(seed)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ef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et the 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4185-2A8C-454E-B645-EC9C322DCC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and conqu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 a program from smaller pieces o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piece more manageable than the original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CA83-5849-41CC-80F8-CE45D52356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9: fig03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izing die-roll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rototypes for functions srand and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functio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e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e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seed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 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4760" y="4114800"/>
            <a:ext cx="3505320" cy="838080"/>
            <a:chOff x="1904760" y="4114800"/>
            <a:chExt cx="3505320" cy="838080"/>
          </a:xfrm>
        </p:grpSpPr>
        <p:sp>
          <p:nvSpPr>
            <p:cNvPr id="179" name=""/>
            <p:cNvSpPr/>
            <p:nvPr/>
          </p:nvSpPr>
          <p:spPr>
            <a:xfrm>
              <a:off x="3352680" y="41148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the se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904760" y="426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B66B-FEA0-49A6-9C25-0EE916988C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ick random number from 1 to 6 and output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ounter divisible by 5,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50532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6         1         6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4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6         3         1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1         5         4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6         1         6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3880" y="2819520"/>
            <a:ext cx="4114800" cy="2743200"/>
            <a:chOff x="1523880" y="2819520"/>
            <a:chExt cx="4114800" cy="2743200"/>
          </a:xfrm>
        </p:grpSpPr>
        <p:sp>
          <p:nvSpPr>
            <p:cNvPr id="185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ives the same sequence if it has the same initial se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523880" y="320076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523880" y="3200760"/>
              <a:ext cx="144792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9C1B-D3D7-47EA-9258-6C7BE10CAE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the current time to set the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to explicitly set seed every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( time( 0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( 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rrent time in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shifting and 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u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shiftingValu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(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scalingFa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iftingValue = first number in desired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ingFactor = width of desired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A603-0D90-4759-B90E-17B68CA7F9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Game of Chance and Introducing enu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integers with identif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start at 0 (default), incremented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need uniqu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assign integer to enumeration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use a previously defined enumeratio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 Status {CONTINUE, WON, LOST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 enumVa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Var = WON; // cannot do enumVar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ACF0-3289-4DAA-A569-0F841AC096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Game of Chance and Introducing enu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constants can have prese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 Months { JAN = 1, FEB, MAR, APR, MAY, JUN, JUL, AUG, SEP, OCT, NOV, DEC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s at 1, increments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craps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l two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 or 11 on first throw: player w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 3, or 12 on first throw: player lo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, 5, 6, 8, 9, 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becomes player's "poi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er must roll his point before rolling 7 to 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B14A-8168-4204-9091-DF7E143555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0: fig03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ap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s for functions srand and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rototype for function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D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umeration constants represent game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us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us gameStat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 contain CONTINUE, WON or L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1981080"/>
            <a:ext cx="4114800" cy="838440"/>
            <a:chOff x="2057400" y="1981080"/>
            <a:chExt cx="4114800" cy="838440"/>
          </a:xfrm>
        </p:grpSpPr>
        <p:sp>
          <p:nvSpPr>
            <p:cNvPr id="197" name=""/>
            <p:cNvSpPr/>
            <p:nvPr/>
          </p:nvSpPr>
          <p:spPr>
            <a:xfrm>
              <a:off x="350532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o roll 2 dice and return the result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05740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752480" y="3048120"/>
            <a:ext cx="4114800" cy="838080"/>
            <a:chOff x="1752480" y="3048120"/>
            <a:chExt cx="4114800" cy="838080"/>
          </a:xfrm>
        </p:grpSpPr>
        <p:sp>
          <p:nvSpPr>
            <p:cNvPr id="200" name=""/>
            <p:cNvSpPr/>
            <p:nvPr/>
          </p:nvSpPr>
          <p:spPr>
            <a:xfrm>
              <a:off x="320040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umeration to keep track of the current g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524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0AB7-0896-4EE5-9F59-B7E8635287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andomize random number generator using current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um = rollDic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roll of the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game status and point based on sum of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in on first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se on first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28800" y="685800"/>
            <a:ext cx="4114800" cy="838080"/>
            <a:chOff x="1828800" y="685800"/>
            <a:chExt cx="4114800" cy="838080"/>
          </a:xfrm>
        </p:grpSpPr>
        <p:sp>
          <p:nvSpPr>
            <p:cNvPr id="205" name=""/>
            <p:cNvSpPr/>
            <p:nvPr/>
          </p:nvSpPr>
          <p:spPr>
            <a:xfrm>
              <a:off x="3276720" y="685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determines outcome based on die ro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828800" y="83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19E9-B50C-4C33-89A0-94D14630F8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ember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Point = 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yPoi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ptiona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hile game not complete ..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ameStatus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m = rollDice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 dice ag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game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== myPoint )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n by making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se by rolling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9598-6913-429D-9E51-CCE0E46858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won or lost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ameStatus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win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lose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dice, calculate sum and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D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e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e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ick random die1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e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ick random die2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orkSum = die1 + die2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um die1 and di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81080" y="1752480"/>
            <a:ext cx="4114800" cy="838440"/>
            <a:chOff x="1981080" y="1752480"/>
            <a:chExt cx="4114800" cy="838440"/>
          </a:xfrm>
        </p:grpSpPr>
        <p:sp>
          <p:nvSpPr>
            <p:cNvPr id="212" name=""/>
            <p:cNvSpPr/>
            <p:nvPr/>
          </p:nvSpPr>
          <p:spPr>
            <a:xfrm>
              <a:off x="3429000" y="1752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ollD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no arguments, so 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the paramet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98108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6EE1-9C7B-4123-B3D0-BF8D06C3CB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this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roll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ie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+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i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workSum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Sum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um of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roll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701028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5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w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6 + 6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3 + 3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1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5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w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DD89-CAC8-4FE8-BDF0-B9536E7A936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Components in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s: function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use new and “prepackaged”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: programmer-defined functions,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packaged: from the standard librar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voked by function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and information (arguments) i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written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den from oth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2B77-7FAA-45EB-BC2C-8417BA2A5B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3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is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6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4 =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6 + 4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3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4 =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1 =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4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3 =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F250-F5F5-4412-9EF4-CBF655C04B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hav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seen name, type, size,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ag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long variable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variable can be referenced 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ultiple-file program (see Ch. 6), which files can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96E1-4C92-4377-B8AE-12D9720ACAC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torag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reated when program enters it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destroyed when program leave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ocal variables of functions can be autom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declares 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t to place variable in high-speed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often-used items (loop coun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unnecessary, compiler optim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eith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not bo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ster int counter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9EF9-C7C9-4B58-9AD2-1DC9AA5994E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torag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exist for entir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functions, name exists for entir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not be accessible, scope rules still apply (more la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 i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eps value between function cal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known in ow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for global variables/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s: defined outside of a function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n in any function that comes after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0273-6B64-4097-95CF-C68877BDC5A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ion of program where identifier can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outside a function, known in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variables, function definitions and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referenced inside defining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abels, e.g., identifiers with a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09AF-B67B-44A5-A36C-404F304E57F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s at declaration, ends at right br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referenced in this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, function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 still have block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class separate from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-prototyp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list of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in prototype op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ign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single prototype, name can be used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5404-0F37-406C-8207-C9D7A227C4F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2: fig03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coping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Static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lob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lobal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l variable to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n main's out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scope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n main's inn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new scope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560" y="1752480"/>
            <a:ext cx="4115160" cy="838080"/>
            <a:chOff x="1447560" y="1752480"/>
            <a:chExt cx="4115160" cy="838080"/>
          </a:xfrm>
        </p:grpSpPr>
        <p:sp>
          <p:nvSpPr>
            <p:cNvPr id="232" name=""/>
            <p:cNvSpPr/>
            <p:nvPr/>
          </p:nvSpPr>
          <p:spPr>
            <a:xfrm>
              <a:off x="2895480" y="1752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d outside of function; global variable with file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447560" y="213336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752480" y="2666880"/>
            <a:ext cx="4114800" cy="838440"/>
            <a:chOff x="1752480" y="2666880"/>
            <a:chExt cx="4114800" cy="838440"/>
          </a:xfrm>
        </p:grpSpPr>
        <p:sp>
          <p:nvSpPr>
            <p:cNvPr id="235" name=""/>
            <p:cNvSpPr/>
            <p:nvPr/>
          </p:nvSpPr>
          <p:spPr>
            <a:xfrm>
              <a:off x="3200400" y="2666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variable with function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752480" y="297180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981080" y="3886200"/>
            <a:ext cx="4114800" cy="914400"/>
            <a:chOff x="1981080" y="3886200"/>
            <a:chExt cx="4114800" cy="914400"/>
          </a:xfrm>
        </p:grpSpPr>
        <p:sp>
          <p:nvSpPr>
            <p:cNvPr id="238" name=""/>
            <p:cNvSpPr/>
            <p:nvPr/>
          </p:nvSpPr>
          <p:spPr>
            <a:xfrm>
              <a:off x="3429000" y="3886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ew block, giv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scope. When the block ends,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stroy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981080" y="411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6452E-C229-41A8-BEBF-C450EAE2949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local x in main's out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Local()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Local has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StaticLoc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StaticLocal has static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Glob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Global uses glob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Loc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seLocal reinitializes its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StaticLoc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local x retains its prio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Glob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lobal x also retains it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ocal x in main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E26C-6AAC-4350-BCD6-5D2B37F700D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Local reinitializes local variable x during each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d each time useLocal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828800" y="1142640"/>
            <a:ext cx="3962520" cy="1311120"/>
            <a:chOff x="1828800" y="1142640"/>
            <a:chExt cx="3962520" cy="1311120"/>
          </a:xfrm>
        </p:grpSpPr>
        <p:sp>
          <p:nvSpPr>
            <p:cNvPr id="245" name=""/>
            <p:cNvSpPr/>
            <p:nvPr/>
          </p:nvSpPr>
          <p:spPr>
            <a:xfrm>
              <a:off x="3124080" y="11430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omatic variable (local variable of function). This is destroyed when the function exits, and reinitialized when the function begi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1828800" y="114264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DF2E8-413A-4635-A0C3-F246E8E8032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StaticLocal initializes static local variable x only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time the function is called; value of x is sa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tween calls to this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Static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d only first time useStaticLocal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static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Static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static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Static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828800" y="1676160"/>
            <a:ext cx="4419720" cy="1823400"/>
            <a:chOff x="1828800" y="1676160"/>
            <a:chExt cx="4419720" cy="1823400"/>
          </a:xfrm>
        </p:grpSpPr>
        <p:sp>
          <p:nvSpPr>
            <p:cNvPr id="250" name=""/>
            <p:cNvSpPr/>
            <p:nvPr/>
          </p:nvSpPr>
          <p:spPr>
            <a:xfrm>
              <a:off x="3581280" y="243216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ic local variable of function; it is initialized only once, and retains its value between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1828800" y="1676160"/>
              <a:ext cx="17524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072C-ECB2-470E-9CC8-F0E36C90C51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Components in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ss to worker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oss (the calling function or caller) asks a worker (the called function) to perform a task and return (i.e., report back) the results when the task is d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8294-2DE9-4714-8176-555AAB199C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Global modifies global variable x during each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lob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lobal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Globa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lobal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Globa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438280"/>
            <a:ext cx="7010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outer scope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inner scope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outer scope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5 on entering use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6 on exiting use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0 on entering useStatic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1 on exiting useStatic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 on entering use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 on exiting use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276360" y="762120"/>
            <a:ext cx="4115160" cy="1067400"/>
            <a:chOff x="3276360" y="762120"/>
            <a:chExt cx="4115160" cy="1067400"/>
          </a:xfrm>
        </p:grpSpPr>
        <p:sp>
          <p:nvSpPr>
            <p:cNvPr id="256" name=""/>
            <p:cNvSpPr/>
            <p:nvPr/>
          </p:nvSpPr>
          <p:spPr>
            <a:xfrm>
              <a:off x="4724280" y="762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function does not declare any variables. It uses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in the beginning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7636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DF20-F115-43C9-8311-C488498422E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5 on entering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6 on exiting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1 on entering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2 on exiting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 on entering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0 on exiting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 is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79E5E-ECE0-4FA8-8D7A-746E2EEEF98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call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solve a base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as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 problem into smaller problem(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unch new copy of function to work on the smaller problem (recursive call/recursive ste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ly converges towards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makes call to itself inside the retur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ually base case gets sol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works way back up, solves entir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606A-5572-4A3A-8900-4869C3269A0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a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! = n * ( n – 1 ) * ( n – 2 ) * … *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ve relationship ( n! = n * ( n – 1 )!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! = 5 * 4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! = 4 * 3!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ase (1! = 0! = 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A3FC-B9C2-48A7-A739-FF6DF6D4CD3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4: fig03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factorial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. During each iteration, calcul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ial( i ) and display resul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factorial( i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76360" y="1676520"/>
            <a:ext cx="4115160" cy="838080"/>
            <a:chOff x="3276360" y="1676520"/>
            <a:chExt cx="4115160" cy="838080"/>
          </a:xfrm>
        </p:grpSpPr>
        <p:sp>
          <p:nvSpPr>
            <p:cNvPr id="267" name=""/>
            <p:cNvSpPr/>
            <p:nvPr/>
          </p:nvSpPr>
          <p:spPr>
            <a:xfrm>
              <a:off x="4724280" y="16765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signed 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n hold an integer from 0 to 4 bill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276360" y="1828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C094-86E5-4921-9901-DA6904EFFC9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definition of function factorial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se case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ursive step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* factorial( 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actorial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12408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!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!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!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!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! =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!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! = 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! = 5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! = 403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! = 3628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! = 3628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514600" y="457200"/>
            <a:ext cx="4114800" cy="1067400"/>
            <a:chOff x="2514600" y="457200"/>
            <a:chExt cx="4114800" cy="1067400"/>
          </a:xfrm>
        </p:grpSpPr>
        <p:sp>
          <p:nvSpPr>
            <p:cNvPr id="273" name=""/>
            <p:cNvSpPr/>
            <p:nvPr/>
          </p:nvSpPr>
          <p:spPr>
            <a:xfrm>
              <a:off x="3962520" y="457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base case occurs when we h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All other cases must be split up (recursive step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514600" y="609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82E1-263C-42EC-AEE3-A6B03C9BFE1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onacci series: 0, 1, 1, 2, 3, 5, 8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umber sum of two previous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recursive formul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b(n) = fib(n-1) + fib(n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 for Fibonacci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 fibonacci( long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n == 0 || n == 1 )  // base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ibonacci( n - 1 )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bonacci( n – 2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631C-1B04-4307-B0DD-BB9AEB43A52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752480" y="2389320"/>
            <a:ext cx="4571640" cy="1954080"/>
            <a:chOff x="1752480" y="2389320"/>
            <a:chExt cx="4571640" cy="1954080"/>
          </a:xfrm>
        </p:grpSpPr>
        <p:sp>
          <p:nvSpPr>
            <p:cNvPr id="280" name=""/>
            <p:cNvSpPr/>
            <p:nvPr/>
          </p:nvSpPr>
          <p:spPr>
            <a:xfrm>
              <a:off x="2226960" y="4051440"/>
              <a:ext cx="124560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6360" y="4051440"/>
              <a:ext cx="124488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78520" y="3492360"/>
              <a:ext cx="124560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52480" y="3492360"/>
              <a:ext cx="286416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74880" y="2941560"/>
              <a:ext cx="298872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4160" y="238932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66960" y="29988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40200" y="29988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03080" y="35560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73520" y="35560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7680" y="35560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54400" y="411480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58040" y="411480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48360" y="2624040"/>
              <a:ext cx="360" cy="317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12960" y="3233880"/>
              <a:ext cx="423000" cy="258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1"/>
                  </a:moveTo>
                  <a:lnTo>
                    <a:pt x="199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34400" y="3230640"/>
              <a:ext cx="270000" cy="26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3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68920" y="378612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60160" y="378612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98080" y="241776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3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86640" y="30304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9160" y="302904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2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4400" y="358920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12400" y="358920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0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49520" y="35892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09120" y="41544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99440" y="41544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2320" y="358920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95600" y="3594240"/>
              <a:ext cx="166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5240" y="3030480"/>
              <a:ext cx="165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17440" y="302724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BFA8-45FD-4978-B6B9-2C1F420CEBB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ibonacci( n - 1 ) + fibonacci( n - 2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know which one executed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does not spec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&amp;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uaranteed left-to-right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level of recursion doubles the number of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umber = 2^30 ~ 4 billion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onential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ACE6-CC47-4239-A67A-070A54B26A4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5: fig03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fibonacci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,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integer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n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lculate fibonacci value for number input by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fibonacci(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bonacci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be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)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276360" y="1038240"/>
            <a:ext cx="4115160" cy="1310760"/>
            <a:chOff x="3276360" y="1038240"/>
            <a:chExt cx="4115160" cy="1310760"/>
          </a:xfrm>
        </p:grpSpPr>
        <p:sp>
          <p:nvSpPr>
            <p:cNvPr id="315" name=""/>
            <p:cNvSpPr/>
            <p:nvPr/>
          </p:nvSpPr>
          <p:spPr>
            <a:xfrm>
              <a:off x="4724280" y="103824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Fibonacci numbers get large very quickly, and are all non-negative integers. Thus, we 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signed 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76360" y="1190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F9C8-3E04-4FF0-88A0-0ED2F5C0494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th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common mathematical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the header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mat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called by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Name (argument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Name(argument1, argument2, …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sqrt( 900.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qrt (square root) function The preceding statement would print 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functions in math library retur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3D7F-BFFE-4668-B53B-37466749DE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definition of function fibonacci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 case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n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ursive step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else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n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fibonacci( n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ibonacci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505320"/>
            <a:ext cx="701028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1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2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)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7EDB-C0F8-458E-86A7-9C9F4A161D0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4)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5)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6)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10) = 5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20) = 676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0) = 8320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5) = 922746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E73F-6F24-4ECC-A357-0DFA3F753CB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 vs. It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explicit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repeated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loop condition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base case recog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have infinite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between performance (iteration) and good software engineering (recu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AB70-117A-4B8C-88BD-E0599898027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s with Empty Parameter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paramet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leave parameter list emp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function takes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no arguments and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 voi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8D9B-2C4F-40F8-86C2-9016F52C96E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8: fig03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s that take no argu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 void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1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function1 with no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2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function2 with no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FAAF-4089-4E5E-AF2A-06BB583B513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1 uses an empty parameter list to specify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function receives no argum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1 takes no argume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2 uses a void parameter list to specify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function receives no argum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2 also takes no argume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1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2 also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C03E-2083-467F-BB51-1B1AC737790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line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lin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s the compiler to copy code into program instead of making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function-call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can ign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for small, often-us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 double cube( const doubl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return s * s * s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lls compiler that function does not modif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in chapters 6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DD8F-158B-4CF9-A1A5-91F8528A3C5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9: fig03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n inline function to calcu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volume of a cub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inline function cube. Definition of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before function is called, so a function prototyp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not required. First line of function definition acts a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prototyp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line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 )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 * side * sid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ube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93495-D44F-4927-AE55-94F70A0BF6C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side length of your cub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id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 of sideValue and display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lume of cube with sid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ideValu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ube( sideValue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side length of your cube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of cube with side 3.5 is 42.8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64F6-5DB3-43CA-BB4A-CF35459B2D6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of data passed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o copy do not change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 unwanted side 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n directly acces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a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3FB4-BD3F-4BB1-8DC8-6E54EBFB04A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th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rgument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sqrt( x ) 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3 - 6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2180-CBCD-4E28-A68B-77D549F812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argument in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es parameter by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fter data type i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yFunction( int &amp;dat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reference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ll format the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original can now be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4025-F60B-4E5A-83EA-DA1754DEFBF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0: fig03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pass-by-value and pass-by-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referenc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quareBy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returned by squareByValu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quareByValue( x ) &lt;&lt; endl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quareBy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895480" y="1295280"/>
            <a:ext cx="4114800" cy="838440"/>
            <a:chOff x="2895480" y="1295280"/>
            <a:chExt cx="4114800" cy="838440"/>
          </a:xfrm>
        </p:grpSpPr>
        <p:sp>
          <p:nvSpPr>
            <p:cNvPr id="345" name=""/>
            <p:cNvSpPr/>
            <p:nvPr/>
          </p:nvSpPr>
          <p:spPr>
            <a:xfrm>
              <a:off x="4343400" y="129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, indicating pass-by-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89548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BF65-D1C5-4358-B84D-F87521200BD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z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quareByRefere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quareByReference( z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z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quareByRefere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ByValue multiplies number by itself, stores th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in number and returns the new value of numbe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*= numb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er's argument not mod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ByValue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ByReference multiplies numberRef by itself an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s the result in the variable to which numberRef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s in function main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numberRef )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Ref *= numberRef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er's argument mod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ByReferenc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1523880"/>
            <a:ext cx="4114800" cy="838440"/>
            <a:chOff x="2895480" y="1523880"/>
            <a:chExt cx="4114800" cy="838440"/>
          </a:xfrm>
        </p:grpSpPr>
        <p:sp>
          <p:nvSpPr>
            <p:cNvPr id="350" name=""/>
            <p:cNvSpPr/>
            <p:nvPr/>
          </p:nvSpPr>
          <p:spPr>
            <a:xfrm>
              <a:off x="4343400" y="152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but original paramete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not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9548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52680" y="3429000"/>
            <a:ext cx="4114800" cy="1067400"/>
            <a:chOff x="3352680" y="3429000"/>
            <a:chExt cx="4114800" cy="1067400"/>
          </a:xfrm>
        </p:grpSpPr>
        <p:sp>
          <p:nvSpPr>
            <p:cNvPr id="353" name=""/>
            <p:cNvSpPr/>
            <p:nvPr/>
          </p:nvSpPr>
          <p:spPr>
            <a:xfrm>
              <a:off x="4800600" y="3429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 alias for the original parameter. Thus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z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35268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0F56-E890-4555-9E7E-A088EF62704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 before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returned by squareByValue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 after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4 before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16 after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CC10-CA00-4965-B8B2-9B29F12861F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(chapter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other way to pass-by-refer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as aliases to oth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 to same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within a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ount = 1; // declare integer variable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&amp;cRef = count; // create cRef as an alias for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+cRef; // increment count (using its ali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must be initialized when decl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,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ngling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o undefined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89B5-E861-4E29-BB3A-F5083AE975C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1: fig03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s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y refers to (is an alias for)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y = x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80060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828800" y="2057400"/>
            <a:ext cx="4114800" cy="838080"/>
            <a:chOff x="1828800" y="2057400"/>
            <a:chExt cx="4114800" cy="838080"/>
          </a:xfrm>
        </p:grpSpPr>
        <p:sp>
          <p:nvSpPr>
            <p:cNvPr id="363" name=""/>
            <p:cNvSpPr/>
            <p:nvPr/>
          </p:nvSpPr>
          <p:spPr>
            <a:xfrm>
              <a:off x="3276720" y="20574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as a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80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355E-69C7-4CE3-A514-6B12009A9D9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2: fig03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s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y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ror: y must be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34340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land C++ command-line compiler error mes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E2304 Fig03_22.cpp 11: Reference variable 'y' mus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d­ in 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crosoft Visual C++ compiler error mes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3\Fig03_22.cpp(11) : error C2530: 'y'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ferences must be initia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371600" y="1600200"/>
            <a:ext cx="4114800" cy="838080"/>
            <a:chOff x="1371600" y="1600200"/>
            <a:chExt cx="4114800" cy="838080"/>
          </a:xfrm>
        </p:grpSpPr>
        <p:sp>
          <p:nvSpPr>
            <p:cNvPr id="369" name=""/>
            <p:cNvSpPr/>
            <p:nvPr/>
          </p:nvSpPr>
          <p:spPr>
            <a:xfrm>
              <a:off x="28195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initialized reference – compiler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37160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9816-2D98-4428-84C2-A79C166C4C5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fault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call with omitted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parameters, rightmost go to their defa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constants, global variables, or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efaults in 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Function( int x = 1, int y = 2, int z = 3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 defaults (rightm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3, 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s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26B9-DEF0-4AA8-B6AD-0A5098CA57D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3: fig03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default argu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 that specifies default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Volu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 arguments--use default values for all dim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default box volume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length; default width and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 1 and height 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length and width; default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 5 and height 1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1066680"/>
            <a:ext cx="4114800" cy="838440"/>
            <a:chOff x="2438280" y="1066680"/>
            <a:chExt cx="4114800" cy="838440"/>
          </a:xfrm>
        </p:grpSpPr>
        <p:sp>
          <p:nvSpPr>
            <p:cNvPr id="376" name=""/>
            <p:cNvSpPr/>
            <p:nvPr/>
          </p:nvSpPr>
          <p:spPr>
            <a:xfrm>
              <a:off x="38862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defaults in function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4382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724280" y="2654280"/>
            <a:ext cx="4114800" cy="1231920"/>
            <a:chOff x="4724280" y="2654280"/>
            <a:chExt cx="4114800" cy="1231920"/>
          </a:xfrm>
        </p:grpSpPr>
        <p:sp>
          <p:nvSpPr>
            <p:cNvPr id="379" name=""/>
            <p:cNvSpPr/>
            <p:nvPr/>
          </p:nvSpPr>
          <p:spPr>
            <a:xfrm>
              <a:off x="6172200" y="2654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calls with some parameters missing – the rightmost parameters get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47242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D22E-03F6-46A4-A22A-9886FDB273A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all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width 5 and height 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boxVolume calculates the volume of a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Volu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* width * height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oxVolume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505320"/>
            <a:ext cx="701028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default box volume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1 and height 1 is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5 and height 1 is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5 and height 2 is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F112-6667-4CCB-9C4C-C189FBF00B7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3960" y="380880"/>
          <a:ext cx="8425080" cy="69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380880"/>
                    <a:ext cx="842508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8DF0-B499-44AF-8E36-07C118B02F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nitary Scope Resolution Opera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global variable if local variable has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eded if names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::x +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to avoid using same names for locals and glob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2E3F-1F63-4295-82FF-C4118BC2237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4: fig03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unary scope resolution opera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global constant PI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26535897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ine local constant P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values of local and global PI consta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Local float value of 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lobal double value of 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733560" y="2209680"/>
            <a:ext cx="4115160" cy="2040840"/>
            <a:chOff x="3733560" y="2209680"/>
            <a:chExt cx="4115160" cy="2040840"/>
          </a:xfrm>
        </p:grpSpPr>
        <p:sp>
          <p:nvSpPr>
            <p:cNvPr id="389" name=""/>
            <p:cNvSpPr/>
            <p:nvPr/>
          </p:nvSpPr>
          <p:spPr>
            <a:xfrm>
              <a:off x="5181480" y="2209680"/>
              <a:ext cx="266724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t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the lo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is example will show the difference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7335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8FC5-BBCA-4808-9BFE-640D6C0760F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762120"/>
            <a:ext cx="7010280" cy="228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land C++ command-line compiler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float value of PI = 3.141592741012573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double value of PI = 3.141592653589790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crosoft Visual C++ compiler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float value of PI = 3.14159274101257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double value of PI = 3.141592653589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62103-0930-4D65-A0EE-6EF9413FD55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with same name and differen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perform similar tas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quare( int x) {return x * x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square(float x) { return x *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functions distinguished by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name and parameter types (order matt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mang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s function identifier with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-safe 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proper overloaded function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CCFB-7937-4A27-9073-252311E2170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5: fig03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overloaded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int valu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ed square with int argu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* x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 version of function squar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double valu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ed square with double argu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ouble version of function squar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209680" y="1066680"/>
            <a:ext cx="4114800" cy="2667240"/>
            <a:chOff x="2209680" y="1066680"/>
            <a:chExt cx="4114800" cy="2667240"/>
          </a:xfrm>
        </p:grpSpPr>
        <p:sp>
          <p:nvSpPr>
            <p:cNvPr id="399" name=""/>
            <p:cNvSpPr/>
            <p:nvPr/>
          </p:nvSpPr>
          <p:spPr>
            <a:xfrm>
              <a:off x="3657600" y="1066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loaded functions have the same name, but the different parameters distinguish the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209680" y="167652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666880" y="167652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AFB8-31B6-44AA-A496-E68F77E132E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Result = squ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s int ve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Result = squ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double ve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square of integer 7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quare of double 7.5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Resul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81952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d square with int argument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d square with double argument: 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integer 7 is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double 7.5 is 56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48120" y="1143000"/>
            <a:ext cx="3124080" cy="976320"/>
            <a:chOff x="3048120" y="1143000"/>
            <a:chExt cx="3124080" cy="976320"/>
          </a:xfrm>
        </p:grpSpPr>
        <p:sp>
          <p:nvSpPr>
            <p:cNvPr id="406" name=""/>
            <p:cNvSpPr/>
            <p:nvPr/>
          </p:nvSpPr>
          <p:spPr>
            <a:xfrm>
              <a:off x="3505320" y="129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per function is called based upon the argumen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3048120" y="11430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E27C-DF57-45E8-90AD-516616DC147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6: fig03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mangl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* 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receives arguments of typ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, float, char and int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hing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function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845C-B807-4D90-8B20-2AB4B866553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receives arguments of typ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, int, float * and double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nothing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89548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_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nothing2$qcipf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nothing1$qifc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square$q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square$q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752480" y="2514600"/>
            <a:ext cx="4114800" cy="2040840"/>
            <a:chOff x="1752480" y="2514600"/>
            <a:chExt cx="4114800" cy="2040840"/>
          </a:xfrm>
        </p:grpSpPr>
        <p:sp>
          <p:nvSpPr>
            <p:cNvPr id="414" name=""/>
            <p:cNvSpPr/>
            <p:nvPr/>
          </p:nvSpPr>
          <p:spPr>
            <a:xfrm>
              <a:off x="3200400" y="251460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gled names produced in assembly langu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$q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parates the function name from its parameter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pointer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752480" y="2666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1192-D01E-4CBC-A5ED-FB8BE73E162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way to make overloade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 separate function for different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l type parameters in brack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type parameter preced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ynony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holders for built-in type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r user-defined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arguments types, return types, declar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finition like normal, except formal type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BB4C-122C-46B9-8026-6932F143D61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 &lt; class T &gt; // or template&lt; typename T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quare( T value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ue1 * valu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formal type, used as parameter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ve function returns variable of same type as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function call, T replaced by real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s beco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y = squar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C5BE-9ADD-49AF-97DD-31B0DA1BCEB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arize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function multiple ti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n only in the function in which they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variables declared in function definitions are loc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 passed to function when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outside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86B3-A727-4C09-AA95-F4A2CD43CD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7: fig03_2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function temp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function template maximum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 template &lt; typename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 maximum( T value1, T value2, T value3 )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max = value1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2 &gt; max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value2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3 &gt; max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value3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emplate maximum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981080" y="1295280"/>
            <a:ext cx="4114800" cy="838440"/>
            <a:chOff x="1981080" y="1295280"/>
            <a:chExt cx="4114800" cy="838440"/>
          </a:xfrm>
        </p:grpSpPr>
        <p:sp>
          <p:nvSpPr>
            <p:cNvPr id="423" name=""/>
            <p:cNvSpPr/>
            <p:nvPr/>
          </p:nvSpPr>
          <p:spPr>
            <a:xfrm>
              <a:off x="3429000" y="129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l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laceholder for type of data to be test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108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590560" y="2590920"/>
            <a:ext cx="3733920" cy="1128600"/>
            <a:chOff x="2590560" y="2590920"/>
            <a:chExt cx="3733920" cy="1128600"/>
          </a:xfrm>
        </p:grpSpPr>
        <p:sp>
          <p:nvSpPr>
            <p:cNvPr id="426" name=""/>
            <p:cNvSpPr/>
            <p:nvPr/>
          </p:nvSpPr>
          <p:spPr>
            <a:xfrm>
              <a:off x="36576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pects all parameters to be of the same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2590560" y="2590920"/>
              <a:ext cx="1066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A629-7D33-4360-8DAD-81EF1480D3E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1, int2, int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put three integer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t1 &gt;&gt; int2 &gt;&gt; int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int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integer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int1, int2, int3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, double2, double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Input three double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double1 &gt;&gt; double2 &gt;&gt; double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double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double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double1, double2, double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733560" y="1447920"/>
            <a:ext cx="4115160" cy="3047760"/>
            <a:chOff x="3733560" y="1447920"/>
            <a:chExt cx="4115160" cy="3047760"/>
          </a:xfrm>
        </p:grpSpPr>
        <p:sp>
          <p:nvSpPr>
            <p:cNvPr id="431" name=""/>
            <p:cNvSpPr/>
            <p:nvPr/>
          </p:nvSpPr>
          <p:spPr>
            <a:xfrm>
              <a:off x="5181480" y="1447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ed with various data ty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733560" y="1600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419720" y="1600200"/>
              <a:ext cx="7617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F97E-44F8-47EE-BEF4-D1A4D15947C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cha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1, char2, cha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Input three charact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char1 &gt;&gt; char2 &gt;&gt; cha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char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character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char1, char2, char3 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27672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integer values: 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integer value is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double values: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double value is: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characters: A C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character value is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EBEA4-CA79-45A3-B83C-5650C774D13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7:44:31Z</dcterms:created>
  <dc:creator>kalid</dc:creator>
  <dc:description/>
  <dc:language>en-US</dc:language>
  <cp:lastModifiedBy>Pearson Education</cp:lastModifiedBy>
  <dcterms:modified xsi:type="dcterms:W3CDTF">2002-08-05T13:02:33Z</dcterms:modified>
  <cp:revision>636</cp:revision>
  <dc:subject/>
  <dc:title>Chapter 3 - Functions</dc:title>
</cp:coreProperties>
</file>