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81D3-BC18-481B-A92D-A329460C0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F0A4-2036-480C-BD2A-F3E979CFD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2618-2255-49A2-B9ED-E89105030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2ECB-3183-4912-8969-4111C3453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6291-10B3-474F-B96A-794940400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D50C-6B9B-4478-B151-44068F5E78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F860-8F31-4546-AA53-7845751471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CB34-600F-42B4-8224-1CFC2BE063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54C6-62AF-485C-926A-65F4D4FE90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D6DB-327B-45D9-ACA7-628838135D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3C59-4454-484A-A9DF-47B320758C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D125-7184-4302-AEB7-FF74F223C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A78E-32D8-4711-8FC8-19E6DA6323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0E46-BD6D-411F-99B5-6B215D6718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1B1B-B914-43A1-9893-2849FB73EB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E1EF-E7E4-413B-9163-DC25A8785A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0F98-D221-437E-AB0D-EBEE22137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63F3-9814-4E47-BA8D-3FB6EA53C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4AAD-8E29-4BF3-A9BD-6A14BBA0A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2F4E-DEAA-4DF3-9FF9-9B615EB20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AFA9-360A-4FBE-8CB8-88DC2DFDC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7123-BD7C-4208-8461-3872D37EE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E4CB-59C1-4ECD-B158-77C2A4B4A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A139-65F0-4123-AADE-4C1378B3C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D30-8A3D-4563-8BC7-AC7C92CE3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E6E6-B74C-4681-B37A-786AAC593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4 - File Process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371600"/>
            <a:ext cx="73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Data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iles and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reating a Sequential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ading Data from a Sequential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pdating Sequential-Access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andom-Access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reating a Random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riting Data Randomly to a Random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ading Data Sequentially from a Random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: A Transaction-Process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put/Output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B2D5-2366-4029-9D05-00232C73D5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-open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opened for output by 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 outClientFile( "clients.dat", ios::ou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 outClientFile( "clients.da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2021040"/>
          <a:ext cx="7305840" cy="338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21040"/>
                    <a:ext cx="7305840" cy="33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4910-62D5-48B2-A7D3-7E4DDDB055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outClient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onzero (true)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ed non-existent file for reading, wrong 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 void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eam object to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, otherwise non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when EOF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cin &gt;&gt; myVariabl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conve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s until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8832-51FE-4F7C-A213-2A85D16961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ing to file (just 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ClientFile &lt;&lt; my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ing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ClientFile.clos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closed when destructor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45B6-B062-4AE4-ABFE-8D91010AA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4: fig14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sequential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stream constructor opens file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Clie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unable to creat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ClientFile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!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57040" y="837720"/>
            <a:ext cx="3886560" cy="2181240"/>
            <a:chOff x="2057040" y="837720"/>
            <a:chExt cx="3886560" cy="2181240"/>
          </a:xfrm>
        </p:grpSpPr>
        <p:sp>
          <p:nvSpPr>
            <p:cNvPr id="253" name=""/>
            <p:cNvSpPr/>
            <p:nvPr/>
          </p:nvSpPr>
          <p:spPr>
            <a:xfrm>
              <a:off x="327672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the header files required for file I/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2057040" y="837720"/>
              <a:ext cx="12193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209680" y="2438280"/>
              <a:ext cx="10670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038480" y="3124080"/>
            <a:ext cx="4114800" cy="1143000"/>
            <a:chOff x="4038480" y="3124080"/>
            <a:chExt cx="4114800" cy="1143000"/>
          </a:xfrm>
        </p:grpSpPr>
        <p:sp>
          <p:nvSpPr>
            <p:cNvPr id="257" name=""/>
            <p:cNvSpPr/>
            <p:nvPr/>
          </p:nvSpPr>
          <p:spPr>
            <a:xfrm>
              <a:off x="5486400" y="3124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reated and used to open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"clients.dat"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f the file does not exist, it is cre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0384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666880" y="4419720"/>
            <a:ext cx="5562720" cy="590400"/>
            <a:chOff x="2666880" y="4419720"/>
            <a:chExt cx="5562720" cy="590400"/>
          </a:xfrm>
        </p:grpSpPr>
        <p:sp>
          <p:nvSpPr>
            <p:cNvPr id="260" name=""/>
            <p:cNvSpPr/>
            <p:nvPr/>
          </p:nvSpPr>
          <p:spPr>
            <a:xfrm>
              <a:off x="556272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used to test if the file opened proper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666880" y="4572000"/>
              <a:ext cx="289584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CDC8-C57A-495F-83D6-D331E1C178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account, name, and balanc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end-of-file to end input.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account, name and balance from cin, then place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in &gt;&gt; account &gt;&gt; name &gt;&gt; balan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lientFile &lt;&lt; accoun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endl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fstream destructor closes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28800" y="609480"/>
            <a:ext cx="4114800" cy="1524240"/>
            <a:chOff x="1828800" y="609480"/>
            <a:chExt cx="4114800" cy="1524240"/>
          </a:xfrm>
        </p:grpSpPr>
        <p:sp>
          <p:nvSpPr>
            <p:cNvPr id="265" name=""/>
            <p:cNvSpPr/>
            <p:nvPr/>
          </p:nvSpPr>
          <p:spPr>
            <a:xfrm>
              <a:off x="3276720" y="609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mplicitly converted to a pointer. When EOF is encountered, it returns 0 and the loop stop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82880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057400" y="2666880"/>
            <a:ext cx="3581280" cy="904680"/>
            <a:chOff x="2057400" y="2666880"/>
            <a:chExt cx="3581280" cy="904680"/>
          </a:xfrm>
        </p:grpSpPr>
        <p:sp>
          <p:nvSpPr>
            <p:cNvPr id="268" name=""/>
            <p:cNvSpPr/>
            <p:nvPr/>
          </p:nvSpPr>
          <p:spPr>
            <a:xfrm>
              <a:off x="2971800" y="299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data to file like a regular stre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2057400" y="266688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523880" y="3885840"/>
            <a:ext cx="4114800" cy="1144080"/>
            <a:chOff x="1523880" y="3885840"/>
            <a:chExt cx="4114800" cy="1144080"/>
          </a:xfrm>
        </p:grpSpPr>
        <p:sp>
          <p:nvSpPr>
            <p:cNvPr id="271" name=""/>
            <p:cNvSpPr/>
            <p:nvPr/>
          </p:nvSpPr>
          <p:spPr>
            <a:xfrm>
              <a:off x="2971800" y="3962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le closed when destructor called for object. Can be explicitly clos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ose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1523880" y="388584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D24B-7ECC-497F-918E-8581EB0CA2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account, name, and balan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end-of-file to end inpu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00 Jones 2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00 Doe 345.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00 White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00 Stone -42.1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500 Rich 224.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^Z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2C57-D1DF-49F1-A177-41EDFBC2FB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stream inClientFile( "filename", ios::in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inClient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sts if file was opened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 void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verts to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inClientFile &gt;&gt; my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when EOF found (gets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3559-1BCA-4900-A444-765B792E0B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7: fig14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ing and printing a sequential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63EF-5445-46B4-A873-676D9E6B70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stream constructor opens the fi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inClie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ifstream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ien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fixed &lt;&lt; 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ach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ClientFile &gt;&gt; account &gt;&gt; name &gt;&gt;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ine( account, name,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stream destructor closes th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742840" y="533520"/>
            <a:ext cx="5181840" cy="1066680"/>
            <a:chOff x="2742840" y="533520"/>
            <a:chExt cx="5181840" cy="1066680"/>
          </a:xfrm>
        </p:grpSpPr>
        <p:sp>
          <p:nvSpPr>
            <p:cNvPr id="282" name=""/>
            <p:cNvSpPr/>
            <p:nvPr/>
          </p:nvSpPr>
          <p:spPr>
            <a:xfrm>
              <a:off x="5257800" y="533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and test file fo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114440" y="685800"/>
              <a:ext cx="11430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742840" y="685800"/>
              <a:ext cx="2514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14600" y="3733920"/>
            <a:ext cx="4114800" cy="838080"/>
            <a:chOff x="2514600" y="3733920"/>
            <a:chExt cx="4114800" cy="838080"/>
          </a:xfrm>
        </p:grpSpPr>
        <p:sp>
          <p:nvSpPr>
            <p:cNvPr id="286" name=""/>
            <p:cNvSpPr/>
            <p:nvPr/>
          </p:nvSpPr>
          <p:spPr>
            <a:xfrm>
              <a:off x="3962520" y="3733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from file until EOF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5146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8969-AC33-472D-BAD5-E1395F77B6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ccoun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43828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  Name     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      Jones          2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       Doe           3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       White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      Stone         -42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0       Rich          224.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7706-8F59-4463-81B7-5D2455EADD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, variables are tempo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s are perma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etic disk, optical disk, t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, update, process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tial and random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ted and raw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9042-3609-4BDD-B54C-11AD5A9B8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positio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next byte to read/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o reposi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eek get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eek put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 have "get" and "put"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ek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set: number of bytes relative to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b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fau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b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lative to beginning of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c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lative to current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lative to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DDBE-35DA-4D1C-9A10-E087F4BE75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front of file (loc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beca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b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nth byte from begi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n, ios::cu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n bytes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y, ios::e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y bytes back from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0, ios::cu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last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imi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5DF5-B545-49DB-A7B2-F2846D481E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pointer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ll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ll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tion = fileObject.tellg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dit manager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accounts with zero balance, credit, and de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AC3E-FBA2-46FD-B44E-D6F6E83E1C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8: fig14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dit-inquiry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186B-182F-4DD2-AA20-C8B6640683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Type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D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B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que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uldDispl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stream constructor opens the fi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inClie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ifstream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ien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ser's request (e.g., zero, credit or debit balanc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quest = getReque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7F5F-031F-4649-B4A0-AE7BD0CBC1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user's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ques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ques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unts with zero balanc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D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unts with credit balanc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B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unts with debit balanc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7E1C-B860-4045-8364-316B740043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account, name and balance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lientFile &gt;&gt; account &gt;&gt; name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file contents (until eof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ientFile.eof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uldDisplay( request, balanc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Line( account, name,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account, name and balance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ClientFile &gt;&gt; account &gt;&gt; name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lientFile.clear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t eof for next in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lientFile.seek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to beginning of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 = getReques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additional request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 of ru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stream destructor closes th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514600" y="2590920"/>
            <a:ext cx="4114800" cy="1143000"/>
            <a:chOff x="2514600" y="2590920"/>
            <a:chExt cx="4114800" cy="1143000"/>
          </a:xfrm>
        </p:grpSpPr>
        <p:sp>
          <p:nvSpPr>
            <p:cNvPr id="306" name=""/>
            <p:cNvSpPr/>
            <p:nvPr/>
          </p:nvSpPr>
          <p:spPr>
            <a:xfrm>
              <a:off x="3962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e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reset eof.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ek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set file position pointer to beginning of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14600" y="29718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048120" y="297180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F388-665B-48E6-817C-71C3E6AB8F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btain request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que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quest o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requ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1 - List accounts with zero balan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2 - List accounts with credit balan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3 - List accounts with debit balan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4 - End of ru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xed &lt;&lt; 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put us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ques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reques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5ABE-6C95-4393-A404-88ECBC64E8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to display given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uldDispl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yp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o display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D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balan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o display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B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balanc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o display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balanc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hould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ccoun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18C0-1F8B-405F-A5DA-321A9914C3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s with zero bala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       White          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s with credit bala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      Stone         -42.1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8DBA-6846-49DD-A8E1-E438D2287D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mallest to lar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 (binary digi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or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in computer ultimately represented as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bersome for humans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s, letters, symbols used to represen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character represented by 1's and 0'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te: 8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ore a charac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Unicode for large character se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4FD3-16E4-4FD0-A563-B74151E336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s with debit bala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      Jones          2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       Doe           345.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0       Rich          224.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ru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84E6-67B7-409E-9CF9-1A554BE2A1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pdating Sequential-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ing sequential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sk overwrit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change name "White" to "Worthington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0 White 0.00 400 Jones 32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ew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ted text different from internal re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lem can be avoided, but awk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1920" y="28195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99040" y="41148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00 White 0.00 400 Jones 32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1000" y="495288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00 Worthington 0.00ones 32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505160" y="3581280"/>
            <a:ext cx="2314440" cy="533520"/>
            <a:chOff x="1505160" y="3581280"/>
            <a:chExt cx="2314440" cy="533520"/>
          </a:xfrm>
        </p:grpSpPr>
        <p:sp>
          <p:nvSpPr>
            <p:cNvPr id="324" name=""/>
            <p:cNvSpPr/>
            <p:nvPr/>
          </p:nvSpPr>
          <p:spPr>
            <a:xfrm>
              <a:off x="2568960" y="3809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05160" y="3581280"/>
              <a:ext cx="23144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00 Worthington 0.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822840" y="4322880"/>
            <a:ext cx="3720960" cy="630000"/>
            <a:chOff x="3822840" y="4322880"/>
            <a:chExt cx="3720960" cy="630000"/>
          </a:xfrm>
        </p:grpSpPr>
        <p:sp>
          <p:nvSpPr>
            <p:cNvPr id="327" name=""/>
            <p:cNvSpPr/>
            <p:nvPr/>
          </p:nvSpPr>
          <p:spPr>
            <a:xfrm>
              <a:off x="5334120" y="432288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gets overwrit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822840" y="4495680"/>
              <a:ext cx="1511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22C6-FB8C-4879-BED1-886FB9268F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-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nt to locate record quick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line reservations, AT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tial files must search through each 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-access files ar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nt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record without destroy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/delete items without chang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B10B-05FC-44DF-A45C-BB57BC000E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-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mposes no structure on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must create random-access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st way: fixed-length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position in file from record size a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191280" cy="21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9EBB-CDE8-47F6-9BC4-88AB359540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1234567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v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23456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8 bytes (1 for each character + nu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fixed number of bytes (perhaps 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 same size in bytes as 1234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File &lt;&lt;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number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File.write(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s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raw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ointer to memory location, number of bytes to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data directly from memory into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onver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A05D-D5E9-490C-B3D4-231F0EC5EB5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File.write( reinterpret_cast&lt;const char *&gt;(&amp;number), sizeof( number 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interpret_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number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similar (more la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tween compatible mach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when using raw, unformat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::bin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raw writes/rea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3397-B7EA-4E9E-A51E-49E67A0081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write ent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object to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dit processing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at most 100 fixed-length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number (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nd las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ount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, create new, delete, list all accounts in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to create blank 100-record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DD94-2F6A-4D38-909E-F46C332DE6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0: clientData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lientData definition used in Fig. 14.12–Fig. 14.15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LIENTDATA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LIENTDATA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lientData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ccoun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ccou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04760" y="838080"/>
            <a:ext cx="4115160" cy="1310760"/>
            <a:chOff x="1904760" y="838080"/>
            <a:chExt cx="4115160" cy="1310760"/>
          </a:xfrm>
        </p:grpSpPr>
        <p:sp>
          <p:nvSpPr>
            <p:cNvPr id="343" name=""/>
            <p:cNvSpPr/>
            <p:nvPr/>
          </p:nvSpPr>
          <p:spPr>
            <a:xfrm>
              <a:off x="3352680" y="83808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ores the information for each person. 100 blank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will be written to a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90476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075D-7F86-4FA7-A96D-00DF5A14A6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ala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lient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90560" y="1587600"/>
            <a:ext cx="4115160" cy="1310760"/>
            <a:chOff x="2590560" y="1587600"/>
            <a:chExt cx="4115160" cy="1310760"/>
          </a:xfrm>
        </p:grpSpPr>
        <p:sp>
          <p:nvSpPr>
            <p:cNvPr id="348" name=""/>
            <p:cNvSpPr/>
            <p:nvPr/>
          </p:nvSpPr>
          <p:spPr>
            <a:xfrm>
              <a:off x="4038480" y="15876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t limits on the size of the first and last name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ount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re already of a fixed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590560" y="1739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7C25-D4F6-4777-8E54-9536C23118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1: ClientData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lientData stores customer's credit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lientData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ClientData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lastNameValue, string firstNameValu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AccountNumber( accountNumber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LastName( la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FirstName( fir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Balance( balanc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ientData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account-numb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::getAccou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FA58-7164-4F12-A3E6-8DC6201824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mallest to largest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: group of characters with some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: group of related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ayroll system, could be name, SS#, address, w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ield associated with same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 key: field used to uniquely identify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: group of related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roll for entire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file: records stored b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: group of related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roll, accounts-receivable, inventory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739C-421B-4D0A-A9AC-F75FC18DB5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account-numb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::setAccoun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ccountNumber = accountNumbe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la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lientData::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a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::setLastName( string lastNameStr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at most 15 characters from string to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NameValue = lastNameString.dat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len( la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lastName, lastNameValue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end null character to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4627-F306-4310-B8E8-28C09A9AF6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fir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lientData::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ir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setFirstName( string firstNameStr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at most 10 characters from string to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NameValue = firstNameString.dat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len( fir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firstName, firstNameValue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end new-line character to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FBEF-CDE4-4B53-A750-7DC870E2BB5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balanc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get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balanc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setBala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lance = balanc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4134-A2B6-4930-88C2-0DAFDFC8316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2: fig14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 randomly accessed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bin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ofstream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038480" y="3048120"/>
            <a:ext cx="4114800" cy="838080"/>
            <a:chOff x="4038480" y="3048120"/>
            <a:chExt cx="4114800" cy="838080"/>
          </a:xfrm>
        </p:grpSpPr>
        <p:sp>
          <p:nvSpPr>
            <p:cNvPr id="361" name=""/>
            <p:cNvSpPr/>
            <p:nvPr/>
          </p:nvSpPr>
          <p:spPr>
            <a:xfrm>
              <a:off x="5486400" y="3048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a file for raw writing using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os::bin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038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D0A3-A0E3-48CA-B1D1-DAB9A1678A0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ClientData with no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blank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100 blank records 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redit.write(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blank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895120" y="457200"/>
            <a:ext cx="4267800" cy="1219320"/>
            <a:chOff x="2895120" y="457200"/>
            <a:chExt cx="4267800" cy="1219320"/>
          </a:xfrm>
        </p:grpSpPr>
        <p:sp>
          <p:nvSpPr>
            <p:cNvPr id="366" name=""/>
            <p:cNvSpPr/>
            <p:nvPr/>
          </p:nvSpPr>
          <p:spPr>
            <a:xfrm>
              <a:off x="4495680" y="457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blank object.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ri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output the raw data to a file (passing a pointer to the object and its siz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2895120" y="76176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809520" y="99072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8965-9070-4909-95DD-9DA6680B803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riting Data Randomly to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write to exact location i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does the first record begi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econd recor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0 + sizeof(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recor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cordnum - 1) * sizeof(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C9F3-6F46-4C64-A31A-397A7F4DA46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3: fig14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ing to a random access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FE92-887F-4192-A9C1-789C1E6DC7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bin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ofstream can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number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1 to 100, 0 to end input)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quire user to specify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.setAccountNumber(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038480" y="838080"/>
            <a:ext cx="4114800" cy="838440"/>
            <a:chOff x="4038480" y="838080"/>
            <a:chExt cx="4114800" cy="838440"/>
          </a:xfrm>
        </p:grpSpPr>
        <p:sp>
          <p:nvSpPr>
            <p:cNvPr id="376" name=""/>
            <p:cNvSpPr/>
            <p:nvPr/>
          </p:nvSpPr>
          <p:spPr>
            <a:xfrm>
              <a:off x="54864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file for raw (binary) wri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0384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743200" y="4038480"/>
            <a:ext cx="4114800" cy="838440"/>
            <a:chOff x="2743200" y="4038480"/>
            <a:chExt cx="4114800" cy="838440"/>
          </a:xfrm>
        </p:grpSpPr>
        <p:sp>
          <p:nvSpPr>
            <p:cNvPr id="379" name=""/>
            <p:cNvSpPr/>
            <p:nvPr/>
          </p:nvSpPr>
          <p:spPr>
            <a:xfrm>
              <a:off x="419112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account number, put into object. It has not yet been written to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743200" y="419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E9DC-ED6B-4D54-B1E0-0F5010AB240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 enters information, which is copied in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getAccountNumber()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r enters last name, first name an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lastname, firstname, balance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record lastName, firstName and balanc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LastName(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FirstName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Balance(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ek position in file of user-specified recor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redit.seekp( ( client.getAccountNumber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user-specified information in fil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redit.write(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514600" y="2362320"/>
            <a:ext cx="4114800" cy="1295280"/>
            <a:chOff x="2514600" y="2362320"/>
            <a:chExt cx="4114800" cy="1295280"/>
          </a:xfrm>
        </p:grpSpPr>
        <p:sp>
          <p:nvSpPr>
            <p:cNvPr id="384" name=""/>
            <p:cNvSpPr/>
            <p:nvPr/>
          </p:nvSpPr>
          <p:spPr>
            <a:xfrm>
              <a:off x="396252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i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Cred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he proper location in the file (based on the account numb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146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590560" y="3733920"/>
            <a:ext cx="4115160" cy="838080"/>
            <a:chOff x="2590560" y="3733920"/>
            <a:chExt cx="4115160" cy="838080"/>
          </a:xfrm>
        </p:grpSpPr>
        <p:sp>
          <p:nvSpPr>
            <p:cNvPr id="387" name=""/>
            <p:cNvSpPr/>
            <p:nvPr/>
          </p:nvSpPr>
          <p:spPr>
            <a:xfrm>
              <a:off x="4038480" y="3733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to file at specified pos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590560" y="3886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8B48-DEFF-4CD3-B53B-A216E3DE483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user to specify anoth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number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AccountNumber(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D648-5378-4D57-A111-2A19C184C68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00200" y="2209680"/>
            <a:ext cx="5172120" cy="2895480"/>
            <a:chOff x="1600200" y="2209680"/>
            <a:chExt cx="5172120" cy="2895480"/>
          </a:xfrm>
        </p:grpSpPr>
        <p:sp>
          <p:nvSpPr>
            <p:cNvPr id="97" name=""/>
            <p:cNvSpPr/>
            <p:nvPr/>
          </p:nvSpPr>
          <p:spPr>
            <a:xfrm>
              <a:off x="2182680" y="4789080"/>
              <a:ext cx="1652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4441680"/>
              <a:ext cx="1031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010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5000" y="4089240"/>
              <a:ext cx="90648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3760" y="3741480"/>
              <a:ext cx="5364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3080" y="374148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32000" y="4597200"/>
              <a:ext cx="144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65280" y="4238280"/>
              <a:ext cx="144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74720" y="3917880"/>
              <a:ext cx="36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41360" y="374472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2960" y="37447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65440" y="374472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24200" y="37447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5000" y="2209680"/>
              <a:ext cx="660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S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73520" y="220968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Bl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82960" y="221256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24200" y="221256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07040" y="221256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65440" y="2212560"/>
              <a:ext cx="74160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05000" y="2419200"/>
              <a:ext cx="412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73520" y="2419200"/>
              <a:ext cx="5364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B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2960" y="242064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24200" y="242064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7040" y="242064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65440" y="242064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5000" y="2628720"/>
              <a:ext cx="5367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73520" y="262872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82960" y="26301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24200" y="26301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07040" y="26301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65440" y="263016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05000" y="2836800"/>
              <a:ext cx="53676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73520" y="2836800"/>
              <a:ext cx="78264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82960" y="283968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24200" y="283968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07040" y="283968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65440" y="283968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05000" y="3044520"/>
              <a:ext cx="660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an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3520" y="3044520"/>
              <a:ext cx="4125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2960" y="30477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24200" y="30477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7040" y="30477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65440" y="304776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12880" y="2700000"/>
              <a:ext cx="370080" cy="974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  <a:lnTo>
                    <a:pt x="0" y="199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35560" y="2628720"/>
              <a:ext cx="5367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48320" y="3744720"/>
              <a:ext cx="7826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76440" y="4089240"/>
              <a:ext cx="660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7760" y="4449600"/>
              <a:ext cx="3006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r>
                <a:rPr b="0" sz="1000" spc="-1" strike="noStrike">
                  <a:solidFill>
                    <a:srgbClr val="000000"/>
                  </a:solidFill>
                  <a:latin typeface="Mincho"/>
                </a:rPr>
                <a:t> (ASCII character J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28840" y="4941720"/>
              <a:ext cx="414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Mincho"/>
                </a:rPr>
                <a:t>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385880"/>
              <a:ext cx="428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3434-3F99-4B3F-A82D-38492AC3C2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 (1 to 100, 0 to end inpu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Barker Doug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Brown Nancy -24.5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9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Stone Sam 3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Smith Dave 258.3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Dunn Stacey 314.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09120" y="533160"/>
            <a:ext cx="5258160" cy="961920"/>
            <a:chOff x="609120" y="533160"/>
            <a:chExt cx="5258160" cy="961920"/>
          </a:xfrm>
        </p:grpSpPr>
        <p:sp>
          <p:nvSpPr>
            <p:cNvPr id="394" name=""/>
            <p:cNvSpPr/>
            <p:nvPr/>
          </p:nvSpPr>
          <p:spPr>
            <a:xfrm>
              <a:off x="32004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at accounts can be created in any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609120" y="533160"/>
              <a:ext cx="2590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9120" y="1219320"/>
              <a:ext cx="2590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985B-A161-434C-9CB5-1554BE5F826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0  Reading Data Sequentially from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imilar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raw bytes from file in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File.read( reinterpret_cast&lt;char *&gt;( &amp;number )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of( int 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cation to sto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of(in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ow many bytes to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File &gt;&gt; 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raw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c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data from a random-access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through each record sequenti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data (accountNumber == 0) then s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745D-F6E0-4127-9427-23D04E97E80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4: fig14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ing a random access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protoy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9A68-B52F-4B84-80E7-C5E5DA10510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in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ifstream can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ef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first record from fil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dit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71800" y="2819520"/>
            <a:ext cx="4038480" cy="1676160"/>
            <a:chOff x="2971800" y="2819520"/>
            <a:chExt cx="4038480" cy="1676160"/>
          </a:xfrm>
        </p:grpSpPr>
        <p:sp>
          <p:nvSpPr>
            <p:cNvPr id="404" name=""/>
            <p:cNvSpPr/>
            <p:nvPr/>
          </p:nvSpPr>
          <p:spPr>
            <a:xfrm>
              <a:off x="2971800" y="2819520"/>
              <a:ext cx="4038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(ClientData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and put into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may be an empty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733560" y="365760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7CC3-BBEC-46D8-94A5-1E6B16DA678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all records from fi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Credit &amp;&amp; !inCredit.eof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Line( cout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next from file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redit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recor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Account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La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Fir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fix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howpoint &lt;&lt; record.getBalance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276720" y="609480"/>
            <a:ext cx="3962160" cy="1220040"/>
            <a:chOff x="3276720" y="609480"/>
            <a:chExt cx="3962160" cy="1220040"/>
          </a:xfrm>
        </p:grpSpPr>
        <p:sp>
          <p:nvSpPr>
            <p:cNvPr id="409" name=""/>
            <p:cNvSpPr/>
            <p:nvPr/>
          </p:nvSpPr>
          <p:spPr>
            <a:xfrm>
              <a:off x="4572000" y="762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op exits if there is an error reading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dit == 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r EOF is fou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dit.eof() ==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3276720" y="609480"/>
              <a:ext cx="1295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819160" y="1523520"/>
            <a:ext cx="4115160" cy="2667960"/>
            <a:chOff x="2819160" y="1523520"/>
            <a:chExt cx="4115160" cy="2667960"/>
          </a:xfrm>
        </p:grpSpPr>
        <p:sp>
          <p:nvSpPr>
            <p:cNvPr id="412" name=""/>
            <p:cNvSpPr/>
            <p:nvPr/>
          </p:nvSpPr>
          <p:spPr>
            <a:xfrm>
              <a:off x="4267080" y="2394000"/>
              <a:ext cx="266724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non-empty accounts. 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gument. We could easily output to another file (opened with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, which derive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2819160" y="15235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76360" y="3124080"/>
              <a:ext cx="9903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11C0-16D8-4B27-9C41-506538B59EB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  Last Name       First Name   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      Brown           Nancy          -24.5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     Dunn            Stacey         314.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8        Smith           Dave           258.3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     Stone           Sam             3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D9FCD-087E-4E73-B999-3BB2B8C22DA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1  Example: A Transaction-Processing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 access for bank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random access file (data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ient.d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user m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1: store accou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.t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2: update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3201840"/>
            <a:ext cx="49528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  Last Name       First Name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      Brown           Nancy          -24.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     Dunn            Stacey         314.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8        Smith           Dave           258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     Stone           Sam             3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00200" y="5181480"/>
            <a:ext cx="49528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to update (1 - 100):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charge (+) or payment (-): +87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87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7047-8B94-4D8A-AC49-F9B62FF7555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1  Example: A Transaction-Processing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u option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3: add new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4: delete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pen file for reading and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"Or" file-open modes toge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stream inOutCredit( "credit.dat", ios::in | ios::ou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00200" y="2209680"/>
            <a:ext cx="49528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new account number (1 - 100):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? Johnston Sarah 247.4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00200" y="3429000"/>
            <a:ext cx="49528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account to delete (1 - 100):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ount #29 dele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0B69-186F-40C1-92E0-119C6C3B2E0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5: fig14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reads a random access file sequentially, up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previously written to the file, creates data to be plac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the file, and deletes data previously in the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3B7C-BA7C-4D5B-AD0C-862C8DDC91D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erCho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ccou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D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file for reading and writing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stream inOut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fstream can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Out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666520" y="2362320"/>
            <a:ext cx="4115160" cy="837720"/>
            <a:chOff x="2666520" y="2362320"/>
            <a:chExt cx="4115160" cy="837720"/>
          </a:xfrm>
        </p:grpSpPr>
        <p:sp>
          <p:nvSpPr>
            <p:cNvPr id="430" name=""/>
            <p:cNvSpPr/>
            <p:nvPr/>
          </p:nvSpPr>
          <p:spPr>
            <a:xfrm>
              <a:off x="411444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file for reading and writing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need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666520" y="25146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2E64-AE39-439A-B943-16A8699CFDF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views file as sequence of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ds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d-of-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ar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le op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created, stream associated with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 creat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clu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between program and file/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4400" y="2232000"/>
            <a:ext cx="6934320" cy="739800"/>
            <a:chOff x="914400" y="2232000"/>
            <a:chExt cx="6934320" cy="739800"/>
          </a:xfrm>
        </p:grpSpPr>
        <p:sp>
          <p:nvSpPr>
            <p:cNvPr id="149" name=""/>
            <p:cNvSpPr/>
            <p:nvPr/>
          </p:nvSpPr>
          <p:spPr>
            <a:xfrm>
              <a:off x="914400" y="2232000"/>
              <a:ext cx="6678720" cy="739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355760" y="2270880"/>
              <a:ext cx="6492960" cy="567360"/>
              <a:chOff x="1355760" y="2270880"/>
              <a:chExt cx="6492960" cy="567360"/>
            </a:xfrm>
          </p:grpSpPr>
          <p:sp>
            <p:nvSpPr>
              <p:cNvPr id="151" name=""/>
              <p:cNvSpPr/>
              <p:nvPr/>
            </p:nvSpPr>
            <p:spPr>
              <a:xfrm>
                <a:off x="1355760" y="2516760"/>
                <a:ext cx="4341240" cy="320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6" y="0"/>
                    </a:moveTo>
                    <a:lnTo>
                      <a:pt x="1999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9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56480" y="2516760"/>
                <a:ext cx="334080" cy="320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58360" y="2516760"/>
                <a:ext cx="333720" cy="320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97000" y="2516760"/>
                <a:ext cx="2224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7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97000" y="2837520"/>
                <a:ext cx="2224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7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54040" y="2316240"/>
                <a:ext cx="137880" cy="23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55920" y="2316240"/>
                <a:ext cx="137880" cy="23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1690560" y="2316240"/>
                <a:ext cx="333720" cy="521280"/>
                <a:chOff x="1690560" y="2316240"/>
                <a:chExt cx="333720" cy="521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69056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78776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24280" y="2316240"/>
                <a:ext cx="334080" cy="521280"/>
                <a:chOff x="2024280" y="2316240"/>
                <a:chExt cx="334080" cy="521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24280" y="2516760"/>
                  <a:ext cx="33408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12148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692080" y="2316240"/>
                <a:ext cx="333720" cy="521280"/>
                <a:chOff x="2692080" y="2316240"/>
                <a:chExt cx="333720" cy="521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69208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78928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026160" y="2316240"/>
                <a:ext cx="333720" cy="521280"/>
                <a:chOff x="3026160" y="2316240"/>
                <a:chExt cx="333720" cy="5212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02616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2336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027680" y="2316240"/>
                <a:ext cx="334080" cy="521280"/>
                <a:chOff x="4027680" y="2316240"/>
                <a:chExt cx="334080" cy="521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027680" y="2516760"/>
                  <a:ext cx="33408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12488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362120" y="2316240"/>
                <a:ext cx="333720" cy="521280"/>
                <a:chOff x="4362120" y="2316240"/>
                <a:chExt cx="333720" cy="5212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36212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458960" y="2316240"/>
                  <a:ext cx="13824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695840" y="2270880"/>
                <a:ext cx="667800" cy="566640"/>
                <a:chOff x="4695840" y="2270880"/>
                <a:chExt cx="667800" cy="5666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695840" y="2516760"/>
                  <a:ext cx="66780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2" y="0"/>
                      </a:moveTo>
                      <a:lnTo>
                        <a:pt x="19972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2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859640" y="2591640"/>
                  <a:ext cx="33876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859640" y="2270880"/>
                  <a:ext cx="33876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360760" y="2316240"/>
                <a:ext cx="338400" cy="521280"/>
                <a:chOff x="5360760" y="2316240"/>
                <a:chExt cx="338400" cy="521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363640" y="2516760"/>
                  <a:ext cx="33336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60760" y="2316240"/>
                  <a:ext cx="33840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n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5807880" y="2588040"/>
                <a:ext cx="2040840" cy="2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end-of-file ma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3360240" y="2316240"/>
                <a:ext cx="667440" cy="521280"/>
                <a:chOff x="3360240" y="2316240"/>
                <a:chExt cx="667440" cy="52128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3360240" y="2316240"/>
                  <a:ext cx="333720" cy="521280"/>
                  <a:chOff x="3360240" y="2316240"/>
                  <a:chExt cx="333720" cy="5212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3360240" y="2516760"/>
                    <a:ext cx="33372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457080" y="2316240"/>
                    <a:ext cx="138240" cy="23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3693960" y="2316240"/>
                  <a:ext cx="333720" cy="521280"/>
                  <a:chOff x="3693960" y="2316240"/>
                  <a:chExt cx="333720" cy="52128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3693960" y="2516760"/>
                    <a:ext cx="33372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790800" y="2316240"/>
                    <a:ext cx="138600" cy="23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7AE8-FCB6-45E4-883F-E4080F431D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 user to specify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hoice = enterChoice()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ext file from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D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existing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le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0A9E0-CD67-4B89-929C-B76DE1DE941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 user to specify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hoice = enterChoice()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ext file from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D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existing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le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666880" y="1142640"/>
            <a:ext cx="4648320" cy="581040"/>
            <a:chOff x="2666880" y="1142640"/>
            <a:chExt cx="4648320" cy="581040"/>
          </a:xfrm>
        </p:grpSpPr>
        <p:sp>
          <p:nvSpPr>
            <p:cNvPr id="437" name=""/>
            <p:cNvSpPr/>
            <p:nvPr/>
          </p:nvSpPr>
          <p:spPr>
            <a:xfrm>
              <a:off x="46483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s menu and returns user's choi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2666880" y="1142640"/>
              <a:ext cx="198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26B9-6F7C-43E7-AAA8-7735038536D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error if user does not select valid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correct cho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OutCredit.clea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t end-of-file indic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 user to input menu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erCho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available o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your cho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 - store a formatted text file of accou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called \"print.txt\" for prin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 - update an 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 - add a new 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 - delete an 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- end program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2DE4-EA24-4A64-BB16-13F03717847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nu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menuChoic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 choice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nu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nter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formatted text file for prin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ecord( fstream &amp;readFrom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ext file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Pri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ofstream cannot creat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Prin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crea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rintFile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ight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362320" y="1981080"/>
            <a:ext cx="4800600" cy="2667240"/>
            <a:chOff x="2362320" y="1981080"/>
            <a:chExt cx="4800600" cy="2667240"/>
          </a:xfrm>
        </p:grpSpPr>
        <p:sp>
          <p:nvSpPr>
            <p:cNvPr id="444" name=""/>
            <p:cNvSpPr/>
            <p:nvPr/>
          </p:nvSpPr>
          <p:spPr>
            <a:xfrm>
              <a:off x="4495680" y="1981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.t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First, print the header for the t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30477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362320" y="2133720"/>
              <a:ext cx="213336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3A0B-75BD-477C-9687-04E742C4C45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e-position pointer to beginning of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adFromFile.seek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first record from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adFrom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all records from record file into text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readFromFile.eof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single record to text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Line( outPrintFile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next record from record fil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adFrom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971800" y="533160"/>
            <a:ext cx="5791320" cy="2514960"/>
            <a:chOff x="2971800" y="533160"/>
            <a:chExt cx="5791320" cy="2514960"/>
          </a:xfrm>
        </p:grpSpPr>
        <p:sp>
          <p:nvSpPr>
            <p:cNvPr id="450" name=""/>
            <p:cNvSpPr/>
            <p:nvPr/>
          </p:nvSpPr>
          <p:spPr>
            <a:xfrm>
              <a:off x="6095880" y="762120"/>
              <a:ext cx="266724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o to front of file, read account data, and print record if not empty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(ba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It can easily print to a file (as in this case)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2971800" y="533160"/>
              <a:ext cx="31240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419720" y="1676520"/>
              <a:ext cx="16761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74F6-A63F-4C23-9851-A277522F811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8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balance in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Record( fstream &amp;update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number of account to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= get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to up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dateFile.seekg(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first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date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ine( cout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quest user to specify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charge (+) or payment (-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ge or pay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trans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recor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Balance = client.get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Balance( oldBalance + trans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ine( cout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240" y="609120"/>
            <a:ext cx="3810240" cy="2058480"/>
            <a:chOff x="2514240" y="609120"/>
            <a:chExt cx="3810240" cy="2058480"/>
          </a:xfrm>
        </p:grpSpPr>
        <p:sp>
          <p:nvSpPr>
            <p:cNvPr id="456" name=""/>
            <p:cNvSpPr/>
            <p:nvPr/>
          </p:nvSpPr>
          <p:spPr>
            <a:xfrm>
              <a:off x="3657600" y="1600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/O) because we must read the old balance, update it, and write the new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514240" y="60912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1380-69F4-4802-9AF3-67C97F4D062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9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File.seekp(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updated record over old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File.write(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rror if account does not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as no information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pdate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nd insert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Record( fstream &amp;insertIn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number of account to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= get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new account 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ertInFile.seek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666880" y="2819520"/>
            <a:ext cx="4114800" cy="1447560"/>
            <a:chOff x="2666880" y="2819520"/>
            <a:chExt cx="4114800" cy="1447560"/>
          </a:xfrm>
        </p:grpSpPr>
        <p:sp>
          <p:nvSpPr>
            <p:cNvPr id="461" name=""/>
            <p:cNvSpPr/>
            <p:nvPr/>
          </p:nvSpPr>
          <p:spPr>
            <a:xfrm>
              <a:off x="4114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we read to see if a non-empty record already exists. If not, we write a new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66880" y="335268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BEA3-E315-4FD6-8F94-4B18E9EDE26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ertIn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record, if record does not previously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r enters last name, first name an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lastname, firstname, balance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values to populate accou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LastName(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FirstName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Balance(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AccountNumber(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519A-FFC0-402E-B570-3FA35F9196A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1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InFile.seekp(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record in fil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InFile.write(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rror if account previously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lready contains informatio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new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7213-920C-4100-AF84-DDB27281886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2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an existing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Record( fstream &amp;deleteFrom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number of account to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= get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to dele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leteFromFile.seekg(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leteFrom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te record, if record exists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Data blank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FromFile.seekp(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90920" y="609120"/>
            <a:ext cx="5333760" cy="2606760"/>
            <a:chOff x="2590920" y="609120"/>
            <a:chExt cx="5333760" cy="2606760"/>
          </a:xfrm>
        </p:grpSpPr>
        <p:sp>
          <p:nvSpPr>
            <p:cNvPr id="470" name=""/>
            <p:cNvSpPr/>
            <p:nvPr/>
          </p:nvSpPr>
          <p:spPr>
            <a:xfrm>
              <a:off x="5257800" y="19051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we read to check if the account exits. If it does, we write blank data (erase it). If it does not exist, there is no need to delete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2590920" y="609120"/>
              <a:ext cx="26668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586F-B182-42F9-98E3-F73AC6FF346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erform fil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for specializations that 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A01F-AD55-41BD-9AB1-5DEF3760D7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3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place existing record with blank record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FromFile.write(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blank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eleted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rror if record does not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empty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lete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recor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Account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La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Fir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fix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howpoint &lt;&lt; record.getBalance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819520" y="2438280"/>
            <a:ext cx="4114800" cy="1219320"/>
            <a:chOff x="2819520" y="2438280"/>
            <a:chExt cx="4114800" cy="1219320"/>
          </a:xfrm>
        </p:grpSpPr>
        <p:sp>
          <p:nvSpPr>
            <p:cNvPr id="475" name=""/>
            <p:cNvSpPr/>
            <p:nvPr/>
          </p:nvSpPr>
          <p:spPr>
            <a:xfrm>
              <a:off x="4267440" y="2438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very flexible, and can output to an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(such as a file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81952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7760-1EA9-47D9-AB0B-3C9E2288060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4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btain account-number value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ccou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mp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account-numb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romp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(1 - 100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ccountNumb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accountNumber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A9BE-E17F-4EA6-A716-C3AD3F1AAB1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2  Input/Output of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pter 8 (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object's data transmi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s available inter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bjects stored in file, lose type info (class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must know type of object when 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riting, output object type code before real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reading, read typ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proper overloaded func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2EB0-5A52-449D-B9FF-581D91282DD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ing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objects from 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 from stream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stream methods from Ch.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71600" y="3416400"/>
            <a:ext cx="6019920" cy="2984400"/>
            <a:chOff x="1371600" y="3416400"/>
            <a:chExt cx="6019920" cy="2984400"/>
          </a:xfrm>
        </p:grpSpPr>
        <p:sp>
          <p:nvSpPr>
            <p:cNvPr id="196" name=""/>
            <p:cNvSpPr/>
            <p:nvPr/>
          </p:nvSpPr>
          <p:spPr>
            <a:xfrm>
              <a:off x="1371600" y="3416400"/>
              <a:ext cx="6019920" cy="2984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873080" y="3511440"/>
              <a:ext cx="4950000" cy="2793240"/>
              <a:chOff x="1873080" y="3511440"/>
              <a:chExt cx="4950000" cy="2793240"/>
            </a:xfrm>
          </p:grpSpPr>
          <p:sp>
            <p:nvSpPr>
              <p:cNvPr id="198" name=""/>
              <p:cNvSpPr/>
              <p:nvPr/>
            </p:nvSpPr>
            <p:spPr>
              <a:xfrm>
                <a:off x="4347720" y="5468400"/>
                <a:ext cx="36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758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862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3645720" y="6020280"/>
                <a:ext cx="1438560" cy="284400"/>
                <a:chOff x="3645720" y="6020280"/>
                <a:chExt cx="1438560" cy="2844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3646080" y="6020280"/>
                  <a:ext cx="1438200" cy="284400"/>
                  <a:chOff x="3646080" y="6020280"/>
                  <a:chExt cx="1438200" cy="2844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3646080" y="602028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646080" y="602028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3645720" y="610560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f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578400" y="3511440"/>
                <a:ext cx="1572840" cy="284040"/>
                <a:chOff x="3578400" y="3511440"/>
                <a:chExt cx="1572840" cy="28404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3579120" y="3511440"/>
                  <a:ext cx="1572120" cy="284040"/>
                  <a:chOff x="3579120" y="3511440"/>
                  <a:chExt cx="1572120" cy="284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120" y="3511440"/>
                    <a:ext cx="157212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120" y="3511440"/>
                    <a:ext cx="157212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" name=""/>
                <p:cNvSpPr/>
                <p:nvPr/>
              </p:nvSpPr>
              <p:spPr>
                <a:xfrm>
                  <a:off x="3578400" y="3596400"/>
                  <a:ext cx="157284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48168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5460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873080" y="5184000"/>
                <a:ext cx="1438560" cy="284400"/>
                <a:chOff x="1873080" y="5184000"/>
                <a:chExt cx="1438560" cy="2844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1873800" y="5184000"/>
                  <a:ext cx="1437840" cy="284400"/>
                  <a:chOff x="1873800" y="5184000"/>
                  <a:chExt cx="1437840" cy="2844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1873800" y="518400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1873800" y="518400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1873080" y="526932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f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384160" y="5184000"/>
                <a:ext cx="1438920" cy="284400"/>
                <a:chOff x="5384160" y="5184000"/>
                <a:chExt cx="1438920" cy="2844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5384880" y="5184000"/>
                  <a:ext cx="1438200" cy="284400"/>
                  <a:chOff x="5384880" y="5184000"/>
                  <a:chExt cx="1438200" cy="2844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3848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3848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384160" y="5269320"/>
                  <a:ext cx="143892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of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645720" y="5184000"/>
                <a:ext cx="1438560" cy="284400"/>
                <a:chOff x="3645720" y="5184000"/>
                <a:chExt cx="1438560" cy="2844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3646080" y="5184000"/>
                  <a:ext cx="1438200" cy="284400"/>
                  <a:chOff x="3646080" y="5184000"/>
                  <a:chExt cx="1438200" cy="284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6460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6460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3645720" y="526932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o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3412440" y="3795480"/>
                <a:ext cx="43416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17240" y="3795480"/>
                <a:ext cx="43416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2608920" y="4347720"/>
                <a:ext cx="1438200" cy="284400"/>
                <a:chOff x="2608920" y="4347720"/>
                <a:chExt cx="1438200" cy="28440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2609280" y="4347720"/>
                  <a:ext cx="1437840" cy="284400"/>
                  <a:chOff x="2609280" y="4347720"/>
                  <a:chExt cx="1437840" cy="2844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2609280" y="434772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609280" y="434772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2608920" y="4432680"/>
                  <a:ext cx="143820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749120" y="4347720"/>
                <a:ext cx="1438560" cy="284400"/>
                <a:chOff x="4749120" y="4347720"/>
                <a:chExt cx="1438560" cy="28440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4749480" y="4347720"/>
                  <a:ext cx="1438200" cy="284400"/>
                  <a:chOff x="4749480" y="4347720"/>
                  <a:chExt cx="1438200" cy="2844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4749480" y="434772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749480" y="434772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" name=""/>
                <p:cNvSpPr/>
                <p:nvPr/>
              </p:nvSpPr>
              <p:spPr>
                <a:xfrm>
                  <a:off x="4749120" y="443268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o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1E9E-2505-49F5-8E3B-517EE774C3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mposes no structure o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ept of "record" must be implemented by program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pen file, creat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"line of communication" from object to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put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tak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le 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le-open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 outClientFile( "filename",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fileOpenMo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attach a file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 outClientFi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ClientFile.open( "filename",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fileOpenMo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B3CA-50BC-4A37-B750-08046F92BD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9:30:17Z</dcterms:created>
  <dc:creator>kalid</dc:creator>
  <dc:description/>
  <dc:language>en-US</dc:language>
  <cp:lastModifiedBy>Pearson Education</cp:lastModifiedBy>
  <dcterms:modified xsi:type="dcterms:W3CDTF">2002-08-20T16:13:20Z</dcterms:modified>
  <cp:revision>595</cp:revision>
  <dc:subject/>
  <dc:title>PowerPoint Presentation</dc:title>
</cp:coreProperties>
</file>