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C713-B822-41B0-983D-8671E901D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C155-3FF5-4FE3-B687-70462FF95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6641-0CCE-42C7-8451-126B5207E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F5EB-0E18-4F8E-9369-C7AB555DB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C7DD-E4B5-4F90-B75D-F0EF4DBF7C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78E0-B621-4945-9F2D-579AD901D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B74B-2475-42BB-8DC3-1EB72FBA63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2392-5CDE-4843-BDBB-C5E4292BD2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028E-3D5B-49C5-A999-5186F4D2B8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1C8D-38FF-4BA1-906D-9D0AA2B4FE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0073-0A90-4AE6-9504-D3413E0BA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766B-4F67-4666-9B24-01156E3AF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EC3E-1541-4BA7-B8E9-4DAE4284E6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039F-072B-4216-83C0-36CB0951B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4941-02BE-4C0E-B40E-4A29365239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9B9A-0513-4069-A66A-34438F299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384B-11AC-4A3E-A583-9F9330678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3917-BB50-469A-AC2D-DA099B2CC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917D-D8BA-4A4C-933B-3EC842FE2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102B-664A-44D2-8ABB-07E46DB5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2B85-C404-450E-ADE4-961EEA571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6E7F-2452-40A5-8E45-B050876C3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BDAA-597B-41B2-A581-9999E879B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C7FD-4AAF-473B-8C9A-595ACDB6D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3F1-330D-4EF3-888A-C94CFA03C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AC0B-F1CF-47E7-A3A1-4D8E6C7ED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Member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osition: Objects as Members of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unction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int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Memory Management with Operator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et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ta Abstraction and Information Hid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Array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String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3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Queue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ainer Classes and It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xy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569D-8599-4752-9A73-2980EC196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2840" y="2057400"/>
            <a:ext cx="4343760" cy="1406520"/>
            <a:chOff x="2742840" y="2057400"/>
            <a:chExt cx="4343760" cy="1406520"/>
          </a:xfrm>
        </p:grpSpPr>
        <p:sp>
          <p:nvSpPr>
            <p:cNvPr id="114" name=""/>
            <p:cNvSpPr/>
            <p:nvPr/>
          </p:nvSpPr>
          <p:spPr>
            <a:xfrm>
              <a:off x="4419720" y="26258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71800" y="277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742840" y="205740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76E7-004B-4DFD-8752-00AA173BE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lack of const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52320" y="574560"/>
            <a:ext cx="4343760" cy="1406520"/>
            <a:chOff x="3352320" y="574560"/>
            <a:chExt cx="4343760" cy="1406520"/>
          </a:xfrm>
        </p:grpSpPr>
        <p:sp>
          <p:nvSpPr>
            <p:cNvPr id="120" name=""/>
            <p:cNvSpPr/>
            <p:nvPr/>
          </p:nvSpPr>
          <p:spPr>
            <a:xfrm>
              <a:off x="502920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352320" y="57456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32A0-33D4-4324-BD30-395AFB001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3: fig07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access a const objec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Time class definition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wake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no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52680" y="1600200"/>
            <a:ext cx="4114800" cy="838080"/>
            <a:chOff x="3352680" y="160020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4800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o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3526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2590920"/>
            <a:ext cx="3886560" cy="1052640"/>
            <a:chOff x="1752120" y="2590920"/>
            <a:chExt cx="3886560" cy="10526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n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52120" y="25909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0EF9-22BD-44E0-99DE-06853E992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BJECT     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setHour( 12 );  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getHou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printStandard();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05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16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setHour' : cannot convert 'this' pointer from 'const class Time'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23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printStandard' : cannot convert 'this' pointer from 'const 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990360"/>
            <a:ext cx="4572000" cy="2667240"/>
            <a:chOff x="2514600" y="990360"/>
            <a:chExt cx="4572000" cy="2667240"/>
          </a:xfrm>
        </p:grpSpPr>
        <p:sp>
          <p:nvSpPr>
            <p:cNvPr id="135" name=""/>
            <p:cNvSpPr/>
            <p:nvPr/>
          </p:nvSpPr>
          <p:spPr>
            <a:xfrm>
              <a:off x="44197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71800" y="1600200"/>
              <a:ext cx="14479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990360"/>
              <a:ext cx="1905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66880" y="2476440"/>
            <a:ext cx="4572000" cy="2019240"/>
            <a:chOff x="2666880" y="2476440"/>
            <a:chExt cx="4572000" cy="2019240"/>
          </a:xfrm>
        </p:grpSpPr>
        <p:sp>
          <p:nvSpPr>
            <p:cNvPr id="139" name=""/>
            <p:cNvSpPr/>
            <p:nvPr/>
          </p:nvSpPr>
          <p:spPr>
            <a:xfrm>
              <a:off x="4572000" y="293364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 even if function does not modify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04960" y="3086280"/>
              <a:ext cx="1066680" cy="14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666880" y="2476440"/>
              <a:ext cx="1905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FC7C-5C30-42B6-B94E-20D3570DB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ing with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that are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93A2-095F-4174-8363-F531528AF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4: fig07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member initializer to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of a built-in data 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AE80-2578-4EB1-A344-5A47D27B1A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unt( c ),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izer for non-const memb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increment( i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d initializer for const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49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62120" y="1143000"/>
            <a:ext cx="4114800" cy="838080"/>
            <a:chOff x="762120" y="1143000"/>
            <a:chExt cx="4114800" cy="838080"/>
          </a:xfrm>
        </p:grpSpPr>
        <p:sp>
          <p:nvSpPr>
            <p:cNvPr id="152" name=""/>
            <p:cNvSpPr/>
            <p:nvPr/>
          </p:nvSpPr>
          <p:spPr>
            <a:xfrm>
              <a:off x="221004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list separated from parameter list by 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6212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05120" y="1447920"/>
            <a:ext cx="3886200" cy="824040"/>
            <a:chOff x="1905120" y="1447920"/>
            <a:chExt cx="3886200" cy="824040"/>
          </a:xfrm>
        </p:grpSpPr>
        <p:sp>
          <p:nvSpPr>
            <p:cNvPr id="155" name=""/>
            <p:cNvSpPr/>
            <p:nvPr/>
          </p:nvSpPr>
          <p:spPr>
            <a:xfrm>
              <a:off x="3124080" y="1447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can be used for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05120" y="1600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09680" y="1755720"/>
            <a:ext cx="3886200" cy="824040"/>
            <a:chOff x="2209680" y="1755720"/>
            <a:chExt cx="3886200" cy="824040"/>
          </a:xfrm>
        </p:grpSpPr>
        <p:sp>
          <p:nvSpPr>
            <p:cNvPr id="158" name=""/>
            <p:cNvSpPr/>
            <p:nvPr/>
          </p:nvSpPr>
          <p:spPr>
            <a:xfrm>
              <a:off x="3428640" y="17557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must be us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09680" y="19080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2336760"/>
            <a:ext cx="4114800" cy="1841040"/>
            <a:chOff x="1752480" y="2336760"/>
            <a:chExt cx="4114800" cy="1841040"/>
          </a:xfrm>
        </p:grpSpPr>
        <p:sp>
          <p:nvSpPr>
            <p:cNvPr id="161" name=""/>
            <p:cNvSpPr/>
            <p:nvPr/>
          </p:nvSpPr>
          <p:spPr>
            <a:xfrm>
              <a:off x="3200400" y="28670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consists of data member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followed by parentheses containing initial valu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752480" y="2336760"/>
              <a:ext cx="14479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E08D-25F1-48EE-AF5B-7887E438CA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E53C-03FD-47BA-9E8C-1E31E9361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5: fig0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itialize a constant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built-in data type with an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95C5-C7B1-4FF6-A806-55B87E0C8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member 'increment' is not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= c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ed because count is not const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crement = i;  // ERROR: Cannot modify a const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71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57400" y="1600200"/>
            <a:ext cx="4114800" cy="838080"/>
            <a:chOff x="2057400" y="1600200"/>
            <a:chExt cx="4114800" cy="838080"/>
          </a:xfrm>
        </p:grpSpPr>
        <p:sp>
          <p:nvSpPr>
            <p:cNvPr id="174" name=""/>
            <p:cNvSpPr/>
            <p:nvPr/>
          </p:nvSpPr>
          <p:spPr>
            <a:xfrm>
              <a:off x="350532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574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38D0-29A2-45C9-9428-52263F8C77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based programming (OB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6-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9 and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BBA0-D1C2-41BB-B651-BD4D43C7E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30) : error C275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increment' : must be initialized in constructor base/memb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itializ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24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e declaration of 'increme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03\Fig07_03.cpp(32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71800" y="2895480"/>
            <a:ext cx="4114800" cy="1067400"/>
            <a:chOff x="2971800" y="2895480"/>
            <a:chExt cx="4114800" cy="1067400"/>
          </a:xfrm>
        </p:grpSpPr>
        <p:sp>
          <p:nvSpPr>
            <p:cNvPr id="180" name=""/>
            <p:cNvSpPr/>
            <p:nvPr/>
          </p:nvSpPr>
          <p:spPr>
            <a:xfrm>
              <a:off x="44197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 using 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9718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4038480"/>
            <a:ext cx="4114800" cy="838440"/>
            <a:chOff x="4038480" y="4038480"/>
            <a:chExt cx="4114800" cy="838440"/>
          </a:xfrm>
        </p:grpSpPr>
        <p:sp>
          <p:nvSpPr>
            <p:cNvPr id="183" name=""/>
            <p:cNvSpPr/>
            <p:nvPr/>
          </p:nvSpPr>
          <p:spPr>
            <a:xfrm>
              <a:off x="54864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48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D307-74F3-437D-9680-D03D94CA9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before enclosing class objects (host objec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4944-85C7-41D7-AEA8-417731602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6: date1.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date in month/day/ye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Dat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-12 (January-Decemb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-31 based on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ny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test proper day for month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7400" y="1523880"/>
            <a:ext cx="4114800" cy="1067400"/>
            <a:chOff x="2057400" y="1523880"/>
            <a:chExt cx="4114800" cy="1067400"/>
          </a:xfrm>
        </p:grpSpPr>
        <p:sp>
          <p:nvSpPr>
            <p:cNvPr id="190" name=""/>
            <p:cNvSpPr/>
            <p:nvPr/>
          </p:nvSpPr>
          <p:spPr>
            <a:xfrm>
              <a:off x="35053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no constructor with parameter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call compiler provid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57400" y="16765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D7B4-1561-48E6-A020-4F3DC47112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7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confirms proper value for month;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heckDay to confirm proper value for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idate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set to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t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month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r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y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checkDay( dy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the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5898-93E9-40DC-AC0F-9B625989D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Date object to show when its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con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object in form month/day/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~Date()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de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Dat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61960" y="761760"/>
            <a:ext cx="4115160" cy="1038240"/>
            <a:chOff x="2361960" y="761760"/>
            <a:chExt cx="4115160" cy="1038240"/>
          </a:xfrm>
        </p:grpSpPr>
        <p:sp>
          <p:nvSpPr>
            <p:cNvPr id="197" name=""/>
            <p:cNvSpPr/>
            <p:nvPr/>
          </p:nvSpPr>
          <p:spPr>
            <a:xfrm>
              <a:off x="3809880" y="121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361960" y="7617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1066680"/>
            <a:ext cx="4114800" cy="1067400"/>
            <a:chOff x="1981080" y="1066680"/>
            <a:chExt cx="4114800" cy="1067400"/>
          </a:xfrm>
        </p:grpSpPr>
        <p:sp>
          <p:nvSpPr>
            <p:cNvPr id="200" name=""/>
            <p:cNvSpPr/>
            <p:nvPr/>
          </p:nvSpPr>
          <p:spPr>
            <a:xfrm>
              <a:off x="34290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; each member function contains implicit handle to object on which it oper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9810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514600" y="3143160"/>
            <a:ext cx="3962520" cy="743040"/>
            <a:chOff x="2514600" y="3143160"/>
            <a:chExt cx="3962520" cy="743040"/>
          </a:xfrm>
        </p:grpSpPr>
        <p:sp>
          <p:nvSpPr>
            <p:cNvPr id="203" name=""/>
            <p:cNvSpPr/>
            <p:nvPr/>
          </p:nvSpPr>
          <p:spPr>
            <a:xfrm>
              <a:off x="3809880" y="3143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514600" y="329580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74A1-FB7B-413D-A551-33092D4D56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confirm proper day value based 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th and year; handles leap years, to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PerMonth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estDay is valid for specified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Day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&lt;= daysPerMonth[ month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ebruary 29 check for leap ye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day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ave object in consistent state if ba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heck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ECD0-71C2-4C3D-9D51-7EA2D92F2C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8: employe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employe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birthD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hireDa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43400" y="3809880"/>
            <a:ext cx="4114800" cy="1067400"/>
            <a:chOff x="4343400" y="3809880"/>
            <a:chExt cx="4114800" cy="1067400"/>
          </a:xfrm>
        </p:grpSpPr>
        <p:sp>
          <p:nvSpPr>
            <p:cNvPr id="210" name=""/>
            <p:cNvSpPr/>
            <p:nvPr/>
          </p:nvSpPr>
          <p:spPr>
            <a:xfrm>
              <a:off x="5791320" y="3809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composition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a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343400" y="3962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804A-0938-44C0-A0DE-5BC85D877F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9: employee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7D1F-B564-4F36-82BF-6C347582E5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uses member initializer list to pass initializ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s to constructors of member objects birthDate and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reDate [Note: This invokes the so-called "default copy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" which the C++ compiler provides implicitly.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,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Bir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Hire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irthDate( dateOfBirth )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rthDat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hireDate( dateOfHire )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hireDate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first into fir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last into la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strlen(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Employee object to show when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constructor: "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8120" y="1752120"/>
            <a:ext cx="3962160" cy="1539720"/>
            <a:chOff x="3048120" y="1752120"/>
            <a:chExt cx="3962160" cy="1539720"/>
          </a:xfrm>
        </p:grpSpPr>
        <p:sp>
          <p:nvSpPr>
            <p:cNvPr id="218" name=""/>
            <p:cNvSpPr/>
            <p:nvPr/>
          </p:nvSpPr>
          <p:spPr>
            <a:xfrm>
              <a:off x="4343400" y="1981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compiler us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048120" y="1752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819160" y="4267080"/>
            <a:ext cx="4191120" cy="762120"/>
            <a:chOff x="2819160" y="4267080"/>
            <a:chExt cx="4191120" cy="762120"/>
          </a:xfrm>
        </p:grpSpPr>
        <p:sp>
          <p:nvSpPr>
            <p:cNvPr id="221" name=""/>
            <p:cNvSpPr/>
            <p:nvPr/>
          </p:nvSpPr>
          <p:spPr>
            <a:xfrm>
              <a:off x="43434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19160" y="44197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770D-2F01-44F5-A701-B64DAABAB7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ire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Birth da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rth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destructor: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 &lt;&lt; endl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95480" y="2895480"/>
            <a:ext cx="3962520" cy="743040"/>
            <a:chOff x="2895480" y="2895480"/>
            <a:chExt cx="3962520" cy="743040"/>
          </a:xfrm>
        </p:grpSpPr>
        <p:sp>
          <p:nvSpPr>
            <p:cNvPr id="226" name=""/>
            <p:cNvSpPr/>
            <p:nvPr/>
          </p:nvSpPr>
          <p:spPr>
            <a:xfrm>
              <a:off x="4190760" y="289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895480" y="304812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AACD-1976-4444-8142-219A258D6F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llow modification of necessar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object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 if attempt to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C413-FBFA-4F83-832C-CEB2DD8D21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0: fig07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omposition--an object with member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bi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hi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mana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irth, hi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nag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st Date constructor with invalid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lastDayOf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and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276360" y="2057400"/>
            <a:ext cx="4115160" cy="838080"/>
            <a:chOff x="3276360" y="2057400"/>
            <a:chExt cx="4115160" cy="838080"/>
          </a:xfrm>
        </p:grpSpPr>
        <p:sp>
          <p:nvSpPr>
            <p:cNvPr id="231" name=""/>
            <p:cNvSpPr/>
            <p:nvPr/>
          </p:nvSpPr>
          <p:spPr>
            <a:xfrm>
              <a:off x="47242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pas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76360" y="220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1D6F-BB79-49F8-AE15-D85F9039DE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constructor: Bob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: 3/12/1988  Birth date: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Date constructor with in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14 invalid. Set to month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5 invalid. Set to day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destructor: 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57600" y="609120"/>
            <a:ext cx="3962520" cy="1296360"/>
            <a:chOff x="3657600" y="609120"/>
            <a:chExt cx="3962520" cy="1296360"/>
          </a:xfrm>
        </p:grpSpPr>
        <p:sp>
          <p:nvSpPr>
            <p:cNvPr id="236" name=""/>
            <p:cNvSpPr/>
            <p:nvPr/>
          </p:nvSpPr>
          <p:spPr>
            <a:xfrm>
              <a:off x="4952880" y="8380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wo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constructed; no output since default copy constructor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3657600" y="609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57240" y="2286000"/>
            <a:ext cx="4115160" cy="1310760"/>
            <a:chOff x="3657240" y="2286000"/>
            <a:chExt cx="4115160" cy="1310760"/>
          </a:xfrm>
        </p:grpSpPr>
        <p:sp>
          <p:nvSpPr>
            <p:cNvPr id="239" name=""/>
            <p:cNvSpPr/>
            <p:nvPr/>
          </p:nvSpPr>
          <p:spPr>
            <a:xfrm>
              <a:off x="5105160" y="2286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hos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uns before destructors for member obj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65724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2160" y="2438280"/>
            <a:ext cx="4115160" cy="838440"/>
            <a:chOff x="3962160" y="2438280"/>
            <a:chExt cx="4115160" cy="838440"/>
          </a:xfrm>
        </p:grpSpPr>
        <p:sp>
          <p:nvSpPr>
            <p:cNvPr id="242" name=""/>
            <p:cNvSpPr/>
            <p:nvPr/>
          </p:nvSpPr>
          <p:spPr>
            <a:xfrm>
              <a:off x="5410080" y="2438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9621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962160" y="2705040"/>
            <a:ext cx="4115160" cy="838440"/>
            <a:chOff x="3962160" y="2705040"/>
            <a:chExt cx="4115160" cy="838440"/>
          </a:xfrm>
        </p:grpSpPr>
        <p:sp>
          <p:nvSpPr>
            <p:cNvPr id="245" name=""/>
            <p:cNvSpPr/>
            <p:nvPr/>
          </p:nvSpPr>
          <p:spPr>
            <a:xfrm>
              <a:off x="5410080" y="2705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‘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962160" y="2857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62160" y="2946240"/>
            <a:ext cx="4115160" cy="838440"/>
            <a:chOff x="3962160" y="2946240"/>
            <a:chExt cx="4115160" cy="838440"/>
          </a:xfrm>
        </p:grpSpPr>
        <p:sp>
          <p:nvSpPr>
            <p:cNvPr id="248" name=""/>
            <p:cNvSpPr/>
            <p:nvPr/>
          </p:nvSpPr>
          <p:spPr>
            <a:xfrm>
              <a:off x="5410080" y="29462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962160" y="3098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62160" y="3124080"/>
            <a:ext cx="4115160" cy="838440"/>
            <a:chOff x="3962160" y="3124080"/>
            <a:chExt cx="4115160" cy="838440"/>
          </a:xfrm>
        </p:grpSpPr>
        <p:sp>
          <p:nvSpPr>
            <p:cNvPr id="251" name=""/>
            <p:cNvSpPr/>
            <p:nvPr/>
          </p:nvSpPr>
          <p:spPr>
            <a:xfrm>
              <a:off x="54100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9621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C473-468F-4682-8B98-92F78CC48E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class’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 to access non-public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 function prototype with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 function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declaration of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3650-79D0-4219-873D-56406BF44C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explicitly declar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571A-DAFC-4D1C-A2BA-3309AA2FDA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1: fig07_11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s can access private members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04760" y="1295280"/>
            <a:ext cx="4115160" cy="838440"/>
            <a:chOff x="1904760" y="1295280"/>
            <a:chExt cx="4115160" cy="838440"/>
          </a:xfrm>
        </p:grpSpPr>
        <p:sp>
          <p:nvSpPr>
            <p:cNvPr id="260" name=""/>
            <p:cNvSpPr/>
            <p:nvPr/>
          </p:nvSpPr>
          <p:spPr>
            <a:xfrm>
              <a:off x="3352680" y="1295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cede function prototype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1357-5DB2-4E8A-A2F2-8CFA7D6B4C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etX can modify private data of Cou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cause setX is declared as a friend of Cou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.x = va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gal: setX is a friend of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2438280"/>
            <a:ext cx="4114800" cy="838440"/>
            <a:chOff x="1828800" y="2438280"/>
            <a:chExt cx="4114800" cy="838440"/>
          </a:xfrm>
        </p:grpSpPr>
        <p:sp>
          <p:nvSpPr>
            <p:cNvPr id="265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since C-style, standalon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14400" y="2895480"/>
            <a:ext cx="4114800" cy="1067400"/>
            <a:chOff x="914400" y="2895480"/>
            <a:chExt cx="4114800" cy="1067400"/>
          </a:xfrm>
        </p:grpSpPr>
        <p:sp>
          <p:nvSpPr>
            <p:cNvPr id="268" name=""/>
            <p:cNvSpPr/>
            <p:nvPr/>
          </p:nvSpPr>
          <p:spPr>
            <a:xfrm>
              <a:off x="23623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can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0CA9-C2C3-45F5-95ED-BFFDACA553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instanti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with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call to setX friend func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514600" y="914400"/>
            <a:ext cx="4114800" cy="838080"/>
            <a:chOff x="2514600" y="91440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3962520" y="914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514600" y="1066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71A2-78CE-4CA6-BA66-60EFE1ADD3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2: fig07_1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friend/non-member functions cannot 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data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(note that there is no friendship declar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B869-DC4A-44D8-817F-58B75AF1C9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ries to modify private data of Count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t cannot because function is not a friend of Count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not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.x = val;  // ERROR: cannot access private member in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nnotSetX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23880" y="2819520"/>
            <a:ext cx="4114800" cy="1067400"/>
            <a:chOff x="1523880" y="2819520"/>
            <a:chExt cx="4114800" cy="1067400"/>
          </a:xfrm>
        </p:grpSpPr>
        <p:sp>
          <p:nvSpPr>
            <p:cNvPr id="28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523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2E3F-E988-4F74-886F-17D2E307BF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nnot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SetX is no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12\Fig07_12.cpp(39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x' : cannot access private member declared in 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12\Fig07_12.cpp(31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see declaration of 'x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428640" y="3047760"/>
            <a:ext cx="3886560" cy="1378800"/>
            <a:chOff x="3428640" y="3047760"/>
            <a:chExt cx="3886560" cy="1378800"/>
          </a:xfrm>
        </p:grpSpPr>
        <p:sp>
          <p:nvSpPr>
            <p:cNvPr id="287" name=""/>
            <p:cNvSpPr/>
            <p:nvPr/>
          </p:nvSpPr>
          <p:spPr>
            <a:xfrm>
              <a:off x="4648320" y="335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428640" y="3047760"/>
              <a:ext cx="121932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5976-DDBF-4B39-AE50-1FBC1E8F4A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must als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modif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both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beginning lef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13CD-7C14-46D9-9F0E-088AB9E3C3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 to access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argument to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member funct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81D2-A389-499A-BC43-580D2D8DBB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3: fig07_13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this pointer to refer to object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::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2C3D-74C0-4747-89BA-B95AE5ACE9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x using implicit and explicit this poin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entheses around *this requi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        x = " &lt;&lt; x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  this-&gt;x = "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x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dereferenced this pointer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dot operator to access member x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(*this).x = " &lt;&lt;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Obj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76360" y="665280"/>
            <a:ext cx="4115160" cy="838080"/>
            <a:chOff x="3276360" y="665280"/>
            <a:chExt cx="4115160" cy="838080"/>
          </a:xfrm>
        </p:grpSpPr>
        <p:sp>
          <p:nvSpPr>
            <p:cNvPr id="296" name=""/>
            <p:cNvSpPr/>
            <p:nvPr/>
          </p:nvSpPr>
          <p:spPr>
            <a:xfrm>
              <a:off x="47242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only specify name of data memb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2763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1330200"/>
            <a:ext cx="4114800" cy="838440"/>
            <a:chOff x="3657600" y="1330200"/>
            <a:chExt cx="4114800" cy="838440"/>
          </a:xfrm>
        </p:grpSpPr>
        <p:sp>
          <p:nvSpPr>
            <p:cNvPr id="299" name=""/>
            <p:cNvSpPr/>
            <p:nvPr/>
          </p:nvSpPr>
          <p:spPr>
            <a:xfrm>
              <a:off x="5105520" y="133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with arrow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600" y="1482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57600" y="2168640"/>
            <a:ext cx="4114800" cy="838080"/>
            <a:chOff x="3657600" y="216864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105520" y="216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de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first, then use dot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57600" y="232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CC47-F3FD-4DF2-9CD8-05682C4C64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5720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this).x =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2AA9-13E5-42D0-A858-792C593348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functions invoked in sam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reference pointer to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60CF-EB48-492F-B494-C3A3030EBD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4: time6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6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590560" y="2327400"/>
            <a:ext cx="4115160" cy="1067400"/>
            <a:chOff x="2590560" y="2327400"/>
            <a:chExt cx="4115160" cy="1067400"/>
          </a:xfrm>
        </p:grpSpPr>
        <p:sp>
          <p:nvSpPr>
            <p:cNvPr id="312" name=""/>
            <p:cNvSpPr/>
            <p:nvPr/>
          </p:nvSpPr>
          <p:spPr>
            <a:xfrm>
              <a:off x="4038480" y="2327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590560" y="247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9DD4-6D9A-4548-AC33-EEF0412EDA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4863-CA73-4211-8551-031E6759D5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5: time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9185-39DE-44DD-ABDD-82D2E914E8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,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57400" y="990720"/>
            <a:ext cx="4114800" cy="838080"/>
            <a:chOff x="2057400" y="990720"/>
            <a:chExt cx="4114800" cy="838080"/>
          </a:xfrm>
        </p:grpSpPr>
        <p:sp>
          <p:nvSpPr>
            <p:cNvPr id="321" name=""/>
            <p:cNvSpPr/>
            <p:nvPr/>
          </p:nvSpPr>
          <p:spPr>
            <a:xfrm>
              <a:off x="35053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0574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057400" y="2971800"/>
            <a:ext cx="4114800" cy="838080"/>
            <a:chOff x="2057400" y="2971800"/>
            <a:chExt cx="4114800" cy="838080"/>
          </a:xfrm>
        </p:grpSpPr>
        <p:sp>
          <p:nvSpPr>
            <p:cNvPr id="324" name=""/>
            <p:cNvSpPr/>
            <p:nvPr/>
          </p:nvSpPr>
          <p:spPr>
            <a:xfrm>
              <a:off x="35053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0574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D8CF-68A8-4E94-9E8E-DB60E68632C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81080" y="533520"/>
            <a:ext cx="4114800" cy="838080"/>
            <a:chOff x="1981080" y="533520"/>
            <a:chExt cx="4114800" cy="838080"/>
          </a:xfrm>
        </p:grpSpPr>
        <p:sp>
          <p:nvSpPr>
            <p:cNvPr id="329" name=""/>
            <p:cNvSpPr/>
            <p:nvPr/>
          </p:nvSpPr>
          <p:spPr>
            <a:xfrm>
              <a:off x="3429000" y="533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9810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81080" y="2514600"/>
            <a:ext cx="4114800" cy="838080"/>
            <a:chOff x="1981080" y="2514600"/>
            <a:chExt cx="4114800" cy="838080"/>
          </a:xfrm>
        </p:grpSpPr>
        <p:sp>
          <p:nvSpPr>
            <p:cNvPr id="332" name=""/>
            <p:cNvSpPr/>
            <p:nvPr/>
          </p:nvSpPr>
          <p:spPr>
            <a:xfrm>
              <a:off x="34290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9810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C845-6713-485B-8C63-230783C24F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ble to modif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termination house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439F-7660-413B-9106-09A463F7AA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3967-96A1-48AD-B72D-8A8CF318FC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759A-88ED-4751-ABC0-C3AB6F2FA9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6: fig07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 with the thi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in universal and standard forma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ew 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857320" y="2362320"/>
            <a:ext cx="4115160" cy="838080"/>
            <a:chOff x="2857320" y="2362320"/>
            <a:chExt cx="4115160" cy="838080"/>
          </a:xfrm>
        </p:grpSpPr>
        <p:sp>
          <p:nvSpPr>
            <p:cNvPr id="341" name=""/>
            <p:cNvSpPr/>
            <p:nvPr/>
          </p:nvSpPr>
          <p:spPr>
            <a:xfrm>
              <a:off x="43052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e member function calls; recall dot operator associates from left to righ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85732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D1CC-8175-4122-8002-D64EDDD9BC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981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18:30: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38560" y="609120"/>
            <a:ext cx="4304880" cy="1539720"/>
            <a:chOff x="3238560" y="609120"/>
            <a:chExt cx="4304880" cy="1539720"/>
          </a:xfrm>
        </p:grpSpPr>
        <p:sp>
          <p:nvSpPr>
            <p:cNvPr id="347" name=""/>
            <p:cNvSpPr/>
            <p:nvPr/>
          </p:nvSpPr>
          <p:spPr>
            <a:xfrm>
              <a:off x="4876560" y="838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appear last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3238560" y="609120"/>
              <a:ext cx="1638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8D25-7D59-4CE5-8B5B-9E4A4117B54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llocation and deallocation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tandard h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standard vers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E475-BAED-4BB5-BE93-27DCDB28F3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new 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object of proper size for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no space in memory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fault con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of specified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initial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 = new Time( 12, 0,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gradesArray = new int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CE6F-33E2-460B-B8D8-5A858312F19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oy dynamically allocated object and fre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memory associated wit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an be reused to allocate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grades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array to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s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ointer to array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s destructor for each objec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eallocat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F635-DACC-433F-A505-74182D9EA50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wide”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f class, not specific object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exactly once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objects of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3745-AF16-477B-8B62-6BBDE268876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ble through any 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binary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accessed vi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class name, 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AEE3-5275-4324-A01B-AF76851D736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 exist independen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FC93-2C3F-4AD2-AB0C-7D3D6371E7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: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5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3165480"/>
            <a:ext cx="4114800" cy="838080"/>
            <a:chOff x="4724280" y="3165480"/>
            <a:chExt cx="4114800" cy="838080"/>
          </a:xfrm>
        </p:grpSpPr>
        <p:sp>
          <p:nvSpPr>
            <p:cNvPr id="100" name=""/>
            <p:cNvSpPr/>
            <p:nvPr/>
          </p:nvSpPr>
          <p:spPr>
            <a:xfrm>
              <a:off x="6172200" y="316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2428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724280" y="4419720"/>
            <a:ext cx="4114800" cy="838080"/>
            <a:chOff x="4724280" y="4419720"/>
            <a:chExt cx="4114800" cy="838080"/>
          </a:xfrm>
        </p:grpSpPr>
        <p:sp>
          <p:nvSpPr>
            <p:cNvPr id="103" name=""/>
            <p:cNvSpPr/>
            <p:nvPr/>
          </p:nvSpPr>
          <p:spPr>
            <a:xfrm>
              <a:off x="61722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Univers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242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5227-0795-4BCD-898A-0DAC5BE5F4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7: employe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member function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u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#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data member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57320" y="2473200"/>
            <a:ext cx="4115160" cy="1067400"/>
            <a:chOff x="2857320" y="2473200"/>
            <a:chExt cx="4115160" cy="1067400"/>
          </a:xfrm>
        </p:grpSpPr>
        <p:sp>
          <p:nvSpPr>
            <p:cNvPr id="364" name=""/>
            <p:cNvSpPr/>
            <p:nvPr/>
          </p:nvSpPr>
          <p:spPr>
            <a:xfrm>
              <a:off x="4305240" y="247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only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nd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857320" y="2625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38280" y="3962520"/>
            <a:ext cx="4114800" cy="838080"/>
            <a:chOff x="2438280" y="3962520"/>
            <a:chExt cx="4114800" cy="838080"/>
          </a:xfrm>
        </p:grpSpPr>
        <p:sp>
          <p:nvSpPr>
            <p:cNvPr id="367" name=""/>
            <p:cNvSpPr/>
            <p:nvPr/>
          </p:nvSpPr>
          <p:spPr>
            <a:xfrm>
              <a:off x="3886200" y="3962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is class-wid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4382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98AB-11A7-41FA-88A0-E8A76890F53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6212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8: employe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++ standard new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and initialize static data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tatic member function that returns numb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objects instantiated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getCount()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atic function getCount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19160" y="2992320"/>
            <a:ext cx="4115160" cy="838440"/>
            <a:chOff x="2819160" y="2992320"/>
            <a:chExt cx="4115160" cy="838440"/>
          </a:xfrm>
        </p:grpSpPr>
        <p:sp>
          <p:nvSpPr>
            <p:cNvPr id="373" name=""/>
            <p:cNvSpPr/>
            <p:nvPr/>
          </p:nvSpPr>
          <p:spPr>
            <a:xfrm>
              <a:off x="4267080" y="299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exactly once at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819160" y="31449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19160" y="4038480"/>
            <a:ext cx="4115160" cy="838440"/>
            <a:chOff x="2819160" y="403848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267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191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CDB5-DFAB-475F-B722-537146E50C3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dynamically allocates space for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 and uses strcpy to copy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s into the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fir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firstName,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la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lastName,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constructor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all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deallocates dynamically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~Employee()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04760" y="1025640"/>
            <a:ext cx="5943960" cy="1108080"/>
            <a:chOff x="1904760" y="1025640"/>
            <a:chExt cx="5943960" cy="1108080"/>
          </a:xfrm>
        </p:grpSpPr>
        <p:sp>
          <p:nvSpPr>
            <p:cNvPr id="381" name=""/>
            <p:cNvSpPr/>
            <p:nvPr/>
          </p:nvSpPr>
          <p:spPr>
            <a:xfrm>
              <a:off x="5181480" y="1025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904760" y="1177920"/>
              <a:ext cx="32763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904760" y="1177920"/>
              <a:ext cx="327636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523880" y="2057400"/>
            <a:ext cx="4114800" cy="838080"/>
            <a:chOff x="1523880" y="2057400"/>
            <a:chExt cx="4114800" cy="838080"/>
          </a:xfrm>
        </p:grpSpPr>
        <p:sp>
          <p:nvSpPr>
            <p:cNvPr id="385" name=""/>
            <p:cNvSpPr/>
            <p:nvPr/>
          </p:nvSpPr>
          <p:spPr>
            <a:xfrm>
              <a:off x="2971800" y="2057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523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E397-86C5-4A70-B03C-D6CEC676F5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first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lastNam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-c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43000" y="380520"/>
            <a:ext cx="4991040" cy="1266840"/>
            <a:chOff x="1143000" y="380520"/>
            <a:chExt cx="4991040" cy="1266840"/>
          </a:xfrm>
        </p:grpSpPr>
        <p:sp>
          <p:nvSpPr>
            <p:cNvPr id="390" name=""/>
            <p:cNvSpPr/>
            <p:nvPr/>
          </p:nvSpPr>
          <p:spPr>
            <a:xfrm>
              <a:off x="346716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1143000" y="380520"/>
              <a:ext cx="2324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1143000" y="609480"/>
              <a:ext cx="2324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47560" y="990360"/>
            <a:ext cx="3886560" cy="979560"/>
            <a:chOff x="1447560" y="990360"/>
            <a:chExt cx="3886560" cy="979560"/>
          </a:xfrm>
        </p:grpSpPr>
        <p:sp>
          <p:nvSpPr>
            <p:cNvPr id="394" name=""/>
            <p:cNvSpPr/>
            <p:nvPr/>
          </p:nvSpPr>
          <p:spPr>
            <a:xfrm>
              <a:off x="2667240" y="1145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1447560" y="990360"/>
              <a:ext cx="12193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7E01-B347-478F-AACA-555CC07C124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9: fig0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to test class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new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before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1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s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k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2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ob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666880" y="3235320"/>
            <a:ext cx="5943600" cy="727200"/>
            <a:chOff x="2666880" y="3235320"/>
            <a:chExt cx="5943600" cy="727200"/>
          </a:xfrm>
        </p:grpSpPr>
        <p:sp>
          <p:nvSpPr>
            <p:cNvPr id="399" name=""/>
            <p:cNvSpPr/>
            <p:nvPr/>
          </p:nvSpPr>
          <p:spPr>
            <a:xfrm>
              <a:off x="5943600" y="323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666880" y="3387600"/>
              <a:ext cx="3276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3387600"/>
              <a:ext cx="327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209680" y="3733920"/>
            <a:ext cx="4114800" cy="838080"/>
            <a:chOff x="2209680" y="3733920"/>
            <a:chExt cx="4114800" cy="838080"/>
          </a:xfrm>
        </p:grpSpPr>
        <p:sp>
          <p:nvSpPr>
            <p:cNvPr id="403" name=""/>
            <p:cNvSpPr/>
            <p:nvPr/>
          </p:nvSpPr>
          <p:spPr>
            <a:xfrm>
              <a:off x="36576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be invoked on any object of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7314-8B44-4540-9CFF-1A28303F53A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mployee 1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1Ptr-&gt;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loyee 2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2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2Ptr-&gt;getLa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1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2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dele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143000" y="1905120"/>
            <a:ext cx="4991040" cy="1266480"/>
            <a:chOff x="1143000" y="1905120"/>
            <a:chExt cx="4991040" cy="1266480"/>
          </a:xfrm>
        </p:grpSpPr>
        <p:sp>
          <p:nvSpPr>
            <p:cNvPr id="408" name=""/>
            <p:cNvSpPr/>
            <p:nvPr/>
          </p:nvSpPr>
          <p:spPr>
            <a:xfrm>
              <a:off x="346716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143000" y="1905120"/>
              <a:ext cx="2324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143000" y="2362320"/>
              <a:ext cx="2324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43200" y="2171880"/>
            <a:ext cx="4114800" cy="1067400"/>
            <a:chOff x="2743200" y="2171880"/>
            <a:chExt cx="4114800" cy="1067400"/>
          </a:xfrm>
        </p:grpSpPr>
        <p:sp>
          <p:nvSpPr>
            <p:cNvPr id="412" name=""/>
            <p:cNvSpPr/>
            <p:nvPr/>
          </p:nvSpPr>
          <p:spPr>
            <a:xfrm>
              <a:off x="4191120" y="2171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invoked using binary scope resolution operator (no existing class object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3200" y="2324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5C38-C9F9-49E8-B354-72EDC1670E0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before instantiation is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Susan Baker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Robert Jones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after instantiation is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1: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2: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7EC9-AEB9-49A2-B02D-188278FDA49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are how stack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functionality of class independent of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5ABF-A19B-4F12-8773-FF77B38DC59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ions/models of real-world concept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allowed on thos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7826-5FD0-4195-AA84-AC6EF4755C0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y range of subscri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174C-EFC0-4D8B-AC30-B58A475B4DB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F252-32F9-482D-B044-C2CB5C824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built-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ADT (Chapter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I/ISO standa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3FD0-4F51-42EC-A97A-89F651BD72E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ADT (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libr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1F31-B271-4D23-A4EC-AFA0039708A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, deletion, searching, sorting, or testing an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item of colle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forms some action on nex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own “posit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A03C-636F-4965-85B4-EE721855CD7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e implementation detail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s 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need for including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class before 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A329-DC2B-41EB-943E-4DEBDFAC5A9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0: implementa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v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alue with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plementa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value to v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v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19160" y="2971800"/>
            <a:ext cx="4115160" cy="838080"/>
            <a:chOff x="2819160" y="2971800"/>
            <a:chExt cx="4115160" cy="838080"/>
          </a:xfrm>
        </p:grpSpPr>
        <p:sp>
          <p:nvSpPr>
            <p:cNvPr id="434" name=""/>
            <p:cNvSpPr/>
            <p:nvPr/>
          </p:nvSpPr>
          <p:spPr>
            <a:xfrm>
              <a:off x="4267080" y="2971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8191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4659-57AB-48F4-A33D-6C6CC14E6B1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666520" y="533520"/>
            <a:ext cx="3886560" cy="489600"/>
            <a:chOff x="2666520" y="533520"/>
            <a:chExt cx="3886560" cy="489600"/>
          </a:xfrm>
        </p:grpSpPr>
        <p:sp>
          <p:nvSpPr>
            <p:cNvPr id="439" name=""/>
            <p:cNvSpPr/>
            <p:nvPr/>
          </p:nvSpPr>
          <p:spPr>
            <a:xfrm>
              <a:off x="3886200" y="685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2666520" y="533520"/>
              <a:ext cx="1219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54C0-80DE-4C6D-B56F-1DB897920C9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1: interfac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class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me public interface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Implementatio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rf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s previous forward declaration (line 4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 *ptr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857320" y="1295280"/>
            <a:ext cx="4115160" cy="1554120"/>
            <a:chOff x="2857320" y="1295280"/>
            <a:chExt cx="4115160" cy="1554120"/>
          </a:xfrm>
        </p:grpSpPr>
        <p:sp>
          <p:nvSpPr>
            <p:cNvPr id="444" name=""/>
            <p:cNvSpPr/>
            <p:nvPr/>
          </p:nvSpPr>
          <p:spPr>
            <a:xfrm>
              <a:off x="4305240" y="129528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vid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re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573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62320" y="990720"/>
            <a:ext cx="4343400" cy="3048480"/>
            <a:chOff x="2362320" y="990720"/>
            <a:chExt cx="4343400" cy="3048480"/>
          </a:xfrm>
        </p:grpSpPr>
        <p:sp>
          <p:nvSpPr>
            <p:cNvPr id="447" name=""/>
            <p:cNvSpPr/>
            <p:nvPr/>
          </p:nvSpPr>
          <p:spPr>
            <a:xfrm>
              <a:off x="4038480" y="2971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quires 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5905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2362320" y="990720"/>
              <a:ext cx="167616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EAEA-BED1-4EA0-96A5-CF7E03517B5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2: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plementation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t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( v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s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-&gt;setValue( v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590560" y="1066680"/>
            <a:ext cx="4115160" cy="1128960"/>
            <a:chOff x="2590560" y="1066680"/>
            <a:chExt cx="4115160" cy="1128960"/>
          </a:xfrm>
        </p:grpSpPr>
        <p:sp>
          <p:nvSpPr>
            <p:cNvPr id="453" name=""/>
            <p:cNvSpPr/>
            <p:nvPr/>
          </p:nvSpPr>
          <p:spPr>
            <a:xfrm>
              <a:off x="403848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cludes header file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2590560" y="106668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523880" y="893880"/>
            <a:ext cx="4114800" cy="838080"/>
            <a:chOff x="1523880" y="893880"/>
            <a:chExt cx="4114800" cy="838080"/>
          </a:xfrm>
        </p:grpSpPr>
        <p:sp>
          <p:nvSpPr>
            <p:cNvPr id="456" name=""/>
            <p:cNvSpPr/>
            <p:nvPr/>
          </p:nvSpPr>
          <p:spPr>
            <a:xfrm>
              <a:off x="2971800" y="89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pointer to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523880" y="1046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14600" y="2971800"/>
            <a:ext cx="4114800" cy="838080"/>
            <a:chOff x="2514600" y="2971800"/>
            <a:chExt cx="4114800" cy="838080"/>
          </a:xfrm>
        </p:grpSpPr>
        <p:sp>
          <p:nvSpPr>
            <p:cNvPr id="459" name=""/>
            <p:cNvSpPr/>
            <p:nvPr/>
          </p:nvSpPr>
          <p:spPr>
            <a:xfrm>
              <a:off x="39625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146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0B75-9469-4CE4-B191-45CC8B5927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g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-&gt;ge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~Interfa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95480" y="76320"/>
            <a:ext cx="4114800" cy="838080"/>
            <a:chOff x="2895480" y="7632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76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228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28800" y="1600200"/>
            <a:ext cx="4114800" cy="838080"/>
            <a:chOff x="1828800" y="1600200"/>
            <a:chExt cx="4114800" cy="838080"/>
          </a:xfrm>
        </p:grpSpPr>
        <p:sp>
          <p:nvSpPr>
            <p:cNvPr id="467" name=""/>
            <p:cNvSpPr/>
            <p:nvPr/>
          </p:nvSpPr>
          <p:spPr>
            <a:xfrm>
              <a:off x="32767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allocate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8288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F091-4A0D-4E54-869B-59469991BD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3: fig07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ding a class’s private data with a proxy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 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 contain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rface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contains: 5 before set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 contains: 10 after setVa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438280" y="990720"/>
            <a:ext cx="4114800" cy="837720"/>
            <a:chOff x="2438280" y="990720"/>
            <a:chExt cx="4114800" cy="837720"/>
          </a:xfrm>
        </p:grpSpPr>
        <p:sp>
          <p:nvSpPr>
            <p:cNvPr id="473" name=""/>
            <p:cNvSpPr/>
            <p:nvPr/>
          </p:nvSpPr>
          <p:spPr>
            <a:xfrm>
              <a:off x="38862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include proxy class header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43828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438280" y="1828800"/>
            <a:ext cx="4114800" cy="1067400"/>
            <a:chOff x="2438280" y="1828800"/>
            <a:chExt cx="4114800" cy="1067400"/>
          </a:xfrm>
        </p:grpSpPr>
        <p:sp>
          <p:nvSpPr>
            <p:cNvPr id="476" name=""/>
            <p:cNvSpPr/>
            <p:nvPr/>
          </p:nvSpPr>
          <p:spPr>
            <a:xfrm>
              <a:off x="388620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of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note no men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4382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886200" y="3200400"/>
            <a:ext cx="4114800" cy="949320"/>
            <a:chOff x="3886200" y="3200400"/>
            <a:chExt cx="4114800" cy="949320"/>
          </a:xfrm>
        </p:grpSpPr>
        <p:sp>
          <p:nvSpPr>
            <p:cNvPr id="479" name=""/>
            <p:cNvSpPr/>
            <p:nvPr/>
          </p:nvSpPr>
          <p:spPr>
            <a:xfrm>
              <a:off x="533412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member functions via proxy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8862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038120" y="3200400"/>
              <a:ext cx="12956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FF57-3760-43C0-8919-3991EA2B70F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: tim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our, minute, second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9688-B601-4519-BF0A-389F5D9D0C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ou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inu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31D2-3C94-423B-8573-514DD7C59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9:33:48Z</dcterms:created>
  <dc:creator>Audrey Lee</dc:creator>
  <dc:description/>
  <dc:language>en-US</dc:language>
  <cp:lastModifiedBy>Pearson Education</cp:lastModifiedBy>
  <dcterms:modified xsi:type="dcterms:W3CDTF">2002-08-08T15:24:54Z</dcterms:modified>
  <cp:revision>109</cp:revision>
  <dc:subject/>
  <dc:title>Chapter 7: Classes Part II</dc:title>
</cp:coreProperties>
</file>