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05ADD-B129-4518-8B35-58FD2E074E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52CCA-C55E-4F93-94CF-1E165459E3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148E4-0E2E-49B4-81FF-9274084BED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1BD1A-2DBA-4E8A-B8FE-C411D7BE61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7C4DE-807B-4AA8-A567-4E5BB02D67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E1E6C-DC49-45A1-9798-3C4E2D1402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50CD6-C15E-40A4-80AD-75858A4219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D2A71-F37E-4145-965C-55A8E0F74D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8945E-AE6F-427D-8F85-F33E8FBC53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C1C8B-ECAC-4220-B989-0A2A0BCCC9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4FB9E-7771-4FB8-B24F-D572D83FDA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4B95E-F1A3-4368-92E7-DBC14828A6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E8758-6953-4D63-A4A2-BC98205E3F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A5A66-1CB5-465B-8E1D-36BD422A39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B85FB-9761-4312-A106-481366BAE3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A0885-A4CD-4FD3-A386-F08C8FE6CD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C6FBF-D2CF-40BE-8C71-63F30FDCC3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B24F1-1F81-4D00-BE27-E651943796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4866E-A136-41F0-9916-967D3FE093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DAFF0-6565-4C29-9F07-E77A52BB41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22F85-106D-41C3-8B70-443BDA0226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A7702-8EFB-4CA4-9B3F-6F5D429514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E82A8-FCB6-4EFC-8DC8-81DD0CED74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056A6-57B5-448F-8301-B9435B80F6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EAC6-9E54-4E99-80E0-7DF2030A5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185C-5473-4B83-867C-6725D89DD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9 - The Preprocessor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297080"/>
            <a:ext cx="7772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9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9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he #include Preprocessor Dir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9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he #define Preprocessor Directive: Symbolic Const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9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he #define Preprocessor Directive: Mac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9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onditional Comp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9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he #error and #pragma Preprocessor Dir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9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he # and ## Ope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9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Line Nu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9.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redefined Symbolic Const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9.10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Asser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62209-EAF2-4C48-9F16-D78CBD71719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ditional Compil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preprocessor directives and compi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evaluate cast expressions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zeo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enumeration consta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 similar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f !defined( NULL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define NULL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end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termines if symbolic consta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ef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efined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fined( NULL 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valuates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def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tement skip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herwi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def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tement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i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nds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A1E07-3150-4D2A-AD3F-53406F32DE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ditional Compil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eli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"else if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brevi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ifde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hort f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f defined(na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ifnde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hort f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f !defined(na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1C3A9-C35D-4B8A-87C0-D5B3CE851E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ditional Compil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Comment out"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* ... */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ith C-style com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nes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tead, 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f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code commented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enable code, chang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F09ED-EE45-475B-B5BB-AD3354A449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ditional Compil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ugg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define DEBUG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fdef DE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err &lt;&lt; "Variable x = " &lt;&lt; x &lt;&lt; 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end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BU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nables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fter code correc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def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bugging statements are now igno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368F6-968D-4153-8BD0-BC23B1DFD7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#error and #pragma Preprocessor Directiv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#error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 tok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ts implementation-dependent mess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kens are groups of characters separated by sp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error 1 - Out of range err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6 tok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ation may stop (depends on compil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#pragma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 tok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tions depend on compi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use compiler-specific op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recogniz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pragm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are igno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53DF2-23DD-403F-9826-992B46DEE4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# and ##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lacement text token converted to string with quo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define HELLO( x ) cout &lt;&lt; "Hello, " #x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ELLO( JOHN 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eco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"Hello, " "John"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ame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"Hello, John"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#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catenates two toke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TOKENCONCAT( x, y )  x ## y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OKENCONCAT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O,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beco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CEB0F-EF6A-41E4-9C13-B1435A83B7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Line Numb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#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numbers subsequent code lines, starting with inte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line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e name can be inclu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line 100 "file1.cpp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 source code line is number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rror purposes, file name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file1.cpp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make syntax errors more meaningf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numbers do not appear in sourc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14335-061A-4125-92D2-7C81D2283B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edefined Symbolic Consta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ve predefined symbolic const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be used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defin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unde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1120" y="2211480"/>
          <a:ext cx="7743600" cy="386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2211480"/>
                    <a:ext cx="774360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287AF-F683-468F-A963-3322E64921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10  Asser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sse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mac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cassert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sts value of an expres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prints error message,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inates program, prints line number and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 for checking for illegal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program continues as 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ssert( x &lt;= 10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mov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sse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need to delete them manual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define NDEBU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subseque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sse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tements igno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03783-FF74-4864-9C64-4AE3A602D8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1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ccurs before program compi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sion of external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ition of symbolic const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tional compi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tional 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directives begin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have whitespace before dir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rectives not C++ stat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end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56CE1-9A97-4306-A1EC-4EB323A72C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#include Preprocessor Directiv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#inclu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ts copy of file in place of direc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n many times in exampl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wo for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&lt;file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standard library header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es predesignated dir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"filenam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es in current 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ly used for programmer-defined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39EBF-CB05-4CF3-8FFD-1498B281BA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#include Preprocessor Directiv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ading header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&lt;iostream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s with multiple source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mmon declarations and defin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es, structures, enumerations, function proto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 commonality of multiple program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9CF62-A687-48C3-BBF8-A0ECF5A39F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#define Preprocessor Directive: Symbolic Consta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ymbolic consta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ants represented as symb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program compiled, all occurrences repla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dentifier replacement-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PI 3.141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thing to right of identifier replaces tex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PI=3.141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Replac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"=3.14159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robably an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annot redefine symbolic consta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87EA5-13DB-40BA-89BD-605EE80C84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#define Preprocessor Directive: Symbolic Consta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s no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 not be seen by debugger (only replacement tex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 not have specific data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ables prefer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A5EE1-1A2A-4A78-8C57-EA9ED29937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#define Preprocessor Directive: Macro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ion specified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def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nded for legacy C progr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cro without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eated like a symbolic 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cro with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guments substituted for replacement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ro expan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s a text substitu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data type che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35EDE-BD4E-4169-A0C2-F8B38F8F34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#define Preprocessor Directive: Macro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define CIRCLE_AREA( x ) ( PI * ( x ) * ( x )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ea = CIRCLE_AREA( 4 )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co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ea = ( 3.14159 * ( 4 ) * ( 4 ) 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parenthe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thout them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CIRCLE_AREA( x )  PI * x *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rea = CIRCLE_AREA( c + 2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eco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= 3.14159 * c + 2 * c + 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evaluates incorrectly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DD230-08E7-470C-B0DF-0BEA7E033D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#define Preprocessor Directive: Macro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ultiple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RECTANGLE_AREA( x, y )  ( ( x ) * ( y )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ctArea = RECTANGLE_AREA( a + 4, b + 7 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eco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ctArea = ( ( a + 4 ) * ( b + 7 ) );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#und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defines symbolic constant or mac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later be redef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76A1C-4A66-4087-8B66-66E7EB0BF1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9T18:28:48Z</dcterms:created>
  <dc:creator>kalid</dc:creator>
  <dc:description/>
  <dc:language>en-US</dc:language>
  <cp:lastModifiedBy>Pearson Education</cp:lastModifiedBy>
  <dcterms:modified xsi:type="dcterms:W3CDTF">2002-08-29T20:10:18Z</dcterms:modified>
  <cp:revision>209</cp:revision>
  <dc:subject/>
  <dc:title>Chapter 19 - The Preprocessor</dc:title>
</cp:coreProperties>
</file>