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8429-0A15-43A9-BCCD-1286AD262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D698-569C-4092-A36D-39E006F95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8147-5B0E-4998-8BD8-4753759E3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DF19-6B12-41BF-B2C6-3898D2E46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3A5A5-421A-449B-A8FE-EC520610F8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1F2F2-B251-49AC-8118-41C85AE42E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00E3-0CF2-4578-9E2E-40E004A22C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B669D-4D5F-4D2D-86E7-B9C05F9189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350D-9CE3-4218-9E6C-E6128EC34F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82B6-4C92-4B8A-8025-99E26DED86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9158-8981-4F30-B1A7-0094361065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A66F-9D99-4703-B2BA-299606227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A403B-E5D0-4D6F-85D4-A258187144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E5F1-EBC5-4C9D-AC3A-68506DE388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03C12-37A9-4196-AA15-709563483D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B32E6-3137-4EE9-BF3D-3DA13443FD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862E-1207-4E72-B5CA-231438B22B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C2E8-5D5B-466E-8DA7-A3F29B2D3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5688-F7C6-4E43-B5B4-15A3917B1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1DD2-D2F7-4CAB-BC29-19EB996D6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F467-157E-4115-9825-B073A5AFC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4104-0224-4455-B82E-A4F4CC550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B06A-2398-403C-8A48-368BAF5CA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48E0-5D90-4C68-85C5-8F15FAA76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6A2E-8D6A-4709-9825-1FABA9BCB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D732-BD2D-485C-9DEB-C44371907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13 - Exception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Exception-Handling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Other Error-Handl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4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imple Exception-Handling Example: Divide by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5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Rethrowing an 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6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Exception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7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Processing Unexpected Exce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8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ack Unw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9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nstructors, Destructors and Exception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10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Exceptions and Inher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1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Processing new Fail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1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lass auto_ptr and Dynamic Memory Al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1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andard Library Exception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FE6F-B7E6-4BEA-B6F5-42B2816C42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Exception-Handling Example: Divide by Zer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 divide-by-zero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new exception cla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ideByZero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division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denom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zero, throw excepti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empt to di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enclo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ideByZeroExce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0DCF-1123-482B-AF87-C6E06A71AA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1: fig13_0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simple exception-handling example that checks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vide-by-zero excep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exce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videByZeroException objects should be thrown by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on detecting division-by-zero exceptions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videByZeroException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 {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specifies default error message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videByZeroException::DivideByZeroException()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tempted to divide by zero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ivideByZeroException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76360" y="1816200"/>
            <a:ext cx="3353040" cy="2450880"/>
            <a:chOff x="3276360" y="1816200"/>
            <a:chExt cx="3353040" cy="2450880"/>
          </a:xfrm>
        </p:grpSpPr>
        <p:sp>
          <p:nvSpPr>
            <p:cNvPr id="110" name=""/>
            <p:cNvSpPr/>
            <p:nvPr/>
          </p:nvSpPr>
          <p:spPr>
            <a:xfrm>
              <a:off x="3962520" y="18162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new exception class (inherit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Pass a descriptive message to the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276360" y="2286000"/>
              <a:ext cx="685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76360" y="2286000"/>
              <a:ext cx="6858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739B-64A5-460D-B818-C589C3B75A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form division and throw DivideByZeroException object 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vide-by-zero exception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ot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erato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nominat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w DivideByZeroException if trying to divide by zer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enominato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videByZeroException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terminate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division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numerator ) / denomin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quot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-specified num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2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-specified denomin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of div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wo integers (end-of-file to end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285640" y="1752120"/>
            <a:ext cx="3810240" cy="1891440"/>
            <a:chOff x="2285640" y="1752120"/>
            <a:chExt cx="3810240" cy="1891440"/>
          </a:xfrm>
        </p:grpSpPr>
        <p:sp>
          <p:nvSpPr>
            <p:cNvPr id="116" name=""/>
            <p:cNvSpPr/>
            <p:nvPr/>
          </p:nvSpPr>
          <p:spPr>
            <a:xfrm>
              <a:off x="2971800" y="281952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the denominator is zero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r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ivideByZero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285640" y="17521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CA6C6-06A4-480C-8E0F-304FFB16EA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able user to enter two integers to divi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in &gt;&gt; number1 &gt;&gt; number2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y block contains code that might throw exception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code that should not execute if an exception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quotient( number1, number2 )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quotient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esult &lt;&lt; endl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ception handler handles a divide-by-zero exception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ivideByZeroException &amp;divideByZeroException )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divideByZeroException.what() &lt;&lt; endl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tch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two integers (end-of-file to end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norm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361960" y="3429000"/>
            <a:ext cx="4038840" cy="3107520"/>
            <a:chOff x="2361960" y="3429000"/>
            <a:chExt cx="4038840" cy="3107520"/>
          </a:xfrm>
        </p:grpSpPr>
        <p:sp>
          <p:nvSpPr>
            <p:cNvPr id="121" name=""/>
            <p:cNvSpPr/>
            <p:nvPr/>
          </p:nvSpPr>
          <p:spPr>
            <a:xfrm>
              <a:off x="3429000" y="3765600"/>
              <a:ext cx="2971800" cy="2770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structur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s.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 can cat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ivideByZero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, and print an error message. If no exception occurs,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 is skipp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h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the string describing the exce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361960" y="3429000"/>
              <a:ext cx="106668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B7A8B-0937-44B9-B034-E434CA9212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 (end-of-file to end): 100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quotient is: 14.285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 (end-of-file to end): 100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occurred: attempted to divide by zer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 (end-of-file to end): ^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93D93-8D3B-4A6E-B907-FA267ACCB4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throwing an Excep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hrowing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when exception handler cannot process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still rethrow if handler did som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rethrow exception to another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to next enclo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s try to ha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th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tatement 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;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3A8D-FA01-45BD-A7B7-E22D9945D9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2: fig13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exception rethrow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exce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row, catch and rethrow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owExcep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w exception and catch it immediate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Function throwException throws an excep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ate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exception &amp;caugh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Exception handled in function throwExceptio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Function throwException rethrows excep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hrow exception for further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99840" y="1905120"/>
            <a:ext cx="4648680" cy="4038480"/>
            <a:chOff x="1599840" y="1905120"/>
            <a:chExt cx="4648680" cy="4038480"/>
          </a:xfrm>
        </p:grpSpPr>
        <p:sp>
          <p:nvSpPr>
            <p:cNvPr id="130" name=""/>
            <p:cNvSpPr/>
            <p:nvPr/>
          </p:nvSpPr>
          <p:spPr>
            <a:xfrm>
              <a:off x="3581280" y="190512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ception handler generates a default exception (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It immediately catches and rethrows it (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row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362320" y="2514600"/>
              <a:ext cx="12189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599840" y="2514600"/>
              <a:ext cx="198108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36C3-B6FD-4E0F-9118-1CDDA54D38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also should not prin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hrow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w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in invokes function throwExcep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ow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should not prin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&amp;caugh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xception handled in mai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gram control continues after catch in mai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514600" y="533160"/>
            <a:ext cx="3657600" cy="1433880"/>
            <a:chOff x="2514600" y="533160"/>
            <a:chExt cx="3657600" cy="1433880"/>
          </a:xfrm>
        </p:grpSpPr>
        <p:sp>
          <p:nvSpPr>
            <p:cNvPr id="136" name=""/>
            <p:cNvSpPr/>
            <p:nvPr/>
          </p:nvSpPr>
          <p:spPr>
            <a:xfrm>
              <a:off x="3505320" y="1143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should never be reached, sin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r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mmediately exits the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2514600" y="533160"/>
              <a:ext cx="9907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590920" y="2438280"/>
            <a:ext cx="4038480" cy="976680"/>
            <a:chOff x="2590920" y="2438280"/>
            <a:chExt cx="4038480" cy="976680"/>
          </a:xfrm>
        </p:grpSpPr>
        <p:sp>
          <p:nvSpPr>
            <p:cNvPr id="139" name=""/>
            <p:cNvSpPr/>
            <p:nvPr/>
          </p:nvSpPr>
          <p:spPr>
            <a:xfrm>
              <a:off x="3962520" y="2590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row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hrows an exception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is caught and hand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590920" y="243828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5EF1-8C26-490B-9775-DCE42399DE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invokes function throw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hrowException throws an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handled in function throw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hrowException rethrow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handled i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control continues after catch i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C192-D027-47F1-A9AA-6C3FE59423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ception Specif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exceptions function can th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throw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omeFunction( double value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 ( ExceptionA, ExceptionB, ExceptionC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// function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thr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nd derived class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rows other type,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exp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default, terminates program (more 13.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 throw list, can throw any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empty throw list, cannot throw any excep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D837-479E-471F-9367-BE6FF938C5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problem occurred in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com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"exception" to a program that usually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olve excep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may be able to contin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ed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fault-tolerant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n example, we will handle a divide-by-zero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DA71-4B8B-4851-ADAA-8A74B3B954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cessing Unexpected Excep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s function register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unexp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rmin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termin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what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rmin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default,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redefined, still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fter new function fini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s for se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pointer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must take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1841-1746-46E2-B408-AD40F1D123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ack Unwin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xception thrown but not ca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es to enclo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es current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winds function call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k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can handle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ne found, unwinds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xception never ca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rmin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E2C9-D45C-41BF-B7D2-74C476658D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3: fig13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ack unwind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dexcep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untime_err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3 throws run-time err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3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untime_err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time_err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untime_error in function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ur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2 invokes function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2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untime_err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3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971800" y="1981080"/>
            <a:ext cx="4114800" cy="1219320"/>
            <a:chOff x="2971800" y="1981080"/>
            <a:chExt cx="4114800" cy="1219320"/>
          </a:xfrm>
        </p:grpSpPr>
        <p:grpSp>
          <p:nvGrpSpPr>
            <p:cNvPr id="152" name=""/>
            <p:cNvGrpSpPr/>
            <p:nvPr/>
          </p:nvGrpSpPr>
          <p:grpSpPr>
            <a:xfrm>
              <a:off x="2971800" y="1981080"/>
              <a:ext cx="4114800" cy="1067400"/>
              <a:chOff x="2971800" y="1981080"/>
              <a:chExt cx="4114800" cy="1067400"/>
            </a:xfrm>
          </p:grpSpPr>
          <p:sp>
            <p:nvSpPr>
              <p:cNvPr id="153" name=""/>
              <p:cNvSpPr/>
              <p:nvPr/>
            </p:nvSpPr>
            <p:spPr>
              <a:xfrm>
                <a:off x="4419720" y="1981080"/>
                <a:ext cx="2666880" cy="1067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te the use of the throw list. Throws a runtime error exception, defined i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&lt;stdexcept&gt;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971800" y="2133720"/>
                <a:ext cx="14479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H="1">
              <a:off x="4114440" y="2133720"/>
              <a:ext cx="304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4F1F-F129-417B-BAF4-B6D3253BF8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1 invokes function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1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untime_err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2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stack unw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function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unction1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run-time err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untime_error &amp;error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f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rror.what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63868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occurred: runtime_error in function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981080" y="1752480"/>
            <a:ext cx="4114800" cy="1554120"/>
            <a:chOff x="1981080" y="1752480"/>
            <a:chExt cx="4114800" cy="1554120"/>
          </a:xfrm>
        </p:grpSpPr>
        <p:sp>
          <p:nvSpPr>
            <p:cNvPr id="160" name=""/>
            <p:cNvSpPr/>
            <p:nvPr/>
          </p:nvSpPr>
          <p:spPr>
            <a:xfrm>
              <a:off x="3429000" y="175248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unction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unction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hich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unction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e exception occurs, and unwinds until an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 can be fou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98108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B9CE-147B-4A92-B8FC-418B2180DD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ructors, Destructors and Exception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in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ails; cannot allocate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turn a value - how to inform us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pe user examines object, notices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some global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alternative: throw an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s automatically called for member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for automatic variable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tch exceptions in de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9AFD-4D4F-479D-8EA4-4F1097B048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0  Exceptions and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derived from bas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handle base class, can handle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morphic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C1E4-D13D-45F6-A612-F926072BEA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1  Processing new Fail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ils to ge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d_allo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ew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compilers hav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 depends on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28CA-ED3D-486E-8EB9-47EB42EB20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4: fig13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pre-standard new returning 0 when memor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is not allocat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llocate memory for 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w returns 0 on failure to allocat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tr[ i ]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mory allocation failed for ptr[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819520" y="2895480"/>
            <a:ext cx="4114800" cy="838440"/>
            <a:chOff x="2819520" y="2895480"/>
            <a:chExt cx="4114800" cy="838440"/>
          </a:xfrm>
        </p:grpSpPr>
        <p:sp>
          <p:nvSpPr>
            <p:cNvPr id="171" name=""/>
            <p:cNvSpPr/>
            <p:nvPr/>
          </p:nvSpPr>
          <p:spPr>
            <a:xfrm>
              <a:off x="4267440" y="2895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monstr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hat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n allocation failu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81952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0CB2-D215-4E2A-AB49-5B6909D5AD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ccessful memory al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ocated 5000000 doubles in ptr[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43828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0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1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2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3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mory allocation failed for ptr[ 4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41B99-383B-41CE-BDB7-5E3101141B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5: fig13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andard new throwing bad_alloc when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not be allocat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operator n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ad_allo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ttempt to allocat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cate memory for ptr[ i ]; new throws bad_allo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</a:t>
            </a: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on fail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tr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ocated 5000000 doubles in ptr[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18960" y="3124080"/>
            <a:ext cx="4115160" cy="838440"/>
            <a:chOff x="1218960" y="3124080"/>
            <a:chExt cx="4115160" cy="838440"/>
          </a:xfrm>
        </p:grpSpPr>
        <p:sp>
          <p:nvSpPr>
            <p:cNvPr id="179" name=""/>
            <p:cNvSpPr/>
            <p:nvPr/>
          </p:nvSpPr>
          <p:spPr>
            <a:xfrm>
              <a:off x="2666880" y="3124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monstr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hat throws an exce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218960" y="3276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6BD6-F707-4946-83CB-78B2FB161C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ception-Handling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receding task did not execute correctly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erro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next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receding task did not execute correctly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error process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ing logic and error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make program difficult to read/debu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ception handling removes error correction from "main line" of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5552-F6E0-44B3-AA8D-10E2709FB0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bad_alloc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bad_alloc &amp;memoryAllocation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memoryAllocationException.what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590920"/>
            <a:ext cx="7010280" cy="1447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0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1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2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3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occurred: Allocation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1C63F-38D0-42B5-B9AC-CD8AAF8797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1  Processing new Fail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_new_hand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new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ister function to call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function pointer to function th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ce registered, function called instead of throwing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DDCB-811B-4182-8153-27BC10C10D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6: fig13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et_new_handl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operator new and set_new_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_new_hand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ort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NewHandler()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stomNewHandler was call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bort()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et_new_handler to handle failed memory al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600200" y="2209680"/>
            <a:ext cx="4114800" cy="838440"/>
            <a:chOff x="1600200" y="2209680"/>
            <a:chExt cx="4114800" cy="838440"/>
          </a:xfrm>
        </p:grpSpPr>
        <p:sp>
          <p:nvSpPr>
            <p:cNvPr id="189" name=""/>
            <p:cNvSpPr/>
            <p:nvPr/>
          </p:nvSpPr>
          <p:spPr>
            <a:xfrm>
              <a:off x="3048120" y="22096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custom handler must take no arguments and 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6002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D68DF-CF28-4D74-A656-9738CC04A1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that customNewHandler should be called on fai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mory allocation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_new_handler( customNewHandler 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llocate memory for ptr[ i ]; customNewHandler will b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called on failed memory al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ocated 5000000 doubles in ptr[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962520"/>
            <a:ext cx="701028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0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1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2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3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NewHandler wa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437920" y="838080"/>
            <a:ext cx="3429360" cy="2257200"/>
            <a:chOff x="2437920" y="838080"/>
            <a:chExt cx="3429360" cy="2257200"/>
          </a:xfrm>
        </p:grpSpPr>
        <p:sp>
          <p:nvSpPr>
            <p:cNvPr id="195" name=""/>
            <p:cNvSpPr/>
            <p:nvPr/>
          </p:nvSpPr>
          <p:spPr>
            <a:xfrm>
              <a:off x="3200400" y="2514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_new_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838080"/>
              <a:ext cx="7621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A44E-3BBA-4EA4-A795-B4D13BCE8F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2  Class auto_ptr and Dynamic Memory Allo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 pointer, allocate memory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if exception occurs before you c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le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uto_p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memor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regular pointers (h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pointer goes out of scope, cal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s memory lea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uto_ptr&lt; MyClass &gt; newPointer( new MyClass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Poi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dynamically allocated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C1AF-B3EF-4EDA-BCA2-9BCBC2DA9B4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7: fig13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auto_pt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memo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auto_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uto_ptr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g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value( i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structor for Integ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g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B69A-3E12-43A8-8BA6-025786F924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ger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Integ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structor for Integ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ger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unction to set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nte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=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unction to retur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nteg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46C1-AEF5-4784-9BB4-B0AA8FD65FB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auto_ptr to manipulate Integ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ing an auto_ptr object that points to an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"aim" auto_ptr at Integer object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uto_ptr&lt; Integer &gt; ptrToInte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sing the auto_ptr to manipulate the 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auto_ptr to set Integ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ToInteger-&gt;set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auto_ptr to get Integ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 after set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*ptrToInteger ).getInteg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erminating progr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47760" y="838080"/>
            <a:ext cx="4115160" cy="838440"/>
            <a:chOff x="3047760" y="838080"/>
            <a:chExt cx="4115160" cy="838440"/>
          </a:xfrm>
        </p:grpSpPr>
        <p:sp>
          <p:nvSpPr>
            <p:cNvPr id="206" name=""/>
            <p:cNvSpPr/>
            <p:nvPr/>
          </p:nvSpPr>
          <p:spPr>
            <a:xfrm>
              <a:off x="4495680" y="838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uto_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can be manipulated like a regular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047760" y="990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267080" y="3048120"/>
            <a:ext cx="4114800" cy="1554120"/>
            <a:chOff x="4267080" y="3048120"/>
            <a:chExt cx="4114800" cy="1554120"/>
          </a:xfrm>
        </p:grpSpPr>
        <p:sp>
          <p:nvSpPr>
            <p:cNvPr id="209" name=""/>
            <p:cNvSpPr/>
            <p:nvPr/>
          </p:nvSpPr>
          <p:spPr>
            <a:xfrm>
              <a:off x="5715000" y="304812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not explicitly called, b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uto_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ll be destroyed once it leaves scope. Thus, the destructor fo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ll b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2670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CCEF5-6800-4456-A699-95B5B9CAB9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an auto_ptr object that points to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ructor for Integer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auto_ptr to manipulate the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after setInteger: 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ing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 for Integer 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0DE5-1FEE-4C06-BF4F-C8807E0B1F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3  Standard Library Exception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tual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verridden to provide error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ple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untime_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ic_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_all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_ca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_typ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wn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ynamic_c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atch all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(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( exception AnyExcep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not catch user-defined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7D38-A08A-4EF2-98C5-55C085CBC87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ception-Handling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ynchronous errors (divide by zero, null poin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handle asynchronous errors (independent of prog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I/O, mouse, keyboard, network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 to handle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that has err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rows an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xception handl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if it exists) can deal with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tch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and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 exception handler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ncaugh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terminat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1569-9ED5-43B7-AFB1-660077D37B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ception-Handling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de that may raise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exceptionTyp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de to handle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 encloses code that may raise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or m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s foll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 and handle exception, if appropr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parameter; if named, can access exceptio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4CBD-7144-4945-BD80-9ECF84F5D6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ception-Handling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 where exception occur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exception hand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skips remainder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mes af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hand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s for enclo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 (stack unwinding, 13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skip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8364-0D44-488A-8625-A170F7846C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ther Error-Handling Techniq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e 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ical for personal (not commercial)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may f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rt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appropri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appropriate for mission-critical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error 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fortunately, may not test for these when necess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or error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 exit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nd pass error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9D25-71B3-43B6-994F-7F54A70F24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ther Error-Handling Techniq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jum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ngjum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etjm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ump from deeply nested function to call error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danger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dicated error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have a special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ussed 13.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E68D-D67A-4AFC-ACBE-50CD7C430C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Exception-Handling Example: Divide by Zer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ws an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when error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throw almost anything (exception object, integer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my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 can take a string (to describe excep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at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that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ABE8-E55C-468E-8D2E-679C9C75B1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9:54:53Z</dcterms:created>
  <dc:creator>kalid</dc:creator>
  <dc:description/>
  <dc:language>en-US</dc:language>
  <cp:lastModifiedBy>UAGUIMA</cp:lastModifiedBy>
  <dcterms:modified xsi:type="dcterms:W3CDTF">2002-08-15T19:22:02Z</dcterms:modified>
  <cp:revision>427</cp:revision>
  <dc:subject/>
  <dc:title>fig13_01.cpp (1 of 3)  </dc:title>
</cp:coreProperties>
</file>