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41E0-BA1B-4DD8-9092-A927A862A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2051-575E-40A5-A7E6-DB449AD2F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3D94-C9C6-4654-9382-E82317BD2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3106-C98C-4EF2-81B8-BC9D09A78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423D-E732-4F0A-8E11-77CADE71C8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44B1-2E26-4A90-8B4E-CA1010136F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A297-3DB9-4EE8-95C0-2D40B64AE3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AB2D-99F7-4926-91B1-4A2A49054D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1CEB-1F0D-4172-98E9-3DC06BB8AB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B6E1-E4AA-4E58-BA3A-A6F5FC384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F691-314B-4208-91E3-E613710F1F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3096-4A72-46E9-B93E-19F6A2361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710D-DD55-4C25-A044-3868EAF660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7844-76EE-484C-91F7-5CAA82B75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D6DA-3194-49C1-BC63-FCCB934227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6A37-9073-4F42-B849-95560EC10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D068-2B5E-4C94-9EFB-E72A404D0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7B89-68F4-4885-B8EE-E20882E05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32D8-5CA0-459F-A1DD-150745B66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D060-D1B4-40FB-8F5F-AFAF4F810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D13C-099D-4936-8B61-878AB0142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E331-F4CA-46B7-95E9-DCD9C077D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C3F8-4EDD-4B4F-834F-82FEBC1F2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93CF-DECA-4AE0-B798-025937142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6A9D-D01F-4AF2-BBB1-946D7842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79C-B7FC-4A34-BE53-5E919BD8D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 - Class string and String Stream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01760"/>
            <a:ext cx="7772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Assignment and 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mparing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ub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wapping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inding Strings and Characters in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placing Characters in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serting Characters into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version to C-Style char *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t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Stream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6876-390A-43A3-8A45-C5AD5FCAA6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aring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compare(s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sitiv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exicographically gre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letter by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xicographically greater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gative if less, zero if eq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mpare(start, length, s2, start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mpare(start, length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ll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DDDB-B3A2-45FE-A05F-AA6D0361C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2: fig15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comparison capabilit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comparison function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i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8EB7-208E-4891-B37C-A61E6427B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== string4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=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ring1 != string4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&gt; string4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g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1 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l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1 and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string1.compare(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7760" y="1440000"/>
            <a:ext cx="5867640" cy="1379880"/>
            <a:chOff x="3047760" y="1440000"/>
            <a:chExt cx="5867640" cy="1379880"/>
          </a:xfrm>
        </p:grpSpPr>
        <p:sp>
          <p:nvSpPr>
            <p:cNvPr id="129" name=""/>
            <p:cNvSpPr/>
            <p:nvPr/>
          </p:nvSpPr>
          <p:spPr>
            <a:xfrm>
              <a:off x="4495680" y="1440000"/>
              <a:ext cx="441972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Testing the comparison function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stin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 &gt; string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047760" y="1440000"/>
              <a:ext cx="1447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8120" y="685800"/>
            <a:ext cx="4038480" cy="590400"/>
            <a:chOff x="3048120" y="685800"/>
            <a:chExt cx="4038480" cy="590400"/>
          </a:xfrm>
        </p:grpSpPr>
        <p:sp>
          <p:nvSpPr>
            <p:cNvPr id="132" name=""/>
            <p:cNvSpPr/>
            <p:nvPr/>
          </p:nvSpPr>
          <p:spPr>
            <a:xfrm>
              <a:off x="441972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overloa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48120" y="990720"/>
              <a:ext cx="13716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5DE7-6362-4125-8C63-65FEFE830E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(elements 2-5) and string3 (elements 0-5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1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4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.length(),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g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l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2840" y="664920"/>
            <a:ext cx="3810240" cy="337680"/>
            <a:chOff x="2742840" y="664920"/>
            <a:chExt cx="3810240" cy="337680"/>
          </a:xfrm>
        </p:grpSpPr>
        <p:sp>
          <p:nvSpPr>
            <p:cNvPr id="137" name=""/>
            <p:cNvSpPr/>
            <p:nvPr/>
          </p:nvSpPr>
          <p:spPr>
            <a:xfrm>
              <a:off x="3886200" y="66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42840" y="6649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DB7D-DF1B-43F6-95A7-3CA624BBC1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2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g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l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767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Testing the comparison fu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st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&gt;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string2 )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2, 5, string3, 0, 5 ) =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.compare( 0, string2.length(), string2 ) =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.compare( 0, 3, string4 )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CBA5-4C1F-412D-9F95-D34A26776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b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s sub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substr(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beginning with inde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ub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6548-A906-4EE0-8301-ADEF659409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3: fig15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 subs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irplane landed on tim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rieve substring "plane"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gins at subscript 7 and consists of 5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3103560"/>
            <a:ext cx="4572000" cy="858960"/>
            <a:chOff x="3429000" y="3103560"/>
            <a:chExt cx="4572000" cy="858960"/>
          </a:xfrm>
        </p:grpSpPr>
        <p:sp>
          <p:nvSpPr>
            <p:cNvPr id="148" name=""/>
            <p:cNvSpPr/>
            <p:nvPr/>
          </p:nvSpPr>
          <p:spPr>
            <a:xfrm>
              <a:off x="5334120" y="310356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ag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ub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9000" y="327672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A8DE-C3B7-4A0F-84AF-1A3C726B77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wapping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swap(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tch contents of tw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65B8-FD39-4D08-967D-AC5DD5545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4: fig15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swap function to swap two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w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.swap( secon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cond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33360" y="3733920"/>
            <a:ext cx="4115160" cy="838080"/>
            <a:chOff x="2133360" y="3733920"/>
            <a:chExt cx="4115160" cy="838080"/>
          </a:xfrm>
        </p:grpSpPr>
        <p:sp>
          <p:nvSpPr>
            <p:cNvPr id="155" name=""/>
            <p:cNvSpPr/>
            <p:nvPr/>
          </p:nvSpPr>
          <p:spPr>
            <a:xfrm>
              <a:off x="3581280" y="37339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3886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10B9B-826F-4812-94C8-08129FD0DC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5851-361B-42C5-ACC5-669344BBC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ic_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manipulation (copying, searching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basic_string&lt; char 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1( "Hello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2( 8, 'x'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'x'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month = "March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call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18B0-5866-43C8-9B65-D63C2FF000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Characteristic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size(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s i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apacit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elements that can be stored without re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max_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ossible string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empty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size(new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zes string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47EE-549C-48CB-9FC5-68D60931C3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5: fig15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member functions related to size and capac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istics before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tomato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nter a 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entered w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4BC6-A65E-4F8C-AC9A-D4B4CBF0CA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tistics after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soup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maining string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46 characters to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90abcdefghijklmnopqrstuvwxyz123456789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ing1 is now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10 elements to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resize( string1.leng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ats after resizing by (length + 10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504960" y="2590920"/>
            <a:ext cx="2895840" cy="838080"/>
            <a:chOff x="3504960" y="2590920"/>
            <a:chExt cx="2895840" cy="838080"/>
          </a:xfrm>
        </p:grpSpPr>
        <p:sp>
          <p:nvSpPr>
            <p:cNvPr id="166" name=""/>
            <p:cNvSpPr/>
            <p:nvPr/>
          </p:nvSpPr>
          <p:spPr>
            <a:xfrm>
              <a:off x="4952880" y="25909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ize str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504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5530-9F88-43A2-964C-92137D5AD5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ring statistic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paci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capacity(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x 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max_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size()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ength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length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mp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empt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Statistic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438280"/>
            <a:ext cx="7010280" cy="358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before in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tring: tomato 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entered was: tom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after in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00600" y="152280"/>
            <a:ext cx="4114800" cy="838440"/>
            <a:chOff x="4800600" y="152280"/>
            <a:chExt cx="4114800" cy="838440"/>
          </a:xfrm>
        </p:grpSpPr>
        <p:sp>
          <p:nvSpPr>
            <p:cNvPr id="172" name=""/>
            <p:cNvSpPr/>
            <p:nvPr/>
          </p:nvSpPr>
          <p:spPr>
            <a:xfrm>
              <a:off x="6248520" y="152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various string characteristic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00600" y="304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3BCD-C8E9-44D3-A812-1CBF809142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ing string is: s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 now: soup1234567890abcdefghijklmnopqrstuvwxyz12345678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after resizing by (length + 10)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1799-4F72-4FEF-8761-933BBEF61B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ound, index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found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constant in class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right-to-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fir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find_frist_of( "abcd"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ndex of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c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360B-223C-4254-9519-9C14F21DF6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la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fir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character NO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la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character NO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B878-D113-4085-98F1-E18215B7A1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6: fig15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string find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"is" at location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r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r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o' at locatio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38120" y="4572000"/>
            <a:ext cx="4115160" cy="837720"/>
            <a:chOff x="4038120" y="4572000"/>
            <a:chExt cx="4115160" cy="837720"/>
          </a:xfrm>
        </p:grpSpPr>
        <p:sp>
          <p:nvSpPr>
            <p:cNvPr id="183" name=""/>
            <p:cNvSpPr/>
            <p:nvPr/>
          </p:nvSpPr>
          <p:spPr>
            <a:xfrm>
              <a:off x="5486040" y="4572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first occurre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120" y="472428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90560" y="3505320"/>
            <a:ext cx="4115160" cy="838080"/>
            <a:chOff x="2590560" y="3505320"/>
            <a:chExt cx="4115160" cy="838080"/>
          </a:xfrm>
        </p:grpSpPr>
        <p:sp>
          <p:nvSpPr>
            <p:cNvPr id="186" name=""/>
            <p:cNvSpPr/>
            <p:nvPr/>
          </p:nvSpPr>
          <p:spPr>
            <a:xfrm>
              <a:off x="4038480" y="3505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5905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74DE-F0BC-4137-B5E0-25CEBE1FBE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m' at location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la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la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1' at location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noi spm\" and was 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.' at location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12noi spm\" and wa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76360" y="685800"/>
            <a:ext cx="4115160" cy="3429000"/>
            <a:chOff x="3276360" y="685800"/>
            <a:chExt cx="4115160" cy="3429000"/>
          </a:xfrm>
        </p:grpSpPr>
        <p:sp>
          <p:nvSpPr>
            <p:cNvPr id="191" name=""/>
            <p:cNvSpPr/>
            <p:nvPr/>
          </p:nvSpPr>
          <p:spPr>
            <a:xfrm>
              <a:off x="4724280" y="685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to other find functions simi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276360" y="838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429000" y="838080"/>
              <a:ext cx="12952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733560" y="838080"/>
              <a:ext cx="99036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1649-442E-4FF8-BC04-A708541D20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characters not in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nd_first_not_of(\"noon is 12 p.m.\"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turn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133720"/>
            <a:ext cx="7010280" cy="3657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on is 12 p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) "is" was found a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rfind) "is" was found a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of) found 'o' from the group "misop" at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last_of) found 'm' from the group "misop" at: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1' is not contained in "noi spm" and was found at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.' is not contained in "12noi spm" and was found at: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_first_not_of("noon is 12 p.m.") returne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2CF0-6C1F-47CD-B606-43DEF456F5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definitions ar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1 = 'c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2( 'u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3 = 2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4( 8 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 assign to o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= 'n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2DB4-6DA0-4BD1-A50C-9667ADFAC9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placing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erase( star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ase from index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nd of string, 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place( begin, N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dex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art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characters to 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placemen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place( begin, N, s2, index, num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emen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replacement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elements to use when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ment can overwrit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resents max string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2FBB-32C0-4016-9979-EE6682F423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7: fig15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s erase and repla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piler concatenates all parts into on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in any left subtre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re less than the value in th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parent node and the values i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ny right subtree are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an the value in the parent n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ll characters from (and including) location 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ugh the end of string1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er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70C2-9388-48CC-8BFA-695B87A4B9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new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 after eras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first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spaces with peri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econd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periods with two semicol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E: this will overwrite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xxx;;yy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114800" y="1066680"/>
            <a:ext cx="4114800" cy="838440"/>
            <a:chOff x="4114800" y="1066680"/>
            <a:chExt cx="4114800" cy="838440"/>
          </a:xfrm>
        </p:grpSpPr>
        <p:sp>
          <p:nvSpPr>
            <p:cNvPr id="205" name=""/>
            <p:cNvSpPr/>
            <p:nvPr/>
          </p:nvSpPr>
          <p:spPr>
            <a:xfrm>
              <a:off x="55627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each space and replace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1148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85840" y="2437920"/>
            <a:ext cx="3734280" cy="962280"/>
            <a:chOff x="3885840" y="2437920"/>
            <a:chExt cx="3734280" cy="962280"/>
          </a:xfrm>
        </p:grpSpPr>
        <p:sp>
          <p:nvSpPr>
            <p:cNvPr id="208" name=""/>
            <p:cNvSpPr/>
            <p:nvPr/>
          </p:nvSpPr>
          <p:spPr>
            <a:xfrm>
              <a:off x="49528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rt each search at the next 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85840" y="243792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419360" y="3505320"/>
            <a:ext cx="4115160" cy="838080"/>
            <a:chOff x="4419360" y="3505320"/>
            <a:chExt cx="4115160" cy="838080"/>
          </a:xfrm>
        </p:grpSpPr>
        <p:sp>
          <p:nvSpPr>
            <p:cNvPr id="211" name=""/>
            <p:cNvSpPr/>
            <p:nvPr/>
          </p:nvSpPr>
          <p:spPr>
            <a:xfrm>
              <a:off x="5867280" y="3505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ac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two semicolons (the two characters at index 5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4193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0400" y="228600"/>
            <a:ext cx="3124080" cy="1428840"/>
            <a:chOff x="3200400" y="228600"/>
            <a:chExt cx="3124080" cy="1428840"/>
          </a:xfrm>
        </p:grpSpPr>
        <p:sp>
          <p:nvSpPr>
            <p:cNvPr id="214" name=""/>
            <p:cNvSpPr/>
            <p:nvPr/>
          </p:nvSpPr>
          <p:spPr>
            <a:xfrm>
              <a:off x="3657600" y="228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::np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presents max string leng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200400" y="81900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E338-EB40-429E-8CE5-D6AEFC6D91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node and the values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y right subtree are gre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 the value in the pa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 after eras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first replacem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.values.in.any.left.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.less.than.the.value.in.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econd replacem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;;alues;;n;;ny;;eft;;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;;ess;;han;;he;;alue;;n;;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1819-0A55-43BC-A169-401D58FA55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ing Characters into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insert( index, s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insert( index, s2, index2, N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substring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ring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starting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0FA1-2750-47A1-A0FB-9DAB9C0776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8: fig15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class string insert member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ginning 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ddl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strings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middle" at location 10 in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95480" y="4343400"/>
            <a:ext cx="4114800" cy="838080"/>
            <a:chOff x="2895480" y="4343400"/>
            <a:chExt cx="4114800" cy="838080"/>
          </a:xfrm>
        </p:grpSpPr>
        <p:sp>
          <p:nvSpPr>
            <p:cNvPr id="223" name=""/>
            <p:cNvSpPr/>
            <p:nvPr/>
          </p:nvSpPr>
          <p:spPr>
            <a:xfrm>
              <a:off x="434340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element 10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89548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E58F-F7C3-4037-89CE-1532E49438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xx" at location 3 in string3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 after insert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362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tr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45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 after inse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middl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xx45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19520" y="685440"/>
            <a:ext cx="3504960" cy="1495440"/>
            <a:chOff x="2819520" y="685440"/>
            <a:chExt cx="3504960" cy="1495440"/>
          </a:xfrm>
        </p:grpSpPr>
        <p:sp>
          <p:nvSpPr>
            <p:cNvPr id="229" name=""/>
            <p:cNvSpPr/>
            <p:nvPr/>
          </p:nvSpPr>
          <p:spPr>
            <a:xfrm>
              <a:off x="365760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819520" y="68544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77F5-C718-4F4C-BDE5-4EFE36457E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0  Conversion to C-Style char *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not necessarily null-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py( ptr, N, index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into the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null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_st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dat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null-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3A40-87C1-47E3-BBB7-0602A839A1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9: fig15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ing to C-style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ing1.leng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2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characters from string1 into allocated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copy( ptr2, 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2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null termin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converted to a C-Style string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c_str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28440" y="2819520"/>
            <a:ext cx="4724640" cy="2819160"/>
            <a:chOff x="1828440" y="2819520"/>
            <a:chExt cx="4724640" cy="2819160"/>
          </a:xfrm>
        </p:grpSpPr>
        <p:sp>
          <p:nvSpPr>
            <p:cNvPr id="236" name=""/>
            <p:cNvSpPr/>
            <p:nvPr/>
          </p:nvSpPr>
          <p:spPr>
            <a:xfrm>
              <a:off x="38862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_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828440" y="2971800"/>
              <a:ext cx="2057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514600" y="2971800"/>
              <a:ext cx="13716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D322-B414-4C4F-89BF-16F274DA52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 to pointer ptr1 the const char * returned by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data(). NOTE: this is a potentially dangero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ment. If string1 is modified, pointer ptr1 ca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come invalid.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1 = string1.data()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ach character using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( ptr1 + i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pointer arithmet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tr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733920"/>
            <a:ext cx="701028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converted to a C-Style string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1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2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5FE7-5969-4214-AB03-856BCC0053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cessari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individual charac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[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member functions take start position and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ngth argument too large, max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ex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ine( cin,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mited by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2B28-12DE-4B3E-840E-E8706EA7F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wards and backwards traversal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to 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pointer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verage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0466-1FDF-4A12-830A-663596E1E1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::const_iterator i = s.begi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nnot modify string (more Chapter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i; // referen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i; // traverse one character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end of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!= s.en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after la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7B09-80B8-4071-A79C-7D3CA5666C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0: fig15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terator to output a 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iterat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::const_iterator iterator1 = string1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Using iterator iterator1) 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e through string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1 != string1.end()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eference iterator to get ch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vance iterator to next char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00400" y="3657600"/>
            <a:ext cx="4114800" cy="838080"/>
            <a:chOff x="3200400" y="3657600"/>
            <a:chExt cx="4114800" cy="838080"/>
          </a:xfrm>
        </p:grpSpPr>
        <p:sp>
          <p:nvSpPr>
            <p:cNvPr id="249" name=""/>
            <p:cNvSpPr/>
            <p:nvPr/>
          </p:nvSpPr>
          <p:spPr>
            <a:xfrm>
              <a:off x="4648320" y="3657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each character using the it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200400" y="3809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B63F-9A34-4175-8230-4A29437ED6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esting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Using iterator iterator1) string1 is: Testing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9CCF-6C01-4875-90CD-B2C6B498FD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f strings to and fro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in-memory I/O or string stream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 from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to a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ring formatting to save data 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53ED-BB57-41F8-A275-448A787C915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ingstream outputStr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String &lt;&lt; s1 &lt;&lt; s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was output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tring.st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F7DB-44F4-4C8F-839B-2A427915F48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1: fig15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dynamically allocated ostringstream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ing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stringstream outputString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stringstream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 of several data type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an ostringstream objec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ddress of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438280" y="2971800"/>
            <a:ext cx="4114800" cy="838080"/>
            <a:chOff x="2438280" y="2971800"/>
            <a:chExt cx="4114800" cy="838080"/>
          </a:xfrm>
        </p:grpSpPr>
        <p:sp>
          <p:nvSpPr>
            <p:cNvPr id="260" name=""/>
            <p:cNvSpPr/>
            <p:nvPr/>
          </p:nvSpPr>
          <p:spPr>
            <a:xfrm>
              <a:off x="3886200" y="2971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3828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AFE8-A189-4BDB-B8C1-2D0E967389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.4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, double and int to outputString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string1 &lt;&lt; string2 &lt;&lt; string3 &lt;&lt; double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&lt;&lt; string4 &lt;&lt; integer &lt;&lt; string5 &lt;&lt; &amp;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str to output content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dditional characters and call str to output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ore characters add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dditional stream insertions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76520" y="1523880"/>
            <a:ext cx="3962160" cy="1876320"/>
            <a:chOff x="1676520" y="1523880"/>
            <a:chExt cx="3962160" cy="1876320"/>
          </a:xfrm>
        </p:grpSpPr>
        <p:sp>
          <p:nvSpPr>
            <p:cNvPr id="265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format just like to writing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676520" y="152388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C284-6E10-4D0D-824B-65E7DB92281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dditional stream insertion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re characters 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6364-2119-4341-B797-A5DD6D194A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ingstream inputString ( myString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String &gt;&gt; string1 &gt;&gt; string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ading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0A72-0826-4E59-9D74-3EEF41EF2A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 = s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separate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.assign(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 = 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ring.assign(s, start, 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[0] = s3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06D5-B6A9-4DDD-BA95-B83C0C0F9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2: fig15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input from an istringstream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ing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n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est 123 4.7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stringstream inputString( in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81280" y="3276720"/>
            <a:ext cx="4114800" cy="838080"/>
            <a:chOff x="3581280" y="3276720"/>
            <a:chExt cx="4114800" cy="838080"/>
          </a:xfrm>
        </p:grpSpPr>
        <p:sp>
          <p:nvSpPr>
            <p:cNvPr id="274" name=""/>
            <p:cNvSpPr/>
            <p:nvPr/>
          </p:nvSpPr>
          <p:spPr>
            <a:xfrm>
              <a:off x="502920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58128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154F-C358-49A5-93DC-A4AB95BDDEA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string1 &gt;&gt; string2 &gt;&gt; integer &gt;&gt;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&gt;&gt; character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following items were extracte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om the istringstream object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read from empty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eam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String.goo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ng valu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String is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523520" y="457200"/>
            <a:ext cx="4877280" cy="1175400"/>
            <a:chOff x="1523520" y="457200"/>
            <a:chExt cx="4877280" cy="1175400"/>
          </a:xfrm>
        </p:grpSpPr>
        <p:sp>
          <p:nvSpPr>
            <p:cNvPr id="279" name=""/>
            <p:cNvSpPr/>
            <p:nvPr/>
          </p:nvSpPr>
          <p:spPr>
            <a:xfrm>
              <a:off x="3733920" y="129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data into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523520" y="457200"/>
              <a:ext cx="22100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19160" y="3048120"/>
            <a:ext cx="4115160" cy="1067400"/>
            <a:chOff x="2819160" y="3048120"/>
            <a:chExt cx="4115160" cy="1067400"/>
          </a:xfrm>
        </p:grpSpPr>
        <p:sp>
          <p:nvSpPr>
            <p:cNvPr id="282" name=""/>
            <p:cNvSpPr/>
            <p:nvPr/>
          </p:nvSpPr>
          <p:spPr>
            <a:xfrm>
              <a:off x="4267080" y="3048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1 if can still read data (no EOF, bad bits, etc). In this case, there is no data, so the test f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8191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F41C-2F5E-4DA7-B76D-96580B7F7C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ollowing items were extra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he i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1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4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tring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6FAF-99EA-4F4D-87E1-CBAAEB5EC99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t( index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haracter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ro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_of_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no 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ppend( "pet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 += "pet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pe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ppend( s1,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44DD-E1DC-4062-8A86-D1678D908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: fig15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assignment and concaten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 = string1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string1 to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assign( string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string1 to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61960" y="2209680"/>
            <a:ext cx="4115160" cy="1752840"/>
            <a:chOff x="2361960" y="2209680"/>
            <a:chExt cx="4115160" cy="1752840"/>
          </a:xfrm>
        </p:grpSpPr>
        <p:sp>
          <p:nvSpPr>
            <p:cNvPr id="102" name=""/>
            <p:cNvSpPr/>
            <p:nvPr/>
          </p:nvSpPr>
          <p:spPr>
            <a:xfrm>
              <a:off x="3809880" y="2209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ing initialization and 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619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361960" y="23623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04960" y="3124080"/>
            <a:ext cx="4115160" cy="1219320"/>
            <a:chOff x="3504960" y="3124080"/>
            <a:chExt cx="4115160" cy="1219320"/>
          </a:xfrm>
        </p:grpSpPr>
        <p:sp>
          <p:nvSpPr>
            <p:cNvPr id="106" name=""/>
            <p:cNvSpPr/>
            <p:nvPr/>
          </p:nvSpPr>
          <p:spPr>
            <a:xfrm>
              <a:off x="4952880" y="3124080"/>
              <a:ext cx="266724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04960" y="3505320"/>
              <a:ext cx="1447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9CBA-C442-414C-83EF-2F086DF872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dify string2 and string3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tring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modification of string2 and string3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monstrating member function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tring3.length()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3.a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eclare string4 and string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ul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+=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rpe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om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tacomb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subscript locations 4 through end of string1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tring "comb" (string5 was initially empty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5.append( string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1.length()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concatenation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5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5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95120" y="1447920"/>
            <a:ext cx="5410800" cy="1167120"/>
            <a:chOff x="2895120" y="1447920"/>
            <a:chExt cx="5410800" cy="1167120"/>
          </a:xfrm>
        </p:grpSpPr>
        <p:sp>
          <p:nvSpPr>
            <p:cNvPr id="111" name=""/>
            <p:cNvSpPr/>
            <p:nvPr/>
          </p:nvSpPr>
          <p:spPr>
            <a:xfrm>
              <a:off x="4191120" y="1676520"/>
              <a:ext cx="411480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modification of string2 and string3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895120" y="1447920"/>
              <a:ext cx="1295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14600" y="2361960"/>
            <a:ext cx="3124080" cy="1038240"/>
            <a:chOff x="2514600" y="2361960"/>
            <a:chExt cx="3124080" cy="1038240"/>
          </a:xfrm>
        </p:grpSpPr>
        <p:sp>
          <p:nvSpPr>
            <p:cNvPr id="114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stea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514600" y="23619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62520" y="3726000"/>
            <a:ext cx="4343400" cy="1379880"/>
            <a:chOff x="3962520" y="3726000"/>
            <a:chExt cx="4343400" cy="1379880"/>
          </a:xfrm>
        </p:grpSpPr>
        <p:sp>
          <p:nvSpPr>
            <p:cNvPr id="117" name=""/>
            <p:cNvSpPr/>
            <p:nvPr/>
          </p:nvSpPr>
          <p:spPr>
            <a:xfrm>
              <a:off x="5638680" y="3726000"/>
              <a:ext cx="266724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concatenatio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aco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p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catap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5: co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962520" y="4800600"/>
              <a:ext cx="1676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2B46-641C-43D1-BB93-B13AF8ECA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838080"/>
            <a:ext cx="7010280" cy="373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odification of string2 and string3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oncaten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acom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p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catap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5: com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3D31-9F66-45EB-9D82-B905409C56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20:00:22Z</dcterms:created>
  <dc:creator>kalid</dc:creator>
  <dc:description/>
  <dc:language>en-US</dc:language>
  <cp:lastModifiedBy>Pearson Education</cp:lastModifiedBy>
  <dcterms:modified xsi:type="dcterms:W3CDTF">2002-08-22T12:46:21Z</dcterms:modified>
  <cp:revision>495</cp:revision>
  <dc:subject/>
  <dc:title>PowerPoint Presentation</dc:title>
</cp:coreProperties>
</file>