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114F-C10D-4E48-BB0F-836E0F0A0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FBF4-CA3C-4C6B-A1C3-CD314D656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D6A4-35D8-48E9-A27D-94D2114BF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EBA9-F521-4B84-83BA-FFE6C02C9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1EE5-0938-4F09-86A8-0CD9375634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033B-FC19-44DA-9660-88C87F30A5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F783-0702-4BD5-9493-3C31F78B31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F672-7953-45D9-B13C-D0154820A3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FE6D-F8B3-4DA6-B201-12291FBDD1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9763-5B9B-41FB-87D8-60BA4497C9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E72F-204F-4A19-9D62-C13582B582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080C-7ECA-4914-80DB-FB5AAE19C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0D22-2B23-4865-8C7A-EE6BE0714F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89FC-68CD-4311-A8D1-D51F8FDB46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1FD0-A1B7-488A-ADAC-221A070615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EBE1-750F-4419-9B2F-2022B85350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0B9D-5925-4ECD-9557-AEEDE769A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8AF5-0413-44FC-A962-85477452F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903C-B849-4E48-BC66-53B89886D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20E4-93C2-432E-BC8C-C908EBD01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78CD-42FD-46DC-AB9A-8C1893C74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8309-E3DC-4D58-9A19-7B1245F71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7445-68E4-4DEC-A279-4F490049B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60F6-E6CB-4CD5-8F3B-258C56B55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0BF0-8450-4552-8F60-6D923551F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480A-3E5A-4D8E-A999-B003C8531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8 - Bits, Characters, String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2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ucture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3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lizing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4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ing Structures with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5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ype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6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High-Performance Card-Shuffling and Deal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7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itwise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8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it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9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racter-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0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ing-Conversion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1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 Functions of the String-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2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mory Functions of the String-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2B38-EFE2-4AB5-941B-8A1B55E456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High-Performance Card-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 cards into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deck[ 52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uffle the 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 random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 the c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through deck, pr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6139-3D15-4EE3-8DAA-472BFA2638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: fig18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d shuffling and dealing program using structur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d structur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d {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ace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uit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ructure Card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09680" y="3048120"/>
            <a:ext cx="4114800" cy="2361960"/>
            <a:chOff x="2209680" y="3048120"/>
            <a:chExt cx="4114800" cy="2361960"/>
          </a:xfrm>
        </p:grpSpPr>
        <p:sp>
          <p:nvSpPr>
            <p:cNvPr id="128" name=""/>
            <p:cNvSpPr/>
            <p:nvPr/>
          </p:nvSpPr>
          <p:spPr>
            <a:xfrm>
              <a:off x="3657600" y="30481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. In functions, it is used like any other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096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666880" y="3200400"/>
              <a:ext cx="9907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F428-C721-4F16-90B1-6696B947D6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ard dec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ace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u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r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v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igh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uit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r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amond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ub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pa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llDeck( deck, face, su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uffle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al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0F82-A2B4-4F92-8BF9-26FA1B3D62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strings into Card struct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Face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Suit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face = wFace[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suit = wSuit[ i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ill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uffle 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rd temp = wDeck[ i ]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 = wDeck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j ] = temp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huff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809880" y="304920"/>
            <a:ext cx="4114800" cy="1067400"/>
            <a:chOff x="3809880" y="304920"/>
            <a:chExt cx="4114800" cy="1067400"/>
          </a:xfrm>
        </p:grpSpPr>
        <p:sp>
          <p:nvSpPr>
            <p:cNvPr id="136" name=""/>
            <p:cNvSpPr/>
            <p:nvPr/>
          </p:nvSpPr>
          <p:spPr>
            <a:xfrm>
              <a:off x="5257800" y="304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every face and suit. Note format for accessing a data member in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809880" y="457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429000" y="2590920"/>
            <a:ext cx="4114800" cy="1067400"/>
            <a:chOff x="3429000" y="2590920"/>
            <a:chExt cx="4114800" cy="1067400"/>
          </a:xfrm>
        </p:grpSpPr>
        <p:sp>
          <p:nvSpPr>
            <p:cNvPr id="139" name=""/>
            <p:cNvSpPr/>
            <p:nvPr/>
          </p:nvSpPr>
          <p:spPr>
            <a:xfrm>
              <a:off x="4876920" y="2590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ck a random car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0-51) and swap with current card. Notice the use of structure assign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4290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3AB6-0749-40B7-99EC-C054E5CD21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al 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righ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i ].fac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i ].su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0FA1-0385-4BBF-9717-BDE3F59DAA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ng of Clubs            Ten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Diamonds        Jack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Spades          Fiv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Spades          King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Clubs          Eight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Hearts           Six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Diamonds        Nin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Diamonds       Queen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Clubs          Seven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Diamonds        Jack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Spades          King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Diamonds        Four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Clubs           Fiv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Clubs            Ac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Spades           Ac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Spades         Eight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Hearts           Six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Diamonds        Nin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Clubs          Queen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Clubs          Queen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Hearts          Fiv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Hearts          Jack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Hearts           Ac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Spades          Four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Spades           Six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Spades          King of Spad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7921-CB3A-4C1A-A19E-EC1A795D30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presented internally as sequences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bit 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 bits form a b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ne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data types larg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-level software requires bit and byte mani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ng systems, 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72DE-4E25-40DC-ABEB-1875FDC179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ar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A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both bi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inclusive 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ither bi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exclusive 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xactly one bi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the bits ar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one's comple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p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C054-6257-415A-9A01-4DEB9712DE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left shi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all bits left by specified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s from right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&lt;&lt; SHIFT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ight shift with sign extens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bits right by specified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 from left can v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9681-B1DF-4538-973B-BBED1826A5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values in their binary re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unsigned integ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00000 00000000 00000000 0000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a machine with 4-byte integ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 stores number in this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value with specific bits set to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hide some bits while selecting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ith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228A-053F-47CD-BD6A-ED86D72D89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, bits, characters, C-style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-like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C++ programmers working with legacy C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ld variables of different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classes, but all data member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ine how to use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card shuffling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A831-51FF-4DFB-B8A7-A3BB56AD58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k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we want to see leftmost bit of a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with mas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00000 00000000 00000000 00000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a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10101 10110000 10101100 0001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eftmost bit of nu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wise AND will be nonzero (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most bit of result will b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ther bits are "masked off" (AND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eftmost bit of nu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wise AND will b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al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4B57-19FA-421E-96B0-E0049B4311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int every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leftmost dig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ift number le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nt mask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00000 … 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many bit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of(unsigned) *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 with mask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ft one less time (mask is already on first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&lt;&lt; sizeof(unsigned) * 8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00000 00000000 00000000 00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F2B0-043E-42FD-986F-E351778BA8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5: fig18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n unsigned integer in bi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n unsigned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pu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inpu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1984-EA94-4968-87CD-9D52610A85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bits of an unsigned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( value &amp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1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&lt;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 value left by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 space after 8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isplay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57200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unsigned integer: 6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5000 = 00000000 00000000 11111101 1110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86000" y="990360"/>
            <a:ext cx="6629400" cy="1114560"/>
            <a:chOff x="2286000" y="990360"/>
            <a:chExt cx="6629400" cy="1114560"/>
          </a:xfrm>
        </p:grpSpPr>
        <p:sp>
          <p:nvSpPr>
            <p:cNvPr id="163" name=""/>
            <p:cNvSpPr/>
            <p:nvPr/>
          </p:nvSpPr>
          <p:spPr>
            <a:xfrm>
              <a:off x="3276720" y="1524240"/>
              <a:ext cx="5638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IFT = 32 - 1 = 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SK = 10000000 00000000 00000000 000000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2286000" y="99036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581280" y="2401920"/>
            <a:ext cx="5029200" cy="824040"/>
            <a:chOff x="3581280" y="2401920"/>
            <a:chExt cx="5029200" cy="824040"/>
          </a:xfrm>
        </p:grpSpPr>
        <p:sp>
          <p:nvSpPr>
            <p:cNvPr id="166" name=""/>
            <p:cNvSpPr/>
            <p:nvPr/>
          </p:nvSpPr>
          <p:spPr>
            <a:xfrm>
              <a:off x="5943600" y="2401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twise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f it is nonzero (true), then the leftmost digit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581280" y="2401920"/>
              <a:ext cx="236232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04760" y="2577960"/>
            <a:ext cx="3733920" cy="1372320"/>
            <a:chOff x="1904760" y="2577960"/>
            <a:chExt cx="3733920" cy="1372320"/>
          </a:xfrm>
        </p:grpSpPr>
        <p:sp>
          <p:nvSpPr>
            <p:cNvPr id="169" name=""/>
            <p:cNvSpPr/>
            <p:nvPr/>
          </p:nvSpPr>
          <p:spPr>
            <a:xfrm>
              <a:off x="2971800" y="2882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if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eft by 1 to examine next bit. 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same 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 = value &lt;&lt;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904760" y="257796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D5F1-0352-48EB-8BC6-62ABBD03D4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amp;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|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Exclusive 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^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Comple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Left shift and right shi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2189-CF1C-4A89-8F02-0A4D9023E3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7: fig18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bitwise AND, bitwise inclusive OR, bitwi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clusive OR and bitwise complement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s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i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BF65-985A-4704-B4FC-FD09DB12A5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798763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as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sult of combining the follow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mas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bitwise AND operator &amp;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&amp; mas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|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Bit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sult of combining the follow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setBit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bitwise inclusive OR operator |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| setBit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exclusive 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sult of combining the follow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bitwise exclusive OR operator ^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^ number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7FBBE-A372-4820-9770-27C298EB56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comp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8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one's complement of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~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bits of an unsigned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( value &amp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1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&lt;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 value left by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 space after 8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53A4-4C19-4C33-9CAD-8E4637A9FA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isplay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4300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79876355 = 10000001 11101110 01000110 00000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bitwise AND operator &amp;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= 00000000 00000000 00000000 0000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1 = 00000000 00000000 00000000 1111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bitwise inclusive OR operator |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5 = 00000000 00000000 00000000 1111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9 = 00000000 00000000 00000000 1000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99 = 00000000 00000000 00000000 11000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bitwise exclusive OR operator ^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6 = 00000000 00000000 00000000 01001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ne's complemen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845 = 00000000 00000000 01010101 01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94945450 = 11111111 11111111 10101010 101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7E0A4-D088-4F3F-B1EC-ADF285A59D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1: fig18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bitwise shift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left shif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sult of left shift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bit positions using the lef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ft operator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3890-67DE-435E-A703-FCFE0AFE5F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fa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ui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structur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eclare variable of structur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/functions declared with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members need unique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cannot contain instance of itself, only a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 does not reserve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 ends with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DB43-BF8C-46B5-A33D-8980413A9A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right shif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sult of right shift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bit positions using the righ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ft operator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&gt;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bits of an unsigned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( value &amp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1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&lt;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 value left by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 space after 8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08868-7469-4DC0-B8F5-B04788F2E6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isplay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14300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left shi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0 = 00000000 00000000 00000011 11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bit positions using the left shift operato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760 = 00000000 00000011 11000000 0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right shi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0 = 00000000 00000000 00000011 11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bit positions using the right shift operato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= 00000000 00000000 00000000 00000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747F-1CB3-4642-83B9-90313A306F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fiel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f structure whose size (in bits) has been spec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better memory uti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BitCar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face :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suit :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color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with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 width must be an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B972-E18E-4A10-AE9F-9BC1D35BE8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bit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like any other structure 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BitCar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face :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suit :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color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Card.face = 1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4 bits, can store valu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2062-A334-42E8-AD80-0716E99056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4: fig18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ing cards with bit fields in a str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tCard structure definition with bit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Card {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4 bits; 0-15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it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 bits; 0-3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 bit; 0-1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ruct BitBard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itCard dec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llDeck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al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981080" y="2057400"/>
            <a:ext cx="4114800" cy="838080"/>
            <a:chOff x="1981080" y="2057400"/>
            <a:chExt cx="4114800" cy="838080"/>
          </a:xfrm>
        </p:grpSpPr>
        <p:sp>
          <p:nvSpPr>
            <p:cNvPr id="196" name=""/>
            <p:cNvSpPr/>
            <p:nvPr/>
          </p:nvSpPr>
          <p:spPr>
            <a:xfrm>
              <a:off x="342900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bit fields inside a structure to store car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9810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2DCF-700E-48AA-81C8-82060135F2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Bit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face =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suit = i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color = i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ill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1371600"/>
            <a:ext cx="4114800" cy="838080"/>
            <a:chOff x="3429000" y="1371600"/>
            <a:chExt cx="4114800" cy="838080"/>
          </a:xfrm>
        </p:grpSpPr>
        <p:sp>
          <p:nvSpPr>
            <p:cNvPr id="201" name=""/>
            <p:cNvSpPr/>
            <p:nvPr/>
          </p:nvSpPr>
          <p:spPr>
            <a:xfrm>
              <a:off x="4876920" y="1371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 to bit fields as normal, but be careful of each field's ra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42900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E3D5-0A40-4B5F-8BFA-BCB1078BB2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ards in two column format; cards 0-25 subscript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k1 (column 1); cards 26-51 subscripted k2 (column 2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k2 = k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1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1++, k2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1 ].fa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ui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1 ].su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1 ].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2 ].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ui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2 ].su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2 ].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EFA4-899D-46D0-AC49-72ACA2650D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0  Suit: 0  Color: 0   Card:  0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1  Suit: 0  Color: 0   Card:  1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2  Suit: 0  Color: 0   Card:  2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3  Suit: 0  Color: 0   Card:  3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4  Suit: 0  Color: 0   Card:  4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5  Suit: 0  Color: 0   Card:  5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6  Suit: 0  Color: 0   Card:  6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7  Suit: 0  Color: 0   Card:  7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8  Suit: 0  Color: 0   Card:  8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9  Suit: 0  Color: 0   Card:  9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0  Suit: 0  Color: 0   Card: 10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1  Suit: 0  Color: 0   Card: 11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2  Suit: 0  Color: 0   Card: 12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0  Suit: 1  Color: 0   Card:  0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1  Suit: 1  Color: 0   Card:  1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2  Suit: 1  Color: 0   Card:  2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3  Suit: 1  Color: 0   Card:  3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4  Suit: 1  Color: 0   Card:  4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5  Suit: 1  Color: 0   Card:  5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6  Suit: 1  Color: 0   Card:  6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7  Suit: 1  Color: 0   Card:  7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8  Suit: 1  Color: 0   Card:  8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9  Suit: 1  Color: 0   Card:  9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0  Suit: 1  Color: 0   Card: 10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1  Suit: 1  Color: 0   Card: 11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2  Suit: 1  Color: 0   Card: 12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FC3A-48D8-4482-8BFF-406096AD23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 fields are not arrays of bits (canno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take address of bit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unnamed bit fields to pad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Exampl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a :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  : 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b :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unnamed, zero-width fields to align to bound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Exampl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a :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  :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b :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 alig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next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A233-3EF4-48FC-AAAC-39FA33B413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Handlin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ctyp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o perform tests and manipulations on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character as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represented by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allow negativ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s often manipul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ually has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BB75-6A57-4A38-802A-C33EB08D47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d like other variables: use structur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eclare variables when defin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Card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har *fac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har *sui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5DA7-5D0E-4EA8-BB1F-4529B47750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alpha( int c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l character functions ta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letter (A-Z, a-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dig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digit (0-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aln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letter or digit (A-Z, a-z, 0-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xdig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hexadecimal digit (A-F, a-f, 0-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F729-9600-426A-A3F8-AC2AF6C2477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7: fig18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functions isdigit, isalpha, isalnum and isxdigi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acter-handling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rding to isdigi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8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#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alpha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&amp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4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letter\n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276720" y="1523880"/>
            <a:ext cx="5410080" cy="1219320"/>
            <a:chOff x="3276720" y="1523880"/>
            <a:chExt cx="5410080" cy="1219320"/>
          </a:xfrm>
        </p:grpSpPr>
        <p:sp>
          <p:nvSpPr>
            <p:cNvPr id="216" name=""/>
            <p:cNvSpPr/>
            <p:nvPr/>
          </p:nvSpPr>
          <p:spPr>
            <a:xfrm>
              <a:off x="3276720" y="1523880"/>
              <a:ext cx="5410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conditional operato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condi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?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value if tru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: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value if 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886200" y="2359080"/>
              <a:ext cx="9907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707E-4FE9-4669-8951-B7874CA78CD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alnum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nu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 or a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nu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8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 or a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nu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#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digit or a let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xdigi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J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7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7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7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874C-6CA8-407F-8E66-3FB9BA412A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dig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is a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# is not a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alpha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is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 is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 is not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is not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alnum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is a digit or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is a digit or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is not a digit or a let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xdig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 is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 is not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not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 is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D391-F76E-4A8E-8EEA-A387F060BB3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l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lowercase letter (a-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up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uppercase letter (A-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ol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assed uppercase letter, returns lowercase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returns original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oup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but turns lowercase letter to upper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6213-BB64-4D68-A285-A4FEFA003DD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8: fig18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functions islower, isupper, tolower and toupp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acter-handling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rding to islowe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p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low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P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low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5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ow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!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owercase let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uppe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D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 is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 is not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pp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d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 is a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 is not a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upp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8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8 is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not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pp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9F42-56DD-4136-84A8-51ABAF808DC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ppercase let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 converted to upp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upp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u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7 converted to upp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7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$ converted to upp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upp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$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 converted to low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L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4FBA-BC18-4A8B-B17C-811E8DB521D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lowe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 is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 is not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is not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 is not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uppe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 is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 is not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is not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not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 converted to uppercase is 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converted to uppercase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converted to uppercase is $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 converted to lowercase is 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F234-D6B3-479A-9493-4D6AD1126CC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sp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m fe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f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ewlin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rriage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orizontal ta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vertical ta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v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cntr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ontrol character, such as tabs, form feed, aler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backspac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carriage return, 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pun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printing character other than space, digit, or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 # ( ) [ ] { } ; : 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76F8-3947-4B87-830E-C3543448058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p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haracter can be displayed (including sp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grap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haracter can be displayed, not including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BA36-C38E-4D55-900E-0341E9650CB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to a structure of sam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addres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member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neCard.f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may not be in consecutive bytes of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-alignment (2 or 4 bytes) may cause "hol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E60F-D7AA-4E99-A761-C4B009F5DE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9: fig18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functions isspace, iscntrl, ispunct, isprint, isgrap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acter-handling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ccording to isspace:\nNewlin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spac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hitespace character\nHorizontal tab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spa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whitespace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spa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%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hitespace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ccording to iscntrl:\nNewlin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cntr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control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cntr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control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762A-2C7D-4F7A-8453-0821747B0DF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ccording to ispunc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un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punctuation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un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Y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"Y is a"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unctuation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un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#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"# is a"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#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unctuation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ccording to isprin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\nAlert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graph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graph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Q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 other than a space\nSpac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grap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 other than a sp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23B3-BD77-4C70-9492-D7C029F6832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spa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line is a whitespac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rizontal tab is a whitespac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 is not a whitespac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cntr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line is a contro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not a contro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pun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s a punctuation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is not a punctuation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# is a punctuation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prin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a printing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ert is not a printing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graph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 is a printing character other than a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ace is not a printing character other than a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F8F7A-BFC7-4DD0-916C-8C0F8E42C07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conver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to numeric values, searching, compari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functions ta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modify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F215-2629-434B-AAFE-F3180EE9A2B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atof( const char *nPtr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ing to floating point numb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annot be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toi( const char *nPtr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ing to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annot be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atol( const char *nPtr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ing to long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th 4-bytes,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o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1CEC-F75A-43CA-A19D-30E4BDA54F9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1: fig18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to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of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 = atof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99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\"99.0\" converted to double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converted value divided by 2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57200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99.0" converted to double is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divided by 2 is 4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F118-08C3-4F6D-B186-8115FA77D07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2: fig18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toi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oi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atoi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93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\"2593\" converted to int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converted value minus 593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9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57200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2593" converted to int is 25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minus 593 is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2563-910D-4530-8BC6-3BF9F0ED4A3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3: fig18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to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ol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ato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00000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string \"1000000\" converted to long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converted value divided by 2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64832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1000000" converted to long int is 1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divided by 2 is 5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1D96-6865-43AB-8A92-C82766C7E34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trtod( const char *nPtr, char **endPtr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first argum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s tha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econd argument to location of first character after converted portion of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tod("123.4this is a test", &amp;stringP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is is a tes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D4D4-6A91-46C6-BF1C-0D5D64F2E30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4: fig18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tod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1.2% are admit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 = strtod( string1, &amp;stringPt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 is converted to the\ndouble value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nd the string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Pt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4100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51.2% are admitted" is conve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value 51.2 and the string "% are admitte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086E-6D52-484E-9EC4-B3DE829CD89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2-byte boundary for structur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tructure with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first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2-byte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in 1-byte hole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ce hole undefined, structures may not compare equ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3520" y="3505320"/>
            <a:ext cx="8076960" cy="914400"/>
            <a:chOff x="533520" y="3505320"/>
            <a:chExt cx="8076960" cy="914400"/>
          </a:xfrm>
        </p:grpSpPr>
        <p:sp>
          <p:nvSpPr>
            <p:cNvPr id="100" name=""/>
            <p:cNvSpPr/>
            <p:nvPr/>
          </p:nvSpPr>
          <p:spPr>
            <a:xfrm>
              <a:off x="533520" y="3505320"/>
              <a:ext cx="8076960" cy="914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0208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33760" y="3961080"/>
              <a:ext cx="101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110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8468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5744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124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848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1560" y="3673800"/>
              <a:ext cx="4762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By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616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3480" y="4150080"/>
              <a:ext cx="460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024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87920" y="3940560"/>
              <a:ext cx="1123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000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64320" y="3913560"/>
              <a:ext cx="105552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3440" y="3940560"/>
              <a:ext cx="1122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110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4320" y="3913560"/>
              <a:ext cx="105552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0208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616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F019-0AC5-4233-8DB1-43FC9A775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strtol( const char *nPtr, char **endPtr, int bas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first argum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s tha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econd argument to location of first character after converted portion of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mainder of string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argument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value being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umber 2 - 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octal, decimal, or hexa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 strto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CAD5-980F-4812-A81B-085066A40D5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5: fig18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tol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1234567ab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remainder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strtol( string1, &amp;remainderPt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string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\nThe converted valu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mainder of the original string is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remainder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\nThe converted value plus 567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DE1B-EA9F-40DC-9F4A-8DB72A6CF69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string is "-1234567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is -12345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the original string is "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plus 567 is -1234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DD2D-1CD5-46F0-BC8E-3F9485E4581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6: fig18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u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toul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ab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remainder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strtoul( string1, &amp;remainderPt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string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\nThe converted value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mainder of the original string is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remainder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\nThe converted value minus 567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B6F0-6A77-435D-8175-F025AE46591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string is "1234567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is 12345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the original string is "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minus 567 is 1234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F8D6-18A9-4B45-8BAC-9BAA3AA674A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handlin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strings for characters, other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_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as integer of type return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1D07-5415-4D54-AC4C-317BB9302C1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strchr( const char *s, int c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fir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328C-C8D5-4265-AADB-19B4799272C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8: fig18_2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h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h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is a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z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chr( string1, character1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haracter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 was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haracter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 was not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chr( string1, character2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haracter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was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'' 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haracter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was not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BF91-A5F2-4F71-B0BF-48CDB780330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066680"/>
            <a:ext cx="70102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a' was found in "This is a test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z' was not found in "This is a test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8DB0-74BA-4579-B7F6-B10A16DDF1E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strcspn( const char *s1, const char *s2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length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does not contain character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from beginning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strpbrk( const char *s1, const char *s2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occurrence of any charac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strrchr( const char *s, int c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la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4ED5-F55B-44E8-B528-0DB89500D86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itializing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 lists (like ar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oneCard = { "Three", "Hearts" 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-separated values, enclosed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member unspecified, defaul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 with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one structure to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threeHearts = oneCar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members individu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threeHe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Hearts.face = “Thre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Hearts.suit = “Heart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B9D1-CA70-4889-9C0C-4FE765C66C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9: fig18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sp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sp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is 3.14159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89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tring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The length of the initial segment of string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ontaining no characters from string2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cspn( string1, string2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5029200"/>
            <a:ext cx="701028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The value is 3.141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= 12345678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the initial segment of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ing no characters from string2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0DAE-3222-40EC-8E76-9D8B7D3D830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0: fig18_3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pbr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pbrk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is a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wa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f the characters in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\n'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strpbrk( string1, string2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the first character to appear in\n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02920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 the characters in "bewar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a' is the first character to appear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This is a test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76EF-9F8D-46BF-9A07-575825E783F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1: fig18_3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rch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rch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zoo has many animals including zebr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z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remainder of string1 beginning with the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occurrence of character '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c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as char not 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is: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rchr( string1, c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52578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string1 beginning with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occurrence of character 'z' is: "zebra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F5EF-AB71-49E8-8CCA-65FC9EE1B1B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strspn( const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length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contains only character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from beginning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strstr( const char *s1, const char *s2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068C-E7A1-4B56-BFBE-D864AB9F8F7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2: fig18_3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sp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sp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is 3.14159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ehils Tu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length of the initial segment of string1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ntaining only characters from string2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spn( string1, string2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A62A-D632-4185-999A-1CE2C35D683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The value is 3.141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= aehils Tu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the initial segment of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ing only characters from string2 =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AB41-43FD-4B1E-99EB-C9DDF9FDE77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3: fig18_3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st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st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efabcde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The remainder of string1 beginning with the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occurrence of string2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str( string1, string2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9D8C-2028-4A13-A24F-7C8750ED784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abcdefabcde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= de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string1 beginning with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occurrence of string2 is: defabcde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2AF51-48D6-42E1-B978-400D8857466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at memory as array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 any block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at pointers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size (number of by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0B9A-70EF-4D29-81F0-CD73BDFAFB3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cpy( void *s1, const void *s2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use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move( void *s1, const void *s2, size_t n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 if objects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BF1E-0C60-441A-B0A3-5227325524B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Structures with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 to pass structure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entir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individual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pass call-by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structures call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reference to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arrays call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structure with array as memb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reference more effic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A891-7A0F-4A3C-B23D-97B4688C6B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5: fig18_3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cp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cpy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 this 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mcpy( s1, s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s2 is copied into s1 with memcpy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contain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510552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2 is copied into s1 with memcp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contains "Copy this strin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81ADD-C0EE-491B-8065-146B232BF4C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6: fig18_3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mov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move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[]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ome Sweet Ho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n array x before memmov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tring in array x after memmove is: 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memmove( x, &amp;x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8006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x before memmove is: Home Sweet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x after memmove is:  Sweet Hom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12AE-50E8-4BC3-A990-9D151F0E8F2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emcmp( const void *s1, const void *s2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(equ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han 0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 &gt; 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than 0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 &lt; 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BC2F-F49D-4E85-9135-A651F50E2AB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7: fig18_3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cm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cmp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1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EF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XYZ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emcmp(s1, s2, 4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mcmp( s1, s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emcmp(s1, s2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emcmp( s1, s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emcmp(s2, s1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mcmp( s2, s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1A8F-D971-406C-A04D-4395383D622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ABCDEF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ABCD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cmp(s1, s2, 4) =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cmp(s1, s2, 7) = -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cmp(s2, s1, 7) = 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E874-38B3-4289-B29C-C30BFDBCD5D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chr(const void *s, int c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set( void *s, int c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DD5A-E4DA-4D8F-ABC9-3A9CB620A1A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8: fig18_3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ch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ch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[]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is is a 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mainder of s after character 'r'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found is \"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memchr( 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6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"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800600"/>
            <a:ext cx="70102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s after character 'r' is found is "rin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F1CB-1DCB-4E93-A001-C376659B004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9: fig18_3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se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se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BBBBBBBBBBBB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tring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after memset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memset( string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8006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BBBBBBBBBBB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after memset = bbbbbbbBBBB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3B94-8111-43B3-8C45-61967791DB7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pede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synonyms (aliases) for previously defined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reate new type, only an 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shorter 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 Card *Card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new type n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synonym for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Ptr myCard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* myCard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3A80-1523-45BF-AE01-C6719AEABD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9:11:03Z</dcterms:created>
  <dc:creator>kalid</dc:creator>
  <dc:description/>
  <dc:language>en-US</dc:language>
  <cp:lastModifiedBy>Pearson Education</cp:lastModifiedBy>
  <dcterms:modified xsi:type="dcterms:W3CDTF">2002-08-29T18:53:35Z</dcterms:modified>
  <cp:revision>699</cp:revision>
  <dc:subject/>
  <dc:title>PowerPoint Presentation</dc:title>
</cp:coreProperties>
</file>