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C1793-9962-440B-8B8B-B3E82C42EB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6A1A0-38C1-4E6E-9CB1-E09B3FE6BD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7E4B6-67F6-494B-A698-945629AA9A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E7078-C852-4FCA-A3B3-CC12DEA403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306901-4C33-4504-9607-1EA9E64A529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EABEEE-F15E-441C-B490-F04A5DA3120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5C17BE-96DE-4312-97DD-BF85F90E6CE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EA60B1-76F9-4F1E-91EF-92C73B146BE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521B3D-082D-4DE9-AFC9-BC27DA9A2FF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0DC6C8-5FAE-489F-A02F-8630A3B9F9E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81E3A3-26F9-4EF6-976D-7376DF6629B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CB0C6-9D5E-4378-B740-14977A8C00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2D9BF8-6FBE-48F2-A4D7-C981DF1D3E7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E9AB5A-B3D2-41F9-A8A4-D7A95EF7798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EE3F2B-6D97-4DFA-99C5-77408A290AF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FF03DE-8B9A-44EC-B6D2-D513B1FDB8A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558246-FCB8-4D3B-8BC1-02CABF96573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221C2-E8EF-4D3C-86C1-C419429247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469C9-5FB8-4DBA-8091-03C194E4DD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D9978-9FC5-42AA-8D2D-86129374CD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8C0AF-35F3-48A8-A405-00A0417969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0A748-4D01-462E-A8BA-16DE8E75B1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D19D9-A6CF-4C21-A6DB-45146AC512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22DA2-3012-43C6-97E8-88C2E86A7A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3 Prentice Hall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73509-0AF2-435E-A2F1-340D838C04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086600" y="6324480"/>
            <a:ext cx="19810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3 Prentice Hall, Inc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162920" y="1522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7086240" y="76320"/>
            <a:ext cx="305280" cy="685800"/>
            <a:chOff x="7086240" y="76320"/>
            <a:chExt cx="305280" cy="685800"/>
          </a:xfrm>
        </p:grpSpPr>
        <p:sp>
          <p:nvSpPr>
            <p:cNvPr id="45" name="">
              <a:hlinkClick r:id="" action="ppaction://hlinkshowjump?jump=previousslide"/>
            </p:cNvPr>
            <p:cNvSpPr/>
            <p:nvPr/>
          </p:nvSpPr>
          <p:spPr>
            <a:xfrm rot="5400000">
              <a:off x="708624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>
              <a:hlinkClick r:id="" action="ppaction://hlinkshowjump?jump=nextslide"/>
            </p:cNvPr>
            <p:cNvSpPr/>
            <p:nvPr/>
          </p:nvSpPr>
          <p:spPr>
            <a:xfrm rot="16200000">
              <a:off x="708660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670572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sldNum" idx="2"/>
          </p:nvPr>
        </p:nvSpPr>
        <p:spPr>
          <a:xfrm>
            <a:off x="8686800" y="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B2002-6D53-4E1B-8C06-4FEDCB5356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apter 11 - Templates</a:t>
            </a:r>
            <a:endParaRPr b="1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1219320"/>
            <a:ext cx="77724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vantGarde"/>
              </a:rPr>
              <a:t>Outline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1.1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Introduction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1.2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Function Template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1.3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Overloading Function Template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1.4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Class Template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1.5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Class Templates and Nontype Parameter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1.6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Templates and Inheritance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1.7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Templates and Friend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1.8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Templates and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static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 Memb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21DB7-C102-40B7-93DD-E695220600D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stack1.h (1 of 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800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1.2: tstack1.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tack class templat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fnde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TSTACK1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defin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TSTACK1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empl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 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ck {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ck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fault constructor (stack size 10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~Stack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ele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[] stackPtr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~Stack de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ush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&amp;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ush an element onto the stack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op( T&amp; );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op an element off the stack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2286000" y="492120"/>
            <a:ext cx="4114800" cy="1067400"/>
            <a:chOff x="2286000" y="492120"/>
            <a:chExt cx="4114800" cy="1067400"/>
          </a:xfrm>
        </p:grpSpPr>
        <p:sp>
          <p:nvSpPr>
            <p:cNvPr id="126" name=""/>
            <p:cNvSpPr/>
            <p:nvPr/>
          </p:nvSpPr>
          <p:spPr>
            <a:xfrm>
              <a:off x="3733920" y="492120"/>
              <a:ext cx="26668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pecify class-template definition; type paramete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ndicates type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tack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class to be creat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>
              <a:off x="2286000" y="6444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1752120" y="4343040"/>
            <a:ext cx="4725000" cy="1038240"/>
            <a:chOff x="1752120" y="4343040"/>
            <a:chExt cx="4725000" cy="1038240"/>
          </a:xfrm>
        </p:grpSpPr>
        <p:sp>
          <p:nvSpPr>
            <p:cNvPr id="129" name=""/>
            <p:cNvSpPr/>
            <p:nvPr/>
          </p:nvSpPr>
          <p:spPr>
            <a:xfrm>
              <a:off x="3809880" y="480060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Function parameters of typ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 flipV="1">
              <a:off x="2361960" y="434304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 flipV="1">
              <a:off x="1752120" y="4572000"/>
              <a:ext cx="20574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5282C9-54DC-4F5B-AF0E-F9D32C70001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stack1.h (2 of 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800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termine whether Stack is emp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sEmpty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op =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-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isEmp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termine whether Stack is ful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sFull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op == size -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isFul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ize;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# of elements in the stack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op;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location of the top ele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 *stackPtr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ointer to the stack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lass Stack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1904760" y="3165480"/>
            <a:ext cx="4115160" cy="838080"/>
            <a:chOff x="1904760" y="3165480"/>
            <a:chExt cx="4115160" cy="838080"/>
          </a:xfrm>
        </p:grpSpPr>
        <p:sp>
          <p:nvSpPr>
            <p:cNvPr id="135" name=""/>
            <p:cNvSpPr/>
            <p:nvPr/>
          </p:nvSpPr>
          <p:spPr>
            <a:xfrm>
              <a:off x="3352680" y="3165480"/>
              <a:ext cx="266724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rray of elements of typ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1904760" y="331776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121F1F-15E2-4D59-A30B-01ED236740E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stack1.h (3 of 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empl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 &gt;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ack&lt; T &gt;::Stack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ize = s &g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? s 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op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-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tack initially emp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ackPt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[ size ]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llocate memory for elem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Stack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ush element onto stack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f successful, return true; otherwise, return fal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empl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 &gt;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ck&lt; T &gt;::push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 &amp;pushValu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!isFull()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ackPtr[ ++top ] = pushValue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lace item on Stack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ush successfu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i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a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ush unsuccessfu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pus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2209680" y="533520"/>
            <a:ext cx="5029200" cy="2361960"/>
            <a:chOff x="2209680" y="533520"/>
            <a:chExt cx="5029200" cy="2361960"/>
          </a:xfrm>
        </p:grpSpPr>
        <p:sp>
          <p:nvSpPr>
            <p:cNvPr id="140" name=""/>
            <p:cNvSpPr/>
            <p:nvPr/>
          </p:nvSpPr>
          <p:spPr>
            <a:xfrm>
              <a:off x="4572000" y="1676520"/>
              <a:ext cx="2666880" cy="10069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ember functions preceded with header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template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 </a:t>
              </a:r>
              <a:r>
                <a:rPr b="1" lang="en-US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class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T 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2362320" y="1828800"/>
              <a:ext cx="220968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 flipV="1">
              <a:off x="2209680" y="533520"/>
              <a:ext cx="236232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1447560" y="838080"/>
            <a:ext cx="4800600" cy="2669760"/>
            <a:chOff x="1447560" y="838080"/>
            <a:chExt cx="4800600" cy="2669760"/>
          </a:xfrm>
        </p:grpSpPr>
        <p:sp>
          <p:nvSpPr>
            <p:cNvPr id="144" name=""/>
            <p:cNvSpPr/>
            <p:nvPr/>
          </p:nvSpPr>
          <p:spPr>
            <a:xfrm>
              <a:off x="3447720" y="2197080"/>
              <a:ext cx="280044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se binary scope resolution operator (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::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 with class-template name (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tack&lt; T 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 to tie definition to class template’s scop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1927800" y="2349360"/>
              <a:ext cx="1519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 flipV="1">
              <a:off x="1447560" y="838080"/>
              <a:ext cx="1999800" cy="151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2133360" y="665280"/>
            <a:ext cx="4876560" cy="1737360"/>
            <a:chOff x="2133360" y="665280"/>
            <a:chExt cx="4876560" cy="1737360"/>
          </a:xfrm>
        </p:grpSpPr>
        <p:sp>
          <p:nvSpPr>
            <p:cNvPr id="148" name=""/>
            <p:cNvSpPr/>
            <p:nvPr/>
          </p:nvSpPr>
          <p:spPr>
            <a:xfrm>
              <a:off x="3849120" y="665280"/>
              <a:ext cx="3160800" cy="17373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nstructor creates array of typ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 For example, compiler genera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tackPtr = </a:t>
              </a:r>
              <a:r>
                <a:rPr b="1" lang="en-US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new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T[ size ]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for class-template specializatio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tack&lt; double 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2133360" y="817560"/>
              <a:ext cx="17154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FF620B-8275-4B57-AFE6-6A634645C39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stack1.h (4 of 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37339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op element off stack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f successful, return true; otherwise, return fal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empl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 &gt;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ck&lt; T &gt;::pop( T &amp;popValu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!isEmpty()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opValue = stackPtr[ top-- ]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move item from Stack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op successfu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i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 fa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op unsuccessfu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po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endi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286000" y="736560"/>
            <a:ext cx="4572000" cy="1235520"/>
            <a:chOff x="2286000" y="736560"/>
            <a:chExt cx="4572000" cy="1235520"/>
          </a:xfrm>
        </p:grpSpPr>
        <p:sp>
          <p:nvSpPr>
            <p:cNvPr id="153" name=""/>
            <p:cNvSpPr/>
            <p:nvPr/>
          </p:nvSpPr>
          <p:spPr>
            <a:xfrm>
              <a:off x="4191120" y="965160"/>
              <a:ext cx="2666880" cy="10069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ember function preceded with header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Courier New"/>
                </a:rPr>
                <a:t>template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&lt; </a:t>
              </a:r>
              <a:r>
                <a:rPr b="1" lang="en-US" sz="1400" spc="-1" strike="noStrike">
                  <a:solidFill>
                    <a:srgbClr val="0000ff"/>
                  </a:solidFill>
                  <a:latin typeface="Courier New"/>
                </a:rPr>
                <a:t>class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T 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 flipV="1">
              <a:off x="2286000" y="736560"/>
              <a:ext cx="19051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1980720" y="1050840"/>
            <a:ext cx="4800960" cy="1936440"/>
            <a:chOff x="1980720" y="1050840"/>
            <a:chExt cx="4800960" cy="1936440"/>
          </a:xfrm>
        </p:grpSpPr>
        <p:sp>
          <p:nvSpPr>
            <p:cNvPr id="156" name=""/>
            <p:cNvSpPr/>
            <p:nvPr/>
          </p:nvSpPr>
          <p:spPr>
            <a:xfrm>
              <a:off x="3981600" y="1676520"/>
              <a:ext cx="280008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se binary scope resolution operator (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::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 with class-template name (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tack&lt; T 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 to tie definition to class template’s scop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 flipV="1">
              <a:off x="1980720" y="1050840"/>
              <a:ext cx="2000520" cy="93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A61232-624D-474C-B5C5-7E4642E1FE0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1_0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1.3: fig11_03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tack-class-template test program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i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stack1.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"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tack class template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ack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 doubleStack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oubleValu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.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ushing elements onto doubleStack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h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doubleStack.push( doubleValue ) )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doubleValue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 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oubleValue +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.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wh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Stack is full. Cannot push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double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Popping elements from doubleStack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2361960" y="1143000"/>
            <a:ext cx="4115160" cy="838080"/>
            <a:chOff x="2361960" y="1143000"/>
            <a:chExt cx="4115160" cy="838080"/>
          </a:xfrm>
        </p:grpSpPr>
        <p:sp>
          <p:nvSpPr>
            <p:cNvPr id="161" name=""/>
            <p:cNvSpPr/>
            <p:nvPr/>
          </p:nvSpPr>
          <p:spPr>
            <a:xfrm>
              <a:off x="3809880" y="114300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ink to class template defini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2361960" y="129528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3809880" y="2057400"/>
            <a:ext cx="4114800" cy="838080"/>
            <a:chOff x="3809880" y="2057400"/>
            <a:chExt cx="4114800" cy="838080"/>
          </a:xfrm>
        </p:grpSpPr>
        <p:sp>
          <p:nvSpPr>
            <p:cNvPr id="164" name=""/>
            <p:cNvSpPr/>
            <p:nvPr/>
          </p:nvSpPr>
          <p:spPr>
            <a:xfrm>
              <a:off x="5257800" y="205740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stantiate object of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tack&lt; double 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3809880" y="220968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857320" y="3048120"/>
            <a:ext cx="4115160" cy="838080"/>
            <a:chOff x="2857320" y="3048120"/>
            <a:chExt cx="4115160" cy="838080"/>
          </a:xfrm>
        </p:grpSpPr>
        <p:sp>
          <p:nvSpPr>
            <p:cNvPr id="167" name=""/>
            <p:cNvSpPr/>
            <p:nvPr/>
          </p:nvSpPr>
          <p:spPr>
            <a:xfrm>
              <a:off x="4305240" y="3048120"/>
              <a:ext cx="26672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voke functio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ush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f class-template specializatio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tack&lt; double 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857320" y="320040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A57D7A-F45D-425F-983E-F066A268E86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1_0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h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doubleStack.pop( doubleValue )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doubleValue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 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Stack is empty. Cannot pop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ack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 intStack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Valu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Pushing elements onto intStack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h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ntStack.push( intValue )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intValue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 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++intValu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wh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Stack is full. Cannot push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intValue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Popping elements from intStack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h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ntStack.pop( intValue ) )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intValue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 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Stack is empty. Cannot pop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2857320" y="609120"/>
            <a:ext cx="4115160" cy="1053000"/>
            <a:chOff x="2857320" y="609120"/>
            <a:chExt cx="4115160" cy="1053000"/>
          </a:xfrm>
        </p:grpSpPr>
        <p:sp>
          <p:nvSpPr>
            <p:cNvPr id="172" name=""/>
            <p:cNvSpPr/>
            <p:nvPr/>
          </p:nvSpPr>
          <p:spPr>
            <a:xfrm>
              <a:off x="4305240" y="838080"/>
              <a:ext cx="26672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voke functio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op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f class-template specializatio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tack&lt; double 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 flipV="1">
              <a:off x="2857320" y="609120"/>
              <a:ext cx="144756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4495680" y="2798640"/>
            <a:ext cx="4114800" cy="824040"/>
            <a:chOff x="4495680" y="2798640"/>
            <a:chExt cx="4114800" cy="824040"/>
          </a:xfrm>
        </p:grpSpPr>
        <p:sp>
          <p:nvSpPr>
            <p:cNvPr id="175" name=""/>
            <p:cNvSpPr/>
            <p:nvPr/>
          </p:nvSpPr>
          <p:spPr>
            <a:xfrm>
              <a:off x="5943600" y="279864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ote similarity of code f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tack&lt; int 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to code f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tack&lt; double 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 flipV="1">
              <a:off x="4495680" y="2798640"/>
              <a:ext cx="144792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5228B9-FF33-4079-A5C4-3D8F81A5E95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1_0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3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1_0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8380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685800"/>
            <a:ext cx="7010280" cy="3581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ushing elements onto doubleSt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.1 2.2 3.3 4.4 5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ack is full. Cannot push 6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opping elements from doubleSt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5.5 4.4 3.3 2.2 1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ack is empty. Cannot p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ushing elements onto intSt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 2 3 4 5 6 7 8 9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ack is full. Cannot push 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opping elements from intSt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0 9 8 7 6 5 4 3 2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tack is empty. Cannot po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CF10F0-8663-47F0-85CE-51DA9B3D456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1_0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867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1.4: fig11_04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tack class template test program. Function main uses a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unction template to manipulate objects of type Stack&lt; T &gt;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i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stack1.h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tack class template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unction template to manipulate Stack&lt; T &gt;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empl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 &gt;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estStack(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ack&lt; T &gt; &amp;theStack,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reference to Stack&lt; T &gt;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 value,    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initial value to push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 increment, 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crement for subsequent valu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stackName )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name of the Stack &lt; T &gt; object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\nPushing elements onto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tackName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\n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h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theStack.push( value ) ) {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value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 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value += increment;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while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4381200" y="2133720"/>
            <a:ext cx="4762440" cy="1310760"/>
            <a:chOff x="4381200" y="2133720"/>
            <a:chExt cx="4762440" cy="1310760"/>
          </a:xfrm>
        </p:grpSpPr>
        <p:sp>
          <p:nvSpPr>
            <p:cNvPr id="183" name=""/>
            <p:cNvSpPr/>
            <p:nvPr/>
          </p:nvSpPr>
          <p:spPr>
            <a:xfrm>
              <a:off x="6056640" y="2133720"/>
              <a:ext cx="308700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Function template to manipulat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tack&lt; T 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eliminates similar code from previous file f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tack&lt; double 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tack&lt; int 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>
              <a:off x="4381200" y="2286000"/>
              <a:ext cx="1675080" cy="6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223954-D826-4C5F-BD5F-4AEAB4E84E3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1_0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029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Stack is full. Cannot push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value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Popping elements from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stackName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\n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h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theStack.pop( value ) )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value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' 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Stack is empty. Cannot pop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function testStack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ack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 doubleStack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ack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 intStack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estStack( doubleStack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.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1.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oubleStack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estStack( intStack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ntStack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C3A39E-4A73-4D5E-9279-07DE070ECE8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1_0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3505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ushing elements onto doubleStack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.1 2.2 3.3 4.4 5.5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ack is full. Cannot push 6.6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opping elements from doubleStack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5.5 4.4 3.3 2.2 1.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ack is empty. Cannot po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ushing elements onto intStack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 2 3 4 5 6 7 8 9 1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ck is full. Cannot push 1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opping elements from intStack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0 9 8 7 6 5 4 3 2 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ck is empty. Cannot pop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00040" y="1981080"/>
            <a:ext cx="3772440" cy="1419120"/>
            <a:chOff x="3200040" y="1981080"/>
            <a:chExt cx="3772440" cy="1419120"/>
          </a:xfrm>
        </p:grpSpPr>
        <p:sp>
          <p:nvSpPr>
            <p:cNvPr id="190" name=""/>
            <p:cNvSpPr/>
            <p:nvPr/>
          </p:nvSpPr>
          <p:spPr>
            <a:xfrm>
              <a:off x="4305240" y="281952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ote output identical to that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fig11_03.cpp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 flipV="1">
              <a:off x="3200040" y="1981080"/>
              <a:ext cx="110484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A9B225-DCE1-48C2-86CA-3D31AAD12AD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1.1 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Introduc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unction templat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y entire range of related (overloaded) fun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nction-template specializ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ass templat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y entire range of related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ass-template specializ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F5BE7-8022-41DC-9EBE-7D6BB5A3497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1.5 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Class Templates and Nontype Paramete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ntype paramet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ault argu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eated as con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emplate&lt; class T, int elements &gt;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ck&lt; double, 100 &gt; mostRecentSalesFigures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lares object of typ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ck&lt; double, 100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ype parame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aul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emplate&lt; class T = string 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0A6E6-BF55-4955-81F5-7DA9484D2CD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1.5 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Class Templates and Nontype Paramete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riding class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ass for specific type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es not match common class templ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emplate&lt;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 Array&lt; Martian &gt;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body of class defin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71810-9F4C-4DF7-8E3F-D56AD194836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1.6 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Templates and Inheritanc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ways of relating templates and inheri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ass template derived from class-template specializ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ass template derived from non-template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ass-template specialization derived from class-template specializ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n-template class derived from class-template specializ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384B3-2B7C-4150-8C88-7E7583983E0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1.7 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Templates and Friend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iendships between class template 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Global functio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ember function of another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ntire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EBC9E-B46A-41FA-8BD9-6F543A93090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1.7 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Templates and Friend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fri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unct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side definition of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emplate&lt; class T &gt; class X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riend void f1(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1(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rie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all class-template specializ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riend void f2( X&lt; T &gt; &amp;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2( X&lt; float &gt; &amp; 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rie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&lt; float &g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nly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2( X&lt; double &gt; &amp; 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rie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&lt; double &g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nly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2( X&lt; int &gt; &amp; 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rie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&lt; int &g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nly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riend void A::f4()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mber functio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clas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rie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all class-template specializ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6C0EE-36C8-4D61-BEFC-16C225586CB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1.7 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Templates and Friend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fri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unct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side definition of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emplate&lt; class T &gt; class X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riend void C&lt; T &gt;::f5( X&lt; T &gt; &amp;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mber functio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&lt;float&gt;::f5( X&lt; float&gt; &amp; 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rie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 X&lt;float&g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n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frien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side definition of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emplate&lt; class T &gt; class X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riend class Y;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ery member function o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riend of every class-template special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riend class Z&lt;T&gt;;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 Z&lt;float&g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rie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class-template specializatio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&lt;float&gt;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3DE06-010B-460B-98B3-16CE4F20E03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1.8 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Templates and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static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 Membe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n-template clas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data members shared between all obje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-template special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ach has own copy of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data memb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variables initialized at file sco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ach has own copy of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member fun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74612-91F8-485E-8917-803015C9E9D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1.2 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Function Templat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loaded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imilar operation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fferent types of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dentical oper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fferent types of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ingle function templa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iler generates separate object-code fun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ype check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D45F4-9157-4DDA-8D48-55AA3CFA46F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1.2 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Function Templat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-template defini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Keywor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empla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ist formal type parameters in angle brackets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parameter preceded by keywor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ype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ype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terchange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emplate&lt; class T 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emplate&lt; typename ElementType 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emplate&lt; class BorderType, class FillType 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y types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guments to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 type of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iables within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D9E6F-8FE7-45D3-A68D-23FBB1B5379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1_01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4100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1.1: fig11_01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ing template function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unction template printArray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empl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 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Array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 *array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un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count; i++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array[ i ]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printArr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ount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Count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Count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2361960" y="1143000"/>
            <a:ext cx="4115160" cy="838080"/>
            <a:chOff x="2361960" y="1143000"/>
            <a:chExt cx="4115160" cy="838080"/>
          </a:xfrm>
        </p:grpSpPr>
        <p:sp>
          <p:nvSpPr>
            <p:cNvPr id="98" name=""/>
            <p:cNvSpPr/>
            <p:nvPr/>
          </p:nvSpPr>
          <p:spPr>
            <a:xfrm>
              <a:off x="3809880" y="1143000"/>
              <a:ext cx="26672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Function template definition; declare single formal type paramete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>
              <a:off x="2361960" y="129528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980720" y="2092320"/>
            <a:ext cx="3505680" cy="885600"/>
            <a:chOff x="1980720" y="2092320"/>
            <a:chExt cx="3505680" cy="885600"/>
          </a:xfrm>
        </p:grpSpPr>
        <p:sp>
          <p:nvSpPr>
            <p:cNvPr id="101" name=""/>
            <p:cNvSpPr/>
            <p:nvPr/>
          </p:nvSpPr>
          <p:spPr>
            <a:xfrm>
              <a:off x="2819520" y="239724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s type parameter; use any valid identifie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 flipV="1">
              <a:off x="1980720" y="2092320"/>
              <a:ext cx="83844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1676520" y="2987280"/>
            <a:ext cx="3504600" cy="1391760"/>
            <a:chOff x="1676520" y="2987280"/>
            <a:chExt cx="3504600" cy="1391760"/>
          </a:xfrm>
        </p:grpSpPr>
        <p:sp>
          <p:nvSpPr>
            <p:cNvPr id="104" name=""/>
            <p:cNvSpPr/>
            <p:nvPr/>
          </p:nvSpPr>
          <p:spPr>
            <a:xfrm>
              <a:off x="2514600" y="3311640"/>
              <a:ext cx="266652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s user-defined type, stream-insertion operator must be overloaded for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 flipV="1">
              <a:off x="1676520" y="2987280"/>
              <a:ext cx="838080" cy="47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7CD140-06B9-4033-9A7C-5819CAC9EDA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1_01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029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[ aCount ] =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[ bCount ] =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.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.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.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.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.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.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[ cCount ]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ELLO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6th position for nul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rray a contains: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all integer function-template specializ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rintArray( a, aCount );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Array b contains: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all double function-template specializ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rintArray( b, bCount 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rray c contains: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all character function-template specializ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rintArray( c, cCount 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1294920" y="1905120"/>
            <a:ext cx="6706080" cy="2669760"/>
            <a:chOff x="1294920" y="1905120"/>
            <a:chExt cx="6706080" cy="2669760"/>
          </a:xfrm>
        </p:grpSpPr>
        <p:sp>
          <p:nvSpPr>
            <p:cNvPr id="109" name=""/>
            <p:cNvSpPr/>
            <p:nvPr/>
          </p:nvSpPr>
          <p:spPr>
            <a:xfrm>
              <a:off x="2514600" y="2473200"/>
              <a:ext cx="5486400" cy="2101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s complete function-template specialization for printing array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void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printArray( </a:t>
              </a:r>
              <a:r>
                <a:rPr b="1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const int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*array, </a:t>
              </a:r>
              <a:r>
                <a:rPr b="1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const int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count )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{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1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for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( </a:t>
              </a:r>
              <a:r>
                <a:rPr b="1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int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i = </a:t>
              </a:r>
              <a:r>
                <a:rPr b="1" lang="en-US" sz="1200" spc="-1" strike="noStrike">
                  <a:solidFill>
                    <a:srgbClr val="0099ff"/>
                  </a:solidFill>
                  <a:latin typeface="Courier New"/>
                  <a:ea typeface="Courier New"/>
                </a:rPr>
                <a:t>0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; i &lt; count; i++ )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cout &lt;&lt; array[ i ] &lt;&lt; </a:t>
              </a:r>
              <a:r>
                <a:rPr b="1" lang="en-US" sz="1200" spc="-1" strike="noStrike">
                  <a:solidFill>
                    <a:srgbClr val="0099ff"/>
                  </a:solidFill>
                  <a:latin typeface="Courier New"/>
                  <a:ea typeface="Courier New"/>
                </a:rPr>
                <a:t>" "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out &lt;&lt; endl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 </a:t>
              </a:r>
              <a:r>
                <a:rPr b="1" lang="en-US" sz="1200" spc="-1" strike="noStrike">
                  <a:solidFill>
                    <a:srgbClr val="008000"/>
                  </a:solidFill>
                  <a:latin typeface="Courier New"/>
                  <a:ea typeface="Courier New"/>
                </a:rPr>
                <a:t>// end function printArray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 flipV="1">
              <a:off x="1294920" y="1905120"/>
              <a:ext cx="121932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1523880" y="1981080"/>
            <a:ext cx="4114800" cy="1067400"/>
            <a:chOff x="1523880" y="1981080"/>
            <a:chExt cx="4114800" cy="1067400"/>
          </a:xfrm>
        </p:grpSpPr>
        <p:sp>
          <p:nvSpPr>
            <p:cNvPr id="112" name=""/>
            <p:cNvSpPr/>
            <p:nvPr/>
          </p:nvSpPr>
          <p:spPr>
            <a:xfrm>
              <a:off x="2971800" y="1981080"/>
              <a:ext cx="26668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mpiler infer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; instantiates function-template specialization wher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1523880" y="213372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1523880" y="3095640"/>
            <a:ext cx="4114800" cy="1067400"/>
            <a:chOff x="1523880" y="3095640"/>
            <a:chExt cx="4114800" cy="1067400"/>
          </a:xfrm>
        </p:grpSpPr>
        <p:sp>
          <p:nvSpPr>
            <p:cNvPr id="115" name=""/>
            <p:cNvSpPr/>
            <p:nvPr/>
          </p:nvSpPr>
          <p:spPr>
            <a:xfrm>
              <a:off x="2971800" y="3095640"/>
              <a:ext cx="26668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mpiler infer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ha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; instantiates function-template specialization wher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ha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>
              <a:off x="1523880" y="324828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B16E6F-6B18-4A2C-8DD4-8FF81F5F108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1_01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1600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rray a contains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 2 3 4 5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rray b contains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.1 2.2 3.3 4.4 5.5 6.6 7.7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rray c contains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 E L L O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44D271-1431-4897-AD4B-B31DAEE7C46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1.3 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Overloading Function Templat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ated function-template specializ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ame na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iler uses overloading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 template overloa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ther function templates with same na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fferent parame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n-template functions with same na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fferent function argu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piler performs matching proce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ies to find precise match of function name and argument typ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fails, function templ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function-template specialization with precise matc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C99B9-907E-4AA0-B613-763341E6E43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1.4 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Class Templat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IFO (last-in-first-out) structu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Generic programm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scribe notion of stack genericall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tantiate type-specific ver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rameterized typ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quire one or more type parame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ustomize “generic class” template to form class-template special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295A4-ABF4-4E86-854C-2DB1A9C5E76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7T19:40:27Z</dcterms:created>
  <dc:creator>Audrey Lee</dc:creator>
  <dc:description/>
  <dc:language>en-US</dc:language>
  <cp:lastModifiedBy>Pearson Education</cp:lastModifiedBy>
  <dcterms:modified xsi:type="dcterms:W3CDTF">2002-08-12T15:11:58Z</dcterms:modified>
  <cp:revision>43</cp:revision>
  <dc:subject/>
  <dc:title>fig11_01.cpp (1 of 2)  </dc:title>
</cp:coreProperties>
</file>