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682C-4FF3-46F7-BFF7-364A54B47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CC87-6044-4C94-B2C4-C09BC00BE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DE9F-BA69-410B-8A71-860CA40D5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6B9B-3648-4EAC-9712-D558DC41A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1ACB-8F51-4ED6-841D-31CCBB5E17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161C-425E-4006-9587-D68A469AC6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E63A-04B5-4842-9A64-7DBF43489D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155E-BF12-4C73-B6A3-FAC0DB605C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F765-B8FB-4F16-B92C-96D21EFD0F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9D58-AFEF-48A8-A682-78CA020797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E11B-42F2-4493-8EA9-C2CE66C502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B51A-E66A-4FDE-BD30-5CA626637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B8624-222D-4D33-BF6F-42B4C4107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A4DD-DDAF-4C18-9D6B-855E5ABEA8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42A5-3C27-461D-B10C-A5900D0582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5293-4263-4371-AF44-A65AE55855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98086-BCE3-498A-8556-C9A99C012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C761-52FC-4461-8F9A-FE1557987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28AA-2D81-427A-BBBF-692E964FA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3078-513D-4C45-8D66-7E9D471E6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473B-46B3-4E2B-890A-D1C94ADBC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D885-00CB-49DA-8C5B-9916A7ADA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A85C-633A-44CB-B40A-EADD89A40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5137-AD46-4C55-85C3-1B3405E10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E6F9-D5D0-4B1A-89FF-C55E0D130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60FD-E68A-452B-918C-60FEE1B9F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2 - C++ Stream Input/Output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ic Streams vs. Standard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ostream Library Header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Input/Output Classes and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utput of char *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haracter Output using Member Function 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get and getline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stream Member Functions peek, putback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gn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ype-Safe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nformatted I/O using read, write and g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96B1-3B75-4638-8CE7-C911C58EEB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output (usually display sc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 &lt;&lt; grad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o type informatio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 to standard error de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utputs immediat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uffers out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when buffer full or flu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advantage (discussed in OS cl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1BA51-58E9-4000-9476-0C6465600D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file processing 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ifstre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ile input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ofstre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ile out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fstre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ile 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izations allow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liases for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3D81-8903-4539-8AAC-2A648D450D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2057400"/>
            <a:ext cx="6172200" cy="2819520"/>
            <a:chOff x="1371600" y="2057400"/>
            <a:chExt cx="6172200" cy="2819520"/>
          </a:xfrm>
        </p:grpSpPr>
        <p:sp>
          <p:nvSpPr>
            <p:cNvPr id="140" name=""/>
            <p:cNvSpPr/>
            <p:nvPr/>
          </p:nvSpPr>
          <p:spPr>
            <a:xfrm>
              <a:off x="1371600" y="2057400"/>
              <a:ext cx="6172200" cy="281952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543680" y="2202840"/>
              <a:ext cx="5828760" cy="2526840"/>
              <a:chOff x="1543680" y="2202840"/>
              <a:chExt cx="5828760" cy="252684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3549240" y="3630240"/>
                <a:ext cx="1816920" cy="299880"/>
                <a:chOff x="3549240" y="3630240"/>
                <a:chExt cx="1816920" cy="29988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3549240" y="3630240"/>
                  <a:ext cx="1816920" cy="299880"/>
                  <a:chOff x="3549240" y="3630240"/>
                  <a:chExt cx="1816920" cy="29988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3549240" y="36302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3549240" y="36302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3651480" y="369432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io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607280" y="2916720"/>
                <a:ext cx="1816920" cy="299880"/>
                <a:chOff x="4607280" y="2916720"/>
                <a:chExt cx="1816920" cy="29988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4607280" y="2916720"/>
                  <a:ext cx="1816920" cy="299880"/>
                  <a:chOff x="4607280" y="2916720"/>
                  <a:chExt cx="1816920" cy="2998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4607280" y="291672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607280" y="291672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4708800" y="298080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o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491560" y="2916720"/>
                <a:ext cx="1816920" cy="299880"/>
                <a:chOff x="2491560" y="2916720"/>
                <a:chExt cx="1816920" cy="2998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2491560" y="2916720"/>
                  <a:ext cx="1816920" cy="299880"/>
                  <a:chOff x="2491560" y="2916720"/>
                  <a:chExt cx="1816920" cy="2998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2491560" y="291672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491560" y="291672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2593800" y="298080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i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549240" y="2202840"/>
                <a:ext cx="1816920" cy="299880"/>
                <a:chOff x="3549240" y="2202840"/>
                <a:chExt cx="1816920" cy="29988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3549240" y="2202840"/>
                  <a:ext cx="1816920" cy="299880"/>
                  <a:chOff x="3549240" y="2202840"/>
                  <a:chExt cx="1816920" cy="2998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3549240" y="22028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549240" y="22028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>
                  <a:off x="3651120" y="226692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i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543680" y="3630240"/>
                <a:ext cx="1816920" cy="299880"/>
                <a:chOff x="1543680" y="3630240"/>
                <a:chExt cx="1816920" cy="29988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1543680" y="3630240"/>
                  <a:ext cx="1816920" cy="299880"/>
                  <a:chOff x="1543680" y="3630240"/>
                  <a:chExt cx="1816920" cy="29988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1543680" y="36302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543680" y="36302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1645920" y="369432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if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555160" y="3630240"/>
                <a:ext cx="1817280" cy="299880"/>
                <a:chOff x="5555160" y="3630240"/>
                <a:chExt cx="1817280" cy="29988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5555160" y="3630240"/>
                  <a:ext cx="1817280" cy="299880"/>
                  <a:chOff x="5555160" y="3630240"/>
                  <a:chExt cx="1817280" cy="2998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5555160" y="3630240"/>
                    <a:ext cx="181728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555160" y="3630240"/>
                    <a:ext cx="181728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5657040" y="369432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of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4457160" y="3930480"/>
                <a:ext cx="360" cy="685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9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3549240" y="4429800"/>
                <a:ext cx="1816920" cy="299880"/>
                <a:chOff x="3549240" y="4429800"/>
                <a:chExt cx="1816920" cy="29988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3549240" y="4429800"/>
                  <a:ext cx="1816920" cy="299880"/>
                  <a:chOff x="3549240" y="4429800"/>
                  <a:chExt cx="1816920" cy="29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3549240" y="442980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3549240" y="442980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" name=""/>
                <p:cNvSpPr/>
                <p:nvPr/>
              </p:nvSpPr>
              <p:spPr>
                <a:xfrm>
                  <a:off x="3651120" y="449388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f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600720" y="2502720"/>
                <a:ext cx="1714320" cy="413640"/>
                <a:chOff x="3600720" y="2502720"/>
                <a:chExt cx="1714320" cy="4136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074920" y="2502720"/>
                  <a:ext cx="24012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29" y="1994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00720" y="2502720"/>
                  <a:ext cx="24012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48"/>
                      </a:moveTo>
                      <a:lnTo>
                        <a:pt x="19929" y="0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017880" y="3216600"/>
                <a:ext cx="2883960" cy="413640"/>
                <a:chOff x="3017880" y="3216600"/>
                <a:chExt cx="2883960" cy="4136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074920" y="3216600"/>
                  <a:ext cx="24012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29" y="0"/>
                      </a:moveTo>
                      <a:lnTo>
                        <a:pt x="0" y="19948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600720" y="3216600"/>
                  <a:ext cx="24012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29" y="19948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017880" y="3216600"/>
                  <a:ext cx="23976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48"/>
                      </a:moveTo>
                      <a:lnTo>
                        <a:pt x="19929" y="0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662080" y="3216600"/>
                  <a:ext cx="23976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29" y="1994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0348-9AF3-4965-BAC7-11774E19A6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Out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ted and unforma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data typ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s (decimal, octal, hexadecim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oating point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precision, forced decimal points, scientific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ustified, padded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percase/lowercase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F957-5CC4-4B72-8B69-602CD99765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1 Output of char * Variab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determines data type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lly an improvement (over 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y to print value of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address of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verloaded to print null-terminated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ution: cas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whenever printing value of a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 as a hex (base 16)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6CE9-7C13-489C-BED1-25D3F52E02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3: fig12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the address stored in a char * variab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value of char *, then display value of char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static_cast to void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of word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word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of static_cast&lt; void * &gt;( word )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word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5720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f word is: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 of static_cast&lt; void *&gt;( word ) is: 0046C07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62520" y="1676520"/>
            <a:ext cx="3124080" cy="1828800"/>
            <a:chOff x="3962520" y="1676520"/>
            <a:chExt cx="3124080" cy="1828800"/>
          </a:xfrm>
        </p:grpSpPr>
        <p:sp>
          <p:nvSpPr>
            <p:cNvPr id="194" name=""/>
            <p:cNvSpPr/>
            <p:nvPr/>
          </p:nvSpPr>
          <p:spPr>
            <a:xfrm>
              <a:off x="4419720" y="1676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print the value of the pointer, we must cast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Otherwise, the string is prin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962520" y="2210040"/>
              <a:ext cx="4572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C23B-9EC4-41AB-B014-7A2D7CA7BA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2 Character Output using Member Function 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put( 'A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casc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put( 'A' ).put(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valuates left-to-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numerical (ASCII)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put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469A-90E1-4642-BAF7-84B93E18C2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ted and unformatted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ly skips whitespace (blanks, tabs, newlin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ang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n EOF encount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returns reference to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 bits set if errors occ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in 12.7 and 1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34D4-6D4E-4341-B024-42C2916887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1 get and getline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ge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one character from stream (even whitesp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nd-of-file encoun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of-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end of in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trl-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IBM-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trl-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UNIX and Ma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eof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f EOF has occu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8210-E6E0-44DE-A82A-689136EFA5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4: fig12_04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ber functions get, put and eof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int, because char cannot represent E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mpt user to enter line of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input, cin.eof()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eof()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 followed by end-of-fil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get to read each character; use put to display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character = cin.get()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.put( charac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nd-of-file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OF in this system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haract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put, cin.eof()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eof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666880" y="3048120"/>
            <a:ext cx="4114800" cy="1067400"/>
            <a:chOff x="2666880" y="3048120"/>
            <a:chExt cx="4114800" cy="1067400"/>
          </a:xfrm>
        </p:grpSpPr>
        <p:sp>
          <p:nvSpPr>
            <p:cNvPr id="205" name=""/>
            <p:cNvSpPr/>
            <p:nvPr/>
          </p:nvSpPr>
          <p:spPr>
            <a:xfrm>
              <a:off x="4114800" y="3048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with no arguments) returns a single character input, unl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counte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6668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9D37-EA5A-4302-B20F-10E0F962C4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2 - C++ Stream Input/Output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21932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 to Stream Manip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egral Stream Base: dec, oct, hex and set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loating-Point Precision (precision, setpreci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ield Width (width, set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ogrammer-Defined Manip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Format States and Stream Manip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railing Zeros and Decimal Points (showpo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Justification (left, right and inter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adding (fill, setf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egral Stream Base (dec, oct, hex, showb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loating-Point Numbers; Scientific and Fixe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Notation (scientific, fix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6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ppercase/Lowercase Control (upper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pecifying Boolean Format (boolalph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8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tting and Resetting the Format State via Member-Function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Error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ying an Output Stream to an Input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FB9B-4ED0-42C3-92EB-4EC2C63D1D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09480"/>
            <a:ext cx="701028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input, cin.eof()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 followed by end-of-fi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get and pu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get and pu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^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OF in this system is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fter input cin.eof() is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5B6F5-A57D-49C4-A845-97636E403D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1 get and getline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(charR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character referenc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s one character, store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R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reference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OF,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(charArray, size, delimi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unti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 read, or delimiter encount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delimi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miter stays in in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move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ignor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array null-termin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F50E-82DA-4C68-AB56-28D1DDE746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5: fig12_05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asting input of a string via cin and cin.ge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wo char arrays, each with 80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cin to input characters into buffer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buff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uffer1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tring read with cin wa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uffer1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cin.get to input characters into buffer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get( buffer2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819160" y="4572000"/>
            <a:ext cx="4115160" cy="838080"/>
            <a:chOff x="2819160" y="4572000"/>
            <a:chExt cx="4115160" cy="838080"/>
          </a:xfrm>
        </p:grpSpPr>
        <p:sp>
          <p:nvSpPr>
            <p:cNvPr id="215" name=""/>
            <p:cNvSpPr/>
            <p:nvPr/>
          </p:nvSpPr>
          <p:spPr>
            <a:xfrm>
              <a:off x="4267080" y="4572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 delimiter specified, so the defaul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\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u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819160" y="4724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057400" y="3048120"/>
            <a:ext cx="4114800" cy="838080"/>
            <a:chOff x="2057400" y="3048120"/>
            <a:chExt cx="4114800" cy="838080"/>
          </a:xfrm>
        </p:grpSpPr>
        <p:sp>
          <p:nvSpPr>
            <p:cNvPr id="218" name=""/>
            <p:cNvSpPr/>
            <p:nvPr/>
          </p:nvSpPr>
          <p:spPr>
            <a:xfrm>
              <a:off x="350532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ll only read until the first whitesp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05740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DCEB-E1BA-4CFD-94F7-1B80E0ED03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uffer2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read with cin.get wa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uffer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981080"/>
            <a:ext cx="7010280" cy="228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asting string input with cin and cin.get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read with cin w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asting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read with cin.get w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 input with cin and cin.g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8BED-7203-4FF7-B8B2-DA4DFBD566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1 get and getline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line(array, size, delimi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last version of 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, or until delimiter f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delimiter from input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null character at end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5654-7D87-4131-B70C-A67FA3C100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6: fig12_06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ting characters using cin member function getli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rray of 80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put characters in buffer via cin function ge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getline( buff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uffer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entence entered i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&lt;&lt; buff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7604-E3EC-4234-B31B-E853BC981C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getline member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entence entered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getline member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BF19-26A1-4A31-8A91-46AE68BC81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2 istream Member Functions peek, putback and igno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gnor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ards characters from stream (default 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ps discarding once delimiter f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delimi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tback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character obtain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ck on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eek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ext character in stream, but does not rem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B938-02A3-4E23-ADF9-F6F599C839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Type-Safe I/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to accept data of specific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unexpected data 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ror bits 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 can test bits to see if I/O fa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in section 1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E568-337F-46FF-BF5D-10E1C25B45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nformatted I/O using read, write and gcou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ormatted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ember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raw bytes into character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 enough characters read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number of characters read by last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bytes from character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when null character f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buffer[] = "HAPPY BIRTHDAY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write( buffer, 1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first 10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50DA-1C14-4C95-B7C4-4E57B2297F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common I/O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orien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s, function overloading, operator over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sa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O sensitive to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if types do not 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-defined and standar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C++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4CCA-67CD-4C77-9021-FFFA6C561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7: fig12_07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formatted I/O using read, gcount and wri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rray of 80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function read to input characters into buf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read( buff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functions write and gcount to display buffer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entence entered wa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.write( buffer, cin.gcoun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819160" y="2743200"/>
            <a:ext cx="4115160" cy="1600200"/>
            <a:chOff x="2819160" y="2743200"/>
            <a:chExt cx="4115160" cy="1600200"/>
          </a:xfrm>
        </p:grpSpPr>
        <p:sp>
          <p:nvSpPr>
            <p:cNvPr id="238" name=""/>
            <p:cNvSpPr/>
            <p:nvPr/>
          </p:nvSpPr>
          <p:spPr>
            <a:xfrm>
              <a:off x="4267080" y="2743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20 characters from input stream. Display the proper number of character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ri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819160" y="2895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048120" y="2895480"/>
              <a:ext cx="12189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AC23-D79E-4AEF-AC86-1EDA905311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read, write, and gcount member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entence entered wa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read, wr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5F63-1B2C-48C6-975F-68062881DE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 to Stream Manipul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s perform formatting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 width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is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 fla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l character in fiel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ushing strea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ing newline in output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ipping whitespace in input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0DAF-E1A9-4338-991C-40B159F12D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.1 Integral Stream Base: dec, oct, hex and setba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s normally base 10 (decim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manipulators to change 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ase 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ase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sets to base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hex &lt;&lt; my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base(newB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f 8, 10, or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remains same until explicitly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iz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argument (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b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85B2-7871-4045-9387-FE17EBED13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8: fig12_08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eam manipulators hex, oct, dec and set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h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de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decimal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be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hex stream manipulator to show hexadecimal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 hexadecimal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h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876560" y="4343400"/>
            <a:ext cx="4115160" cy="838080"/>
            <a:chOff x="4876560" y="4343400"/>
            <a:chExt cx="4115160" cy="838080"/>
          </a:xfrm>
        </p:grpSpPr>
        <p:sp>
          <p:nvSpPr>
            <p:cNvPr id="250" name=""/>
            <p:cNvSpPr/>
            <p:nvPr/>
          </p:nvSpPr>
          <p:spPr>
            <a:xfrm>
              <a:off x="6324480" y="4343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age of stream manipul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76560" y="4495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87A5-8BAB-4FD7-91E3-CBBDCBFAD4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ct stream manipulator to show octal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dec &lt;&lt; 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 octal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oct 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setbase stream manipulator to show decimal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b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 decimal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8195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decimal numb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in hexadecimal is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in octal is: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 in decimal is: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742840" y="1676160"/>
            <a:ext cx="3810240" cy="1662480"/>
            <a:chOff x="2742840" y="1676160"/>
            <a:chExt cx="3810240" cy="1662480"/>
          </a:xfrm>
        </p:grpSpPr>
        <p:sp>
          <p:nvSpPr>
            <p:cNvPr id="256" name=""/>
            <p:cNvSpPr/>
            <p:nvPr/>
          </p:nvSpPr>
          <p:spPr>
            <a:xfrm>
              <a:off x="3886200" y="2514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b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parameterized stream manipulator (it takes an argument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2742840" y="1676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9408-118C-4238-AF3C-3C58335A9C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.2 Floating-Point Precision (precision, setprecis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precision of floating point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digits to right of deci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number of decimal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etprecision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recision(newPreci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no arguments, returns current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tings remain until changed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DC27-1D9A-4E35-9EE4-F75ADB905C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9: fig12_09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ling precision of floating-point valu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math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r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ot2 = sq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quare root of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c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quare root of 2 with precisions 0-9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cision set by ios_base member-function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cision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se fixed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057400" y="4572000"/>
            <a:ext cx="4114800" cy="838080"/>
            <a:chOff x="2057400" y="4572000"/>
            <a:chExt cx="4114800" cy="838080"/>
          </a:xfrm>
        </p:grpSpPr>
        <p:sp>
          <p:nvSpPr>
            <p:cNvPr id="263" name=""/>
            <p:cNvSpPr/>
            <p:nvPr/>
          </p:nvSpPr>
          <p:spPr>
            <a:xfrm>
              <a:off x="3505320" y="4572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fixed precision, not scientific notation (more details in 12.7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057400" y="4724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B745-4E78-46D9-9B9D-E7C459558A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square root using ios_base function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lac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laces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laces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.precision( plac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root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ecision set by stream-manipulator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precision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ecision for each digit, then display square roo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lac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laces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lace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precision( places ) &lt;&lt; root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429000" y="990720"/>
            <a:ext cx="4419720" cy="1828800"/>
            <a:chOff x="3429000" y="990720"/>
            <a:chExt cx="4419720" cy="1828800"/>
          </a:xfrm>
        </p:grpSpPr>
        <p:sp>
          <p:nvSpPr>
            <p:cNvPr id="268" name=""/>
            <p:cNvSpPr/>
            <p:nvPr/>
          </p:nvSpPr>
          <p:spPr>
            <a:xfrm>
              <a:off x="5181480" y="9907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format of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eci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parameterized 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preci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3429000" y="99072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657240" y="1447920"/>
              <a:ext cx="1523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B8EE-6B19-4100-8AC0-76F6A47E00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quare root of 2 with precisions 0-9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sion set by ios_base member-function precis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5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5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sion set by stream-manipulator setprecis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5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5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64DA-2E20-4F7E-9E4A-E36EB39F77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: sequence of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: from device (keyboard, disk drive) t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: from memory to device (monitor, printer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perations often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it for disk drive/keyboard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-level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formatted (not convenient for peo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-by-byte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-speed, high-volume 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s grouped (into integers, characters, string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most I/O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E211-3CA2-46CE-A59A-0809D86308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.3 Field Width (width, setw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 (bas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_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width(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field 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character positions for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number of characters that should be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revious 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l characters/Pad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when output too small for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outputs are printed (not trunc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lso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ading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1 less character (leave room for nul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FD7A-468A-4823-93C4-87DEB3AB208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0: fig12_10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member function width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ten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wid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only 5 characters from 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eld width, then display characters based on that wid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in &gt;&gt; senten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.width( widthValue++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ntenc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wid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5 more characters from 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7400" y="3048120"/>
            <a:ext cx="4114800" cy="838080"/>
            <a:chOff x="2057400" y="3048120"/>
            <a:chExt cx="4114800" cy="838080"/>
          </a:xfrm>
        </p:grpSpPr>
        <p:sp>
          <p:nvSpPr>
            <p:cNvPr id="278" name=""/>
            <p:cNvSpPr/>
            <p:nvPr/>
          </p:nvSpPr>
          <p:spPr>
            <a:xfrm>
              <a:off x="350532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s up to 4 characters, stops when whitespace rea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05740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581280" y="3844800"/>
            <a:ext cx="4114800" cy="422280"/>
            <a:chOff x="3581280" y="3844800"/>
            <a:chExt cx="4114800" cy="422280"/>
          </a:xfrm>
        </p:grpSpPr>
        <p:sp>
          <p:nvSpPr>
            <p:cNvPr id="281" name=""/>
            <p:cNvSpPr/>
            <p:nvPr/>
          </p:nvSpPr>
          <p:spPr>
            <a:xfrm>
              <a:off x="5029200" y="38448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the output wid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581280" y="38862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58C8-0B78-4BD3-B1C1-9A33BFA1B8D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609480"/>
            <a:ext cx="7010280" cy="3353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is a test of the width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FC9F-7C64-4F88-8F70-E9214BA8D5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.4 Programmer-Defined Manipul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defin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parameter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bell( ostream&amp; output )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output &lt;&lt; '\a';  // issue system be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b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carriage retu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ta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74C6-A389-4692-8C45-082E334CCA3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1: fig12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ing and testing programmer-defined, nonparameteriz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eam manipul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lus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ll manipulator (using escape sequence \a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bell( ostream&amp; output 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 system b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riageReturn manipulator (using escape sequence \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carriageReturn( ostream&amp; output )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 carriage return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C870-6153-4DDA-BCBC-590E1502A1C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b manipulator (using escape sequence \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tab( ostream&amp; output )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 tab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Line manipulator (using escape sequence \n and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flush)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endLine( ostream&amp; output )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lush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 end of line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tab and endLine manipu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the tab manipulat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ab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ab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c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i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the carriageReturn and bell manipulator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in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......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bel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bell manip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5137-E323-4C63-83AF-18BA04838E5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carriageReturn and endLine manipu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arriageRetur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----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i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52388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tab manipul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      b      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carriageReturn and bell manipula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969D-3455-43A6-A4EC-AB12CD7CD3F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Format States and Stream Manipul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stream manipulators for forma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ing up n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inherit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_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8A17-A2CA-4B26-B72E-9E74A7D13BE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1 Trailing Zeros and Decimal Points (showpoint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decimal number to print with trailing ze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decimal number 79.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 withou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w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.000000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w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p to level of preci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show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3DAC-562B-46EC-B0F6-58E41C31755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3: fig12_13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howpoint to control the printing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iling zeros and decimal points for doubl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ouble values with default stream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using showpo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99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990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90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9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00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ouble value after show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how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using showpo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99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9.9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90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9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00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30AB-8F01-4F5A-B3D5-3866F025649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1 Classic Streams vs. Standar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c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/outp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(one by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number of characters (ASC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stream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languages need special alphab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code character set supports th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char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o I/O with Unicode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BB41-3D0A-4494-9CE4-02EBC237A9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9480"/>
            <a:ext cx="7010280" cy="221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using show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9900 prints as: 9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9000 prints as: 9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0000 prints as: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using show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9900 prints as: 9.99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9000 prints as: 9.9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9.0000 prints as: 9.0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09320" y="1523880"/>
            <a:ext cx="3429360" cy="1876320"/>
            <a:chOff x="2209320" y="1523880"/>
            <a:chExt cx="3429360" cy="1876320"/>
          </a:xfrm>
        </p:grpSpPr>
        <p:sp>
          <p:nvSpPr>
            <p:cNvPr id="305" name=""/>
            <p:cNvSpPr/>
            <p:nvPr/>
          </p:nvSpPr>
          <p:spPr>
            <a:xfrm>
              <a:off x="29718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ou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how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trailing zeros are remo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09320" y="1523880"/>
              <a:ext cx="7621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2B8A-FD28-49E8-AB2F-0B070A06857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2 Justification (left, right and internal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-justified, padding to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-justified, padding to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set padding/fill charac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's sign left-just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's value right-just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        1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owp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ces sign to pr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show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94DE-8CD0-456D-808D-60C67F6B33E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4: fig12_14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left justification and right justifi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3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right justified (defaul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fault is right justified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left manipulator to display x left just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std::left to left justify x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71800" y="3581280"/>
            <a:ext cx="4114800" cy="838440"/>
            <a:chOff x="2971800" y="3581280"/>
            <a:chExt cx="4114800" cy="838440"/>
          </a:xfrm>
        </p:grpSpPr>
        <p:sp>
          <p:nvSpPr>
            <p:cNvPr id="312" name=""/>
            <p:cNvSpPr/>
            <p:nvPr/>
          </p:nvSpPr>
          <p:spPr>
            <a:xfrm>
              <a:off x="4419720" y="3581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- and left-just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within a width of 10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971800" y="373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D5E2-D9C4-4C62-B3F2-FC903CD5949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right manipulator to display x right just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std::right to right justify x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righ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17524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is right just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std::left to left justify x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std::right to right justify x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1D7C-BC57-43E0-8532-14740026D6F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5: fig12_15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n integer with internal spacing and plus sig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ntern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value with internal spacing and plus sig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rnal &lt;&lt; showpos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480060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      12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819160" y="2819520"/>
            <a:ext cx="4115160" cy="838080"/>
            <a:chOff x="2819160" y="2819520"/>
            <a:chExt cx="4115160" cy="838080"/>
          </a:xfrm>
        </p:grpSpPr>
        <p:sp>
          <p:nvSpPr>
            <p:cNvPr id="321" name=""/>
            <p:cNvSpPr/>
            <p:nvPr/>
          </p:nvSpPr>
          <p:spPr>
            <a:xfrm>
              <a:off x="42670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howpo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81916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714FC-E2DC-4220-B190-E33721F5651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3 Padding (fill, setfill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fill character used in pad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fill('*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fi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fill( '^'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8200-FBEB-43C8-B31D-CF0967FAC44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6: fig12_16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ber-function fill and stream-manipulator setfil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change the padding character for fields large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d valu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ntern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h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de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CEE45-4334-4F69-BC66-6EB66AAD625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ed as int right and left justified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nd as hex with internal justification.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the default pad character (space)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with plus sig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howbase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with left jus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as hex with internal jus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rnal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ex &lt;&lt; x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various padding character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using padded characters (right justifica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.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dec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133360" y="4114800"/>
            <a:ext cx="4115160" cy="838080"/>
            <a:chOff x="2133360" y="4114800"/>
            <a:chExt cx="4115160" cy="838080"/>
          </a:xfrm>
        </p:grpSpPr>
        <p:sp>
          <p:nvSpPr>
            <p:cNvPr id="330" name=""/>
            <p:cNvSpPr/>
            <p:nvPr/>
          </p:nvSpPr>
          <p:spPr>
            <a:xfrm>
              <a:off x="3581280" y="4114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133360" y="426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8E43-BF86-4A3E-816B-1AE59B8F99C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using padded characters (left justifica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%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using padded characters (internal justifica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rnal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^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362320"/>
            <a:ext cx="701028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0 printed as int right and left just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as hex with internal jus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default pad character (spac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0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    27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various padding charac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0%%%%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x^^^^27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7583-F928-4856-9A89-EED9079523E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4 Integral Stream Base (dec, oct, hex, showbase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integer in various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imal numbers defa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oc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h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w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base of number to be sh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show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EDBA-1781-4C10-9842-1E93FE04B2F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2 iostream Library Header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header files with hundreds of I/O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stream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inpu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outpu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uffered err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ed err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manip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 I/O with parameterized stream manip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stream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processing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5EC1-CD25-480D-8CF7-AE8D87B355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7: fig12_17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eam-manipulator show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h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showbase to show number 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ing integers preceded by their bas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how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x &lt;&lt; endl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decimal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oct &lt;&lt; x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ctal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hex &lt;&lt; x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hexadecimal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04760" y="2895480"/>
            <a:ext cx="4115160" cy="838440"/>
            <a:chOff x="1904760" y="2895480"/>
            <a:chExt cx="4115160" cy="838440"/>
          </a:xfrm>
        </p:grpSpPr>
        <p:sp>
          <p:nvSpPr>
            <p:cNvPr id="340" name=""/>
            <p:cNvSpPr/>
            <p:nvPr/>
          </p:nvSpPr>
          <p:spPr>
            <a:xfrm>
              <a:off x="3352680" y="2895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ces numbers to be printed with a prece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if octal)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if hexadecimal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904760" y="3048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A71F-53B6-4138-AE34-D564D81F005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ing integers preceded by their bas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14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6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105B-22F2-4218-988C-B0D363FF9B3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5 Floating-Point Numbers; Scientific and Fixed Notation (scientific, fixed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cient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scientific no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.946000e+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fixed poin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number of decimals specified by prec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46000000.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manipulator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 of number determines how it app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C344-7854-4354-8233-5E889C5BBF9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8: fig12_18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ing floating-point values in system defaul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cientific and fixed forma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cientifi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012345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946e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and y in defaul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played in default form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and y in scientific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splayed in scientific form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cientific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438280" y="1981080"/>
            <a:ext cx="4114800" cy="2819520"/>
            <a:chOff x="2438280" y="1981080"/>
            <a:chExt cx="4114800" cy="2819520"/>
          </a:xfrm>
        </p:grpSpPr>
        <p:sp>
          <p:nvSpPr>
            <p:cNvPr id="349" name=""/>
            <p:cNvSpPr/>
            <p:nvPr/>
          </p:nvSpPr>
          <p:spPr>
            <a:xfrm>
              <a:off x="3886200" y="19810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differing initializations, and us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cientif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eam manipul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43828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438280" y="2133720"/>
              <a:ext cx="144792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CB8C-CDA5-4B1A-B248-85C5795189A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and y in fixe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splayed in fixed form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fixed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7524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ed in default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123457      1.946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ed in scientific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234567e-003   1.946000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ed in fixed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001235        1946000000.00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590560" y="1523880"/>
            <a:ext cx="4115160" cy="838440"/>
            <a:chOff x="2590560" y="1523880"/>
            <a:chExt cx="4115160" cy="838440"/>
          </a:xfrm>
        </p:grpSpPr>
        <p:sp>
          <p:nvSpPr>
            <p:cNvPr id="356" name=""/>
            <p:cNvSpPr/>
            <p:nvPr/>
          </p:nvSpPr>
          <p:spPr>
            <a:xfrm>
              <a:off x="4038480" y="15238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difference between the default, fixed, and scientific forma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59056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8C35-7216-4516-84D8-FBC3523108A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6 Uppercase/Lowercase Control (uppercase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per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percase E in scientific no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E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percase X in hex notation and uppercase hex let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AB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default, lower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upper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3FAC-5069-4DEB-B1EA-4BFBE4BBFE6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9: fig12_19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eam-manipulator upperc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upperc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h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ing uppercase letters in scientific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tation exponents and hexadecimal value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std:uppercase to display uppercase lett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std::hex to display hexadecimal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uppercas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345e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&lt;&lt; he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345678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752480" y="2895480"/>
            <a:ext cx="4114800" cy="838440"/>
            <a:chOff x="1752480" y="2895480"/>
            <a:chExt cx="4114800" cy="838440"/>
          </a:xfrm>
        </p:grpSpPr>
        <p:sp>
          <p:nvSpPr>
            <p:cNvPr id="363" name=""/>
            <p:cNvSpPr/>
            <p:nvPr/>
          </p:nvSpPr>
          <p:spPr>
            <a:xfrm>
              <a:off x="3200400" y="2895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ce uppercase form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75248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C7CC-90EB-4535-B869-A66ED8A6AB7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ing uppercase letters in scientif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tation exponents and hexadecimal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345E+0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5BCD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FBFA-12B8-4A37-BD22-FD836AEBF6E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7 Specifying Boolean Format (boolalpha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when u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ed as 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lalp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string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true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false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boolalph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46B7-726A-49CD-91D3-57C58C47895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20: fig12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eam-manipulators boolalpha and noboolalph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oolalpha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noboolalph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efault true boolean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leanValu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olean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ooleanValue after using boolalph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leanValue (after using boolalpha)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oolalpha &lt;&lt; booleanValue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witch booleanValue and use noboolalph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oolean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 boolean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noboolalpha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noboolalph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286000" y="1968480"/>
            <a:ext cx="4572000" cy="2374920"/>
            <a:chOff x="2286000" y="1968480"/>
            <a:chExt cx="4572000" cy="2374920"/>
          </a:xfrm>
        </p:grpSpPr>
        <p:sp>
          <p:nvSpPr>
            <p:cNvPr id="372" name=""/>
            <p:cNvSpPr/>
            <p:nvPr/>
          </p:nvSpPr>
          <p:spPr>
            <a:xfrm>
              <a:off x="4191120" y="1968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s can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Note us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alph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eam manipul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743200" y="2120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286000" y="2120760"/>
              <a:ext cx="1905120" cy="22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C1671-A1A3-4122-9EB5-3731DA598C4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y has class templates for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sic_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inpu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sic_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outpu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sic_i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input and outpu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lares alias for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 Card *Card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ynonym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in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DEC2-A2A5-4E72-9331-00F588496D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efault false booleanValue after using noboolalph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leanValu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olean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ooleanValue after using boolalpha ag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leanValue (after using boolalpha)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oolalpha &lt;&lt; boolean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236232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Value i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Value (after using boolalpha)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booleanValue and use noboolal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Value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oleanValue (after using boolalpha) is fal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FF8D-6962-454E-974E-4616F7F12BE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8 Setting and Resetting the Format State via Member-Function fla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ave/restore forma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apply many changes, may want to restore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.flags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no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urrent stat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mtfl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_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s forma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mtflag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revious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4218-1EC5-43FB-A624-0F8A35668A2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21: fig12_21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flags member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cientifi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bas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_bas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9476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ags value, int and double values (original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the flags variable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out.flag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 int and double in original forma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Value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cout flags function to save origin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os_base::fmtflags originalFormat = cout.flag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howbase &lt;&lt; oct &lt;&lt; scientific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190760" y="4114800"/>
            <a:ext cx="4115160" cy="838080"/>
            <a:chOff x="4190760" y="4114800"/>
            <a:chExt cx="4115160" cy="838080"/>
          </a:xfrm>
        </p:grpSpPr>
        <p:sp>
          <p:nvSpPr>
            <p:cNvPr id="383" name=""/>
            <p:cNvSpPr/>
            <p:nvPr/>
          </p:nvSpPr>
          <p:spPr>
            <a:xfrm>
              <a:off x="5638680" y="4114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ve original format using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a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190760" y="426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72D9-D264-4246-AF20-DE21E4392B7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ags value, int and double values (new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the flags variable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out.flag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 int and double in a new forma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Value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.flags( originalFormat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tor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ags value, int and double values (original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restored value of the flags variable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cout.flag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 values in original format again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209320" y="1600200"/>
            <a:ext cx="3429360" cy="1556640"/>
            <a:chOff x="2209320" y="1600200"/>
            <a:chExt cx="3429360" cy="1556640"/>
          </a:xfrm>
        </p:grpSpPr>
        <p:sp>
          <p:nvSpPr>
            <p:cNvPr id="388" name=""/>
            <p:cNvSpPr/>
            <p:nvPr/>
          </p:nvSpPr>
          <p:spPr>
            <a:xfrm>
              <a:off x="2971800" y="2819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tore original form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2209320" y="1600200"/>
              <a:ext cx="7621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ADE7-D47A-461D-BCBA-4CCB29C7392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the flags variable is: 5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int and double in original forma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the flags variable is: 0120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int and double in a new forma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1750   9.476280e-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tored value of the flags variable is: 5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values in original format agai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   0.09476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766E-87D2-4123-88AA-3C26A0E6269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Error St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tate of stream using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of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 when EOF encount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eo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 when error occurs in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not lost, error recov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 when data l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nonrecov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ood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of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8006-DBAF-4665-92F5-3C5C27AD541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Error St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dstat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error state of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est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to test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ea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stream to "good" state, so I/O can 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pass other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clear( ios::failbit 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"clear" seems strange, but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1D93-51A7-40D8-A751-F1ECDD171F2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22: fig12_22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error stat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cin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a bad input operation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n.rdstate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rdsta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cin.eof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eof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in.fail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fail(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cin.ba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bad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in.goo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good(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xpects an integer, but enter a charact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teger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er charact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895480" y="2209680"/>
            <a:ext cx="4114800" cy="838440"/>
            <a:chOff x="2895480" y="2209680"/>
            <a:chExt cx="4114800" cy="838440"/>
          </a:xfrm>
        </p:grpSpPr>
        <p:sp>
          <p:nvSpPr>
            <p:cNvPr id="399" name=""/>
            <p:cNvSpPr/>
            <p:nvPr/>
          </p:nvSpPr>
          <p:spPr>
            <a:xfrm>
              <a:off x="434340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original states using the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89548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A301D-DA33-4783-9CB1-0046D735993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cin functions after bad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a bad input operation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n.rdstate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rdsta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cin.eof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eof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in.fail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fail(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cin.ba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bad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in.goo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good()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clea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ear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cin functions after clearing c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cin.clear()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n.fail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fai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n.goo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good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752480" y="1143000"/>
            <a:ext cx="4114800" cy="838080"/>
            <a:chOff x="1752480" y="1143000"/>
            <a:chExt cx="4114800" cy="838080"/>
          </a:xfrm>
        </p:grpSpPr>
        <p:sp>
          <p:nvSpPr>
            <p:cNvPr id="404" name=""/>
            <p:cNvSpPr/>
            <p:nvPr/>
          </p:nvSpPr>
          <p:spPr>
            <a:xfrm>
              <a:off x="3200400" y="11430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e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75248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9B20-2D51-41D6-BE5A-C232ADE19D9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a bad input oper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rdstate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eof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fail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bad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good()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ects an integer, but enter a character: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 bad input oper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rdstate():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eof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fail()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bad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good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in.clea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fail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good()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68732-A608-48C9-9149-84651E41B52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"derive"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asic_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95280" y="1981080"/>
            <a:ext cx="6629400" cy="3213360"/>
            <a:chOff x="1295280" y="1981080"/>
            <a:chExt cx="6629400" cy="3213360"/>
          </a:xfrm>
        </p:grpSpPr>
        <p:sp>
          <p:nvSpPr>
            <p:cNvPr id="104" name=""/>
            <p:cNvSpPr/>
            <p:nvPr/>
          </p:nvSpPr>
          <p:spPr>
            <a:xfrm>
              <a:off x="1295280" y="1981080"/>
              <a:ext cx="6629400" cy="32133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610440" y="4470840"/>
              <a:ext cx="1951560" cy="465840"/>
              <a:chOff x="3610440" y="4470840"/>
              <a:chExt cx="1951560" cy="46584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3610440" y="4470840"/>
                <a:ext cx="1951560" cy="465840"/>
                <a:chOff x="3610440" y="4470840"/>
                <a:chExt cx="1951560" cy="4658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610440" y="447084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610440" y="447084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3719880" y="4570560"/>
                <a:ext cx="173160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basic_iostre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746600" y="3362400"/>
              <a:ext cx="1951920" cy="465840"/>
              <a:chOff x="4746600" y="3362400"/>
              <a:chExt cx="1951920" cy="465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4746600" y="3362400"/>
                <a:ext cx="1951920" cy="465840"/>
                <a:chOff x="4746600" y="3362400"/>
                <a:chExt cx="1951920" cy="4658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746600" y="3362400"/>
                  <a:ext cx="195192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746600" y="3362400"/>
                  <a:ext cx="195192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4856040" y="3462120"/>
                <a:ext cx="173160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basic_ostre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474640" y="3362400"/>
              <a:ext cx="1951560" cy="465840"/>
              <a:chOff x="2474640" y="3362400"/>
              <a:chExt cx="1951560" cy="4658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2474640" y="3362400"/>
                <a:ext cx="1951560" cy="465840"/>
                <a:chOff x="2474640" y="3362400"/>
                <a:chExt cx="1951560" cy="4658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474640" y="336240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474640" y="336240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2583720" y="3462120"/>
                <a:ext cx="173196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basic_istre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610440" y="2253960"/>
              <a:ext cx="1951560" cy="465840"/>
              <a:chOff x="3610440" y="2253960"/>
              <a:chExt cx="1951560" cy="46584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3610440" y="2253960"/>
                <a:ext cx="1951560" cy="465840"/>
                <a:chOff x="3610440" y="2253960"/>
                <a:chExt cx="1951560" cy="4658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610440" y="225396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610440" y="225396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3719880" y="2353680"/>
                <a:ext cx="173160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basic_i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665880" y="2719800"/>
              <a:ext cx="1841400" cy="642240"/>
              <a:chOff x="3665880" y="2719800"/>
              <a:chExt cx="1841400" cy="642240"/>
            </a:xfrm>
          </p:grpSpPr>
          <p:sp>
            <p:nvSpPr>
              <p:cNvPr id="126" name=""/>
              <p:cNvSpPr/>
              <p:nvPr/>
            </p:nvSpPr>
            <p:spPr>
              <a:xfrm>
                <a:off x="5249520" y="2719800"/>
                <a:ext cx="257760" cy="642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19948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65880" y="2719800"/>
                <a:ext cx="257400" cy="642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8"/>
                    </a:moveTo>
                    <a:lnTo>
                      <a:pt x="19929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665880" y="3828240"/>
              <a:ext cx="1841400" cy="642240"/>
              <a:chOff x="3665880" y="3828240"/>
              <a:chExt cx="1841400" cy="642240"/>
            </a:xfrm>
          </p:grpSpPr>
          <p:sp>
            <p:nvSpPr>
              <p:cNvPr id="129" name=""/>
              <p:cNvSpPr/>
              <p:nvPr/>
            </p:nvSpPr>
            <p:spPr>
              <a:xfrm>
                <a:off x="5249520" y="3828240"/>
                <a:ext cx="257760" cy="642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0"/>
                    </a:moveTo>
                    <a:lnTo>
                      <a:pt x="0" y="19948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65880" y="3828240"/>
                <a:ext cx="257400" cy="642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29" y="19948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2CA7-C86E-4542-91FF-1BA1707BC1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ying an Output Stream to an Input Stre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with buffere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active program (prompt user, he/she respon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pt needs to appear before input proc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ed outputs only appear when buffer fills or flu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nchronizes stre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appear before subsequent inp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matically don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ut could wr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tie( &amp;cou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to explicitly tie other I/O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n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Stream.tie(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64BA-B8EA-4FB1-B532-AE6CE0FF9CD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insertion and extraction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 to standard input (usually keyboar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 &gt;&gt; grad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determines data type of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proper overloaded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xtra type informatio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5A68-F47E-43AC-A366-3402C9E52A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9:55:01Z</dcterms:created>
  <dc:creator>Audrey Lee</dc:creator>
  <dc:description/>
  <dc:language>en-US</dc:language>
  <cp:lastModifiedBy>Pearson Education</cp:lastModifiedBy>
  <dcterms:modified xsi:type="dcterms:W3CDTF">2002-10-01T19:53:53Z</dcterms:modified>
  <cp:revision>673</cp:revision>
  <dc:subject/>
  <dc:title>fig12_03.cpp (1 of 1)  fig12_03.cpp output (1 of 1)  </dc:title>
</cp:coreProperties>
</file>