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1956-2DF8-48D0-83D7-8E95B7F9F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8DBB-91B9-4CF5-8D68-B982BDF0B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0408-5C31-4331-BA6D-183F3C949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52B3-6F4A-4739-B90B-F9E680BFB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9135-8125-4E34-B427-42356FE4B2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BF9C-7B2A-441C-AB9E-302E9FC46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A372-AE4C-438E-BD89-5CDE6E1B1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DB3F-CCA0-4F7E-8DF4-0000F68565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D0FF-5590-470F-A03E-12BCEF0ACE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0806-397A-431E-AC6A-2C8D9D84A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042E-6C82-44DC-8BC8-0B422A09B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F696-FA62-4873-9272-5B694E2FD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8630-1C9B-4829-874F-728B414716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FA3C-7C9F-48B2-BD6B-AAAB0B115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4386-21AF-4621-A25D-FC06D9DA9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EE15-297E-4B19-8A09-30ED891B1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50C7-9A52-4386-A367-F6168608C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A5F4-7CC1-4A2F-B5E7-71A804ADE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3EA6-242B-4CF4-B3C7-D0AD4CD7E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2246-8DF1-4C39-B88D-A0431F226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1916-525C-49B5-B8EB-E7F5D03B6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982-7328-4E29-B6D2-B9E01B583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7E64-6261-445F-BE6B-51312E20C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BEC-ED91-420E-970F-7806F8DBD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B84A-C7CC-40EF-9CAF-7A8BBE4B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9CF-5606-461E-AEE9-B25F58717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7 - Data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lf-Referenti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and Data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ed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2265-C833-41BC-8617-0122D7A5C4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linked lis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llowing illus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) is before, (b) is af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47C3-5A1D-4618-95A7-7419D499F3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90720" y="1219320"/>
            <a:ext cx="7696080" cy="3235320"/>
            <a:chOff x="990720" y="1219320"/>
            <a:chExt cx="7696080" cy="3235320"/>
          </a:xfrm>
        </p:grpSpPr>
        <p:sp>
          <p:nvSpPr>
            <p:cNvPr id="193" name=""/>
            <p:cNvSpPr/>
            <p:nvPr/>
          </p:nvSpPr>
          <p:spPr>
            <a:xfrm>
              <a:off x="990720" y="1219320"/>
              <a:ext cx="7696080" cy="32353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75360" y="1405800"/>
              <a:ext cx="4361400" cy="2806560"/>
              <a:chOff x="2475360" y="1405800"/>
              <a:chExt cx="4361400" cy="2806560"/>
            </a:xfrm>
          </p:grpSpPr>
          <p:sp>
            <p:nvSpPr>
              <p:cNvPr id="195" name=""/>
              <p:cNvSpPr/>
              <p:nvPr/>
            </p:nvSpPr>
            <p:spPr>
              <a:xfrm>
                <a:off x="6070680" y="166896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0960" y="16678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86920" y="240444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96640" y="31402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68160" y="313920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6200" y="3874680"/>
                <a:ext cx="76788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8360" y="3874680"/>
                <a:ext cx="38016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90160" y="3140280"/>
                <a:ext cx="38052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8360" y="2401560"/>
                <a:ext cx="38232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91240" y="1670760"/>
                <a:ext cx="383400" cy="33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91240" y="16696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50720" y="18111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977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256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0040" y="1733760"/>
                <a:ext cx="1591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41680" y="180720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6220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519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067800" y="1666080"/>
                <a:ext cx="384480" cy="339480"/>
                <a:chOff x="6067800" y="1666080"/>
                <a:chExt cx="384480" cy="339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067800" y="166608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21800" y="1733760"/>
                  <a:ext cx="275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645228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04440" y="1405800"/>
                <a:ext cx="96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7952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86920" y="2401560"/>
                <a:ext cx="38484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46400" y="254304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785120" y="2401560"/>
                <a:ext cx="768960" cy="339120"/>
                <a:chOff x="4785120" y="2401560"/>
                <a:chExt cx="768960" cy="339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169600" y="2401560"/>
                  <a:ext cx="384480" cy="339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785120" y="2401560"/>
                  <a:ext cx="384480" cy="339120"/>
                  <a:chOff x="4785120" y="2401560"/>
                  <a:chExt cx="384480" cy="339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785120" y="2401560"/>
                    <a:ext cx="38448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39120" y="2469240"/>
                    <a:ext cx="274680" cy="24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5169600" y="2401560"/>
                <a:ext cx="38448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5200" y="214128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79520" y="257148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75360" y="142056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87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4640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716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92320" y="3137400"/>
                <a:ext cx="384480" cy="339480"/>
                <a:chOff x="4792320" y="3137400"/>
                <a:chExt cx="384480" cy="33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9232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04640" y="3205080"/>
                  <a:ext cx="15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34168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62200" y="330696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067800" y="3137400"/>
                <a:ext cx="768960" cy="339480"/>
                <a:chOff x="6067800" y="3137400"/>
                <a:chExt cx="768960" cy="339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45228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6067800" y="3137400"/>
                  <a:ext cx="384480" cy="339480"/>
                  <a:chOff x="6067800" y="3137400"/>
                  <a:chExt cx="384480" cy="339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067800" y="3137400"/>
                    <a:ext cx="38448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121800" y="3205080"/>
                    <a:ext cx="274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3" name=""/>
              <p:cNvSpPr/>
              <p:nvPr/>
            </p:nvSpPr>
            <p:spPr>
              <a:xfrm>
                <a:off x="6452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04440" y="2877120"/>
                <a:ext cx="967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79520" y="3306960"/>
                <a:ext cx="695520" cy="565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9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87280" y="38728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6400" y="40143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5120" y="38728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39120" y="3940920"/>
                <a:ext cx="274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35200" y="361260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79520" y="404280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75360" y="289224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69960" y="3872880"/>
                <a:ext cx="38412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28720" y="4014360"/>
                <a:ext cx="6516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89080" y="3486960"/>
                <a:ext cx="571680" cy="54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7165"/>
                    </a:lnTo>
                    <a:lnTo>
                      <a:pt x="19963" y="7165"/>
                    </a:lnTo>
                    <a:lnTo>
                      <a:pt x="19963" y="199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5329080" y="4211280"/>
            <a:ext cx="3662640" cy="1078920"/>
            <a:chOff x="5329080" y="4211280"/>
            <a:chExt cx="3662640" cy="1078920"/>
          </a:xfrm>
        </p:grpSpPr>
        <p:sp>
          <p:nvSpPr>
            <p:cNvPr id="257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Ptr-&gt;next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329080" y="4211280"/>
              <a:ext cx="4622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3280" y="3451320"/>
            <a:ext cx="3657600" cy="1963800"/>
            <a:chOff x="233280" y="3451320"/>
            <a:chExt cx="3657600" cy="1963800"/>
          </a:xfrm>
        </p:grpSpPr>
        <p:sp>
          <p:nvSpPr>
            <p:cNvPr id="260" name=""/>
            <p:cNvSpPr/>
            <p:nvPr/>
          </p:nvSpPr>
          <p:spPr>
            <a:xfrm>
              <a:off x="233280" y="459108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newPt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475000" y="3451320"/>
              <a:ext cx="1415880" cy="11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2F3B-CB79-4F43-BDC1-36E2D2494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71600" y="990720"/>
            <a:ext cx="6477120" cy="3157560"/>
            <a:chOff x="1371600" y="990720"/>
            <a:chExt cx="6477120" cy="3157560"/>
          </a:xfrm>
        </p:grpSpPr>
        <p:sp>
          <p:nvSpPr>
            <p:cNvPr id="264" name=""/>
            <p:cNvSpPr/>
            <p:nvPr/>
          </p:nvSpPr>
          <p:spPr>
            <a:xfrm>
              <a:off x="1371600" y="990720"/>
              <a:ext cx="6477120" cy="3157560"/>
            </a:xfrm>
            <a:prstGeom prst="rect">
              <a:avLst/>
            </a:prstGeom>
            <a:solidFill>
              <a:srgbClr val="ffe699"/>
            </a:solidFill>
            <a:ln w="0">
              <a:solidFill>
                <a:srgbClr val="ffe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0760" y="1119240"/>
              <a:ext cx="900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6920" y="1119240"/>
              <a:ext cx="792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43160" y="116676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31080" y="113652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3280" y="302436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0760" y="2647800"/>
              <a:ext cx="8143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264780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43160" y="267804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31080" y="264780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504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3600" y="1382760"/>
              <a:ext cx="32364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8600" y="1519200"/>
              <a:ext cx="536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9872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872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2280" y="1519200"/>
              <a:ext cx="554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59600" y="28908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5780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2800" y="3025800"/>
              <a:ext cx="5400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8720" y="28908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872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2280" y="302580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59600" y="13842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780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92800" y="1519200"/>
              <a:ext cx="5400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052800" y="2133720"/>
              <a:ext cx="3906720" cy="323640"/>
              <a:chOff x="3052800" y="2133720"/>
              <a:chExt cx="3906720" cy="3236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310440" y="2133720"/>
                <a:ext cx="647280" cy="322920"/>
                <a:chOff x="6310440" y="2133720"/>
                <a:chExt cx="647280" cy="3229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6340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310440" y="2133720"/>
                  <a:ext cx="323640" cy="322920"/>
                  <a:chOff x="6310440" y="2133720"/>
                  <a:chExt cx="323640" cy="3229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310440" y="213372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453360" y="2359800"/>
                    <a:ext cx="36720" cy="7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"/>
              <p:cNvSpPr/>
              <p:nvPr/>
            </p:nvSpPr>
            <p:spPr>
              <a:xfrm>
                <a:off x="553392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5210280" y="2133720"/>
                <a:ext cx="323640" cy="322920"/>
                <a:chOff x="5210280" y="2133720"/>
                <a:chExt cx="323640" cy="322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2102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353560" y="2359800"/>
                  <a:ext cx="36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12740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70680" y="235980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95720" y="236088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87720" y="2180880"/>
                <a:ext cx="25236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320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21000" y="2180880"/>
                <a:ext cx="14472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211360" y="2134440"/>
                <a:ext cx="324000" cy="322920"/>
                <a:chOff x="5211360" y="2134440"/>
                <a:chExt cx="324000" cy="3229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211360" y="2134440"/>
                  <a:ext cx="32400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246280" y="2180880"/>
                  <a:ext cx="25272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312240" y="2134440"/>
                <a:ext cx="647280" cy="322920"/>
                <a:chOff x="6312240" y="2134440"/>
                <a:chExt cx="647280" cy="3229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635880" y="213444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6312240" y="2134440"/>
                  <a:ext cx="323640" cy="322920"/>
                  <a:chOff x="6312240" y="2134440"/>
                  <a:chExt cx="323640" cy="3229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312240" y="213444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406560" y="2198880"/>
                    <a:ext cx="133920" cy="23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66358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77520" y="2136240"/>
                <a:ext cx="32256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7644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10360" y="2269080"/>
                <a:ext cx="54720" cy="543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35560" y="229320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53560" y="2134440"/>
                <a:ext cx="32292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53560" y="2133720"/>
                <a:ext cx="32400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87840" y="2268000"/>
                <a:ext cx="5472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11960" y="2291400"/>
                <a:ext cx="5936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052800" y="3641760"/>
              <a:ext cx="3906720" cy="326880"/>
              <a:chOff x="3052800" y="3641760"/>
              <a:chExt cx="3906720" cy="326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052800" y="3645000"/>
                <a:ext cx="323640" cy="322560"/>
                <a:chOff x="3052800" y="3645000"/>
                <a:chExt cx="323640" cy="322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052800" y="3645000"/>
                  <a:ext cx="323640" cy="32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95720" y="3870360"/>
                  <a:ext cx="370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133520" y="3642480"/>
                <a:ext cx="645120" cy="322200"/>
                <a:chOff x="4133520" y="3642480"/>
                <a:chExt cx="645120" cy="3222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56080" y="3642480"/>
                  <a:ext cx="322560" cy="322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4133520" y="3642480"/>
                  <a:ext cx="322560" cy="322200"/>
                  <a:chOff x="4133520" y="3642480"/>
                  <a:chExt cx="322560" cy="3222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133520" y="3642480"/>
                    <a:ext cx="32256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275000" y="3867480"/>
                    <a:ext cx="36720" cy="7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5534280" y="364176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210640" y="3641760"/>
                <a:ext cx="323640" cy="324360"/>
                <a:chOff x="5210640" y="3641760"/>
                <a:chExt cx="323640" cy="324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210640" y="364176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53560" y="3868560"/>
                  <a:ext cx="36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55160" y="3871440"/>
                  <a:ext cx="3672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0535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9960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17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5744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06560" y="3709080"/>
                  <a:ext cx="13392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35360" y="3644280"/>
                <a:ext cx="32328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6928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15360" y="380664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54280" y="3642480"/>
                <a:ext cx="32256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54280" y="364176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88560" y="3776760"/>
                <a:ext cx="5436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12680" y="38001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74280" y="3646080"/>
                <a:ext cx="32328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74280" y="364428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0856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32680" y="38037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129560" y="3644280"/>
                <a:ext cx="323640" cy="318960"/>
                <a:chOff x="4129560" y="3644280"/>
                <a:chExt cx="323640" cy="318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129560" y="3644280"/>
                  <a:ext cx="323640" cy="31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223880" y="3706560"/>
                  <a:ext cx="13428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3087720" y="1573200"/>
              <a:ext cx="10800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1720" y="1573200"/>
              <a:ext cx="141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8640" y="1519200"/>
              <a:ext cx="9864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4240" y="3051000"/>
              <a:ext cx="1414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6800" y="3051000"/>
              <a:ext cx="10800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8720" y="3081240"/>
              <a:ext cx="1054080" cy="560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334120" y="3968640"/>
            <a:ext cx="3657600" cy="1321560"/>
            <a:chOff x="5334120" y="3968640"/>
            <a:chExt cx="3657600" cy="1321560"/>
          </a:xfrm>
        </p:grpSpPr>
        <p:sp>
          <p:nvSpPr>
            <p:cNvPr id="375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-&gt;nex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668920" y="3968640"/>
              <a:ext cx="12240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00600" y="3214440"/>
            <a:ext cx="3657600" cy="3130920"/>
            <a:chOff x="4800600" y="3214440"/>
            <a:chExt cx="3657600" cy="3130920"/>
          </a:xfrm>
        </p:grpSpPr>
        <p:sp>
          <p:nvSpPr>
            <p:cNvPr id="378" name=""/>
            <p:cNvSpPr/>
            <p:nvPr/>
          </p:nvSpPr>
          <p:spPr>
            <a:xfrm>
              <a:off x="4800600" y="552132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257800" y="3214440"/>
              <a:ext cx="0" cy="23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B787-D169-4ADA-ADA0-08498A461E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41400" y="914400"/>
            <a:ext cx="7288200" cy="4343400"/>
            <a:chOff x="941400" y="914400"/>
            <a:chExt cx="7288200" cy="4343400"/>
          </a:xfrm>
        </p:grpSpPr>
        <p:sp>
          <p:nvSpPr>
            <p:cNvPr id="382" name=""/>
            <p:cNvSpPr/>
            <p:nvPr/>
          </p:nvSpPr>
          <p:spPr>
            <a:xfrm>
              <a:off x="941400" y="914400"/>
              <a:ext cx="7288200" cy="434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55720" y="3062160"/>
              <a:ext cx="36540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251320" y="3913200"/>
              <a:ext cx="728640" cy="363240"/>
              <a:chOff x="5251320" y="3913200"/>
              <a:chExt cx="728640" cy="363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251320" y="3913200"/>
                <a:ext cx="364320" cy="363240"/>
                <a:chOff x="5251320" y="3913200"/>
                <a:chExt cx="364320" cy="363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251320" y="3913200"/>
                  <a:ext cx="364320" cy="363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12240" y="4167720"/>
                  <a:ext cx="410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615640" y="3913200"/>
                <a:ext cx="36432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66480" y="4064400"/>
                <a:ext cx="61560" cy="6156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392200" y="106344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8840" y="106344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20960" y="110628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6560" y="32144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59120" y="3232080"/>
              <a:ext cx="1206360" cy="66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97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lgDash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92200" y="276372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276372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0960" y="280656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3280" y="4097160"/>
              <a:ext cx="66852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5120" y="4992480"/>
              <a:ext cx="8064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emp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5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4120" y="4167000"/>
              <a:ext cx="41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4960" y="3965400"/>
              <a:ext cx="284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195720" y="3913200"/>
              <a:ext cx="365040" cy="365040"/>
              <a:chOff x="3195720" y="3913200"/>
              <a:chExt cx="365040" cy="365040"/>
            </a:xfrm>
          </p:grpSpPr>
          <p:sp>
            <p:nvSpPr>
              <p:cNvPr id="405" name=""/>
              <p:cNvSpPr/>
              <p:nvPr/>
            </p:nvSpPr>
            <p:spPr>
              <a:xfrm>
                <a:off x="3195720" y="3915000"/>
                <a:ext cx="363960" cy="36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95720" y="3913200"/>
                <a:ext cx="365040" cy="36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46920" y="4065120"/>
                <a:ext cx="61560" cy="615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403880" y="3913200"/>
              <a:ext cx="3632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040280" y="3913200"/>
              <a:ext cx="363600" cy="363240"/>
              <a:chOff x="4040280" y="3913200"/>
              <a:chExt cx="363600" cy="363240"/>
            </a:xfrm>
          </p:grpSpPr>
          <p:sp>
            <p:nvSpPr>
              <p:cNvPr id="410" name=""/>
              <p:cNvSpPr/>
              <p:nvPr/>
            </p:nvSpPr>
            <p:spPr>
              <a:xfrm>
                <a:off x="404028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00480" y="4168080"/>
                <a:ext cx="4140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402080" y="3914640"/>
              <a:ext cx="3636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52920" y="40640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9920" y="409248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7120" y="3965400"/>
              <a:ext cx="162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391320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481800" y="3913200"/>
              <a:ext cx="363600" cy="363240"/>
              <a:chOff x="6481800" y="3913200"/>
              <a:chExt cx="363600" cy="363240"/>
            </a:xfrm>
          </p:grpSpPr>
          <p:sp>
            <p:nvSpPr>
              <p:cNvPr id="418" name=""/>
              <p:cNvSpPr/>
              <p:nvPr/>
            </p:nvSpPr>
            <p:spPr>
              <a:xfrm>
                <a:off x="648180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2360" y="4167720"/>
                <a:ext cx="41400" cy="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846840" y="3914640"/>
              <a:ext cx="36504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8880" y="13507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57520" y="13507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06560" y="15015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880" y="306540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09960" y="455616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60440" y="47066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5360" y="3913200"/>
              <a:ext cx="3618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95560" y="4167000"/>
              <a:ext cx="41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4960" y="3965400"/>
              <a:ext cx="285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97160" y="3914640"/>
              <a:ext cx="3621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76600" y="2212920"/>
              <a:ext cx="3636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2466720"/>
              <a:ext cx="4140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16200" y="2265120"/>
              <a:ext cx="284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40200" y="221436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7720" y="22129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3894120" y="2212920"/>
              <a:ext cx="363600" cy="363600"/>
              <a:chOff x="3894120" y="2212920"/>
              <a:chExt cx="363600" cy="363600"/>
            </a:xfrm>
          </p:grpSpPr>
          <p:sp>
            <p:nvSpPr>
              <p:cNvPr id="437" name=""/>
              <p:cNvSpPr/>
              <p:nvPr/>
            </p:nvSpPr>
            <p:spPr>
              <a:xfrm>
                <a:off x="389412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546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255920" y="22129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90960" y="2265120"/>
              <a:ext cx="162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456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30960" y="2212920"/>
              <a:ext cx="363600" cy="363600"/>
              <a:chOff x="6330960" y="2212920"/>
              <a:chExt cx="363600" cy="363600"/>
            </a:xfrm>
          </p:grpSpPr>
          <p:sp>
            <p:nvSpPr>
              <p:cNvPr id="443" name=""/>
              <p:cNvSpPr/>
              <p:nvPr/>
            </p:nvSpPr>
            <p:spPr>
              <a:xfrm>
                <a:off x="633096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9152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697800" y="2214360"/>
              <a:ext cx="3632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199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075280" y="2212920"/>
              <a:ext cx="363600" cy="363600"/>
              <a:chOff x="5075280" y="2212920"/>
              <a:chExt cx="363600" cy="363600"/>
            </a:xfrm>
          </p:grpSpPr>
          <p:sp>
            <p:nvSpPr>
              <p:cNvPr id="447" name=""/>
              <p:cNvSpPr/>
              <p:nvPr/>
            </p:nvSpPr>
            <p:spPr>
              <a:xfrm>
                <a:off x="507528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354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543888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109960" y="1350720"/>
              <a:ext cx="5101920" cy="3570480"/>
              <a:chOff x="2109960" y="1350720"/>
              <a:chExt cx="5101920" cy="3570480"/>
            </a:xfrm>
          </p:grpSpPr>
          <p:sp>
            <p:nvSpPr>
              <p:cNvPr id="451" name=""/>
              <p:cNvSpPr/>
              <p:nvPr/>
            </p:nvSpPr>
            <p:spPr>
              <a:xfrm>
                <a:off x="265536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0172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9560" y="3913920"/>
                <a:ext cx="35784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84756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6482880" y="3915000"/>
                <a:ext cx="364320" cy="364320"/>
                <a:chOff x="6482880" y="3915000"/>
                <a:chExt cx="364320" cy="3643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482880" y="3915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82960" y="3967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252040" y="3913920"/>
                <a:ext cx="728640" cy="364320"/>
                <a:chOff x="5252040" y="3913920"/>
                <a:chExt cx="728640" cy="3643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252040" y="3913920"/>
                  <a:ext cx="364320" cy="364320"/>
                  <a:chOff x="5252040" y="3913920"/>
                  <a:chExt cx="364320" cy="364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252040" y="3913920"/>
                    <a:ext cx="36432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303520" y="3986640"/>
                    <a:ext cx="25956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>
                  <a:off x="5616360" y="3913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767200" y="4065840"/>
                  <a:ext cx="61560" cy="6156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633852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5536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0972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09960" y="455688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536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9608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7660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3804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48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0160" y="2216160"/>
                <a:ext cx="364320" cy="35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9780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333120" y="2214000"/>
                <a:ext cx="364320" cy="364320"/>
                <a:chOff x="6333120" y="2214000"/>
                <a:chExt cx="364320" cy="3643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333120" y="2214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33200" y="2266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074920" y="2212920"/>
                <a:ext cx="364320" cy="364320"/>
                <a:chOff x="5074920" y="2212920"/>
                <a:chExt cx="364320" cy="3643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074920" y="2212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114160" y="2265480"/>
                  <a:ext cx="2847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54392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835360" y="1560240"/>
              <a:ext cx="144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322360" y="4249440"/>
              <a:ext cx="4842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00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3700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004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27400" y="2404800"/>
              <a:ext cx="6681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6568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405288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9680" y="408132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1160" y="149832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19960" y="1560240"/>
              <a:ext cx="14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1160" y="320040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519960" y="3262320"/>
              <a:ext cx="144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6320" y="3276720"/>
            <a:ext cx="2514600" cy="1279440"/>
            <a:chOff x="76320" y="3276720"/>
            <a:chExt cx="2514600" cy="1279440"/>
          </a:xfrm>
        </p:grpSpPr>
        <p:sp>
          <p:nvSpPr>
            <p:cNvPr id="497" name=""/>
            <p:cNvSpPr/>
            <p:nvPr/>
          </p:nvSpPr>
          <p:spPr>
            <a:xfrm>
              <a:off x="76320" y="32767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622680"/>
              <a:ext cx="6602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859200" y="4280040"/>
            <a:ext cx="4473720" cy="1312920"/>
            <a:chOff x="3859200" y="4280040"/>
            <a:chExt cx="4473720" cy="1312920"/>
          </a:xfrm>
        </p:grpSpPr>
        <p:sp>
          <p:nvSpPr>
            <p:cNvPr id="500" name=""/>
            <p:cNvSpPr/>
            <p:nvPr/>
          </p:nvSpPr>
          <p:spPr>
            <a:xfrm>
              <a:off x="3859200" y="4768920"/>
              <a:ext cx="447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firstPtr-&gt;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re are no more nod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54120" y="4280040"/>
              <a:ext cx="14292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76520" y="5257440"/>
            <a:ext cx="2514600" cy="1023480"/>
            <a:chOff x="1676520" y="5257440"/>
            <a:chExt cx="2514600" cy="1023480"/>
          </a:xfrm>
        </p:grpSpPr>
        <p:sp>
          <p:nvSpPr>
            <p:cNvPr id="503" name=""/>
            <p:cNvSpPr/>
            <p:nvPr/>
          </p:nvSpPr>
          <p:spPr>
            <a:xfrm>
              <a:off x="1676520" y="59436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22360" y="5257440"/>
              <a:ext cx="26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0557-1F73-4F96-B476-78521CE0DA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990720"/>
            <a:ext cx="7238880" cy="471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0480" y="237024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29240" y="262404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70480" y="237168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32640" y="237168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7040" y="244332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32640" y="237168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70480" y="4048200"/>
            <a:ext cx="3621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32640" y="40482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924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6326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77040" y="412128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3264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95760" y="3362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34160" y="4986360"/>
            <a:ext cx="61920" cy="604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14800" y="4043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76960" y="404352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75360" y="429732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2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95520" y="2623320"/>
              <a:ext cx="4104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6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74920" y="2422080"/>
              <a:ext cx="281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33640" y="237168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4000" y="23702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2560" y="237024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256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0760" y="2373480"/>
            <a:ext cx="361800" cy="355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29040" y="242244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3076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40496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89520" y="430200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8464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8932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25720" y="4052880"/>
            <a:ext cx="362160" cy="3556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25800" y="410040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30520" y="2368440"/>
            <a:ext cx="35892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8928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3052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8680" y="242244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9440" y="23702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3052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8928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3052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8680" y="409896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944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94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46200" y="321480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44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3800" y="336564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46200" y="152568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4620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9560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9760" y="1525680"/>
            <a:ext cx="3585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796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3736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44880" y="1244520"/>
            <a:ext cx="1006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7400" y="1244520"/>
            <a:ext cx="88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22600" y="1290600"/>
            <a:ext cx="23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40600" y="3365640"/>
            <a:ext cx="601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2952720"/>
            <a:ext cx="909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37400" y="2952720"/>
            <a:ext cx="801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22600" y="2978280"/>
            <a:ext cx="233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560" y="5291280"/>
            <a:ext cx="800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emp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48000" y="2946240"/>
            <a:ext cx="1125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ren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16600" y="404640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78400" y="404640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67360" y="4118040"/>
            <a:ext cx="258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8020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noFill/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0480" y="1676520"/>
            <a:ext cx="15876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0520" y="1736640"/>
            <a:ext cx="15876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51080" y="421020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3404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61040" y="421020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51080" y="253368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51928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70400" y="25480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89720" y="25336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195880" y="3424320"/>
            <a:ext cx="1062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96080" y="4411800"/>
            <a:ext cx="404640" cy="57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7680" y="3424320"/>
            <a:ext cx="378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362320" y="4606920"/>
            <a:ext cx="3276360" cy="337320"/>
            <a:chOff x="2362320" y="4606920"/>
            <a:chExt cx="3276360" cy="337320"/>
          </a:xfrm>
        </p:grpSpPr>
        <p:sp>
          <p:nvSpPr>
            <p:cNvPr id="605" name=""/>
            <p:cNvSpPr/>
            <p:nvPr/>
          </p:nvSpPr>
          <p:spPr>
            <a:xfrm>
              <a:off x="2362320" y="46069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3960" y="4724280"/>
              <a:ext cx="77472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820800" y="628560"/>
            <a:ext cx="4437000" cy="2317680"/>
            <a:chOff x="820800" y="628560"/>
            <a:chExt cx="4437000" cy="2317680"/>
          </a:xfrm>
        </p:grpSpPr>
        <p:sp>
          <p:nvSpPr>
            <p:cNvPr id="608" name=""/>
            <p:cNvSpPr/>
            <p:nvPr/>
          </p:nvSpPr>
          <p:spPr>
            <a:xfrm>
              <a:off x="820800" y="628560"/>
              <a:ext cx="44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"Walk" list until get next-to-last node, unti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rrentPtr-&gt;next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48000" y="1219320"/>
              <a:ext cx="109872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00800" y="3424320"/>
            <a:ext cx="2681280" cy="1672200"/>
            <a:chOff x="6400800" y="3424320"/>
            <a:chExt cx="2681280" cy="1672200"/>
          </a:xfrm>
        </p:grpSpPr>
        <p:sp>
          <p:nvSpPr>
            <p:cNvPr id="611" name=""/>
            <p:cNvSpPr/>
            <p:nvPr/>
          </p:nvSpPr>
          <p:spPr>
            <a:xfrm>
              <a:off x="6400800" y="4759200"/>
              <a:ext cx="26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curren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408720" y="3424320"/>
              <a:ext cx="1301760" cy="13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257800" y="5444640"/>
            <a:ext cx="2514600" cy="1023480"/>
            <a:chOff x="5257800" y="5444640"/>
            <a:chExt cx="2514600" cy="1023480"/>
          </a:xfrm>
        </p:grpSpPr>
        <p:sp>
          <p:nvSpPr>
            <p:cNvPr id="614" name=""/>
            <p:cNvSpPr/>
            <p:nvPr/>
          </p:nvSpPr>
          <p:spPr>
            <a:xfrm>
              <a:off x="5257800" y="61308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5903640" y="5444640"/>
              <a:ext cx="268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7828-9ADD-426B-B70D-025CEF147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 has two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two 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ype depends on class temp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manipul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94BF-8C21-4199-BC63-C98451F25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3: list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Lis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Lis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xtPtr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ext node in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is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828440" y="1066680"/>
            <a:ext cx="4724640" cy="2895840"/>
            <a:chOff x="1828440" y="1066680"/>
            <a:chExt cx="4724640" cy="2895840"/>
          </a:xfrm>
        </p:grpSpPr>
        <p:sp>
          <p:nvSpPr>
            <p:cNvPr id="621" name=""/>
            <p:cNvSpPr/>
            <p:nvPr/>
          </p:nvSpPr>
          <p:spPr>
            <a:xfrm>
              <a:off x="38862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type of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pends on how the class template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28440" y="1600200"/>
              <a:ext cx="2057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8981-6081-41A6-9231-55DED9467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::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info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data( info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nex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py of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TYPE ListNode&lt; NODETYPE &gt;::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1F06-49BD-43AE-B611-2493707229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1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4: lis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nod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Nod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List(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NODETYPE &amp;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Back( NODETYPE &amp;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F065-EFC6-4B99-A19F-FEE6F9EA0A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2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firs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lastPt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ast n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allocate new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getNew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NODETYPE &gt;::Li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971440" y="838080"/>
            <a:ext cx="3277080" cy="1419120"/>
            <a:chOff x="2971440" y="838080"/>
            <a:chExt cx="3277080" cy="1419120"/>
          </a:xfrm>
        </p:grpSpPr>
        <p:sp>
          <p:nvSpPr>
            <p:cNvPr id="630" name=""/>
            <p:cNvSpPr/>
            <p:nvPr/>
          </p:nvSpPr>
          <p:spPr>
            <a:xfrm>
              <a:off x="3581280" y="1676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971440" y="83808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C1AD-EFC7-499B-A5C1-C4A5254033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str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w and shrink as program ru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items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from top of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line, insert at back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 searching/sorting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F00D-7E58-44EC-998E-846DAC6E0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3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 NODETYPE &gt;::~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oying nodes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remaining 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tempPtr-&gt;data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nodes destroy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B3B1-36C8-4C9D-A7D5-E0528A08B2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4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Ptr-&gt;nex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580920" y="837720"/>
            <a:ext cx="3886560" cy="1648080"/>
            <a:chOff x="3580920" y="837720"/>
            <a:chExt cx="3886560" cy="1648080"/>
          </a:xfrm>
        </p:grpSpPr>
        <p:sp>
          <p:nvSpPr>
            <p:cNvPr id="637" name=""/>
            <p:cNvSpPr/>
            <p:nvPr/>
          </p:nvSpPr>
          <p:spPr>
            <a:xfrm>
              <a:off x="4800600" y="1905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 new node as described in the previous diagram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80920" y="8377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F231-F7D5-45A3-BEA6-56CE958C17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5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-&gt;nex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F450-C45F-4D06-98FE-55E0CA0B2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6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Front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firs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being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143E-42D5-4B4A-9080-1E3A610101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7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Back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la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cond-to-last elem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-&gt;nextPtr != last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tr = currentPtr-&gt;nextPtr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-&gt;nex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0A77-D122-4B6A-8A0D-C29BB0129C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8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removeFrom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List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pointer to newly alloca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 *List&lt; NODETYPE &gt;::getNew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New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276360" y="3048120"/>
            <a:ext cx="4115160" cy="1218960"/>
            <a:chOff x="3276360" y="3048120"/>
            <a:chExt cx="4115160" cy="1218960"/>
          </a:xfrm>
        </p:grpSpPr>
        <p:sp>
          <p:nvSpPr>
            <p:cNvPr id="648" name=""/>
            <p:cNvSpPr/>
            <p:nvPr/>
          </p:nvSpPr>
          <p:spPr>
            <a:xfrm>
              <a:off x="4724280" y="3048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to dynamically allocate a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76360" y="32004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070D-C270-4724-AA61-EDDFE67903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9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contents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"The list is empty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is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current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F30B-0F08-4BE0-B832-039D760A47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5: fig1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test a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List( List&lt; T &gt; &amp;listObjec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typ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a Lis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truction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437920" y="609120"/>
            <a:ext cx="3429360" cy="1891440"/>
            <a:chOff x="2437920" y="609120"/>
            <a:chExt cx="3429360" cy="1891440"/>
          </a:xfrm>
        </p:grpSpPr>
        <p:sp>
          <p:nvSpPr>
            <p:cNvPr id="655" name=""/>
            <p:cNvSpPr/>
            <p:nvPr/>
          </p:nvSpPr>
          <p:spPr>
            <a:xfrm>
              <a:off x="320040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am to give user a menu to add/remove nodes from a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2437920" y="609120"/>
              <a:ext cx="762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46D0-60C6-41EC-9CA7-8EFC136D9B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Front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Back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Front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DD19-E706-4000-A47A-CF627FF03A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Back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d do/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list tes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s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ogram instructions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truc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one of the following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1 to insert at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2 to insert at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3 to delete from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4 to delete from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5 to end list process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B2CE-3D08-44BE-A944-C7C9A9FCAA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pointer to object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together to form useful data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, stacks, queues,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3657600"/>
            <a:ext cx="7467480" cy="833400"/>
            <a:chOff x="685800" y="3657600"/>
            <a:chExt cx="7467480" cy="833400"/>
          </a:xfrm>
        </p:grpSpPr>
        <p:sp>
          <p:nvSpPr>
            <p:cNvPr id="94" name=""/>
            <p:cNvSpPr/>
            <p:nvPr/>
          </p:nvSpPr>
          <p:spPr>
            <a:xfrm>
              <a:off x="685800" y="3657600"/>
              <a:ext cx="7467480" cy="83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993760" y="3849480"/>
              <a:ext cx="2851560" cy="446760"/>
              <a:chOff x="2993760" y="3849480"/>
              <a:chExt cx="2851560" cy="4467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99760" y="3855600"/>
                <a:ext cx="744840" cy="440640"/>
                <a:chOff x="5099760" y="3855600"/>
                <a:chExt cx="74484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099760" y="3855600"/>
                  <a:ext cx="74484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10080" y="4039200"/>
                  <a:ext cx="12528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241520" y="3855600"/>
                <a:ext cx="373320" cy="440640"/>
                <a:chOff x="4241520" y="3855600"/>
                <a:chExt cx="373320" cy="440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24152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39488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2156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993760" y="3849480"/>
                <a:ext cx="373320" cy="441000"/>
                <a:chOff x="2993760" y="3849480"/>
                <a:chExt cx="373320" cy="441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993760" y="3849480"/>
                  <a:ext cx="373320" cy="4410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148200" y="4033080"/>
                  <a:ext cx="6336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241520" y="3855600"/>
                <a:ext cx="37296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20760" y="3943800"/>
                  <a:ext cx="2667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99040" y="3855600"/>
                <a:ext cx="746280" cy="440640"/>
                <a:chOff x="5099040" y="3855600"/>
                <a:chExt cx="746280" cy="440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720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5099040" y="3855600"/>
                  <a:ext cx="372960" cy="440640"/>
                  <a:chOff x="5099040" y="3855600"/>
                  <a:chExt cx="372960" cy="440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099040" y="3855600"/>
                    <a:ext cx="37296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151600" y="3943800"/>
                    <a:ext cx="266400" cy="31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" name=""/>
              <p:cNvSpPr/>
              <p:nvPr/>
            </p:nvSpPr>
            <p:spPr>
              <a:xfrm>
                <a:off x="4395960" y="4039200"/>
                <a:ext cx="6300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4680" y="407592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72000" y="3855600"/>
                <a:ext cx="37332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93760" y="3849480"/>
                <a:ext cx="373320" cy="441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48200" y="4033080"/>
                <a:ext cx="6336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3480" y="406980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4572000" y="4262400"/>
            <a:ext cx="3429000" cy="1592280"/>
            <a:chOff x="4572000" y="4262400"/>
            <a:chExt cx="3429000" cy="1592280"/>
          </a:xfrm>
        </p:grpSpPr>
        <p:sp>
          <p:nvSpPr>
            <p:cNvPr id="124" name=""/>
            <p:cNvSpPr/>
            <p:nvPr/>
          </p:nvSpPr>
          <p:spPr>
            <a:xfrm>
              <a:off x="4572000" y="5486400"/>
              <a:ext cx="342900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ointer (points to noth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714640" y="4262400"/>
              <a:ext cx="304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0" y="4262040"/>
            <a:ext cx="2173320" cy="1638360"/>
            <a:chOff x="2286000" y="4262040"/>
            <a:chExt cx="2173320" cy="1638360"/>
          </a:xfrm>
        </p:grpSpPr>
        <p:sp>
          <p:nvSpPr>
            <p:cNvPr id="127" name=""/>
            <p:cNvSpPr/>
            <p:nvPr/>
          </p:nvSpPr>
          <p:spPr>
            <a:xfrm>
              <a:off x="2286000" y="5257800"/>
              <a:ext cx="1447920" cy="642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member and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67080" y="4262040"/>
              <a:ext cx="65556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67080" y="4262040"/>
              <a:ext cx="109224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DD38-44E4-4062-97B7-D0660A9838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integer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double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259B-89CA-40A9-B6AF-7E41DC3BAF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integ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B1EF-86F3-44BD-A7CC-0F1076D5D5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103B-C581-4C27-975A-F4272B44E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3031-6511-4D83-AEFC-60D489B6E9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9CDF-3D69-433C-9829-7920F2CB10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link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y linked list (used in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ir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in one direction (null-termin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singly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last node points to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has a forward and backward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forward or back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node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double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first and last node jo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761B-1395-409D-BC95-433FC05650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can be added/removed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ed version of 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stack of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tom of stack has null li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sh: add node to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: remove node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referenc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4F32-A93A-42B2-9D4B-A9532936ED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s: know how to return to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address pushed 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recent function call on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A calls B which calls 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store automatic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ped of stack when no longer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compil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in the exercises in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92160" y="5013360"/>
            <a:ext cx="3368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15000" y="2374920"/>
            <a:ext cx="18288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B  B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A  A  A 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DEB1-71C9-4929-AEBE-8543910FCC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ack from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contains a 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operations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tack implementation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69DB-55E8-4E95-808D-DFC012BD9E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0: stack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STACK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List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895480" y="914400"/>
            <a:ext cx="4038840" cy="838080"/>
            <a:chOff x="2895480" y="914400"/>
            <a:chExt cx="4038840" cy="838080"/>
          </a:xfrm>
        </p:grpSpPr>
        <p:sp>
          <p:nvSpPr>
            <p:cNvPr id="684" name=""/>
            <p:cNvSpPr/>
            <p:nvPr/>
          </p:nvSpPr>
          <p:spPr>
            <a:xfrm>
              <a:off x="4267080" y="9144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2895480" y="10666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885840" y="2401920"/>
            <a:ext cx="4001040" cy="824040"/>
            <a:chOff x="3885840" y="2401920"/>
            <a:chExt cx="4001040" cy="824040"/>
          </a:xfrm>
        </p:grpSpPr>
        <p:sp>
          <p:nvSpPr>
            <p:cNvPr id="687" name=""/>
            <p:cNvSpPr/>
            <p:nvPr/>
          </p:nvSpPr>
          <p:spPr>
            <a:xfrm>
              <a:off x="4610160" y="240192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sertAt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From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885840" y="2743200"/>
              <a:ext cx="723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3F8A-4981-4C53-BBDC-9D19251B22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Node {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Data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getData() const;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NextPtr( Node *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const Node *getNextPtr() cons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data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 *nextPtr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object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x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092E-16B3-4378-A6D8-16CC368B6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406C-D1E5-4C8F-9A4E-D3AF5091AE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1: fig17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ck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integer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ush( i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integer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DF1C-E5F5-425B-AD3E-270A171EE1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op( pop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 double 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floating-point value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ush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9D9B-F17C-40D1-9079-11D6473350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floating-point value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op( pop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B9AD-E03B-4FA2-8661-1F67C385CCC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CEC6-08EA-44CE-836C-D0D4523A2D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 3.3 2.2 1.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3696-3AD4-4A1D-A3F9-479853270F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2: stackcomposi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with composed List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constructor; List constructor does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stackList object's insertAt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stackList object's removeFrom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590560" y="1143000"/>
            <a:ext cx="4115160" cy="838080"/>
            <a:chOff x="2590560" y="114300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0384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ernative implement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com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5905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676160" y="2057400"/>
            <a:ext cx="5029560" cy="1600200"/>
            <a:chOff x="1676160" y="2057400"/>
            <a:chExt cx="5029560" cy="1600200"/>
          </a:xfrm>
        </p:grpSpPr>
        <p:sp>
          <p:nvSpPr>
            <p:cNvPr id="707" name=""/>
            <p:cNvSpPr/>
            <p:nvPr/>
          </p:nvSpPr>
          <p:spPr>
            <a:xfrm>
              <a:off x="4038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priv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, use to manipulate sta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676160" y="2209680"/>
              <a:ext cx="2361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57E9-6B7C-4FD0-850D-9DB4FC697F3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stackList object's isEmp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stackList objec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STACKTYPE &gt; stack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ed Li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CB85-846B-42FA-BAA3-73E7DADBBF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added to back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removed from front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, 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/remove called enqueue/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s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 wait in queue until printer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ets on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requests from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B9E0-6D43-48E5-9285-CF9A765E7A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8064-7A12-4D01-BCDA-C78926D42B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 and release memory during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remove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ype of object to cre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newly creat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 *newPtr = new Node(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enough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ode's obje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4A1B-B0B7-42D1-A968-0956AC802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3: queu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QUEUE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calls List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que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Back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en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(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971800" y="1066680"/>
            <a:ext cx="4114800" cy="838440"/>
            <a:chOff x="2971800" y="1066680"/>
            <a:chExt cx="4114800" cy="838440"/>
          </a:xfrm>
        </p:grpSpPr>
        <p:sp>
          <p:nvSpPr>
            <p:cNvPr id="718" name=""/>
            <p:cNvSpPr/>
            <p:nvPr/>
          </p:nvSpPr>
          <p:spPr>
            <a:xfrm>
              <a:off x="4419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 from 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971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047760" y="1981080"/>
            <a:ext cx="4115160" cy="2362320"/>
            <a:chOff x="3047760" y="1981080"/>
            <a:chExt cx="4115160" cy="2362320"/>
          </a:xfrm>
        </p:grpSpPr>
        <p:sp>
          <p:nvSpPr>
            <p:cNvPr id="721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use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00400" y="2133720"/>
              <a:ext cx="12952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38AE-2EF6-4180-8F3F-320144E25F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Queue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Queue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Queue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Queue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Que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808A-7471-4982-BEF5-555743B754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4: fig17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ue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Queu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Que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Queue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integers onto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enqueue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integers from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FD80-179E-47BD-89DA-CF89A42114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dequeue( dequeue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double &gt; doubleQue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Queue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ocessing a double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floating-point values onto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enqueu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D75E-4C84-41EC-B309-EE780BD517C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floating-point values from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dequeue( dequeue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8C4D-6672-4E87-BE49-30414ABFEB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9D5D-7FB2-4199-83F7-D9E2C289A4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9173-1104-4034-8B97-F3F6C6CE926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s, queues, 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linear, two-dimen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 nodes have 2 or more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 have exactly 2 links/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, both, or one link can be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F8D3-EF34-46B8-B687-C10A62A9B6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oot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rst node on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refer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eaf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de with no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s drawn from root down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228680" y="4073400"/>
            <a:ext cx="4867200" cy="2403360"/>
            <a:chOff x="1228680" y="4073400"/>
            <a:chExt cx="4867200" cy="2403360"/>
          </a:xfrm>
        </p:grpSpPr>
        <p:sp>
          <p:nvSpPr>
            <p:cNvPr id="741" name=""/>
            <p:cNvSpPr/>
            <p:nvPr/>
          </p:nvSpPr>
          <p:spPr>
            <a:xfrm>
              <a:off x="1228680" y="4073400"/>
              <a:ext cx="4867200" cy="240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12360" y="43020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6080" y="430992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95520" y="442116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8608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62040" y="4868640"/>
              <a:ext cx="1144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88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69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5284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228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362040" y="4443120"/>
              <a:ext cx="114480" cy="374400"/>
              <a:chOff x="3362040" y="4443120"/>
              <a:chExt cx="114480" cy="374400"/>
            </a:xfrm>
          </p:grpSpPr>
          <p:sp>
            <p:nvSpPr>
              <p:cNvPr id="752" name=""/>
              <p:cNvSpPr/>
              <p:nvPr/>
            </p:nvSpPr>
            <p:spPr>
              <a:xfrm>
                <a:off x="3418200" y="4443120"/>
                <a:ext cx="1080" cy="301680"/>
              </a:xfrm>
              <a:custGeom>
                <a:avLst/>
                <a:gdLst/>
                <a:ahLst/>
                <a:rect l="l" t="t" r="r" b="b"/>
                <a:pathLst>
                  <a:path w="0" h="273">
                    <a:moveTo>
                      <a:pt x="0" y="273"/>
                    </a:moveTo>
                    <a:lnTo>
                      <a:pt x="0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418200" y="4443120"/>
                <a:ext cx="1080" cy="301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62040" y="4741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0"/>
                    </a:moveTo>
                    <a:lnTo>
                      <a:pt x="51" y="69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301932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2876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795400" y="4948200"/>
              <a:ext cx="356760" cy="356760"/>
              <a:chOff x="2795400" y="4948200"/>
              <a:chExt cx="356760" cy="356760"/>
            </a:xfrm>
          </p:grpSpPr>
          <p:sp>
            <p:nvSpPr>
              <p:cNvPr id="758" name=""/>
              <p:cNvSpPr/>
              <p:nvPr/>
            </p:nvSpPr>
            <p:spPr>
              <a:xfrm>
                <a:off x="284616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7" h="278">
                    <a:moveTo>
                      <a:pt x="0" y="278"/>
                    </a:moveTo>
                    <a:lnTo>
                      <a:pt x="277" y="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84616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95400" y="5211360"/>
                <a:ext cx="97200" cy="93600"/>
              </a:xfrm>
              <a:custGeom>
                <a:avLst/>
                <a:gdLst/>
                <a:ahLst/>
                <a:rect l="l" t="t" r="r" b="b"/>
                <a:pathLst>
                  <a:path w="88" h="85">
                    <a:moveTo>
                      <a:pt x="12" y="0"/>
                    </a:moveTo>
                    <a:lnTo>
                      <a:pt x="0" y="85"/>
                    </a:lnTo>
                    <a:lnTo>
                      <a:pt x="88" y="7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686040" y="4948200"/>
              <a:ext cx="355680" cy="356760"/>
              <a:chOff x="3686040" y="4948200"/>
              <a:chExt cx="355680" cy="356760"/>
            </a:xfrm>
          </p:grpSpPr>
          <p:sp>
            <p:nvSpPr>
              <p:cNvPr id="762" name=""/>
              <p:cNvSpPr/>
              <p:nvPr/>
            </p:nvSpPr>
            <p:spPr>
              <a:xfrm>
                <a:off x="368604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8" h="278">
                    <a:moveTo>
                      <a:pt x="278" y="278"/>
                    </a:moveTo>
                    <a:lnTo>
                      <a:pt x="0" y="0"/>
                    </a:lnTo>
                    <a:lnTo>
                      <a:pt x="278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368604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7040" y="5211360"/>
                <a:ext cx="94680" cy="936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75"/>
                    </a:moveTo>
                    <a:lnTo>
                      <a:pt x="86" y="85"/>
                    </a:lnTo>
                    <a:lnTo>
                      <a:pt x="76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293040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62200" y="5305320"/>
              <a:ext cx="26676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39960" y="5357520"/>
              <a:ext cx="112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66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47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9544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7492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08160" y="5305320"/>
              <a:ext cx="26532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84480" y="5357520"/>
              <a:ext cx="114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12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93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41760" y="5305320"/>
              <a:ext cx="26640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620880" y="5438520"/>
              <a:ext cx="153720" cy="296640"/>
              <a:chOff x="3620880" y="5438520"/>
              <a:chExt cx="153720" cy="296640"/>
            </a:xfrm>
          </p:grpSpPr>
          <p:sp>
            <p:nvSpPr>
              <p:cNvPr id="778" name=""/>
              <p:cNvSpPr/>
              <p:nvPr/>
            </p:nvSpPr>
            <p:spPr>
              <a:xfrm>
                <a:off x="3671280" y="5438520"/>
                <a:ext cx="103320" cy="231840"/>
              </a:xfrm>
              <a:custGeom>
                <a:avLst/>
                <a:gdLst/>
                <a:ahLst/>
                <a:rect l="l" t="t" r="r" b="b"/>
                <a:pathLst>
                  <a:path w="94" h="210">
                    <a:moveTo>
                      <a:pt x="0" y="210"/>
                    </a:moveTo>
                    <a:lnTo>
                      <a:pt x="94" y="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671280" y="5438520"/>
                <a:ext cx="103320" cy="231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20880" y="5641560"/>
                <a:ext cx="105480" cy="93600"/>
              </a:xfrm>
              <a:custGeom>
                <a:avLst/>
                <a:gdLst/>
                <a:ahLst/>
                <a:rect l="l" t="t" r="r" b="b"/>
                <a:pathLst>
                  <a:path w="96" h="85">
                    <a:moveTo>
                      <a:pt x="0" y="0"/>
                    </a:moveTo>
                    <a:lnTo>
                      <a:pt x="21" y="85"/>
                    </a:lnTo>
                    <a:lnTo>
                      <a:pt x="96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3730680" y="5734080"/>
              <a:ext cx="26640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63920" y="5734080"/>
              <a:ext cx="264960" cy="2649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5786280"/>
              <a:ext cx="114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683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475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7160" y="5734080"/>
              <a:ext cx="26676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92200" y="5310000"/>
              <a:ext cx="26208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3280" y="5742000"/>
              <a:ext cx="26208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28880" y="5742000"/>
              <a:ext cx="26352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82840" y="5310000"/>
              <a:ext cx="26352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104B-9EEF-483F-A7EF-CCD2836581A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left subtree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right subtree greater than 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allow duplicate values (good way to remove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earches,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omparisons for a balanced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94920" y="3657600"/>
            <a:ext cx="5730480" cy="2323440"/>
            <a:chOff x="1294920" y="3657600"/>
            <a:chExt cx="5730480" cy="2323440"/>
          </a:xfrm>
        </p:grpSpPr>
        <p:sp>
          <p:nvSpPr>
            <p:cNvPr id="794" name=""/>
            <p:cNvSpPr/>
            <p:nvPr/>
          </p:nvSpPr>
          <p:spPr>
            <a:xfrm>
              <a:off x="1294920" y="3663720"/>
              <a:ext cx="236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61880" y="3661200"/>
              <a:ext cx="4705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59720" y="36576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53920" y="3657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714760" y="3954600"/>
              <a:ext cx="1520280" cy="570960"/>
              <a:chOff x="2714760" y="3954600"/>
              <a:chExt cx="1520280" cy="570960"/>
            </a:xfrm>
          </p:grpSpPr>
          <p:sp>
            <p:nvSpPr>
              <p:cNvPr id="799" name=""/>
              <p:cNvSpPr/>
              <p:nvPr/>
            </p:nvSpPr>
            <p:spPr>
              <a:xfrm>
                <a:off x="2714760" y="3954600"/>
                <a:ext cx="152028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0" y="440"/>
                    </a:moveTo>
                    <a:lnTo>
                      <a:pt x="753" y="0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714760" y="3954600"/>
                <a:ext cx="152028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235760" y="3954600"/>
              <a:ext cx="1519920" cy="570960"/>
              <a:chOff x="4235760" y="3954600"/>
              <a:chExt cx="1519920" cy="570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235760" y="3954600"/>
                <a:ext cx="151992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753" y="440"/>
                    </a:moveTo>
                    <a:lnTo>
                      <a:pt x="0" y="0"/>
                    </a:lnTo>
                    <a:lnTo>
                      <a:pt x="753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235760" y="3954600"/>
                <a:ext cx="151992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254124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4088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3292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1846440" y="4770720"/>
              <a:ext cx="815040" cy="327600"/>
              <a:chOff x="1846440" y="4770720"/>
              <a:chExt cx="815040" cy="327600"/>
            </a:xfrm>
          </p:grpSpPr>
          <p:sp>
            <p:nvSpPr>
              <p:cNvPr id="808" name=""/>
              <p:cNvSpPr/>
              <p:nvPr/>
            </p:nvSpPr>
            <p:spPr>
              <a:xfrm>
                <a:off x="1846440" y="4771080"/>
                <a:ext cx="815040" cy="327240"/>
              </a:xfrm>
              <a:custGeom>
                <a:avLst/>
                <a:gdLst/>
                <a:ahLst/>
                <a:rect l="l" t="t" r="r" b="b"/>
                <a:pathLst>
                  <a:path w="404" h="252">
                    <a:moveTo>
                      <a:pt x="0" y="252"/>
                    </a:moveTo>
                    <a:lnTo>
                      <a:pt x="404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1846440" y="4770720"/>
                <a:ext cx="81504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2662200" y="4770720"/>
              <a:ext cx="813600" cy="327600"/>
              <a:chOff x="2662200" y="4770720"/>
              <a:chExt cx="813600" cy="327600"/>
            </a:xfrm>
          </p:grpSpPr>
          <p:sp>
            <p:nvSpPr>
              <p:cNvPr id="811" name=""/>
              <p:cNvSpPr/>
              <p:nvPr/>
            </p:nvSpPr>
            <p:spPr>
              <a:xfrm>
                <a:off x="2662200" y="4771080"/>
                <a:ext cx="813600" cy="327240"/>
              </a:xfrm>
              <a:custGeom>
                <a:avLst/>
                <a:gdLst/>
                <a:ahLst/>
                <a:rect l="l" t="t" r="r" b="b"/>
                <a:pathLst>
                  <a:path w="403" h="252">
                    <a:moveTo>
                      <a:pt x="403" y="252"/>
                    </a:moveTo>
                    <a:lnTo>
                      <a:pt x="0" y="0"/>
                    </a:lnTo>
                    <a:lnTo>
                      <a:pt x="40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2662200" y="4770720"/>
                <a:ext cx="8136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8252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8216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7348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888080" y="4770720"/>
              <a:ext cx="867960" cy="327600"/>
              <a:chOff x="4888080" y="4770720"/>
              <a:chExt cx="867960" cy="327600"/>
            </a:xfrm>
          </p:grpSpPr>
          <p:sp>
            <p:nvSpPr>
              <p:cNvPr id="817" name=""/>
              <p:cNvSpPr/>
              <p:nvPr/>
            </p:nvSpPr>
            <p:spPr>
              <a:xfrm>
                <a:off x="4888080" y="4771080"/>
                <a:ext cx="867960" cy="327240"/>
              </a:xfrm>
              <a:custGeom>
                <a:avLst/>
                <a:gdLst/>
                <a:ahLst/>
                <a:rect l="l" t="t" r="r" b="b"/>
                <a:pathLst>
                  <a:path w="430" h="252">
                    <a:moveTo>
                      <a:pt x="0" y="252"/>
                    </a:moveTo>
                    <a:lnTo>
                      <a:pt x="43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888080" y="4770720"/>
                <a:ext cx="86796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756040" y="4770720"/>
              <a:ext cx="870480" cy="327600"/>
              <a:chOff x="5756040" y="4770720"/>
              <a:chExt cx="870480" cy="327600"/>
            </a:xfrm>
          </p:grpSpPr>
          <p:sp>
            <p:nvSpPr>
              <p:cNvPr id="820" name=""/>
              <p:cNvSpPr/>
              <p:nvPr/>
            </p:nvSpPr>
            <p:spPr>
              <a:xfrm>
                <a:off x="5756400" y="4771080"/>
                <a:ext cx="870120" cy="327240"/>
              </a:xfrm>
              <a:custGeom>
                <a:avLst/>
                <a:gdLst/>
                <a:ahLst/>
                <a:rect l="l" t="t" r="r" b="b"/>
                <a:pathLst>
                  <a:path w="431" h="252">
                    <a:moveTo>
                      <a:pt x="431" y="252"/>
                    </a:moveTo>
                    <a:lnTo>
                      <a:pt x="0" y="0"/>
                    </a:lnTo>
                    <a:lnTo>
                      <a:pt x="431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flipV="1">
                <a:off x="5756040" y="4770720"/>
                <a:ext cx="87012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67292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256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46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521360" y="5342400"/>
              <a:ext cx="271800" cy="326880"/>
              <a:chOff x="1521360" y="5342400"/>
              <a:chExt cx="271800" cy="326880"/>
            </a:xfrm>
          </p:grpSpPr>
          <p:sp>
            <p:nvSpPr>
              <p:cNvPr id="826" name=""/>
              <p:cNvSpPr/>
              <p:nvPr/>
            </p:nvSpPr>
            <p:spPr>
              <a:xfrm>
                <a:off x="1521360" y="5342400"/>
                <a:ext cx="271800" cy="326880"/>
              </a:xfrm>
              <a:custGeom>
                <a:avLst/>
                <a:gdLst/>
                <a:ahLst/>
                <a:rect l="l" t="t" r="r" b="b"/>
                <a:pathLst>
                  <a:path w="135" h="252">
                    <a:moveTo>
                      <a:pt x="0" y="252"/>
                    </a:moveTo>
                    <a:lnTo>
                      <a:pt x="135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1521360" y="5342400"/>
                <a:ext cx="2718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93880" y="5342400"/>
              <a:ext cx="270000" cy="326880"/>
              <a:chOff x="1793880" y="5342400"/>
              <a:chExt cx="270000" cy="326880"/>
            </a:xfrm>
          </p:grpSpPr>
          <p:sp>
            <p:nvSpPr>
              <p:cNvPr id="829" name=""/>
              <p:cNvSpPr/>
              <p:nvPr/>
            </p:nvSpPr>
            <p:spPr>
              <a:xfrm>
                <a:off x="1793880" y="5342400"/>
                <a:ext cx="270000" cy="326880"/>
              </a:xfrm>
              <a:custGeom>
                <a:avLst/>
                <a:gdLst/>
                <a:ahLst/>
                <a:rect l="l" t="t" r="r" b="b"/>
                <a:pathLst>
                  <a:path w="134" h="252">
                    <a:moveTo>
                      <a:pt x="134" y="252"/>
                    </a:moveTo>
                    <a:lnTo>
                      <a:pt x="0" y="0"/>
                    </a:lnTo>
                    <a:lnTo>
                      <a:pt x="134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1793880" y="5342400"/>
                <a:ext cx="2700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0228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0012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9144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258000" y="5342400"/>
              <a:ext cx="274320" cy="326880"/>
              <a:chOff x="3258000" y="5342400"/>
              <a:chExt cx="274320" cy="326880"/>
            </a:xfrm>
          </p:grpSpPr>
          <p:sp>
            <p:nvSpPr>
              <p:cNvPr id="835" name=""/>
              <p:cNvSpPr/>
              <p:nvPr/>
            </p:nvSpPr>
            <p:spPr>
              <a:xfrm>
                <a:off x="3258000" y="5342400"/>
                <a:ext cx="274320" cy="326880"/>
              </a:xfrm>
              <a:custGeom>
                <a:avLst/>
                <a:gdLst/>
                <a:ahLst/>
                <a:rect l="l" t="t" r="r" b="b"/>
                <a:pathLst>
                  <a:path w="136" h="252">
                    <a:moveTo>
                      <a:pt x="0" y="252"/>
                    </a:moveTo>
                    <a:lnTo>
                      <a:pt x="136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3258000" y="5342400"/>
                <a:ext cx="27432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532680" y="5342400"/>
              <a:ext cx="267840" cy="326880"/>
              <a:chOff x="3532680" y="5342400"/>
              <a:chExt cx="267840" cy="326880"/>
            </a:xfrm>
          </p:grpSpPr>
          <p:sp>
            <p:nvSpPr>
              <p:cNvPr id="838" name=""/>
              <p:cNvSpPr/>
              <p:nvPr/>
            </p:nvSpPr>
            <p:spPr>
              <a:xfrm>
                <a:off x="3532680" y="5342400"/>
                <a:ext cx="267840" cy="326880"/>
              </a:xfrm>
              <a:custGeom>
                <a:avLst/>
                <a:gdLst/>
                <a:ahLst/>
                <a:rect l="l" t="t" r="r" b="b"/>
                <a:pathLst>
                  <a:path w="133" h="252">
                    <a:moveTo>
                      <a:pt x="133" y="252"/>
                    </a:moveTo>
                    <a:lnTo>
                      <a:pt x="0" y="0"/>
                    </a:lnTo>
                    <a:lnTo>
                      <a:pt x="13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flipV="1">
                <a:off x="3532680" y="5342400"/>
                <a:ext cx="26784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471420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138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16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835160" y="5342040"/>
              <a:ext cx="270000" cy="323280"/>
              <a:chOff x="4835160" y="5342040"/>
              <a:chExt cx="270000" cy="323280"/>
            </a:xfrm>
          </p:grpSpPr>
          <p:sp>
            <p:nvSpPr>
              <p:cNvPr id="844" name=""/>
              <p:cNvSpPr/>
              <p:nvPr/>
            </p:nvSpPr>
            <p:spPr>
              <a:xfrm>
                <a:off x="4835160" y="5342400"/>
                <a:ext cx="270000" cy="322920"/>
              </a:xfrm>
              <a:custGeom>
                <a:avLst/>
                <a:gdLst/>
                <a:ahLst/>
                <a:rect l="l" t="t" r="r" b="b"/>
                <a:pathLst>
                  <a:path w="134" h="249">
                    <a:moveTo>
                      <a:pt x="134" y="249"/>
                    </a:moveTo>
                    <a:lnTo>
                      <a:pt x="0" y="0"/>
                    </a:lnTo>
                    <a:lnTo>
                      <a:pt x="134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4835160" y="5342040"/>
                <a:ext cx="270000" cy="322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6453000" y="5049000"/>
              <a:ext cx="4687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526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418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96800" y="5619960"/>
              <a:ext cx="468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9644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906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03200" y="5619960"/>
              <a:ext cx="2743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0248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983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8856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8820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8060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8448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8412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765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2772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2736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190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AEF1-64BF-4359-ADAB-3D593F45F70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new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memory alloca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ll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returned to system, can be used in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deleted, only the space it poi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4414-23EF-4E7F-A4F9-17D2A46D8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ng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ecursiv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at r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urrent node empty, insert new node here (base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gt; node, insert into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lt; node, insert into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ither &gt; nor &lt;, must b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 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42EE-4B77-4637-9CCC-EF4AFF1F9E6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-order (print tree values from least to grea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 (call function 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th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1EC3-08C8-40AA-95F4-9BF0613A85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2 templat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D0B1-86D5-4301-ACAD-81FA2A54763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7: tree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d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lef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data( d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righ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438280" y="2895480"/>
            <a:ext cx="4114800" cy="838440"/>
            <a:chOff x="2438280" y="2895480"/>
            <a:chExt cx="4114800" cy="838440"/>
          </a:xfrm>
        </p:grpSpPr>
        <p:sp>
          <p:nvSpPr>
            <p:cNvPr id="873" name=""/>
            <p:cNvSpPr/>
            <p:nvPr/>
          </p:nvSpPr>
          <p:spPr>
            <a:xfrm>
              <a:off x="388620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nary trees have two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382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8C9C-5410-4C89-9317-CAE328BABB6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py of node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etData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lef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ight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ree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9FF1-EB7D-4B27-8F21-DCD51079403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8: tr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nod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oo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E7DC-0906-4EB2-8580-4862E885027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Helper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Node&lt; NODETYPE &gt; *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e&lt; NODETYPE &gt;::Tre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oo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in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NodeHelper( &amp;rootPtr, valu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FDD6-31DB-4C96-84DD-EF0848250B8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insertNode; receives a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 pointer so that the function can modify pointer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*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tree is empty; create new TreeNode contain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*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tree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 to insert is less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l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NodeHelper( &amp;( ( *ptr )-&gt;lef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ata to insert is greater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g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sertNodeHelper( &amp;( ( *ptr )-&gt;righ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licate data valu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u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ertNode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285640" y="1066680"/>
            <a:ext cx="6629760" cy="3257640"/>
            <a:chOff x="2285640" y="1066680"/>
            <a:chExt cx="6629760" cy="3257640"/>
          </a:xfrm>
        </p:grpSpPr>
        <p:sp>
          <p:nvSpPr>
            <p:cNvPr id="884" name=""/>
            <p:cNvSpPr/>
            <p:nvPr/>
          </p:nvSpPr>
          <p:spPr>
            <a:xfrm>
              <a:off x="6248520" y="1066680"/>
              <a:ext cx="2666880" cy="325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ursive function to insert a new node. If the current node is empty, insert the new node her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w value greater than current nod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insert into right subtre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insert into left sub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ither case applies, node is a duplicate -- ign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285640" y="1676520"/>
              <a:ext cx="396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61E5-502E-4DF8-9EAA-55C140F3DBB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e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e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e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429000" y="2590920"/>
            <a:ext cx="4114800" cy="838080"/>
            <a:chOff x="3429000" y="2590920"/>
            <a:chExt cx="4114800" cy="838080"/>
          </a:xfrm>
        </p:grpSpPr>
        <p:sp>
          <p:nvSpPr>
            <p:cNvPr id="889" name=""/>
            <p:cNvSpPr/>
            <p:nvPr/>
          </p:nvSpPr>
          <p:spPr>
            <a:xfrm>
              <a:off x="4876920" y="25909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order: print, lef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2109-9544-450B-A34A-9CA3A43E491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809880" y="2362320"/>
            <a:ext cx="4114800" cy="838080"/>
            <a:chOff x="3809880" y="2362320"/>
            <a:chExt cx="4114800" cy="838080"/>
          </a:xfrm>
        </p:grpSpPr>
        <p:sp>
          <p:nvSpPr>
            <p:cNvPr id="894" name=""/>
            <p:cNvSpPr/>
            <p:nvPr/>
          </p:nvSpPr>
          <p:spPr>
            <a:xfrm>
              <a:off x="52578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 order: left, prin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8098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39EB-A2F8-4C83-AFDA-605A89BD937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self-referential class objects (nodes) connected by pointers (lin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ed using pointer to first node of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nodes accessed using the links in each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in last node is null (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ored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created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can have data of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3D3D-9D14-4B78-9F19-16F5C48C9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t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581280" y="2362320"/>
            <a:ext cx="4114800" cy="838080"/>
            <a:chOff x="3581280" y="2362320"/>
            <a:chExt cx="4114800" cy="838080"/>
          </a:xfrm>
        </p:grpSpPr>
        <p:sp>
          <p:nvSpPr>
            <p:cNvPr id="899" name=""/>
            <p:cNvSpPr/>
            <p:nvPr/>
          </p:nvSpPr>
          <p:spPr>
            <a:xfrm>
              <a:off x="50292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order: left, right, p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581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F9C7-D64F-46DF-97C2-768B19C48BD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9: fig1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0 integer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Tree.insertNode(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8FA6-0E6B-49B4-974F-9E5CACB673F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Enter 10 double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Tree.insertNode( doubl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355A-5757-4171-A18F-99D6015D71E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08CA-89F3-484D-AC1C-65433A8B3A7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integer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75 12 33 67 88 6 13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12 6 13 33 75 67 68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2 13 25 33 50 67 68 75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3 12 33 25 68 67 88 75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double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82.7 3.3 65.2 90.8 1.1 4.4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3.3 1.1 4.4 82.7 65.2 90.8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3.3 4.4 16.5 39.2 65.2 82.7 89.5 90.8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4.4 3.3 16.5 65.2 89.5 92.5 90.8 82.7 39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A531-5893-48C1-B5DD-E2837354CC7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8400" y="1905120"/>
            <a:ext cx="7620120" cy="2116080"/>
            <a:chOff x="698400" y="1905120"/>
            <a:chExt cx="7620120" cy="2116080"/>
          </a:xfrm>
        </p:grpSpPr>
        <p:sp>
          <p:nvSpPr>
            <p:cNvPr id="140" name=""/>
            <p:cNvSpPr/>
            <p:nvPr/>
          </p:nvSpPr>
          <p:spPr>
            <a:xfrm>
              <a:off x="698400" y="1905120"/>
              <a:ext cx="7620120" cy="211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003400" y="2152800"/>
              <a:ext cx="4987800" cy="1538280"/>
              <a:chOff x="2003400" y="2152800"/>
              <a:chExt cx="4987800" cy="1538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482920" y="3309840"/>
                <a:ext cx="761760" cy="381240"/>
                <a:chOff x="2482920" y="3309840"/>
                <a:chExt cx="761760" cy="381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638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482920" y="3309840"/>
                  <a:ext cx="380880" cy="381240"/>
                  <a:chOff x="2482920" y="3309840"/>
                  <a:chExt cx="380880" cy="3812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48292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65140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3755880" y="3309840"/>
                <a:ext cx="761760" cy="381240"/>
                <a:chOff x="3755880" y="3309840"/>
                <a:chExt cx="761760" cy="3812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3676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3755880" y="3309840"/>
                  <a:ext cx="380880" cy="381240"/>
                  <a:chOff x="3755880" y="3309840"/>
                  <a:chExt cx="380880" cy="381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375588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92364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395760" y="357516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" name=""/>
              <p:cNvSpPr/>
              <p:nvPr/>
            </p:nvSpPr>
            <p:spPr>
              <a:xfrm>
                <a:off x="2293920" y="243540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35760" y="243684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829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6380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3800" y="3386160"/>
                <a:ext cx="1587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22560" y="346860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164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3388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3753000" y="3309840"/>
                <a:ext cx="380880" cy="381240"/>
                <a:chOff x="3753000" y="3309840"/>
                <a:chExt cx="380880" cy="381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530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64240" y="3386160"/>
                  <a:ext cx="15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292640" y="3468600"/>
                <a:ext cx="633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1172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338520" y="3384360"/>
                    <a:ext cx="1576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5" name=""/>
              <p:cNvSpPr/>
              <p:nvPr/>
            </p:nvSpPr>
            <p:spPr>
              <a:xfrm>
                <a:off x="5530680" y="3500280"/>
                <a:ext cx="69876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103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03400" y="2152800"/>
                <a:ext cx="9572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03920" y="2152800"/>
                <a:ext cx="8431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a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11640" y="3322800"/>
                <a:ext cx="385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576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9272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9248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4944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482920" y="2567160"/>
            <a:ext cx="11088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29440" y="2567160"/>
            <a:ext cx="10944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97E1-104B-4AE1-A35D-2B88D5FC9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s vs.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can become f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ng "extra" space in array wasteful, may never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can grow/shrink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only become full when system runs out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 can be maintained in sorted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element at prope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elements do not need to be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9740-97DF-4641-88EB-4961769447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0:20:57Z</dcterms:created>
  <dc:creator>kalid</dc:creator>
  <dc:description/>
  <dc:language>en-US</dc:language>
  <cp:lastModifiedBy>Pearson Education</cp:lastModifiedBy>
  <dcterms:modified xsi:type="dcterms:W3CDTF">2002-08-28T19:50:15Z</dcterms:modified>
  <cp:revision>576</cp:revision>
  <dc:subject/>
  <dc:title>PowerPoint Presentation</dc:title>
</cp:coreProperties>
</file>