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BE82-EEC9-4FDF-813B-79324832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61A0-37AF-4ED6-A53B-12E45334B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BBC6-C0E0-490F-881E-7C25B6E2C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5580-1081-4D15-AC52-E8DE29642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2656-A28B-439F-9256-4D38B783D7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557D-1846-4AB8-88F6-B1F987C1BD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A39F-A13D-48C0-A315-7DD6A766A1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281F-BE3A-4574-8589-FCABAEEA88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C4D8-57C7-4E7B-91D3-7BA8C6849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0242-A7AE-4377-A8F9-2BA9FCACE1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6121-F557-44B7-9500-BF7D614CF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8992-F16C-4022-AD96-70B591062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C742-1685-4069-9FBD-CDBC34A6E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9F60-2602-429D-B47E-7675B2AF7E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F5B7-2D02-4C5E-BC96-8DA4A4EAC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D5F6-93FF-4DE3-AB23-AA51FE824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6245-CA40-42FC-A33A-05CBE5D85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2558-15D6-4AD2-A666-E2BE02DE3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17C9-1B01-41EE-A814-822E40816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4003-093C-4096-B77F-3056891D2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2C99-1F82-4D84-A008-DC58691ED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607-1C60-405C-B9FD-ED22AB4EE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F88C-C441-476C-98A6-D0187326B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94DA-4763-4F5C-AC98-670239A41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4EA-0C81-455C-A6D4-EC2DC4B9D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2AC-9D52-4C37-A018-0A64D5EB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0 - C Legacy Code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directing Input/Output on UNIX and DO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ariable-Length Argument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Command-Line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es on Compiling Multiple-Source-Fil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Termination with exit and at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volatile Type Qua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ffixes for Integer and Floating-Point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with calloc and r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Unconditional Branch: 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age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3CD9-CCE3-4A40-B58A-30CAA8718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4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4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 and double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and double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double3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double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, double4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09320" y="2590920"/>
            <a:ext cx="3429360" cy="1296000"/>
            <a:chOff x="2209320" y="2590920"/>
            <a:chExt cx="3429360" cy="1296000"/>
          </a:xfrm>
        </p:grpSpPr>
        <p:sp>
          <p:nvSpPr>
            <p:cNvPr id="11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with a variable number of arguments (passing the number of arguments as a paramet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209320" y="25909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B867-74C1-4492-8BEF-F5076A9456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, ...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storing information needed by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sta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variable length argumen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ar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he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/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80720" y="304920"/>
            <a:ext cx="4267800" cy="1079280"/>
            <a:chOff x="1980720" y="304920"/>
            <a:chExt cx="4267800" cy="1079280"/>
          </a:xfrm>
        </p:grpSpPr>
        <p:sp>
          <p:nvSpPr>
            <p:cNvPr id="116" name=""/>
            <p:cNvSpPr/>
            <p:nvPr/>
          </p:nvSpPr>
          <p:spPr>
            <a:xfrm>
              <a:off x="3581280" y="3049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call macr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st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parameter before the ellips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80720" y="4572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45720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62160" y="1600200"/>
            <a:ext cx="4115160" cy="838080"/>
            <a:chOff x="3962160" y="1600200"/>
            <a:chExt cx="4115160" cy="838080"/>
          </a:xfrm>
        </p:grpSpPr>
        <p:sp>
          <p:nvSpPr>
            <p:cNvPr id="120" name=""/>
            <p:cNvSpPr/>
            <p:nvPr/>
          </p:nvSpPr>
          <p:spPr>
            <a:xfrm>
              <a:off x="54100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ract each argumen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eat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62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2819520"/>
            <a:ext cx="4495680" cy="580680"/>
            <a:chOff x="2133720" y="2819520"/>
            <a:chExt cx="4495680" cy="580680"/>
          </a:xfrm>
        </p:grpSpPr>
        <p:sp>
          <p:nvSpPr>
            <p:cNvPr id="123" name=""/>
            <p:cNvSpPr/>
            <p:nvPr/>
          </p:nvSpPr>
          <p:spPr>
            <a:xfrm>
              <a:off x="396252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d the macros, helps with a normal function retur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33720" y="297180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3374-28BD-499A-8C79-5D0D73F99C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1 = 37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2 = 2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3 = 1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4 = 10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 and double2 is 30.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and double3 is 20.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double3 and double4 is 17.9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21C1-09A7-4D72-BCC4-EA12E515C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ass argumen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UNIX/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arameter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int argc, char *argv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ar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argv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strings that contains command-lin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c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0]: "copy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1]: "in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2]: "out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773-1932-41FC-80C6-062087DCF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copy input file to outpu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a character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write to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when no more characters to read (E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AAF6-72A8-471A-A008-61766423E5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3: fig20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number of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c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copyFile infile_name outfile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fstream in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57600" y="3733920"/>
            <a:ext cx="4114800" cy="838080"/>
            <a:chOff x="3657600" y="3733920"/>
            <a:chExt cx="4114800" cy="838080"/>
          </a:xfrm>
        </p:grpSpPr>
        <p:sp>
          <p:nvSpPr>
            <p:cNvPr id="134" name=""/>
            <p:cNvSpPr/>
            <p:nvPr/>
          </p:nvSpPr>
          <p:spPr>
            <a:xfrm>
              <a:off x="5105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input file -- open for rea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657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160" y="2209680"/>
            <a:ext cx="4115160" cy="838440"/>
            <a:chOff x="1676160" y="2209680"/>
            <a:chExt cx="4115160" cy="838440"/>
          </a:xfrm>
        </p:grpSpPr>
        <p:sp>
          <p:nvSpPr>
            <p:cNvPr id="137" name=""/>
            <p:cNvSpPr/>
            <p:nvPr/>
          </p:nvSpPr>
          <p:spPr>
            <a:xfrm>
              <a:off x="3124080" y="22096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parameter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76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8C6D-7CD4-44E1-ABE0-067D293B70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fstream out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Fil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inFile.ge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fir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File.put( c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 = inFile.ge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nex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14440" y="542880"/>
            <a:ext cx="3810240" cy="580680"/>
            <a:chOff x="4114440" y="542880"/>
            <a:chExt cx="3810240" cy="580680"/>
          </a:xfrm>
        </p:grpSpPr>
        <p:sp>
          <p:nvSpPr>
            <p:cNvPr id="142" name=""/>
            <p:cNvSpPr/>
            <p:nvPr/>
          </p:nvSpPr>
          <p:spPr>
            <a:xfrm>
              <a:off x="5257800" y="542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output file -- open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114440" y="694800"/>
              <a:ext cx="1143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743200" y="2286000"/>
            <a:ext cx="4114800" cy="1067400"/>
            <a:chOff x="2743200" y="2286000"/>
            <a:chExt cx="4114800" cy="1067400"/>
          </a:xfrm>
        </p:grpSpPr>
        <p:sp>
          <p:nvSpPr>
            <p:cNvPr id="145" name=""/>
            <p:cNvSpPr/>
            <p:nvPr/>
          </p:nvSpPr>
          <p:spPr>
            <a:xfrm>
              <a:off x="4191120" y="228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a charact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writ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Loop stops when EOF reach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743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B0C0-D04E-4D51-8124-C1A24DE81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with multiple sourc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must be entire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split up into multipl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 accessible to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defined in every file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global variable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variable defined later in file or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a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3243-5E70-4E5B-BB3B-2F783FEE58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 other file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rototype in each file function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file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indicates function defined later in same file, or in anoth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st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prototypes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need to know where definition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F649-29A7-43AE-BE73-7FB751542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ontext of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by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lin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/functions have external linkag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ith utility functions called on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fined before used,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use with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utility to aid compilation and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s effort of constantly recompiling for minor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B4CE-EB7D-4244-BC6F-2BFC76EB8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dvanced topics in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apabilities specific to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pecially UNIX and/or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for C++ programmers working with C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E5B9-92CF-4148-8182-F304A2B9BB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program to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tak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SUC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consta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EXIT_SUCCES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value to environment, indicating success or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value varies with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B1F4-403E-4674-8505-D20599EA36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( myFunc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ust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s function to run when program end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ccessf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, or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terminate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gister up to 32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in reverse order of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CB60-AEDC-4DB7-AE7F-B80814BA5A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4: fig20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exit and atexit func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texit( print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gister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terminate program with function 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2 to terminate program normally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52480" y="2362320"/>
            <a:ext cx="4114800" cy="1797480"/>
            <a:chOff x="1752480" y="2362320"/>
            <a:chExt cx="4114800" cy="1797480"/>
          </a:xfrm>
        </p:grpSpPr>
        <p:sp>
          <p:nvSpPr>
            <p:cNvPr id="160" name=""/>
            <p:cNvSpPr/>
            <p:nvPr/>
          </p:nvSpPr>
          <p:spPr>
            <a:xfrm>
              <a:off x="3200400" y="23623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called when the program terminat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take no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 if the program ends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752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752480" y="25146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9C22-0AAF-498E-B74A-769346A123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if answer is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with function ex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by reaching the end of ma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essage before termination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ecuting function print at program terminatio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360" y="1066320"/>
            <a:ext cx="4115160" cy="733680"/>
            <a:chOff x="2133360" y="1066320"/>
            <a:chExt cx="4115160" cy="733680"/>
          </a:xfrm>
        </p:grpSpPr>
        <p:sp>
          <p:nvSpPr>
            <p:cNvPr id="166" name=""/>
            <p:cNvSpPr/>
            <p:nvPr/>
          </p:nvSpPr>
          <p:spPr>
            <a:xfrm>
              <a:off x="3276720" y="12193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passing a symbolic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133360" y="10663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B1A5-4E46-4E77-BFF5-26DF2DCD1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by reaching the end of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3D00-2505-4D34-8967-A573DFE56E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volatile Type Qualifi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variable may be altered outside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ot under control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not perform certain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6EE1-4268-4332-8332-848129A345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ffixes for Integer and Floating-Point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has suffixes f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uses smallest type that can hold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4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22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364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.14159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8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rect suffix is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AD1C-6AC6-47C8-9CC6-25622ADF99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xpected event, can terminat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(ctrl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ing-point exceptions (division by 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ps unexpected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igna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 (symbolic constants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handler passed sign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required to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gain inside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itialize handler after it handles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B1E9-B462-4050-97D1-F1C2F04EAC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9880" y="1395360"/>
          <a:ext cx="7415280" cy="49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395360"/>
                    <a:ext cx="741528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5414-EE20-4BD9-961E-6B9AA56D5F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FE07-7BB5-40F1-A226-E7309E09F1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 (input) and screen (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direct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can come from a file, output can go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symbol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ng system feature (not C++ feature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and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lt;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executabl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at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mmand-line pro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to program now comes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the key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B779-4F40-4D58-AA57-DEBC3A9F0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6: fig2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ignal handl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igna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733920"/>
            <a:ext cx="4648320" cy="838080"/>
            <a:chOff x="2743200" y="3733920"/>
            <a:chExt cx="4648320" cy="838080"/>
          </a:xfrm>
        </p:grpSpPr>
        <p:sp>
          <p:nvSpPr>
            <p:cNvPr id="184" name=""/>
            <p:cNvSpPr/>
            <p:nvPr/>
          </p:nvSpPr>
          <p:spPr>
            <a:xfrm>
              <a:off x="4191120" y="3733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nal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al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v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7432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5828-D027-41B6-B035-AD9256096D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output random 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ise SIGINT when x is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x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i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ndl when i is a multiple of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438280" y="533520"/>
            <a:ext cx="4114800" cy="838080"/>
            <a:chOff x="2438280" y="533520"/>
            <a:chExt cx="4114800" cy="838080"/>
          </a:xfrm>
        </p:grpSpPr>
        <p:sp>
          <p:nvSpPr>
            <p:cNvPr id="189" name=""/>
            <p:cNvSpPr/>
            <p:nvPr/>
          </p:nvSpPr>
          <p:spPr>
            <a:xfrm>
              <a:off x="38862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i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4382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B701-B68E-4540-8286-F1BF25C900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sig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rrupt signal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gna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received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 you wish to continue 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invalid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it is time to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ignal and pass it SIGINT and address of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194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 be required to reinitial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18FD-77B8-4B53-8581-0913E78A42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   5   6   7   8   9 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12  13  14  15  16  17  18  19 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22  23  24  25  26  27  28  29 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32  33  34  35  36  37  38  39 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42  43  44  45  46  47  48  49 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52  53  54  55  56  57  58  59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  62  63  64  65  66  67  68  69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  72  73  74  75  76  77  78  79 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  82  83  84  85  86  87  88  89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  92  93  94  95  96  97  98 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225A-4EA1-4F58-A856-8A1D512954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reate dynamic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calloc(size_t nelmt, size_t 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l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umber of elements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ize of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dynam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initializ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F67-AAE9-4008-8115-1C7A05DCFB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zes dynamic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modified if size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hrunk, beginning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realloc(void *ptr, size_t new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ointer to object being real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ew size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ct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!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emory f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reallocated memory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no 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D5B6-70FB-491D-A6F5-E3EC077C94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1  The Unconditional Branch: got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performance cru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i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jumps to first statement after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is an identifier and col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escape from deeply nested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F50F-AAC0-4C40-B4D0-D0148F602E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7: fig2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got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rt: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end when count exceed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&lt;&lt;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start on line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95280" y="2819520"/>
            <a:ext cx="4114800" cy="838080"/>
            <a:chOff x="1295280" y="2819520"/>
            <a:chExt cx="4114800" cy="838080"/>
          </a:xfrm>
        </p:grpSpPr>
        <p:sp>
          <p:nvSpPr>
            <p:cNvPr id="207" name=""/>
            <p:cNvSpPr/>
            <p:nvPr/>
          </p:nvSpPr>
          <p:spPr>
            <a:xfrm>
              <a:off x="2743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declaration of labe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52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057400" y="4724280"/>
            <a:ext cx="4114800" cy="1219320"/>
            <a:chOff x="2057400" y="4724280"/>
            <a:chExt cx="4114800" cy="1219320"/>
          </a:xfrm>
        </p:grpSpPr>
        <p:sp>
          <p:nvSpPr>
            <p:cNvPr id="210" name=""/>
            <p:cNvSpPr/>
            <p:nvPr/>
          </p:nvSpPr>
          <p:spPr>
            <a:xfrm>
              <a:off x="3505320" y="5105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57400" y="5257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209320" y="472428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4047-4ED2-41E6-AB2B-256E8B4152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905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2  3  4  5  6  7  8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C89B-8CB9-4619-B940-854C7AB6F9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shar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ontains one data me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my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A068-9B57-44DA-9EA1-D60426B270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 command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one program becomes input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firstProgram | 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output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goes to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rases previous 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4A2F-78E0-4142-B86F-3723306D9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union of same typ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3446-4EB9-479D-A30E-7394DF0B8A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create a type; creates an unnam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only public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ccessed like norm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ame,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d globally, 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eger1;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uble1;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charPtr;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 // end anonymous un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1 = 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9991-3E8A-4052-BCB3-F1607FB8AA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8: fig20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n example of a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ine union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ber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1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un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Number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nion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value.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ssign 100 to member 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Put a value in the integer me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28800" y="1219320"/>
            <a:ext cx="4114800" cy="838080"/>
            <a:chOff x="1828800" y="1219320"/>
            <a:chExt cx="4114800" cy="838080"/>
          </a:xfrm>
        </p:grpSpPr>
        <p:sp>
          <p:nvSpPr>
            <p:cNvPr id="225" name=""/>
            <p:cNvSpPr/>
            <p:nvPr/>
          </p:nvSpPr>
          <p:spPr>
            <a:xfrm>
              <a:off x="327672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amed union with two data members. They share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828800" y="1371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24280" y="4191120"/>
            <a:ext cx="4114800" cy="2040840"/>
            <a:chOff x="4724280" y="4191120"/>
            <a:chExt cx="4114800" cy="2040840"/>
          </a:xfrm>
        </p:grpSpPr>
        <p:sp>
          <p:nvSpPr>
            <p:cNvPr id="228" name=""/>
            <p:cNvSpPr/>
            <p:nvPr/>
          </p:nvSpPr>
          <p:spPr>
            <a:xfrm>
              <a:off x="6172200" y="41911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will print the integ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output is implementation dependent, but will show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re represented differen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242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F14E-324E-4E26-B7B1-1E8A7A3DDB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100.0 to member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t a value in the floating me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4382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-9.25596e+0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8C41-31B0-4B48-9D75-D80EAA723E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9: fig20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anonymous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n anonymous unio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bers integer1, double1 and charPtr share the sam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Ptr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union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local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3880" y="1905120"/>
            <a:ext cx="4114800" cy="1067400"/>
            <a:chOff x="1523880" y="190512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29718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nonymous union. The data members can be accessed without using a union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523880" y="2057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4E55-2055-4DCC-B638-EB7E48595B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value to each union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ively and print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2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9625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onymous 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9818-FCD3-4A48-B53E-FB2F722161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3  Linkage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ll compiled C functions from C++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 does not encode function names like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ds to problems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age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link properly, tell compiler that function compiled in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ng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multip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EC40-9577-42BB-9665-956610045F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appends to end of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D676-EA73-48B5-B016-99F1F49455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++, we use 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-length arguments for programmers working with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functions with unspecified number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ar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llipsi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end of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last item in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one named parameter before elli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myFunction(int i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42C0-E46E-434D-8690-B7AE733D65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(inside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data needed by other 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 my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last parameter before ellipsis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start( myList,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FDA6-5086-4689-88F0-E1925A4D2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arguments with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a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the expected type of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g = va_arg( myList, doubl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different data types for differen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end( myLis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F98B-87AE-4800-B943-45AD8A2AB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2: fig20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variable-length argument lis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iosflag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cstdar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...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1960" y="3048120"/>
            <a:ext cx="4115160" cy="838080"/>
            <a:chOff x="2361960" y="3048120"/>
            <a:chExt cx="4115160" cy="838080"/>
          </a:xfrm>
        </p:grpSpPr>
        <p:sp>
          <p:nvSpPr>
            <p:cNvPr id="106" name=""/>
            <p:cNvSpPr/>
            <p:nvPr/>
          </p:nvSpPr>
          <p:spPr>
            <a:xfrm>
              <a:off x="38098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ellipsis in the prototype, and one defined argument befor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3619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E045-026F-4658-8D7C-BE5D0F7FD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9:56:27Z</dcterms:created>
  <dc:creator>kalid</dc:creator>
  <dc:description/>
  <dc:language>en-US</dc:language>
  <cp:lastModifiedBy>Pearson Education</cp:lastModifiedBy>
  <dcterms:modified xsi:type="dcterms:W3CDTF">2002-09-03T14:50:44Z</dcterms:modified>
  <cp:revision>580</cp:revision>
  <dc:subject/>
  <dc:title>PowerPoint Presentation</dc:title>
</cp:coreProperties>
</file>