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F7D26-FEC6-4F28-BADE-AA5F916953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-360" y="285840"/>
            <a:ext cx="701028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4834C-398C-4AEE-9652-2E32A157A6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-360" y="28584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91720" y="28584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5626A-A4D6-4848-9E6B-7F1115A90B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-360" y="285840"/>
            <a:ext cx="225720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70240" y="285840"/>
            <a:ext cx="225720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40480" y="285840"/>
            <a:ext cx="225720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7AA75-4BBD-4A7B-A1A4-BB0CA7C77E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7150B-208A-4F68-91D3-DD81BC6E03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475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DEE85-26D0-4EDB-B08A-A6BAFDADE7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2E113-5F95-4BD5-92A4-3CBB5D4947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285FB-D374-4FF1-9EBE-2806CD6BE5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1D656-D4A0-4DDD-B459-8AD83F683E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382AC-4722-4AB7-BE36-27F41A6114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-360" y="28584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6F808-EBE8-483C-A1E3-9E4B5A844E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475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34D52-DE16-4097-BA3C-2CFD8BE846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91720" y="28584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7FD40-7459-4EEC-AC71-9D5C03412A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-360" y="285840"/>
            <a:ext cx="701028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19EF7-4E1A-48BE-93AA-2C973B76BA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-360" y="285840"/>
            <a:ext cx="701028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7B936-9B4E-490C-BB39-010B3F872A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-360" y="28584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91720" y="28584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76EB2-60F9-472E-8DA1-BF45AE63B9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-360" y="285840"/>
            <a:ext cx="225720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370240" y="285840"/>
            <a:ext cx="225720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40480" y="285840"/>
            <a:ext cx="225720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D9EBB-A00B-4BCB-B8AC-EA74FBE4BB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11937-E2B2-4511-9A94-4B3F70CE4A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1C4B7-7003-40F0-85EF-CE555D7D4E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20512-9711-45AF-85BE-1B0780044D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06D3F-8FAA-421F-9624-8FD19A73B3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-360" y="28584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9FAF4-5C72-419D-A379-3B9265F000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91720" y="28584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6E8F7-54D4-44C9-AA2D-136C3064CA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-360" y="285840"/>
            <a:ext cx="701028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07077-0EB5-48D6-9945-D494C9551D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3BDD-9011-496E-8181-C05102ABD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3911-4C1D-4273-83BB-A7A2259C3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22 - Other Topic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295280"/>
            <a:ext cx="777240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onst_cast 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reinterpret_cast 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namesp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Operator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explicit Constru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mutable Class Me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Pointers to Class Members (.* and -&gt;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9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Multiple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10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Multiple Inheritance and virtual Base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59B1F-6419-4395-A853-D1562E73EE7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243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2.3: fig22_0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namespac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 namesp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std namespace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lobal vari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namespace Example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sp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ample {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clare two constants and one variable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I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1415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.7182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Values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ested namespace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sp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ner {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ine enumeration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nu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ears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ISCAL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99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ISCAL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ISCAL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nner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Example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286000" y="228600"/>
            <a:ext cx="4114800" cy="1339560"/>
            <a:chOff x="2286000" y="228600"/>
            <a:chExt cx="4114800" cy="1339560"/>
          </a:xfrm>
        </p:grpSpPr>
        <p:sp>
          <p:nvSpPr>
            <p:cNvPr id="121" name=""/>
            <p:cNvSpPr/>
            <p:nvPr/>
          </p:nvSpPr>
          <p:spPr>
            <a:xfrm>
              <a:off x="3733920" y="228600"/>
              <a:ext cx="2666880" cy="1339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us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atement. This includes all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allowing us to 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nd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286000" y="3999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133360" y="3505320"/>
            <a:ext cx="4115160" cy="857160"/>
            <a:chOff x="2133360" y="3505320"/>
            <a:chExt cx="4115160" cy="857160"/>
          </a:xfrm>
        </p:grpSpPr>
        <p:sp>
          <p:nvSpPr>
            <p:cNvPr id="124" name=""/>
            <p:cNvSpPr/>
            <p:nvPr/>
          </p:nvSpPr>
          <p:spPr>
            <a:xfrm>
              <a:off x="3581280" y="3505320"/>
              <a:ext cx="2667240" cy="852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the nested namesp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133360" y="36766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133720" y="1580760"/>
            <a:ext cx="4343400" cy="1692720"/>
            <a:chOff x="2133720" y="1580760"/>
            <a:chExt cx="4343400" cy="1692720"/>
          </a:xfrm>
        </p:grpSpPr>
        <p:sp>
          <p:nvSpPr>
            <p:cNvPr id="127" name=""/>
            <p:cNvSpPr/>
            <p:nvPr/>
          </p:nvSpPr>
          <p:spPr>
            <a:xfrm>
              <a:off x="3809880" y="1676520"/>
              <a:ext cx="2667240" cy="1339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 new namespace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xamp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Note that it has a vari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eger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different from the globa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eger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2285640" y="1847880"/>
              <a:ext cx="152388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8920" bIns="178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2133720" y="1580760"/>
              <a:ext cx="167616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3880" bIns="83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2285640" y="1847880"/>
              <a:ext cx="1523880" cy="142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9F5BB-79BA-473A-B761-894B32659A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656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unnamed namespace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sp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ubleInUnname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8.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clare vari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unnamed namespace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value doubleInUnnamed of unnamed namesp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oubleInUnnamed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oubleInUnnam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global vari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(global) integer1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teger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values of Example namesp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I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xample::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I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E =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xample::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integer1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xample::integer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FISCAL3 =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xample::Inner::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ISCAL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xample::printValues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voke printValues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581280" y="50760"/>
            <a:ext cx="4114800" cy="1096200"/>
            <a:chOff x="3581280" y="50760"/>
            <a:chExt cx="4114800" cy="1096200"/>
          </a:xfrm>
        </p:grpSpPr>
        <p:sp>
          <p:nvSpPr>
            <p:cNvPr id="134" name=""/>
            <p:cNvSpPr/>
            <p:nvPr/>
          </p:nvSpPr>
          <p:spPr>
            <a:xfrm>
              <a:off x="5029200" y="50760"/>
              <a:ext cx="2666880" cy="1096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n unnamed namespace. Its variables are globa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581280" y="222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742B0-07B2-4784-B7AE-582F3EC6B9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590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variable and constant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ample::printValues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In printValues:\ninteger1 =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integer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I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I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E =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oubleInUnnamed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oubleInUnname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(global) integer1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::integer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FISCAL3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ner::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ISCAL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print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E4DD8-A777-486D-9C2D-9989834646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395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InUnnamed = 88.2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global) integer1 = 9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I = 3.1415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 = 2.7182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1 =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SCAL3 = 199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 printValue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1 =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I = 3.1415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 = 2.7182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InUnnamed = 88.2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global) integer1 = 9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SCAL3 = 199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870E4-DD31-4568-B9B5-ECAD5AF0A3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Operator Keyword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 key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used instead of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ful for keyboards withou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^ | 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14856-4319-474F-A2E1-7991A51196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Operator Keyword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295280" y="1371600"/>
          <a:ext cx="6032520" cy="429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03252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21620-4692-4424-8CD6-DDA394C748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243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2.5: fig22_0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operator keyword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boolalph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so646.h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boolalpha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 a and b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( a and b )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 a or b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( a or b )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  not a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( not a )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 not_eq b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( a not_eq b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 bitand b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( a bitand b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 bit_or b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( a bitor b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a xor b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( a xor b )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compl a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( compl a )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 and_eq b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( a and_eq b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a or_eq b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( a or_eq b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 xor_eq b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( a xor_eq b 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809880" y="2800440"/>
            <a:ext cx="4114800" cy="857160"/>
            <a:chOff x="3809880" y="2800440"/>
            <a:chExt cx="4114800" cy="857160"/>
          </a:xfrm>
        </p:grpSpPr>
        <p:sp>
          <p:nvSpPr>
            <p:cNvPr id="148" name=""/>
            <p:cNvSpPr/>
            <p:nvPr/>
          </p:nvSpPr>
          <p:spPr>
            <a:xfrm>
              <a:off x="5257800" y="2800440"/>
              <a:ext cx="2666880" cy="852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use of operator keyword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3809880" y="2971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BA141-14B7-4ACF-9F60-61EAE9BB91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204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143000"/>
            <a:ext cx="7010280" cy="2755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 and b: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 or b: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ot a: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 not_eq b: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 bitand b: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 bit_or b: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 xor b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 a: 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 and_eq b: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 or_eq b: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 xor_eq b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42BDD-9F21-4F22-8B70-975576EBE6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6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plicit Construc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icit conver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Chapter 8, compiler may perform implicit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constructor ex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ose we have constru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Class( int x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Function( myClass y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w, call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Function( 3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 implicitly conver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using the constr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Fun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new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323CA-687E-4C4C-A564-70A2082B03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6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plicit Construc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not have desired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 construct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plic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be used in implicit conver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rst show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 with implicit conver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n show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plic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nstru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46901-C479-45B1-A5EA-51945526C9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1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additional C++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st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sp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or keywo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ple inherit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6D008-619E-413F-BA49-FA0BE0EDD7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ray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1483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 22.6: array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imple class Array (for integers)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Array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rie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stream &amp;operator&lt;&lt;( ostream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/conversion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~Array();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ize of the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ptr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er to first element of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RRAY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361960" y="2076480"/>
            <a:ext cx="4115160" cy="1339560"/>
            <a:chOff x="2361960" y="2076480"/>
            <a:chExt cx="4115160" cy="1339560"/>
          </a:xfrm>
        </p:grpSpPr>
        <p:sp>
          <p:nvSpPr>
            <p:cNvPr id="160" name=""/>
            <p:cNvSpPr/>
            <p:nvPr/>
          </p:nvSpPr>
          <p:spPr>
            <a:xfrm>
              <a:off x="3809880" y="2076480"/>
              <a:ext cx="2667240" cy="1339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ithou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xplici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keyword, this constructor can be used for implicit convers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2361960" y="224784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D3D99-DCF6-440E-B1F5-D5A08BDC56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ray.cpp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24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 22.7: array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 function definitions for class Arra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new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array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 for class Array (default size 10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::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ize = ( arraySize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arraySize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rray constructor called for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iz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elements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space for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t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 size ];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array elements to zero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size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tr[ i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B0396-2EE8-439A-B150-83DD1A5982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ray.cpp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1766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structor for class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::~Array() {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 ptr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loaded stream insertion operator for class Arra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stream &amp;operator&lt;&lt;( ostream &amp;outpu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&amp;arrayRef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arrayRef.size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put &lt;&lt; arrayRef.ptr[ i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ables cout &lt;&lt; x &lt;&lt; 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perator&lt;&l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BC3B0-B91A-4B23-ACC1-6B2AE7256D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929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 22.8: fig22_08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iver for simple class Arra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rray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rray integers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Array( integers1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Array integers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Array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vert 15 to an Array and outp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286000" y="2822400"/>
            <a:ext cx="4114800" cy="1582920"/>
            <a:chOff x="2286000" y="2822400"/>
            <a:chExt cx="4114800" cy="1582920"/>
          </a:xfrm>
        </p:grpSpPr>
        <p:sp>
          <p:nvSpPr>
            <p:cNvPr id="169" name=""/>
            <p:cNvSpPr/>
            <p:nvPr/>
          </p:nvSpPr>
          <p:spPr>
            <a:xfrm>
              <a:off x="3733920" y="2822400"/>
              <a:ext cx="2666880" cy="1582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utputArra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pas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This works becaus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implicitly converted to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rra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y the construc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86000" y="2994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8DEAC-4AB9-422F-931D-5D784321C9E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081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array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&amp;arrayToOutpu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array received contain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arrayToOutp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utput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023920"/>
            <a:ext cx="7010280" cy="1872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 constructor called for 7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array received contai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0 0 0 0 0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 constructor called for 15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array received contai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0 0 0 0 0 0 0 0 0 0 0 0 0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ADA6B-110C-4B5E-A275-3E458F8E1C1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ray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1483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2.9: array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imple class Array (for integers)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Array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rie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stream &amp;operator&lt;&lt;( ostream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plici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~Array();  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ize of the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ptr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er to first element of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RRAY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438280" y="2133720"/>
            <a:ext cx="4114800" cy="857160"/>
            <a:chOff x="2438280" y="2133720"/>
            <a:chExt cx="4114800" cy="857160"/>
          </a:xfrm>
        </p:grpSpPr>
        <p:sp>
          <p:nvSpPr>
            <p:cNvPr id="177" name=""/>
            <p:cNvSpPr/>
            <p:nvPr/>
          </p:nvSpPr>
          <p:spPr>
            <a:xfrm>
              <a:off x="3886200" y="2133720"/>
              <a:ext cx="2666880" cy="852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is time, declare construct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xplici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2438280" y="2305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B4827-7B7C-4D1E-AC0F-E96EDD88026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ray.cpp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24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2.10: array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 function definitions for class Arra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new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rray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 for class Array (default size 10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::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ize = ( arraySize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arraySize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rray constructor called for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iz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elements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space for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t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 size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array elements to zero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or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size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tr[ i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8A5BF-B9E3-48A2-8E63-5294CA1C2A7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ray.cpp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1766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structor for class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::~Array() {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 ptr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loaded insertion operator for class Arra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stream &amp;operator&lt;&lt;( ostream &amp;outpu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&amp;arrayRef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arrayRef.size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put &lt;&lt; arrayRef.ptr[ i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ables cout &lt;&lt; x &lt;&lt; 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perator&lt;&l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BA6DD-8CB0-4A14-9E75-0CD5271B5CF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053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2.11: fig22_1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iver for simple class Arra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rray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rray integers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Array( integers1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Array integers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// ERROR: construction not allowed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outputArray( 15 );  // convert 15 to an Array and output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Array( Array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ust use construc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438280" y="3098880"/>
            <a:ext cx="4114800" cy="857160"/>
            <a:chOff x="2438280" y="3098880"/>
            <a:chExt cx="4114800" cy="857160"/>
          </a:xfrm>
        </p:grpSpPr>
        <p:sp>
          <p:nvSpPr>
            <p:cNvPr id="186" name=""/>
            <p:cNvSpPr/>
            <p:nvPr/>
          </p:nvSpPr>
          <p:spPr>
            <a:xfrm>
              <a:off x="3886200" y="3098880"/>
              <a:ext cx="2666880" cy="852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is call will cause an error when compi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2438280" y="327024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308BD-15F8-47F6-B29E-7F9EB35E4F5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862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array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&amp;arrayToOutpu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array received contain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arrayToOutp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utput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774800"/>
            <a:ext cx="7010280" cy="2275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4e\ch22\FIG22_09_10_11\Fig22_11.cpp(18) : error C2664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'outputArray' : cannot convert parameter 1 from 'const int'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'const class Array &amp;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son: cannot convert from 'const int' to 'const class Array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o constructor could take the source type, or constructor overload resolution was ambigu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 executing cl.ex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.exe - 1 error(s), 0 warning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0CE19-3516-4CB1-A8F7-5314AE5488B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nst_cast Operato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_ca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to cast awa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lat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 rid of a variable'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ness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_cast &lt; 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new data typ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DF607-F5D5-4F6E-9D32-F25303B3BE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utable Class Memb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ta 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ways modifiable, even in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or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void need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_ca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_ca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 with no mutable data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_ca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sed ever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s chance of accidental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A796D-14E5-4E7A-AA5B-3FB06DCE2DB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24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12: fig21_1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storage class specifier mutab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TestMutabl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Mutabl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estMut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 value = v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difyValu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value++; }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Valu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mut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utable member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TestMut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Mutable tes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itial valu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test.getValu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est.modifyValue(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odifies mutable me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Modified valu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test.getValue(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590560" y="1143000"/>
            <a:ext cx="4115160" cy="2133720"/>
            <a:chOff x="2590560" y="1143000"/>
            <a:chExt cx="4115160" cy="2133720"/>
          </a:xfrm>
        </p:grpSpPr>
        <p:sp>
          <p:nvSpPr>
            <p:cNvPr id="196" name=""/>
            <p:cNvSpPr/>
            <p:nvPr/>
          </p:nvSpPr>
          <p:spPr>
            <a:xfrm>
              <a:off x="4038480" y="1143000"/>
              <a:ext cx="2667240" cy="1096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utable 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It can be modified b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2590560" y="1676520"/>
              <a:ext cx="14475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2590560" y="1676520"/>
              <a:ext cx="14475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F715D-FA30-4CEC-A8CF-B8F8FF91259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204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138320"/>
            <a:ext cx="7010280" cy="769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 value: 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odified value: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6CEDF-2462-4CF3-B630-D7FEAF0AE57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8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s to Class Members (.* and -&gt;*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o access class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the same as previously discussed poin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id *memPtr 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ular function pointer, to function that 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takes n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id ( Test::*memPtr )(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er to function in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akes n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call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pointer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tPtr-&gt;*memPtr)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3F765-3827-44A0-8355-20404BC24B1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8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s to Class Members (.* and -&gt;*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data 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*vPt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ular pointer to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Test::*vPt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er to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 of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ac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pointer to object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*tPtr).*vP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3E89B-D238-4469-BC72-9D16609E21A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586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2.13 : fig22_1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operators .* and -&gt;*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Test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ion() {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unctio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ublic data me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class T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owStar( Test *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tStar( Test *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est test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est.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sign value 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rrowStar( &amp;test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ass address to arrowSt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otStar( &amp;test 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ass address to dotSt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59BF7-046D-409B-BA3C-22B0AA95B8F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586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ccess member function of Test object using -&gt;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owStar( Test *testPt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clare function pointer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est::*memPtr )() = &amp;Test::fun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voke function indirect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( testPtr-&gt;*memPtr )(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rrowSt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ccess members of Test object data member using .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tStar( Test *testPtr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::*vPtr = &amp;Test::value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clare point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( *testPtr2 ).*vPtr &lt;&lt; endl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ccess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otSt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895480" y="1254240"/>
            <a:ext cx="4648320" cy="2069640"/>
            <a:chOff x="2895480" y="1254240"/>
            <a:chExt cx="4648320" cy="2069640"/>
          </a:xfrm>
        </p:grpSpPr>
        <p:sp>
          <p:nvSpPr>
            <p:cNvPr id="211" name=""/>
            <p:cNvSpPr/>
            <p:nvPr/>
          </p:nvSpPr>
          <p:spPr>
            <a:xfrm>
              <a:off x="4876920" y="1254240"/>
              <a:ext cx="2666880" cy="2069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ssign function pointer to the addres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un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e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Note that neither side refers to a specific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ext, c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un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irect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3429000" y="14256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2895480" y="1425600"/>
              <a:ext cx="1981440" cy="142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200400" y="3409920"/>
            <a:ext cx="4114800" cy="1314360"/>
            <a:chOff x="3200400" y="3409920"/>
            <a:chExt cx="4114800" cy="1314360"/>
          </a:xfrm>
        </p:grpSpPr>
        <p:sp>
          <p:nvSpPr>
            <p:cNvPr id="215" name=""/>
            <p:cNvSpPr/>
            <p:nvPr/>
          </p:nvSpPr>
          <p:spPr>
            <a:xfrm>
              <a:off x="4648320" y="3409920"/>
              <a:ext cx="2666880" cy="852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pointer to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Then, access the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3200400" y="3581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3200400" y="3581280"/>
              <a:ext cx="14479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519B6-CE21-4BA3-B14D-E1C238417F6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769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0401D-5C77-4348-ADDD-538CD75F86C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9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ultiple Inherita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inheri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 class has several base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werful, but can cause ambiguity probl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both base classes have functions of the same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tion: specify exact function us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Object.BaseClass1::functio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comma-separated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Derived : public Base1, public Base2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en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AEB9E-CC67-41E3-A2E9-C90C2EA9E38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ase1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052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2.14: base1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inition of class Base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1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1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Base1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1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ase1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rameterValue ) { value = parameterValue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Dat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ccessible to derived clas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herited by derived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Base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ASE1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190760" y="1330200"/>
            <a:ext cx="4115160" cy="1826280"/>
            <a:chOff x="4190760" y="1330200"/>
            <a:chExt cx="4115160" cy="1826280"/>
          </a:xfrm>
        </p:grpSpPr>
        <p:sp>
          <p:nvSpPr>
            <p:cNvPr id="225" name=""/>
            <p:cNvSpPr/>
            <p:nvPr/>
          </p:nvSpPr>
          <p:spPr>
            <a:xfrm>
              <a:off x="5638680" y="1330200"/>
              <a:ext cx="2667240" cy="1826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re are two base classes in this example, each has its ow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Dat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is base class contain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4190760" y="15019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F3F70-EDBB-4B72-9B45-E5C87868EB6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586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2.1: fig22_0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operator const_cast.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ConstCastTest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CastTes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Numb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Numb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Numb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ConstCastT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CastTest::setNumb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 ) { number = num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CastTest::getNumb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523880" y="2971800"/>
            <a:ext cx="144792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743200" y="1981080"/>
            <a:ext cx="4114800" cy="857520"/>
            <a:chOff x="2743200" y="1981080"/>
            <a:chExt cx="4114800" cy="857520"/>
          </a:xfrm>
        </p:grpSpPr>
        <p:sp>
          <p:nvSpPr>
            <p:cNvPr id="97" name=""/>
            <p:cNvSpPr/>
            <p:nvPr/>
          </p:nvSpPr>
          <p:spPr>
            <a:xfrm>
              <a:off x="4191120" y="1981080"/>
              <a:ext cx="2666880" cy="852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and cannot modify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2743200" y="2152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343E6-261A-4A63-A163-05A2716743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ase2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052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2.15: base2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inition of class Base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2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2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Base2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2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ase2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racterData ) { letter = characterData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Dat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tter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ccessible to derived clas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tter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herited by derived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Base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ASE2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1473C-CF4F-48B1-AA77-0CE11642996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rived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243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2.16: derived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inition of class Derived which inheri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ultiple base classes (Base1 and Base2)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se1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se2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Derived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1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2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rie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stream &amp;operator&lt;&lt;( ostream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eriv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Real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al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rived class's private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Deriv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RIVED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124080" y="2362320"/>
            <a:ext cx="4114800" cy="857160"/>
            <a:chOff x="3124080" y="2362320"/>
            <a:chExt cx="4114800" cy="857160"/>
          </a:xfrm>
        </p:grpSpPr>
        <p:sp>
          <p:nvSpPr>
            <p:cNvPr id="232" name=""/>
            <p:cNvSpPr/>
            <p:nvPr/>
          </p:nvSpPr>
          <p:spPr>
            <a:xfrm>
              <a:off x="4572000" y="2362320"/>
              <a:ext cx="2666880" cy="609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comma-separated li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3124080" y="25336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1DF68-C179-4B01-A73A-C955F25E802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rived.cpp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3672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2.17: derived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 function definitions for class Deriv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rived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 for Derived calls constructors for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Base1 and class Base2.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member initializers to call base-class constructors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::Deriv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racte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uble1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Base1( integer ), Base2( character ), real( double1 ) {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re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::getReal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al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all data members of Deriv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stream &amp;operator&lt;&lt;( ostream &amp;outpu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 &amp;derive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  Intege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erived.valu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Characte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erived.let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Real numbe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erived.rea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ables cascaded cal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perator&lt;&l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962160" y="380880"/>
            <a:ext cx="4115160" cy="1524240"/>
            <a:chOff x="3962160" y="380880"/>
            <a:chExt cx="4115160" cy="1524240"/>
          </a:xfrm>
        </p:grpSpPr>
        <p:sp>
          <p:nvSpPr>
            <p:cNvPr id="237" name=""/>
            <p:cNvSpPr/>
            <p:nvPr/>
          </p:nvSpPr>
          <p:spPr>
            <a:xfrm>
              <a:off x="5410080" y="380880"/>
              <a:ext cx="2667240" cy="1096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use of base-class constructors in derived class construc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3962160" y="838080"/>
              <a:ext cx="144756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1172B-3EA5-4FCC-9189-C0D9B45D7FA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1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586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2.18: fig22_18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iver for multiple inheritance examp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se1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se2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rived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ase1 base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 *base1Pt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Base1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ase2 base2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Z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*base2Pt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Base2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erived derive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A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Derived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data members of base-class objec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bject base1 contains integer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base1.getData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Object base2 contains character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base2.getData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Object derived contain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erived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4AD9A-BDC3-4BBC-A435-2329F721B8C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1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586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int data members of derived-class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cope resolution operator resolves getData ambigui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ta members of Derived can be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accessed individually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 Intege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erived.Base1::getData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Characte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erived.Base2::getData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Real numbe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erived.getReal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rived can be treated as an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bject of either base clas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reat Derived as a Base1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ase1Ptr = &amp;derived;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se1Ptr-&gt;getData() yield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base1Ptr-&gt;getData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treat Derived as a Base2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ase2Ptr = &amp;derived;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se2Ptr-&gt;getData() yield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base2Ptr-&gt;getData(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676480" y="1447920"/>
            <a:ext cx="2667600" cy="1310040"/>
            <a:chOff x="5676480" y="1447920"/>
            <a:chExt cx="2667600" cy="1310040"/>
          </a:xfrm>
        </p:grpSpPr>
        <p:sp>
          <p:nvSpPr>
            <p:cNvPr id="244" name=""/>
            <p:cNvSpPr/>
            <p:nvPr/>
          </p:nvSpPr>
          <p:spPr>
            <a:xfrm>
              <a:off x="5676840" y="1905120"/>
              <a:ext cx="2667240" cy="852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calls to specific base class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flipV="1">
              <a:off x="5676480" y="1447920"/>
              <a:ext cx="11048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114800" y="3105000"/>
            <a:ext cx="3962520" cy="1314720"/>
            <a:chOff x="4114800" y="3105000"/>
            <a:chExt cx="3962520" cy="1314720"/>
          </a:xfrm>
        </p:grpSpPr>
        <p:sp>
          <p:nvSpPr>
            <p:cNvPr id="247" name=""/>
            <p:cNvSpPr/>
            <p:nvPr/>
          </p:nvSpPr>
          <p:spPr>
            <a:xfrm>
              <a:off x="5410080" y="3105000"/>
              <a:ext cx="2667240" cy="852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n treat derived-class pointer as either base-class point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 flipV="1">
              <a:off x="4114800" y="3276720"/>
              <a:ext cx="1295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1680" bIns="12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4114800" y="3581280"/>
              <a:ext cx="12952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AF998-D9EA-4C04-82A5-F9B1F0762EC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1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614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base1 contains integer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base2 contains character Z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derived contain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: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acter: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l number: 3.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members of Derived can be accessed individually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: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acter: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l number: 3.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 can be treated as an object of either base clas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ase1Ptr-&gt;getData() yields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ase2Ptr-&gt;getData() yields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313E3-9CDC-42A3-A039-E8BBECD4F77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10  Multiple Inheritance and virtual Base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biguities from multiple 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ostre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uld have duplicate sub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o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herited in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tre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pcast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o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er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o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 is a probl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o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ubobjects could exist, which is us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mbiguous, results in syntax err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o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oes not actually have this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609480" y="1758960"/>
            <a:ext cx="5486400" cy="1670040"/>
            <a:chOff x="609480" y="1758960"/>
            <a:chExt cx="5486400" cy="1670040"/>
          </a:xfrm>
        </p:grpSpPr>
        <p:sp>
          <p:nvSpPr>
            <p:cNvPr id="255" name=""/>
            <p:cNvSpPr/>
            <p:nvPr/>
          </p:nvSpPr>
          <p:spPr>
            <a:xfrm>
              <a:off x="609480" y="2251080"/>
              <a:ext cx="5486400" cy="11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1758960"/>
              <a:ext cx="121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i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581280" y="213984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stre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676160" y="221616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istre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590560" y="274968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iostre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2361600" y="1987560"/>
              <a:ext cx="381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0400" y="1987560"/>
              <a:ext cx="4572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209680" y="244476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3429000" y="244476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90057-36D8-4647-B327-08322458D4F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10  Multiple Inheritance and virtual Base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: use virtual base class 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one subobject inherited into multiply derived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295280" y="2286000"/>
            <a:ext cx="6324480" cy="3583440"/>
            <a:chOff x="1295280" y="2286000"/>
            <a:chExt cx="6324480" cy="3583440"/>
          </a:xfrm>
        </p:grpSpPr>
        <p:sp>
          <p:nvSpPr>
            <p:cNvPr id="267" name=""/>
            <p:cNvSpPr/>
            <p:nvPr/>
          </p:nvSpPr>
          <p:spPr>
            <a:xfrm>
              <a:off x="4724280" y="373356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cond Derived Cl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1295280" y="2286000"/>
              <a:ext cx="5943600" cy="3583440"/>
              <a:chOff x="1295280" y="2286000"/>
              <a:chExt cx="5943600" cy="3583440"/>
            </a:xfrm>
          </p:grpSpPr>
          <p:sp>
            <p:nvSpPr>
              <p:cNvPr id="269" name=""/>
              <p:cNvSpPr/>
              <p:nvPr/>
            </p:nvSpPr>
            <p:spPr>
              <a:xfrm>
                <a:off x="3581280" y="2286000"/>
                <a:ext cx="160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ase Clas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676160" y="3733560"/>
                <a:ext cx="2438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First Derived Clas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971440" y="5470560"/>
                <a:ext cx="281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ultiply-Derived Clas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295280" y="2666880"/>
                <a:ext cx="1447560" cy="7038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virtual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inheritan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638680" y="2666880"/>
                <a:ext cx="1600200" cy="6426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virtual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inheritan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2819160" y="2819160"/>
                <a:ext cx="838080" cy="83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495680" y="2819160"/>
                <a:ext cx="76176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590560" y="4572000"/>
                <a:ext cx="7621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5028480" y="4343400"/>
                <a:ext cx="83844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742840" y="304776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5181480" y="2971800"/>
                <a:ext cx="38088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B9CDE-05E5-4A47-92D7-3B749FBD7A9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586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2.20: fig22_2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ttempting to polymorphically call a function that i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ultiply inherited from two base class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Bas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ure virtu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DerivedOn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One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override print function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rivedOne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}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DerivedO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371600" y="1295280"/>
            <a:ext cx="4114800" cy="1096200"/>
            <a:chOff x="1371600" y="1295280"/>
            <a:chExt cx="4114800" cy="1096200"/>
          </a:xfrm>
        </p:grpSpPr>
        <p:sp>
          <p:nvSpPr>
            <p:cNvPr id="283" name=""/>
            <p:cNvSpPr/>
            <p:nvPr/>
          </p:nvSpPr>
          <p:spPr>
            <a:xfrm>
              <a:off x="2819520" y="1295280"/>
              <a:ext cx="2666880" cy="1096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is example will demonstrate the ambiguity of multiple inherita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1371600" y="1467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7EB8E-124C-4CBC-9E19-5561D3F1111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272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DerivedTwo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Two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ride print function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rivedTwo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DerivedTw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Multipl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ultiple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On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Two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qualify which version of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DerivedTwo::print()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Multip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B0993-C51B-4D36-A0D0-F3D95133CED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053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CastTest::printNumb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Number after modification: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"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st away const-ness to allow modification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ConstCastTest * &gt;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-&gt;number--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number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print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nstCastTest tes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ConstCastTest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est.setNumb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private data number to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itial value of numbe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test.getNumb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est.printNumb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410080"/>
            <a:ext cx="7010280" cy="838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 value of number: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 after modification: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114800" y="568440"/>
            <a:ext cx="4114800" cy="1096200"/>
            <a:chOff x="4114800" y="568440"/>
            <a:chExt cx="4114800" cy="1096200"/>
          </a:xfrm>
        </p:grpSpPr>
        <p:sp>
          <p:nvSpPr>
            <p:cNvPr id="103" name=""/>
            <p:cNvSpPr/>
            <p:nvPr/>
          </p:nvSpPr>
          <p:spPr>
            <a:xfrm>
              <a:off x="5562720" y="568440"/>
              <a:ext cx="2666880" cy="1096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st away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nes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hi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pointer. This allows the data to be modified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4114800" y="739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DE9AB-B0F0-400E-BE0B-91C576A876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7102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ultiple both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instantiate Multipl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erivedOne one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tantiate DerivedOn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erivedTwo two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tantiate DerivedTwo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array of base-class poin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ase *arra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array[ 0 ] = &amp;both;   // ERROR--ambiguous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rra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&amp;o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rra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&amp;two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lymorphically invoke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rray[ i ] -&gt; 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514600" y="1371600"/>
            <a:ext cx="4114800" cy="857160"/>
            <a:chOff x="2514600" y="1371600"/>
            <a:chExt cx="4114800" cy="857160"/>
          </a:xfrm>
        </p:grpSpPr>
        <p:sp>
          <p:nvSpPr>
            <p:cNvPr id="290" name=""/>
            <p:cNvSpPr/>
            <p:nvPr/>
          </p:nvSpPr>
          <p:spPr>
            <a:xfrm>
              <a:off x="3962520" y="1371600"/>
              <a:ext cx="2666880" cy="852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hich base subobject will be used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514600" y="15429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CC91A-8B70-4D18-8807-25A08138AFC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387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4e\ch22\fig22_20_21\fig22_20.cpp(52) : error C2594: '=' :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mbiguous conversions from 'class Multiple *' to 'class Base *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 executing cl.ex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.exe - 1 error(s), 0 warning(s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A276A-135F-4C55-BD6D-6A682648871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2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462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2.21: fig22_2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virtual base class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Bas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mplicit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ure virtu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Base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DerivedOn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One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mplicit default constructor cal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ase default construct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verride print function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rivedOne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erivedOne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352680" y="3276720"/>
            <a:ext cx="4114800" cy="2069640"/>
            <a:chOff x="3352680" y="3276720"/>
            <a:chExt cx="4114800" cy="2069640"/>
          </a:xfrm>
        </p:grpSpPr>
        <p:sp>
          <p:nvSpPr>
            <p:cNvPr id="297" name=""/>
            <p:cNvSpPr/>
            <p:nvPr/>
          </p:nvSpPr>
          <p:spPr>
            <a:xfrm>
              <a:off x="4800600" y="3276720"/>
              <a:ext cx="2666880" cy="2069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virtual inheritance to solve the ambiguity problem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compiler generates default constructors, which greatly simplifies the hierarch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3352680" y="3448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3886200" y="3448080"/>
              <a:ext cx="914400" cy="127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2C069-466E-4EA4-AEA2-A953BE39830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2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586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DerivedTwo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Two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mplicit default constructor cal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ase default construct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verride print function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rivedTwo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erivedTwo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Multipl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ultiple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On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Two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mplicit default constructor cal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rivedOne and DerivedTwo default construc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qualify which version of function print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DerivedTwo::print(); }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ultiple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3352320" y="837720"/>
            <a:ext cx="3810600" cy="1158120"/>
            <a:chOff x="3352320" y="837720"/>
            <a:chExt cx="3810600" cy="1158120"/>
          </a:xfrm>
        </p:grpSpPr>
        <p:sp>
          <p:nvSpPr>
            <p:cNvPr id="303" name=""/>
            <p:cNvSpPr/>
            <p:nvPr/>
          </p:nvSpPr>
          <p:spPr>
            <a:xfrm>
              <a:off x="4495680" y="1143000"/>
              <a:ext cx="2667240" cy="852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heritance, as befor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flipV="1">
              <a:off x="3352320" y="837720"/>
              <a:ext cx="114300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614B6-D9E0-4374-810C-256AE6FE892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2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1483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ultiple both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tantiate Multipl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erivedOne one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tantiate DerivedOn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erivedTwo two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tantiate DerivedTwo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clare array of base-class pointers and initial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ach element to a derived-class 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ase *arra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rra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&amp;both;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rra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&amp;o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rra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&amp;two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lymorphically invoke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rray[ i ]-&gt;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50849-5935-4699-82A0-F6E4DE1B8F5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2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985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Tw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O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Tw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DD449-4656-47D9-9C85-CC6F8314258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interpret_cast Operato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interpret_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for nonstandard casts (i.e., one pointer to anoth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be used for standard casts (i.e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C08BD-1C94-458E-88DC-1791487B88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491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2.2: fig22_0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operator reinterpret_cas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ptr = &amp;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reinterpret_cast to cast from int * to char 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*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interpret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&gt;( ptr ) &lt;&lt; endl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191120"/>
            <a:ext cx="70102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981080" y="1523880"/>
            <a:ext cx="4114800" cy="1524240"/>
            <a:chOff x="1981080" y="1523880"/>
            <a:chExt cx="4114800" cy="1524240"/>
          </a:xfrm>
        </p:grpSpPr>
        <p:sp>
          <p:nvSpPr>
            <p:cNvPr id="111" name=""/>
            <p:cNvSpPr/>
            <p:nvPr/>
          </p:nvSpPr>
          <p:spPr>
            <a:xfrm>
              <a:off x="3429000" y="1523880"/>
              <a:ext cx="2666880" cy="1096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 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Cast it 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har 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or printing.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12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the ASCII valu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'x'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1981080" y="16956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361960" y="1695600"/>
              <a:ext cx="1066680" cy="135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3BF09-9152-4DF1-B196-75C9172A2B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namespac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has identifiers in different sc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metimes scopes overlap, lead to probl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defines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ace identifiers and variables within namesp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 with 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namespace_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mem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e guaranteed to be un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space Nam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named namespaces are glob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no qual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spaces can be nes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6BED2-EC66-4344-A63E-108F6ED4CB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namespac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s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sing namespace 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namespace_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s of that namespace can be used without preceding 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namespace_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: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also be used with individual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ing namespace st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ouraged by some programmers, because includes entire content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ing namespace std::c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writ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stead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::c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6905C-3712-4770-8E80-18F6F92E94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9T20:28:09Z</dcterms:created>
  <dc:creator>kalid</dc:creator>
  <dc:description/>
  <dc:language>en-US</dc:language>
  <cp:lastModifiedBy>Pearson Education</cp:lastModifiedBy>
  <dcterms:modified xsi:type="dcterms:W3CDTF">2002-09-03T14:50:27Z</dcterms:modified>
  <cp:revision>294</cp:revision>
  <dc:subject/>
  <dc:title>PowerPoint Presentation</dc:title>
</cp:coreProperties>
</file>