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327 week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252 week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k the problem through with other Software Engin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ndidate class list forms the input to the next stage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bo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365040" y="136440"/>
            <a:ext cx="1876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346480" y="944640"/>
            <a:ext cx="1555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  <a:ea typeface="Courier New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  <a:ea typeface="Courier New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479840" y="944640"/>
            <a:ext cx="12510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  <a:ea typeface="Courier New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  <a:ea typeface="Courier New"/>
              </a:rPr>
              <a:t>cha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080040" y="944640"/>
            <a:ext cx="20131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  <a:ea typeface="Courier New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  <a:ea typeface="Courier New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4240" y="30240"/>
            <a:ext cx="1236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use-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65040" y="2270160"/>
            <a:ext cx="12510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60880" y="2163600"/>
            <a:ext cx="1082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spo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403880" y="2697120"/>
            <a:ext cx="18604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  <a:ea typeface="Courier New"/>
              </a:rPr>
              <a:t>candi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  <a:ea typeface="Courier New"/>
              </a:rPr>
              <a:t>class l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75080" y="3382920"/>
            <a:ext cx="1731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CRC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479840" y="3611520"/>
            <a:ext cx="1555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  <a:ea typeface="Courier New"/>
              </a:rPr>
              <a:t>CRC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479840" y="4068720"/>
            <a:ext cx="1708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  <a:ea typeface="Courier New"/>
              </a:rPr>
              <a:t>class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918480" y="2270160"/>
            <a:ext cx="19954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/function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65040" y="4632480"/>
            <a:ext cx="1081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18480" y="4632480"/>
            <a:ext cx="20383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id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structur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04080" y="6049800"/>
            <a:ext cx="1363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299360" y="6278400"/>
            <a:ext cx="641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  <a:ea typeface="Courier New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193840" y="5821200"/>
            <a:ext cx="2203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JSP dia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889280" y="4678200"/>
            <a:ext cx="2468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Booch dia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403880" y="4983120"/>
            <a:ext cx="18604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  <a:ea typeface="Courier New"/>
              </a:rPr>
              <a:t>Booch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  <a:ea typeface="Courier New"/>
              </a:rPr>
              <a:t>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76320"/>
            <a:ext cx="8610480" cy="1981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09680"/>
            <a:ext cx="8610480" cy="2209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572000"/>
            <a:ext cx="8610480" cy="2133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1522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52280"/>
            <a:ext cx="1981440" cy="838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152280"/>
            <a:ext cx="4038840" cy="838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1600200"/>
            <a:ext cx="198144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1523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105520" y="1600200"/>
            <a:ext cx="205740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3352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56160" y="6049800"/>
            <a:ext cx="1403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  <a:ea typeface="Courier New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c0128"/>
                </a:solidFill>
                <a:latin typeface="Courier New"/>
                <a:ea typeface="Courier New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05520" y="4343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5638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64771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918480" y="136440"/>
            <a:ext cx="19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to bu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bo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didate class   -   CRC c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41360" y="2332080"/>
            <a:ext cx="32227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e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ppoint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ud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vailability s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ee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2362320"/>
            <a:ext cx="304812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403880" y="2347920"/>
            <a:ext cx="1114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2743200"/>
            <a:ext cx="3048120" cy="16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32480" y="2728800"/>
            <a:ext cx="170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oin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3200400"/>
            <a:ext cx="3048120" cy="16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784760" y="3186000"/>
            <a:ext cx="1065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3657600"/>
            <a:ext cx="3048120" cy="16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37040" y="3643200"/>
            <a:ext cx="214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ility_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4114800"/>
            <a:ext cx="3048120" cy="16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165640" y="4100400"/>
            <a:ext cx="62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4648320"/>
            <a:ext cx="3048120" cy="16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94240" y="4633920"/>
            <a:ext cx="826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5029200"/>
            <a:ext cx="3048120" cy="16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99160" y="5014800"/>
            <a:ext cx="1317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3962520"/>
            <a:ext cx="1828800" cy="380880"/>
          </a:xfrm>
          <a:prstGeom prst="line">
            <a:avLst/>
          </a:prstGeom>
          <a:ln w="2030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91520" rIns="191520" tIns="146520" bIns="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 card   -  format (FR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905120"/>
            <a:ext cx="7620120" cy="457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50840" y="1890720"/>
            <a:ext cx="92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50840" y="227160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50840" y="2576520"/>
            <a:ext cx="1251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v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84360" y="3110040"/>
            <a:ext cx="2030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165640" y="3110040"/>
            <a:ext cx="177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2286000"/>
            <a:ext cx="7620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66688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971800"/>
            <a:ext cx="7620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2971800"/>
            <a:ext cx="0" cy="3505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 card - format (BAC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905120"/>
            <a:ext cx="7620120" cy="457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50840" y="1967040"/>
            <a:ext cx="1690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2438280"/>
            <a:ext cx="7620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all of the nouns in the candidate class list to CRC c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may be thrown away in the subsequent discu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classes may be added l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BASE and DERIVED fields to hold inheritanc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each class responsible for kn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each class responsible for  do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bo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each responsibility in 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 whether the class under discussion fulfils the responsibility itself, or whether it get help from another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S</dc:creator>
  <dc:description/>
  <dc:language>en-US</dc:language>
  <cp:lastModifiedBy>CIS</cp:lastModifiedBy>
  <cp:revision>0</cp:revision>
  <dc:subject/>
  <dc:title>Object Oriented Analysis and Design</dc:title>
</cp:coreProperties>
</file>