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ch and C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327 week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252 week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2280" y="254808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92680" y="430056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34290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84760" y="2347920"/>
            <a:ext cx="3156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_made_up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33526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2760" y="333864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108240" y="524340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184560" y="30337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61080" y="40244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18080" y="341460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92280" y="254808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92680" y="430056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505320"/>
            <a:ext cx="1676160" cy="99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04080" y="2424240"/>
            <a:ext cx="785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335268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505320"/>
            <a:ext cx="1676160" cy="99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84560" y="303372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61080" y="40244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718080" y="341460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7680" y="364320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08240" y="5167440"/>
            <a:ext cx="152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l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.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.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.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d r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3,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ment ado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600" y="2471760"/>
            <a:ext cx="1074960" cy="881280"/>
          </a:xfrm>
          <a:custGeom>
            <a:avLst/>
            <a:gdLst/>
            <a:ahLst/>
            <a:rect l="0" t="0" r="r" b="b"/>
            <a:pathLst>
              <a:path fill="none" w="2986" h="2448">
                <a:moveTo>
                  <a:pt x="1250" y="435"/>
                </a:moveTo>
                <a:lnTo>
                  <a:pt x="1271" y="397"/>
                </a:lnTo>
                <a:lnTo>
                  <a:pt x="1293" y="309"/>
                </a:lnTo>
                <a:lnTo>
                  <a:pt x="1309" y="207"/>
                </a:lnTo>
                <a:lnTo>
                  <a:pt x="1330" y="118"/>
                </a:lnTo>
                <a:lnTo>
                  <a:pt x="1346" y="88"/>
                </a:lnTo>
                <a:lnTo>
                  <a:pt x="1366" y="66"/>
                </a:lnTo>
                <a:lnTo>
                  <a:pt x="1388" y="44"/>
                </a:lnTo>
                <a:lnTo>
                  <a:pt x="1409" y="22"/>
                </a:lnTo>
                <a:lnTo>
                  <a:pt x="1430" y="15"/>
                </a:lnTo>
                <a:lnTo>
                  <a:pt x="1452" y="8"/>
                </a:lnTo>
                <a:lnTo>
                  <a:pt x="1473" y="0"/>
                </a:lnTo>
                <a:lnTo>
                  <a:pt x="1495" y="0"/>
                </a:lnTo>
                <a:lnTo>
                  <a:pt x="1517" y="0"/>
                </a:lnTo>
                <a:lnTo>
                  <a:pt x="1533" y="8"/>
                </a:lnTo>
                <a:lnTo>
                  <a:pt x="1554" y="8"/>
                </a:lnTo>
                <a:lnTo>
                  <a:pt x="1570" y="15"/>
                </a:lnTo>
                <a:lnTo>
                  <a:pt x="1586" y="22"/>
                </a:lnTo>
                <a:lnTo>
                  <a:pt x="1602" y="22"/>
                </a:lnTo>
                <a:lnTo>
                  <a:pt x="1618" y="30"/>
                </a:lnTo>
                <a:lnTo>
                  <a:pt x="1639" y="44"/>
                </a:lnTo>
                <a:lnTo>
                  <a:pt x="1655" y="52"/>
                </a:lnTo>
                <a:lnTo>
                  <a:pt x="1677" y="66"/>
                </a:lnTo>
                <a:lnTo>
                  <a:pt x="1709" y="88"/>
                </a:lnTo>
                <a:lnTo>
                  <a:pt x="1730" y="110"/>
                </a:lnTo>
                <a:lnTo>
                  <a:pt x="1751" y="118"/>
                </a:lnTo>
                <a:lnTo>
                  <a:pt x="1773" y="132"/>
                </a:lnTo>
                <a:lnTo>
                  <a:pt x="1794" y="147"/>
                </a:lnTo>
                <a:lnTo>
                  <a:pt x="1814" y="176"/>
                </a:lnTo>
                <a:lnTo>
                  <a:pt x="1820" y="198"/>
                </a:lnTo>
                <a:lnTo>
                  <a:pt x="1830" y="221"/>
                </a:lnTo>
                <a:lnTo>
                  <a:pt x="1846" y="251"/>
                </a:lnTo>
                <a:lnTo>
                  <a:pt x="1862" y="258"/>
                </a:lnTo>
                <a:lnTo>
                  <a:pt x="1873" y="280"/>
                </a:lnTo>
                <a:lnTo>
                  <a:pt x="1889" y="353"/>
                </a:lnTo>
                <a:lnTo>
                  <a:pt x="1900" y="375"/>
                </a:lnTo>
                <a:lnTo>
                  <a:pt x="1916" y="391"/>
                </a:lnTo>
                <a:lnTo>
                  <a:pt x="1937" y="413"/>
                </a:lnTo>
                <a:lnTo>
                  <a:pt x="1953" y="442"/>
                </a:lnTo>
                <a:lnTo>
                  <a:pt x="1974" y="457"/>
                </a:lnTo>
                <a:lnTo>
                  <a:pt x="1996" y="472"/>
                </a:lnTo>
                <a:lnTo>
                  <a:pt x="2017" y="486"/>
                </a:lnTo>
                <a:lnTo>
                  <a:pt x="2033" y="501"/>
                </a:lnTo>
                <a:lnTo>
                  <a:pt x="2054" y="508"/>
                </a:lnTo>
                <a:lnTo>
                  <a:pt x="2070" y="516"/>
                </a:lnTo>
                <a:lnTo>
                  <a:pt x="2086" y="516"/>
                </a:lnTo>
                <a:lnTo>
                  <a:pt x="2150" y="516"/>
                </a:lnTo>
                <a:lnTo>
                  <a:pt x="2166" y="508"/>
                </a:lnTo>
                <a:lnTo>
                  <a:pt x="2188" y="501"/>
                </a:lnTo>
                <a:lnTo>
                  <a:pt x="2204" y="501"/>
                </a:lnTo>
                <a:lnTo>
                  <a:pt x="2267" y="501"/>
                </a:lnTo>
                <a:lnTo>
                  <a:pt x="2288" y="494"/>
                </a:lnTo>
                <a:lnTo>
                  <a:pt x="2352" y="479"/>
                </a:lnTo>
                <a:lnTo>
                  <a:pt x="2405" y="472"/>
                </a:lnTo>
                <a:lnTo>
                  <a:pt x="2427" y="472"/>
                </a:lnTo>
                <a:lnTo>
                  <a:pt x="2448" y="464"/>
                </a:lnTo>
                <a:lnTo>
                  <a:pt x="2512" y="450"/>
                </a:lnTo>
                <a:lnTo>
                  <a:pt x="2576" y="442"/>
                </a:lnTo>
                <a:lnTo>
                  <a:pt x="2640" y="435"/>
                </a:lnTo>
                <a:lnTo>
                  <a:pt x="2656" y="428"/>
                </a:lnTo>
                <a:lnTo>
                  <a:pt x="2672" y="420"/>
                </a:lnTo>
                <a:lnTo>
                  <a:pt x="2688" y="420"/>
                </a:lnTo>
                <a:lnTo>
                  <a:pt x="2740" y="420"/>
                </a:lnTo>
                <a:lnTo>
                  <a:pt x="2815" y="428"/>
                </a:lnTo>
                <a:lnTo>
                  <a:pt x="2836" y="450"/>
                </a:lnTo>
                <a:lnTo>
                  <a:pt x="2847" y="472"/>
                </a:lnTo>
                <a:lnTo>
                  <a:pt x="2858" y="494"/>
                </a:lnTo>
                <a:lnTo>
                  <a:pt x="2858" y="516"/>
                </a:lnTo>
                <a:lnTo>
                  <a:pt x="2863" y="545"/>
                </a:lnTo>
                <a:lnTo>
                  <a:pt x="2868" y="619"/>
                </a:lnTo>
                <a:lnTo>
                  <a:pt x="2874" y="649"/>
                </a:lnTo>
                <a:lnTo>
                  <a:pt x="2884" y="671"/>
                </a:lnTo>
                <a:lnTo>
                  <a:pt x="2900" y="744"/>
                </a:lnTo>
                <a:lnTo>
                  <a:pt x="2964" y="833"/>
                </a:lnTo>
                <a:lnTo>
                  <a:pt x="2986" y="921"/>
                </a:lnTo>
                <a:lnTo>
                  <a:pt x="2980" y="959"/>
                </a:lnTo>
                <a:lnTo>
                  <a:pt x="2980" y="981"/>
                </a:lnTo>
                <a:lnTo>
                  <a:pt x="2954" y="1017"/>
                </a:lnTo>
                <a:lnTo>
                  <a:pt x="2943" y="1039"/>
                </a:lnTo>
                <a:lnTo>
                  <a:pt x="2943" y="1061"/>
                </a:lnTo>
                <a:lnTo>
                  <a:pt x="2943" y="1135"/>
                </a:lnTo>
                <a:lnTo>
                  <a:pt x="2959" y="1164"/>
                </a:lnTo>
                <a:lnTo>
                  <a:pt x="2959" y="1187"/>
                </a:lnTo>
                <a:lnTo>
                  <a:pt x="2938" y="1232"/>
                </a:lnTo>
                <a:lnTo>
                  <a:pt x="2916" y="1320"/>
                </a:lnTo>
                <a:lnTo>
                  <a:pt x="2906" y="1349"/>
                </a:lnTo>
                <a:lnTo>
                  <a:pt x="2890" y="1380"/>
                </a:lnTo>
                <a:lnTo>
                  <a:pt x="2868" y="1468"/>
                </a:lnTo>
                <a:lnTo>
                  <a:pt x="2852" y="1557"/>
                </a:lnTo>
                <a:lnTo>
                  <a:pt x="2847" y="1630"/>
                </a:lnTo>
                <a:lnTo>
                  <a:pt x="2852" y="1652"/>
                </a:lnTo>
                <a:lnTo>
                  <a:pt x="2847" y="1674"/>
                </a:lnTo>
                <a:lnTo>
                  <a:pt x="2842" y="1696"/>
                </a:lnTo>
                <a:lnTo>
                  <a:pt x="2836" y="1725"/>
                </a:lnTo>
                <a:lnTo>
                  <a:pt x="2836" y="1747"/>
                </a:lnTo>
                <a:lnTo>
                  <a:pt x="2820" y="1791"/>
                </a:lnTo>
                <a:lnTo>
                  <a:pt x="2810" y="1866"/>
                </a:lnTo>
                <a:lnTo>
                  <a:pt x="2810" y="1939"/>
                </a:lnTo>
                <a:lnTo>
                  <a:pt x="2810" y="1968"/>
                </a:lnTo>
                <a:lnTo>
                  <a:pt x="2810" y="1999"/>
                </a:lnTo>
                <a:lnTo>
                  <a:pt x="2820" y="2087"/>
                </a:lnTo>
                <a:lnTo>
                  <a:pt x="2820" y="2123"/>
                </a:lnTo>
                <a:lnTo>
                  <a:pt x="2815" y="2154"/>
                </a:lnTo>
                <a:lnTo>
                  <a:pt x="2804" y="2183"/>
                </a:lnTo>
                <a:lnTo>
                  <a:pt x="2783" y="2271"/>
                </a:lnTo>
                <a:lnTo>
                  <a:pt x="2730" y="2344"/>
                </a:lnTo>
                <a:lnTo>
                  <a:pt x="2708" y="2359"/>
                </a:lnTo>
                <a:lnTo>
                  <a:pt x="2688" y="2375"/>
                </a:lnTo>
                <a:lnTo>
                  <a:pt x="2613" y="2388"/>
                </a:lnTo>
                <a:lnTo>
                  <a:pt x="2549" y="2411"/>
                </a:lnTo>
                <a:lnTo>
                  <a:pt x="2475" y="2426"/>
                </a:lnTo>
                <a:lnTo>
                  <a:pt x="2453" y="2433"/>
                </a:lnTo>
                <a:lnTo>
                  <a:pt x="2400" y="2448"/>
                </a:lnTo>
                <a:lnTo>
                  <a:pt x="2373" y="2441"/>
                </a:lnTo>
                <a:lnTo>
                  <a:pt x="2309" y="2419"/>
                </a:lnTo>
                <a:lnTo>
                  <a:pt x="2236" y="2397"/>
                </a:lnTo>
                <a:lnTo>
                  <a:pt x="2182" y="2366"/>
                </a:lnTo>
                <a:lnTo>
                  <a:pt x="2118" y="2344"/>
                </a:lnTo>
                <a:lnTo>
                  <a:pt x="2086" y="2337"/>
                </a:lnTo>
                <a:lnTo>
                  <a:pt x="2001" y="2353"/>
                </a:lnTo>
                <a:lnTo>
                  <a:pt x="1948" y="2359"/>
                </a:lnTo>
                <a:lnTo>
                  <a:pt x="1932" y="2375"/>
                </a:lnTo>
                <a:lnTo>
                  <a:pt x="1900" y="2404"/>
                </a:lnTo>
                <a:lnTo>
                  <a:pt x="1873" y="2404"/>
                </a:lnTo>
                <a:lnTo>
                  <a:pt x="1809" y="2375"/>
                </a:lnTo>
                <a:lnTo>
                  <a:pt x="1725" y="2286"/>
                </a:lnTo>
                <a:lnTo>
                  <a:pt x="1661" y="2271"/>
                </a:lnTo>
                <a:lnTo>
                  <a:pt x="1639" y="2264"/>
                </a:lnTo>
                <a:lnTo>
                  <a:pt x="1565" y="2256"/>
                </a:lnTo>
                <a:lnTo>
                  <a:pt x="1511" y="2256"/>
                </a:lnTo>
                <a:lnTo>
                  <a:pt x="1495" y="2256"/>
                </a:lnTo>
                <a:lnTo>
                  <a:pt x="1473" y="2278"/>
                </a:lnTo>
                <a:lnTo>
                  <a:pt x="1452" y="2300"/>
                </a:lnTo>
                <a:lnTo>
                  <a:pt x="1398" y="2315"/>
                </a:lnTo>
                <a:lnTo>
                  <a:pt x="1325" y="2330"/>
                </a:lnTo>
                <a:lnTo>
                  <a:pt x="1229" y="2322"/>
                </a:lnTo>
                <a:lnTo>
                  <a:pt x="1122" y="2300"/>
                </a:lnTo>
                <a:lnTo>
                  <a:pt x="1015" y="2286"/>
                </a:lnTo>
                <a:lnTo>
                  <a:pt x="994" y="2286"/>
                </a:lnTo>
                <a:lnTo>
                  <a:pt x="978" y="2286"/>
                </a:lnTo>
                <a:lnTo>
                  <a:pt x="925" y="2286"/>
                </a:lnTo>
                <a:lnTo>
                  <a:pt x="903" y="2286"/>
                </a:lnTo>
                <a:lnTo>
                  <a:pt x="808" y="2286"/>
                </a:lnTo>
                <a:lnTo>
                  <a:pt x="744" y="2286"/>
                </a:lnTo>
                <a:lnTo>
                  <a:pt x="728" y="2286"/>
                </a:lnTo>
                <a:lnTo>
                  <a:pt x="707" y="2300"/>
                </a:lnTo>
                <a:lnTo>
                  <a:pt x="632" y="2300"/>
                </a:lnTo>
                <a:lnTo>
                  <a:pt x="515" y="2300"/>
                </a:lnTo>
                <a:lnTo>
                  <a:pt x="494" y="2293"/>
                </a:lnTo>
                <a:lnTo>
                  <a:pt x="472" y="2220"/>
                </a:lnTo>
                <a:lnTo>
                  <a:pt x="478" y="2101"/>
                </a:lnTo>
                <a:lnTo>
                  <a:pt x="494" y="2028"/>
                </a:lnTo>
                <a:lnTo>
                  <a:pt x="499" y="1999"/>
                </a:lnTo>
                <a:lnTo>
                  <a:pt x="515" y="1968"/>
                </a:lnTo>
                <a:lnTo>
                  <a:pt x="526" y="1946"/>
                </a:lnTo>
                <a:lnTo>
                  <a:pt x="526" y="1917"/>
                </a:lnTo>
                <a:lnTo>
                  <a:pt x="510" y="1844"/>
                </a:lnTo>
                <a:lnTo>
                  <a:pt x="425" y="1769"/>
                </a:lnTo>
                <a:lnTo>
                  <a:pt x="361" y="1747"/>
                </a:lnTo>
                <a:lnTo>
                  <a:pt x="361" y="1718"/>
                </a:lnTo>
                <a:lnTo>
                  <a:pt x="377" y="1615"/>
                </a:lnTo>
                <a:lnTo>
                  <a:pt x="367" y="1586"/>
                </a:lnTo>
                <a:lnTo>
                  <a:pt x="351" y="1570"/>
                </a:lnTo>
                <a:lnTo>
                  <a:pt x="345" y="1548"/>
                </a:lnTo>
                <a:lnTo>
                  <a:pt x="340" y="1446"/>
                </a:lnTo>
                <a:lnTo>
                  <a:pt x="319" y="1371"/>
                </a:lnTo>
                <a:lnTo>
                  <a:pt x="137" y="1239"/>
                </a:lnTo>
                <a:lnTo>
                  <a:pt x="63" y="1225"/>
                </a:lnTo>
                <a:lnTo>
                  <a:pt x="79" y="1216"/>
                </a:lnTo>
                <a:lnTo>
                  <a:pt x="95" y="1202"/>
                </a:lnTo>
                <a:lnTo>
                  <a:pt x="111" y="1180"/>
                </a:lnTo>
                <a:lnTo>
                  <a:pt x="127" y="1149"/>
                </a:lnTo>
                <a:lnTo>
                  <a:pt x="148" y="1127"/>
                </a:lnTo>
                <a:lnTo>
                  <a:pt x="164" y="1113"/>
                </a:lnTo>
                <a:lnTo>
                  <a:pt x="180" y="1069"/>
                </a:lnTo>
                <a:lnTo>
                  <a:pt x="84" y="950"/>
                </a:lnTo>
                <a:lnTo>
                  <a:pt x="0" y="921"/>
                </a:lnTo>
                <a:lnTo>
                  <a:pt x="4" y="899"/>
                </a:lnTo>
                <a:lnTo>
                  <a:pt x="25" y="877"/>
                </a:lnTo>
                <a:lnTo>
                  <a:pt x="79" y="848"/>
                </a:lnTo>
                <a:lnTo>
                  <a:pt x="132" y="818"/>
                </a:lnTo>
                <a:lnTo>
                  <a:pt x="185" y="789"/>
                </a:lnTo>
                <a:lnTo>
                  <a:pt x="201" y="782"/>
                </a:lnTo>
                <a:lnTo>
                  <a:pt x="223" y="773"/>
                </a:lnTo>
                <a:lnTo>
                  <a:pt x="244" y="766"/>
                </a:lnTo>
                <a:lnTo>
                  <a:pt x="260" y="751"/>
                </a:lnTo>
                <a:lnTo>
                  <a:pt x="271" y="715"/>
                </a:lnTo>
                <a:lnTo>
                  <a:pt x="276" y="693"/>
                </a:lnTo>
                <a:lnTo>
                  <a:pt x="281" y="619"/>
                </a:lnTo>
                <a:lnTo>
                  <a:pt x="287" y="545"/>
                </a:lnTo>
                <a:lnTo>
                  <a:pt x="303" y="457"/>
                </a:lnTo>
                <a:lnTo>
                  <a:pt x="329" y="420"/>
                </a:lnTo>
                <a:lnTo>
                  <a:pt x="345" y="397"/>
                </a:lnTo>
                <a:lnTo>
                  <a:pt x="361" y="384"/>
                </a:lnTo>
                <a:lnTo>
                  <a:pt x="377" y="384"/>
                </a:lnTo>
                <a:lnTo>
                  <a:pt x="393" y="391"/>
                </a:lnTo>
                <a:lnTo>
                  <a:pt x="409" y="391"/>
                </a:lnTo>
                <a:lnTo>
                  <a:pt x="431" y="384"/>
                </a:lnTo>
                <a:lnTo>
                  <a:pt x="483" y="368"/>
                </a:lnTo>
                <a:lnTo>
                  <a:pt x="536" y="353"/>
                </a:lnTo>
                <a:lnTo>
                  <a:pt x="611" y="339"/>
                </a:lnTo>
                <a:lnTo>
                  <a:pt x="664" y="331"/>
                </a:lnTo>
                <a:lnTo>
                  <a:pt x="686" y="339"/>
                </a:lnTo>
                <a:lnTo>
                  <a:pt x="707" y="346"/>
                </a:lnTo>
                <a:lnTo>
                  <a:pt x="723" y="368"/>
                </a:lnTo>
                <a:lnTo>
                  <a:pt x="744" y="457"/>
                </a:lnTo>
                <a:lnTo>
                  <a:pt x="760" y="530"/>
                </a:lnTo>
                <a:lnTo>
                  <a:pt x="782" y="508"/>
                </a:lnTo>
                <a:lnTo>
                  <a:pt x="798" y="508"/>
                </a:lnTo>
                <a:lnTo>
                  <a:pt x="824" y="501"/>
                </a:lnTo>
                <a:lnTo>
                  <a:pt x="878" y="479"/>
                </a:lnTo>
                <a:lnTo>
                  <a:pt x="930" y="391"/>
                </a:lnTo>
                <a:lnTo>
                  <a:pt x="951" y="375"/>
                </a:lnTo>
                <a:lnTo>
                  <a:pt x="967" y="362"/>
                </a:lnTo>
                <a:lnTo>
                  <a:pt x="989" y="346"/>
                </a:lnTo>
                <a:lnTo>
                  <a:pt x="1021" y="317"/>
                </a:lnTo>
                <a:lnTo>
                  <a:pt x="1037" y="309"/>
                </a:lnTo>
                <a:lnTo>
                  <a:pt x="1058" y="309"/>
                </a:lnTo>
                <a:lnTo>
                  <a:pt x="1074" y="309"/>
                </a:lnTo>
                <a:lnTo>
                  <a:pt x="1101" y="331"/>
                </a:lnTo>
                <a:lnTo>
                  <a:pt x="1122" y="346"/>
                </a:lnTo>
                <a:lnTo>
                  <a:pt x="1138" y="362"/>
                </a:lnTo>
                <a:lnTo>
                  <a:pt x="1154" y="368"/>
                </a:lnTo>
                <a:lnTo>
                  <a:pt x="1175" y="375"/>
                </a:lnTo>
                <a:lnTo>
                  <a:pt x="1197" y="391"/>
                </a:lnTo>
                <a:lnTo>
                  <a:pt x="1223" y="406"/>
                </a:lnTo>
                <a:lnTo>
                  <a:pt x="1239" y="413"/>
                </a:lnTo>
                <a:lnTo>
                  <a:pt x="1250" y="43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7560" y="3843360"/>
            <a:ext cx="1074960" cy="881280"/>
          </a:xfrm>
          <a:custGeom>
            <a:avLst/>
            <a:gdLst/>
            <a:ahLst/>
            <a:rect l="0" t="0" r="r" b="b"/>
            <a:pathLst>
              <a:path fill="none" w="2986" h="2448">
                <a:moveTo>
                  <a:pt x="1250" y="435"/>
                </a:moveTo>
                <a:lnTo>
                  <a:pt x="1271" y="397"/>
                </a:lnTo>
                <a:lnTo>
                  <a:pt x="1293" y="309"/>
                </a:lnTo>
                <a:lnTo>
                  <a:pt x="1309" y="207"/>
                </a:lnTo>
                <a:lnTo>
                  <a:pt x="1330" y="118"/>
                </a:lnTo>
                <a:lnTo>
                  <a:pt x="1346" y="88"/>
                </a:lnTo>
                <a:lnTo>
                  <a:pt x="1366" y="66"/>
                </a:lnTo>
                <a:lnTo>
                  <a:pt x="1388" y="44"/>
                </a:lnTo>
                <a:lnTo>
                  <a:pt x="1409" y="22"/>
                </a:lnTo>
                <a:lnTo>
                  <a:pt x="1430" y="15"/>
                </a:lnTo>
                <a:lnTo>
                  <a:pt x="1452" y="8"/>
                </a:lnTo>
                <a:lnTo>
                  <a:pt x="1473" y="0"/>
                </a:lnTo>
                <a:lnTo>
                  <a:pt x="1495" y="0"/>
                </a:lnTo>
                <a:lnTo>
                  <a:pt x="1517" y="0"/>
                </a:lnTo>
                <a:lnTo>
                  <a:pt x="1533" y="8"/>
                </a:lnTo>
                <a:lnTo>
                  <a:pt x="1554" y="8"/>
                </a:lnTo>
                <a:lnTo>
                  <a:pt x="1570" y="15"/>
                </a:lnTo>
                <a:lnTo>
                  <a:pt x="1586" y="22"/>
                </a:lnTo>
                <a:lnTo>
                  <a:pt x="1602" y="22"/>
                </a:lnTo>
                <a:lnTo>
                  <a:pt x="1618" y="30"/>
                </a:lnTo>
                <a:lnTo>
                  <a:pt x="1639" y="44"/>
                </a:lnTo>
                <a:lnTo>
                  <a:pt x="1655" y="52"/>
                </a:lnTo>
                <a:lnTo>
                  <a:pt x="1677" y="66"/>
                </a:lnTo>
                <a:lnTo>
                  <a:pt x="1709" y="88"/>
                </a:lnTo>
                <a:lnTo>
                  <a:pt x="1730" y="110"/>
                </a:lnTo>
                <a:lnTo>
                  <a:pt x="1751" y="118"/>
                </a:lnTo>
                <a:lnTo>
                  <a:pt x="1773" y="132"/>
                </a:lnTo>
                <a:lnTo>
                  <a:pt x="1794" y="147"/>
                </a:lnTo>
                <a:lnTo>
                  <a:pt x="1814" y="176"/>
                </a:lnTo>
                <a:lnTo>
                  <a:pt x="1820" y="198"/>
                </a:lnTo>
                <a:lnTo>
                  <a:pt x="1830" y="221"/>
                </a:lnTo>
                <a:lnTo>
                  <a:pt x="1846" y="251"/>
                </a:lnTo>
                <a:lnTo>
                  <a:pt x="1862" y="258"/>
                </a:lnTo>
                <a:lnTo>
                  <a:pt x="1873" y="280"/>
                </a:lnTo>
                <a:lnTo>
                  <a:pt x="1889" y="353"/>
                </a:lnTo>
                <a:lnTo>
                  <a:pt x="1900" y="375"/>
                </a:lnTo>
                <a:lnTo>
                  <a:pt x="1916" y="391"/>
                </a:lnTo>
                <a:lnTo>
                  <a:pt x="1937" y="413"/>
                </a:lnTo>
                <a:lnTo>
                  <a:pt x="1953" y="442"/>
                </a:lnTo>
                <a:lnTo>
                  <a:pt x="1974" y="457"/>
                </a:lnTo>
                <a:lnTo>
                  <a:pt x="1996" y="472"/>
                </a:lnTo>
                <a:lnTo>
                  <a:pt x="2017" y="486"/>
                </a:lnTo>
                <a:lnTo>
                  <a:pt x="2033" y="501"/>
                </a:lnTo>
                <a:lnTo>
                  <a:pt x="2054" y="508"/>
                </a:lnTo>
                <a:lnTo>
                  <a:pt x="2070" y="516"/>
                </a:lnTo>
                <a:lnTo>
                  <a:pt x="2086" y="516"/>
                </a:lnTo>
                <a:lnTo>
                  <a:pt x="2150" y="516"/>
                </a:lnTo>
                <a:lnTo>
                  <a:pt x="2166" y="508"/>
                </a:lnTo>
                <a:lnTo>
                  <a:pt x="2188" y="501"/>
                </a:lnTo>
                <a:lnTo>
                  <a:pt x="2204" y="501"/>
                </a:lnTo>
                <a:lnTo>
                  <a:pt x="2267" y="501"/>
                </a:lnTo>
                <a:lnTo>
                  <a:pt x="2288" y="494"/>
                </a:lnTo>
                <a:lnTo>
                  <a:pt x="2352" y="479"/>
                </a:lnTo>
                <a:lnTo>
                  <a:pt x="2405" y="472"/>
                </a:lnTo>
                <a:lnTo>
                  <a:pt x="2427" y="472"/>
                </a:lnTo>
                <a:lnTo>
                  <a:pt x="2448" y="464"/>
                </a:lnTo>
                <a:lnTo>
                  <a:pt x="2512" y="450"/>
                </a:lnTo>
                <a:lnTo>
                  <a:pt x="2576" y="442"/>
                </a:lnTo>
                <a:lnTo>
                  <a:pt x="2640" y="435"/>
                </a:lnTo>
                <a:lnTo>
                  <a:pt x="2656" y="428"/>
                </a:lnTo>
                <a:lnTo>
                  <a:pt x="2672" y="420"/>
                </a:lnTo>
                <a:lnTo>
                  <a:pt x="2688" y="420"/>
                </a:lnTo>
                <a:lnTo>
                  <a:pt x="2740" y="420"/>
                </a:lnTo>
                <a:lnTo>
                  <a:pt x="2815" y="428"/>
                </a:lnTo>
                <a:lnTo>
                  <a:pt x="2836" y="450"/>
                </a:lnTo>
                <a:lnTo>
                  <a:pt x="2847" y="472"/>
                </a:lnTo>
                <a:lnTo>
                  <a:pt x="2858" y="494"/>
                </a:lnTo>
                <a:lnTo>
                  <a:pt x="2858" y="516"/>
                </a:lnTo>
                <a:lnTo>
                  <a:pt x="2863" y="545"/>
                </a:lnTo>
                <a:lnTo>
                  <a:pt x="2868" y="619"/>
                </a:lnTo>
                <a:lnTo>
                  <a:pt x="2874" y="649"/>
                </a:lnTo>
                <a:lnTo>
                  <a:pt x="2884" y="671"/>
                </a:lnTo>
                <a:lnTo>
                  <a:pt x="2900" y="744"/>
                </a:lnTo>
                <a:lnTo>
                  <a:pt x="2964" y="833"/>
                </a:lnTo>
                <a:lnTo>
                  <a:pt x="2986" y="921"/>
                </a:lnTo>
                <a:lnTo>
                  <a:pt x="2980" y="959"/>
                </a:lnTo>
                <a:lnTo>
                  <a:pt x="2980" y="981"/>
                </a:lnTo>
                <a:lnTo>
                  <a:pt x="2954" y="1017"/>
                </a:lnTo>
                <a:lnTo>
                  <a:pt x="2943" y="1039"/>
                </a:lnTo>
                <a:lnTo>
                  <a:pt x="2943" y="1061"/>
                </a:lnTo>
                <a:lnTo>
                  <a:pt x="2943" y="1135"/>
                </a:lnTo>
                <a:lnTo>
                  <a:pt x="2959" y="1164"/>
                </a:lnTo>
                <a:lnTo>
                  <a:pt x="2959" y="1187"/>
                </a:lnTo>
                <a:lnTo>
                  <a:pt x="2938" y="1232"/>
                </a:lnTo>
                <a:lnTo>
                  <a:pt x="2916" y="1320"/>
                </a:lnTo>
                <a:lnTo>
                  <a:pt x="2906" y="1349"/>
                </a:lnTo>
                <a:lnTo>
                  <a:pt x="2890" y="1380"/>
                </a:lnTo>
                <a:lnTo>
                  <a:pt x="2868" y="1468"/>
                </a:lnTo>
                <a:lnTo>
                  <a:pt x="2852" y="1557"/>
                </a:lnTo>
                <a:lnTo>
                  <a:pt x="2847" y="1630"/>
                </a:lnTo>
                <a:lnTo>
                  <a:pt x="2852" y="1652"/>
                </a:lnTo>
                <a:lnTo>
                  <a:pt x="2847" y="1674"/>
                </a:lnTo>
                <a:lnTo>
                  <a:pt x="2842" y="1696"/>
                </a:lnTo>
                <a:lnTo>
                  <a:pt x="2836" y="1725"/>
                </a:lnTo>
                <a:lnTo>
                  <a:pt x="2836" y="1747"/>
                </a:lnTo>
                <a:lnTo>
                  <a:pt x="2820" y="1791"/>
                </a:lnTo>
                <a:lnTo>
                  <a:pt x="2810" y="1866"/>
                </a:lnTo>
                <a:lnTo>
                  <a:pt x="2810" y="1939"/>
                </a:lnTo>
                <a:lnTo>
                  <a:pt x="2810" y="1968"/>
                </a:lnTo>
                <a:lnTo>
                  <a:pt x="2810" y="1999"/>
                </a:lnTo>
                <a:lnTo>
                  <a:pt x="2820" y="2087"/>
                </a:lnTo>
                <a:lnTo>
                  <a:pt x="2820" y="2123"/>
                </a:lnTo>
                <a:lnTo>
                  <a:pt x="2815" y="2154"/>
                </a:lnTo>
                <a:lnTo>
                  <a:pt x="2804" y="2183"/>
                </a:lnTo>
                <a:lnTo>
                  <a:pt x="2783" y="2271"/>
                </a:lnTo>
                <a:lnTo>
                  <a:pt x="2730" y="2344"/>
                </a:lnTo>
                <a:lnTo>
                  <a:pt x="2708" y="2359"/>
                </a:lnTo>
                <a:lnTo>
                  <a:pt x="2688" y="2375"/>
                </a:lnTo>
                <a:lnTo>
                  <a:pt x="2613" y="2388"/>
                </a:lnTo>
                <a:lnTo>
                  <a:pt x="2549" y="2411"/>
                </a:lnTo>
                <a:lnTo>
                  <a:pt x="2475" y="2426"/>
                </a:lnTo>
                <a:lnTo>
                  <a:pt x="2453" y="2433"/>
                </a:lnTo>
                <a:lnTo>
                  <a:pt x="2400" y="2448"/>
                </a:lnTo>
                <a:lnTo>
                  <a:pt x="2373" y="2441"/>
                </a:lnTo>
                <a:lnTo>
                  <a:pt x="2309" y="2419"/>
                </a:lnTo>
                <a:lnTo>
                  <a:pt x="2236" y="2397"/>
                </a:lnTo>
                <a:lnTo>
                  <a:pt x="2182" y="2366"/>
                </a:lnTo>
                <a:lnTo>
                  <a:pt x="2118" y="2344"/>
                </a:lnTo>
                <a:lnTo>
                  <a:pt x="2086" y="2337"/>
                </a:lnTo>
                <a:lnTo>
                  <a:pt x="2001" y="2353"/>
                </a:lnTo>
                <a:lnTo>
                  <a:pt x="1948" y="2359"/>
                </a:lnTo>
                <a:lnTo>
                  <a:pt x="1932" y="2375"/>
                </a:lnTo>
                <a:lnTo>
                  <a:pt x="1900" y="2404"/>
                </a:lnTo>
                <a:lnTo>
                  <a:pt x="1873" y="2404"/>
                </a:lnTo>
                <a:lnTo>
                  <a:pt x="1809" y="2375"/>
                </a:lnTo>
                <a:lnTo>
                  <a:pt x="1725" y="2286"/>
                </a:lnTo>
                <a:lnTo>
                  <a:pt x="1661" y="2271"/>
                </a:lnTo>
                <a:lnTo>
                  <a:pt x="1639" y="2264"/>
                </a:lnTo>
                <a:lnTo>
                  <a:pt x="1565" y="2256"/>
                </a:lnTo>
                <a:lnTo>
                  <a:pt x="1511" y="2256"/>
                </a:lnTo>
                <a:lnTo>
                  <a:pt x="1495" y="2256"/>
                </a:lnTo>
                <a:lnTo>
                  <a:pt x="1473" y="2278"/>
                </a:lnTo>
                <a:lnTo>
                  <a:pt x="1452" y="2300"/>
                </a:lnTo>
                <a:lnTo>
                  <a:pt x="1398" y="2315"/>
                </a:lnTo>
                <a:lnTo>
                  <a:pt x="1325" y="2330"/>
                </a:lnTo>
                <a:lnTo>
                  <a:pt x="1229" y="2322"/>
                </a:lnTo>
                <a:lnTo>
                  <a:pt x="1122" y="2300"/>
                </a:lnTo>
                <a:lnTo>
                  <a:pt x="1015" y="2286"/>
                </a:lnTo>
                <a:lnTo>
                  <a:pt x="994" y="2286"/>
                </a:lnTo>
                <a:lnTo>
                  <a:pt x="978" y="2286"/>
                </a:lnTo>
                <a:lnTo>
                  <a:pt x="925" y="2286"/>
                </a:lnTo>
                <a:lnTo>
                  <a:pt x="903" y="2286"/>
                </a:lnTo>
                <a:lnTo>
                  <a:pt x="808" y="2286"/>
                </a:lnTo>
                <a:lnTo>
                  <a:pt x="744" y="2286"/>
                </a:lnTo>
                <a:lnTo>
                  <a:pt x="728" y="2286"/>
                </a:lnTo>
                <a:lnTo>
                  <a:pt x="707" y="2300"/>
                </a:lnTo>
                <a:lnTo>
                  <a:pt x="632" y="2300"/>
                </a:lnTo>
                <a:lnTo>
                  <a:pt x="515" y="2300"/>
                </a:lnTo>
                <a:lnTo>
                  <a:pt x="494" y="2293"/>
                </a:lnTo>
                <a:lnTo>
                  <a:pt x="472" y="2220"/>
                </a:lnTo>
                <a:lnTo>
                  <a:pt x="478" y="2101"/>
                </a:lnTo>
                <a:lnTo>
                  <a:pt x="494" y="2028"/>
                </a:lnTo>
                <a:lnTo>
                  <a:pt x="499" y="1999"/>
                </a:lnTo>
                <a:lnTo>
                  <a:pt x="515" y="1968"/>
                </a:lnTo>
                <a:lnTo>
                  <a:pt x="526" y="1946"/>
                </a:lnTo>
                <a:lnTo>
                  <a:pt x="526" y="1917"/>
                </a:lnTo>
                <a:lnTo>
                  <a:pt x="510" y="1844"/>
                </a:lnTo>
                <a:lnTo>
                  <a:pt x="425" y="1769"/>
                </a:lnTo>
                <a:lnTo>
                  <a:pt x="361" y="1747"/>
                </a:lnTo>
                <a:lnTo>
                  <a:pt x="361" y="1718"/>
                </a:lnTo>
                <a:lnTo>
                  <a:pt x="377" y="1615"/>
                </a:lnTo>
                <a:lnTo>
                  <a:pt x="367" y="1586"/>
                </a:lnTo>
                <a:lnTo>
                  <a:pt x="351" y="1570"/>
                </a:lnTo>
                <a:lnTo>
                  <a:pt x="345" y="1548"/>
                </a:lnTo>
                <a:lnTo>
                  <a:pt x="340" y="1446"/>
                </a:lnTo>
                <a:lnTo>
                  <a:pt x="319" y="1371"/>
                </a:lnTo>
                <a:lnTo>
                  <a:pt x="137" y="1239"/>
                </a:lnTo>
                <a:lnTo>
                  <a:pt x="63" y="1225"/>
                </a:lnTo>
                <a:lnTo>
                  <a:pt x="79" y="1216"/>
                </a:lnTo>
                <a:lnTo>
                  <a:pt x="95" y="1202"/>
                </a:lnTo>
                <a:lnTo>
                  <a:pt x="111" y="1180"/>
                </a:lnTo>
                <a:lnTo>
                  <a:pt x="127" y="1149"/>
                </a:lnTo>
                <a:lnTo>
                  <a:pt x="148" y="1127"/>
                </a:lnTo>
                <a:lnTo>
                  <a:pt x="164" y="1113"/>
                </a:lnTo>
                <a:lnTo>
                  <a:pt x="180" y="1069"/>
                </a:lnTo>
                <a:lnTo>
                  <a:pt x="84" y="950"/>
                </a:lnTo>
                <a:lnTo>
                  <a:pt x="0" y="921"/>
                </a:lnTo>
                <a:lnTo>
                  <a:pt x="4" y="899"/>
                </a:lnTo>
                <a:lnTo>
                  <a:pt x="25" y="877"/>
                </a:lnTo>
                <a:lnTo>
                  <a:pt x="79" y="848"/>
                </a:lnTo>
                <a:lnTo>
                  <a:pt x="132" y="818"/>
                </a:lnTo>
                <a:lnTo>
                  <a:pt x="185" y="789"/>
                </a:lnTo>
                <a:lnTo>
                  <a:pt x="201" y="782"/>
                </a:lnTo>
                <a:lnTo>
                  <a:pt x="223" y="773"/>
                </a:lnTo>
                <a:lnTo>
                  <a:pt x="244" y="766"/>
                </a:lnTo>
                <a:lnTo>
                  <a:pt x="260" y="751"/>
                </a:lnTo>
                <a:lnTo>
                  <a:pt x="271" y="715"/>
                </a:lnTo>
                <a:lnTo>
                  <a:pt x="276" y="693"/>
                </a:lnTo>
                <a:lnTo>
                  <a:pt x="281" y="619"/>
                </a:lnTo>
                <a:lnTo>
                  <a:pt x="287" y="545"/>
                </a:lnTo>
                <a:lnTo>
                  <a:pt x="303" y="457"/>
                </a:lnTo>
                <a:lnTo>
                  <a:pt x="329" y="420"/>
                </a:lnTo>
                <a:lnTo>
                  <a:pt x="345" y="397"/>
                </a:lnTo>
                <a:lnTo>
                  <a:pt x="361" y="384"/>
                </a:lnTo>
                <a:lnTo>
                  <a:pt x="377" y="384"/>
                </a:lnTo>
                <a:lnTo>
                  <a:pt x="393" y="391"/>
                </a:lnTo>
                <a:lnTo>
                  <a:pt x="409" y="391"/>
                </a:lnTo>
                <a:lnTo>
                  <a:pt x="431" y="384"/>
                </a:lnTo>
                <a:lnTo>
                  <a:pt x="483" y="368"/>
                </a:lnTo>
                <a:lnTo>
                  <a:pt x="536" y="353"/>
                </a:lnTo>
                <a:lnTo>
                  <a:pt x="611" y="339"/>
                </a:lnTo>
                <a:lnTo>
                  <a:pt x="664" y="331"/>
                </a:lnTo>
                <a:lnTo>
                  <a:pt x="686" y="339"/>
                </a:lnTo>
                <a:lnTo>
                  <a:pt x="707" y="346"/>
                </a:lnTo>
                <a:lnTo>
                  <a:pt x="723" y="368"/>
                </a:lnTo>
                <a:lnTo>
                  <a:pt x="744" y="457"/>
                </a:lnTo>
                <a:lnTo>
                  <a:pt x="760" y="530"/>
                </a:lnTo>
                <a:lnTo>
                  <a:pt x="782" y="508"/>
                </a:lnTo>
                <a:lnTo>
                  <a:pt x="798" y="508"/>
                </a:lnTo>
                <a:lnTo>
                  <a:pt x="824" y="501"/>
                </a:lnTo>
                <a:lnTo>
                  <a:pt x="878" y="479"/>
                </a:lnTo>
                <a:lnTo>
                  <a:pt x="930" y="391"/>
                </a:lnTo>
                <a:lnTo>
                  <a:pt x="951" y="375"/>
                </a:lnTo>
                <a:lnTo>
                  <a:pt x="967" y="362"/>
                </a:lnTo>
                <a:lnTo>
                  <a:pt x="989" y="346"/>
                </a:lnTo>
                <a:lnTo>
                  <a:pt x="1021" y="317"/>
                </a:lnTo>
                <a:lnTo>
                  <a:pt x="1037" y="309"/>
                </a:lnTo>
                <a:lnTo>
                  <a:pt x="1058" y="309"/>
                </a:lnTo>
                <a:lnTo>
                  <a:pt x="1074" y="309"/>
                </a:lnTo>
                <a:lnTo>
                  <a:pt x="1101" y="331"/>
                </a:lnTo>
                <a:lnTo>
                  <a:pt x="1122" y="346"/>
                </a:lnTo>
                <a:lnTo>
                  <a:pt x="1138" y="362"/>
                </a:lnTo>
                <a:lnTo>
                  <a:pt x="1154" y="368"/>
                </a:lnTo>
                <a:lnTo>
                  <a:pt x="1175" y="375"/>
                </a:lnTo>
                <a:lnTo>
                  <a:pt x="1197" y="391"/>
                </a:lnTo>
                <a:lnTo>
                  <a:pt x="1223" y="406"/>
                </a:lnTo>
                <a:lnTo>
                  <a:pt x="1239" y="413"/>
                </a:lnTo>
                <a:lnTo>
                  <a:pt x="1250" y="43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3124080"/>
            <a:ext cx="1222200" cy="79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3048120"/>
            <a:ext cx="10152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08040" y="3110040"/>
            <a:ext cx="22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46480" y="3643200"/>
            <a:ext cx="270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886200"/>
            <a:ext cx="152280" cy="16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0560" y="2395440"/>
            <a:ext cx="1074960" cy="881280"/>
          </a:xfrm>
          <a:custGeom>
            <a:avLst/>
            <a:gdLst/>
            <a:ahLst/>
            <a:rect l="0" t="0" r="r" b="b"/>
            <a:pathLst>
              <a:path fill="none" w="2986" h="2448">
                <a:moveTo>
                  <a:pt x="1250" y="435"/>
                </a:moveTo>
                <a:lnTo>
                  <a:pt x="1271" y="397"/>
                </a:lnTo>
                <a:lnTo>
                  <a:pt x="1293" y="309"/>
                </a:lnTo>
                <a:lnTo>
                  <a:pt x="1309" y="207"/>
                </a:lnTo>
                <a:lnTo>
                  <a:pt x="1330" y="118"/>
                </a:lnTo>
                <a:lnTo>
                  <a:pt x="1346" y="88"/>
                </a:lnTo>
                <a:lnTo>
                  <a:pt x="1366" y="66"/>
                </a:lnTo>
                <a:lnTo>
                  <a:pt x="1388" y="44"/>
                </a:lnTo>
                <a:lnTo>
                  <a:pt x="1409" y="22"/>
                </a:lnTo>
                <a:lnTo>
                  <a:pt x="1430" y="15"/>
                </a:lnTo>
                <a:lnTo>
                  <a:pt x="1452" y="8"/>
                </a:lnTo>
                <a:lnTo>
                  <a:pt x="1473" y="0"/>
                </a:lnTo>
                <a:lnTo>
                  <a:pt x="1495" y="0"/>
                </a:lnTo>
                <a:lnTo>
                  <a:pt x="1517" y="0"/>
                </a:lnTo>
                <a:lnTo>
                  <a:pt x="1533" y="8"/>
                </a:lnTo>
                <a:lnTo>
                  <a:pt x="1554" y="8"/>
                </a:lnTo>
                <a:lnTo>
                  <a:pt x="1570" y="15"/>
                </a:lnTo>
                <a:lnTo>
                  <a:pt x="1586" y="22"/>
                </a:lnTo>
                <a:lnTo>
                  <a:pt x="1602" y="22"/>
                </a:lnTo>
                <a:lnTo>
                  <a:pt x="1618" y="30"/>
                </a:lnTo>
                <a:lnTo>
                  <a:pt x="1639" y="44"/>
                </a:lnTo>
                <a:lnTo>
                  <a:pt x="1655" y="52"/>
                </a:lnTo>
                <a:lnTo>
                  <a:pt x="1677" y="66"/>
                </a:lnTo>
                <a:lnTo>
                  <a:pt x="1709" y="88"/>
                </a:lnTo>
                <a:lnTo>
                  <a:pt x="1730" y="110"/>
                </a:lnTo>
                <a:lnTo>
                  <a:pt x="1751" y="118"/>
                </a:lnTo>
                <a:lnTo>
                  <a:pt x="1773" y="132"/>
                </a:lnTo>
                <a:lnTo>
                  <a:pt x="1794" y="147"/>
                </a:lnTo>
                <a:lnTo>
                  <a:pt x="1814" y="176"/>
                </a:lnTo>
                <a:lnTo>
                  <a:pt x="1820" y="198"/>
                </a:lnTo>
                <a:lnTo>
                  <a:pt x="1830" y="221"/>
                </a:lnTo>
                <a:lnTo>
                  <a:pt x="1846" y="251"/>
                </a:lnTo>
                <a:lnTo>
                  <a:pt x="1862" y="258"/>
                </a:lnTo>
                <a:lnTo>
                  <a:pt x="1873" y="280"/>
                </a:lnTo>
                <a:lnTo>
                  <a:pt x="1889" y="353"/>
                </a:lnTo>
                <a:lnTo>
                  <a:pt x="1900" y="375"/>
                </a:lnTo>
                <a:lnTo>
                  <a:pt x="1916" y="391"/>
                </a:lnTo>
                <a:lnTo>
                  <a:pt x="1937" y="413"/>
                </a:lnTo>
                <a:lnTo>
                  <a:pt x="1953" y="442"/>
                </a:lnTo>
                <a:lnTo>
                  <a:pt x="1974" y="457"/>
                </a:lnTo>
                <a:lnTo>
                  <a:pt x="1996" y="472"/>
                </a:lnTo>
                <a:lnTo>
                  <a:pt x="2017" y="486"/>
                </a:lnTo>
                <a:lnTo>
                  <a:pt x="2033" y="501"/>
                </a:lnTo>
                <a:lnTo>
                  <a:pt x="2054" y="508"/>
                </a:lnTo>
                <a:lnTo>
                  <a:pt x="2070" y="516"/>
                </a:lnTo>
                <a:lnTo>
                  <a:pt x="2086" y="516"/>
                </a:lnTo>
                <a:lnTo>
                  <a:pt x="2150" y="516"/>
                </a:lnTo>
                <a:lnTo>
                  <a:pt x="2166" y="508"/>
                </a:lnTo>
                <a:lnTo>
                  <a:pt x="2188" y="501"/>
                </a:lnTo>
                <a:lnTo>
                  <a:pt x="2204" y="501"/>
                </a:lnTo>
                <a:lnTo>
                  <a:pt x="2267" y="501"/>
                </a:lnTo>
                <a:lnTo>
                  <a:pt x="2288" y="494"/>
                </a:lnTo>
                <a:lnTo>
                  <a:pt x="2352" y="479"/>
                </a:lnTo>
                <a:lnTo>
                  <a:pt x="2405" y="472"/>
                </a:lnTo>
                <a:lnTo>
                  <a:pt x="2427" y="472"/>
                </a:lnTo>
                <a:lnTo>
                  <a:pt x="2448" y="464"/>
                </a:lnTo>
                <a:lnTo>
                  <a:pt x="2512" y="450"/>
                </a:lnTo>
                <a:lnTo>
                  <a:pt x="2576" y="442"/>
                </a:lnTo>
                <a:lnTo>
                  <a:pt x="2640" y="435"/>
                </a:lnTo>
                <a:lnTo>
                  <a:pt x="2656" y="428"/>
                </a:lnTo>
                <a:lnTo>
                  <a:pt x="2672" y="420"/>
                </a:lnTo>
                <a:lnTo>
                  <a:pt x="2688" y="420"/>
                </a:lnTo>
                <a:lnTo>
                  <a:pt x="2740" y="420"/>
                </a:lnTo>
                <a:lnTo>
                  <a:pt x="2815" y="428"/>
                </a:lnTo>
                <a:lnTo>
                  <a:pt x="2836" y="450"/>
                </a:lnTo>
                <a:lnTo>
                  <a:pt x="2847" y="472"/>
                </a:lnTo>
                <a:lnTo>
                  <a:pt x="2858" y="494"/>
                </a:lnTo>
                <a:lnTo>
                  <a:pt x="2858" y="516"/>
                </a:lnTo>
                <a:lnTo>
                  <a:pt x="2863" y="545"/>
                </a:lnTo>
                <a:lnTo>
                  <a:pt x="2868" y="619"/>
                </a:lnTo>
                <a:lnTo>
                  <a:pt x="2874" y="649"/>
                </a:lnTo>
                <a:lnTo>
                  <a:pt x="2884" y="671"/>
                </a:lnTo>
                <a:lnTo>
                  <a:pt x="2900" y="744"/>
                </a:lnTo>
                <a:lnTo>
                  <a:pt x="2964" y="833"/>
                </a:lnTo>
                <a:lnTo>
                  <a:pt x="2986" y="921"/>
                </a:lnTo>
                <a:lnTo>
                  <a:pt x="2980" y="959"/>
                </a:lnTo>
                <a:lnTo>
                  <a:pt x="2980" y="981"/>
                </a:lnTo>
                <a:lnTo>
                  <a:pt x="2954" y="1017"/>
                </a:lnTo>
                <a:lnTo>
                  <a:pt x="2943" y="1039"/>
                </a:lnTo>
                <a:lnTo>
                  <a:pt x="2943" y="1061"/>
                </a:lnTo>
                <a:lnTo>
                  <a:pt x="2943" y="1135"/>
                </a:lnTo>
                <a:lnTo>
                  <a:pt x="2959" y="1164"/>
                </a:lnTo>
                <a:lnTo>
                  <a:pt x="2959" y="1187"/>
                </a:lnTo>
                <a:lnTo>
                  <a:pt x="2938" y="1232"/>
                </a:lnTo>
                <a:lnTo>
                  <a:pt x="2916" y="1320"/>
                </a:lnTo>
                <a:lnTo>
                  <a:pt x="2906" y="1349"/>
                </a:lnTo>
                <a:lnTo>
                  <a:pt x="2890" y="1380"/>
                </a:lnTo>
                <a:lnTo>
                  <a:pt x="2868" y="1468"/>
                </a:lnTo>
                <a:lnTo>
                  <a:pt x="2852" y="1557"/>
                </a:lnTo>
                <a:lnTo>
                  <a:pt x="2847" y="1630"/>
                </a:lnTo>
                <a:lnTo>
                  <a:pt x="2852" y="1652"/>
                </a:lnTo>
                <a:lnTo>
                  <a:pt x="2847" y="1674"/>
                </a:lnTo>
                <a:lnTo>
                  <a:pt x="2842" y="1696"/>
                </a:lnTo>
                <a:lnTo>
                  <a:pt x="2836" y="1725"/>
                </a:lnTo>
                <a:lnTo>
                  <a:pt x="2836" y="1747"/>
                </a:lnTo>
                <a:lnTo>
                  <a:pt x="2820" y="1791"/>
                </a:lnTo>
                <a:lnTo>
                  <a:pt x="2810" y="1866"/>
                </a:lnTo>
                <a:lnTo>
                  <a:pt x="2810" y="1939"/>
                </a:lnTo>
                <a:lnTo>
                  <a:pt x="2810" y="1968"/>
                </a:lnTo>
                <a:lnTo>
                  <a:pt x="2810" y="1999"/>
                </a:lnTo>
                <a:lnTo>
                  <a:pt x="2820" y="2087"/>
                </a:lnTo>
                <a:lnTo>
                  <a:pt x="2820" y="2123"/>
                </a:lnTo>
                <a:lnTo>
                  <a:pt x="2815" y="2154"/>
                </a:lnTo>
                <a:lnTo>
                  <a:pt x="2804" y="2183"/>
                </a:lnTo>
                <a:lnTo>
                  <a:pt x="2783" y="2271"/>
                </a:lnTo>
                <a:lnTo>
                  <a:pt x="2730" y="2344"/>
                </a:lnTo>
                <a:lnTo>
                  <a:pt x="2708" y="2359"/>
                </a:lnTo>
                <a:lnTo>
                  <a:pt x="2688" y="2375"/>
                </a:lnTo>
                <a:lnTo>
                  <a:pt x="2613" y="2388"/>
                </a:lnTo>
                <a:lnTo>
                  <a:pt x="2549" y="2411"/>
                </a:lnTo>
                <a:lnTo>
                  <a:pt x="2475" y="2426"/>
                </a:lnTo>
                <a:lnTo>
                  <a:pt x="2453" y="2433"/>
                </a:lnTo>
                <a:lnTo>
                  <a:pt x="2400" y="2448"/>
                </a:lnTo>
                <a:lnTo>
                  <a:pt x="2373" y="2441"/>
                </a:lnTo>
                <a:lnTo>
                  <a:pt x="2309" y="2419"/>
                </a:lnTo>
                <a:lnTo>
                  <a:pt x="2236" y="2397"/>
                </a:lnTo>
                <a:lnTo>
                  <a:pt x="2182" y="2366"/>
                </a:lnTo>
                <a:lnTo>
                  <a:pt x="2118" y="2344"/>
                </a:lnTo>
                <a:lnTo>
                  <a:pt x="2086" y="2337"/>
                </a:lnTo>
                <a:lnTo>
                  <a:pt x="2001" y="2353"/>
                </a:lnTo>
                <a:lnTo>
                  <a:pt x="1948" y="2359"/>
                </a:lnTo>
                <a:lnTo>
                  <a:pt x="1932" y="2375"/>
                </a:lnTo>
                <a:lnTo>
                  <a:pt x="1900" y="2404"/>
                </a:lnTo>
                <a:lnTo>
                  <a:pt x="1873" y="2404"/>
                </a:lnTo>
                <a:lnTo>
                  <a:pt x="1809" y="2375"/>
                </a:lnTo>
                <a:lnTo>
                  <a:pt x="1725" y="2286"/>
                </a:lnTo>
                <a:lnTo>
                  <a:pt x="1661" y="2271"/>
                </a:lnTo>
                <a:lnTo>
                  <a:pt x="1639" y="2264"/>
                </a:lnTo>
                <a:lnTo>
                  <a:pt x="1565" y="2256"/>
                </a:lnTo>
                <a:lnTo>
                  <a:pt x="1511" y="2256"/>
                </a:lnTo>
                <a:lnTo>
                  <a:pt x="1495" y="2256"/>
                </a:lnTo>
                <a:lnTo>
                  <a:pt x="1473" y="2278"/>
                </a:lnTo>
                <a:lnTo>
                  <a:pt x="1452" y="2300"/>
                </a:lnTo>
                <a:lnTo>
                  <a:pt x="1398" y="2315"/>
                </a:lnTo>
                <a:lnTo>
                  <a:pt x="1325" y="2330"/>
                </a:lnTo>
                <a:lnTo>
                  <a:pt x="1229" y="2322"/>
                </a:lnTo>
                <a:lnTo>
                  <a:pt x="1122" y="2300"/>
                </a:lnTo>
                <a:lnTo>
                  <a:pt x="1015" y="2286"/>
                </a:lnTo>
                <a:lnTo>
                  <a:pt x="994" y="2286"/>
                </a:lnTo>
                <a:lnTo>
                  <a:pt x="978" y="2286"/>
                </a:lnTo>
                <a:lnTo>
                  <a:pt x="925" y="2286"/>
                </a:lnTo>
                <a:lnTo>
                  <a:pt x="903" y="2286"/>
                </a:lnTo>
                <a:lnTo>
                  <a:pt x="808" y="2286"/>
                </a:lnTo>
                <a:lnTo>
                  <a:pt x="744" y="2286"/>
                </a:lnTo>
                <a:lnTo>
                  <a:pt x="728" y="2286"/>
                </a:lnTo>
                <a:lnTo>
                  <a:pt x="707" y="2300"/>
                </a:lnTo>
                <a:lnTo>
                  <a:pt x="632" y="2300"/>
                </a:lnTo>
                <a:lnTo>
                  <a:pt x="515" y="2300"/>
                </a:lnTo>
                <a:lnTo>
                  <a:pt x="494" y="2293"/>
                </a:lnTo>
                <a:lnTo>
                  <a:pt x="472" y="2220"/>
                </a:lnTo>
                <a:lnTo>
                  <a:pt x="478" y="2101"/>
                </a:lnTo>
                <a:lnTo>
                  <a:pt x="494" y="2028"/>
                </a:lnTo>
                <a:lnTo>
                  <a:pt x="499" y="1999"/>
                </a:lnTo>
                <a:lnTo>
                  <a:pt x="515" y="1968"/>
                </a:lnTo>
                <a:lnTo>
                  <a:pt x="526" y="1946"/>
                </a:lnTo>
                <a:lnTo>
                  <a:pt x="526" y="1917"/>
                </a:lnTo>
                <a:lnTo>
                  <a:pt x="510" y="1844"/>
                </a:lnTo>
                <a:lnTo>
                  <a:pt x="425" y="1769"/>
                </a:lnTo>
                <a:lnTo>
                  <a:pt x="361" y="1747"/>
                </a:lnTo>
                <a:lnTo>
                  <a:pt x="361" y="1718"/>
                </a:lnTo>
                <a:lnTo>
                  <a:pt x="377" y="1615"/>
                </a:lnTo>
                <a:lnTo>
                  <a:pt x="367" y="1586"/>
                </a:lnTo>
                <a:lnTo>
                  <a:pt x="351" y="1570"/>
                </a:lnTo>
                <a:lnTo>
                  <a:pt x="345" y="1548"/>
                </a:lnTo>
                <a:lnTo>
                  <a:pt x="340" y="1446"/>
                </a:lnTo>
                <a:lnTo>
                  <a:pt x="319" y="1371"/>
                </a:lnTo>
                <a:lnTo>
                  <a:pt x="137" y="1239"/>
                </a:lnTo>
                <a:lnTo>
                  <a:pt x="63" y="1225"/>
                </a:lnTo>
                <a:lnTo>
                  <a:pt x="79" y="1216"/>
                </a:lnTo>
                <a:lnTo>
                  <a:pt x="95" y="1202"/>
                </a:lnTo>
                <a:lnTo>
                  <a:pt x="111" y="1180"/>
                </a:lnTo>
                <a:lnTo>
                  <a:pt x="127" y="1149"/>
                </a:lnTo>
                <a:lnTo>
                  <a:pt x="148" y="1127"/>
                </a:lnTo>
                <a:lnTo>
                  <a:pt x="164" y="1113"/>
                </a:lnTo>
                <a:lnTo>
                  <a:pt x="180" y="1069"/>
                </a:lnTo>
                <a:lnTo>
                  <a:pt x="84" y="950"/>
                </a:lnTo>
                <a:lnTo>
                  <a:pt x="0" y="921"/>
                </a:lnTo>
                <a:lnTo>
                  <a:pt x="4" y="899"/>
                </a:lnTo>
                <a:lnTo>
                  <a:pt x="25" y="877"/>
                </a:lnTo>
                <a:lnTo>
                  <a:pt x="79" y="848"/>
                </a:lnTo>
                <a:lnTo>
                  <a:pt x="132" y="818"/>
                </a:lnTo>
                <a:lnTo>
                  <a:pt x="185" y="789"/>
                </a:lnTo>
                <a:lnTo>
                  <a:pt x="201" y="782"/>
                </a:lnTo>
                <a:lnTo>
                  <a:pt x="223" y="773"/>
                </a:lnTo>
                <a:lnTo>
                  <a:pt x="244" y="766"/>
                </a:lnTo>
                <a:lnTo>
                  <a:pt x="260" y="751"/>
                </a:lnTo>
                <a:lnTo>
                  <a:pt x="271" y="715"/>
                </a:lnTo>
                <a:lnTo>
                  <a:pt x="276" y="693"/>
                </a:lnTo>
                <a:lnTo>
                  <a:pt x="281" y="619"/>
                </a:lnTo>
                <a:lnTo>
                  <a:pt x="287" y="545"/>
                </a:lnTo>
                <a:lnTo>
                  <a:pt x="303" y="457"/>
                </a:lnTo>
                <a:lnTo>
                  <a:pt x="329" y="420"/>
                </a:lnTo>
                <a:lnTo>
                  <a:pt x="345" y="397"/>
                </a:lnTo>
                <a:lnTo>
                  <a:pt x="361" y="384"/>
                </a:lnTo>
                <a:lnTo>
                  <a:pt x="377" y="384"/>
                </a:lnTo>
                <a:lnTo>
                  <a:pt x="393" y="391"/>
                </a:lnTo>
                <a:lnTo>
                  <a:pt x="409" y="391"/>
                </a:lnTo>
                <a:lnTo>
                  <a:pt x="431" y="384"/>
                </a:lnTo>
                <a:lnTo>
                  <a:pt x="483" y="368"/>
                </a:lnTo>
                <a:lnTo>
                  <a:pt x="536" y="353"/>
                </a:lnTo>
                <a:lnTo>
                  <a:pt x="611" y="339"/>
                </a:lnTo>
                <a:lnTo>
                  <a:pt x="664" y="331"/>
                </a:lnTo>
                <a:lnTo>
                  <a:pt x="686" y="339"/>
                </a:lnTo>
                <a:lnTo>
                  <a:pt x="707" y="346"/>
                </a:lnTo>
                <a:lnTo>
                  <a:pt x="723" y="368"/>
                </a:lnTo>
                <a:lnTo>
                  <a:pt x="744" y="457"/>
                </a:lnTo>
                <a:lnTo>
                  <a:pt x="760" y="530"/>
                </a:lnTo>
                <a:lnTo>
                  <a:pt x="782" y="508"/>
                </a:lnTo>
                <a:lnTo>
                  <a:pt x="798" y="508"/>
                </a:lnTo>
                <a:lnTo>
                  <a:pt x="824" y="501"/>
                </a:lnTo>
                <a:lnTo>
                  <a:pt x="878" y="479"/>
                </a:lnTo>
                <a:lnTo>
                  <a:pt x="930" y="391"/>
                </a:lnTo>
                <a:lnTo>
                  <a:pt x="951" y="375"/>
                </a:lnTo>
                <a:lnTo>
                  <a:pt x="967" y="362"/>
                </a:lnTo>
                <a:lnTo>
                  <a:pt x="989" y="346"/>
                </a:lnTo>
                <a:lnTo>
                  <a:pt x="1021" y="317"/>
                </a:lnTo>
                <a:lnTo>
                  <a:pt x="1037" y="309"/>
                </a:lnTo>
                <a:lnTo>
                  <a:pt x="1058" y="309"/>
                </a:lnTo>
                <a:lnTo>
                  <a:pt x="1074" y="309"/>
                </a:lnTo>
                <a:lnTo>
                  <a:pt x="1101" y="331"/>
                </a:lnTo>
                <a:lnTo>
                  <a:pt x="1122" y="346"/>
                </a:lnTo>
                <a:lnTo>
                  <a:pt x="1138" y="362"/>
                </a:lnTo>
                <a:lnTo>
                  <a:pt x="1154" y="368"/>
                </a:lnTo>
                <a:lnTo>
                  <a:pt x="1175" y="375"/>
                </a:lnTo>
                <a:lnTo>
                  <a:pt x="1197" y="391"/>
                </a:lnTo>
                <a:lnTo>
                  <a:pt x="1223" y="406"/>
                </a:lnTo>
                <a:lnTo>
                  <a:pt x="1239" y="413"/>
                </a:lnTo>
                <a:lnTo>
                  <a:pt x="1250" y="43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92880" y="3767040"/>
            <a:ext cx="1074960" cy="881280"/>
          </a:xfrm>
          <a:custGeom>
            <a:avLst/>
            <a:gdLst/>
            <a:ahLst/>
            <a:rect l="0" t="0" r="r" b="b"/>
            <a:pathLst>
              <a:path fill="none" w="2986" h="2448">
                <a:moveTo>
                  <a:pt x="1250" y="435"/>
                </a:moveTo>
                <a:lnTo>
                  <a:pt x="1271" y="397"/>
                </a:lnTo>
                <a:lnTo>
                  <a:pt x="1293" y="309"/>
                </a:lnTo>
                <a:lnTo>
                  <a:pt x="1309" y="207"/>
                </a:lnTo>
                <a:lnTo>
                  <a:pt x="1330" y="118"/>
                </a:lnTo>
                <a:lnTo>
                  <a:pt x="1346" y="88"/>
                </a:lnTo>
                <a:lnTo>
                  <a:pt x="1366" y="66"/>
                </a:lnTo>
                <a:lnTo>
                  <a:pt x="1388" y="44"/>
                </a:lnTo>
                <a:lnTo>
                  <a:pt x="1409" y="22"/>
                </a:lnTo>
                <a:lnTo>
                  <a:pt x="1430" y="15"/>
                </a:lnTo>
                <a:lnTo>
                  <a:pt x="1452" y="8"/>
                </a:lnTo>
                <a:lnTo>
                  <a:pt x="1473" y="0"/>
                </a:lnTo>
                <a:lnTo>
                  <a:pt x="1495" y="0"/>
                </a:lnTo>
                <a:lnTo>
                  <a:pt x="1517" y="0"/>
                </a:lnTo>
                <a:lnTo>
                  <a:pt x="1533" y="8"/>
                </a:lnTo>
                <a:lnTo>
                  <a:pt x="1554" y="8"/>
                </a:lnTo>
                <a:lnTo>
                  <a:pt x="1570" y="15"/>
                </a:lnTo>
                <a:lnTo>
                  <a:pt x="1586" y="22"/>
                </a:lnTo>
                <a:lnTo>
                  <a:pt x="1602" y="22"/>
                </a:lnTo>
                <a:lnTo>
                  <a:pt x="1618" y="30"/>
                </a:lnTo>
                <a:lnTo>
                  <a:pt x="1639" y="44"/>
                </a:lnTo>
                <a:lnTo>
                  <a:pt x="1655" y="52"/>
                </a:lnTo>
                <a:lnTo>
                  <a:pt x="1677" y="66"/>
                </a:lnTo>
                <a:lnTo>
                  <a:pt x="1709" y="88"/>
                </a:lnTo>
                <a:lnTo>
                  <a:pt x="1730" y="110"/>
                </a:lnTo>
                <a:lnTo>
                  <a:pt x="1751" y="118"/>
                </a:lnTo>
                <a:lnTo>
                  <a:pt x="1773" y="132"/>
                </a:lnTo>
                <a:lnTo>
                  <a:pt x="1794" y="147"/>
                </a:lnTo>
                <a:lnTo>
                  <a:pt x="1814" y="176"/>
                </a:lnTo>
                <a:lnTo>
                  <a:pt x="1820" y="198"/>
                </a:lnTo>
                <a:lnTo>
                  <a:pt x="1830" y="221"/>
                </a:lnTo>
                <a:lnTo>
                  <a:pt x="1846" y="251"/>
                </a:lnTo>
                <a:lnTo>
                  <a:pt x="1862" y="258"/>
                </a:lnTo>
                <a:lnTo>
                  <a:pt x="1873" y="280"/>
                </a:lnTo>
                <a:lnTo>
                  <a:pt x="1889" y="353"/>
                </a:lnTo>
                <a:lnTo>
                  <a:pt x="1900" y="375"/>
                </a:lnTo>
                <a:lnTo>
                  <a:pt x="1916" y="391"/>
                </a:lnTo>
                <a:lnTo>
                  <a:pt x="1937" y="413"/>
                </a:lnTo>
                <a:lnTo>
                  <a:pt x="1953" y="442"/>
                </a:lnTo>
                <a:lnTo>
                  <a:pt x="1974" y="457"/>
                </a:lnTo>
                <a:lnTo>
                  <a:pt x="1996" y="472"/>
                </a:lnTo>
                <a:lnTo>
                  <a:pt x="2017" y="486"/>
                </a:lnTo>
                <a:lnTo>
                  <a:pt x="2033" y="501"/>
                </a:lnTo>
                <a:lnTo>
                  <a:pt x="2054" y="508"/>
                </a:lnTo>
                <a:lnTo>
                  <a:pt x="2070" y="516"/>
                </a:lnTo>
                <a:lnTo>
                  <a:pt x="2086" y="516"/>
                </a:lnTo>
                <a:lnTo>
                  <a:pt x="2150" y="516"/>
                </a:lnTo>
                <a:lnTo>
                  <a:pt x="2166" y="508"/>
                </a:lnTo>
                <a:lnTo>
                  <a:pt x="2188" y="501"/>
                </a:lnTo>
                <a:lnTo>
                  <a:pt x="2204" y="501"/>
                </a:lnTo>
                <a:lnTo>
                  <a:pt x="2267" y="501"/>
                </a:lnTo>
                <a:lnTo>
                  <a:pt x="2288" y="494"/>
                </a:lnTo>
                <a:lnTo>
                  <a:pt x="2352" y="479"/>
                </a:lnTo>
                <a:lnTo>
                  <a:pt x="2405" y="472"/>
                </a:lnTo>
                <a:lnTo>
                  <a:pt x="2427" y="472"/>
                </a:lnTo>
                <a:lnTo>
                  <a:pt x="2448" y="464"/>
                </a:lnTo>
                <a:lnTo>
                  <a:pt x="2512" y="450"/>
                </a:lnTo>
                <a:lnTo>
                  <a:pt x="2576" y="442"/>
                </a:lnTo>
                <a:lnTo>
                  <a:pt x="2640" y="435"/>
                </a:lnTo>
                <a:lnTo>
                  <a:pt x="2656" y="428"/>
                </a:lnTo>
                <a:lnTo>
                  <a:pt x="2672" y="420"/>
                </a:lnTo>
                <a:lnTo>
                  <a:pt x="2688" y="420"/>
                </a:lnTo>
                <a:lnTo>
                  <a:pt x="2740" y="420"/>
                </a:lnTo>
                <a:lnTo>
                  <a:pt x="2815" y="428"/>
                </a:lnTo>
                <a:lnTo>
                  <a:pt x="2836" y="450"/>
                </a:lnTo>
                <a:lnTo>
                  <a:pt x="2847" y="472"/>
                </a:lnTo>
                <a:lnTo>
                  <a:pt x="2858" y="494"/>
                </a:lnTo>
                <a:lnTo>
                  <a:pt x="2858" y="516"/>
                </a:lnTo>
                <a:lnTo>
                  <a:pt x="2863" y="545"/>
                </a:lnTo>
                <a:lnTo>
                  <a:pt x="2868" y="619"/>
                </a:lnTo>
                <a:lnTo>
                  <a:pt x="2874" y="649"/>
                </a:lnTo>
                <a:lnTo>
                  <a:pt x="2884" y="671"/>
                </a:lnTo>
                <a:lnTo>
                  <a:pt x="2900" y="744"/>
                </a:lnTo>
                <a:lnTo>
                  <a:pt x="2964" y="833"/>
                </a:lnTo>
                <a:lnTo>
                  <a:pt x="2986" y="921"/>
                </a:lnTo>
                <a:lnTo>
                  <a:pt x="2980" y="959"/>
                </a:lnTo>
                <a:lnTo>
                  <a:pt x="2980" y="981"/>
                </a:lnTo>
                <a:lnTo>
                  <a:pt x="2954" y="1017"/>
                </a:lnTo>
                <a:lnTo>
                  <a:pt x="2943" y="1039"/>
                </a:lnTo>
                <a:lnTo>
                  <a:pt x="2943" y="1061"/>
                </a:lnTo>
                <a:lnTo>
                  <a:pt x="2943" y="1135"/>
                </a:lnTo>
                <a:lnTo>
                  <a:pt x="2959" y="1164"/>
                </a:lnTo>
                <a:lnTo>
                  <a:pt x="2959" y="1187"/>
                </a:lnTo>
                <a:lnTo>
                  <a:pt x="2938" y="1232"/>
                </a:lnTo>
                <a:lnTo>
                  <a:pt x="2916" y="1320"/>
                </a:lnTo>
                <a:lnTo>
                  <a:pt x="2906" y="1349"/>
                </a:lnTo>
                <a:lnTo>
                  <a:pt x="2890" y="1380"/>
                </a:lnTo>
                <a:lnTo>
                  <a:pt x="2868" y="1468"/>
                </a:lnTo>
                <a:lnTo>
                  <a:pt x="2852" y="1557"/>
                </a:lnTo>
                <a:lnTo>
                  <a:pt x="2847" y="1630"/>
                </a:lnTo>
                <a:lnTo>
                  <a:pt x="2852" y="1652"/>
                </a:lnTo>
                <a:lnTo>
                  <a:pt x="2847" y="1674"/>
                </a:lnTo>
                <a:lnTo>
                  <a:pt x="2842" y="1696"/>
                </a:lnTo>
                <a:lnTo>
                  <a:pt x="2836" y="1725"/>
                </a:lnTo>
                <a:lnTo>
                  <a:pt x="2836" y="1747"/>
                </a:lnTo>
                <a:lnTo>
                  <a:pt x="2820" y="1791"/>
                </a:lnTo>
                <a:lnTo>
                  <a:pt x="2810" y="1866"/>
                </a:lnTo>
                <a:lnTo>
                  <a:pt x="2810" y="1939"/>
                </a:lnTo>
                <a:lnTo>
                  <a:pt x="2810" y="1968"/>
                </a:lnTo>
                <a:lnTo>
                  <a:pt x="2810" y="1999"/>
                </a:lnTo>
                <a:lnTo>
                  <a:pt x="2820" y="2087"/>
                </a:lnTo>
                <a:lnTo>
                  <a:pt x="2820" y="2123"/>
                </a:lnTo>
                <a:lnTo>
                  <a:pt x="2815" y="2154"/>
                </a:lnTo>
                <a:lnTo>
                  <a:pt x="2804" y="2183"/>
                </a:lnTo>
                <a:lnTo>
                  <a:pt x="2783" y="2271"/>
                </a:lnTo>
                <a:lnTo>
                  <a:pt x="2730" y="2344"/>
                </a:lnTo>
                <a:lnTo>
                  <a:pt x="2708" y="2359"/>
                </a:lnTo>
                <a:lnTo>
                  <a:pt x="2688" y="2375"/>
                </a:lnTo>
                <a:lnTo>
                  <a:pt x="2613" y="2388"/>
                </a:lnTo>
                <a:lnTo>
                  <a:pt x="2549" y="2411"/>
                </a:lnTo>
                <a:lnTo>
                  <a:pt x="2475" y="2426"/>
                </a:lnTo>
                <a:lnTo>
                  <a:pt x="2453" y="2433"/>
                </a:lnTo>
                <a:lnTo>
                  <a:pt x="2400" y="2448"/>
                </a:lnTo>
                <a:lnTo>
                  <a:pt x="2373" y="2441"/>
                </a:lnTo>
                <a:lnTo>
                  <a:pt x="2309" y="2419"/>
                </a:lnTo>
                <a:lnTo>
                  <a:pt x="2236" y="2397"/>
                </a:lnTo>
                <a:lnTo>
                  <a:pt x="2182" y="2366"/>
                </a:lnTo>
                <a:lnTo>
                  <a:pt x="2118" y="2344"/>
                </a:lnTo>
                <a:lnTo>
                  <a:pt x="2086" y="2337"/>
                </a:lnTo>
                <a:lnTo>
                  <a:pt x="2001" y="2353"/>
                </a:lnTo>
                <a:lnTo>
                  <a:pt x="1948" y="2359"/>
                </a:lnTo>
                <a:lnTo>
                  <a:pt x="1932" y="2375"/>
                </a:lnTo>
                <a:lnTo>
                  <a:pt x="1900" y="2404"/>
                </a:lnTo>
                <a:lnTo>
                  <a:pt x="1873" y="2404"/>
                </a:lnTo>
                <a:lnTo>
                  <a:pt x="1809" y="2375"/>
                </a:lnTo>
                <a:lnTo>
                  <a:pt x="1725" y="2286"/>
                </a:lnTo>
                <a:lnTo>
                  <a:pt x="1661" y="2271"/>
                </a:lnTo>
                <a:lnTo>
                  <a:pt x="1639" y="2264"/>
                </a:lnTo>
                <a:lnTo>
                  <a:pt x="1565" y="2256"/>
                </a:lnTo>
                <a:lnTo>
                  <a:pt x="1511" y="2256"/>
                </a:lnTo>
                <a:lnTo>
                  <a:pt x="1495" y="2256"/>
                </a:lnTo>
                <a:lnTo>
                  <a:pt x="1473" y="2278"/>
                </a:lnTo>
                <a:lnTo>
                  <a:pt x="1452" y="2300"/>
                </a:lnTo>
                <a:lnTo>
                  <a:pt x="1398" y="2315"/>
                </a:lnTo>
                <a:lnTo>
                  <a:pt x="1325" y="2330"/>
                </a:lnTo>
                <a:lnTo>
                  <a:pt x="1229" y="2322"/>
                </a:lnTo>
                <a:lnTo>
                  <a:pt x="1122" y="2300"/>
                </a:lnTo>
                <a:lnTo>
                  <a:pt x="1015" y="2286"/>
                </a:lnTo>
                <a:lnTo>
                  <a:pt x="994" y="2286"/>
                </a:lnTo>
                <a:lnTo>
                  <a:pt x="978" y="2286"/>
                </a:lnTo>
                <a:lnTo>
                  <a:pt x="925" y="2286"/>
                </a:lnTo>
                <a:lnTo>
                  <a:pt x="903" y="2286"/>
                </a:lnTo>
                <a:lnTo>
                  <a:pt x="808" y="2286"/>
                </a:lnTo>
                <a:lnTo>
                  <a:pt x="744" y="2286"/>
                </a:lnTo>
                <a:lnTo>
                  <a:pt x="728" y="2286"/>
                </a:lnTo>
                <a:lnTo>
                  <a:pt x="707" y="2300"/>
                </a:lnTo>
                <a:lnTo>
                  <a:pt x="632" y="2300"/>
                </a:lnTo>
                <a:lnTo>
                  <a:pt x="515" y="2300"/>
                </a:lnTo>
                <a:lnTo>
                  <a:pt x="494" y="2293"/>
                </a:lnTo>
                <a:lnTo>
                  <a:pt x="472" y="2220"/>
                </a:lnTo>
                <a:lnTo>
                  <a:pt x="478" y="2101"/>
                </a:lnTo>
                <a:lnTo>
                  <a:pt x="494" y="2028"/>
                </a:lnTo>
                <a:lnTo>
                  <a:pt x="499" y="1999"/>
                </a:lnTo>
                <a:lnTo>
                  <a:pt x="515" y="1968"/>
                </a:lnTo>
                <a:lnTo>
                  <a:pt x="526" y="1946"/>
                </a:lnTo>
                <a:lnTo>
                  <a:pt x="526" y="1917"/>
                </a:lnTo>
                <a:lnTo>
                  <a:pt x="510" y="1844"/>
                </a:lnTo>
                <a:lnTo>
                  <a:pt x="425" y="1769"/>
                </a:lnTo>
                <a:lnTo>
                  <a:pt x="361" y="1747"/>
                </a:lnTo>
                <a:lnTo>
                  <a:pt x="361" y="1718"/>
                </a:lnTo>
                <a:lnTo>
                  <a:pt x="377" y="1615"/>
                </a:lnTo>
                <a:lnTo>
                  <a:pt x="367" y="1586"/>
                </a:lnTo>
                <a:lnTo>
                  <a:pt x="351" y="1570"/>
                </a:lnTo>
                <a:lnTo>
                  <a:pt x="345" y="1548"/>
                </a:lnTo>
                <a:lnTo>
                  <a:pt x="340" y="1446"/>
                </a:lnTo>
                <a:lnTo>
                  <a:pt x="319" y="1371"/>
                </a:lnTo>
                <a:lnTo>
                  <a:pt x="137" y="1239"/>
                </a:lnTo>
                <a:lnTo>
                  <a:pt x="63" y="1225"/>
                </a:lnTo>
                <a:lnTo>
                  <a:pt x="79" y="1216"/>
                </a:lnTo>
                <a:lnTo>
                  <a:pt x="95" y="1202"/>
                </a:lnTo>
                <a:lnTo>
                  <a:pt x="111" y="1180"/>
                </a:lnTo>
                <a:lnTo>
                  <a:pt x="127" y="1149"/>
                </a:lnTo>
                <a:lnTo>
                  <a:pt x="148" y="1127"/>
                </a:lnTo>
                <a:lnTo>
                  <a:pt x="164" y="1113"/>
                </a:lnTo>
                <a:lnTo>
                  <a:pt x="180" y="1069"/>
                </a:lnTo>
                <a:lnTo>
                  <a:pt x="84" y="950"/>
                </a:lnTo>
                <a:lnTo>
                  <a:pt x="0" y="921"/>
                </a:lnTo>
                <a:lnTo>
                  <a:pt x="4" y="899"/>
                </a:lnTo>
                <a:lnTo>
                  <a:pt x="25" y="877"/>
                </a:lnTo>
                <a:lnTo>
                  <a:pt x="79" y="848"/>
                </a:lnTo>
                <a:lnTo>
                  <a:pt x="132" y="818"/>
                </a:lnTo>
                <a:lnTo>
                  <a:pt x="185" y="789"/>
                </a:lnTo>
                <a:lnTo>
                  <a:pt x="201" y="782"/>
                </a:lnTo>
                <a:lnTo>
                  <a:pt x="223" y="773"/>
                </a:lnTo>
                <a:lnTo>
                  <a:pt x="244" y="766"/>
                </a:lnTo>
                <a:lnTo>
                  <a:pt x="260" y="751"/>
                </a:lnTo>
                <a:lnTo>
                  <a:pt x="271" y="715"/>
                </a:lnTo>
                <a:lnTo>
                  <a:pt x="276" y="693"/>
                </a:lnTo>
                <a:lnTo>
                  <a:pt x="281" y="619"/>
                </a:lnTo>
                <a:lnTo>
                  <a:pt x="287" y="545"/>
                </a:lnTo>
                <a:lnTo>
                  <a:pt x="303" y="457"/>
                </a:lnTo>
                <a:lnTo>
                  <a:pt x="329" y="420"/>
                </a:lnTo>
                <a:lnTo>
                  <a:pt x="345" y="397"/>
                </a:lnTo>
                <a:lnTo>
                  <a:pt x="361" y="384"/>
                </a:lnTo>
                <a:lnTo>
                  <a:pt x="377" y="384"/>
                </a:lnTo>
                <a:lnTo>
                  <a:pt x="393" y="391"/>
                </a:lnTo>
                <a:lnTo>
                  <a:pt x="409" y="391"/>
                </a:lnTo>
                <a:lnTo>
                  <a:pt x="431" y="384"/>
                </a:lnTo>
                <a:lnTo>
                  <a:pt x="483" y="368"/>
                </a:lnTo>
                <a:lnTo>
                  <a:pt x="536" y="353"/>
                </a:lnTo>
                <a:lnTo>
                  <a:pt x="611" y="339"/>
                </a:lnTo>
                <a:lnTo>
                  <a:pt x="664" y="331"/>
                </a:lnTo>
                <a:lnTo>
                  <a:pt x="686" y="339"/>
                </a:lnTo>
                <a:lnTo>
                  <a:pt x="707" y="346"/>
                </a:lnTo>
                <a:lnTo>
                  <a:pt x="723" y="368"/>
                </a:lnTo>
                <a:lnTo>
                  <a:pt x="744" y="457"/>
                </a:lnTo>
                <a:lnTo>
                  <a:pt x="760" y="530"/>
                </a:lnTo>
                <a:lnTo>
                  <a:pt x="782" y="508"/>
                </a:lnTo>
                <a:lnTo>
                  <a:pt x="798" y="508"/>
                </a:lnTo>
                <a:lnTo>
                  <a:pt x="824" y="501"/>
                </a:lnTo>
                <a:lnTo>
                  <a:pt x="878" y="479"/>
                </a:lnTo>
                <a:lnTo>
                  <a:pt x="930" y="391"/>
                </a:lnTo>
                <a:lnTo>
                  <a:pt x="951" y="375"/>
                </a:lnTo>
                <a:lnTo>
                  <a:pt x="967" y="362"/>
                </a:lnTo>
                <a:lnTo>
                  <a:pt x="989" y="346"/>
                </a:lnTo>
                <a:lnTo>
                  <a:pt x="1021" y="317"/>
                </a:lnTo>
                <a:lnTo>
                  <a:pt x="1037" y="309"/>
                </a:lnTo>
                <a:lnTo>
                  <a:pt x="1058" y="309"/>
                </a:lnTo>
                <a:lnTo>
                  <a:pt x="1074" y="309"/>
                </a:lnTo>
                <a:lnTo>
                  <a:pt x="1101" y="331"/>
                </a:lnTo>
                <a:lnTo>
                  <a:pt x="1122" y="346"/>
                </a:lnTo>
                <a:lnTo>
                  <a:pt x="1138" y="362"/>
                </a:lnTo>
                <a:lnTo>
                  <a:pt x="1154" y="368"/>
                </a:lnTo>
                <a:lnTo>
                  <a:pt x="1175" y="375"/>
                </a:lnTo>
                <a:lnTo>
                  <a:pt x="1197" y="391"/>
                </a:lnTo>
                <a:lnTo>
                  <a:pt x="1223" y="406"/>
                </a:lnTo>
                <a:lnTo>
                  <a:pt x="1239" y="413"/>
                </a:lnTo>
                <a:lnTo>
                  <a:pt x="1250" y="43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048120"/>
            <a:ext cx="1222560" cy="79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971800"/>
            <a:ext cx="10152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13360" y="3033720"/>
            <a:ext cx="22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851440" y="3567240"/>
            <a:ext cx="270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809880"/>
            <a:ext cx="152280" cy="16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2240" y="5091120"/>
            <a:ext cx="280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ment b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94240" y="5014800"/>
            <a:ext cx="328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ment by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27360" y="5853240"/>
            <a:ext cx="457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‘containment’ relationship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1143000"/>
            <a:ext cx="1981440" cy="1524240"/>
          </a:xfrm>
          <a:custGeom>
            <a:avLst/>
            <a:gdLst/>
            <a:ahLst/>
            <a:rect l="0" t="0" r="r" b="b"/>
            <a:pathLst>
              <a:path fill="none" w="5504" h="4234">
                <a:moveTo>
                  <a:pt x="2304" y="752"/>
                </a:moveTo>
                <a:lnTo>
                  <a:pt x="2343" y="688"/>
                </a:lnTo>
                <a:lnTo>
                  <a:pt x="2383" y="535"/>
                </a:lnTo>
                <a:lnTo>
                  <a:pt x="2413" y="358"/>
                </a:lnTo>
                <a:lnTo>
                  <a:pt x="2451" y="205"/>
                </a:lnTo>
                <a:lnTo>
                  <a:pt x="2481" y="152"/>
                </a:lnTo>
                <a:lnTo>
                  <a:pt x="2519" y="114"/>
                </a:lnTo>
                <a:lnTo>
                  <a:pt x="2560" y="76"/>
                </a:lnTo>
                <a:lnTo>
                  <a:pt x="2599" y="38"/>
                </a:lnTo>
                <a:lnTo>
                  <a:pt x="2637" y="26"/>
                </a:lnTo>
                <a:lnTo>
                  <a:pt x="2678" y="14"/>
                </a:lnTo>
                <a:lnTo>
                  <a:pt x="2716" y="0"/>
                </a:lnTo>
                <a:lnTo>
                  <a:pt x="2756" y="0"/>
                </a:lnTo>
                <a:lnTo>
                  <a:pt x="2796" y="0"/>
                </a:lnTo>
                <a:lnTo>
                  <a:pt x="2826" y="14"/>
                </a:lnTo>
                <a:lnTo>
                  <a:pt x="2864" y="14"/>
                </a:lnTo>
                <a:lnTo>
                  <a:pt x="2894" y="26"/>
                </a:lnTo>
                <a:lnTo>
                  <a:pt x="2923" y="38"/>
                </a:lnTo>
                <a:lnTo>
                  <a:pt x="2953" y="38"/>
                </a:lnTo>
                <a:lnTo>
                  <a:pt x="2982" y="52"/>
                </a:lnTo>
                <a:lnTo>
                  <a:pt x="3021" y="76"/>
                </a:lnTo>
                <a:lnTo>
                  <a:pt x="3050" y="90"/>
                </a:lnTo>
                <a:lnTo>
                  <a:pt x="3091" y="114"/>
                </a:lnTo>
                <a:lnTo>
                  <a:pt x="3149" y="152"/>
                </a:lnTo>
                <a:lnTo>
                  <a:pt x="3188" y="191"/>
                </a:lnTo>
                <a:lnTo>
                  <a:pt x="3227" y="205"/>
                </a:lnTo>
                <a:lnTo>
                  <a:pt x="3267" y="229"/>
                </a:lnTo>
                <a:lnTo>
                  <a:pt x="3306" y="255"/>
                </a:lnTo>
                <a:lnTo>
                  <a:pt x="3344" y="305"/>
                </a:lnTo>
                <a:lnTo>
                  <a:pt x="3355" y="344"/>
                </a:lnTo>
                <a:lnTo>
                  <a:pt x="3374" y="382"/>
                </a:lnTo>
                <a:lnTo>
                  <a:pt x="3403" y="435"/>
                </a:lnTo>
                <a:lnTo>
                  <a:pt x="3433" y="446"/>
                </a:lnTo>
                <a:lnTo>
                  <a:pt x="3453" y="485"/>
                </a:lnTo>
                <a:lnTo>
                  <a:pt x="3482" y="611"/>
                </a:lnTo>
                <a:lnTo>
                  <a:pt x="3503" y="650"/>
                </a:lnTo>
                <a:lnTo>
                  <a:pt x="3532" y="676"/>
                </a:lnTo>
                <a:lnTo>
                  <a:pt x="3571" y="714"/>
                </a:lnTo>
                <a:lnTo>
                  <a:pt x="3600" y="764"/>
                </a:lnTo>
                <a:lnTo>
                  <a:pt x="3639" y="791"/>
                </a:lnTo>
                <a:lnTo>
                  <a:pt x="3679" y="817"/>
                </a:lnTo>
                <a:lnTo>
                  <a:pt x="3718" y="841"/>
                </a:lnTo>
                <a:lnTo>
                  <a:pt x="3747" y="867"/>
                </a:lnTo>
                <a:lnTo>
                  <a:pt x="3786" y="879"/>
                </a:lnTo>
                <a:lnTo>
                  <a:pt x="3815" y="893"/>
                </a:lnTo>
                <a:lnTo>
                  <a:pt x="3845" y="893"/>
                </a:lnTo>
                <a:lnTo>
                  <a:pt x="3962" y="893"/>
                </a:lnTo>
                <a:lnTo>
                  <a:pt x="3992" y="879"/>
                </a:lnTo>
                <a:lnTo>
                  <a:pt x="4032" y="867"/>
                </a:lnTo>
                <a:lnTo>
                  <a:pt x="4062" y="867"/>
                </a:lnTo>
                <a:lnTo>
                  <a:pt x="4180" y="867"/>
                </a:lnTo>
                <a:lnTo>
                  <a:pt x="4218" y="855"/>
                </a:lnTo>
                <a:lnTo>
                  <a:pt x="4336" y="829"/>
                </a:lnTo>
                <a:lnTo>
                  <a:pt x="4433" y="817"/>
                </a:lnTo>
                <a:lnTo>
                  <a:pt x="4474" y="817"/>
                </a:lnTo>
                <a:lnTo>
                  <a:pt x="4512" y="803"/>
                </a:lnTo>
                <a:lnTo>
                  <a:pt x="4630" y="779"/>
                </a:lnTo>
                <a:lnTo>
                  <a:pt x="4748" y="764"/>
                </a:lnTo>
                <a:lnTo>
                  <a:pt x="4866" y="752"/>
                </a:lnTo>
                <a:lnTo>
                  <a:pt x="4895" y="741"/>
                </a:lnTo>
                <a:lnTo>
                  <a:pt x="4924" y="726"/>
                </a:lnTo>
                <a:lnTo>
                  <a:pt x="4954" y="726"/>
                </a:lnTo>
                <a:lnTo>
                  <a:pt x="5051" y="726"/>
                </a:lnTo>
                <a:lnTo>
                  <a:pt x="5189" y="741"/>
                </a:lnTo>
                <a:lnTo>
                  <a:pt x="5228" y="779"/>
                </a:lnTo>
                <a:lnTo>
                  <a:pt x="5248" y="817"/>
                </a:lnTo>
                <a:lnTo>
                  <a:pt x="5268" y="855"/>
                </a:lnTo>
                <a:lnTo>
                  <a:pt x="5268" y="893"/>
                </a:lnTo>
                <a:lnTo>
                  <a:pt x="5278" y="944"/>
                </a:lnTo>
                <a:lnTo>
                  <a:pt x="5287" y="1070"/>
                </a:lnTo>
                <a:lnTo>
                  <a:pt x="5298" y="1123"/>
                </a:lnTo>
                <a:lnTo>
                  <a:pt x="5316" y="1161"/>
                </a:lnTo>
                <a:lnTo>
                  <a:pt x="5346" y="1288"/>
                </a:lnTo>
                <a:lnTo>
                  <a:pt x="5463" y="1441"/>
                </a:lnTo>
                <a:lnTo>
                  <a:pt x="5504" y="1594"/>
                </a:lnTo>
                <a:lnTo>
                  <a:pt x="5493" y="1658"/>
                </a:lnTo>
                <a:lnTo>
                  <a:pt x="5493" y="1697"/>
                </a:lnTo>
                <a:lnTo>
                  <a:pt x="5445" y="1759"/>
                </a:lnTo>
                <a:lnTo>
                  <a:pt x="5425" y="1797"/>
                </a:lnTo>
                <a:lnTo>
                  <a:pt x="5425" y="1835"/>
                </a:lnTo>
                <a:lnTo>
                  <a:pt x="5425" y="1964"/>
                </a:lnTo>
                <a:lnTo>
                  <a:pt x="5454" y="2015"/>
                </a:lnTo>
                <a:lnTo>
                  <a:pt x="5454" y="2053"/>
                </a:lnTo>
                <a:lnTo>
                  <a:pt x="5416" y="2130"/>
                </a:lnTo>
                <a:lnTo>
                  <a:pt x="5375" y="2283"/>
                </a:lnTo>
                <a:lnTo>
                  <a:pt x="5357" y="2333"/>
                </a:lnTo>
                <a:lnTo>
                  <a:pt x="5327" y="2386"/>
                </a:lnTo>
                <a:lnTo>
                  <a:pt x="5287" y="2539"/>
                </a:lnTo>
                <a:lnTo>
                  <a:pt x="5257" y="2692"/>
                </a:lnTo>
                <a:lnTo>
                  <a:pt x="5248" y="2819"/>
                </a:lnTo>
                <a:lnTo>
                  <a:pt x="5257" y="2857"/>
                </a:lnTo>
                <a:lnTo>
                  <a:pt x="5248" y="2895"/>
                </a:lnTo>
                <a:lnTo>
                  <a:pt x="5239" y="2933"/>
                </a:lnTo>
                <a:lnTo>
                  <a:pt x="5228" y="2984"/>
                </a:lnTo>
                <a:lnTo>
                  <a:pt x="5228" y="3022"/>
                </a:lnTo>
                <a:lnTo>
                  <a:pt x="5199" y="3098"/>
                </a:lnTo>
                <a:lnTo>
                  <a:pt x="5180" y="3227"/>
                </a:lnTo>
                <a:lnTo>
                  <a:pt x="5180" y="3354"/>
                </a:lnTo>
                <a:lnTo>
                  <a:pt x="5180" y="3404"/>
                </a:lnTo>
                <a:lnTo>
                  <a:pt x="5180" y="3457"/>
                </a:lnTo>
                <a:lnTo>
                  <a:pt x="5199" y="3610"/>
                </a:lnTo>
                <a:lnTo>
                  <a:pt x="5199" y="3672"/>
                </a:lnTo>
                <a:lnTo>
                  <a:pt x="5189" y="3725"/>
                </a:lnTo>
                <a:lnTo>
                  <a:pt x="5169" y="3775"/>
                </a:lnTo>
                <a:lnTo>
                  <a:pt x="5130" y="3928"/>
                </a:lnTo>
                <a:lnTo>
                  <a:pt x="5033" y="4055"/>
                </a:lnTo>
                <a:lnTo>
                  <a:pt x="4992" y="4081"/>
                </a:lnTo>
                <a:lnTo>
                  <a:pt x="4954" y="4107"/>
                </a:lnTo>
                <a:lnTo>
                  <a:pt x="4816" y="4131"/>
                </a:lnTo>
                <a:lnTo>
                  <a:pt x="4698" y="4169"/>
                </a:lnTo>
                <a:lnTo>
                  <a:pt x="4562" y="4196"/>
                </a:lnTo>
                <a:lnTo>
                  <a:pt x="4522" y="4208"/>
                </a:lnTo>
                <a:lnTo>
                  <a:pt x="4424" y="4234"/>
                </a:lnTo>
                <a:lnTo>
                  <a:pt x="4374" y="4222"/>
                </a:lnTo>
                <a:lnTo>
                  <a:pt x="4257" y="4184"/>
                </a:lnTo>
                <a:lnTo>
                  <a:pt x="4121" y="4145"/>
                </a:lnTo>
                <a:lnTo>
                  <a:pt x="4021" y="4093"/>
                </a:lnTo>
                <a:lnTo>
                  <a:pt x="3904" y="4055"/>
                </a:lnTo>
                <a:lnTo>
                  <a:pt x="3845" y="4043"/>
                </a:lnTo>
                <a:lnTo>
                  <a:pt x="3688" y="4069"/>
                </a:lnTo>
                <a:lnTo>
                  <a:pt x="3591" y="4081"/>
                </a:lnTo>
                <a:lnTo>
                  <a:pt x="3561" y="4107"/>
                </a:lnTo>
                <a:lnTo>
                  <a:pt x="3503" y="4157"/>
                </a:lnTo>
                <a:lnTo>
                  <a:pt x="3453" y="4157"/>
                </a:lnTo>
                <a:lnTo>
                  <a:pt x="3335" y="4107"/>
                </a:lnTo>
                <a:lnTo>
                  <a:pt x="3179" y="3954"/>
                </a:lnTo>
                <a:lnTo>
                  <a:pt x="3061" y="3928"/>
                </a:lnTo>
                <a:lnTo>
                  <a:pt x="3021" y="3916"/>
                </a:lnTo>
                <a:lnTo>
                  <a:pt x="2885" y="3902"/>
                </a:lnTo>
                <a:lnTo>
                  <a:pt x="2785" y="3902"/>
                </a:lnTo>
                <a:lnTo>
                  <a:pt x="2756" y="3902"/>
                </a:lnTo>
                <a:lnTo>
                  <a:pt x="2716" y="3940"/>
                </a:lnTo>
                <a:lnTo>
                  <a:pt x="2678" y="3978"/>
                </a:lnTo>
                <a:lnTo>
                  <a:pt x="2578" y="4004"/>
                </a:lnTo>
                <a:lnTo>
                  <a:pt x="2442" y="4031"/>
                </a:lnTo>
                <a:lnTo>
                  <a:pt x="2266" y="4016"/>
                </a:lnTo>
                <a:lnTo>
                  <a:pt x="2069" y="3978"/>
                </a:lnTo>
                <a:lnTo>
                  <a:pt x="1872" y="3954"/>
                </a:lnTo>
                <a:lnTo>
                  <a:pt x="1833" y="3954"/>
                </a:lnTo>
                <a:lnTo>
                  <a:pt x="1804" y="3954"/>
                </a:lnTo>
                <a:lnTo>
                  <a:pt x="1706" y="3954"/>
                </a:lnTo>
                <a:lnTo>
                  <a:pt x="1666" y="3954"/>
                </a:lnTo>
                <a:lnTo>
                  <a:pt x="1489" y="3954"/>
                </a:lnTo>
                <a:lnTo>
                  <a:pt x="1372" y="3954"/>
                </a:lnTo>
                <a:lnTo>
                  <a:pt x="1342" y="3954"/>
                </a:lnTo>
                <a:lnTo>
                  <a:pt x="1304" y="3978"/>
                </a:lnTo>
                <a:lnTo>
                  <a:pt x="1166" y="3978"/>
                </a:lnTo>
                <a:lnTo>
                  <a:pt x="950" y="3978"/>
                </a:lnTo>
                <a:lnTo>
                  <a:pt x="912" y="3966"/>
                </a:lnTo>
                <a:lnTo>
                  <a:pt x="871" y="3839"/>
                </a:lnTo>
                <a:lnTo>
                  <a:pt x="882" y="3634"/>
                </a:lnTo>
                <a:lnTo>
                  <a:pt x="912" y="3507"/>
                </a:lnTo>
                <a:lnTo>
                  <a:pt x="921" y="3457"/>
                </a:lnTo>
                <a:lnTo>
                  <a:pt x="950" y="3404"/>
                </a:lnTo>
                <a:lnTo>
                  <a:pt x="971" y="3366"/>
                </a:lnTo>
                <a:lnTo>
                  <a:pt x="971" y="3316"/>
                </a:lnTo>
                <a:lnTo>
                  <a:pt x="941" y="3189"/>
                </a:lnTo>
                <a:lnTo>
                  <a:pt x="783" y="3060"/>
                </a:lnTo>
                <a:lnTo>
                  <a:pt x="665" y="3022"/>
                </a:lnTo>
                <a:lnTo>
                  <a:pt x="665" y="2972"/>
                </a:lnTo>
                <a:lnTo>
                  <a:pt x="695" y="2792"/>
                </a:lnTo>
                <a:lnTo>
                  <a:pt x="676" y="2742"/>
                </a:lnTo>
                <a:lnTo>
                  <a:pt x="647" y="2716"/>
                </a:lnTo>
                <a:lnTo>
                  <a:pt x="636" y="2678"/>
                </a:lnTo>
                <a:lnTo>
                  <a:pt x="627" y="2501"/>
                </a:lnTo>
                <a:lnTo>
                  <a:pt x="588" y="2372"/>
                </a:lnTo>
                <a:lnTo>
                  <a:pt x="253" y="2142"/>
                </a:lnTo>
                <a:lnTo>
                  <a:pt x="117" y="2118"/>
                </a:lnTo>
                <a:lnTo>
                  <a:pt x="147" y="2103"/>
                </a:lnTo>
                <a:lnTo>
                  <a:pt x="176" y="2079"/>
                </a:lnTo>
                <a:lnTo>
                  <a:pt x="206" y="2041"/>
                </a:lnTo>
                <a:lnTo>
                  <a:pt x="235" y="1988"/>
                </a:lnTo>
                <a:lnTo>
                  <a:pt x="274" y="1950"/>
                </a:lnTo>
                <a:lnTo>
                  <a:pt x="303" y="1926"/>
                </a:lnTo>
                <a:lnTo>
                  <a:pt x="332" y="1850"/>
                </a:lnTo>
                <a:lnTo>
                  <a:pt x="156" y="1644"/>
                </a:lnTo>
                <a:lnTo>
                  <a:pt x="0" y="1594"/>
                </a:lnTo>
                <a:lnTo>
                  <a:pt x="9" y="1556"/>
                </a:lnTo>
                <a:lnTo>
                  <a:pt x="47" y="1517"/>
                </a:lnTo>
                <a:lnTo>
                  <a:pt x="147" y="1467"/>
                </a:lnTo>
                <a:lnTo>
                  <a:pt x="244" y="1415"/>
                </a:lnTo>
                <a:lnTo>
                  <a:pt x="342" y="1364"/>
                </a:lnTo>
                <a:lnTo>
                  <a:pt x="371" y="1352"/>
                </a:lnTo>
                <a:lnTo>
                  <a:pt x="412" y="1338"/>
                </a:lnTo>
                <a:lnTo>
                  <a:pt x="450" y="1326"/>
                </a:lnTo>
                <a:lnTo>
                  <a:pt x="480" y="1300"/>
                </a:lnTo>
                <a:lnTo>
                  <a:pt x="500" y="1238"/>
                </a:lnTo>
                <a:lnTo>
                  <a:pt x="509" y="1199"/>
                </a:lnTo>
                <a:lnTo>
                  <a:pt x="518" y="1070"/>
                </a:lnTo>
                <a:lnTo>
                  <a:pt x="529" y="944"/>
                </a:lnTo>
                <a:lnTo>
                  <a:pt x="559" y="791"/>
                </a:lnTo>
                <a:lnTo>
                  <a:pt x="606" y="726"/>
                </a:lnTo>
                <a:lnTo>
                  <a:pt x="636" y="688"/>
                </a:lnTo>
                <a:lnTo>
                  <a:pt x="665" y="664"/>
                </a:lnTo>
                <a:lnTo>
                  <a:pt x="695" y="664"/>
                </a:lnTo>
                <a:lnTo>
                  <a:pt x="724" y="676"/>
                </a:lnTo>
                <a:lnTo>
                  <a:pt x="754" y="676"/>
                </a:lnTo>
                <a:lnTo>
                  <a:pt x="794" y="664"/>
                </a:lnTo>
                <a:lnTo>
                  <a:pt x="892" y="638"/>
                </a:lnTo>
                <a:lnTo>
                  <a:pt x="989" y="611"/>
                </a:lnTo>
                <a:lnTo>
                  <a:pt x="1127" y="588"/>
                </a:lnTo>
                <a:lnTo>
                  <a:pt x="1225" y="573"/>
                </a:lnTo>
                <a:lnTo>
                  <a:pt x="1265" y="588"/>
                </a:lnTo>
                <a:lnTo>
                  <a:pt x="1304" y="599"/>
                </a:lnTo>
                <a:lnTo>
                  <a:pt x="1333" y="638"/>
                </a:lnTo>
                <a:lnTo>
                  <a:pt x="1372" y="791"/>
                </a:lnTo>
                <a:lnTo>
                  <a:pt x="1401" y="917"/>
                </a:lnTo>
                <a:lnTo>
                  <a:pt x="1442" y="879"/>
                </a:lnTo>
                <a:lnTo>
                  <a:pt x="1471" y="879"/>
                </a:lnTo>
                <a:lnTo>
                  <a:pt x="1519" y="867"/>
                </a:lnTo>
                <a:lnTo>
                  <a:pt x="1618" y="829"/>
                </a:lnTo>
                <a:lnTo>
                  <a:pt x="1716" y="676"/>
                </a:lnTo>
                <a:lnTo>
                  <a:pt x="1754" y="650"/>
                </a:lnTo>
                <a:lnTo>
                  <a:pt x="1784" y="626"/>
                </a:lnTo>
                <a:lnTo>
                  <a:pt x="1824" y="599"/>
                </a:lnTo>
                <a:lnTo>
                  <a:pt x="1883" y="549"/>
                </a:lnTo>
                <a:lnTo>
                  <a:pt x="1912" y="535"/>
                </a:lnTo>
                <a:lnTo>
                  <a:pt x="1951" y="535"/>
                </a:lnTo>
                <a:lnTo>
                  <a:pt x="1980" y="535"/>
                </a:lnTo>
                <a:lnTo>
                  <a:pt x="2030" y="573"/>
                </a:lnTo>
                <a:lnTo>
                  <a:pt x="2069" y="599"/>
                </a:lnTo>
                <a:lnTo>
                  <a:pt x="2098" y="626"/>
                </a:lnTo>
                <a:lnTo>
                  <a:pt x="2128" y="638"/>
                </a:lnTo>
                <a:lnTo>
                  <a:pt x="2166" y="650"/>
                </a:lnTo>
                <a:lnTo>
                  <a:pt x="2207" y="676"/>
                </a:lnTo>
                <a:lnTo>
                  <a:pt x="2255" y="702"/>
                </a:lnTo>
                <a:lnTo>
                  <a:pt x="2284" y="714"/>
                </a:lnTo>
                <a:lnTo>
                  <a:pt x="2304" y="752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205740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905120"/>
            <a:ext cx="2286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36640" y="2576520"/>
            <a:ext cx="22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13360" y="2119320"/>
            <a:ext cx="1158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5146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08040" y="15098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133720"/>
            <a:ext cx="2362680" cy="1981440"/>
          </a:xfrm>
          <a:custGeom>
            <a:avLst/>
            <a:gdLst/>
            <a:ahLst/>
            <a:rect l="0" t="0" r="r" b="b"/>
            <a:pathLst>
              <a:path fill="none" w="6563" h="5504">
                <a:moveTo>
                  <a:pt x="2748" y="978"/>
                </a:moveTo>
                <a:lnTo>
                  <a:pt x="2794" y="894"/>
                </a:lnTo>
                <a:lnTo>
                  <a:pt x="2843" y="696"/>
                </a:lnTo>
                <a:lnTo>
                  <a:pt x="2878" y="466"/>
                </a:lnTo>
                <a:lnTo>
                  <a:pt x="2924" y="267"/>
                </a:lnTo>
                <a:lnTo>
                  <a:pt x="2959" y="198"/>
                </a:lnTo>
                <a:lnTo>
                  <a:pt x="3005" y="149"/>
                </a:lnTo>
                <a:lnTo>
                  <a:pt x="3053" y="99"/>
                </a:lnTo>
                <a:lnTo>
                  <a:pt x="3099" y="49"/>
                </a:lnTo>
                <a:lnTo>
                  <a:pt x="3145" y="34"/>
                </a:lnTo>
                <a:lnTo>
                  <a:pt x="3194" y="18"/>
                </a:lnTo>
                <a:lnTo>
                  <a:pt x="3240" y="0"/>
                </a:lnTo>
                <a:lnTo>
                  <a:pt x="3286" y="0"/>
                </a:lnTo>
                <a:lnTo>
                  <a:pt x="3334" y="0"/>
                </a:lnTo>
                <a:lnTo>
                  <a:pt x="3369" y="18"/>
                </a:lnTo>
                <a:lnTo>
                  <a:pt x="3415" y="18"/>
                </a:lnTo>
                <a:lnTo>
                  <a:pt x="3450" y="34"/>
                </a:lnTo>
                <a:lnTo>
                  <a:pt x="3485" y="49"/>
                </a:lnTo>
                <a:lnTo>
                  <a:pt x="3520" y="49"/>
                </a:lnTo>
                <a:lnTo>
                  <a:pt x="3555" y="68"/>
                </a:lnTo>
                <a:lnTo>
                  <a:pt x="3602" y="99"/>
                </a:lnTo>
                <a:lnTo>
                  <a:pt x="3637" y="118"/>
                </a:lnTo>
                <a:lnTo>
                  <a:pt x="3685" y="149"/>
                </a:lnTo>
                <a:lnTo>
                  <a:pt x="3755" y="198"/>
                </a:lnTo>
                <a:lnTo>
                  <a:pt x="3801" y="248"/>
                </a:lnTo>
                <a:lnTo>
                  <a:pt x="3847" y="267"/>
                </a:lnTo>
                <a:lnTo>
                  <a:pt x="3895" y="298"/>
                </a:lnTo>
                <a:lnTo>
                  <a:pt x="3941" y="332"/>
                </a:lnTo>
                <a:lnTo>
                  <a:pt x="3988" y="397"/>
                </a:lnTo>
                <a:lnTo>
                  <a:pt x="4001" y="447"/>
                </a:lnTo>
                <a:lnTo>
                  <a:pt x="4023" y="497"/>
                </a:lnTo>
                <a:lnTo>
                  <a:pt x="4058" y="565"/>
                </a:lnTo>
                <a:lnTo>
                  <a:pt x="4093" y="581"/>
                </a:lnTo>
                <a:lnTo>
                  <a:pt x="4117" y="630"/>
                </a:lnTo>
                <a:lnTo>
                  <a:pt x="4152" y="795"/>
                </a:lnTo>
                <a:lnTo>
                  <a:pt x="4176" y="845"/>
                </a:lnTo>
                <a:lnTo>
                  <a:pt x="4211" y="879"/>
                </a:lnTo>
                <a:lnTo>
                  <a:pt x="4257" y="929"/>
                </a:lnTo>
                <a:lnTo>
                  <a:pt x="4292" y="994"/>
                </a:lnTo>
                <a:lnTo>
                  <a:pt x="4338" y="1028"/>
                </a:lnTo>
                <a:lnTo>
                  <a:pt x="4387" y="1062"/>
                </a:lnTo>
                <a:lnTo>
                  <a:pt x="4433" y="1093"/>
                </a:lnTo>
                <a:lnTo>
                  <a:pt x="4468" y="1128"/>
                </a:lnTo>
                <a:lnTo>
                  <a:pt x="4514" y="1143"/>
                </a:lnTo>
                <a:lnTo>
                  <a:pt x="4549" y="1162"/>
                </a:lnTo>
                <a:lnTo>
                  <a:pt x="4584" y="1162"/>
                </a:lnTo>
                <a:lnTo>
                  <a:pt x="4724" y="1162"/>
                </a:lnTo>
                <a:lnTo>
                  <a:pt x="4759" y="1143"/>
                </a:lnTo>
                <a:lnTo>
                  <a:pt x="4808" y="1128"/>
                </a:lnTo>
                <a:lnTo>
                  <a:pt x="4843" y="1128"/>
                </a:lnTo>
                <a:lnTo>
                  <a:pt x="4984" y="1128"/>
                </a:lnTo>
                <a:lnTo>
                  <a:pt x="5030" y="1112"/>
                </a:lnTo>
                <a:lnTo>
                  <a:pt x="5171" y="1078"/>
                </a:lnTo>
                <a:lnTo>
                  <a:pt x="5287" y="1062"/>
                </a:lnTo>
                <a:lnTo>
                  <a:pt x="5335" y="1062"/>
                </a:lnTo>
                <a:lnTo>
                  <a:pt x="5381" y="1044"/>
                </a:lnTo>
                <a:lnTo>
                  <a:pt x="5521" y="1013"/>
                </a:lnTo>
                <a:lnTo>
                  <a:pt x="5662" y="994"/>
                </a:lnTo>
                <a:lnTo>
                  <a:pt x="5802" y="978"/>
                </a:lnTo>
                <a:lnTo>
                  <a:pt x="5837" y="963"/>
                </a:lnTo>
                <a:lnTo>
                  <a:pt x="5872" y="944"/>
                </a:lnTo>
                <a:lnTo>
                  <a:pt x="5907" y="944"/>
                </a:lnTo>
                <a:lnTo>
                  <a:pt x="6024" y="944"/>
                </a:lnTo>
                <a:lnTo>
                  <a:pt x="6188" y="963"/>
                </a:lnTo>
                <a:lnTo>
                  <a:pt x="6234" y="1013"/>
                </a:lnTo>
                <a:lnTo>
                  <a:pt x="6258" y="1062"/>
                </a:lnTo>
                <a:lnTo>
                  <a:pt x="6282" y="1112"/>
                </a:lnTo>
                <a:lnTo>
                  <a:pt x="6282" y="1162"/>
                </a:lnTo>
                <a:lnTo>
                  <a:pt x="6293" y="1227"/>
                </a:lnTo>
                <a:lnTo>
                  <a:pt x="6304" y="1392"/>
                </a:lnTo>
                <a:lnTo>
                  <a:pt x="6318" y="1460"/>
                </a:lnTo>
                <a:lnTo>
                  <a:pt x="6339" y="1510"/>
                </a:lnTo>
                <a:lnTo>
                  <a:pt x="6375" y="1674"/>
                </a:lnTo>
                <a:lnTo>
                  <a:pt x="6515" y="1873"/>
                </a:lnTo>
                <a:lnTo>
                  <a:pt x="6563" y="2072"/>
                </a:lnTo>
                <a:lnTo>
                  <a:pt x="6550" y="2156"/>
                </a:lnTo>
                <a:lnTo>
                  <a:pt x="6550" y="2206"/>
                </a:lnTo>
                <a:lnTo>
                  <a:pt x="6493" y="2287"/>
                </a:lnTo>
                <a:lnTo>
                  <a:pt x="6469" y="2336"/>
                </a:lnTo>
                <a:lnTo>
                  <a:pt x="6469" y="2386"/>
                </a:lnTo>
                <a:lnTo>
                  <a:pt x="6469" y="2554"/>
                </a:lnTo>
                <a:lnTo>
                  <a:pt x="6504" y="2619"/>
                </a:lnTo>
                <a:lnTo>
                  <a:pt x="6504" y="2669"/>
                </a:lnTo>
                <a:lnTo>
                  <a:pt x="6458" y="2769"/>
                </a:lnTo>
                <a:lnTo>
                  <a:pt x="6410" y="2968"/>
                </a:lnTo>
                <a:lnTo>
                  <a:pt x="6388" y="3033"/>
                </a:lnTo>
                <a:lnTo>
                  <a:pt x="6353" y="3102"/>
                </a:lnTo>
                <a:lnTo>
                  <a:pt x="6304" y="3301"/>
                </a:lnTo>
                <a:lnTo>
                  <a:pt x="6269" y="3500"/>
                </a:lnTo>
                <a:lnTo>
                  <a:pt x="6258" y="3664"/>
                </a:lnTo>
                <a:lnTo>
                  <a:pt x="6269" y="3714"/>
                </a:lnTo>
                <a:lnTo>
                  <a:pt x="6258" y="3764"/>
                </a:lnTo>
                <a:lnTo>
                  <a:pt x="6247" y="3813"/>
                </a:lnTo>
                <a:lnTo>
                  <a:pt x="6234" y="3879"/>
                </a:lnTo>
                <a:lnTo>
                  <a:pt x="6234" y="3928"/>
                </a:lnTo>
                <a:lnTo>
                  <a:pt x="6199" y="4028"/>
                </a:lnTo>
                <a:lnTo>
                  <a:pt x="6177" y="4196"/>
                </a:lnTo>
                <a:lnTo>
                  <a:pt x="6177" y="4360"/>
                </a:lnTo>
                <a:lnTo>
                  <a:pt x="6177" y="4426"/>
                </a:lnTo>
                <a:lnTo>
                  <a:pt x="6177" y="4494"/>
                </a:lnTo>
                <a:lnTo>
                  <a:pt x="6199" y="4693"/>
                </a:lnTo>
                <a:lnTo>
                  <a:pt x="6199" y="4774"/>
                </a:lnTo>
                <a:lnTo>
                  <a:pt x="6188" y="4842"/>
                </a:lnTo>
                <a:lnTo>
                  <a:pt x="6164" y="4907"/>
                </a:lnTo>
                <a:lnTo>
                  <a:pt x="6118" y="5106"/>
                </a:lnTo>
                <a:lnTo>
                  <a:pt x="6002" y="5271"/>
                </a:lnTo>
                <a:lnTo>
                  <a:pt x="5953" y="5305"/>
                </a:lnTo>
                <a:lnTo>
                  <a:pt x="5907" y="5339"/>
                </a:lnTo>
                <a:lnTo>
                  <a:pt x="5743" y="5370"/>
                </a:lnTo>
                <a:lnTo>
                  <a:pt x="5603" y="5420"/>
                </a:lnTo>
                <a:lnTo>
                  <a:pt x="5440" y="5454"/>
                </a:lnTo>
                <a:lnTo>
                  <a:pt x="5392" y="5470"/>
                </a:lnTo>
                <a:lnTo>
                  <a:pt x="5276" y="5504"/>
                </a:lnTo>
                <a:lnTo>
                  <a:pt x="5217" y="5488"/>
                </a:lnTo>
                <a:lnTo>
                  <a:pt x="5076" y="5439"/>
                </a:lnTo>
                <a:lnTo>
                  <a:pt x="4913" y="5389"/>
                </a:lnTo>
                <a:lnTo>
                  <a:pt x="4795" y="5320"/>
                </a:lnTo>
                <a:lnTo>
                  <a:pt x="4654" y="5271"/>
                </a:lnTo>
                <a:lnTo>
                  <a:pt x="4584" y="5255"/>
                </a:lnTo>
                <a:lnTo>
                  <a:pt x="4398" y="5289"/>
                </a:lnTo>
                <a:lnTo>
                  <a:pt x="4281" y="5305"/>
                </a:lnTo>
                <a:lnTo>
                  <a:pt x="4246" y="5339"/>
                </a:lnTo>
                <a:lnTo>
                  <a:pt x="4176" y="5404"/>
                </a:lnTo>
                <a:lnTo>
                  <a:pt x="4117" y="5404"/>
                </a:lnTo>
                <a:lnTo>
                  <a:pt x="3977" y="5339"/>
                </a:lnTo>
                <a:lnTo>
                  <a:pt x="3790" y="5140"/>
                </a:lnTo>
                <a:lnTo>
                  <a:pt x="3650" y="5106"/>
                </a:lnTo>
                <a:lnTo>
                  <a:pt x="3602" y="5091"/>
                </a:lnTo>
                <a:lnTo>
                  <a:pt x="3439" y="5072"/>
                </a:lnTo>
                <a:lnTo>
                  <a:pt x="3321" y="5072"/>
                </a:lnTo>
                <a:lnTo>
                  <a:pt x="3286" y="5072"/>
                </a:lnTo>
                <a:lnTo>
                  <a:pt x="3240" y="5122"/>
                </a:lnTo>
                <a:lnTo>
                  <a:pt x="3194" y="5171"/>
                </a:lnTo>
                <a:lnTo>
                  <a:pt x="3075" y="5206"/>
                </a:lnTo>
                <a:lnTo>
                  <a:pt x="2913" y="5240"/>
                </a:lnTo>
                <a:lnTo>
                  <a:pt x="2702" y="5221"/>
                </a:lnTo>
                <a:lnTo>
                  <a:pt x="2468" y="5171"/>
                </a:lnTo>
                <a:lnTo>
                  <a:pt x="2233" y="5140"/>
                </a:lnTo>
                <a:lnTo>
                  <a:pt x="2187" y="5140"/>
                </a:lnTo>
                <a:lnTo>
                  <a:pt x="2152" y="5140"/>
                </a:lnTo>
                <a:lnTo>
                  <a:pt x="2036" y="5140"/>
                </a:lnTo>
                <a:lnTo>
                  <a:pt x="1987" y="5140"/>
                </a:lnTo>
                <a:lnTo>
                  <a:pt x="1777" y="5140"/>
                </a:lnTo>
                <a:lnTo>
                  <a:pt x="1636" y="5140"/>
                </a:lnTo>
                <a:lnTo>
                  <a:pt x="1600" y="5140"/>
                </a:lnTo>
                <a:lnTo>
                  <a:pt x="1554" y="5171"/>
                </a:lnTo>
                <a:lnTo>
                  <a:pt x="1390" y="5171"/>
                </a:lnTo>
                <a:lnTo>
                  <a:pt x="1133" y="5171"/>
                </a:lnTo>
                <a:lnTo>
                  <a:pt x="1087" y="5156"/>
                </a:lnTo>
                <a:lnTo>
                  <a:pt x="1039" y="4991"/>
                </a:lnTo>
                <a:lnTo>
                  <a:pt x="1052" y="4724"/>
                </a:lnTo>
                <a:lnTo>
                  <a:pt x="1087" y="4559"/>
                </a:lnTo>
                <a:lnTo>
                  <a:pt x="1098" y="4494"/>
                </a:lnTo>
                <a:lnTo>
                  <a:pt x="1133" y="4426"/>
                </a:lnTo>
                <a:lnTo>
                  <a:pt x="1157" y="4376"/>
                </a:lnTo>
                <a:lnTo>
                  <a:pt x="1157" y="4311"/>
                </a:lnTo>
                <a:lnTo>
                  <a:pt x="1122" y="4146"/>
                </a:lnTo>
                <a:lnTo>
                  <a:pt x="934" y="3978"/>
                </a:lnTo>
                <a:lnTo>
                  <a:pt x="793" y="3928"/>
                </a:lnTo>
                <a:lnTo>
                  <a:pt x="793" y="3863"/>
                </a:lnTo>
                <a:lnTo>
                  <a:pt x="828" y="3630"/>
                </a:lnTo>
                <a:lnTo>
                  <a:pt x="807" y="3565"/>
                </a:lnTo>
                <a:lnTo>
                  <a:pt x="771" y="3531"/>
                </a:lnTo>
                <a:lnTo>
                  <a:pt x="758" y="3481"/>
                </a:lnTo>
                <a:lnTo>
                  <a:pt x="747" y="3251"/>
                </a:lnTo>
                <a:lnTo>
                  <a:pt x="701" y="3083"/>
                </a:lnTo>
                <a:lnTo>
                  <a:pt x="302" y="2785"/>
                </a:lnTo>
                <a:lnTo>
                  <a:pt x="140" y="2754"/>
                </a:lnTo>
                <a:lnTo>
                  <a:pt x="175" y="2734"/>
                </a:lnTo>
                <a:lnTo>
                  <a:pt x="210" y="2703"/>
                </a:lnTo>
                <a:lnTo>
                  <a:pt x="245" y="2653"/>
                </a:lnTo>
                <a:lnTo>
                  <a:pt x="280" y="2585"/>
                </a:lnTo>
                <a:lnTo>
                  <a:pt x="326" y="2535"/>
                </a:lnTo>
                <a:lnTo>
                  <a:pt x="361" y="2504"/>
                </a:lnTo>
                <a:lnTo>
                  <a:pt x="396" y="2405"/>
                </a:lnTo>
                <a:lnTo>
                  <a:pt x="186" y="2137"/>
                </a:lnTo>
                <a:lnTo>
                  <a:pt x="0" y="2072"/>
                </a:lnTo>
                <a:lnTo>
                  <a:pt x="10" y="2022"/>
                </a:lnTo>
                <a:lnTo>
                  <a:pt x="57" y="1973"/>
                </a:lnTo>
                <a:lnTo>
                  <a:pt x="175" y="1907"/>
                </a:lnTo>
                <a:lnTo>
                  <a:pt x="291" y="1839"/>
                </a:lnTo>
                <a:lnTo>
                  <a:pt x="407" y="1774"/>
                </a:lnTo>
                <a:lnTo>
                  <a:pt x="443" y="1758"/>
                </a:lnTo>
                <a:lnTo>
                  <a:pt x="491" y="1740"/>
                </a:lnTo>
                <a:lnTo>
                  <a:pt x="537" y="1724"/>
                </a:lnTo>
                <a:lnTo>
                  <a:pt x="572" y="1690"/>
                </a:lnTo>
                <a:lnTo>
                  <a:pt x="596" y="1609"/>
                </a:lnTo>
                <a:lnTo>
                  <a:pt x="607" y="1559"/>
                </a:lnTo>
                <a:lnTo>
                  <a:pt x="618" y="1392"/>
                </a:lnTo>
                <a:lnTo>
                  <a:pt x="631" y="1227"/>
                </a:lnTo>
                <a:lnTo>
                  <a:pt x="666" y="1028"/>
                </a:lnTo>
                <a:lnTo>
                  <a:pt x="723" y="944"/>
                </a:lnTo>
                <a:lnTo>
                  <a:pt x="758" y="894"/>
                </a:lnTo>
                <a:lnTo>
                  <a:pt x="793" y="863"/>
                </a:lnTo>
                <a:lnTo>
                  <a:pt x="828" y="863"/>
                </a:lnTo>
                <a:lnTo>
                  <a:pt x="864" y="879"/>
                </a:lnTo>
                <a:lnTo>
                  <a:pt x="899" y="879"/>
                </a:lnTo>
                <a:lnTo>
                  <a:pt x="947" y="863"/>
                </a:lnTo>
                <a:lnTo>
                  <a:pt x="1063" y="829"/>
                </a:lnTo>
                <a:lnTo>
                  <a:pt x="1179" y="795"/>
                </a:lnTo>
                <a:lnTo>
                  <a:pt x="1344" y="764"/>
                </a:lnTo>
                <a:lnTo>
                  <a:pt x="1460" y="745"/>
                </a:lnTo>
                <a:lnTo>
                  <a:pt x="1508" y="764"/>
                </a:lnTo>
                <a:lnTo>
                  <a:pt x="1554" y="779"/>
                </a:lnTo>
                <a:lnTo>
                  <a:pt x="1589" y="829"/>
                </a:lnTo>
                <a:lnTo>
                  <a:pt x="1636" y="1028"/>
                </a:lnTo>
                <a:lnTo>
                  <a:pt x="1672" y="1193"/>
                </a:lnTo>
                <a:lnTo>
                  <a:pt x="1720" y="1143"/>
                </a:lnTo>
                <a:lnTo>
                  <a:pt x="1755" y="1143"/>
                </a:lnTo>
                <a:lnTo>
                  <a:pt x="1812" y="1128"/>
                </a:lnTo>
                <a:lnTo>
                  <a:pt x="1930" y="1078"/>
                </a:lnTo>
                <a:lnTo>
                  <a:pt x="2047" y="879"/>
                </a:lnTo>
                <a:lnTo>
                  <a:pt x="2093" y="845"/>
                </a:lnTo>
                <a:lnTo>
                  <a:pt x="2128" y="814"/>
                </a:lnTo>
                <a:lnTo>
                  <a:pt x="2176" y="779"/>
                </a:lnTo>
                <a:lnTo>
                  <a:pt x="2246" y="714"/>
                </a:lnTo>
                <a:lnTo>
                  <a:pt x="2281" y="696"/>
                </a:lnTo>
                <a:lnTo>
                  <a:pt x="2327" y="696"/>
                </a:lnTo>
                <a:lnTo>
                  <a:pt x="2362" y="696"/>
                </a:lnTo>
                <a:lnTo>
                  <a:pt x="2422" y="745"/>
                </a:lnTo>
                <a:lnTo>
                  <a:pt x="2468" y="779"/>
                </a:lnTo>
                <a:lnTo>
                  <a:pt x="2503" y="814"/>
                </a:lnTo>
                <a:lnTo>
                  <a:pt x="2538" y="829"/>
                </a:lnTo>
                <a:lnTo>
                  <a:pt x="2584" y="845"/>
                </a:lnTo>
                <a:lnTo>
                  <a:pt x="2632" y="879"/>
                </a:lnTo>
                <a:lnTo>
                  <a:pt x="2689" y="913"/>
                </a:lnTo>
                <a:lnTo>
                  <a:pt x="2724" y="929"/>
                </a:lnTo>
                <a:lnTo>
                  <a:pt x="2748" y="978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60880" y="1509840"/>
            <a:ext cx="22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27760" y="25765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267080"/>
            <a:ext cx="2438640" cy="1905480"/>
          </a:xfrm>
          <a:custGeom>
            <a:avLst/>
            <a:gdLst/>
            <a:ahLst/>
            <a:rect l="0" t="0" r="r" b="b"/>
            <a:pathLst>
              <a:path fill="none" w="6774" h="5293">
                <a:moveTo>
                  <a:pt x="2836" y="941"/>
                </a:moveTo>
                <a:lnTo>
                  <a:pt x="2884" y="860"/>
                </a:lnTo>
                <a:lnTo>
                  <a:pt x="2933" y="669"/>
                </a:lnTo>
                <a:lnTo>
                  <a:pt x="2970" y="448"/>
                </a:lnTo>
                <a:lnTo>
                  <a:pt x="3017" y="256"/>
                </a:lnTo>
                <a:lnTo>
                  <a:pt x="3053" y="191"/>
                </a:lnTo>
                <a:lnTo>
                  <a:pt x="3101" y="143"/>
                </a:lnTo>
                <a:lnTo>
                  <a:pt x="3151" y="95"/>
                </a:lnTo>
                <a:lnTo>
                  <a:pt x="3198" y="47"/>
                </a:lnTo>
                <a:lnTo>
                  <a:pt x="3246" y="32"/>
                </a:lnTo>
                <a:lnTo>
                  <a:pt x="3296" y="17"/>
                </a:lnTo>
                <a:lnTo>
                  <a:pt x="3343" y="0"/>
                </a:lnTo>
                <a:lnTo>
                  <a:pt x="3392" y="0"/>
                </a:lnTo>
                <a:lnTo>
                  <a:pt x="3441" y="0"/>
                </a:lnTo>
                <a:lnTo>
                  <a:pt x="3478" y="17"/>
                </a:lnTo>
                <a:lnTo>
                  <a:pt x="3525" y="17"/>
                </a:lnTo>
                <a:lnTo>
                  <a:pt x="3561" y="32"/>
                </a:lnTo>
                <a:lnTo>
                  <a:pt x="3598" y="47"/>
                </a:lnTo>
                <a:lnTo>
                  <a:pt x="3634" y="47"/>
                </a:lnTo>
                <a:lnTo>
                  <a:pt x="3670" y="65"/>
                </a:lnTo>
                <a:lnTo>
                  <a:pt x="3718" y="95"/>
                </a:lnTo>
                <a:lnTo>
                  <a:pt x="3754" y="113"/>
                </a:lnTo>
                <a:lnTo>
                  <a:pt x="3804" y="143"/>
                </a:lnTo>
                <a:lnTo>
                  <a:pt x="3876" y="191"/>
                </a:lnTo>
                <a:lnTo>
                  <a:pt x="3924" y="239"/>
                </a:lnTo>
                <a:lnTo>
                  <a:pt x="3971" y="256"/>
                </a:lnTo>
                <a:lnTo>
                  <a:pt x="4021" y="286"/>
                </a:lnTo>
                <a:lnTo>
                  <a:pt x="4069" y="319"/>
                </a:lnTo>
                <a:lnTo>
                  <a:pt x="4116" y="382"/>
                </a:lnTo>
                <a:lnTo>
                  <a:pt x="4130" y="430"/>
                </a:lnTo>
                <a:lnTo>
                  <a:pt x="4152" y="478"/>
                </a:lnTo>
                <a:lnTo>
                  <a:pt x="4189" y="543"/>
                </a:lnTo>
                <a:lnTo>
                  <a:pt x="4225" y="558"/>
                </a:lnTo>
                <a:lnTo>
                  <a:pt x="4250" y="606"/>
                </a:lnTo>
                <a:lnTo>
                  <a:pt x="4286" y="764"/>
                </a:lnTo>
                <a:lnTo>
                  <a:pt x="4311" y="812"/>
                </a:lnTo>
                <a:lnTo>
                  <a:pt x="4347" y="845"/>
                </a:lnTo>
                <a:lnTo>
                  <a:pt x="4395" y="893"/>
                </a:lnTo>
                <a:lnTo>
                  <a:pt x="4431" y="956"/>
                </a:lnTo>
                <a:lnTo>
                  <a:pt x="4478" y="989"/>
                </a:lnTo>
                <a:lnTo>
                  <a:pt x="4528" y="1021"/>
                </a:lnTo>
                <a:lnTo>
                  <a:pt x="4576" y="1051"/>
                </a:lnTo>
                <a:lnTo>
                  <a:pt x="4612" y="1084"/>
                </a:lnTo>
                <a:lnTo>
                  <a:pt x="4659" y="1099"/>
                </a:lnTo>
                <a:lnTo>
                  <a:pt x="4696" y="1117"/>
                </a:lnTo>
                <a:lnTo>
                  <a:pt x="4732" y="1117"/>
                </a:lnTo>
                <a:lnTo>
                  <a:pt x="4877" y="1117"/>
                </a:lnTo>
                <a:lnTo>
                  <a:pt x="4913" y="1099"/>
                </a:lnTo>
                <a:lnTo>
                  <a:pt x="4963" y="1084"/>
                </a:lnTo>
                <a:lnTo>
                  <a:pt x="4999" y="1084"/>
                </a:lnTo>
                <a:lnTo>
                  <a:pt x="5144" y="1084"/>
                </a:lnTo>
                <a:lnTo>
                  <a:pt x="5191" y="1069"/>
                </a:lnTo>
                <a:lnTo>
                  <a:pt x="5336" y="1036"/>
                </a:lnTo>
                <a:lnTo>
                  <a:pt x="5456" y="1021"/>
                </a:lnTo>
                <a:lnTo>
                  <a:pt x="5506" y="1021"/>
                </a:lnTo>
                <a:lnTo>
                  <a:pt x="5554" y="1003"/>
                </a:lnTo>
                <a:lnTo>
                  <a:pt x="5699" y="974"/>
                </a:lnTo>
                <a:lnTo>
                  <a:pt x="5843" y="956"/>
                </a:lnTo>
                <a:lnTo>
                  <a:pt x="5988" y="941"/>
                </a:lnTo>
                <a:lnTo>
                  <a:pt x="6025" y="926"/>
                </a:lnTo>
                <a:lnTo>
                  <a:pt x="6061" y="908"/>
                </a:lnTo>
                <a:lnTo>
                  <a:pt x="6097" y="908"/>
                </a:lnTo>
                <a:lnTo>
                  <a:pt x="6217" y="908"/>
                </a:lnTo>
                <a:lnTo>
                  <a:pt x="6387" y="926"/>
                </a:lnTo>
                <a:lnTo>
                  <a:pt x="6434" y="974"/>
                </a:lnTo>
                <a:lnTo>
                  <a:pt x="6459" y="1021"/>
                </a:lnTo>
                <a:lnTo>
                  <a:pt x="6484" y="1069"/>
                </a:lnTo>
                <a:lnTo>
                  <a:pt x="6484" y="1117"/>
                </a:lnTo>
                <a:lnTo>
                  <a:pt x="6495" y="1180"/>
                </a:lnTo>
                <a:lnTo>
                  <a:pt x="6507" y="1339"/>
                </a:lnTo>
                <a:lnTo>
                  <a:pt x="6520" y="1405"/>
                </a:lnTo>
                <a:lnTo>
                  <a:pt x="6543" y="1453"/>
                </a:lnTo>
                <a:lnTo>
                  <a:pt x="6579" y="1611"/>
                </a:lnTo>
                <a:lnTo>
                  <a:pt x="6724" y="1802"/>
                </a:lnTo>
                <a:lnTo>
                  <a:pt x="6774" y="1993"/>
                </a:lnTo>
                <a:lnTo>
                  <a:pt x="6760" y="2074"/>
                </a:lnTo>
                <a:lnTo>
                  <a:pt x="6760" y="2122"/>
                </a:lnTo>
                <a:lnTo>
                  <a:pt x="6701" y="2200"/>
                </a:lnTo>
                <a:lnTo>
                  <a:pt x="6676" y="2247"/>
                </a:lnTo>
                <a:lnTo>
                  <a:pt x="6676" y="2295"/>
                </a:lnTo>
                <a:lnTo>
                  <a:pt x="6676" y="2457"/>
                </a:lnTo>
                <a:lnTo>
                  <a:pt x="6713" y="2519"/>
                </a:lnTo>
                <a:lnTo>
                  <a:pt x="6713" y="2567"/>
                </a:lnTo>
                <a:lnTo>
                  <a:pt x="6665" y="2663"/>
                </a:lnTo>
                <a:lnTo>
                  <a:pt x="6615" y="2854"/>
                </a:lnTo>
                <a:lnTo>
                  <a:pt x="6593" y="2917"/>
                </a:lnTo>
                <a:lnTo>
                  <a:pt x="6557" y="2982"/>
                </a:lnTo>
                <a:lnTo>
                  <a:pt x="6507" y="3174"/>
                </a:lnTo>
                <a:lnTo>
                  <a:pt x="6470" y="3365"/>
                </a:lnTo>
                <a:lnTo>
                  <a:pt x="6459" y="3523"/>
                </a:lnTo>
                <a:lnTo>
                  <a:pt x="6470" y="3571"/>
                </a:lnTo>
                <a:lnTo>
                  <a:pt x="6459" y="3619"/>
                </a:lnTo>
                <a:lnTo>
                  <a:pt x="6448" y="3667"/>
                </a:lnTo>
                <a:lnTo>
                  <a:pt x="6434" y="3729"/>
                </a:lnTo>
                <a:lnTo>
                  <a:pt x="6434" y="3777"/>
                </a:lnTo>
                <a:lnTo>
                  <a:pt x="6398" y="3873"/>
                </a:lnTo>
                <a:lnTo>
                  <a:pt x="6375" y="4035"/>
                </a:lnTo>
                <a:lnTo>
                  <a:pt x="6375" y="4194"/>
                </a:lnTo>
                <a:lnTo>
                  <a:pt x="6375" y="4256"/>
                </a:lnTo>
                <a:lnTo>
                  <a:pt x="6375" y="4322"/>
                </a:lnTo>
                <a:lnTo>
                  <a:pt x="6398" y="4513"/>
                </a:lnTo>
                <a:lnTo>
                  <a:pt x="6398" y="4591"/>
                </a:lnTo>
                <a:lnTo>
                  <a:pt x="6387" y="4657"/>
                </a:lnTo>
                <a:lnTo>
                  <a:pt x="6362" y="4719"/>
                </a:lnTo>
                <a:lnTo>
                  <a:pt x="6314" y="4911"/>
                </a:lnTo>
                <a:lnTo>
                  <a:pt x="6194" y="5069"/>
                </a:lnTo>
                <a:lnTo>
                  <a:pt x="6144" y="5102"/>
                </a:lnTo>
                <a:lnTo>
                  <a:pt x="6097" y="5135"/>
                </a:lnTo>
                <a:lnTo>
                  <a:pt x="5927" y="5165"/>
                </a:lnTo>
                <a:lnTo>
                  <a:pt x="5782" y="5212"/>
                </a:lnTo>
                <a:lnTo>
                  <a:pt x="5615" y="5245"/>
                </a:lnTo>
                <a:lnTo>
                  <a:pt x="5565" y="5260"/>
                </a:lnTo>
                <a:lnTo>
                  <a:pt x="5445" y="5293"/>
                </a:lnTo>
                <a:lnTo>
                  <a:pt x="5384" y="5278"/>
                </a:lnTo>
                <a:lnTo>
                  <a:pt x="5239" y="5230"/>
                </a:lnTo>
                <a:lnTo>
                  <a:pt x="5071" y="5183"/>
                </a:lnTo>
                <a:lnTo>
                  <a:pt x="4949" y="5117"/>
                </a:lnTo>
                <a:lnTo>
                  <a:pt x="4804" y="5069"/>
                </a:lnTo>
                <a:lnTo>
                  <a:pt x="4732" y="5054"/>
                </a:lnTo>
                <a:lnTo>
                  <a:pt x="4539" y="5087"/>
                </a:lnTo>
                <a:lnTo>
                  <a:pt x="4419" y="5102"/>
                </a:lnTo>
                <a:lnTo>
                  <a:pt x="4383" y="5135"/>
                </a:lnTo>
                <a:lnTo>
                  <a:pt x="4311" y="5198"/>
                </a:lnTo>
                <a:lnTo>
                  <a:pt x="4250" y="5198"/>
                </a:lnTo>
                <a:lnTo>
                  <a:pt x="4105" y="5135"/>
                </a:lnTo>
                <a:lnTo>
                  <a:pt x="3912" y="4944"/>
                </a:lnTo>
                <a:lnTo>
                  <a:pt x="3767" y="4911"/>
                </a:lnTo>
                <a:lnTo>
                  <a:pt x="3718" y="4896"/>
                </a:lnTo>
                <a:lnTo>
                  <a:pt x="3550" y="4878"/>
                </a:lnTo>
                <a:lnTo>
                  <a:pt x="3428" y="4878"/>
                </a:lnTo>
                <a:lnTo>
                  <a:pt x="3392" y="4878"/>
                </a:lnTo>
                <a:lnTo>
                  <a:pt x="3343" y="4926"/>
                </a:lnTo>
                <a:lnTo>
                  <a:pt x="3296" y="4973"/>
                </a:lnTo>
                <a:lnTo>
                  <a:pt x="3173" y="5006"/>
                </a:lnTo>
                <a:lnTo>
                  <a:pt x="3006" y="5039"/>
                </a:lnTo>
                <a:lnTo>
                  <a:pt x="2789" y="5021"/>
                </a:lnTo>
                <a:lnTo>
                  <a:pt x="2546" y="4973"/>
                </a:lnTo>
                <a:lnTo>
                  <a:pt x="2304" y="4944"/>
                </a:lnTo>
                <a:lnTo>
                  <a:pt x="2257" y="4944"/>
                </a:lnTo>
                <a:lnTo>
                  <a:pt x="2220" y="4944"/>
                </a:lnTo>
                <a:lnTo>
                  <a:pt x="2100" y="4944"/>
                </a:lnTo>
                <a:lnTo>
                  <a:pt x="2051" y="4944"/>
                </a:lnTo>
                <a:lnTo>
                  <a:pt x="1833" y="4944"/>
                </a:lnTo>
                <a:lnTo>
                  <a:pt x="1688" y="4944"/>
                </a:lnTo>
                <a:lnTo>
                  <a:pt x="1652" y="4944"/>
                </a:lnTo>
                <a:lnTo>
                  <a:pt x="1605" y="4973"/>
                </a:lnTo>
                <a:lnTo>
                  <a:pt x="1435" y="4973"/>
                </a:lnTo>
                <a:lnTo>
                  <a:pt x="1170" y="4973"/>
                </a:lnTo>
                <a:lnTo>
                  <a:pt x="1122" y="4959"/>
                </a:lnTo>
                <a:lnTo>
                  <a:pt x="1073" y="4800"/>
                </a:lnTo>
                <a:lnTo>
                  <a:pt x="1086" y="4543"/>
                </a:lnTo>
                <a:lnTo>
                  <a:pt x="1122" y="4385"/>
                </a:lnTo>
                <a:lnTo>
                  <a:pt x="1134" y="4322"/>
                </a:lnTo>
                <a:lnTo>
                  <a:pt x="1170" y="4256"/>
                </a:lnTo>
                <a:lnTo>
                  <a:pt x="1195" y="4209"/>
                </a:lnTo>
                <a:lnTo>
                  <a:pt x="1195" y="4146"/>
                </a:lnTo>
                <a:lnTo>
                  <a:pt x="1159" y="3987"/>
                </a:lnTo>
                <a:lnTo>
                  <a:pt x="964" y="3825"/>
                </a:lnTo>
                <a:lnTo>
                  <a:pt x="819" y="3777"/>
                </a:lnTo>
                <a:lnTo>
                  <a:pt x="819" y="3715"/>
                </a:lnTo>
                <a:lnTo>
                  <a:pt x="855" y="3490"/>
                </a:lnTo>
                <a:lnTo>
                  <a:pt x="833" y="3428"/>
                </a:lnTo>
                <a:lnTo>
                  <a:pt x="796" y="3395"/>
                </a:lnTo>
                <a:lnTo>
                  <a:pt x="783" y="3347"/>
                </a:lnTo>
                <a:lnTo>
                  <a:pt x="771" y="3126"/>
                </a:lnTo>
                <a:lnTo>
                  <a:pt x="724" y="2965"/>
                </a:lnTo>
                <a:lnTo>
                  <a:pt x="312" y="2678"/>
                </a:lnTo>
                <a:lnTo>
                  <a:pt x="144" y="2648"/>
                </a:lnTo>
                <a:lnTo>
                  <a:pt x="181" y="2630"/>
                </a:lnTo>
                <a:lnTo>
                  <a:pt x="217" y="2600"/>
                </a:lnTo>
                <a:lnTo>
                  <a:pt x="253" y="2552"/>
                </a:lnTo>
                <a:lnTo>
                  <a:pt x="289" y="2486"/>
                </a:lnTo>
                <a:lnTo>
                  <a:pt x="337" y="2439"/>
                </a:lnTo>
                <a:lnTo>
                  <a:pt x="373" y="2409"/>
                </a:lnTo>
                <a:lnTo>
                  <a:pt x="409" y="2313"/>
                </a:lnTo>
                <a:lnTo>
                  <a:pt x="192" y="2056"/>
                </a:lnTo>
                <a:lnTo>
                  <a:pt x="0" y="1993"/>
                </a:lnTo>
                <a:lnTo>
                  <a:pt x="11" y="1946"/>
                </a:lnTo>
                <a:lnTo>
                  <a:pt x="58" y="1898"/>
                </a:lnTo>
                <a:lnTo>
                  <a:pt x="181" y="1835"/>
                </a:lnTo>
                <a:lnTo>
                  <a:pt x="301" y="1769"/>
                </a:lnTo>
                <a:lnTo>
                  <a:pt x="421" y="1707"/>
                </a:lnTo>
                <a:lnTo>
                  <a:pt x="457" y="1692"/>
                </a:lnTo>
                <a:lnTo>
                  <a:pt x="507" y="1674"/>
                </a:lnTo>
                <a:lnTo>
                  <a:pt x="554" y="1659"/>
                </a:lnTo>
                <a:lnTo>
                  <a:pt x="590" y="1626"/>
                </a:lnTo>
                <a:lnTo>
                  <a:pt x="615" y="1548"/>
                </a:lnTo>
                <a:lnTo>
                  <a:pt x="627" y="1500"/>
                </a:lnTo>
                <a:lnTo>
                  <a:pt x="638" y="1339"/>
                </a:lnTo>
                <a:lnTo>
                  <a:pt x="651" y="1180"/>
                </a:lnTo>
                <a:lnTo>
                  <a:pt x="688" y="989"/>
                </a:lnTo>
                <a:lnTo>
                  <a:pt x="747" y="908"/>
                </a:lnTo>
                <a:lnTo>
                  <a:pt x="783" y="860"/>
                </a:lnTo>
                <a:lnTo>
                  <a:pt x="819" y="830"/>
                </a:lnTo>
                <a:lnTo>
                  <a:pt x="855" y="830"/>
                </a:lnTo>
                <a:lnTo>
                  <a:pt x="891" y="845"/>
                </a:lnTo>
                <a:lnTo>
                  <a:pt x="928" y="845"/>
                </a:lnTo>
                <a:lnTo>
                  <a:pt x="977" y="830"/>
                </a:lnTo>
                <a:lnTo>
                  <a:pt x="1097" y="797"/>
                </a:lnTo>
                <a:lnTo>
                  <a:pt x="1217" y="764"/>
                </a:lnTo>
                <a:lnTo>
                  <a:pt x="1387" y="735"/>
                </a:lnTo>
                <a:lnTo>
                  <a:pt x="1507" y="717"/>
                </a:lnTo>
                <a:lnTo>
                  <a:pt x="1557" y="735"/>
                </a:lnTo>
                <a:lnTo>
                  <a:pt x="1605" y="749"/>
                </a:lnTo>
                <a:lnTo>
                  <a:pt x="1641" y="797"/>
                </a:lnTo>
                <a:lnTo>
                  <a:pt x="1688" y="989"/>
                </a:lnTo>
                <a:lnTo>
                  <a:pt x="1725" y="1147"/>
                </a:lnTo>
                <a:lnTo>
                  <a:pt x="1774" y="1099"/>
                </a:lnTo>
                <a:lnTo>
                  <a:pt x="1811" y="1099"/>
                </a:lnTo>
                <a:lnTo>
                  <a:pt x="1869" y="1084"/>
                </a:lnTo>
                <a:lnTo>
                  <a:pt x="1992" y="1036"/>
                </a:lnTo>
                <a:lnTo>
                  <a:pt x="2112" y="845"/>
                </a:lnTo>
                <a:lnTo>
                  <a:pt x="2159" y="812"/>
                </a:lnTo>
                <a:lnTo>
                  <a:pt x="2195" y="782"/>
                </a:lnTo>
                <a:lnTo>
                  <a:pt x="2245" y="749"/>
                </a:lnTo>
                <a:lnTo>
                  <a:pt x="2318" y="687"/>
                </a:lnTo>
                <a:lnTo>
                  <a:pt x="2354" y="669"/>
                </a:lnTo>
                <a:lnTo>
                  <a:pt x="2401" y="669"/>
                </a:lnTo>
                <a:lnTo>
                  <a:pt x="2438" y="669"/>
                </a:lnTo>
                <a:lnTo>
                  <a:pt x="2499" y="717"/>
                </a:lnTo>
                <a:lnTo>
                  <a:pt x="2546" y="749"/>
                </a:lnTo>
                <a:lnTo>
                  <a:pt x="2583" y="782"/>
                </a:lnTo>
                <a:lnTo>
                  <a:pt x="2619" y="797"/>
                </a:lnTo>
                <a:lnTo>
                  <a:pt x="2666" y="812"/>
                </a:lnTo>
                <a:lnTo>
                  <a:pt x="2716" y="845"/>
                </a:lnTo>
                <a:lnTo>
                  <a:pt x="2775" y="878"/>
                </a:lnTo>
                <a:lnTo>
                  <a:pt x="2811" y="893"/>
                </a:lnTo>
                <a:lnTo>
                  <a:pt x="2836" y="941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346480" y="3871800"/>
            <a:ext cx="93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55760" y="4633920"/>
            <a:ext cx="130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52280" cy="144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718080" y="1890720"/>
            <a:ext cx="131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_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514600"/>
            <a:ext cx="2286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193840" y="303372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429000" y="1981080"/>
            <a:ext cx="763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505320" y="1981080"/>
            <a:ext cx="759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81080" y="2895480"/>
            <a:ext cx="3049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3048120"/>
            <a:ext cx="3049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84360" y="181440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56360" y="2881440"/>
            <a:ext cx="932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|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56360" y="3262320"/>
            <a:ext cx="12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| 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60680" y="5014800"/>
            <a:ext cx="137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|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|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127160" y="366840"/>
            <a:ext cx="335772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libra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* book_list[100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ower* customers[99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issue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//end of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;// end of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546880" y="1814400"/>
            <a:ext cx="3408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  What’s the dif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“Object lifeti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838080" y="2133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16th Jan - 2:00-5:0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 404, 405 &amp; 416 (BUSINESS SCH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web on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 in NEX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 (by 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d hand Amstrad 1640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tutorials (BA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eek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detail on Bo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RC cards translate to Bo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 the above with our “Lecturer Booking Syst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5040" y="138240"/>
            <a:ext cx="187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6480" y="944640"/>
            <a:ext cx="155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79840" y="944640"/>
            <a:ext cx="1251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80040" y="944640"/>
            <a:ext cx="201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4240" y="30240"/>
            <a:ext cx="123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use-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5040" y="227160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0880" y="2163600"/>
            <a:ext cx="1073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po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03880" y="2697120"/>
            <a:ext cx="1860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lass 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75080" y="3382920"/>
            <a:ext cx="172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CR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79840" y="3611520"/>
            <a:ext cx="155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RC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79840" y="40687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las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18480" y="2271600"/>
            <a:ext cx="1995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/functio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040" y="4633920"/>
            <a:ext cx="10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18480" y="4633920"/>
            <a:ext cx="20383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uctur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04080" y="6049800"/>
            <a:ext cx="1355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299360" y="6278400"/>
            <a:ext cx="64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93840" y="5821200"/>
            <a:ext cx="2189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JSP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89280" y="4678200"/>
            <a:ext cx="2443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Booch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4983120"/>
            <a:ext cx="1860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Boo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76320"/>
            <a:ext cx="861048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610480" cy="2209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572000"/>
            <a:ext cx="8610480" cy="21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52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152280"/>
            <a:ext cx="198144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52280"/>
            <a:ext cx="403884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600200"/>
            <a:ext cx="198144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523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520" y="1600200"/>
            <a:ext cx="205740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56160" y="6049800"/>
            <a:ext cx="140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4343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6477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918480" y="138240"/>
            <a:ext cx="19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o 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+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1760" y="2471760"/>
            <a:ext cx="4750200" cy="2811960"/>
          </a:xfrm>
          <a:custGeom>
            <a:avLst/>
            <a:gdLst/>
            <a:ahLst/>
            <a:rect l="0" t="0" r="r" b="b"/>
            <a:pathLst>
              <a:path fill="none" w="13195" h="7811">
                <a:moveTo>
                  <a:pt x="5526" y="1389"/>
                </a:moveTo>
                <a:lnTo>
                  <a:pt x="5618" y="1270"/>
                </a:lnTo>
                <a:lnTo>
                  <a:pt x="5715" y="987"/>
                </a:lnTo>
                <a:lnTo>
                  <a:pt x="5786" y="661"/>
                </a:lnTo>
                <a:lnTo>
                  <a:pt x="5879" y="379"/>
                </a:lnTo>
                <a:lnTo>
                  <a:pt x="5949" y="282"/>
                </a:lnTo>
                <a:lnTo>
                  <a:pt x="6042" y="211"/>
                </a:lnTo>
                <a:lnTo>
                  <a:pt x="6139" y="141"/>
                </a:lnTo>
                <a:lnTo>
                  <a:pt x="6231" y="70"/>
                </a:lnTo>
                <a:lnTo>
                  <a:pt x="6324" y="48"/>
                </a:lnTo>
                <a:lnTo>
                  <a:pt x="6421" y="26"/>
                </a:lnTo>
                <a:lnTo>
                  <a:pt x="6514" y="0"/>
                </a:lnTo>
                <a:lnTo>
                  <a:pt x="6606" y="0"/>
                </a:lnTo>
                <a:lnTo>
                  <a:pt x="6703" y="0"/>
                </a:lnTo>
                <a:lnTo>
                  <a:pt x="6774" y="26"/>
                </a:lnTo>
                <a:lnTo>
                  <a:pt x="6866" y="26"/>
                </a:lnTo>
                <a:lnTo>
                  <a:pt x="6937" y="48"/>
                </a:lnTo>
                <a:lnTo>
                  <a:pt x="7008" y="70"/>
                </a:lnTo>
                <a:lnTo>
                  <a:pt x="7078" y="70"/>
                </a:lnTo>
                <a:lnTo>
                  <a:pt x="7149" y="97"/>
                </a:lnTo>
                <a:lnTo>
                  <a:pt x="7241" y="141"/>
                </a:lnTo>
                <a:lnTo>
                  <a:pt x="7312" y="167"/>
                </a:lnTo>
                <a:lnTo>
                  <a:pt x="7409" y="211"/>
                </a:lnTo>
                <a:lnTo>
                  <a:pt x="7550" y="282"/>
                </a:lnTo>
                <a:lnTo>
                  <a:pt x="7643" y="352"/>
                </a:lnTo>
                <a:lnTo>
                  <a:pt x="7735" y="379"/>
                </a:lnTo>
                <a:lnTo>
                  <a:pt x="7832" y="423"/>
                </a:lnTo>
                <a:lnTo>
                  <a:pt x="7925" y="471"/>
                </a:lnTo>
                <a:lnTo>
                  <a:pt x="8017" y="564"/>
                </a:lnTo>
                <a:lnTo>
                  <a:pt x="8044" y="635"/>
                </a:lnTo>
                <a:lnTo>
                  <a:pt x="8088" y="705"/>
                </a:lnTo>
                <a:lnTo>
                  <a:pt x="8158" y="802"/>
                </a:lnTo>
                <a:lnTo>
                  <a:pt x="8229" y="824"/>
                </a:lnTo>
                <a:lnTo>
                  <a:pt x="8278" y="895"/>
                </a:lnTo>
                <a:lnTo>
                  <a:pt x="8348" y="1128"/>
                </a:lnTo>
                <a:lnTo>
                  <a:pt x="8397" y="1199"/>
                </a:lnTo>
                <a:lnTo>
                  <a:pt x="8467" y="1247"/>
                </a:lnTo>
                <a:lnTo>
                  <a:pt x="8560" y="1318"/>
                </a:lnTo>
                <a:lnTo>
                  <a:pt x="8630" y="1411"/>
                </a:lnTo>
                <a:lnTo>
                  <a:pt x="8723" y="1459"/>
                </a:lnTo>
                <a:lnTo>
                  <a:pt x="8820" y="1508"/>
                </a:lnTo>
                <a:lnTo>
                  <a:pt x="8913" y="1552"/>
                </a:lnTo>
                <a:lnTo>
                  <a:pt x="8983" y="1600"/>
                </a:lnTo>
                <a:lnTo>
                  <a:pt x="9076" y="1622"/>
                </a:lnTo>
                <a:lnTo>
                  <a:pt x="9146" y="1649"/>
                </a:lnTo>
                <a:lnTo>
                  <a:pt x="9217" y="1649"/>
                </a:lnTo>
                <a:lnTo>
                  <a:pt x="9499" y="1649"/>
                </a:lnTo>
                <a:lnTo>
                  <a:pt x="9570" y="1622"/>
                </a:lnTo>
                <a:lnTo>
                  <a:pt x="9667" y="1600"/>
                </a:lnTo>
                <a:lnTo>
                  <a:pt x="9737" y="1600"/>
                </a:lnTo>
                <a:lnTo>
                  <a:pt x="10020" y="1600"/>
                </a:lnTo>
                <a:lnTo>
                  <a:pt x="10113" y="1578"/>
                </a:lnTo>
                <a:lnTo>
                  <a:pt x="10395" y="1530"/>
                </a:lnTo>
                <a:lnTo>
                  <a:pt x="10629" y="1508"/>
                </a:lnTo>
                <a:lnTo>
                  <a:pt x="10726" y="1508"/>
                </a:lnTo>
                <a:lnTo>
                  <a:pt x="10819" y="1481"/>
                </a:lnTo>
                <a:lnTo>
                  <a:pt x="11101" y="1437"/>
                </a:lnTo>
                <a:lnTo>
                  <a:pt x="11383" y="1411"/>
                </a:lnTo>
                <a:lnTo>
                  <a:pt x="11665" y="1389"/>
                </a:lnTo>
                <a:lnTo>
                  <a:pt x="11736" y="1367"/>
                </a:lnTo>
                <a:lnTo>
                  <a:pt x="11806" y="1340"/>
                </a:lnTo>
                <a:lnTo>
                  <a:pt x="11877" y="1340"/>
                </a:lnTo>
                <a:lnTo>
                  <a:pt x="12111" y="1340"/>
                </a:lnTo>
                <a:lnTo>
                  <a:pt x="12441" y="1367"/>
                </a:lnTo>
                <a:lnTo>
                  <a:pt x="12534" y="1437"/>
                </a:lnTo>
                <a:lnTo>
                  <a:pt x="12582" y="1508"/>
                </a:lnTo>
                <a:lnTo>
                  <a:pt x="12631" y="1578"/>
                </a:lnTo>
                <a:lnTo>
                  <a:pt x="12631" y="1649"/>
                </a:lnTo>
                <a:lnTo>
                  <a:pt x="12653" y="1741"/>
                </a:lnTo>
                <a:lnTo>
                  <a:pt x="12675" y="1976"/>
                </a:lnTo>
                <a:lnTo>
                  <a:pt x="12702" y="2073"/>
                </a:lnTo>
                <a:lnTo>
                  <a:pt x="12746" y="2144"/>
                </a:lnTo>
                <a:lnTo>
                  <a:pt x="12816" y="2377"/>
                </a:lnTo>
                <a:lnTo>
                  <a:pt x="13098" y="2660"/>
                </a:lnTo>
                <a:lnTo>
                  <a:pt x="13195" y="2942"/>
                </a:lnTo>
                <a:lnTo>
                  <a:pt x="13169" y="3061"/>
                </a:lnTo>
                <a:lnTo>
                  <a:pt x="13169" y="3131"/>
                </a:lnTo>
                <a:lnTo>
                  <a:pt x="13054" y="3246"/>
                </a:lnTo>
                <a:lnTo>
                  <a:pt x="13006" y="3317"/>
                </a:lnTo>
                <a:lnTo>
                  <a:pt x="13006" y="3387"/>
                </a:lnTo>
                <a:lnTo>
                  <a:pt x="13006" y="3625"/>
                </a:lnTo>
                <a:lnTo>
                  <a:pt x="13076" y="3718"/>
                </a:lnTo>
                <a:lnTo>
                  <a:pt x="13076" y="3788"/>
                </a:lnTo>
                <a:lnTo>
                  <a:pt x="12984" y="3930"/>
                </a:lnTo>
                <a:lnTo>
                  <a:pt x="12887" y="4212"/>
                </a:lnTo>
                <a:lnTo>
                  <a:pt x="12843" y="4304"/>
                </a:lnTo>
                <a:lnTo>
                  <a:pt x="12772" y="4401"/>
                </a:lnTo>
                <a:lnTo>
                  <a:pt x="12675" y="4684"/>
                </a:lnTo>
                <a:lnTo>
                  <a:pt x="12604" y="4966"/>
                </a:lnTo>
                <a:lnTo>
                  <a:pt x="12582" y="5200"/>
                </a:lnTo>
                <a:lnTo>
                  <a:pt x="12604" y="5270"/>
                </a:lnTo>
                <a:lnTo>
                  <a:pt x="12582" y="5341"/>
                </a:lnTo>
                <a:lnTo>
                  <a:pt x="12560" y="5411"/>
                </a:lnTo>
                <a:lnTo>
                  <a:pt x="12534" y="5504"/>
                </a:lnTo>
                <a:lnTo>
                  <a:pt x="12534" y="5574"/>
                </a:lnTo>
                <a:lnTo>
                  <a:pt x="12463" y="5716"/>
                </a:lnTo>
                <a:lnTo>
                  <a:pt x="12419" y="5955"/>
                </a:lnTo>
                <a:lnTo>
                  <a:pt x="12419" y="6188"/>
                </a:lnTo>
                <a:lnTo>
                  <a:pt x="12419" y="6281"/>
                </a:lnTo>
                <a:lnTo>
                  <a:pt x="12419" y="6378"/>
                </a:lnTo>
                <a:lnTo>
                  <a:pt x="12463" y="6660"/>
                </a:lnTo>
                <a:lnTo>
                  <a:pt x="12463" y="6775"/>
                </a:lnTo>
                <a:lnTo>
                  <a:pt x="12441" y="6872"/>
                </a:lnTo>
                <a:lnTo>
                  <a:pt x="12393" y="6964"/>
                </a:lnTo>
                <a:lnTo>
                  <a:pt x="12300" y="7247"/>
                </a:lnTo>
                <a:lnTo>
                  <a:pt x="12067" y="7480"/>
                </a:lnTo>
                <a:lnTo>
                  <a:pt x="11969" y="7529"/>
                </a:lnTo>
                <a:lnTo>
                  <a:pt x="11877" y="7577"/>
                </a:lnTo>
                <a:lnTo>
                  <a:pt x="11546" y="7622"/>
                </a:lnTo>
                <a:lnTo>
                  <a:pt x="11264" y="7692"/>
                </a:lnTo>
                <a:lnTo>
                  <a:pt x="10938" y="7741"/>
                </a:lnTo>
                <a:lnTo>
                  <a:pt x="10841" y="7763"/>
                </a:lnTo>
                <a:lnTo>
                  <a:pt x="10607" y="7811"/>
                </a:lnTo>
                <a:lnTo>
                  <a:pt x="10488" y="7789"/>
                </a:lnTo>
                <a:lnTo>
                  <a:pt x="10206" y="7719"/>
                </a:lnTo>
                <a:lnTo>
                  <a:pt x="9878" y="7648"/>
                </a:lnTo>
                <a:lnTo>
                  <a:pt x="9640" y="7551"/>
                </a:lnTo>
                <a:lnTo>
                  <a:pt x="9358" y="7480"/>
                </a:lnTo>
                <a:lnTo>
                  <a:pt x="9217" y="7458"/>
                </a:lnTo>
                <a:lnTo>
                  <a:pt x="8842" y="7507"/>
                </a:lnTo>
                <a:lnTo>
                  <a:pt x="8608" y="7529"/>
                </a:lnTo>
                <a:lnTo>
                  <a:pt x="8538" y="7577"/>
                </a:lnTo>
                <a:lnTo>
                  <a:pt x="8397" y="7670"/>
                </a:lnTo>
                <a:lnTo>
                  <a:pt x="8278" y="7670"/>
                </a:lnTo>
                <a:lnTo>
                  <a:pt x="7995" y="7577"/>
                </a:lnTo>
                <a:lnTo>
                  <a:pt x="7620" y="7295"/>
                </a:lnTo>
                <a:lnTo>
                  <a:pt x="7338" y="7247"/>
                </a:lnTo>
                <a:lnTo>
                  <a:pt x="7241" y="7225"/>
                </a:lnTo>
                <a:lnTo>
                  <a:pt x="6915" y="7198"/>
                </a:lnTo>
                <a:lnTo>
                  <a:pt x="6677" y="7198"/>
                </a:lnTo>
                <a:lnTo>
                  <a:pt x="6606" y="7198"/>
                </a:lnTo>
                <a:lnTo>
                  <a:pt x="6514" y="7269"/>
                </a:lnTo>
                <a:lnTo>
                  <a:pt x="6421" y="7339"/>
                </a:lnTo>
                <a:lnTo>
                  <a:pt x="6183" y="7388"/>
                </a:lnTo>
                <a:lnTo>
                  <a:pt x="5857" y="7436"/>
                </a:lnTo>
                <a:lnTo>
                  <a:pt x="5433" y="7410"/>
                </a:lnTo>
                <a:lnTo>
                  <a:pt x="4961" y="7339"/>
                </a:lnTo>
                <a:lnTo>
                  <a:pt x="4490" y="7295"/>
                </a:lnTo>
                <a:lnTo>
                  <a:pt x="4397" y="7295"/>
                </a:lnTo>
                <a:lnTo>
                  <a:pt x="4326" y="7295"/>
                </a:lnTo>
                <a:lnTo>
                  <a:pt x="4093" y="7295"/>
                </a:lnTo>
                <a:lnTo>
                  <a:pt x="3996" y="7295"/>
                </a:lnTo>
                <a:lnTo>
                  <a:pt x="3572" y="7295"/>
                </a:lnTo>
                <a:lnTo>
                  <a:pt x="3289" y="7295"/>
                </a:lnTo>
                <a:lnTo>
                  <a:pt x="3219" y="7295"/>
                </a:lnTo>
                <a:lnTo>
                  <a:pt x="3126" y="7339"/>
                </a:lnTo>
                <a:lnTo>
                  <a:pt x="2795" y="7339"/>
                </a:lnTo>
                <a:lnTo>
                  <a:pt x="2279" y="7339"/>
                </a:lnTo>
                <a:lnTo>
                  <a:pt x="2187" y="7317"/>
                </a:lnTo>
                <a:lnTo>
                  <a:pt x="2090" y="7084"/>
                </a:lnTo>
                <a:lnTo>
                  <a:pt x="2116" y="6704"/>
                </a:lnTo>
                <a:lnTo>
                  <a:pt x="2187" y="6471"/>
                </a:lnTo>
                <a:lnTo>
                  <a:pt x="2209" y="6378"/>
                </a:lnTo>
                <a:lnTo>
                  <a:pt x="2279" y="6281"/>
                </a:lnTo>
                <a:lnTo>
                  <a:pt x="2328" y="6210"/>
                </a:lnTo>
                <a:lnTo>
                  <a:pt x="2328" y="6118"/>
                </a:lnTo>
                <a:lnTo>
                  <a:pt x="2257" y="5884"/>
                </a:lnTo>
                <a:lnTo>
                  <a:pt x="1878" y="5645"/>
                </a:lnTo>
                <a:lnTo>
                  <a:pt x="1596" y="5574"/>
                </a:lnTo>
                <a:lnTo>
                  <a:pt x="1596" y="5482"/>
                </a:lnTo>
                <a:lnTo>
                  <a:pt x="1666" y="5151"/>
                </a:lnTo>
                <a:lnTo>
                  <a:pt x="1622" y="5058"/>
                </a:lnTo>
                <a:lnTo>
                  <a:pt x="1552" y="5010"/>
                </a:lnTo>
                <a:lnTo>
                  <a:pt x="1525" y="4939"/>
                </a:lnTo>
                <a:lnTo>
                  <a:pt x="1503" y="4613"/>
                </a:lnTo>
                <a:lnTo>
                  <a:pt x="1411" y="4375"/>
                </a:lnTo>
                <a:lnTo>
                  <a:pt x="608" y="3952"/>
                </a:lnTo>
                <a:lnTo>
                  <a:pt x="282" y="3908"/>
                </a:lnTo>
                <a:lnTo>
                  <a:pt x="352" y="3881"/>
                </a:lnTo>
                <a:lnTo>
                  <a:pt x="423" y="3837"/>
                </a:lnTo>
                <a:lnTo>
                  <a:pt x="493" y="3766"/>
                </a:lnTo>
                <a:lnTo>
                  <a:pt x="564" y="3669"/>
                </a:lnTo>
                <a:lnTo>
                  <a:pt x="657" y="3599"/>
                </a:lnTo>
                <a:lnTo>
                  <a:pt x="727" y="3555"/>
                </a:lnTo>
                <a:lnTo>
                  <a:pt x="798" y="3414"/>
                </a:lnTo>
                <a:lnTo>
                  <a:pt x="374" y="3034"/>
                </a:lnTo>
                <a:lnTo>
                  <a:pt x="0" y="2942"/>
                </a:lnTo>
                <a:lnTo>
                  <a:pt x="22" y="2871"/>
                </a:lnTo>
                <a:lnTo>
                  <a:pt x="114" y="2801"/>
                </a:lnTo>
                <a:lnTo>
                  <a:pt x="352" y="2708"/>
                </a:lnTo>
                <a:lnTo>
                  <a:pt x="586" y="2611"/>
                </a:lnTo>
                <a:lnTo>
                  <a:pt x="820" y="2518"/>
                </a:lnTo>
                <a:lnTo>
                  <a:pt x="890" y="2496"/>
                </a:lnTo>
                <a:lnTo>
                  <a:pt x="987" y="2470"/>
                </a:lnTo>
                <a:lnTo>
                  <a:pt x="1080" y="2448"/>
                </a:lnTo>
                <a:lnTo>
                  <a:pt x="1150" y="2399"/>
                </a:lnTo>
                <a:lnTo>
                  <a:pt x="1199" y="2285"/>
                </a:lnTo>
                <a:lnTo>
                  <a:pt x="1221" y="2214"/>
                </a:lnTo>
                <a:lnTo>
                  <a:pt x="1243" y="1976"/>
                </a:lnTo>
                <a:lnTo>
                  <a:pt x="1270" y="1741"/>
                </a:lnTo>
                <a:lnTo>
                  <a:pt x="1340" y="1459"/>
                </a:lnTo>
                <a:lnTo>
                  <a:pt x="1455" y="1340"/>
                </a:lnTo>
                <a:lnTo>
                  <a:pt x="1525" y="1270"/>
                </a:lnTo>
                <a:lnTo>
                  <a:pt x="1596" y="1225"/>
                </a:lnTo>
                <a:lnTo>
                  <a:pt x="1666" y="1225"/>
                </a:lnTo>
                <a:lnTo>
                  <a:pt x="1737" y="1247"/>
                </a:lnTo>
                <a:lnTo>
                  <a:pt x="1807" y="1247"/>
                </a:lnTo>
                <a:lnTo>
                  <a:pt x="1905" y="1225"/>
                </a:lnTo>
                <a:lnTo>
                  <a:pt x="2138" y="1177"/>
                </a:lnTo>
                <a:lnTo>
                  <a:pt x="2372" y="1128"/>
                </a:lnTo>
                <a:lnTo>
                  <a:pt x="2703" y="1084"/>
                </a:lnTo>
                <a:lnTo>
                  <a:pt x="2936" y="1058"/>
                </a:lnTo>
                <a:lnTo>
                  <a:pt x="3033" y="1084"/>
                </a:lnTo>
                <a:lnTo>
                  <a:pt x="3126" y="1106"/>
                </a:lnTo>
                <a:lnTo>
                  <a:pt x="3197" y="1177"/>
                </a:lnTo>
                <a:lnTo>
                  <a:pt x="3289" y="1459"/>
                </a:lnTo>
                <a:lnTo>
                  <a:pt x="3361" y="1693"/>
                </a:lnTo>
                <a:lnTo>
                  <a:pt x="3458" y="1622"/>
                </a:lnTo>
                <a:lnTo>
                  <a:pt x="3528" y="1622"/>
                </a:lnTo>
                <a:lnTo>
                  <a:pt x="3643" y="1600"/>
                </a:lnTo>
                <a:lnTo>
                  <a:pt x="3881" y="1530"/>
                </a:lnTo>
                <a:lnTo>
                  <a:pt x="4115" y="1247"/>
                </a:lnTo>
                <a:lnTo>
                  <a:pt x="4207" y="1199"/>
                </a:lnTo>
                <a:lnTo>
                  <a:pt x="4278" y="1155"/>
                </a:lnTo>
                <a:lnTo>
                  <a:pt x="4375" y="1106"/>
                </a:lnTo>
                <a:lnTo>
                  <a:pt x="4516" y="1014"/>
                </a:lnTo>
                <a:lnTo>
                  <a:pt x="4587" y="987"/>
                </a:lnTo>
                <a:lnTo>
                  <a:pt x="4679" y="987"/>
                </a:lnTo>
                <a:lnTo>
                  <a:pt x="4750" y="987"/>
                </a:lnTo>
                <a:lnTo>
                  <a:pt x="4869" y="1058"/>
                </a:lnTo>
                <a:lnTo>
                  <a:pt x="4961" y="1106"/>
                </a:lnTo>
                <a:lnTo>
                  <a:pt x="5032" y="1155"/>
                </a:lnTo>
                <a:lnTo>
                  <a:pt x="5103" y="1177"/>
                </a:lnTo>
                <a:lnTo>
                  <a:pt x="5195" y="1199"/>
                </a:lnTo>
                <a:lnTo>
                  <a:pt x="5292" y="1247"/>
                </a:lnTo>
                <a:lnTo>
                  <a:pt x="5407" y="1296"/>
                </a:lnTo>
                <a:lnTo>
                  <a:pt x="5477" y="1318"/>
                </a:lnTo>
                <a:lnTo>
                  <a:pt x="5526" y="1389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3160" y="3062160"/>
            <a:ext cx="2104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89480" y="3567240"/>
            <a:ext cx="14032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1760" y="2471760"/>
            <a:ext cx="4750200" cy="2811960"/>
          </a:xfrm>
          <a:custGeom>
            <a:avLst/>
            <a:gdLst/>
            <a:ahLst/>
            <a:rect l="0" t="0" r="r" b="b"/>
            <a:pathLst>
              <a:path fill="none" w="13195" h="7811">
                <a:moveTo>
                  <a:pt x="5526" y="1389"/>
                </a:moveTo>
                <a:lnTo>
                  <a:pt x="5618" y="1270"/>
                </a:lnTo>
                <a:lnTo>
                  <a:pt x="5715" y="987"/>
                </a:lnTo>
                <a:lnTo>
                  <a:pt x="5786" y="661"/>
                </a:lnTo>
                <a:lnTo>
                  <a:pt x="5879" y="379"/>
                </a:lnTo>
                <a:lnTo>
                  <a:pt x="5949" y="282"/>
                </a:lnTo>
                <a:lnTo>
                  <a:pt x="6042" y="211"/>
                </a:lnTo>
                <a:lnTo>
                  <a:pt x="6139" y="141"/>
                </a:lnTo>
                <a:lnTo>
                  <a:pt x="6231" y="70"/>
                </a:lnTo>
                <a:lnTo>
                  <a:pt x="6324" y="48"/>
                </a:lnTo>
                <a:lnTo>
                  <a:pt x="6421" y="26"/>
                </a:lnTo>
                <a:lnTo>
                  <a:pt x="6514" y="0"/>
                </a:lnTo>
                <a:lnTo>
                  <a:pt x="6606" y="0"/>
                </a:lnTo>
                <a:lnTo>
                  <a:pt x="6703" y="0"/>
                </a:lnTo>
                <a:lnTo>
                  <a:pt x="6774" y="26"/>
                </a:lnTo>
                <a:lnTo>
                  <a:pt x="6866" y="26"/>
                </a:lnTo>
                <a:lnTo>
                  <a:pt x="6937" y="48"/>
                </a:lnTo>
                <a:lnTo>
                  <a:pt x="7008" y="70"/>
                </a:lnTo>
                <a:lnTo>
                  <a:pt x="7078" y="70"/>
                </a:lnTo>
                <a:lnTo>
                  <a:pt x="7149" y="97"/>
                </a:lnTo>
                <a:lnTo>
                  <a:pt x="7241" y="141"/>
                </a:lnTo>
                <a:lnTo>
                  <a:pt x="7312" y="167"/>
                </a:lnTo>
                <a:lnTo>
                  <a:pt x="7409" y="211"/>
                </a:lnTo>
                <a:lnTo>
                  <a:pt x="7550" y="282"/>
                </a:lnTo>
                <a:lnTo>
                  <a:pt x="7643" y="352"/>
                </a:lnTo>
                <a:lnTo>
                  <a:pt x="7735" y="379"/>
                </a:lnTo>
                <a:lnTo>
                  <a:pt x="7832" y="423"/>
                </a:lnTo>
                <a:lnTo>
                  <a:pt x="7925" y="471"/>
                </a:lnTo>
                <a:lnTo>
                  <a:pt x="8017" y="564"/>
                </a:lnTo>
                <a:lnTo>
                  <a:pt x="8044" y="635"/>
                </a:lnTo>
                <a:lnTo>
                  <a:pt x="8088" y="705"/>
                </a:lnTo>
                <a:lnTo>
                  <a:pt x="8158" y="802"/>
                </a:lnTo>
                <a:lnTo>
                  <a:pt x="8229" y="824"/>
                </a:lnTo>
                <a:lnTo>
                  <a:pt x="8278" y="895"/>
                </a:lnTo>
                <a:lnTo>
                  <a:pt x="8348" y="1128"/>
                </a:lnTo>
                <a:lnTo>
                  <a:pt x="8397" y="1199"/>
                </a:lnTo>
                <a:lnTo>
                  <a:pt x="8467" y="1247"/>
                </a:lnTo>
                <a:lnTo>
                  <a:pt x="8560" y="1318"/>
                </a:lnTo>
                <a:lnTo>
                  <a:pt x="8630" y="1411"/>
                </a:lnTo>
                <a:lnTo>
                  <a:pt x="8723" y="1459"/>
                </a:lnTo>
                <a:lnTo>
                  <a:pt x="8820" y="1508"/>
                </a:lnTo>
                <a:lnTo>
                  <a:pt x="8913" y="1552"/>
                </a:lnTo>
                <a:lnTo>
                  <a:pt x="8983" y="1600"/>
                </a:lnTo>
                <a:lnTo>
                  <a:pt x="9076" y="1622"/>
                </a:lnTo>
                <a:lnTo>
                  <a:pt x="9146" y="1649"/>
                </a:lnTo>
                <a:lnTo>
                  <a:pt x="9217" y="1649"/>
                </a:lnTo>
                <a:lnTo>
                  <a:pt x="9499" y="1649"/>
                </a:lnTo>
                <a:lnTo>
                  <a:pt x="9570" y="1622"/>
                </a:lnTo>
                <a:lnTo>
                  <a:pt x="9667" y="1600"/>
                </a:lnTo>
                <a:lnTo>
                  <a:pt x="9737" y="1600"/>
                </a:lnTo>
                <a:lnTo>
                  <a:pt x="10020" y="1600"/>
                </a:lnTo>
                <a:lnTo>
                  <a:pt x="10113" y="1578"/>
                </a:lnTo>
                <a:lnTo>
                  <a:pt x="10395" y="1530"/>
                </a:lnTo>
                <a:lnTo>
                  <a:pt x="10629" y="1508"/>
                </a:lnTo>
                <a:lnTo>
                  <a:pt x="10726" y="1508"/>
                </a:lnTo>
                <a:lnTo>
                  <a:pt x="10819" y="1481"/>
                </a:lnTo>
                <a:lnTo>
                  <a:pt x="11101" y="1437"/>
                </a:lnTo>
                <a:lnTo>
                  <a:pt x="11383" y="1411"/>
                </a:lnTo>
                <a:lnTo>
                  <a:pt x="11665" y="1389"/>
                </a:lnTo>
                <a:lnTo>
                  <a:pt x="11736" y="1367"/>
                </a:lnTo>
                <a:lnTo>
                  <a:pt x="11806" y="1340"/>
                </a:lnTo>
                <a:lnTo>
                  <a:pt x="11877" y="1340"/>
                </a:lnTo>
                <a:lnTo>
                  <a:pt x="12111" y="1340"/>
                </a:lnTo>
                <a:lnTo>
                  <a:pt x="12441" y="1367"/>
                </a:lnTo>
                <a:lnTo>
                  <a:pt x="12534" y="1437"/>
                </a:lnTo>
                <a:lnTo>
                  <a:pt x="12582" y="1508"/>
                </a:lnTo>
                <a:lnTo>
                  <a:pt x="12631" y="1578"/>
                </a:lnTo>
                <a:lnTo>
                  <a:pt x="12631" y="1649"/>
                </a:lnTo>
                <a:lnTo>
                  <a:pt x="12653" y="1741"/>
                </a:lnTo>
                <a:lnTo>
                  <a:pt x="12675" y="1976"/>
                </a:lnTo>
                <a:lnTo>
                  <a:pt x="12702" y="2073"/>
                </a:lnTo>
                <a:lnTo>
                  <a:pt x="12746" y="2144"/>
                </a:lnTo>
                <a:lnTo>
                  <a:pt x="12816" y="2377"/>
                </a:lnTo>
                <a:lnTo>
                  <a:pt x="13098" y="2660"/>
                </a:lnTo>
                <a:lnTo>
                  <a:pt x="13195" y="2942"/>
                </a:lnTo>
                <a:lnTo>
                  <a:pt x="13169" y="3061"/>
                </a:lnTo>
                <a:lnTo>
                  <a:pt x="13169" y="3131"/>
                </a:lnTo>
                <a:lnTo>
                  <a:pt x="13054" y="3246"/>
                </a:lnTo>
                <a:lnTo>
                  <a:pt x="13006" y="3317"/>
                </a:lnTo>
                <a:lnTo>
                  <a:pt x="13006" y="3387"/>
                </a:lnTo>
                <a:lnTo>
                  <a:pt x="13006" y="3625"/>
                </a:lnTo>
                <a:lnTo>
                  <a:pt x="13076" y="3718"/>
                </a:lnTo>
                <a:lnTo>
                  <a:pt x="13076" y="3788"/>
                </a:lnTo>
                <a:lnTo>
                  <a:pt x="12984" y="3930"/>
                </a:lnTo>
                <a:lnTo>
                  <a:pt x="12887" y="4212"/>
                </a:lnTo>
                <a:lnTo>
                  <a:pt x="12843" y="4304"/>
                </a:lnTo>
                <a:lnTo>
                  <a:pt x="12772" y="4401"/>
                </a:lnTo>
                <a:lnTo>
                  <a:pt x="12675" y="4684"/>
                </a:lnTo>
                <a:lnTo>
                  <a:pt x="12604" y="4966"/>
                </a:lnTo>
                <a:lnTo>
                  <a:pt x="12582" y="5200"/>
                </a:lnTo>
                <a:lnTo>
                  <a:pt x="12604" y="5270"/>
                </a:lnTo>
                <a:lnTo>
                  <a:pt x="12582" y="5341"/>
                </a:lnTo>
                <a:lnTo>
                  <a:pt x="12560" y="5411"/>
                </a:lnTo>
                <a:lnTo>
                  <a:pt x="12534" y="5504"/>
                </a:lnTo>
                <a:lnTo>
                  <a:pt x="12534" y="5574"/>
                </a:lnTo>
                <a:lnTo>
                  <a:pt x="12463" y="5716"/>
                </a:lnTo>
                <a:lnTo>
                  <a:pt x="12419" y="5955"/>
                </a:lnTo>
                <a:lnTo>
                  <a:pt x="12419" y="6188"/>
                </a:lnTo>
                <a:lnTo>
                  <a:pt x="12419" y="6281"/>
                </a:lnTo>
                <a:lnTo>
                  <a:pt x="12419" y="6378"/>
                </a:lnTo>
                <a:lnTo>
                  <a:pt x="12463" y="6660"/>
                </a:lnTo>
                <a:lnTo>
                  <a:pt x="12463" y="6775"/>
                </a:lnTo>
                <a:lnTo>
                  <a:pt x="12441" y="6872"/>
                </a:lnTo>
                <a:lnTo>
                  <a:pt x="12393" y="6964"/>
                </a:lnTo>
                <a:lnTo>
                  <a:pt x="12300" y="7247"/>
                </a:lnTo>
                <a:lnTo>
                  <a:pt x="12067" y="7480"/>
                </a:lnTo>
                <a:lnTo>
                  <a:pt x="11969" y="7529"/>
                </a:lnTo>
                <a:lnTo>
                  <a:pt x="11877" y="7577"/>
                </a:lnTo>
                <a:lnTo>
                  <a:pt x="11546" y="7622"/>
                </a:lnTo>
                <a:lnTo>
                  <a:pt x="11264" y="7692"/>
                </a:lnTo>
                <a:lnTo>
                  <a:pt x="10938" y="7741"/>
                </a:lnTo>
                <a:lnTo>
                  <a:pt x="10841" y="7763"/>
                </a:lnTo>
                <a:lnTo>
                  <a:pt x="10607" y="7811"/>
                </a:lnTo>
                <a:lnTo>
                  <a:pt x="10488" y="7789"/>
                </a:lnTo>
                <a:lnTo>
                  <a:pt x="10206" y="7719"/>
                </a:lnTo>
                <a:lnTo>
                  <a:pt x="9878" y="7648"/>
                </a:lnTo>
                <a:lnTo>
                  <a:pt x="9640" y="7551"/>
                </a:lnTo>
                <a:lnTo>
                  <a:pt x="9358" y="7480"/>
                </a:lnTo>
                <a:lnTo>
                  <a:pt x="9217" y="7458"/>
                </a:lnTo>
                <a:lnTo>
                  <a:pt x="8842" y="7507"/>
                </a:lnTo>
                <a:lnTo>
                  <a:pt x="8608" y="7529"/>
                </a:lnTo>
                <a:lnTo>
                  <a:pt x="8538" y="7577"/>
                </a:lnTo>
                <a:lnTo>
                  <a:pt x="8397" y="7670"/>
                </a:lnTo>
                <a:lnTo>
                  <a:pt x="8278" y="7670"/>
                </a:lnTo>
                <a:lnTo>
                  <a:pt x="7995" y="7577"/>
                </a:lnTo>
                <a:lnTo>
                  <a:pt x="7620" y="7295"/>
                </a:lnTo>
                <a:lnTo>
                  <a:pt x="7338" y="7247"/>
                </a:lnTo>
                <a:lnTo>
                  <a:pt x="7241" y="7225"/>
                </a:lnTo>
                <a:lnTo>
                  <a:pt x="6915" y="7198"/>
                </a:lnTo>
                <a:lnTo>
                  <a:pt x="6677" y="7198"/>
                </a:lnTo>
                <a:lnTo>
                  <a:pt x="6606" y="7198"/>
                </a:lnTo>
                <a:lnTo>
                  <a:pt x="6514" y="7269"/>
                </a:lnTo>
                <a:lnTo>
                  <a:pt x="6421" y="7339"/>
                </a:lnTo>
                <a:lnTo>
                  <a:pt x="6183" y="7388"/>
                </a:lnTo>
                <a:lnTo>
                  <a:pt x="5857" y="7436"/>
                </a:lnTo>
                <a:lnTo>
                  <a:pt x="5433" y="7410"/>
                </a:lnTo>
                <a:lnTo>
                  <a:pt x="4961" y="7339"/>
                </a:lnTo>
                <a:lnTo>
                  <a:pt x="4490" y="7295"/>
                </a:lnTo>
                <a:lnTo>
                  <a:pt x="4397" y="7295"/>
                </a:lnTo>
                <a:lnTo>
                  <a:pt x="4326" y="7295"/>
                </a:lnTo>
                <a:lnTo>
                  <a:pt x="4093" y="7295"/>
                </a:lnTo>
                <a:lnTo>
                  <a:pt x="3996" y="7295"/>
                </a:lnTo>
                <a:lnTo>
                  <a:pt x="3572" y="7295"/>
                </a:lnTo>
                <a:lnTo>
                  <a:pt x="3289" y="7295"/>
                </a:lnTo>
                <a:lnTo>
                  <a:pt x="3219" y="7295"/>
                </a:lnTo>
                <a:lnTo>
                  <a:pt x="3126" y="7339"/>
                </a:lnTo>
                <a:lnTo>
                  <a:pt x="2795" y="7339"/>
                </a:lnTo>
                <a:lnTo>
                  <a:pt x="2279" y="7339"/>
                </a:lnTo>
                <a:lnTo>
                  <a:pt x="2187" y="7317"/>
                </a:lnTo>
                <a:lnTo>
                  <a:pt x="2090" y="7084"/>
                </a:lnTo>
                <a:lnTo>
                  <a:pt x="2116" y="6704"/>
                </a:lnTo>
                <a:lnTo>
                  <a:pt x="2187" y="6471"/>
                </a:lnTo>
                <a:lnTo>
                  <a:pt x="2209" y="6378"/>
                </a:lnTo>
                <a:lnTo>
                  <a:pt x="2279" y="6281"/>
                </a:lnTo>
                <a:lnTo>
                  <a:pt x="2328" y="6210"/>
                </a:lnTo>
                <a:lnTo>
                  <a:pt x="2328" y="6118"/>
                </a:lnTo>
                <a:lnTo>
                  <a:pt x="2257" y="5884"/>
                </a:lnTo>
                <a:lnTo>
                  <a:pt x="1878" y="5645"/>
                </a:lnTo>
                <a:lnTo>
                  <a:pt x="1596" y="5574"/>
                </a:lnTo>
                <a:lnTo>
                  <a:pt x="1596" y="5482"/>
                </a:lnTo>
                <a:lnTo>
                  <a:pt x="1666" y="5151"/>
                </a:lnTo>
                <a:lnTo>
                  <a:pt x="1622" y="5058"/>
                </a:lnTo>
                <a:lnTo>
                  <a:pt x="1552" y="5010"/>
                </a:lnTo>
                <a:lnTo>
                  <a:pt x="1525" y="4939"/>
                </a:lnTo>
                <a:lnTo>
                  <a:pt x="1503" y="4613"/>
                </a:lnTo>
                <a:lnTo>
                  <a:pt x="1411" y="4375"/>
                </a:lnTo>
                <a:lnTo>
                  <a:pt x="608" y="3952"/>
                </a:lnTo>
                <a:lnTo>
                  <a:pt x="282" y="3908"/>
                </a:lnTo>
                <a:lnTo>
                  <a:pt x="352" y="3881"/>
                </a:lnTo>
                <a:lnTo>
                  <a:pt x="423" y="3837"/>
                </a:lnTo>
                <a:lnTo>
                  <a:pt x="493" y="3766"/>
                </a:lnTo>
                <a:lnTo>
                  <a:pt x="564" y="3669"/>
                </a:lnTo>
                <a:lnTo>
                  <a:pt x="657" y="3599"/>
                </a:lnTo>
                <a:lnTo>
                  <a:pt x="727" y="3555"/>
                </a:lnTo>
                <a:lnTo>
                  <a:pt x="798" y="3414"/>
                </a:lnTo>
                <a:lnTo>
                  <a:pt x="374" y="3034"/>
                </a:lnTo>
                <a:lnTo>
                  <a:pt x="0" y="2942"/>
                </a:lnTo>
                <a:lnTo>
                  <a:pt x="22" y="2871"/>
                </a:lnTo>
                <a:lnTo>
                  <a:pt x="114" y="2801"/>
                </a:lnTo>
                <a:lnTo>
                  <a:pt x="352" y="2708"/>
                </a:lnTo>
                <a:lnTo>
                  <a:pt x="586" y="2611"/>
                </a:lnTo>
                <a:lnTo>
                  <a:pt x="820" y="2518"/>
                </a:lnTo>
                <a:lnTo>
                  <a:pt x="890" y="2496"/>
                </a:lnTo>
                <a:lnTo>
                  <a:pt x="987" y="2470"/>
                </a:lnTo>
                <a:lnTo>
                  <a:pt x="1080" y="2448"/>
                </a:lnTo>
                <a:lnTo>
                  <a:pt x="1150" y="2399"/>
                </a:lnTo>
                <a:lnTo>
                  <a:pt x="1199" y="2285"/>
                </a:lnTo>
                <a:lnTo>
                  <a:pt x="1221" y="2214"/>
                </a:lnTo>
                <a:lnTo>
                  <a:pt x="1243" y="1976"/>
                </a:lnTo>
                <a:lnTo>
                  <a:pt x="1270" y="1741"/>
                </a:lnTo>
                <a:lnTo>
                  <a:pt x="1340" y="1459"/>
                </a:lnTo>
                <a:lnTo>
                  <a:pt x="1455" y="1340"/>
                </a:lnTo>
                <a:lnTo>
                  <a:pt x="1525" y="1270"/>
                </a:lnTo>
                <a:lnTo>
                  <a:pt x="1596" y="1225"/>
                </a:lnTo>
                <a:lnTo>
                  <a:pt x="1666" y="1225"/>
                </a:lnTo>
                <a:lnTo>
                  <a:pt x="1737" y="1247"/>
                </a:lnTo>
                <a:lnTo>
                  <a:pt x="1807" y="1247"/>
                </a:lnTo>
                <a:lnTo>
                  <a:pt x="1905" y="1225"/>
                </a:lnTo>
                <a:lnTo>
                  <a:pt x="2138" y="1177"/>
                </a:lnTo>
                <a:lnTo>
                  <a:pt x="2372" y="1128"/>
                </a:lnTo>
                <a:lnTo>
                  <a:pt x="2703" y="1084"/>
                </a:lnTo>
                <a:lnTo>
                  <a:pt x="2936" y="1058"/>
                </a:lnTo>
                <a:lnTo>
                  <a:pt x="3033" y="1084"/>
                </a:lnTo>
                <a:lnTo>
                  <a:pt x="3126" y="1106"/>
                </a:lnTo>
                <a:lnTo>
                  <a:pt x="3197" y="1177"/>
                </a:lnTo>
                <a:lnTo>
                  <a:pt x="3289" y="1459"/>
                </a:lnTo>
                <a:lnTo>
                  <a:pt x="3361" y="1693"/>
                </a:lnTo>
                <a:lnTo>
                  <a:pt x="3458" y="1622"/>
                </a:lnTo>
                <a:lnTo>
                  <a:pt x="3528" y="1622"/>
                </a:lnTo>
                <a:lnTo>
                  <a:pt x="3643" y="1600"/>
                </a:lnTo>
                <a:lnTo>
                  <a:pt x="3881" y="1530"/>
                </a:lnTo>
                <a:lnTo>
                  <a:pt x="4115" y="1247"/>
                </a:lnTo>
                <a:lnTo>
                  <a:pt x="4207" y="1199"/>
                </a:lnTo>
                <a:lnTo>
                  <a:pt x="4278" y="1155"/>
                </a:lnTo>
                <a:lnTo>
                  <a:pt x="4375" y="1106"/>
                </a:lnTo>
                <a:lnTo>
                  <a:pt x="4516" y="1014"/>
                </a:lnTo>
                <a:lnTo>
                  <a:pt x="4587" y="987"/>
                </a:lnTo>
                <a:lnTo>
                  <a:pt x="4679" y="987"/>
                </a:lnTo>
                <a:lnTo>
                  <a:pt x="4750" y="987"/>
                </a:lnTo>
                <a:lnTo>
                  <a:pt x="4869" y="1058"/>
                </a:lnTo>
                <a:lnTo>
                  <a:pt x="4961" y="1106"/>
                </a:lnTo>
                <a:lnTo>
                  <a:pt x="5032" y="1155"/>
                </a:lnTo>
                <a:lnTo>
                  <a:pt x="5103" y="1177"/>
                </a:lnTo>
                <a:lnTo>
                  <a:pt x="5195" y="1199"/>
                </a:lnTo>
                <a:lnTo>
                  <a:pt x="5292" y="1247"/>
                </a:lnTo>
                <a:lnTo>
                  <a:pt x="5407" y="1296"/>
                </a:lnTo>
                <a:lnTo>
                  <a:pt x="5477" y="1318"/>
                </a:lnTo>
                <a:lnTo>
                  <a:pt x="5526" y="1389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13160" y="3062160"/>
            <a:ext cx="2104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89480" y="3567240"/>
            <a:ext cx="14032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+ me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1440" y="455760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4648320"/>
            <a:ext cx="457560" cy="381240"/>
          </a:xfrm>
          <a:custGeom>
            <a:avLst/>
            <a:gdLst/>
            <a:ahLst/>
            <a:rect l="0" t="0" r="r" b="b"/>
            <a:pathLst>
              <a:path fill="none" w="1271" h="1059">
                <a:moveTo>
                  <a:pt x="1271" y="0"/>
                </a:moveTo>
                <a:lnTo>
                  <a:pt x="0" y="0"/>
                </a:lnTo>
                <a:lnTo>
                  <a:pt x="635" y="1059"/>
                </a:lnTo>
                <a:lnTo>
                  <a:pt x="127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3640" y="57769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867280"/>
            <a:ext cx="457560" cy="381240"/>
          </a:xfrm>
          <a:custGeom>
            <a:avLst/>
            <a:gdLst/>
            <a:ahLst/>
            <a:rect l="0" t="0" r="r" b="b"/>
            <a:pathLst>
              <a:path fill="none" w="1271" h="1059">
                <a:moveTo>
                  <a:pt x="1271" y="0"/>
                </a:moveTo>
                <a:lnTo>
                  <a:pt x="0" y="0"/>
                </a:lnTo>
                <a:lnTo>
                  <a:pt x="635" y="1059"/>
                </a:lnTo>
                <a:lnTo>
                  <a:pt x="127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27160" y="5776920"/>
            <a:ext cx="197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bstrac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 Contro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93640" y="2500200"/>
            <a:ext cx="2195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| |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73360" y="2243160"/>
            <a:ext cx="4750200" cy="2811960"/>
          </a:xfrm>
          <a:custGeom>
            <a:avLst/>
            <a:gdLst/>
            <a:ahLst/>
            <a:rect l="0" t="0" r="r" b="b"/>
            <a:pathLst>
              <a:path fill="none" w="13195" h="7811">
                <a:moveTo>
                  <a:pt x="5526" y="1389"/>
                </a:moveTo>
                <a:lnTo>
                  <a:pt x="5618" y="1270"/>
                </a:lnTo>
                <a:lnTo>
                  <a:pt x="5715" y="987"/>
                </a:lnTo>
                <a:lnTo>
                  <a:pt x="5786" y="661"/>
                </a:lnTo>
                <a:lnTo>
                  <a:pt x="5879" y="379"/>
                </a:lnTo>
                <a:lnTo>
                  <a:pt x="5949" y="282"/>
                </a:lnTo>
                <a:lnTo>
                  <a:pt x="6042" y="211"/>
                </a:lnTo>
                <a:lnTo>
                  <a:pt x="6139" y="141"/>
                </a:lnTo>
                <a:lnTo>
                  <a:pt x="6231" y="70"/>
                </a:lnTo>
                <a:lnTo>
                  <a:pt x="6324" y="48"/>
                </a:lnTo>
                <a:lnTo>
                  <a:pt x="6421" y="26"/>
                </a:lnTo>
                <a:lnTo>
                  <a:pt x="6514" y="0"/>
                </a:lnTo>
                <a:lnTo>
                  <a:pt x="6606" y="0"/>
                </a:lnTo>
                <a:lnTo>
                  <a:pt x="6703" y="0"/>
                </a:lnTo>
                <a:lnTo>
                  <a:pt x="6774" y="26"/>
                </a:lnTo>
                <a:lnTo>
                  <a:pt x="6866" y="26"/>
                </a:lnTo>
                <a:lnTo>
                  <a:pt x="6937" y="48"/>
                </a:lnTo>
                <a:lnTo>
                  <a:pt x="7008" y="70"/>
                </a:lnTo>
                <a:lnTo>
                  <a:pt x="7078" y="70"/>
                </a:lnTo>
                <a:lnTo>
                  <a:pt x="7149" y="97"/>
                </a:lnTo>
                <a:lnTo>
                  <a:pt x="7241" y="141"/>
                </a:lnTo>
                <a:lnTo>
                  <a:pt x="7312" y="167"/>
                </a:lnTo>
                <a:lnTo>
                  <a:pt x="7409" y="211"/>
                </a:lnTo>
                <a:lnTo>
                  <a:pt x="7550" y="282"/>
                </a:lnTo>
                <a:lnTo>
                  <a:pt x="7643" y="352"/>
                </a:lnTo>
                <a:lnTo>
                  <a:pt x="7735" y="379"/>
                </a:lnTo>
                <a:lnTo>
                  <a:pt x="7832" y="423"/>
                </a:lnTo>
                <a:lnTo>
                  <a:pt x="7925" y="471"/>
                </a:lnTo>
                <a:lnTo>
                  <a:pt x="8017" y="564"/>
                </a:lnTo>
                <a:lnTo>
                  <a:pt x="8044" y="635"/>
                </a:lnTo>
                <a:lnTo>
                  <a:pt x="8088" y="705"/>
                </a:lnTo>
                <a:lnTo>
                  <a:pt x="8158" y="802"/>
                </a:lnTo>
                <a:lnTo>
                  <a:pt x="8229" y="824"/>
                </a:lnTo>
                <a:lnTo>
                  <a:pt x="8278" y="895"/>
                </a:lnTo>
                <a:lnTo>
                  <a:pt x="8348" y="1128"/>
                </a:lnTo>
                <a:lnTo>
                  <a:pt x="8397" y="1199"/>
                </a:lnTo>
                <a:lnTo>
                  <a:pt x="8467" y="1247"/>
                </a:lnTo>
                <a:lnTo>
                  <a:pt x="8560" y="1318"/>
                </a:lnTo>
                <a:lnTo>
                  <a:pt x="8630" y="1411"/>
                </a:lnTo>
                <a:lnTo>
                  <a:pt x="8723" y="1459"/>
                </a:lnTo>
                <a:lnTo>
                  <a:pt x="8820" y="1508"/>
                </a:lnTo>
                <a:lnTo>
                  <a:pt x="8913" y="1552"/>
                </a:lnTo>
                <a:lnTo>
                  <a:pt x="8983" y="1600"/>
                </a:lnTo>
                <a:lnTo>
                  <a:pt x="9076" y="1622"/>
                </a:lnTo>
                <a:lnTo>
                  <a:pt x="9146" y="1649"/>
                </a:lnTo>
                <a:lnTo>
                  <a:pt x="9217" y="1649"/>
                </a:lnTo>
                <a:lnTo>
                  <a:pt x="9499" y="1649"/>
                </a:lnTo>
                <a:lnTo>
                  <a:pt x="9570" y="1622"/>
                </a:lnTo>
                <a:lnTo>
                  <a:pt x="9667" y="1600"/>
                </a:lnTo>
                <a:lnTo>
                  <a:pt x="9737" y="1600"/>
                </a:lnTo>
                <a:lnTo>
                  <a:pt x="10020" y="1600"/>
                </a:lnTo>
                <a:lnTo>
                  <a:pt x="10113" y="1578"/>
                </a:lnTo>
                <a:lnTo>
                  <a:pt x="10395" y="1530"/>
                </a:lnTo>
                <a:lnTo>
                  <a:pt x="10629" y="1508"/>
                </a:lnTo>
                <a:lnTo>
                  <a:pt x="10726" y="1508"/>
                </a:lnTo>
                <a:lnTo>
                  <a:pt x="10819" y="1481"/>
                </a:lnTo>
                <a:lnTo>
                  <a:pt x="11101" y="1437"/>
                </a:lnTo>
                <a:lnTo>
                  <a:pt x="11383" y="1411"/>
                </a:lnTo>
                <a:lnTo>
                  <a:pt x="11665" y="1389"/>
                </a:lnTo>
                <a:lnTo>
                  <a:pt x="11736" y="1367"/>
                </a:lnTo>
                <a:lnTo>
                  <a:pt x="11806" y="1340"/>
                </a:lnTo>
                <a:lnTo>
                  <a:pt x="11877" y="1340"/>
                </a:lnTo>
                <a:lnTo>
                  <a:pt x="12111" y="1340"/>
                </a:lnTo>
                <a:lnTo>
                  <a:pt x="12441" y="1367"/>
                </a:lnTo>
                <a:lnTo>
                  <a:pt x="12534" y="1437"/>
                </a:lnTo>
                <a:lnTo>
                  <a:pt x="12582" y="1508"/>
                </a:lnTo>
                <a:lnTo>
                  <a:pt x="12631" y="1578"/>
                </a:lnTo>
                <a:lnTo>
                  <a:pt x="12631" y="1649"/>
                </a:lnTo>
                <a:lnTo>
                  <a:pt x="12653" y="1741"/>
                </a:lnTo>
                <a:lnTo>
                  <a:pt x="12675" y="1976"/>
                </a:lnTo>
                <a:lnTo>
                  <a:pt x="12702" y="2073"/>
                </a:lnTo>
                <a:lnTo>
                  <a:pt x="12746" y="2144"/>
                </a:lnTo>
                <a:lnTo>
                  <a:pt x="12816" y="2377"/>
                </a:lnTo>
                <a:lnTo>
                  <a:pt x="13098" y="2660"/>
                </a:lnTo>
                <a:lnTo>
                  <a:pt x="13195" y="2942"/>
                </a:lnTo>
                <a:lnTo>
                  <a:pt x="13169" y="3061"/>
                </a:lnTo>
                <a:lnTo>
                  <a:pt x="13169" y="3131"/>
                </a:lnTo>
                <a:lnTo>
                  <a:pt x="13054" y="3246"/>
                </a:lnTo>
                <a:lnTo>
                  <a:pt x="13006" y="3317"/>
                </a:lnTo>
                <a:lnTo>
                  <a:pt x="13006" y="3387"/>
                </a:lnTo>
                <a:lnTo>
                  <a:pt x="13006" y="3625"/>
                </a:lnTo>
                <a:lnTo>
                  <a:pt x="13076" y="3718"/>
                </a:lnTo>
                <a:lnTo>
                  <a:pt x="13076" y="3788"/>
                </a:lnTo>
                <a:lnTo>
                  <a:pt x="12984" y="3930"/>
                </a:lnTo>
                <a:lnTo>
                  <a:pt x="12887" y="4212"/>
                </a:lnTo>
                <a:lnTo>
                  <a:pt x="12843" y="4304"/>
                </a:lnTo>
                <a:lnTo>
                  <a:pt x="12772" y="4401"/>
                </a:lnTo>
                <a:lnTo>
                  <a:pt x="12675" y="4684"/>
                </a:lnTo>
                <a:lnTo>
                  <a:pt x="12604" y="4966"/>
                </a:lnTo>
                <a:lnTo>
                  <a:pt x="12582" y="5200"/>
                </a:lnTo>
                <a:lnTo>
                  <a:pt x="12604" y="5270"/>
                </a:lnTo>
                <a:lnTo>
                  <a:pt x="12582" y="5341"/>
                </a:lnTo>
                <a:lnTo>
                  <a:pt x="12560" y="5411"/>
                </a:lnTo>
                <a:lnTo>
                  <a:pt x="12534" y="5504"/>
                </a:lnTo>
                <a:lnTo>
                  <a:pt x="12534" y="5574"/>
                </a:lnTo>
                <a:lnTo>
                  <a:pt x="12463" y="5716"/>
                </a:lnTo>
                <a:lnTo>
                  <a:pt x="12419" y="5955"/>
                </a:lnTo>
                <a:lnTo>
                  <a:pt x="12419" y="6188"/>
                </a:lnTo>
                <a:lnTo>
                  <a:pt x="12419" y="6281"/>
                </a:lnTo>
                <a:lnTo>
                  <a:pt x="12419" y="6378"/>
                </a:lnTo>
                <a:lnTo>
                  <a:pt x="12463" y="6660"/>
                </a:lnTo>
                <a:lnTo>
                  <a:pt x="12463" y="6775"/>
                </a:lnTo>
                <a:lnTo>
                  <a:pt x="12441" y="6872"/>
                </a:lnTo>
                <a:lnTo>
                  <a:pt x="12393" y="6964"/>
                </a:lnTo>
                <a:lnTo>
                  <a:pt x="12300" y="7247"/>
                </a:lnTo>
                <a:lnTo>
                  <a:pt x="12067" y="7480"/>
                </a:lnTo>
                <a:lnTo>
                  <a:pt x="11969" y="7529"/>
                </a:lnTo>
                <a:lnTo>
                  <a:pt x="11877" y="7577"/>
                </a:lnTo>
                <a:lnTo>
                  <a:pt x="11546" y="7622"/>
                </a:lnTo>
                <a:lnTo>
                  <a:pt x="11264" y="7692"/>
                </a:lnTo>
                <a:lnTo>
                  <a:pt x="10938" y="7741"/>
                </a:lnTo>
                <a:lnTo>
                  <a:pt x="10841" y="7763"/>
                </a:lnTo>
                <a:lnTo>
                  <a:pt x="10607" y="7811"/>
                </a:lnTo>
                <a:lnTo>
                  <a:pt x="10488" y="7789"/>
                </a:lnTo>
                <a:lnTo>
                  <a:pt x="10206" y="7719"/>
                </a:lnTo>
                <a:lnTo>
                  <a:pt x="9878" y="7648"/>
                </a:lnTo>
                <a:lnTo>
                  <a:pt x="9640" y="7551"/>
                </a:lnTo>
                <a:lnTo>
                  <a:pt x="9358" y="7480"/>
                </a:lnTo>
                <a:lnTo>
                  <a:pt x="9217" y="7458"/>
                </a:lnTo>
                <a:lnTo>
                  <a:pt x="8842" y="7507"/>
                </a:lnTo>
                <a:lnTo>
                  <a:pt x="8608" y="7529"/>
                </a:lnTo>
                <a:lnTo>
                  <a:pt x="8538" y="7577"/>
                </a:lnTo>
                <a:lnTo>
                  <a:pt x="8397" y="7670"/>
                </a:lnTo>
                <a:lnTo>
                  <a:pt x="8278" y="7670"/>
                </a:lnTo>
                <a:lnTo>
                  <a:pt x="7995" y="7577"/>
                </a:lnTo>
                <a:lnTo>
                  <a:pt x="7620" y="7295"/>
                </a:lnTo>
                <a:lnTo>
                  <a:pt x="7338" y="7247"/>
                </a:lnTo>
                <a:lnTo>
                  <a:pt x="7241" y="7225"/>
                </a:lnTo>
                <a:lnTo>
                  <a:pt x="6915" y="7198"/>
                </a:lnTo>
                <a:lnTo>
                  <a:pt x="6677" y="7198"/>
                </a:lnTo>
                <a:lnTo>
                  <a:pt x="6606" y="7198"/>
                </a:lnTo>
                <a:lnTo>
                  <a:pt x="6514" y="7269"/>
                </a:lnTo>
                <a:lnTo>
                  <a:pt x="6421" y="7339"/>
                </a:lnTo>
                <a:lnTo>
                  <a:pt x="6183" y="7388"/>
                </a:lnTo>
                <a:lnTo>
                  <a:pt x="5857" y="7436"/>
                </a:lnTo>
                <a:lnTo>
                  <a:pt x="5433" y="7410"/>
                </a:lnTo>
                <a:lnTo>
                  <a:pt x="4961" y="7339"/>
                </a:lnTo>
                <a:lnTo>
                  <a:pt x="4490" y="7295"/>
                </a:lnTo>
                <a:lnTo>
                  <a:pt x="4397" y="7295"/>
                </a:lnTo>
                <a:lnTo>
                  <a:pt x="4326" y="7295"/>
                </a:lnTo>
                <a:lnTo>
                  <a:pt x="4093" y="7295"/>
                </a:lnTo>
                <a:lnTo>
                  <a:pt x="3996" y="7295"/>
                </a:lnTo>
                <a:lnTo>
                  <a:pt x="3572" y="7295"/>
                </a:lnTo>
                <a:lnTo>
                  <a:pt x="3289" y="7295"/>
                </a:lnTo>
                <a:lnTo>
                  <a:pt x="3219" y="7295"/>
                </a:lnTo>
                <a:lnTo>
                  <a:pt x="3126" y="7339"/>
                </a:lnTo>
                <a:lnTo>
                  <a:pt x="2795" y="7339"/>
                </a:lnTo>
                <a:lnTo>
                  <a:pt x="2279" y="7339"/>
                </a:lnTo>
                <a:lnTo>
                  <a:pt x="2187" y="7317"/>
                </a:lnTo>
                <a:lnTo>
                  <a:pt x="2090" y="7084"/>
                </a:lnTo>
                <a:lnTo>
                  <a:pt x="2116" y="6704"/>
                </a:lnTo>
                <a:lnTo>
                  <a:pt x="2187" y="6471"/>
                </a:lnTo>
                <a:lnTo>
                  <a:pt x="2209" y="6378"/>
                </a:lnTo>
                <a:lnTo>
                  <a:pt x="2279" y="6281"/>
                </a:lnTo>
                <a:lnTo>
                  <a:pt x="2328" y="6210"/>
                </a:lnTo>
                <a:lnTo>
                  <a:pt x="2328" y="6118"/>
                </a:lnTo>
                <a:lnTo>
                  <a:pt x="2257" y="5884"/>
                </a:lnTo>
                <a:lnTo>
                  <a:pt x="1878" y="5645"/>
                </a:lnTo>
                <a:lnTo>
                  <a:pt x="1596" y="5574"/>
                </a:lnTo>
                <a:lnTo>
                  <a:pt x="1596" y="5482"/>
                </a:lnTo>
                <a:lnTo>
                  <a:pt x="1666" y="5151"/>
                </a:lnTo>
                <a:lnTo>
                  <a:pt x="1622" y="5058"/>
                </a:lnTo>
                <a:lnTo>
                  <a:pt x="1552" y="5010"/>
                </a:lnTo>
                <a:lnTo>
                  <a:pt x="1525" y="4939"/>
                </a:lnTo>
                <a:lnTo>
                  <a:pt x="1503" y="4613"/>
                </a:lnTo>
                <a:lnTo>
                  <a:pt x="1411" y="4375"/>
                </a:lnTo>
                <a:lnTo>
                  <a:pt x="608" y="3952"/>
                </a:lnTo>
                <a:lnTo>
                  <a:pt x="282" y="3908"/>
                </a:lnTo>
                <a:lnTo>
                  <a:pt x="352" y="3881"/>
                </a:lnTo>
                <a:lnTo>
                  <a:pt x="423" y="3837"/>
                </a:lnTo>
                <a:lnTo>
                  <a:pt x="493" y="3766"/>
                </a:lnTo>
                <a:lnTo>
                  <a:pt x="564" y="3669"/>
                </a:lnTo>
                <a:lnTo>
                  <a:pt x="657" y="3599"/>
                </a:lnTo>
                <a:lnTo>
                  <a:pt x="727" y="3555"/>
                </a:lnTo>
                <a:lnTo>
                  <a:pt x="798" y="3414"/>
                </a:lnTo>
                <a:lnTo>
                  <a:pt x="374" y="3034"/>
                </a:lnTo>
                <a:lnTo>
                  <a:pt x="0" y="2942"/>
                </a:lnTo>
                <a:lnTo>
                  <a:pt x="22" y="2871"/>
                </a:lnTo>
                <a:lnTo>
                  <a:pt x="114" y="2801"/>
                </a:lnTo>
                <a:lnTo>
                  <a:pt x="352" y="2708"/>
                </a:lnTo>
                <a:lnTo>
                  <a:pt x="586" y="2611"/>
                </a:lnTo>
                <a:lnTo>
                  <a:pt x="820" y="2518"/>
                </a:lnTo>
                <a:lnTo>
                  <a:pt x="890" y="2496"/>
                </a:lnTo>
                <a:lnTo>
                  <a:pt x="987" y="2470"/>
                </a:lnTo>
                <a:lnTo>
                  <a:pt x="1080" y="2448"/>
                </a:lnTo>
                <a:lnTo>
                  <a:pt x="1150" y="2399"/>
                </a:lnTo>
                <a:lnTo>
                  <a:pt x="1199" y="2285"/>
                </a:lnTo>
                <a:lnTo>
                  <a:pt x="1221" y="2214"/>
                </a:lnTo>
                <a:lnTo>
                  <a:pt x="1243" y="1976"/>
                </a:lnTo>
                <a:lnTo>
                  <a:pt x="1269" y="1741"/>
                </a:lnTo>
                <a:lnTo>
                  <a:pt x="1340" y="1459"/>
                </a:lnTo>
                <a:lnTo>
                  <a:pt x="1455" y="1340"/>
                </a:lnTo>
                <a:lnTo>
                  <a:pt x="1525" y="1270"/>
                </a:lnTo>
                <a:lnTo>
                  <a:pt x="1596" y="1225"/>
                </a:lnTo>
                <a:lnTo>
                  <a:pt x="1666" y="1225"/>
                </a:lnTo>
                <a:lnTo>
                  <a:pt x="1737" y="1247"/>
                </a:lnTo>
                <a:lnTo>
                  <a:pt x="1807" y="1247"/>
                </a:lnTo>
                <a:lnTo>
                  <a:pt x="1904" y="1225"/>
                </a:lnTo>
                <a:lnTo>
                  <a:pt x="2138" y="1177"/>
                </a:lnTo>
                <a:lnTo>
                  <a:pt x="2372" y="1128"/>
                </a:lnTo>
                <a:lnTo>
                  <a:pt x="2703" y="1084"/>
                </a:lnTo>
                <a:lnTo>
                  <a:pt x="2936" y="1058"/>
                </a:lnTo>
                <a:lnTo>
                  <a:pt x="3033" y="1084"/>
                </a:lnTo>
                <a:lnTo>
                  <a:pt x="3126" y="1106"/>
                </a:lnTo>
                <a:lnTo>
                  <a:pt x="3197" y="1177"/>
                </a:lnTo>
                <a:lnTo>
                  <a:pt x="3289" y="1459"/>
                </a:lnTo>
                <a:lnTo>
                  <a:pt x="3361" y="1693"/>
                </a:lnTo>
                <a:lnTo>
                  <a:pt x="3458" y="1622"/>
                </a:lnTo>
                <a:lnTo>
                  <a:pt x="3528" y="1622"/>
                </a:lnTo>
                <a:lnTo>
                  <a:pt x="3643" y="1600"/>
                </a:lnTo>
                <a:lnTo>
                  <a:pt x="3881" y="1530"/>
                </a:lnTo>
                <a:lnTo>
                  <a:pt x="4115" y="1247"/>
                </a:lnTo>
                <a:lnTo>
                  <a:pt x="4207" y="1199"/>
                </a:lnTo>
                <a:lnTo>
                  <a:pt x="4278" y="1155"/>
                </a:lnTo>
                <a:lnTo>
                  <a:pt x="4375" y="1106"/>
                </a:lnTo>
                <a:lnTo>
                  <a:pt x="4516" y="1014"/>
                </a:lnTo>
                <a:lnTo>
                  <a:pt x="4587" y="987"/>
                </a:lnTo>
                <a:lnTo>
                  <a:pt x="4679" y="987"/>
                </a:lnTo>
                <a:lnTo>
                  <a:pt x="4750" y="987"/>
                </a:lnTo>
                <a:lnTo>
                  <a:pt x="4869" y="1058"/>
                </a:lnTo>
                <a:lnTo>
                  <a:pt x="4961" y="1106"/>
                </a:lnTo>
                <a:lnTo>
                  <a:pt x="5032" y="1155"/>
                </a:lnTo>
                <a:lnTo>
                  <a:pt x="5103" y="1177"/>
                </a:lnTo>
                <a:lnTo>
                  <a:pt x="5195" y="1199"/>
                </a:lnTo>
                <a:lnTo>
                  <a:pt x="5292" y="1247"/>
                </a:lnTo>
                <a:lnTo>
                  <a:pt x="5407" y="1296"/>
                </a:lnTo>
                <a:lnTo>
                  <a:pt x="5477" y="1318"/>
                </a:lnTo>
                <a:lnTo>
                  <a:pt x="5526" y="1389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84760" y="2833560"/>
            <a:ext cx="2104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3338640"/>
            <a:ext cx="14032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|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|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9080" y="5243400"/>
            <a:ext cx="8385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- can be accessed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ed - can only be accessed within the class and its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- can only be accessed within th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92280" y="254808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92680" y="430056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4290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4760" y="234792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1360" y="5700600"/>
            <a:ext cx="4154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verted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other types of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92280" y="254808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2680" y="4300560"/>
            <a:ext cx="1608480" cy="1186200"/>
          </a:xfrm>
          <a:custGeom>
            <a:avLst/>
            <a:gdLst/>
            <a:ahLst/>
            <a:rect l="0" t="0" r="r" b="b"/>
            <a:pathLst>
              <a:path fill="none" w="4468" h="3295">
                <a:moveTo>
                  <a:pt x="1870" y="585"/>
                </a:moveTo>
                <a:lnTo>
                  <a:pt x="1902" y="535"/>
                </a:lnTo>
                <a:lnTo>
                  <a:pt x="1934" y="416"/>
                </a:lnTo>
                <a:lnTo>
                  <a:pt x="1958" y="279"/>
                </a:lnTo>
                <a:lnTo>
                  <a:pt x="1990" y="159"/>
                </a:lnTo>
                <a:lnTo>
                  <a:pt x="2014" y="119"/>
                </a:lnTo>
                <a:lnTo>
                  <a:pt x="2045" y="89"/>
                </a:lnTo>
                <a:lnTo>
                  <a:pt x="2078" y="59"/>
                </a:lnTo>
                <a:lnTo>
                  <a:pt x="2109" y="29"/>
                </a:lnTo>
                <a:lnTo>
                  <a:pt x="2140" y="20"/>
                </a:lnTo>
                <a:lnTo>
                  <a:pt x="2173" y="11"/>
                </a:lnTo>
                <a:lnTo>
                  <a:pt x="2205" y="0"/>
                </a:lnTo>
                <a:lnTo>
                  <a:pt x="2237" y="0"/>
                </a:lnTo>
                <a:lnTo>
                  <a:pt x="2270" y="0"/>
                </a:lnTo>
                <a:lnTo>
                  <a:pt x="2294" y="11"/>
                </a:lnTo>
                <a:lnTo>
                  <a:pt x="2325" y="11"/>
                </a:lnTo>
                <a:lnTo>
                  <a:pt x="2349" y="20"/>
                </a:lnTo>
                <a:lnTo>
                  <a:pt x="2373" y="29"/>
                </a:lnTo>
                <a:lnTo>
                  <a:pt x="2397" y="29"/>
                </a:lnTo>
                <a:lnTo>
                  <a:pt x="2421" y="40"/>
                </a:lnTo>
                <a:lnTo>
                  <a:pt x="2452" y="59"/>
                </a:lnTo>
                <a:lnTo>
                  <a:pt x="2476" y="70"/>
                </a:lnTo>
                <a:lnTo>
                  <a:pt x="2509" y="89"/>
                </a:lnTo>
                <a:lnTo>
                  <a:pt x="2557" y="119"/>
                </a:lnTo>
                <a:lnTo>
                  <a:pt x="2588" y="148"/>
                </a:lnTo>
                <a:lnTo>
                  <a:pt x="2619" y="159"/>
                </a:lnTo>
                <a:lnTo>
                  <a:pt x="2652" y="178"/>
                </a:lnTo>
                <a:lnTo>
                  <a:pt x="2683" y="199"/>
                </a:lnTo>
                <a:lnTo>
                  <a:pt x="2715" y="238"/>
                </a:lnTo>
                <a:lnTo>
                  <a:pt x="2724" y="267"/>
                </a:lnTo>
                <a:lnTo>
                  <a:pt x="2739" y="297"/>
                </a:lnTo>
                <a:lnTo>
                  <a:pt x="2763" y="338"/>
                </a:lnTo>
                <a:lnTo>
                  <a:pt x="2786" y="347"/>
                </a:lnTo>
                <a:lnTo>
                  <a:pt x="2803" y="377"/>
                </a:lnTo>
                <a:lnTo>
                  <a:pt x="2827" y="476"/>
                </a:lnTo>
                <a:lnTo>
                  <a:pt x="2843" y="505"/>
                </a:lnTo>
                <a:lnTo>
                  <a:pt x="2867" y="526"/>
                </a:lnTo>
                <a:lnTo>
                  <a:pt x="2898" y="556"/>
                </a:lnTo>
                <a:lnTo>
                  <a:pt x="2922" y="595"/>
                </a:lnTo>
                <a:lnTo>
                  <a:pt x="2954" y="615"/>
                </a:lnTo>
                <a:lnTo>
                  <a:pt x="2986" y="636"/>
                </a:lnTo>
                <a:lnTo>
                  <a:pt x="3018" y="654"/>
                </a:lnTo>
                <a:lnTo>
                  <a:pt x="3042" y="675"/>
                </a:lnTo>
                <a:lnTo>
                  <a:pt x="3073" y="684"/>
                </a:lnTo>
                <a:lnTo>
                  <a:pt x="3097" y="695"/>
                </a:lnTo>
                <a:lnTo>
                  <a:pt x="3121" y="695"/>
                </a:lnTo>
                <a:lnTo>
                  <a:pt x="3216" y="695"/>
                </a:lnTo>
                <a:lnTo>
                  <a:pt x="3240" y="684"/>
                </a:lnTo>
                <a:lnTo>
                  <a:pt x="3273" y="675"/>
                </a:lnTo>
                <a:lnTo>
                  <a:pt x="3297" y="675"/>
                </a:lnTo>
                <a:lnTo>
                  <a:pt x="3393" y="675"/>
                </a:lnTo>
                <a:lnTo>
                  <a:pt x="3424" y="665"/>
                </a:lnTo>
                <a:lnTo>
                  <a:pt x="3519" y="645"/>
                </a:lnTo>
                <a:lnTo>
                  <a:pt x="3599" y="636"/>
                </a:lnTo>
                <a:lnTo>
                  <a:pt x="3631" y="636"/>
                </a:lnTo>
                <a:lnTo>
                  <a:pt x="3663" y="624"/>
                </a:lnTo>
                <a:lnTo>
                  <a:pt x="3758" y="606"/>
                </a:lnTo>
                <a:lnTo>
                  <a:pt x="3854" y="595"/>
                </a:lnTo>
                <a:lnTo>
                  <a:pt x="3949" y="585"/>
                </a:lnTo>
                <a:lnTo>
                  <a:pt x="3973" y="576"/>
                </a:lnTo>
                <a:lnTo>
                  <a:pt x="3997" y="565"/>
                </a:lnTo>
                <a:lnTo>
                  <a:pt x="4021" y="565"/>
                </a:lnTo>
                <a:lnTo>
                  <a:pt x="4100" y="565"/>
                </a:lnTo>
                <a:lnTo>
                  <a:pt x="4212" y="576"/>
                </a:lnTo>
                <a:lnTo>
                  <a:pt x="4244" y="606"/>
                </a:lnTo>
                <a:lnTo>
                  <a:pt x="4260" y="636"/>
                </a:lnTo>
                <a:lnTo>
                  <a:pt x="4276" y="665"/>
                </a:lnTo>
                <a:lnTo>
                  <a:pt x="4276" y="695"/>
                </a:lnTo>
                <a:lnTo>
                  <a:pt x="4284" y="734"/>
                </a:lnTo>
                <a:lnTo>
                  <a:pt x="4291" y="833"/>
                </a:lnTo>
                <a:lnTo>
                  <a:pt x="4300" y="874"/>
                </a:lnTo>
                <a:lnTo>
                  <a:pt x="4315" y="903"/>
                </a:lnTo>
                <a:lnTo>
                  <a:pt x="4339" y="1002"/>
                </a:lnTo>
                <a:lnTo>
                  <a:pt x="4435" y="1121"/>
                </a:lnTo>
                <a:lnTo>
                  <a:pt x="4468" y="1240"/>
                </a:lnTo>
                <a:lnTo>
                  <a:pt x="4459" y="1290"/>
                </a:lnTo>
                <a:lnTo>
                  <a:pt x="4459" y="1320"/>
                </a:lnTo>
                <a:lnTo>
                  <a:pt x="4420" y="1368"/>
                </a:lnTo>
                <a:lnTo>
                  <a:pt x="4403" y="1398"/>
                </a:lnTo>
                <a:lnTo>
                  <a:pt x="4403" y="1428"/>
                </a:lnTo>
                <a:lnTo>
                  <a:pt x="4403" y="1528"/>
                </a:lnTo>
                <a:lnTo>
                  <a:pt x="4427" y="1567"/>
                </a:lnTo>
                <a:lnTo>
                  <a:pt x="4427" y="1597"/>
                </a:lnTo>
                <a:lnTo>
                  <a:pt x="4396" y="1658"/>
                </a:lnTo>
                <a:lnTo>
                  <a:pt x="4363" y="1777"/>
                </a:lnTo>
                <a:lnTo>
                  <a:pt x="4348" y="1816"/>
                </a:lnTo>
                <a:lnTo>
                  <a:pt x="4324" y="1857"/>
                </a:lnTo>
                <a:lnTo>
                  <a:pt x="4291" y="1976"/>
                </a:lnTo>
                <a:lnTo>
                  <a:pt x="4267" y="2095"/>
                </a:lnTo>
                <a:lnTo>
                  <a:pt x="4260" y="2193"/>
                </a:lnTo>
                <a:lnTo>
                  <a:pt x="4267" y="2223"/>
                </a:lnTo>
                <a:lnTo>
                  <a:pt x="4260" y="2253"/>
                </a:lnTo>
                <a:lnTo>
                  <a:pt x="4253" y="2283"/>
                </a:lnTo>
                <a:lnTo>
                  <a:pt x="4244" y="2322"/>
                </a:lnTo>
                <a:lnTo>
                  <a:pt x="4244" y="2352"/>
                </a:lnTo>
                <a:lnTo>
                  <a:pt x="4220" y="2411"/>
                </a:lnTo>
                <a:lnTo>
                  <a:pt x="4205" y="2512"/>
                </a:lnTo>
                <a:lnTo>
                  <a:pt x="4205" y="2610"/>
                </a:lnTo>
                <a:lnTo>
                  <a:pt x="4205" y="2649"/>
                </a:lnTo>
                <a:lnTo>
                  <a:pt x="4205" y="2690"/>
                </a:lnTo>
                <a:lnTo>
                  <a:pt x="4220" y="2809"/>
                </a:lnTo>
                <a:lnTo>
                  <a:pt x="4220" y="2857"/>
                </a:lnTo>
                <a:lnTo>
                  <a:pt x="4212" y="2898"/>
                </a:lnTo>
                <a:lnTo>
                  <a:pt x="4196" y="2937"/>
                </a:lnTo>
                <a:lnTo>
                  <a:pt x="4164" y="3056"/>
                </a:lnTo>
                <a:lnTo>
                  <a:pt x="4085" y="3155"/>
                </a:lnTo>
                <a:lnTo>
                  <a:pt x="4052" y="3176"/>
                </a:lnTo>
                <a:lnTo>
                  <a:pt x="4021" y="3196"/>
                </a:lnTo>
                <a:lnTo>
                  <a:pt x="3909" y="3215"/>
                </a:lnTo>
                <a:lnTo>
                  <a:pt x="3814" y="3244"/>
                </a:lnTo>
                <a:lnTo>
                  <a:pt x="3703" y="3265"/>
                </a:lnTo>
                <a:lnTo>
                  <a:pt x="3670" y="3274"/>
                </a:lnTo>
                <a:lnTo>
                  <a:pt x="3591" y="3295"/>
                </a:lnTo>
                <a:lnTo>
                  <a:pt x="3551" y="3285"/>
                </a:lnTo>
                <a:lnTo>
                  <a:pt x="3455" y="3256"/>
                </a:lnTo>
                <a:lnTo>
                  <a:pt x="3345" y="3226"/>
                </a:lnTo>
                <a:lnTo>
                  <a:pt x="3264" y="3185"/>
                </a:lnTo>
                <a:lnTo>
                  <a:pt x="3169" y="3155"/>
                </a:lnTo>
                <a:lnTo>
                  <a:pt x="3121" y="3146"/>
                </a:lnTo>
                <a:lnTo>
                  <a:pt x="2994" y="3166"/>
                </a:lnTo>
                <a:lnTo>
                  <a:pt x="2915" y="3176"/>
                </a:lnTo>
                <a:lnTo>
                  <a:pt x="2891" y="3196"/>
                </a:lnTo>
                <a:lnTo>
                  <a:pt x="2843" y="3235"/>
                </a:lnTo>
                <a:lnTo>
                  <a:pt x="2803" y="3235"/>
                </a:lnTo>
                <a:lnTo>
                  <a:pt x="2707" y="3196"/>
                </a:lnTo>
                <a:lnTo>
                  <a:pt x="2580" y="3077"/>
                </a:lnTo>
                <a:lnTo>
                  <a:pt x="2485" y="3056"/>
                </a:lnTo>
                <a:lnTo>
                  <a:pt x="2452" y="3047"/>
                </a:lnTo>
                <a:lnTo>
                  <a:pt x="2342" y="3036"/>
                </a:lnTo>
                <a:lnTo>
                  <a:pt x="2261" y="3036"/>
                </a:lnTo>
                <a:lnTo>
                  <a:pt x="2237" y="3036"/>
                </a:lnTo>
                <a:lnTo>
                  <a:pt x="2205" y="3066"/>
                </a:lnTo>
                <a:lnTo>
                  <a:pt x="2173" y="3096"/>
                </a:lnTo>
                <a:lnTo>
                  <a:pt x="2093" y="3116"/>
                </a:lnTo>
                <a:lnTo>
                  <a:pt x="1982" y="3136"/>
                </a:lnTo>
                <a:lnTo>
                  <a:pt x="1839" y="3125"/>
                </a:lnTo>
                <a:lnTo>
                  <a:pt x="1679" y="3096"/>
                </a:lnTo>
                <a:lnTo>
                  <a:pt x="1519" y="3077"/>
                </a:lnTo>
                <a:lnTo>
                  <a:pt x="1488" y="3077"/>
                </a:lnTo>
                <a:lnTo>
                  <a:pt x="1464" y="3077"/>
                </a:lnTo>
                <a:lnTo>
                  <a:pt x="1385" y="3077"/>
                </a:lnTo>
                <a:lnTo>
                  <a:pt x="1352" y="3077"/>
                </a:lnTo>
                <a:lnTo>
                  <a:pt x="1209" y="3077"/>
                </a:lnTo>
                <a:lnTo>
                  <a:pt x="1113" y="3077"/>
                </a:lnTo>
                <a:lnTo>
                  <a:pt x="1089" y="3077"/>
                </a:lnTo>
                <a:lnTo>
                  <a:pt x="1058" y="3096"/>
                </a:lnTo>
                <a:lnTo>
                  <a:pt x="946" y="3096"/>
                </a:lnTo>
                <a:lnTo>
                  <a:pt x="771" y="3096"/>
                </a:lnTo>
                <a:lnTo>
                  <a:pt x="740" y="3086"/>
                </a:lnTo>
                <a:lnTo>
                  <a:pt x="707" y="2988"/>
                </a:lnTo>
                <a:lnTo>
                  <a:pt x="716" y="2828"/>
                </a:lnTo>
                <a:lnTo>
                  <a:pt x="740" y="2729"/>
                </a:lnTo>
                <a:lnTo>
                  <a:pt x="747" y="2690"/>
                </a:lnTo>
                <a:lnTo>
                  <a:pt x="771" y="2649"/>
                </a:lnTo>
                <a:lnTo>
                  <a:pt x="788" y="2619"/>
                </a:lnTo>
                <a:lnTo>
                  <a:pt x="788" y="2580"/>
                </a:lnTo>
                <a:lnTo>
                  <a:pt x="764" y="2482"/>
                </a:lnTo>
                <a:lnTo>
                  <a:pt x="636" y="2381"/>
                </a:lnTo>
                <a:lnTo>
                  <a:pt x="540" y="2352"/>
                </a:lnTo>
                <a:lnTo>
                  <a:pt x="540" y="2312"/>
                </a:lnTo>
                <a:lnTo>
                  <a:pt x="564" y="2173"/>
                </a:lnTo>
                <a:lnTo>
                  <a:pt x="549" y="2134"/>
                </a:lnTo>
                <a:lnTo>
                  <a:pt x="525" y="2113"/>
                </a:lnTo>
                <a:lnTo>
                  <a:pt x="516" y="2084"/>
                </a:lnTo>
                <a:lnTo>
                  <a:pt x="509" y="1946"/>
                </a:lnTo>
                <a:lnTo>
                  <a:pt x="477" y="1846"/>
                </a:lnTo>
                <a:lnTo>
                  <a:pt x="206" y="1667"/>
                </a:lnTo>
                <a:lnTo>
                  <a:pt x="95" y="1647"/>
                </a:lnTo>
                <a:lnTo>
                  <a:pt x="119" y="1636"/>
                </a:lnTo>
                <a:lnTo>
                  <a:pt x="143" y="1618"/>
                </a:lnTo>
                <a:lnTo>
                  <a:pt x="167" y="1588"/>
                </a:lnTo>
                <a:lnTo>
                  <a:pt x="191" y="1547"/>
                </a:lnTo>
                <a:lnTo>
                  <a:pt x="222" y="1517"/>
                </a:lnTo>
                <a:lnTo>
                  <a:pt x="246" y="1499"/>
                </a:lnTo>
                <a:lnTo>
                  <a:pt x="270" y="1439"/>
                </a:lnTo>
                <a:lnTo>
                  <a:pt x="126" y="1279"/>
                </a:lnTo>
                <a:lnTo>
                  <a:pt x="0" y="1240"/>
                </a:lnTo>
                <a:lnTo>
                  <a:pt x="7" y="1210"/>
                </a:lnTo>
                <a:lnTo>
                  <a:pt x="38" y="1181"/>
                </a:lnTo>
                <a:lnTo>
                  <a:pt x="119" y="1142"/>
                </a:lnTo>
                <a:lnTo>
                  <a:pt x="198" y="1101"/>
                </a:lnTo>
                <a:lnTo>
                  <a:pt x="277" y="1062"/>
                </a:lnTo>
                <a:lnTo>
                  <a:pt x="301" y="1052"/>
                </a:lnTo>
                <a:lnTo>
                  <a:pt x="334" y="1041"/>
                </a:lnTo>
                <a:lnTo>
                  <a:pt x="365" y="1032"/>
                </a:lnTo>
                <a:lnTo>
                  <a:pt x="389" y="1011"/>
                </a:lnTo>
                <a:lnTo>
                  <a:pt x="406" y="963"/>
                </a:lnTo>
                <a:lnTo>
                  <a:pt x="413" y="933"/>
                </a:lnTo>
                <a:lnTo>
                  <a:pt x="421" y="833"/>
                </a:lnTo>
                <a:lnTo>
                  <a:pt x="429" y="734"/>
                </a:lnTo>
                <a:lnTo>
                  <a:pt x="453" y="615"/>
                </a:lnTo>
                <a:lnTo>
                  <a:pt x="492" y="565"/>
                </a:lnTo>
                <a:lnTo>
                  <a:pt x="516" y="535"/>
                </a:lnTo>
                <a:lnTo>
                  <a:pt x="540" y="517"/>
                </a:lnTo>
                <a:lnTo>
                  <a:pt x="564" y="517"/>
                </a:lnTo>
                <a:lnTo>
                  <a:pt x="588" y="526"/>
                </a:lnTo>
                <a:lnTo>
                  <a:pt x="612" y="526"/>
                </a:lnTo>
                <a:lnTo>
                  <a:pt x="644" y="517"/>
                </a:lnTo>
                <a:lnTo>
                  <a:pt x="724" y="496"/>
                </a:lnTo>
                <a:lnTo>
                  <a:pt x="803" y="476"/>
                </a:lnTo>
                <a:lnTo>
                  <a:pt x="915" y="457"/>
                </a:lnTo>
                <a:lnTo>
                  <a:pt x="994" y="446"/>
                </a:lnTo>
                <a:lnTo>
                  <a:pt x="1027" y="457"/>
                </a:lnTo>
                <a:lnTo>
                  <a:pt x="1058" y="466"/>
                </a:lnTo>
                <a:lnTo>
                  <a:pt x="1082" y="496"/>
                </a:lnTo>
                <a:lnTo>
                  <a:pt x="1113" y="615"/>
                </a:lnTo>
                <a:lnTo>
                  <a:pt x="1137" y="714"/>
                </a:lnTo>
                <a:lnTo>
                  <a:pt x="1170" y="684"/>
                </a:lnTo>
                <a:lnTo>
                  <a:pt x="1194" y="684"/>
                </a:lnTo>
                <a:lnTo>
                  <a:pt x="1233" y="675"/>
                </a:lnTo>
                <a:lnTo>
                  <a:pt x="1313" y="645"/>
                </a:lnTo>
                <a:lnTo>
                  <a:pt x="1392" y="526"/>
                </a:lnTo>
                <a:lnTo>
                  <a:pt x="1424" y="505"/>
                </a:lnTo>
                <a:lnTo>
                  <a:pt x="1448" y="487"/>
                </a:lnTo>
                <a:lnTo>
                  <a:pt x="1481" y="466"/>
                </a:lnTo>
                <a:lnTo>
                  <a:pt x="1528" y="427"/>
                </a:lnTo>
                <a:lnTo>
                  <a:pt x="1552" y="416"/>
                </a:lnTo>
                <a:lnTo>
                  <a:pt x="1584" y="416"/>
                </a:lnTo>
                <a:lnTo>
                  <a:pt x="1607" y="416"/>
                </a:lnTo>
                <a:lnTo>
                  <a:pt x="1648" y="446"/>
                </a:lnTo>
                <a:lnTo>
                  <a:pt x="1679" y="466"/>
                </a:lnTo>
                <a:lnTo>
                  <a:pt x="1703" y="487"/>
                </a:lnTo>
                <a:lnTo>
                  <a:pt x="1727" y="496"/>
                </a:lnTo>
                <a:lnTo>
                  <a:pt x="1758" y="505"/>
                </a:lnTo>
                <a:lnTo>
                  <a:pt x="1791" y="526"/>
                </a:lnTo>
                <a:lnTo>
                  <a:pt x="1830" y="546"/>
                </a:lnTo>
                <a:lnTo>
                  <a:pt x="1854" y="556"/>
                </a:lnTo>
                <a:lnTo>
                  <a:pt x="1870" y="585"/>
                </a:lnTo>
              </a:path>
            </a:pathLst>
          </a:cu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3429000"/>
            <a:ext cx="1828800" cy="1066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84760" y="2347920"/>
            <a:ext cx="2868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_a_kind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3640" y="57769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867280"/>
            <a:ext cx="457560" cy="381240"/>
          </a:xfrm>
          <a:custGeom>
            <a:avLst/>
            <a:gdLst/>
            <a:ahLst/>
            <a:rect l="0" t="0" r="r" b="b"/>
            <a:pathLst>
              <a:path fill="none" w="1271" h="1059">
                <a:moveTo>
                  <a:pt x="1271" y="0"/>
                </a:moveTo>
                <a:lnTo>
                  <a:pt x="0" y="0"/>
                </a:lnTo>
                <a:lnTo>
                  <a:pt x="635" y="1059"/>
                </a:lnTo>
                <a:lnTo>
                  <a:pt x="127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27160" y="5776920"/>
            <a:ext cx="2587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irtual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175280" y="394812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038480"/>
            <a:ext cx="457560" cy="381240"/>
          </a:xfrm>
          <a:custGeom>
            <a:avLst/>
            <a:gdLst/>
            <a:ahLst/>
            <a:rect l="0" t="0" r="r" b="b"/>
            <a:pathLst>
              <a:path fill="none" w="1271" h="1059">
                <a:moveTo>
                  <a:pt x="1271" y="0"/>
                </a:moveTo>
                <a:lnTo>
                  <a:pt x="0" y="0"/>
                </a:lnTo>
                <a:lnTo>
                  <a:pt x="635" y="1059"/>
                </a:lnTo>
                <a:lnTo>
                  <a:pt x="127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S</dc:creator>
  <dc:description/>
  <dc:language>en-US</dc:language>
  <cp:lastModifiedBy>CIS</cp:lastModifiedBy>
  <cp:revision>0</cp:revision>
  <dc:subject/>
  <dc:title>Booch and CRC</dc:title>
</cp:coreProperties>
</file>