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3743-ACA7-4B30-89D9-C92D6D3F5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2 Personnel effort budget (for 1 Sem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1 Financial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4E7-F3A7-488D-9BB8-1DADC806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205-D6D4-4F46-9870-AA695915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98B-D3BA-4FFE-A040-02AED012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015-5407-4DC3-8282-BC1C0350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67D2-DF5C-4732-B279-5867F71B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A0E0-721B-49BA-AF1E-3615A696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9F55-EAC3-4C2C-BF51-39719FF4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6296-A4A4-484B-8460-1DDCAFE1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BC5D-3F25-4EC6-8859-36984763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DBE8-77FD-4D3B-AA7D-D647100A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A6D9-B783-4010-9685-E6AD65DC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C83-4FCC-43C9-BA7D-C34F677A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80D0-1008-469C-BBF9-782161F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3E7C-2DD8-412B-84CB-80CD31A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EF97-2949-4A4A-89D6-C36DF0C9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098-B10F-4512-ADCD-A2CCA9F6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E89E-F33B-4D88-94A8-BB5158A0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E30-3445-46F5-90A4-42F81CB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932-D796-445B-97B9-A039BE6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8F8-C4EB-4A55-A32B-991DA656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559-9A1C-45DB-962E-0C7C8BD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DF7-8A87-4199-BAEA-C737023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4A7-C640-4CE9-8634-853D2DD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0EA-22D9-4A06-BA19-B7BD8A0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E9B-9CF1-45B2-9F86-0F2D35D9492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2224-7F8D-4959-A8E3-491670668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B7B-EC45-48B3-9534-9F09CA27169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1D03-71A5-4622-B650-470BBBA6D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304920"/>
            <a:ext cx="769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65320" y="1973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295280"/>
            <a:ext cx="7696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Client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. Gerald B. Shéb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Faculty advisor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Daniel Berle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r. Gerald B. Shéb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eam member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ang Van Ph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seph Richard Ar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i-Peng Cheo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i-Teng L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ISION SUPPORT SYSTE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May-0210</a:t>
            </a:r>
            <a:br>
              <a:rPr sz="2000"/>
            </a:b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261-2E94-42CD-B472-9F702FE4AA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08884-DEF7-4D20-8C04-2817374115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sumptions and Limitations     (cont.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asic computer and software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al knowledge of Microsoft Visual Ba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al knowledge of engineering 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7CC-0E99-4F05-B8C9-89A12C270C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FB5F3-2E33-4494-8C0C-7E051A9311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ject Risks and Concer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 was not clearly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ing the project o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of Visual Ba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 of econom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82B-35BA-4AD1-BE3A-B7FF7C13523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9A877-F482-4EC2-8DA0-3BE9E9C33F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 based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Excel as our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EBF-83D5-446A-9314-5E32FDFFCB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182A0-BD48-4307-B000-FF5D9B61E9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Approach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628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Approach Flow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2209680"/>
          <a:ext cx="7772400" cy="22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77240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49F-368B-46B2-A427-E811A2D633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217BE-9851-4ECD-BE1C-FC435370C9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Approach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data received from a 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1447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47920" y="2057400"/>
          <a:ext cx="704664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70466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410080" y="1981080"/>
          <a:ext cx="33912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1981080"/>
                    <a:ext cx="3391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EB3-C875-43F3-8F05-5A2BDD345A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BC5EA-E2C3-48F0-975A-DA32CB32A9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Approach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6694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data after the data has been valid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523880" y="2286000"/>
          <a:ext cx="730584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0"/>
                    <a:ext cx="73058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505320" y="2057400"/>
          <a:ext cx="548640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057400"/>
                    <a:ext cx="54864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D64-EC11-47DF-A9AF-E67A2DDB4B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858EA-3FAD-4462-ABDD-BCD367B153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Approach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7454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data after it has been stored in the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71600" y="2286000"/>
          <a:ext cx="74898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7489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724280" y="2057400"/>
          <a:ext cx="42577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057400"/>
                    <a:ext cx="4257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5F8-B6EA-44A2-8F3B-1ACDDD9AE1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CA303-1CE7-4E12-8194-B5A1E350B1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Approach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7364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of simple user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71600" y="1905120"/>
          <a:ext cx="7442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7442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D86-0E8C-42C2-855D-8BBCF94E32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08241-4E50-4C77-9FED-3945664A51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7454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of data after using the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chnical Approach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2286000"/>
          <a:ext cx="739152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73915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4E6-2A2B-4860-9AC2-6F31DF253E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83833-6C81-4047-A019-7559C76FB6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alua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Project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efine the functiona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Understand the basic engineering economic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ata Dictio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xtraction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Validation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uild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Build simple user interf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ntegration and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F17-0F90-403D-8B76-364CE54BC6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AF6C1-8D46-4583-9622-820F852C37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lem Stat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Obj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Product De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umptions and Limi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 Risks and Conc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luation of Project Su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ommendations for Further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man and Financial Budg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sons Lear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ing Summ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gram De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0BE-E9B2-4A99-80E2-EBCFAE1B16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B7AC8-9A17-4909-8B55-E674B2A337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aluation of Project Success (cont.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990720"/>
          <a:ext cx="7355160" cy="51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735516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07B-945E-4F4F-AAA1-F10F822A20E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3A28B-9214-4F88-96B4-E8233678F0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Recommendations for Future Work</a:t>
            </a:r>
            <a:endParaRPr b="0" lang="en-US" sz="3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Continued/Additional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a better user-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 to look for better database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more decision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Commerc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mark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businesses and academic instit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511-1386-497D-AEC9-FD9E7BA125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2CC00-0D6A-45EA-BCC1-033CF47AD5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219320" y="1371600"/>
          <a:ext cx="7765920" cy="3565440"/>
        </p:xfrm>
        <a:graphic>
          <a:graphicData uri="http://schemas.openxmlformats.org/drawingml/2006/table">
            <a:tbl>
              <a:tblPr/>
              <a:tblGrid>
                <a:gridCol w="1904760"/>
                <a:gridCol w="1981440"/>
                <a:gridCol w="2057400"/>
                <a:gridCol w="1822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am Memb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Estimated Eff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vised Estimated Eff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ual Effort to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ang Van Ph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2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i-Teng Le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9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4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seph Ar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9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9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i-Peng Che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0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5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4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Eff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8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4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0 Ho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3123000" y="5105520"/>
            <a:ext cx="423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ersonnel effort budget (for 2 Semester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uman Budge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D4E-B79F-4621-978F-75479DC519F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72A0F-9014-4F47-BBBC-68A4235827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nancial Budge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2860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23880" y="1600200"/>
          <a:ext cx="7239240" cy="2768400"/>
        </p:xfrm>
        <a:graphic>
          <a:graphicData uri="http://schemas.openxmlformats.org/drawingml/2006/table">
            <a:tbl>
              <a:tblPr/>
              <a:tblGrid>
                <a:gridCol w="1627200"/>
                <a:gridCol w="1870200"/>
                <a:gridCol w="1871640"/>
                <a:gridCol w="1870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Estimated Budg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vised Estimated Budg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ual Cost to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41.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 Cos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41.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CE5-846D-4B90-BD30-8AC9C36BD1E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56B87-7D20-40F5-BEFB-BA1F3EE09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ways be prepared (Murphy’s La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communication is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management – time confli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 definition of the project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keep everyone on t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echn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Visual Bas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ering Economic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824-9B98-46CD-B1B4-146FE74D67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59F5B-F335-4A6F-A05C-6DC216EA66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osing 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an organized representation of a company’s da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ompany to keep track of the current market situ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s in making decisions on business plan expa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993-C67C-4A73-B9AF-FE9BC48760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6352C-37EE-4A22-B1EA-2E7301B111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8288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6FED-44DD-47EF-B5D7-6A783C0212E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9871F69-ECFE-47DB-93DA-75499066CC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reate a text extraction software for business compan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le to retrieve data (keywords) in text format using Microsoft Visual Basi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using Data Diction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the data stored Excel spreadshe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9AA-47FE-417E-927D-B5F915C56C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0979C-8C9E-4411-8ECF-3233D3C5A0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ign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6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unctionalitie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6480" indent="-9064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rieve data accur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6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urrent assets, investing activ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6480" indent="-9064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ates collect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6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out-of-range valu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6480" indent="-9064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simple graphical user interf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6480" indent="-9064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tutorial for first-time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6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912-9AA2-4FD5-93E8-5914CE7398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BAE77-F49C-4F0A-873D-908DD810F0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ign Objectives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perating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Windows-based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offic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104-FB2C-4A20-A7E8-6822821A66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B63D5-4A56-496E-BE66-A10845B8AD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ign Objectives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ntended users and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management gro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arketing personnel and engine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updat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analysis for decision-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current market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CB3-F6D1-4989-BE43-F947AEAA5F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D64B3-AA54-4F7F-B98A-243E2F520A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ign Objectives (cont.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esign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ar algorithm (O(n)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es data only from text fi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data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61B-52CD-44C4-A958-E0C38C2D38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5A34A-9FD4-410F-9632-DA56C5581C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43000" y="16765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nd-Product Descrip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her and retrieve importan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updat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CF7-6728-4172-BF3F-088FE04444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49756-7B48-4238-B315-0DB7122D77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68580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447920"/>
            <a:ext cx="769644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ata input will increase as the business gr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crosoft Windows-based operat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ata input quarterly st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quarter data in one text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um runtime is li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ssumptions and Limita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1A7-16A9-4B2A-9FE5-AD211AB48E9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6EE1E-BBD8-4BE5-9238-0ED6A7EB7C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4:45:51Z</dcterms:created>
  <dc:creator>Chok</dc:creator>
  <dc:description/>
  <dc:language>en-US</dc:language>
  <cp:lastModifiedBy>Chok</cp:lastModifiedBy>
  <dcterms:modified xsi:type="dcterms:W3CDTF">2002-05-01T16:32:46Z</dcterms:modified>
  <cp:revision>203</cp:revision>
  <dc:subject/>
  <dc:title>Problem Statement</dc:title>
</cp:coreProperties>
</file>