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och and C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327 week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252 week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92280" y="2548080"/>
            <a:ext cx="1609560" cy="1187280"/>
          </a:xfrm>
          <a:custGeom>
            <a:avLst/>
            <a:gdLst/>
            <a:ahLst/>
            <a:rect l="l" t="t" r="r" b="b"/>
            <a:pathLst>
              <a:path w="1014" h="748">
                <a:moveTo>
                  <a:pt x="424" y="133"/>
                </a:moveTo>
                <a:lnTo>
                  <a:pt x="431" y="121"/>
                </a:lnTo>
                <a:lnTo>
                  <a:pt x="439" y="94"/>
                </a:lnTo>
                <a:lnTo>
                  <a:pt x="444" y="63"/>
                </a:lnTo>
                <a:lnTo>
                  <a:pt x="451" y="36"/>
                </a:lnTo>
                <a:lnTo>
                  <a:pt x="457" y="27"/>
                </a:lnTo>
                <a:lnTo>
                  <a:pt x="464" y="20"/>
                </a:lnTo>
                <a:lnTo>
                  <a:pt x="471" y="13"/>
                </a:lnTo>
                <a:lnTo>
                  <a:pt x="478" y="7"/>
                </a:lnTo>
                <a:lnTo>
                  <a:pt x="486" y="5"/>
                </a:lnTo>
                <a:lnTo>
                  <a:pt x="493" y="3"/>
                </a:lnTo>
                <a:lnTo>
                  <a:pt x="500" y="0"/>
                </a:lnTo>
                <a:lnTo>
                  <a:pt x="507" y="0"/>
                </a:lnTo>
                <a:lnTo>
                  <a:pt x="515" y="0"/>
                </a:lnTo>
                <a:lnTo>
                  <a:pt x="520" y="3"/>
                </a:lnTo>
                <a:lnTo>
                  <a:pt x="527" y="3"/>
                </a:lnTo>
                <a:lnTo>
                  <a:pt x="533" y="5"/>
                </a:lnTo>
                <a:lnTo>
                  <a:pt x="538" y="7"/>
                </a:lnTo>
                <a:lnTo>
                  <a:pt x="543" y="7"/>
                </a:lnTo>
                <a:lnTo>
                  <a:pt x="549" y="9"/>
                </a:lnTo>
                <a:lnTo>
                  <a:pt x="556" y="13"/>
                </a:lnTo>
                <a:lnTo>
                  <a:pt x="561" y="16"/>
                </a:lnTo>
                <a:lnTo>
                  <a:pt x="569" y="20"/>
                </a:lnTo>
                <a:lnTo>
                  <a:pt x="580" y="27"/>
                </a:lnTo>
                <a:lnTo>
                  <a:pt x="587" y="34"/>
                </a:lnTo>
                <a:lnTo>
                  <a:pt x="594" y="36"/>
                </a:lnTo>
                <a:lnTo>
                  <a:pt x="601" y="40"/>
                </a:lnTo>
                <a:lnTo>
                  <a:pt x="608" y="45"/>
                </a:lnTo>
                <a:lnTo>
                  <a:pt x="616" y="54"/>
                </a:lnTo>
                <a:lnTo>
                  <a:pt x="618" y="61"/>
                </a:lnTo>
                <a:lnTo>
                  <a:pt x="621" y="67"/>
                </a:lnTo>
                <a:lnTo>
                  <a:pt x="626" y="77"/>
                </a:lnTo>
                <a:lnTo>
                  <a:pt x="632" y="79"/>
                </a:lnTo>
                <a:lnTo>
                  <a:pt x="635" y="86"/>
                </a:lnTo>
                <a:lnTo>
                  <a:pt x="641" y="108"/>
                </a:lnTo>
                <a:lnTo>
                  <a:pt x="645" y="115"/>
                </a:lnTo>
                <a:lnTo>
                  <a:pt x="650" y="119"/>
                </a:lnTo>
                <a:lnTo>
                  <a:pt x="657" y="126"/>
                </a:lnTo>
                <a:lnTo>
                  <a:pt x="663" y="135"/>
                </a:lnTo>
                <a:lnTo>
                  <a:pt x="670" y="140"/>
                </a:lnTo>
                <a:lnTo>
                  <a:pt x="677" y="144"/>
                </a:lnTo>
                <a:lnTo>
                  <a:pt x="684" y="148"/>
                </a:lnTo>
                <a:lnTo>
                  <a:pt x="690" y="153"/>
                </a:lnTo>
                <a:lnTo>
                  <a:pt x="697" y="155"/>
                </a:lnTo>
                <a:lnTo>
                  <a:pt x="702" y="158"/>
                </a:lnTo>
                <a:lnTo>
                  <a:pt x="708" y="158"/>
                </a:lnTo>
                <a:lnTo>
                  <a:pt x="729" y="158"/>
                </a:lnTo>
                <a:lnTo>
                  <a:pt x="735" y="155"/>
                </a:lnTo>
                <a:lnTo>
                  <a:pt x="742" y="153"/>
                </a:lnTo>
                <a:lnTo>
                  <a:pt x="748" y="153"/>
                </a:lnTo>
                <a:lnTo>
                  <a:pt x="769" y="153"/>
                </a:lnTo>
                <a:lnTo>
                  <a:pt x="776" y="151"/>
                </a:lnTo>
                <a:lnTo>
                  <a:pt x="798" y="146"/>
                </a:lnTo>
                <a:lnTo>
                  <a:pt x="816" y="144"/>
                </a:lnTo>
                <a:lnTo>
                  <a:pt x="823" y="144"/>
                </a:lnTo>
                <a:lnTo>
                  <a:pt x="831" y="142"/>
                </a:lnTo>
                <a:lnTo>
                  <a:pt x="852" y="138"/>
                </a:lnTo>
                <a:lnTo>
                  <a:pt x="874" y="135"/>
                </a:lnTo>
                <a:lnTo>
                  <a:pt x="896" y="133"/>
                </a:lnTo>
                <a:lnTo>
                  <a:pt x="901" y="131"/>
                </a:lnTo>
                <a:lnTo>
                  <a:pt x="906" y="128"/>
                </a:lnTo>
                <a:lnTo>
                  <a:pt x="912" y="128"/>
                </a:lnTo>
                <a:lnTo>
                  <a:pt x="930" y="128"/>
                </a:lnTo>
                <a:lnTo>
                  <a:pt x="955" y="131"/>
                </a:lnTo>
                <a:lnTo>
                  <a:pt x="962" y="138"/>
                </a:lnTo>
                <a:lnTo>
                  <a:pt x="966" y="144"/>
                </a:lnTo>
                <a:lnTo>
                  <a:pt x="970" y="151"/>
                </a:lnTo>
                <a:lnTo>
                  <a:pt x="970" y="158"/>
                </a:lnTo>
                <a:lnTo>
                  <a:pt x="971" y="167"/>
                </a:lnTo>
                <a:lnTo>
                  <a:pt x="973" y="189"/>
                </a:lnTo>
                <a:lnTo>
                  <a:pt x="975" y="198"/>
                </a:lnTo>
                <a:lnTo>
                  <a:pt x="978" y="205"/>
                </a:lnTo>
                <a:lnTo>
                  <a:pt x="984" y="227"/>
                </a:lnTo>
                <a:lnTo>
                  <a:pt x="1006" y="254"/>
                </a:lnTo>
                <a:lnTo>
                  <a:pt x="1013" y="281"/>
                </a:lnTo>
                <a:lnTo>
                  <a:pt x="1011" y="293"/>
                </a:lnTo>
                <a:lnTo>
                  <a:pt x="1011" y="299"/>
                </a:lnTo>
                <a:lnTo>
                  <a:pt x="1002" y="310"/>
                </a:lnTo>
                <a:lnTo>
                  <a:pt x="998" y="317"/>
                </a:lnTo>
                <a:lnTo>
                  <a:pt x="998" y="324"/>
                </a:lnTo>
                <a:lnTo>
                  <a:pt x="998" y="347"/>
                </a:lnTo>
                <a:lnTo>
                  <a:pt x="1004" y="356"/>
                </a:lnTo>
                <a:lnTo>
                  <a:pt x="1004" y="362"/>
                </a:lnTo>
                <a:lnTo>
                  <a:pt x="997" y="376"/>
                </a:lnTo>
                <a:lnTo>
                  <a:pt x="989" y="403"/>
                </a:lnTo>
                <a:lnTo>
                  <a:pt x="986" y="412"/>
                </a:lnTo>
                <a:lnTo>
                  <a:pt x="980" y="421"/>
                </a:lnTo>
                <a:lnTo>
                  <a:pt x="973" y="448"/>
                </a:lnTo>
                <a:lnTo>
                  <a:pt x="968" y="475"/>
                </a:lnTo>
                <a:lnTo>
                  <a:pt x="966" y="497"/>
                </a:lnTo>
                <a:lnTo>
                  <a:pt x="968" y="504"/>
                </a:lnTo>
                <a:lnTo>
                  <a:pt x="966" y="511"/>
                </a:lnTo>
                <a:lnTo>
                  <a:pt x="964" y="518"/>
                </a:lnTo>
                <a:lnTo>
                  <a:pt x="962" y="526"/>
                </a:lnTo>
                <a:lnTo>
                  <a:pt x="962" y="533"/>
                </a:lnTo>
                <a:lnTo>
                  <a:pt x="957" y="547"/>
                </a:lnTo>
                <a:lnTo>
                  <a:pt x="953" y="569"/>
                </a:lnTo>
                <a:lnTo>
                  <a:pt x="953" y="592"/>
                </a:lnTo>
                <a:lnTo>
                  <a:pt x="953" y="601"/>
                </a:lnTo>
                <a:lnTo>
                  <a:pt x="953" y="610"/>
                </a:lnTo>
                <a:lnTo>
                  <a:pt x="957" y="637"/>
                </a:lnTo>
                <a:lnTo>
                  <a:pt x="957" y="648"/>
                </a:lnTo>
                <a:lnTo>
                  <a:pt x="955" y="657"/>
                </a:lnTo>
                <a:lnTo>
                  <a:pt x="951" y="666"/>
                </a:lnTo>
                <a:lnTo>
                  <a:pt x="944" y="693"/>
                </a:lnTo>
                <a:lnTo>
                  <a:pt x="926" y="715"/>
                </a:lnTo>
                <a:lnTo>
                  <a:pt x="919" y="720"/>
                </a:lnTo>
                <a:lnTo>
                  <a:pt x="912" y="725"/>
                </a:lnTo>
                <a:lnTo>
                  <a:pt x="886" y="729"/>
                </a:lnTo>
                <a:lnTo>
                  <a:pt x="865" y="736"/>
                </a:lnTo>
                <a:lnTo>
                  <a:pt x="840" y="740"/>
                </a:lnTo>
                <a:lnTo>
                  <a:pt x="832" y="742"/>
                </a:lnTo>
                <a:lnTo>
                  <a:pt x="814" y="747"/>
                </a:lnTo>
                <a:lnTo>
                  <a:pt x="805" y="745"/>
                </a:lnTo>
                <a:lnTo>
                  <a:pt x="783" y="738"/>
                </a:lnTo>
                <a:lnTo>
                  <a:pt x="758" y="731"/>
                </a:lnTo>
                <a:lnTo>
                  <a:pt x="740" y="722"/>
                </a:lnTo>
                <a:lnTo>
                  <a:pt x="718" y="715"/>
                </a:lnTo>
                <a:lnTo>
                  <a:pt x="708" y="713"/>
                </a:lnTo>
                <a:lnTo>
                  <a:pt x="679" y="718"/>
                </a:lnTo>
                <a:lnTo>
                  <a:pt x="661" y="720"/>
                </a:lnTo>
                <a:lnTo>
                  <a:pt x="655" y="725"/>
                </a:lnTo>
                <a:lnTo>
                  <a:pt x="645" y="734"/>
                </a:lnTo>
                <a:lnTo>
                  <a:pt x="635" y="734"/>
                </a:lnTo>
                <a:lnTo>
                  <a:pt x="614" y="725"/>
                </a:lnTo>
                <a:lnTo>
                  <a:pt x="585" y="698"/>
                </a:lnTo>
                <a:lnTo>
                  <a:pt x="563" y="693"/>
                </a:lnTo>
                <a:lnTo>
                  <a:pt x="556" y="691"/>
                </a:lnTo>
                <a:lnTo>
                  <a:pt x="531" y="688"/>
                </a:lnTo>
                <a:lnTo>
                  <a:pt x="513" y="688"/>
                </a:lnTo>
                <a:lnTo>
                  <a:pt x="507" y="688"/>
                </a:lnTo>
                <a:lnTo>
                  <a:pt x="500" y="695"/>
                </a:lnTo>
                <a:lnTo>
                  <a:pt x="493" y="702"/>
                </a:lnTo>
                <a:lnTo>
                  <a:pt x="475" y="707"/>
                </a:lnTo>
                <a:lnTo>
                  <a:pt x="450" y="711"/>
                </a:lnTo>
                <a:lnTo>
                  <a:pt x="417" y="709"/>
                </a:lnTo>
                <a:lnTo>
                  <a:pt x="381" y="702"/>
                </a:lnTo>
                <a:lnTo>
                  <a:pt x="345" y="698"/>
                </a:lnTo>
                <a:lnTo>
                  <a:pt x="338" y="698"/>
                </a:lnTo>
                <a:lnTo>
                  <a:pt x="332" y="698"/>
                </a:lnTo>
                <a:lnTo>
                  <a:pt x="314" y="698"/>
                </a:lnTo>
                <a:lnTo>
                  <a:pt x="307" y="698"/>
                </a:lnTo>
                <a:lnTo>
                  <a:pt x="274" y="698"/>
                </a:lnTo>
                <a:lnTo>
                  <a:pt x="253" y="698"/>
                </a:lnTo>
                <a:lnTo>
                  <a:pt x="247" y="698"/>
                </a:lnTo>
                <a:lnTo>
                  <a:pt x="240" y="702"/>
                </a:lnTo>
                <a:lnTo>
                  <a:pt x="215" y="702"/>
                </a:lnTo>
                <a:lnTo>
                  <a:pt x="175" y="702"/>
                </a:lnTo>
                <a:lnTo>
                  <a:pt x="168" y="700"/>
                </a:lnTo>
                <a:lnTo>
                  <a:pt x="160" y="677"/>
                </a:lnTo>
                <a:lnTo>
                  <a:pt x="163" y="641"/>
                </a:lnTo>
                <a:lnTo>
                  <a:pt x="168" y="619"/>
                </a:lnTo>
                <a:lnTo>
                  <a:pt x="170" y="610"/>
                </a:lnTo>
                <a:lnTo>
                  <a:pt x="175" y="601"/>
                </a:lnTo>
                <a:lnTo>
                  <a:pt x="179" y="594"/>
                </a:lnTo>
                <a:lnTo>
                  <a:pt x="179" y="585"/>
                </a:lnTo>
                <a:lnTo>
                  <a:pt x="173" y="563"/>
                </a:lnTo>
                <a:lnTo>
                  <a:pt x="144" y="540"/>
                </a:lnTo>
                <a:lnTo>
                  <a:pt x="123" y="533"/>
                </a:lnTo>
                <a:lnTo>
                  <a:pt x="123" y="524"/>
                </a:lnTo>
                <a:lnTo>
                  <a:pt x="128" y="493"/>
                </a:lnTo>
                <a:lnTo>
                  <a:pt x="125" y="484"/>
                </a:lnTo>
                <a:lnTo>
                  <a:pt x="119" y="479"/>
                </a:lnTo>
                <a:lnTo>
                  <a:pt x="117" y="472"/>
                </a:lnTo>
                <a:lnTo>
                  <a:pt x="115" y="441"/>
                </a:lnTo>
                <a:lnTo>
                  <a:pt x="108" y="418"/>
                </a:lnTo>
                <a:lnTo>
                  <a:pt x="47" y="378"/>
                </a:lnTo>
                <a:lnTo>
                  <a:pt x="22" y="374"/>
                </a:lnTo>
                <a:lnTo>
                  <a:pt x="27" y="371"/>
                </a:lnTo>
                <a:lnTo>
                  <a:pt x="33" y="367"/>
                </a:lnTo>
                <a:lnTo>
                  <a:pt x="38" y="360"/>
                </a:lnTo>
                <a:lnTo>
                  <a:pt x="43" y="351"/>
                </a:lnTo>
                <a:lnTo>
                  <a:pt x="50" y="344"/>
                </a:lnTo>
                <a:lnTo>
                  <a:pt x="56" y="340"/>
                </a:lnTo>
                <a:lnTo>
                  <a:pt x="61" y="326"/>
                </a:lnTo>
                <a:lnTo>
                  <a:pt x="29" y="290"/>
                </a:lnTo>
                <a:lnTo>
                  <a:pt x="0" y="281"/>
                </a:lnTo>
                <a:lnTo>
                  <a:pt x="2" y="275"/>
                </a:lnTo>
                <a:lnTo>
                  <a:pt x="9" y="268"/>
                </a:lnTo>
                <a:lnTo>
                  <a:pt x="27" y="259"/>
                </a:lnTo>
                <a:lnTo>
                  <a:pt x="45" y="250"/>
                </a:lnTo>
                <a:lnTo>
                  <a:pt x="63" y="241"/>
                </a:lnTo>
                <a:lnTo>
                  <a:pt x="68" y="239"/>
                </a:lnTo>
                <a:lnTo>
                  <a:pt x="76" y="236"/>
                </a:lnTo>
                <a:lnTo>
                  <a:pt x="83" y="234"/>
                </a:lnTo>
                <a:lnTo>
                  <a:pt x="88" y="229"/>
                </a:lnTo>
                <a:lnTo>
                  <a:pt x="92" y="218"/>
                </a:lnTo>
                <a:lnTo>
                  <a:pt x="94" y="212"/>
                </a:lnTo>
                <a:lnTo>
                  <a:pt x="95" y="189"/>
                </a:lnTo>
                <a:lnTo>
                  <a:pt x="98" y="167"/>
                </a:lnTo>
                <a:lnTo>
                  <a:pt x="103" y="140"/>
                </a:lnTo>
                <a:lnTo>
                  <a:pt x="112" y="128"/>
                </a:lnTo>
                <a:lnTo>
                  <a:pt x="117" y="121"/>
                </a:lnTo>
                <a:lnTo>
                  <a:pt x="123" y="117"/>
                </a:lnTo>
                <a:lnTo>
                  <a:pt x="128" y="117"/>
                </a:lnTo>
                <a:lnTo>
                  <a:pt x="133" y="119"/>
                </a:lnTo>
                <a:lnTo>
                  <a:pt x="139" y="119"/>
                </a:lnTo>
                <a:lnTo>
                  <a:pt x="146" y="117"/>
                </a:lnTo>
                <a:lnTo>
                  <a:pt x="164" y="113"/>
                </a:lnTo>
                <a:lnTo>
                  <a:pt x="182" y="108"/>
                </a:lnTo>
                <a:lnTo>
                  <a:pt x="208" y="104"/>
                </a:lnTo>
                <a:lnTo>
                  <a:pt x="225" y="101"/>
                </a:lnTo>
                <a:lnTo>
                  <a:pt x="233" y="104"/>
                </a:lnTo>
                <a:lnTo>
                  <a:pt x="240" y="106"/>
                </a:lnTo>
                <a:lnTo>
                  <a:pt x="245" y="113"/>
                </a:lnTo>
                <a:lnTo>
                  <a:pt x="253" y="140"/>
                </a:lnTo>
                <a:lnTo>
                  <a:pt x="258" y="162"/>
                </a:lnTo>
                <a:lnTo>
                  <a:pt x="265" y="155"/>
                </a:lnTo>
                <a:lnTo>
                  <a:pt x="271" y="155"/>
                </a:lnTo>
                <a:lnTo>
                  <a:pt x="280" y="153"/>
                </a:lnTo>
                <a:lnTo>
                  <a:pt x="298" y="146"/>
                </a:lnTo>
                <a:lnTo>
                  <a:pt x="316" y="119"/>
                </a:lnTo>
                <a:lnTo>
                  <a:pt x="323" y="115"/>
                </a:lnTo>
                <a:lnTo>
                  <a:pt x="328" y="111"/>
                </a:lnTo>
                <a:lnTo>
                  <a:pt x="336" y="106"/>
                </a:lnTo>
                <a:lnTo>
                  <a:pt x="347" y="97"/>
                </a:lnTo>
                <a:lnTo>
                  <a:pt x="352" y="94"/>
                </a:lnTo>
                <a:lnTo>
                  <a:pt x="359" y="94"/>
                </a:lnTo>
                <a:lnTo>
                  <a:pt x="365" y="94"/>
                </a:lnTo>
                <a:lnTo>
                  <a:pt x="374" y="101"/>
                </a:lnTo>
                <a:lnTo>
                  <a:pt x="381" y="106"/>
                </a:lnTo>
                <a:lnTo>
                  <a:pt x="386" y="111"/>
                </a:lnTo>
                <a:lnTo>
                  <a:pt x="392" y="113"/>
                </a:lnTo>
                <a:lnTo>
                  <a:pt x="399" y="115"/>
                </a:lnTo>
                <a:lnTo>
                  <a:pt x="406" y="119"/>
                </a:lnTo>
                <a:lnTo>
                  <a:pt x="415" y="124"/>
                </a:lnTo>
                <a:lnTo>
                  <a:pt x="421" y="126"/>
                </a:lnTo>
                <a:lnTo>
                  <a:pt x="424" y="133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92680" y="4300560"/>
            <a:ext cx="1609560" cy="1187280"/>
          </a:xfrm>
          <a:custGeom>
            <a:avLst/>
            <a:gdLst/>
            <a:ahLst/>
            <a:rect l="l" t="t" r="r" b="b"/>
            <a:pathLst>
              <a:path w="1014" h="748">
                <a:moveTo>
                  <a:pt x="424" y="133"/>
                </a:moveTo>
                <a:lnTo>
                  <a:pt x="431" y="121"/>
                </a:lnTo>
                <a:lnTo>
                  <a:pt x="439" y="94"/>
                </a:lnTo>
                <a:lnTo>
                  <a:pt x="444" y="63"/>
                </a:lnTo>
                <a:lnTo>
                  <a:pt x="451" y="36"/>
                </a:lnTo>
                <a:lnTo>
                  <a:pt x="457" y="27"/>
                </a:lnTo>
                <a:lnTo>
                  <a:pt x="464" y="20"/>
                </a:lnTo>
                <a:lnTo>
                  <a:pt x="471" y="13"/>
                </a:lnTo>
                <a:lnTo>
                  <a:pt x="478" y="7"/>
                </a:lnTo>
                <a:lnTo>
                  <a:pt x="486" y="5"/>
                </a:lnTo>
                <a:lnTo>
                  <a:pt x="493" y="3"/>
                </a:lnTo>
                <a:lnTo>
                  <a:pt x="500" y="0"/>
                </a:lnTo>
                <a:lnTo>
                  <a:pt x="507" y="0"/>
                </a:lnTo>
                <a:lnTo>
                  <a:pt x="515" y="0"/>
                </a:lnTo>
                <a:lnTo>
                  <a:pt x="520" y="3"/>
                </a:lnTo>
                <a:lnTo>
                  <a:pt x="527" y="3"/>
                </a:lnTo>
                <a:lnTo>
                  <a:pt x="533" y="5"/>
                </a:lnTo>
                <a:lnTo>
                  <a:pt x="538" y="7"/>
                </a:lnTo>
                <a:lnTo>
                  <a:pt x="543" y="7"/>
                </a:lnTo>
                <a:lnTo>
                  <a:pt x="549" y="9"/>
                </a:lnTo>
                <a:lnTo>
                  <a:pt x="556" y="13"/>
                </a:lnTo>
                <a:lnTo>
                  <a:pt x="561" y="16"/>
                </a:lnTo>
                <a:lnTo>
                  <a:pt x="569" y="20"/>
                </a:lnTo>
                <a:lnTo>
                  <a:pt x="580" y="27"/>
                </a:lnTo>
                <a:lnTo>
                  <a:pt x="587" y="34"/>
                </a:lnTo>
                <a:lnTo>
                  <a:pt x="594" y="36"/>
                </a:lnTo>
                <a:lnTo>
                  <a:pt x="601" y="40"/>
                </a:lnTo>
                <a:lnTo>
                  <a:pt x="608" y="45"/>
                </a:lnTo>
                <a:lnTo>
                  <a:pt x="616" y="54"/>
                </a:lnTo>
                <a:lnTo>
                  <a:pt x="618" y="61"/>
                </a:lnTo>
                <a:lnTo>
                  <a:pt x="621" y="67"/>
                </a:lnTo>
                <a:lnTo>
                  <a:pt x="626" y="77"/>
                </a:lnTo>
                <a:lnTo>
                  <a:pt x="632" y="79"/>
                </a:lnTo>
                <a:lnTo>
                  <a:pt x="635" y="86"/>
                </a:lnTo>
                <a:lnTo>
                  <a:pt x="641" y="108"/>
                </a:lnTo>
                <a:lnTo>
                  <a:pt x="645" y="115"/>
                </a:lnTo>
                <a:lnTo>
                  <a:pt x="650" y="119"/>
                </a:lnTo>
                <a:lnTo>
                  <a:pt x="657" y="126"/>
                </a:lnTo>
                <a:lnTo>
                  <a:pt x="663" y="135"/>
                </a:lnTo>
                <a:lnTo>
                  <a:pt x="670" y="140"/>
                </a:lnTo>
                <a:lnTo>
                  <a:pt x="677" y="144"/>
                </a:lnTo>
                <a:lnTo>
                  <a:pt x="684" y="148"/>
                </a:lnTo>
                <a:lnTo>
                  <a:pt x="690" y="153"/>
                </a:lnTo>
                <a:lnTo>
                  <a:pt x="697" y="155"/>
                </a:lnTo>
                <a:lnTo>
                  <a:pt x="702" y="158"/>
                </a:lnTo>
                <a:lnTo>
                  <a:pt x="708" y="158"/>
                </a:lnTo>
                <a:lnTo>
                  <a:pt x="729" y="158"/>
                </a:lnTo>
                <a:lnTo>
                  <a:pt x="735" y="155"/>
                </a:lnTo>
                <a:lnTo>
                  <a:pt x="742" y="153"/>
                </a:lnTo>
                <a:lnTo>
                  <a:pt x="748" y="153"/>
                </a:lnTo>
                <a:lnTo>
                  <a:pt x="769" y="153"/>
                </a:lnTo>
                <a:lnTo>
                  <a:pt x="776" y="151"/>
                </a:lnTo>
                <a:lnTo>
                  <a:pt x="798" y="146"/>
                </a:lnTo>
                <a:lnTo>
                  <a:pt x="816" y="144"/>
                </a:lnTo>
                <a:lnTo>
                  <a:pt x="823" y="144"/>
                </a:lnTo>
                <a:lnTo>
                  <a:pt x="831" y="142"/>
                </a:lnTo>
                <a:lnTo>
                  <a:pt x="852" y="138"/>
                </a:lnTo>
                <a:lnTo>
                  <a:pt x="874" y="135"/>
                </a:lnTo>
                <a:lnTo>
                  <a:pt x="896" y="133"/>
                </a:lnTo>
                <a:lnTo>
                  <a:pt x="901" y="131"/>
                </a:lnTo>
                <a:lnTo>
                  <a:pt x="906" y="128"/>
                </a:lnTo>
                <a:lnTo>
                  <a:pt x="912" y="128"/>
                </a:lnTo>
                <a:lnTo>
                  <a:pt x="930" y="128"/>
                </a:lnTo>
                <a:lnTo>
                  <a:pt x="955" y="131"/>
                </a:lnTo>
                <a:lnTo>
                  <a:pt x="962" y="138"/>
                </a:lnTo>
                <a:lnTo>
                  <a:pt x="966" y="144"/>
                </a:lnTo>
                <a:lnTo>
                  <a:pt x="970" y="151"/>
                </a:lnTo>
                <a:lnTo>
                  <a:pt x="970" y="158"/>
                </a:lnTo>
                <a:lnTo>
                  <a:pt x="971" y="167"/>
                </a:lnTo>
                <a:lnTo>
                  <a:pt x="973" y="189"/>
                </a:lnTo>
                <a:lnTo>
                  <a:pt x="975" y="198"/>
                </a:lnTo>
                <a:lnTo>
                  <a:pt x="978" y="205"/>
                </a:lnTo>
                <a:lnTo>
                  <a:pt x="984" y="227"/>
                </a:lnTo>
                <a:lnTo>
                  <a:pt x="1006" y="254"/>
                </a:lnTo>
                <a:lnTo>
                  <a:pt x="1013" y="281"/>
                </a:lnTo>
                <a:lnTo>
                  <a:pt x="1011" y="293"/>
                </a:lnTo>
                <a:lnTo>
                  <a:pt x="1011" y="299"/>
                </a:lnTo>
                <a:lnTo>
                  <a:pt x="1002" y="310"/>
                </a:lnTo>
                <a:lnTo>
                  <a:pt x="998" y="317"/>
                </a:lnTo>
                <a:lnTo>
                  <a:pt x="998" y="324"/>
                </a:lnTo>
                <a:lnTo>
                  <a:pt x="998" y="347"/>
                </a:lnTo>
                <a:lnTo>
                  <a:pt x="1004" y="356"/>
                </a:lnTo>
                <a:lnTo>
                  <a:pt x="1004" y="362"/>
                </a:lnTo>
                <a:lnTo>
                  <a:pt x="997" y="376"/>
                </a:lnTo>
                <a:lnTo>
                  <a:pt x="989" y="403"/>
                </a:lnTo>
                <a:lnTo>
                  <a:pt x="986" y="412"/>
                </a:lnTo>
                <a:lnTo>
                  <a:pt x="980" y="421"/>
                </a:lnTo>
                <a:lnTo>
                  <a:pt x="973" y="448"/>
                </a:lnTo>
                <a:lnTo>
                  <a:pt x="968" y="475"/>
                </a:lnTo>
                <a:lnTo>
                  <a:pt x="966" y="497"/>
                </a:lnTo>
                <a:lnTo>
                  <a:pt x="968" y="504"/>
                </a:lnTo>
                <a:lnTo>
                  <a:pt x="966" y="511"/>
                </a:lnTo>
                <a:lnTo>
                  <a:pt x="964" y="518"/>
                </a:lnTo>
                <a:lnTo>
                  <a:pt x="962" y="526"/>
                </a:lnTo>
                <a:lnTo>
                  <a:pt x="962" y="533"/>
                </a:lnTo>
                <a:lnTo>
                  <a:pt x="957" y="547"/>
                </a:lnTo>
                <a:lnTo>
                  <a:pt x="953" y="569"/>
                </a:lnTo>
                <a:lnTo>
                  <a:pt x="953" y="592"/>
                </a:lnTo>
                <a:lnTo>
                  <a:pt x="953" y="601"/>
                </a:lnTo>
                <a:lnTo>
                  <a:pt x="953" y="610"/>
                </a:lnTo>
                <a:lnTo>
                  <a:pt x="957" y="637"/>
                </a:lnTo>
                <a:lnTo>
                  <a:pt x="957" y="648"/>
                </a:lnTo>
                <a:lnTo>
                  <a:pt x="955" y="657"/>
                </a:lnTo>
                <a:lnTo>
                  <a:pt x="951" y="666"/>
                </a:lnTo>
                <a:lnTo>
                  <a:pt x="944" y="693"/>
                </a:lnTo>
                <a:lnTo>
                  <a:pt x="926" y="715"/>
                </a:lnTo>
                <a:lnTo>
                  <a:pt x="919" y="720"/>
                </a:lnTo>
                <a:lnTo>
                  <a:pt x="912" y="725"/>
                </a:lnTo>
                <a:lnTo>
                  <a:pt x="886" y="729"/>
                </a:lnTo>
                <a:lnTo>
                  <a:pt x="865" y="736"/>
                </a:lnTo>
                <a:lnTo>
                  <a:pt x="840" y="740"/>
                </a:lnTo>
                <a:lnTo>
                  <a:pt x="832" y="742"/>
                </a:lnTo>
                <a:lnTo>
                  <a:pt x="814" y="747"/>
                </a:lnTo>
                <a:lnTo>
                  <a:pt x="805" y="745"/>
                </a:lnTo>
                <a:lnTo>
                  <a:pt x="783" y="738"/>
                </a:lnTo>
                <a:lnTo>
                  <a:pt x="758" y="731"/>
                </a:lnTo>
                <a:lnTo>
                  <a:pt x="740" y="722"/>
                </a:lnTo>
                <a:lnTo>
                  <a:pt x="718" y="715"/>
                </a:lnTo>
                <a:lnTo>
                  <a:pt x="708" y="713"/>
                </a:lnTo>
                <a:lnTo>
                  <a:pt x="679" y="718"/>
                </a:lnTo>
                <a:lnTo>
                  <a:pt x="661" y="720"/>
                </a:lnTo>
                <a:lnTo>
                  <a:pt x="655" y="725"/>
                </a:lnTo>
                <a:lnTo>
                  <a:pt x="645" y="734"/>
                </a:lnTo>
                <a:lnTo>
                  <a:pt x="635" y="734"/>
                </a:lnTo>
                <a:lnTo>
                  <a:pt x="614" y="725"/>
                </a:lnTo>
                <a:lnTo>
                  <a:pt x="585" y="698"/>
                </a:lnTo>
                <a:lnTo>
                  <a:pt x="563" y="693"/>
                </a:lnTo>
                <a:lnTo>
                  <a:pt x="556" y="691"/>
                </a:lnTo>
                <a:lnTo>
                  <a:pt x="531" y="688"/>
                </a:lnTo>
                <a:lnTo>
                  <a:pt x="513" y="688"/>
                </a:lnTo>
                <a:lnTo>
                  <a:pt x="507" y="688"/>
                </a:lnTo>
                <a:lnTo>
                  <a:pt x="500" y="695"/>
                </a:lnTo>
                <a:lnTo>
                  <a:pt x="493" y="702"/>
                </a:lnTo>
                <a:lnTo>
                  <a:pt x="475" y="707"/>
                </a:lnTo>
                <a:lnTo>
                  <a:pt x="450" y="711"/>
                </a:lnTo>
                <a:lnTo>
                  <a:pt x="417" y="709"/>
                </a:lnTo>
                <a:lnTo>
                  <a:pt x="381" y="702"/>
                </a:lnTo>
                <a:lnTo>
                  <a:pt x="345" y="698"/>
                </a:lnTo>
                <a:lnTo>
                  <a:pt x="338" y="698"/>
                </a:lnTo>
                <a:lnTo>
                  <a:pt x="332" y="698"/>
                </a:lnTo>
                <a:lnTo>
                  <a:pt x="314" y="698"/>
                </a:lnTo>
                <a:lnTo>
                  <a:pt x="307" y="698"/>
                </a:lnTo>
                <a:lnTo>
                  <a:pt x="274" y="698"/>
                </a:lnTo>
                <a:lnTo>
                  <a:pt x="253" y="698"/>
                </a:lnTo>
                <a:lnTo>
                  <a:pt x="247" y="698"/>
                </a:lnTo>
                <a:lnTo>
                  <a:pt x="240" y="702"/>
                </a:lnTo>
                <a:lnTo>
                  <a:pt x="215" y="702"/>
                </a:lnTo>
                <a:lnTo>
                  <a:pt x="175" y="702"/>
                </a:lnTo>
                <a:lnTo>
                  <a:pt x="168" y="700"/>
                </a:lnTo>
                <a:lnTo>
                  <a:pt x="160" y="677"/>
                </a:lnTo>
                <a:lnTo>
                  <a:pt x="163" y="641"/>
                </a:lnTo>
                <a:lnTo>
                  <a:pt x="168" y="619"/>
                </a:lnTo>
                <a:lnTo>
                  <a:pt x="170" y="610"/>
                </a:lnTo>
                <a:lnTo>
                  <a:pt x="175" y="601"/>
                </a:lnTo>
                <a:lnTo>
                  <a:pt x="179" y="594"/>
                </a:lnTo>
                <a:lnTo>
                  <a:pt x="179" y="585"/>
                </a:lnTo>
                <a:lnTo>
                  <a:pt x="173" y="563"/>
                </a:lnTo>
                <a:lnTo>
                  <a:pt x="144" y="540"/>
                </a:lnTo>
                <a:lnTo>
                  <a:pt x="123" y="533"/>
                </a:lnTo>
                <a:lnTo>
                  <a:pt x="123" y="524"/>
                </a:lnTo>
                <a:lnTo>
                  <a:pt x="128" y="493"/>
                </a:lnTo>
                <a:lnTo>
                  <a:pt x="125" y="484"/>
                </a:lnTo>
                <a:lnTo>
                  <a:pt x="119" y="479"/>
                </a:lnTo>
                <a:lnTo>
                  <a:pt x="117" y="472"/>
                </a:lnTo>
                <a:lnTo>
                  <a:pt x="115" y="441"/>
                </a:lnTo>
                <a:lnTo>
                  <a:pt x="108" y="418"/>
                </a:lnTo>
                <a:lnTo>
                  <a:pt x="47" y="378"/>
                </a:lnTo>
                <a:lnTo>
                  <a:pt x="22" y="374"/>
                </a:lnTo>
                <a:lnTo>
                  <a:pt x="27" y="371"/>
                </a:lnTo>
                <a:lnTo>
                  <a:pt x="33" y="367"/>
                </a:lnTo>
                <a:lnTo>
                  <a:pt x="38" y="360"/>
                </a:lnTo>
                <a:lnTo>
                  <a:pt x="43" y="351"/>
                </a:lnTo>
                <a:lnTo>
                  <a:pt x="50" y="344"/>
                </a:lnTo>
                <a:lnTo>
                  <a:pt x="56" y="340"/>
                </a:lnTo>
                <a:lnTo>
                  <a:pt x="61" y="326"/>
                </a:lnTo>
                <a:lnTo>
                  <a:pt x="29" y="290"/>
                </a:lnTo>
                <a:lnTo>
                  <a:pt x="0" y="281"/>
                </a:lnTo>
                <a:lnTo>
                  <a:pt x="2" y="275"/>
                </a:lnTo>
                <a:lnTo>
                  <a:pt x="9" y="268"/>
                </a:lnTo>
                <a:lnTo>
                  <a:pt x="27" y="259"/>
                </a:lnTo>
                <a:lnTo>
                  <a:pt x="45" y="250"/>
                </a:lnTo>
                <a:lnTo>
                  <a:pt x="63" y="241"/>
                </a:lnTo>
                <a:lnTo>
                  <a:pt x="68" y="239"/>
                </a:lnTo>
                <a:lnTo>
                  <a:pt x="76" y="236"/>
                </a:lnTo>
                <a:lnTo>
                  <a:pt x="83" y="234"/>
                </a:lnTo>
                <a:lnTo>
                  <a:pt x="88" y="229"/>
                </a:lnTo>
                <a:lnTo>
                  <a:pt x="92" y="218"/>
                </a:lnTo>
                <a:lnTo>
                  <a:pt x="94" y="212"/>
                </a:lnTo>
                <a:lnTo>
                  <a:pt x="95" y="189"/>
                </a:lnTo>
                <a:lnTo>
                  <a:pt x="98" y="167"/>
                </a:lnTo>
                <a:lnTo>
                  <a:pt x="103" y="140"/>
                </a:lnTo>
                <a:lnTo>
                  <a:pt x="112" y="128"/>
                </a:lnTo>
                <a:lnTo>
                  <a:pt x="117" y="121"/>
                </a:lnTo>
                <a:lnTo>
                  <a:pt x="123" y="117"/>
                </a:lnTo>
                <a:lnTo>
                  <a:pt x="128" y="117"/>
                </a:lnTo>
                <a:lnTo>
                  <a:pt x="133" y="119"/>
                </a:lnTo>
                <a:lnTo>
                  <a:pt x="139" y="119"/>
                </a:lnTo>
                <a:lnTo>
                  <a:pt x="146" y="117"/>
                </a:lnTo>
                <a:lnTo>
                  <a:pt x="164" y="113"/>
                </a:lnTo>
                <a:lnTo>
                  <a:pt x="182" y="108"/>
                </a:lnTo>
                <a:lnTo>
                  <a:pt x="208" y="104"/>
                </a:lnTo>
                <a:lnTo>
                  <a:pt x="225" y="101"/>
                </a:lnTo>
                <a:lnTo>
                  <a:pt x="233" y="104"/>
                </a:lnTo>
                <a:lnTo>
                  <a:pt x="240" y="106"/>
                </a:lnTo>
                <a:lnTo>
                  <a:pt x="245" y="113"/>
                </a:lnTo>
                <a:lnTo>
                  <a:pt x="253" y="140"/>
                </a:lnTo>
                <a:lnTo>
                  <a:pt x="258" y="162"/>
                </a:lnTo>
                <a:lnTo>
                  <a:pt x="265" y="155"/>
                </a:lnTo>
                <a:lnTo>
                  <a:pt x="271" y="155"/>
                </a:lnTo>
                <a:lnTo>
                  <a:pt x="280" y="153"/>
                </a:lnTo>
                <a:lnTo>
                  <a:pt x="298" y="146"/>
                </a:lnTo>
                <a:lnTo>
                  <a:pt x="316" y="119"/>
                </a:lnTo>
                <a:lnTo>
                  <a:pt x="323" y="115"/>
                </a:lnTo>
                <a:lnTo>
                  <a:pt x="328" y="111"/>
                </a:lnTo>
                <a:lnTo>
                  <a:pt x="336" y="106"/>
                </a:lnTo>
                <a:lnTo>
                  <a:pt x="347" y="97"/>
                </a:lnTo>
                <a:lnTo>
                  <a:pt x="352" y="94"/>
                </a:lnTo>
                <a:lnTo>
                  <a:pt x="359" y="94"/>
                </a:lnTo>
                <a:lnTo>
                  <a:pt x="365" y="94"/>
                </a:lnTo>
                <a:lnTo>
                  <a:pt x="374" y="101"/>
                </a:lnTo>
                <a:lnTo>
                  <a:pt x="381" y="106"/>
                </a:lnTo>
                <a:lnTo>
                  <a:pt x="386" y="111"/>
                </a:lnTo>
                <a:lnTo>
                  <a:pt x="392" y="113"/>
                </a:lnTo>
                <a:lnTo>
                  <a:pt x="399" y="115"/>
                </a:lnTo>
                <a:lnTo>
                  <a:pt x="406" y="119"/>
                </a:lnTo>
                <a:lnTo>
                  <a:pt x="415" y="124"/>
                </a:lnTo>
                <a:lnTo>
                  <a:pt x="421" y="126"/>
                </a:lnTo>
                <a:lnTo>
                  <a:pt x="424" y="133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3429000"/>
            <a:ext cx="18288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4760" y="2347920"/>
            <a:ext cx="3156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as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s_made_up_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54240" y="335916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120" y="3338640"/>
            <a:ext cx="97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08240" y="5243400"/>
            <a:ext cx="1522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86000" y="30337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62880" y="40244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18800" y="3414600"/>
            <a:ext cx="84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92280" y="2548080"/>
            <a:ext cx="1609560" cy="1187280"/>
          </a:xfrm>
          <a:custGeom>
            <a:avLst/>
            <a:gdLst/>
            <a:ahLst/>
            <a:rect l="l" t="t" r="r" b="b"/>
            <a:pathLst>
              <a:path w="1014" h="748">
                <a:moveTo>
                  <a:pt x="424" y="133"/>
                </a:moveTo>
                <a:lnTo>
                  <a:pt x="431" y="121"/>
                </a:lnTo>
                <a:lnTo>
                  <a:pt x="439" y="94"/>
                </a:lnTo>
                <a:lnTo>
                  <a:pt x="444" y="63"/>
                </a:lnTo>
                <a:lnTo>
                  <a:pt x="451" y="36"/>
                </a:lnTo>
                <a:lnTo>
                  <a:pt x="457" y="27"/>
                </a:lnTo>
                <a:lnTo>
                  <a:pt x="464" y="20"/>
                </a:lnTo>
                <a:lnTo>
                  <a:pt x="471" y="13"/>
                </a:lnTo>
                <a:lnTo>
                  <a:pt x="478" y="7"/>
                </a:lnTo>
                <a:lnTo>
                  <a:pt x="486" y="5"/>
                </a:lnTo>
                <a:lnTo>
                  <a:pt x="493" y="3"/>
                </a:lnTo>
                <a:lnTo>
                  <a:pt x="500" y="0"/>
                </a:lnTo>
                <a:lnTo>
                  <a:pt x="507" y="0"/>
                </a:lnTo>
                <a:lnTo>
                  <a:pt x="515" y="0"/>
                </a:lnTo>
                <a:lnTo>
                  <a:pt x="520" y="3"/>
                </a:lnTo>
                <a:lnTo>
                  <a:pt x="527" y="3"/>
                </a:lnTo>
                <a:lnTo>
                  <a:pt x="533" y="5"/>
                </a:lnTo>
                <a:lnTo>
                  <a:pt x="538" y="7"/>
                </a:lnTo>
                <a:lnTo>
                  <a:pt x="543" y="7"/>
                </a:lnTo>
                <a:lnTo>
                  <a:pt x="549" y="9"/>
                </a:lnTo>
                <a:lnTo>
                  <a:pt x="556" y="13"/>
                </a:lnTo>
                <a:lnTo>
                  <a:pt x="561" y="16"/>
                </a:lnTo>
                <a:lnTo>
                  <a:pt x="569" y="20"/>
                </a:lnTo>
                <a:lnTo>
                  <a:pt x="580" y="27"/>
                </a:lnTo>
                <a:lnTo>
                  <a:pt x="587" y="34"/>
                </a:lnTo>
                <a:lnTo>
                  <a:pt x="594" y="36"/>
                </a:lnTo>
                <a:lnTo>
                  <a:pt x="601" y="40"/>
                </a:lnTo>
                <a:lnTo>
                  <a:pt x="608" y="45"/>
                </a:lnTo>
                <a:lnTo>
                  <a:pt x="616" y="54"/>
                </a:lnTo>
                <a:lnTo>
                  <a:pt x="618" y="61"/>
                </a:lnTo>
                <a:lnTo>
                  <a:pt x="621" y="67"/>
                </a:lnTo>
                <a:lnTo>
                  <a:pt x="626" y="77"/>
                </a:lnTo>
                <a:lnTo>
                  <a:pt x="632" y="79"/>
                </a:lnTo>
                <a:lnTo>
                  <a:pt x="635" y="86"/>
                </a:lnTo>
                <a:lnTo>
                  <a:pt x="641" y="108"/>
                </a:lnTo>
                <a:lnTo>
                  <a:pt x="645" y="115"/>
                </a:lnTo>
                <a:lnTo>
                  <a:pt x="650" y="119"/>
                </a:lnTo>
                <a:lnTo>
                  <a:pt x="657" y="126"/>
                </a:lnTo>
                <a:lnTo>
                  <a:pt x="663" y="135"/>
                </a:lnTo>
                <a:lnTo>
                  <a:pt x="670" y="140"/>
                </a:lnTo>
                <a:lnTo>
                  <a:pt x="677" y="144"/>
                </a:lnTo>
                <a:lnTo>
                  <a:pt x="684" y="148"/>
                </a:lnTo>
                <a:lnTo>
                  <a:pt x="690" y="153"/>
                </a:lnTo>
                <a:lnTo>
                  <a:pt x="697" y="155"/>
                </a:lnTo>
                <a:lnTo>
                  <a:pt x="702" y="158"/>
                </a:lnTo>
                <a:lnTo>
                  <a:pt x="708" y="158"/>
                </a:lnTo>
                <a:lnTo>
                  <a:pt x="729" y="158"/>
                </a:lnTo>
                <a:lnTo>
                  <a:pt x="735" y="155"/>
                </a:lnTo>
                <a:lnTo>
                  <a:pt x="742" y="153"/>
                </a:lnTo>
                <a:lnTo>
                  <a:pt x="748" y="153"/>
                </a:lnTo>
                <a:lnTo>
                  <a:pt x="769" y="153"/>
                </a:lnTo>
                <a:lnTo>
                  <a:pt x="776" y="151"/>
                </a:lnTo>
                <a:lnTo>
                  <a:pt x="798" y="146"/>
                </a:lnTo>
                <a:lnTo>
                  <a:pt x="816" y="144"/>
                </a:lnTo>
                <a:lnTo>
                  <a:pt x="823" y="144"/>
                </a:lnTo>
                <a:lnTo>
                  <a:pt x="831" y="142"/>
                </a:lnTo>
                <a:lnTo>
                  <a:pt x="852" y="138"/>
                </a:lnTo>
                <a:lnTo>
                  <a:pt x="874" y="135"/>
                </a:lnTo>
                <a:lnTo>
                  <a:pt x="896" y="133"/>
                </a:lnTo>
                <a:lnTo>
                  <a:pt x="901" y="131"/>
                </a:lnTo>
                <a:lnTo>
                  <a:pt x="906" y="128"/>
                </a:lnTo>
                <a:lnTo>
                  <a:pt x="912" y="128"/>
                </a:lnTo>
                <a:lnTo>
                  <a:pt x="930" y="128"/>
                </a:lnTo>
                <a:lnTo>
                  <a:pt x="955" y="131"/>
                </a:lnTo>
                <a:lnTo>
                  <a:pt x="962" y="138"/>
                </a:lnTo>
                <a:lnTo>
                  <a:pt x="966" y="144"/>
                </a:lnTo>
                <a:lnTo>
                  <a:pt x="970" y="151"/>
                </a:lnTo>
                <a:lnTo>
                  <a:pt x="970" y="158"/>
                </a:lnTo>
                <a:lnTo>
                  <a:pt x="971" y="167"/>
                </a:lnTo>
                <a:lnTo>
                  <a:pt x="973" y="189"/>
                </a:lnTo>
                <a:lnTo>
                  <a:pt x="975" y="198"/>
                </a:lnTo>
                <a:lnTo>
                  <a:pt x="978" y="205"/>
                </a:lnTo>
                <a:lnTo>
                  <a:pt x="984" y="227"/>
                </a:lnTo>
                <a:lnTo>
                  <a:pt x="1006" y="254"/>
                </a:lnTo>
                <a:lnTo>
                  <a:pt x="1013" y="281"/>
                </a:lnTo>
                <a:lnTo>
                  <a:pt x="1011" y="293"/>
                </a:lnTo>
                <a:lnTo>
                  <a:pt x="1011" y="299"/>
                </a:lnTo>
                <a:lnTo>
                  <a:pt x="1002" y="310"/>
                </a:lnTo>
                <a:lnTo>
                  <a:pt x="998" y="317"/>
                </a:lnTo>
                <a:lnTo>
                  <a:pt x="998" y="324"/>
                </a:lnTo>
                <a:lnTo>
                  <a:pt x="998" y="347"/>
                </a:lnTo>
                <a:lnTo>
                  <a:pt x="1004" y="356"/>
                </a:lnTo>
                <a:lnTo>
                  <a:pt x="1004" y="362"/>
                </a:lnTo>
                <a:lnTo>
                  <a:pt x="997" y="376"/>
                </a:lnTo>
                <a:lnTo>
                  <a:pt x="989" y="403"/>
                </a:lnTo>
                <a:lnTo>
                  <a:pt x="986" y="412"/>
                </a:lnTo>
                <a:lnTo>
                  <a:pt x="980" y="421"/>
                </a:lnTo>
                <a:lnTo>
                  <a:pt x="973" y="448"/>
                </a:lnTo>
                <a:lnTo>
                  <a:pt x="968" y="475"/>
                </a:lnTo>
                <a:lnTo>
                  <a:pt x="966" y="497"/>
                </a:lnTo>
                <a:lnTo>
                  <a:pt x="968" y="504"/>
                </a:lnTo>
                <a:lnTo>
                  <a:pt x="966" y="511"/>
                </a:lnTo>
                <a:lnTo>
                  <a:pt x="964" y="518"/>
                </a:lnTo>
                <a:lnTo>
                  <a:pt x="962" y="526"/>
                </a:lnTo>
                <a:lnTo>
                  <a:pt x="962" y="533"/>
                </a:lnTo>
                <a:lnTo>
                  <a:pt x="957" y="547"/>
                </a:lnTo>
                <a:lnTo>
                  <a:pt x="953" y="569"/>
                </a:lnTo>
                <a:lnTo>
                  <a:pt x="953" y="592"/>
                </a:lnTo>
                <a:lnTo>
                  <a:pt x="953" y="601"/>
                </a:lnTo>
                <a:lnTo>
                  <a:pt x="953" y="610"/>
                </a:lnTo>
                <a:lnTo>
                  <a:pt x="957" y="637"/>
                </a:lnTo>
                <a:lnTo>
                  <a:pt x="957" y="648"/>
                </a:lnTo>
                <a:lnTo>
                  <a:pt x="955" y="657"/>
                </a:lnTo>
                <a:lnTo>
                  <a:pt x="951" y="666"/>
                </a:lnTo>
                <a:lnTo>
                  <a:pt x="944" y="693"/>
                </a:lnTo>
                <a:lnTo>
                  <a:pt x="926" y="715"/>
                </a:lnTo>
                <a:lnTo>
                  <a:pt x="919" y="720"/>
                </a:lnTo>
                <a:lnTo>
                  <a:pt x="912" y="725"/>
                </a:lnTo>
                <a:lnTo>
                  <a:pt x="886" y="729"/>
                </a:lnTo>
                <a:lnTo>
                  <a:pt x="865" y="736"/>
                </a:lnTo>
                <a:lnTo>
                  <a:pt x="840" y="740"/>
                </a:lnTo>
                <a:lnTo>
                  <a:pt x="832" y="742"/>
                </a:lnTo>
                <a:lnTo>
                  <a:pt x="814" y="747"/>
                </a:lnTo>
                <a:lnTo>
                  <a:pt x="805" y="745"/>
                </a:lnTo>
                <a:lnTo>
                  <a:pt x="783" y="738"/>
                </a:lnTo>
                <a:lnTo>
                  <a:pt x="758" y="731"/>
                </a:lnTo>
                <a:lnTo>
                  <a:pt x="740" y="722"/>
                </a:lnTo>
                <a:lnTo>
                  <a:pt x="718" y="715"/>
                </a:lnTo>
                <a:lnTo>
                  <a:pt x="708" y="713"/>
                </a:lnTo>
                <a:lnTo>
                  <a:pt x="679" y="718"/>
                </a:lnTo>
                <a:lnTo>
                  <a:pt x="661" y="720"/>
                </a:lnTo>
                <a:lnTo>
                  <a:pt x="655" y="725"/>
                </a:lnTo>
                <a:lnTo>
                  <a:pt x="645" y="734"/>
                </a:lnTo>
                <a:lnTo>
                  <a:pt x="635" y="734"/>
                </a:lnTo>
                <a:lnTo>
                  <a:pt x="614" y="725"/>
                </a:lnTo>
                <a:lnTo>
                  <a:pt x="585" y="698"/>
                </a:lnTo>
                <a:lnTo>
                  <a:pt x="563" y="693"/>
                </a:lnTo>
                <a:lnTo>
                  <a:pt x="556" y="691"/>
                </a:lnTo>
                <a:lnTo>
                  <a:pt x="531" y="688"/>
                </a:lnTo>
                <a:lnTo>
                  <a:pt x="513" y="688"/>
                </a:lnTo>
                <a:lnTo>
                  <a:pt x="507" y="688"/>
                </a:lnTo>
                <a:lnTo>
                  <a:pt x="500" y="695"/>
                </a:lnTo>
                <a:lnTo>
                  <a:pt x="493" y="702"/>
                </a:lnTo>
                <a:lnTo>
                  <a:pt x="475" y="707"/>
                </a:lnTo>
                <a:lnTo>
                  <a:pt x="450" y="711"/>
                </a:lnTo>
                <a:lnTo>
                  <a:pt x="417" y="709"/>
                </a:lnTo>
                <a:lnTo>
                  <a:pt x="381" y="702"/>
                </a:lnTo>
                <a:lnTo>
                  <a:pt x="345" y="698"/>
                </a:lnTo>
                <a:lnTo>
                  <a:pt x="338" y="698"/>
                </a:lnTo>
                <a:lnTo>
                  <a:pt x="332" y="698"/>
                </a:lnTo>
                <a:lnTo>
                  <a:pt x="314" y="698"/>
                </a:lnTo>
                <a:lnTo>
                  <a:pt x="307" y="698"/>
                </a:lnTo>
                <a:lnTo>
                  <a:pt x="274" y="698"/>
                </a:lnTo>
                <a:lnTo>
                  <a:pt x="253" y="698"/>
                </a:lnTo>
                <a:lnTo>
                  <a:pt x="247" y="698"/>
                </a:lnTo>
                <a:lnTo>
                  <a:pt x="240" y="702"/>
                </a:lnTo>
                <a:lnTo>
                  <a:pt x="215" y="702"/>
                </a:lnTo>
                <a:lnTo>
                  <a:pt x="175" y="702"/>
                </a:lnTo>
                <a:lnTo>
                  <a:pt x="168" y="700"/>
                </a:lnTo>
                <a:lnTo>
                  <a:pt x="160" y="677"/>
                </a:lnTo>
                <a:lnTo>
                  <a:pt x="163" y="641"/>
                </a:lnTo>
                <a:lnTo>
                  <a:pt x="168" y="619"/>
                </a:lnTo>
                <a:lnTo>
                  <a:pt x="170" y="610"/>
                </a:lnTo>
                <a:lnTo>
                  <a:pt x="175" y="601"/>
                </a:lnTo>
                <a:lnTo>
                  <a:pt x="179" y="594"/>
                </a:lnTo>
                <a:lnTo>
                  <a:pt x="179" y="585"/>
                </a:lnTo>
                <a:lnTo>
                  <a:pt x="173" y="563"/>
                </a:lnTo>
                <a:lnTo>
                  <a:pt x="144" y="540"/>
                </a:lnTo>
                <a:lnTo>
                  <a:pt x="123" y="533"/>
                </a:lnTo>
                <a:lnTo>
                  <a:pt x="123" y="524"/>
                </a:lnTo>
                <a:lnTo>
                  <a:pt x="128" y="493"/>
                </a:lnTo>
                <a:lnTo>
                  <a:pt x="125" y="484"/>
                </a:lnTo>
                <a:lnTo>
                  <a:pt x="119" y="479"/>
                </a:lnTo>
                <a:lnTo>
                  <a:pt x="117" y="472"/>
                </a:lnTo>
                <a:lnTo>
                  <a:pt x="115" y="441"/>
                </a:lnTo>
                <a:lnTo>
                  <a:pt x="108" y="418"/>
                </a:lnTo>
                <a:lnTo>
                  <a:pt x="47" y="378"/>
                </a:lnTo>
                <a:lnTo>
                  <a:pt x="22" y="374"/>
                </a:lnTo>
                <a:lnTo>
                  <a:pt x="27" y="371"/>
                </a:lnTo>
                <a:lnTo>
                  <a:pt x="33" y="367"/>
                </a:lnTo>
                <a:lnTo>
                  <a:pt x="38" y="360"/>
                </a:lnTo>
                <a:lnTo>
                  <a:pt x="43" y="351"/>
                </a:lnTo>
                <a:lnTo>
                  <a:pt x="50" y="344"/>
                </a:lnTo>
                <a:lnTo>
                  <a:pt x="56" y="340"/>
                </a:lnTo>
                <a:lnTo>
                  <a:pt x="61" y="326"/>
                </a:lnTo>
                <a:lnTo>
                  <a:pt x="29" y="290"/>
                </a:lnTo>
                <a:lnTo>
                  <a:pt x="0" y="281"/>
                </a:lnTo>
                <a:lnTo>
                  <a:pt x="2" y="275"/>
                </a:lnTo>
                <a:lnTo>
                  <a:pt x="9" y="268"/>
                </a:lnTo>
                <a:lnTo>
                  <a:pt x="27" y="259"/>
                </a:lnTo>
                <a:lnTo>
                  <a:pt x="45" y="250"/>
                </a:lnTo>
                <a:lnTo>
                  <a:pt x="63" y="241"/>
                </a:lnTo>
                <a:lnTo>
                  <a:pt x="68" y="239"/>
                </a:lnTo>
                <a:lnTo>
                  <a:pt x="76" y="236"/>
                </a:lnTo>
                <a:lnTo>
                  <a:pt x="83" y="234"/>
                </a:lnTo>
                <a:lnTo>
                  <a:pt x="88" y="229"/>
                </a:lnTo>
                <a:lnTo>
                  <a:pt x="92" y="218"/>
                </a:lnTo>
                <a:lnTo>
                  <a:pt x="94" y="212"/>
                </a:lnTo>
                <a:lnTo>
                  <a:pt x="95" y="189"/>
                </a:lnTo>
                <a:lnTo>
                  <a:pt x="98" y="167"/>
                </a:lnTo>
                <a:lnTo>
                  <a:pt x="103" y="140"/>
                </a:lnTo>
                <a:lnTo>
                  <a:pt x="112" y="128"/>
                </a:lnTo>
                <a:lnTo>
                  <a:pt x="117" y="121"/>
                </a:lnTo>
                <a:lnTo>
                  <a:pt x="123" y="117"/>
                </a:lnTo>
                <a:lnTo>
                  <a:pt x="128" y="117"/>
                </a:lnTo>
                <a:lnTo>
                  <a:pt x="133" y="119"/>
                </a:lnTo>
                <a:lnTo>
                  <a:pt x="139" y="119"/>
                </a:lnTo>
                <a:lnTo>
                  <a:pt x="146" y="117"/>
                </a:lnTo>
                <a:lnTo>
                  <a:pt x="164" y="113"/>
                </a:lnTo>
                <a:lnTo>
                  <a:pt x="182" y="108"/>
                </a:lnTo>
                <a:lnTo>
                  <a:pt x="208" y="104"/>
                </a:lnTo>
                <a:lnTo>
                  <a:pt x="225" y="101"/>
                </a:lnTo>
                <a:lnTo>
                  <a:pt x="233" y="104"/>
                </a:lnTo>
                <a:lnTo>
                  <a:pt x="240" y="106"/>
                </a:lnTo>
                <a:lnTo>
                  <a:pt x="245" y="113"/>
                </a:lnTo>
                <a:lnTo>
                  <a:pt x="253" y="140"/>
                </a:lnTo>
                <a:lnTo>
                  <a:pt x="258" y="162"/>
                </a:lnTo>
                <a:lnTo>
                  <a:pt x="265" y="155"/>
                </a:lnTo>
                <a:lnTo>
                  <a:pt x="271" y="155"/>
                </a:lnTo>
                <a:lnTo>
                  <a:pt x="280" y="153"/>
                </a:lnTo>
                <a:lnTo>
                  <a:pt x="298" y="146"/>
                </a:lnTo>
                <a:lnTo>
                  <a:pt x="316" y="119"/>
                </a:lnTo>
                <a:lnTo>
                  <a:pt x="323" y="115"/>
                </a:lnTo>
                <a:lnTo>
                  <a:pt x="328" y="111"/>
                </a:lnTo>
                <a:lnTo>
                  <a:pt x="336" y="106"/>
                </a:lnTo>
                <a:lnTo>
                  <a:pt x="347" y="97"/>
                </a:lnTo>
                <a:lnTo>
                  <a:pt x="352" y="94"/>
                </a:lnTo>
                <a:lnTo>
                  <a:pt x="359" y="94"/>
                </a:lnTo>
                <a:lnTo>
                  <a:pt x="365" y="94"/>
                </a:lnTo>
                <a:lnTo>
                  <a:pt x="374" y="101"/>
                </a:lnTo>
                <a:lnTo>
                  <a:pt x="381" y="106"/>
                </a:lnTo>
                <a:lnTo>
                  <a:pt x="386" y="111"/>
                </a:lnTo>
                <a:lnTo>
                  <a:pt x="392" y="113"/>
                </a:lnTo>
                <a:lnTo>
                  <a:pt x="399" y="115"/>
                </a:lnTo>
                <a:lnTo>
                  <a:pt x="406" y="119"/>
                </a:lnTo>
                <a:lnTo>
                  <a:pt x="415" y="124"/>
                </a:lnTo>
                <a:lnTo>
                  <a:pt x="421" y="126"/>
                </a:lnTo>
                <a:lnTo>
                  <a:pt x="424" y="133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92680" y="4300560"/>
            <a:ext cx="1609560" cy="1187280"/>
          </a:xfrm>
          <a:custGeom>
            <a:avLst/>
            <a:gdLst/>
            <a:ahLst/>
            <a:rect l="l" t="t" r="r" b="b"/>
            <a:pathLst>
              <a:path w="1014" h="748">
                <a:moveTo>
                  <a:pt x="424" y="133"/>
                </a:moveTo>
                <a:lnTo>
                  <a:pt x="431" y="121"/>
                </a:lnTo>
                <a:lnTo>
                  <a:pt x="439" y="94"/>
                </a:lnTo>
                <a:lnTo>
                  <a:pt x="444" y="63"/>
                </a:lnTo>
                <a:lnTo>
                  <a:pt x="451" y="36"/>
                </a:lnTo>
                <a:lnTo>
                  <a:pt x="457" y="27"/>
                </a:lnTo>
                <a:lnTo>
                  <a:pt x="464" y="20"/>
                </a:lnTo>
                <a:lnTo>
                  <a:pt x="471" y="13"/>
                </a:lnTo>
                <a:lnTo>
                  <a:pt x="478" y="7"/>
                </a:lnTo>
                <a:lnTo>
                  <a:pt x="486" y="5"/>
                </a:lnTo>
                <a:lnTo>
                  <a:pt x="493" y="3"/>
                </a:lnTo>
                <a:lnTo>
                  <a:pt x="500" y="0"/>
                </a:lnTo>
                <a:lnTo>
                  <a:pt x="507" y="0"/>
                </a:lnTo>
                <a:lnTo>
                  <a:pt x="515" y="0"/>
                </a:lnTo>
                <a:lnTo>
                  <a:pt x="520" y="3"/>
                </a:lnTo>
                <a:lnTo>
                  <a:pt x="527" y="3"/>
                </a:lnTo>
                <a:lnTo>
                  <a:pt x="533" y="5"/>
                </a:lnTo>
                <a:lnTo>
                  <a:pt x="538" y="7"/>
                </a:lnTo>
                <a:lnTo>
                  <a:pt x="543" y="7"/>
                </a:lnTo>
                <a:lnTo>
                  <a:pt x="549" y="9"/>
                </a:lnTo>
                <a:lnTo>
                  <a:pt x="556" y="13"/>
                </a:lnTo>
                <a:lnTo>
                  <a:pt x="561" y="16"/>
                </a:lnTo>
                <a:lnTo>
                  <a:pt x="569" y="20"/>
                </a:lnTo>
                <a:lnTo>
                  <a:pt x="580" y="27"/>
                </a:lnTo>
                <a:lnTo>
                  <a:pt x="587" y="34"/>
                </a:lnTo>
                <a:lnTo>
                  <a:pt x="594" y="36"/>
                </a:lnTo>
                <a:lnTo>
                  <a:pt x="601" y="40"/>
                </a:lnTo>
                <a:lnTo>
                  <a:pt x="608" y="45"/>
                </a:lnTo>
                <a:lnTo>
                  <a:pt x="616" y="54"/>
                </a:lnTo>
                <a:lnTo>
                  <a:pt x="618" y="61"/>
                </a:lnTo>
                <a:lnTo>
                  <a:pt x="621" y="67"/>
                </a:lnTo>
                <a:lnTo>
                  <a:pt x="626" y="77"/>
                </a:lnTo>
                <a:lnTo>
                  <a:pt x="632" y="79"/>
                </a:lnTo>
                <a:lnTo>
                  <a:pt x="635" y="86"/>
                </a:lnTo>
                <a:lnTo>
                  <a:pt x="641" y="108"/>
                </a:lnTo>
                <a:lnTo>
                  <a:pt x="645" y="115"/>
                </a:lnTo>
                <a:lnTo>
                  <a:pt x="650" y="119"/>
                </a:lnTo>
                <a:lnTo>
                  <a:pt x="657" y="126"/>
                </a:lnTo>
                <a:lnTo>
                  <a:pt x="663" y="135"/>
                </a:lnTo>
                <a:lnTo>
                  <a:pt x="670" y="140"/>
                </a:lnTo>
                <a:lnTo>
                  <a:pt x="677" y="144"/>
                </a:lnTo>
                <a:lnTo>
                  <a:pt x="684" y="148"/>
                </a:lnTo>
                <a:lnTo>
                  <a:pt x="690" y="153"/>
                </a:lnTo>
                <a:lnTo>
                  <a:pt x="697" y="155"/>
                </a:lnTo>
                <a:lnTo>
                  <a:pt x="702" y="158"/>
                </a:lnTo>
                <a:lnTo>
                  <a:pt x="708" y="158"/>
                </a:lnTo>
                <a:lnTo>
                  <a:pt x="729" y="158"/>
                </a:lnTo>
                <a:lnTo>
                  <a:pt x="735" y="155"/>
                </a:lnTo>
                <a:lnTo>
                  <a:pt x="742" y="153"/>
                </a:lnTo>
                <a:lnTo>
                  <a:pt x="748" y="153"/>
                </a:lnTo>
                <a:lnTo>
                  <a:pt x="769" y="153"/>
                </a:lnTo>
                <a:lnTo>
                  <a:pt x="776" y="151"/>
                </a:lnTo>
                <a:lnTo>
                  <a:pt x="798" y="146"/>
                </a:lnTo>
                <a:lnTo>
                  <a:pt x="816" y="144"/>
                </a:lnTo>
                <a:lnTo>
                  <a:pt x="823" y="144"/>
                </a:lnTo>
                <a:lnTo>
                  <a:pt x="831" y="142"/>
                </a:lnTo>
                <a:lnTo>
                  <a:pt x="852" y="138"/>
                </a:lnTo>
                <a:lnTo>
                  <a:pt x="874" y="135"/>
                </a:lnTo>
                <a:lnTo>
                  <a:pt x="896" y="133"/>
                </a:lnTo>
                <a:lnTo>
                  <a:pt x="901" y="131"/>
                </a:lnTo>
                <a:lnTo>
                  <a:pt x="906" y="128"/>
                </a:lnTo>
                <a:lnTo>
                  <a:pt x="912" y="128"/>
                </a:lnTo>
                <a:lnTo>
                  <a:pt x="930" y="128"/>
                </a:lnTo>
                <a:lnTo>
                  <a:pt x="955" y="131"/>
                </a:lnTo>
                <a:lnTo>
                  <a:pt x="962" y="138"/>
                </a:lnTo>
                <a:lnTo>
                  <a:pt x="966" y="144"/>
                </a:lnTo>
                <a:lnTo>
                  <a:pt x="970" y="151"/>
                </a:lnTo>
                <a:lnTo>
                  <a:pt x="970" y="158"/>
                </a:lnTo>
                <a:lnTo>
                  <a:pt x="971" y="167"/>
                </a:lnTo>
                <a:lnTo>
                  <a:pt x="973" y="189"/>
                </a:lnTo>
                <a:lnTo>
                  <a:pt x="975" y="198"/>
                </a:lnTo>
                <a:lnTo>
                  <a:pt x="978" y="205"/>
                </a:lnTo>
                <a:lnTo>
                  <a:pt x="984" y="227"/>
                </a:lnTo>
                <a:lnTo>
                  <a:pt x="1006" y="254"/>
                </a:lnTo>
                <a:lnTo>
                  <a:pt x="1013" y="281"/>
                </a:lnTo>
                <a:lnTo>
                  <a:pt x="1011" y="293"/>
                </a:lnTo>
                <a:lnTo>
                  <a:pt x="1011" y="299"/>
                </a:lnTo>
                <a:lnTo>
                  <a:pt x="1002" y="310"/>
                </a:lnTo>
                <a:lnTo>
                  <a:pt x="998" y="317"/>
                </a:lnTo>
                <a:lnTo>
                  <a:pt x="998" y="324"/>
                </a:lnTo>
                <a:lnTo>
                  <a:pt x="998" y="347"/>
                </a:lnTo>
                <a:lnTo>
                  <a:pt x="1004" y="356"/>
                </a:lnTo>
                <a:lnTo>
                  <a:pt x="1004" y="362"/>
                </a:lnTo>
                <a:lnTo>
                  <a:pt x="997" y="376"/>
                </a:lnTo>
                <a:lnTo>
                  <a:pt x="989" y="403"/>
                </a:lnTo>
                <a:lnTo>
                  <a:pt x="986" y="412"/>
                </a:lnTo>
                <a:lnTo>
                  <a:pt x="980" y="421"/>
                </a:lnTo>
                <a:lnTo>
                  <a:pt x="973" y="448"/>
                </a:lnTo>
                <a:lnTo>
                  <a:pt x="968" y="475"/>
                </a:lnTo>
                <a:lnTo>
                  <a:pt x="966" y="497"/>
                </a:lnTo>
                <a:lnTo>
                  <a:pt x="968" y="504"/>
                </a:lnTo>
                <a:lnTo>
                  <a:pt x="966" y="511"/>
                </a:lnTo>
                <a:lnTo>
                  <a:pt x="964" y="518"/>
                </a:lnTo>
                <a:lnTo>
                  <a:pt x="962" y="526"/>
                </a:lnTo>
                <a:lnTo>
                  <a:pt x="962" y="533"/>
                </a:lnTo>
                <a:lnTo>
                  <a:pt x="957" y="547"/>
                </a:lnTo>
                <a:lnTo>
                  <a:pt x="953" y="569"/>
                </a:lnTo>
                <a:lnTo>
                  <a:pt x="953" y="592"/>
                </a:lnTo>
                <a:lnTo>
                  <a:pt x="953" y="601"/>
                </a:lnTo>
                <a:lnTo>
                  <a:pt x="953" y="610"/>
                </a:lnTo>
                <a:lnTo>
                  <a:pt x="957" y="637"/>
                </a:lnTo>
                <a:lnTo>
                  <a:pt x="957" y="648"/>
                </a:lnTo>
                <a:lnTo>
                  <a:pt x="955" y="657"/>
                </a:lnTo>
                <a:lnTo>
                  <a:pt x="951" y="666"/>
                </a:lnTo>
                <a:lnTo>
                  <a:pt x="944" y="693"/>
                </a:lnTo>
                <a:lnTo>
                  <a:pt x="926" y="715"/>
                </a:lnTo>
                <a:lnTo>
                  <a:pt x="919" y="720"/>
                </a:lnTo>
                <a:lnTo>
                  <a:pt x="912" y="725"/>
                </a:lnTo>
                <a:lnTo>
                  <a:pt x="886" y="729"/>
                </a:lnTo>
                <a:lnTo>
                  <a:pt x="865" y="736"/>
                </a:lnTo>
                <a:lnTo>
                  <a:pt x="840" y="740"/>
                </a:lnTo>
                <a:lnTo>
                  <a:pt x="832" y="742"/>
                </a:lnTo>
                <a:lnTo>
                  <a:pt x="814" y="747"/>
                </a:lnTo>
                <a:lnTo>
                  <a:pt x="805" y="745"/>
                </a:lnTo>
                <a:lnTo>
                  <a:pt x="783" y="738"/>
                </a:lnTo>
                <a:lnTo>
                  <a:pt x="758" y="731"/>
                </a:lnTo>
                <a:lnTo>
                  <a:pt x="740" y="722"/>
                </a:lnTo>
                <a:lnTo>
                  <a:pt x="718" y="715"/>
                </a:lnTo>
                <a:lnTo>
                  <a:pt x="708" y="713"/>
                </a:lnTo>
                <a:lnTo>
                  <a:pt x="679" y="718"/>
                </a:lnTo>
                <a:lnTo>
                  <a:pt x="661" y="720"/>
                </a:lnTo>
                <a:lnTo>
                  <a:pt x="655" y="725"/>
                </a:lnTo>
                <a:lnTo>
                  <a:pt x="645" y="734"/>
                </a:lnTo>
                <a:lnTo>
                  <a:pt x="635" y="734"/>
                </a:lnTo>
                <a:lnTo>
                  <a:pt x="614" y="725"/>
                </a:lnTo>
                <a:lnTo>
                  <a:pt x="585" y="698"/>
                </a:lnTo>
                <a:lnTo>
                  <a:pt x="563" y="693"/>
                </a:lnTo>
                <a:lnTo>
                  <a:pt x="556" y="691"/>
                </a:lnTo>
                <a:lnTo>
                  <a:pt x="531" y="688"/>
                </a:lnTo>
                <a:lnTo>
                  <a:pt x="513" y="688"/>
                </a:lnTo>
                <a:lnTo>
                  <a:pt x="507" y="688"/>
                </a:lnTo>
                <a:lnTo>
                  <a:pt x="500" y="695"/>
                </a:lnTo>
                <a:lnTo>
                  <a:pt x="493" y="702"/>
                </a:lnTo>
                <a:lnTo>
                  <a:pt x="475" y="707"/>
                </a:lnTo>
                <a:lnTo>
                  <a:pt x="450" y="711"/>
                </a:lnTo>
                <a:lnTo>
                  <a:pt x="417" y="709"/>
                </a:lnTo>
                <a:lnTo>
                  <a:pt x="381" y="702"/>
                </a:lnTo>
                <a:lnTo>
                  <a:pt x="345" y="698"/>
                </a:lnTo>
                <a:lnTo>
                  <a:pt x="338" y="698"/>
                </a:lnTo>
                <a:lnTo>
                  <a:pt x="332" y="698"/>
                </a:lnTo>
                <a:lnTo>
                  <a:pt x="314" y="698"/>
                </a:lnTo>
                <a:lnTo>
                  <a:pt x="307" y="698"/>
                </a:lnTo>
                <a:lnTo>
                  <a:pt x="274" y="698"/>
                </a:lnTo>
                <a:lnTo>
                  <a:pt x="253" y="698"/>
                </a:lnTo>
                <a:lnTo>
                  <a:pt x="247" y="698"/>
                </a:lnTo>
                <a:lnTo>
                  <a:pt x="240" y="702"/>
                </a:lnTo>
                <a:lnTo>
                  <a:pt x="215" y="702"/>
                </a:lnTo>
                <a:lnTo>
                  <a:pt x="175" y="702"/>
                </a:lnTo>
                <a:lnTo>
                  <a:pt x="168" y="700"/>
                </a:lnTo>
                <a:lnTo>
                  <a:pt x="160" y="677"/>
                </a:lnTo>
                <a:lnTo>
                  <a:pt x="163" y="641"/>
                </a:lnTo>
                <a:lnTo>
                  <a:pt x="168" y="619"/>
                </a:lnTo>
                <a:lnTo>
                  <a:pt x="170" y="610"/>
                </a:lnTo>
                <a:lnTo>
                  <a:pt x="175" y="601"/>
                </a:lnTo>
                <a:lnTo>
                  <a:pt x="179" y="594"/>
                </a:lnTo>
                <a:lnTo>
                  <a:pt x="179" y="585"/>
                </a:lnTo>
                <a:lnTo>
                  <a:pt x="173" y="563"/>
                </a:lnTo>
                <a:lnTo>
                  <a:pt x="144" y="540"/>
                </a:lnTo>
                <a:lnTo>
                  <a:pt x="123" y="533"/>
                </a:lnTo>
                <a:lnTo>
                  <a:pt x="123" y="524"/>
                </a:lnTo>
                <a:lnTo>
                  <a:pt x="128" y="493"/>
                </a:lnTo>
                <a:lnTo>
                  <a:pt x="125" y="484"/>
                </a:lnTo>
                <a:lnTo>
                  <a:pt x="119" y="479"/>
                </a:lnTo>
                <a:lnTo>
                  <a:pt x="117" y="472"/>
                </a:lnTo>
                <a:lnTo>
                  <a:pt x="115" y="441"/>
                </a:lnTo>
                <a:lnTo>
                  <a:pt x="108" y="418"/>
                </a:lnTo>
                <a:lnTo>
                  <a:pt x="47" y="378"/>
                </a:lnTo>
                <a:lnTo>
                  <a:pt x="22" y="374"/>
                </a:lnTo>
                <a:lnTo>
                  <a:pt x="27" y="371"/>
                </a:lnTo>
                <a:lnTo>
                  <a:pt x="33" y="367"/>
                </a:lnTo>
                <a:lnTo>
                  <a:pt x="38" y="360"/>
                </a:lnTo>
                <a:lnTo>
                  <a:pt x="43" y="351"/>
                </a:lnTo>
                <a:lnTo>
                  <a:pt x="50" y="344"/>
                </a:lnTo>
                <a:lnTo>
                  <a:pt x="56" y="340"/>
                </a:lnTo>
                <a:lnTo>
                  <a:pt x="61" y="326"/>
                </a:lnTo>
                <a:lnTo>
                  <a:pt x="29" y="290"/>
                </a:lnTo>
                <a:lnTo>
                  <a:pt x="0" y="281"/>
                </a:lnTo>
                <a:lnTo>
                  <a:pt x="2" y="275"/>
                </a:lnTo>
                <a:lnTo>
                  <a:pt x="9" y="268"/>
                </a:lnTo>
                <a:lnTo>
                  <a:pt x="27" y="259"/>
                </a:lnTo>
                <a:lnTo>
                  <a:pt x="45" y="250"/>
                </a:lnTo>
                <a:lnTo>
                  <a:pt x="63" y="241"/>
                </a:lnTo>
                <a:lnTo>
                  <a:pt x="68" y="239"/>
                </a:lnTo>
                <a:lnTo>
                  <a:pt x="76" y="236"/>
                </a:lnTo>
                <a:lnTo>
                  <a:pt x="83" y="234"/>
                </a:lnTo>
                <a:lnTo>
                  <a:pt x="88" y="229"/>
                </a:lnTo>
                <a:lnTo>
                  <a:pt x="92" y="218"/>
                </a:lnTo>
                <a:lnTo>
                  <a:pt x="94" y="212"/>
                </a:lnTo>
                <a:lnTo>
                  <a:pt x="95" y="189"/>
                </a:lnTo>
                <a:lnTo>
                  <a:pt x="98" y="167"/>
                </a:lnTo>
                <a:lnTo>
                  <a:pt x="103" y="140"/>
                </a:lnTo>
                <a:lnTo>
                  <a:pt x="112" y="128"/>
                </a:lnTo>
                <a:lnTo>
                  <a:pt x="117" y="121"/>
                </a:lnTo>
                <a:lnTo>
                  <a:pt x="123" y="117"/>
                </a:lnTo>
                <a:lnTo>
                  <a:pt x="128" y="117"/>
                </a:lnTo>
                <a:lnTo>
                  <a:pt x="133" y="119"/>
                </a:lnTo>
                <a:lnTo>
                  <a:pt x="139" y="119"/>
                </a:lnTo>
                <a:lnTo>
                  <a:pt x="146" y="117"/>
                </a:lnTo>
                <a:lnTo>
                  <a:pt x="164" y="113"/>
                </a:lnTo>
                <a:lnTo>
                  <a:pt x="182" y="108"/>
                </a:lnTo>
                <a:lnTo>
                  <a:pt x="208" y="104"/>
                </a:lnTo>
                <a:lnTo>
                  <a:pt x="225" y="101"/>
                </a:lnTo>
                <a:lnTo>
                  <a:pt x="233" y="104"/>
                </a:lnTo>
                <a:lnTo>
                  <a:pt x="240" y="106"/>
                </a:lnTo>
                <a:lnTo>
                  <a:pt x="245" y="113"/>
                </a:lnTo>
                <a:lnTo>
                  <a:pt x="253" y="140"/>
                </a:lnTo>
                <a:lnTo>
                  <a:pt x="258" y="162"/>
                </a:lnTo>
                <a:lnTo>
                  <a:pt x="265" y="155"/>
                </a:lnTo>
                <a:lnTo>
                  <a:pt x="271" y="155"/>
                </a:lnTo>
                <a:lnTo>
                  <a:pt x="280" y="153"/>
                </a:lnTo>
                <a:lnTo>
                  <a:pt x="298" y="146"/>
                </a:lnTo>
                <a:lnTo>
                  <a:pt x="316" y="119"/>
                </a:lnTo>
                <a:lnTo>
                  <a:pt x="323" y="115"/>
                </a:lnTo>
                <a:lnTo>
                  <a:pt x="328" y="111"/>
                </a:lnTo>
                <a:lnTo>
                  <a:pt x="336" y="106"/>
                </a:lnTo>
                <a:lnTo>
                  <a:pt x="347" y="97"/>
                </a:lnTo>
                <a:lnTo>
                  <a:pt x="352" y="94"/>
                </a:lnTo>
                <a:lnTo>
                  <a:pt x="359" y="94"/>
                </a:lnTo>
                <a:lnTo>
                  <a:pt x="365" y="94"/>
                </a:lnTo>
                <a:lnTo>
                  <a:pt x="374" y="101"/>
                </a:lnTo>
                <a:lnTo>
                  <a:pt x="381" y="106"/>
                </a:lnTo>
                <a:lnTo>
                  <a:pt x="386" y="111"/>
                </a:lnTo>
                <a:lnTo>
                  <a:pt x="392" y="113"/>
                </a:lnTo>
                <a:lnTo>
                  <a:pt x="399" y="115"/>
                </a:lnTo>
                <a:lnTo>
                  <a:pt x="406" y="119"/>
                </a:lnTo>
                <a:lnTo>
                  <a:pt x="415" y="124"/>
                </a:lnTo>
                <a:lnTo>
                  <a:pt x="421" y="126"/>
                </a:lnTo>
                <a:lnTo>
                  <a:pt x="424" y="133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505320"/>
            <a:ext cx="1676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05160" y="2424240"/>
            <a:ext cx="78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4240" y="3359160"/>
            <a:ext cx="21600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505320"/>
            <a:ext cx="167616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86000" y="30337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62880" y="40244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18800" y="3414600"/>
            <a:ext cx="84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8040" y="3643200"/>
            <a:ext cx="978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08240" y="5167440"/>
            <a:ext cx="1522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di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ctly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.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 or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.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r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.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 or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.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ed ran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.3,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inment ador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600" y="2471760"/>
            <a:ext cx="1076040" cy="882720"/>
          </a:xfrm>
          <a:custGeom>
            <a:avLst/>
            <a:gdLst/>
            <a:ahLst/>
            <a:rect l="l" t="t" r="r" b="b"/>
            <a:pathLst>
              <a:path w="678" h="556">
                <a:moveTo>
                  <a:pt x="284" y="99"/>
                </a:moveTo>
                <a:lnTo>
                  <a:pt x="288" y="90"/>
                </a:lnTo>
                <a:lnTo>
                  <a:pt x="293" y="70"/>
                </a:lnTo>
                <a:lnTo>
                  <a:pt x="297" y="47"/>
                </a:lnTo>
                <a:lnTo>
                  <a:pt x="302" y="27"/>
                </a:lnTo>
                <a:lnTo>
                  <a:pt x="305" y="20"/>
                </a:lnTo>
                <a:lnTo>
                  <a:pt x="310" y="15"/>
                </a:lnTo>
                <a:lnTo>
                  <a:pt x="315" y="10"/>
                </a:lnTo>
                <a:lnTo>
                  <a:pt x="320" y="5"/>
                </a:lnTo>
                <a:lnTo>
                  <a:pt x="324" y="3"/>
                </a:lnTo>
                <a:lnTo>
                  <a:pt x="329" y="2"/>
                </a:lnTo>
                <a:lnTo>
                  <a:pt x="334" y="0"/>
                </a:lnTo>
                <a:lnTo>
                  <a:pt x="339" y="0"/>
                </a:lnTo>
                <a:lnTo>
                  <a:pt x="344" y="0"/>
                </a:lnTo>
                <a:lnTo>
                  <a:pt x="348" y="2"/>
                </a:lnTo>
                <a:lnTo>
                  <a:pt x="352" y="2"/>
                </a:lnTo>
                <a:lnTo>
                  <a:pt x="356" y="3"/>
                </a:lnTo>
                <a:lnTo>
                  <a:pt x="360" y="5"/>
                </a:lnTo>
                <a:lnTo>
                  <a:pt x="363" y="5"/>
                </a:lnTo>
                <a:lnTo>
                  <a:pt x="367" y="7"/>
                </a:lnTo>
                <a:lnTo>
                  <a:pt x="372" y="10"/>
                </a:lnTo>
                <a:lnTo>
                  <a:pt x="375" y="12"/>
                </a:lnTo>
                <a:lnTo>
                  <a:pt x="380" y="15"/>
                </a:lnTo>
                <a:lnTo>
                  <a:pt x="387" y="20"/>
                </a:lnTo>
                <a:lnTo>
                  <a:pt x="392" y="25"/>
                </a:lnTo>
                <a:lnTo>
                  <a:pt x="397" y="27"/>
                </a:lnTo>
                <a:lnTo>
                  <a:pt x="402" y="30"/>
                </a:lnTo>
                <a:lnTo>
                  <a:pt x="407" y="34"/>
                </a:lnTo>
                <a:lnTo>
                  <a:pt x="411" y="40"/>
                </a:lnTo>
                <a:lnTo>
                  <a:pt x="413" y="45"/>
                </a:lnTo>
                <a:lnTo>
                  <a:pt x="415" y="50"/>
                </a:lnTo>
                <a:lnTo>
                  <a:pt x="419" y="57"/>
                </a:lnTo>
                <a:lnTo>
                  <a:pt x="422" y="59"/>
                </a:lnTo>
                <a:lnTo>
                  <a:pt x="425" y="64"/>
                </a:lnTo>
                <a:lnTo>
                  <a:pt x="428" y="80"/>
                </a:lnTo>
                <a:lnTo>
                  <a:pt x="431" y="85"/>
                </a:lnTo>
                <a:lnTo>
                  <a:pt x="434" y="89"/>
                </a:lnTo>
                <a:lnTo>
                  <a:pt x="439" y="94"/>
                </a:lnTo>
                <a:lnTo>
                  <a:pt x="443" y="100"/>
                </a:lnTo>
                <a:lnTo>
                  <a:pt x="448" y="104"/>
                </a:lnTo>
                <a:lnTo>
                  <a:pt x="453" y="107"/>
                </a:lnTo>
                <a:lnTo>
                  <a:pt x="457" y="110"/>
                </a:lnTo>
                <a:lnTo>
                  <a:pt x="461" y="114"/>
                </a:lnTo>
                <a:lnTo>
                  <a:pt x="466" y="115"/>
                </a:lnTo>
                <a:lnTo>
                  <a:pt x="469" y="117"/>
                </a:lnTo>
                <a:lnTo>
                  <a:pt x="473" y="117"/>
                </a:lnTo>
                <a:lnTo>
                  <a:pt x="487" y="117"/>
                </a:lnTo>
                <a:lnTo>
                  <a:pt x="491" y="115"/>
                </a:lnTo>
                <a:lnTo>
                  <a:pt x="496" y="114"/>
                </a:lnTo>
                <a:lnTo>
                  <a:pt x="500" y="114"/>
                </a:lnTo>
                <a:lnTo>
                  <a:pt x="514" y="114"/>
                </a:lnTo>
                <a:lnTo>
                  <a:pt x="519" y="112"/>
                </a:lnTo>
                <a:lnTo>
                  <a:pt x="533" y="109"/>
                </a:lnTo>
                <a:lnTo>
                  <a:pt x="545" y="107"/>
                </a:lnTo>
                <a:lnTo>
                  <a:pt x="550" y="107"/>
                </a:lnTo>
                <a:lnTo>
                  <a:pt x="555" y="105"/>
                </a:lnTo>
                <a:lnTo>
                  <a:pt x="570" y="102"/>
                </a:lnTo>
                <a:lnTo>
                  <a:pt x="584" y="100"/>
                </a:lnTo>
                <a:lnTo>
                  <a:pt x="598" y="99"/>
                </a:lnTo>
                <a:lnTo>
                  <a:pt x="602" y="97"/>
                </a:lnTo>
                <a:lnTo>
                  <a:pt x="606" y="95"/>
                </a:lnTo>
                <a:lnTo>
                  <a:pt x="609" y="95"/>
                </a:lnTo>
                <a:lnTo>
                  <a:pt x="621" y="95"/>
                </a:lnTo>
                <a:lnTo>
                  <a:pt x="638" y="97"/>
                </a:lnTo>
                <a:lnTo>
                  <a:pt x="643" y="102"/>
                </a:lnTo>
                <a:lnTo>
                  <a:pt x="646" y="107"/>
                </a:lnTo>
                <a:lnTo>
                  <a:pt x="648" y="112"/>
                </a:lnTo>
                <a:lnTo>
                  <a:pt x="648" y="117"/>
                </a:lnTo>
                <a:lnTo>
                  <a:pt x="649" y="124"/>
                </a:lnTo>
                <a:lnTo>
                  <a:pt x="650" y="140"/>
                </a:lnTo>
                <a:lnTo>
                  <a:pt x="652" y="147"/>
                </a:lnTo>
                <a:lnTo>
                  <a:pt x="654" y="152"/>
                </a:lnTo>
                <a:lnTo>
                  <a:pt x="658" y="169"/>
                </a:lnTo>
                <a:lnTo>
                  <a:pt x="672" y="189"/>
                </a:lnTo>
                <a:lnTo>
                  <a:pt x="677" y="209"/>
                </a:lnTo>
                <a:lnTo>
                  <a:pt x="676" y="217"/>
                </a:lnTo>
                <a:lnTo>
                  <a:pt x="676" y="223"/>
                </a:lnTo>
                <a:lnTo>
                  <a:pt x="670" y="231"/>
                </a:lnTo>
                <a:lnTo>
                  <a:pt x="667" y="236"/>
                </a:lnTo>
                <a:lnTo>
                  <a:pt x="667" y="241"/>
                </a:lnTo>
                <a:lnTo>
                  <a:pt x="667" y="258"/>
                </a:lnTo>
                <a:lnTo>
                  <a:pt x="671" y="264"/>
                </a:lnTo>
                <a:lnTo>
                  <a:pt x="671" y="269"/>
                </a:lnTo>
                <a:lnTo>
                  <a:pt x="666" y="279"/>
                </a:lnTo>
                <a:lnTo>
                  <a:pt x="661" y="299"/>
                </a:lnTo>
                <a:lnTo>
                  <a:pt x="659" y="306"/>
                </a:lnTo>
                <a:lnTo>
                  <a:pt x="655" y="313"/>
                </a:lnTo>
                <a:lnTo>
                  <a:pt x="650" y="333"/>
                </a:lnTo>
                <a:lnTo>
                  <a:pt x="647" y="353"/>
                </a:lnTo>
                <a:lnTo>
                  <a:pt x="646" y="369"/>
                </a:lnTo>
                <a:lnTo>
                  <a:pt x="647" y="374"/>
                </a:lnTo>
                <a:lnTo>
                  <a:pt x="646" y="380"/>
                </a:lnTo>
                <a:lnTo>
                  <a:pt x="644" y="385"/>
                </a:lnTo>
                <a:lnTo>
                  <a:pt x="643" y="391"/>
                </a:lnTo>
                <a:lnTo>
                  <a:pt x="643" y="396"/>
                </a:lnTo>
                <a:lnTo>
                  <a:pt x="639" y="406"/>
                </a:lnTo>
                <a:lnTo>
                  <a:pt x="637" y="423"/>
                </a:lnTo>
                <a:lnTo>
                  <a:pt x="637" y="440"/>
                </a:lnTo>
                <a:lnTo>
                  <a:pt x="637" y="446"/>
                </a:lnTo>
                <a:lnTo>
                  <a:pt x="637" y="453"/>
                </a:lnTo>
                <a:lnTo>
                  <a:pt x="639" y="473"/>
                </a:lnTo>
                <a:lnTo>
                  <a:pt x="639" y="481"/>
                </a:lnTo>
                <a:lnTo>
                  <a:pt x="638" y="488"/>
                </a:lnTo>
                <a:lnTo>
                  <a:pt x="636" y="495"/>
                </a:lnTo>
                <a:lnTo>
                  <a:pt x="631" y="515"/>
                </a:lnTo>
                <a:lnTo>
                  <a:pt x="619" y="531"/>
                </a:lnTo>
                <a:lnTo>
                  <a:pt x="614" y="535"/>
                </a:lnTo>
                <a:lnTo>
                  <a:pt x="609" y="538"/>
                </a:lnTo>
                <a:lnTo>
                  <a:pt x="592" y="542"/>
                </a:lnTo>
                <a:lnTo>
                  <a:pt x="578" y="547"/>
                </a:lnTo>
                <a:lnTo>
                  <a:pt x="561" y="550"/>
                </a:lnTo>
                <a:lnTo>
                  <a:pt x="556" y="552"/>
                </a:lnTo>
                <a:lnTo>
                  <a:pt x="544" y="555"/>
                </a:lnTo>
                <a:lnTo>
                  <a:pt x="538" y="553"/>
                </a:lnTo>
                <a:lnTo>
                  <a:pt x="524" y="548"/>
                </a:lnTo>
                <a:lnTo>
                  <a:pt x="507" y="543"/>
                </a:lnTo>
                <a:lnTo>
                  <a:pt x="495" y="537"/>
                </a:lnTo>
                <a:lnTo>
                  <a:pt x="480" y="531"/>
                </a:lnTo>
                <a:lnTo>
                  <a:pt x="473" y="530"/>
                </a:lnTo>
                <a:lnTo>
                  <a:pt x="454" y="533"/>
                </a:lnTo>
                <a:lnTo>
                  <a:pt x="442" y="535"/>
                </a:lnTo>
                <a:lnTo>
                  <a:pt x="438" y="538"/>
                </a:lnTo>
                <a:lnTo>
                  <a:pt x="431" y="545"/>
                </a:lnTo>
                <a:lnTo>
                  <a:pt x="425" y="545"/>
                </a:lnTo>
                <a:lnTo>
                  <a:pt x="410" y="538"/>
                </a:lnTo>
                <a:lnTo>
                  <a:pt x="391" y="518"/>
                </a:lnTo>
                <a:lnTo>
                  <a:pt x="377" y="515"/>
                </a:lnTo>
                <a:lnTo>
                  <a:pt x="372" y="513"/>
                </a:lnTo>
                <a:lnTo>
                  <a:pt x="355" y="511"/>
                </a:lnTo>
                <a:lnTo>
                  <a:pt x="343" y="511"/>
                </a:lnTo>
                <a:lnTo>
                  <a:pt x="339" y="511"/>
                </a:lnTo>
                <a:lnTo>
                  <a:pt x="334" y="516"/>
                </a:lnTo>
                <a:lnTo>
                  <a:pt x="329" y="521"/>
                </a:lnTo>
                <a:lnTo>
                  <a:pt x="317" y="525"/>
                </a:lnTo>
                <a:lnTo>
                  <a:pt x="300" y="528"/>
                </a:lnTo>
                <a:lnTo>
                  <a:pt x="279" y="526"/>
                </a:lnTo>
                <a:lnTo>
                  <a:pt x="255" y="521"/>
                </a:lnTo>
                <a:lnTo>
                  <a:pt x="230" y="518"/>
                </a:lnTo>
                <a:lnTo>
                  <a:pt x="226" y="518"/>
                </a:lnTo>
                <a:lnTo>
                  <a:pt x="222" y="518"/>
                </a:lnTo>
                <a:lnTo>
                  <a:pt x="210" y="518"/>
                </a:lnTo>
                <a:lnTo>
                  <a:pt x="205" y="518"/>
                </a:lnTo>
                <a:lnTo>
                  <a:pt x="183" y="518"/>
                </a:lnTo>
                <a:lnTo>
                  <a:pt x="169" y="518"/>
                </a:lnTo>
                <a:lnTo>
                  <a:pt x="165" y="518"/>
                </a:lnTo>
                <a:lnTo>
                  <a:pt x="160" y="521"/>
                </a:lnTo>
                <a:lnTo>
                  <a:pt x="143" y="521"/>
                </a:lnTo>
                <a:lnTo>
                  <a:pt x="117" y="521"/>
                </a:lnTo>
                <a:lnTo>
                  <a:pt x="112" y="520"/>
                </a:lnTo>
                <a:lnTo>
                  <a:pt x="107" y="503"/>
                </a:lnTo>
                <a:lnTo>
                  <a:pt x="109" y="476"/>
                </a:lnTo>
                <a:lnTo>
                  <a:pt x="112" y="460"/>
                </a:lnTo>
                <a:lnTo>
                  <a:pt x="113" y="453"/>
                </a:lnTo>
                <a:lnTo>
                  <a:pt x="117" y="446"/>
                </a:lnTo>
                <a:lnTo>
                  <a:pt x="119" y="441"/>
                </a:lnTo>
                <a:lnTo>
                  <a:pt x="119" y="435"/>
                </a:lnTo>
                <a:lnTo>
                  <a:pt x="116" y="418"/>
                </a:lnTo>
                <a:lnTo>
                  <a:pt x="96" y="401"/>
                </a:lnTo>
                <a:lnTo>
                  <a:pt x="82" y="396"/>
                </a:lnTo>
                <a:lnTo>
                  <a:pt x="82" y="390"/>
                </a:lnTo>
                <a:lnTo>
                  <a:pt x="86" y="366"/>
                </a:lnTo>
                <a:lnTo>
                  <a:pt x="83" y="359"/>
                </a:lnTo>
                <a:lnTo>
                  <a:pt x="80" y="356"/>
                </a:lnTo>
                <a:lnTo>
                  <a:pt x="78" y="351"/>
                </a:lnTo>
                <a:lnTo>
                  <a:pt x="77" y="328"/>
                </a:lnTo>
                <a:lnTo>
                  <a:pt x="72" y="311"/>
                </a:lnTo>
                <a:lnTo>
                  <a:pt x="31" y="281"/>
                </a:lnTo>
                <a:lnTo>
                  <a:pt x="14" y="278"/>
                </a:lnTo>
                <a:lnTo>
                  <a:pt x="18" y="276"/>
                </a:lnTo>
                <a:lnTo>
                  <a:pt x="22" y="273"/>
                </a:lnTo>
                <a:lnTo>
                  <a:pt x="25" y="268"/>
                </a:lnTo>
                <a:lnTo>
                  <a:pt x="29" y="261"/>
                </a:lnTo>
                <a:lnTo>
                  <a:pt x="34" y="256"/>
                </a:lnTo>
                <a:lnTo>
                  <a:pt x="37" y="253"/>
                </a:lnTo>
                <a:lnTo>
                  <a:pt x="41" y="243"/>
                </a:lnTo>
                <a:lnTo>
                  <a:pt x="19" y="216"/>
                </a:lnTo>
                <a:lnTo>
                  <a:pt x="0" y="209"/>
                </a:lnTo>
                <a:lnTo>
                  <a:pt x="1" y="204"/>
                </a:lnTo>
                <a:lnTo>
                  <a:pt x="6" y="199"/>
                </a:lnTo>
                <a:lnTo>
                  <a:pt x="18" y="192"/>
                </a:lnTo>
                <a:lnTo>
                  <a:pt x="30" y="186"/>
                </a:lnTo>
                <a:lnTo>
                  <a:pt x="42" y="179"/>
                </a:lnTo>
                <a:lnTo>
                  <a:pt x="46" y="177"/>
                </a:lnTo>
                <a:lnTo>
                  <a:pt x="51" y="175"/>
                </a:lnTo>
                <a:lnTo>
                  <a:pt x="55" y="174"/>
                </a:lnTo>
                <a:lnTo>
                  <a:pt x="59" y="170"/>
                </a:lnTo>
                <a:lnTo>
                  <a:pt x="62" y="162"/>
                </a:lnTo>
                <a:lnTo>
                  <a:pt x="63" y="157"/>
                </a:lnTo>
                <a:lnTo>
                  <a:pt x="64" y="140"/>
                </a:lnTo>
                <a:lnTo>
                  <a:pt x="65" y="124"/>
                </a:lnTo>
                <a:lnTo>
                  <a:pt x="69" y="104"/>
                </a:lnTo>
                <a:lnTo>
                  <a:pt x="75" y="95"/>
                </a:lnTo>
                <a:lnTo>
                  <a:pt x="78" y="90"/>
                </a:lnTo>
                <a:lnTo>
                  <a:pt x="82" y="87"/>
                </a:lnTo>
                <a:lnTo>
                  <a:pt x="86" y="87"/>
                </a:lnTo>
                <a:lnTo>
                  <a:pt x="89" y="89"/>
                </a:lnTo>
                <a:lnTo>
                  <a:pt x="93" y="89"/>
                </a:lnTo>
                <a:lnTo>
                  <a:pt x="98" y="87"/>
                </a:lnTo>
                <a:lnTo>
                  <a:pt x="110" y="84"/>
                </a:lnTo>
                <a:lnTo>
                  <a:pt x="122" y="80"/>
                </a:lnTo>
                <a:lnTo>
                  <a:pt x="139" y="77"/>
                </a:lnTo>
                <a:lnTo>
                  <a:pt x="151" y="75"/>
                </a:lnTo>
                <a:lnTo>
                  <a:pt x="156" y="77"/>
                </a:lnTo>
                <a:lnTo>
                  <a:pt x="160" y="79"/>
                </a:lnTo>
                <a:lnTo>
                  <a:pt x="164" y="84"/>
                </a:lnTo>
                <a:lnTo>
                  <a:pt x="169" y="104"/>
                </a:lnTo>
                <a:lnTo>
                  <a:pt x="172" y="120"/>
                </a:lnTo>
                <a:lnTo>
                  <a:pt x="177" y="115"/>
                </a:lnTo>
                <a:lnTo>
                  <a:pt x="181" y="115"/>
                </a:lnTo>
                <a:lnTo>
                  <a:pt x="187" y="114"/>
                </a:lnTo>
                <a:lnTo>
                  <a:pt x="199" y="109"/>
                </a:lnTo>
                <a:lnTo>
                  <a:pt x="211" y="89"/>
                </a:lnTo>
                <a:lnTo>
                  <a:pt x="216" y="85"/>
                </a:lnTo>
                <a:lnTo>
                  <a:pt x="219" y="82"/>
                </a:lnTo>
                <a:lnTo>
                  <a:pt x="224" y="79"/>
                </a:lnTo>
                <a:lnTo>
                  <a:pt x="232" y="72"/>
                </a:lnTo>
                <a:lnTo>
                  <a:pt x="235" y="70"/>
                </a:lnTo>
                <a:lnTo>
                  <a:pt x="240" y="70"/>
                </a:lnTo>
                <a:lnTo>
                  <a:pt x="244" y="70"/>
                </a:lnTo>
                <a:lnTo>
                  <a:pt x="250" y="75"/>
                </a:lnTo>
                <a:lnTo>
                  <a:pt x="255" y="79"/>
                </a:lnTo>
                <a:lnTo>
                  <a:pt x="258" y="82"/>
                </a:lnTo>
                <a:lnTo>
                  <a:pt x="262" y="84"/>
                </a:lnTo>
                <a:lnTo>
                  <a:pt x="267" y="85"/>
                </a:lnTo>
                <a:lnTo>
                  <a:pt x="272" y="89"/>
                </a:lnTo>
                <a:lnTo>
                  <a:pt x="277" y="92"/>
                </a:lnTo>
                <a:lnTo>
                  <a:pt x="281" y="94"/>
                </a:lnTo>
                <a:lnTo>
                  <a:pt x="284" y="99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87560" y="3843360"/>
            <a:ext cx="1076400" cy="882720"/>
          </a:xfrm>
          <a:custGeom>
            <a:avLst/>
            <a:gdLst/>
            <a:ahLst/>
            <a:rect l="l" t="t" r="r" b="b"/>
            <a:pathLst>
              <a:path w="678" h="556">
                <a:moveTo>
                  <a:pt x="284" y="99"/>
                </a:moveTo>
                <a:lnTo>
                  <a:pt x="288" y="90"/>
                </a:lnTo>
                <a:lnTo>
                  <a:pt x="293" y="70"/>
                </a:lnTo>
                <a:lnTo>
                  <a:pt x="297" y="47"/>
                </a:lnTo>
                <a:lnTo>
                  <a:pt x="302" y="27"/>
                </a:lnTo>
                <a:lnTo>
                  <a:pt x="305" y="20"/>
                </a:lnTo>
                <a:lnTo>
                  <a:pt x="310" y="15"/>
                </a:lnTo>
                <a:lnTo>
                  <a:pt x="315" y="10"/>
                </a:lnTo>
                <a:lnTo>
                  <a:pt x="320" y="5"/>
                </a:lnTo>
                <a:lnTo>
                  <a:pt x="324" y="3"/>
                </a:lnTo>
                <a:lnTo>
                  <a:pt x="329" y="2"/>
                </a:lnTo>
                <a:lnTo>
                  <a:pt x="334" y="0"/>
                </a:lnTo>
                <a:lnTo>
                  <a:pt x="339" y="0"/>
                </a:lnTo>
                <a:lnTo>
                  <a:pt x="344" y="0"/>
                </a:lnTo>
                <a:lnTo>
                  <a:pt x="348" y="2"/>
                </a:lnTo>
                <a:lnTo>
                  <a:pt x="352" y="2"/>
                </a:lnTo>
                <a:lnTo>
                  <a:pt x="356" y="3"/>
                </a:lnTo>
                <a:lnTo>
                  <a:pt x="360" y="5"/>
                </a:lnTo>
                <a:lnTo>
                  <a:pt x="363" y="5"/>
                </a:lnTo>
                <a:lnTo>
                  <a:pt x="367" y="7"/>
                </a:lnTo>
                <a:lnTo>
                  <a:pt x="372" y="10"/>
                </a:lnTo>
                <a:lnTo>
                  <a:pt x="375" y="12"/>
                </a:lnTo>
                <a:lnTo>
                  <a:pt x="380" y="15"/>
                </a:lnTo>
                <a:lnTo>
                  <a:pt x="387" y="20"/>
                </a:lnTo>
                <a:lnTo>
                  <a:pt x="392" y="25"/>
                </a:lnTo>
                <a:lnTo>
                  <a:pt x="397" y="27"/>
                </a:lnTo>
                <a:lnTo>
                  <a:pt x="402" y="30"/>
                </a:lnTo>
                <a:lnTo>
                  <a:pt x="407" y="34"/>
                </a:lnTo>
                <a:lnTo>
                  <a:pt x="411" y="40"/>
                </a:lnTo>
                <a:lnTo>
                  <a:pt x="413" y="45"/>
                </a:lnTo>
                <a:lnTo>
                  <a:pt x="415" y="50"/>
                </a:lnTo>
                <a:lnTo>
                  <a:pt x="419" y="57"/>
                </a:lnTo>
                <a:lnTo>
                  <a:pt x="422" y="59"/>
                </a:lnTo>
                <a:lnTo>
                  <a:pt x="425" y="64"/>
                </a:lnTo>
                <a:lnTo>
                  <a:pt x="428" y="80"/>
                </a:lnTo>
                <a:lnTo>
                  <a:pt x="431" y="85"/>
                </a:lnTo>
                <a:lnTo>
                  <a:pt x="434" y="89"/>
                </a:lnTo>
                <a:lnTo>
                  <a:pt x="439" y="94"/>
                </a:lnTo>
                <a:lnTo>
                  <a:pt x="443" y="100"/>
                </a:lnTo>
                <a:lnTo>
                  <a:pt x="448" y="104"/>
                </a:lnTo>
                <a:lnTo>
                  <a:pt x="453" y="107"/>
                </a:lnTo>
                <a:lnTo>
                  <a:pt x="457" y="110"/>
                </a:lnTo>
                <a:lnTo>
                  <a:pt x="461" y="114"/>
                </a:lnTo>
                <a:lnTo>
                  <a:pt x="466" y="115"/>
                </a:lnTo>
                <a:lnTo>
                  <a:pt x="469" y="117"/>
                </a:lnTo>
                <a:lnTo>
                  <a:pt x="473" y="117"/>
                </a:lnTo>
                <a:lnTo>
                  <a:pt x="487" y="117"/>
                </a:lnTo>
                <a:lnTo>
                  <a:pt x="491" y="115"/>
                </a:lnTo>
                <a:lnTo>
                  <a:pt x="496" y="114"/>
                </a:lnTo>
                <a:lnTo>
                  <a:pt x="500" y="114"/>
                </a:lnTo>
                <a:lnTo>
                  <a:pt x="514" y="114"/>
                </a:lnTo>
                <a:lnTo>
                  <a:pt x="519" y="112"/>
                </a:lnTo>
                <a:lnTo>
                  <a:pt x="533" y="109"/>
                </a:lnTo>
                <a:lnTo>
                  <a:pt x="545" y="107"/>
                </a:lnTo>
                <a:lnTo>
                  <a:pt x="550" y="107"/>
                </a:lnTo>
                <a:lnTo>
                  <a:pt x="555" y="105"/>
                </a:lnTo>
                <a:lnTo>
                  <a:pt x="570" y="102"/>
                </a:lnTo>
                <a:lnTo>
                  <a:pt x="584" y="100"/>
                </a:lnTo>
                <a:lnTo>
                  <a:pt x="598" y="99"/>
                </a:lnTo>
                <a:lnTo>
                  <a:pt x="602" y="97"/>
                </a:lnTo>
                <a:lnTo>
                  <a:pt x="606" y="95"/>
                </a:lnTo>
                <a:lnTo>
                  <a:pt x="609" y="95"/>
                </a:lnTo>
                <a:lnTo>
                  <a:pt x="621" y="95"/>
                </a:lnTo>
                <a:lnTo>
                  <a:pt x="638" y="97"/>
                </a:lnTo>
                <a:lnTo>
                  <a:pt x="643" y="102"/>
                </a:lnTo>
                <a:lnTo>
                  <a:pt x="646" y="107"/>
                </a:lnTo>
                <a:lnTo>
                  <a:pt x="648" y="112"/>
                </a:lnTo>
                <a:lnTo>
                  <a:pt x="648" y="117"/>
                </a:lnTo>
                <a:lnTo>
                  <a:pt x="649" y="124"/>
                </a:lnTo>
                <a:lnTo>
                  <a:pt x="650" y="140"/>
                </a:lnTo>
                <a:lnTo>
                  <a:pt x="652" y="147"/>
                </a:lnTo>
                <a:lnTo>
                  <a:pt x="654" y="152"/>
                </a:lnTo>
                <a:lnTo>
                  <a:pt x="658" y="169"/>
                </a:lnTo>
                <a:lnTo>
                  <a:pt x="672" y="189"/>
                </a:lnTo>
                <a:lnTo>
                  <a:pt x="677" y="209"/>
                </a:lnTo>
                <a:lnTo>
                  <a:pt x="676" y="217"/>
                </a:lnTo>
                <a:lnTo>
                  <a:pt x="676" y="223"/>
                </a:lnTo>
                <a:lnTo>
                  <a:pt x="670" y="231"/>
                </a:lnTo>
                <a:lnTo>
                  <a:pt x="667" y="236"/>
                </a:lnTo>
                <a:lnTo>
                  <a:pt x="667" y="241"/>
                </a:lnTo>
                <a:lnTo>
                  <a:pt x="667" y="258"/>
                </a:lnTo>
                <a:lnTo>
                  <a:pt x="671" y="264"/>
                </a:lnTo>
                <a:lnTo>
                  <a:pt x="671" y="269"/>
                </a:lnTo>
                <a:lnTo>
                  <a:pt x="666" y="279"/>
                </a:lnTo>
                <a:lnTo>
                  <a:pt x="661" y="299"/>
                </a:lnTo>
                <a:lnTo>
                  <a:pt x="659" y="306"/>
                </a:lnTo>
                <a:lnTo>
                  <a:pt x="655" y="313"/>
                </a:lnTo>
                <a:lnTo>
                  <a:pt x="650" y="333"/>
                </a:lnTo>
                <a:lnTo>
                  <a:pt x="647" y="353"/>
                </a:lnTo>
                <a:lnTo>
                  <a:pt x="646" y="369"/>
                </a:lnTo>
                <a:lnTo>
                  <a:pt x="647" y="374"/>
                </a:lnTo>
                <a:lnTo>
                  <a:pt x="646" y="380"/>
                </a:lnTo>
                <a:lnTo>
                  <a:pt x="644" y="385"/>
                </a:lnTo>
                <a:lnTo>
                  <a:pt x="643" y="391"/>
                </a:lnTo>
                <a:lnTo>
                  <a:pt x="643" y="396"/>
                </a:lnTo>
                <a:lnTo>
                  <a:pt x="639" y="406"/>
                </a:lnTo>
                <a:lnTo>
                  <a:pt x="637" y="423"/>
                </a:lnTo>
                <a:lnTo>
                  <a:pt x="637" y="440"/>
                </a:lnTo>
                <a:lnTo>
                  <a:pt x="637" y="446"/>
                </a:lnTo>
                <a:lnTo>
                  <a:pt x="637" y="453"/>
                </a:lnTo>
                <a:lnTo>
                  <a:pt x="639" y="473"/>
                </a:lnTo>
                <a:lnTo>
                  <a:pt x="639" y="481"/>
                </a:lnTo>
                <a:lnTo>
                  <a:pt x="638" y="488"/>
                </a:lnTo>
                <a:lnTo>
                  <a:pt x="636" y="495"/>
                </a:lnTo>
                <a:lnTo>
                  <a:pt x="631" y="515"/>
                </a:lnTo>
                <a:lnTo>
                  <a:pt x="619" y="531"/>
                </a:lnTo>
                <a:lnTo>
                  <a:pt x="614" y="535"/>
                </a:lnTo>
                <a:lnTo>
                  <a:pt x="609" y="538"/>
                </a:lnTo>
                <a:lnTo>
                  <a:pt x="592" y="542"/>
                </a:lnTo>
                <a:lnTo>
                  <a:pt x="578" y="547"/>
                </a:lnTo>
                <a:lnTo>
                  <a:pt x="561" y="550"/>
                </a:lnTo>
                <a:lnTo>
                  <a:pt x="556" y="552"/>
                </a:lnTo>
                <a:lnTo>
                  <a:pt x="544" y="555"/>
                </a:lnTo>
                <a:lnTo>
                  <a:pt x="538" y="553"/>
                </a:lnTo>
                <a:lnTo>
                  <a:pt x="524" y="548"/>
                </a:lnTo>
                <a:lnTo>
                  <a:pt x="507" y="543"/>
                </a:lnTo>
                <a:lnTo>
                  <a:pt x="495" y="537"/>
                </a:lnTo>
                <a:lnTo>
                  <a:pt x="480" y="531"/>
                </a:lnTo>
                <a:lnTo>
                  <a:pt x="473" y="530"/>
                </a:lnTo>
                <a:lnTo>
                  <a:pt x="454" y="533"/>
                </a:lnTo>
                <a:lnTo>
                  <a:pt x="442" y="535"/>
                </a:lnTo>
                <a:lnTo>
                  <a:pt x="438" y="538"/>
                </a:lnTo>
                <a:lnTo>
                  <a:pt x="431" y="545"/>
                </a:lnTo>
                <a:lnTo>
                  <a:pt x="425" y="545"/>
                </a:lnTo>
                <a:lnTo>
                  <a:pt x="410" y="538"/>
                </a:lnTo>
                <a:lnTo>
                  <a:pt x="391" y="518"/>
                </a:lnTo>
                <a:lnTo>
                  <a:pt x="377" y="515"/>
                </a:lnTo>
                <a:lnTo>
                  <a:pt x="372" y="513"/>
                </a:lnTo>
                <a:lnTo>
                  <a:pt x="355" y="511"/>
                </a:lnTo>
                <a:lnTo>
                  <a:pt x="343" y="511"/>
                </a:lnTo>
                <a:lnTo>
                  <a:pt x="339" y="511"/>
                </a:lnTo>
                <a:lnTo>
                  <a:pt x="334" y="516"/>
                </a:lnTo>
                <a:lnTo>
                  <a:pt x="329" y="521"/>
                </a:lnTo>
                <a:lnTo>
                  <a:pt x="317" y="525"/>
                </a:lnTo>
                <a:lnTo>
                  <a:pt x="300" y="528"/>
                </a:lnTo>
                <a:lnTo>
                  <a:pt x="279" y="526"/>
                </a:lnTo>
                <a:lnTo>
                  <a:pt x="255" y="521"/>
                </a:lnTo>
                <a:lnTo>
                  <a:pt x="230" y="518"/>
                </a:lnTo>
                <a:lnTo>
                  <a:pt x="226" y="518"/>
                </a:lnTo>
                <a:lnTo>
                  <a:pt x="222" y="518"/>
                </a:lnTo>
                <a:lnTo>
                  <a:pt x="210" y="518"/>
                </a:lnTo>
                <a:lnTo>
                  <a:pt x="205" y="518"/>
                </a:lnTo>
                <a:lnTo>
                  <a:pt x="183" y="518"/>
                </a:lnTo>
                <a:lnTo>
                  <a:pt x="169" y="518"/>
                </a:lnTo>
                <a:lnTo>
                  <a:pt x="165" y="518"/>
                </a:lnTo>
                <a:lnTo>
                  <a:pt x="160" y="521"/>
                </a:lnTo>
                <a:lnTo>
                  <a:pt x="143" y="521"/>
                </a:lnTo>
                <a:lnTo>
                  <a:pt x="117" y="521"/>
                </a:lnTo>
                <a:lnTo>
                  <a:pt x="112" y="520"/>
                </a:lnTo>
                <a:lnTo>
                  <a:pt x="107" y="503"/>
                </a:lnTo>
                <a:lnTo>
                  <a:pt x="109" y="476"/>
                </a:lnTo>
                <a:lnTo>
                  <a:pt x="112" y="460"/>
                </a:lnTo>
                <a:lnTo>
                  <a:pt x="113" y="453"/>
                </a:lnTo>
                <a:lnTo>
                  <a:pt x="117" y="446"/>
                </a:lnTo>
                <a:lnTo>
                  <a:pt x="119" y="441"/>
                </a:lnTo>
                <a:lnTo>
                  <a:pt x="119" y="435"/>
                </a:lnTo>
                <a:lnTo>
                  <a:pt x="116" y="418"/>
                </a:lnTo>
                <a:lnTo>
                  <a:pt x="96" y="401"/>
                </a:lnTo>
                <a:lnTo>
                  <a:pt x="82" y="396"/>
                </a:lnTo>
                <a:lnTo>
                  <a:pt x="82" y="390"/>
                </a:lnTo>
                <a:lnTo>
                  <a:pt x="86" y="366"/>
                </a:lnTo>
                <a:lnTo>
                  <a:pt x="83" y="359"/>
                </a:lnTo>
                <a:lnTo>
                  <a:pt x="80" y="356"/>
                </a:lnTo>
                <a:lnTo>
                  <a:pt x="78" y="351"/>
                </a:lnTo>
                <a:lnTo>
                  <a:pt x="77" y="328"/>
                </a:lnTo>
                <a:lnTo>
                  <a:pt x="72" y="311"/>
                </a:lnTo>
                <a:lnTo>
                  <a:pt x="31" y="281"/>
                </a:lnTo>
                <a:lnTo>
                  <a:pt x="14" y="278"/>
                </a:lnTo>
                <a:lnTo>
                  <a:pt x="18" y="276"/>
                </a:lnTo>
                <a:lnTo>
                  <a:pt x="22" y="273"/>
                </a:lnTo>
                <a:lnTo>
                  <a:pt x="25" y="268"/>
                </a:lnTo>
                <a:lnTo>
                  <a:pt x="29" y="261"/>
                </a:lnTo>
                <a:lnTo>
                  <a:pt x="34" y="256"/>
                </a:lnTo>
                <a:lnTo>
                  <a:pt x="37" y="253"/>
                </a:lnTo>
                <a:lnTo>
                  <a:pt x="41" y="243"/>
                </a:lnTo>
                <a:lnTo>
                  <a:pt x="19" y="216"/>
                </a:lnTo>
                <a:lnTo>
                  <a:pt x="0" y="209"/>
                </a:lnTo>
                <a:lnTo>
                  <a:pt x="1" y="204"/>
                </a:lnTo>
                <a:lnTo>
                  <a:pt x="6" y="199"/>
                </a:lnTo>
                <a:lnTo>
                  <a:pt x="18" y="192"/>
                </a:lnTo>
                <a:lnTo>
                  <a:pt x="30" y="186"/>
                </a:lnTo>
                <a:lnTo>
                  <a:pt x="42" y="179"/>
                </a:lnTo>
                <a:lnTo>
                  <a:pt x="46" y="177"/>
                </a:lnTo>
                <a:lnTo>
                  <a:pt x="51" y="175"/>
                </a:lnTo>
                <a:lnTo>
                  <a:pt x="55" y="174"/>
                </a:lnTo>
                <a:lnTo>
                  <a:pt x="59" y="170"/>
                </a:lnTo>
                <a:lnTo>
                  <a:pt x="62" y="162"/>
                </a:lnTo>
                <a:lnTo>
                  <a:pt x="63" y="157"/>
                </a:lnTo>
                <a:lnTo>
                  <a:pt x="64" y="140"/>
                </a:lnTo>
                <a:lnTo>
                  <a:pt x="65" y="124"/>
                </a:lnTo>
                <a:lnTo>
                  <a:pt x="69" y="104"/>
                </a:lnTo>
                <a:lnTo>
                  <a:pt x="75" y="95"/>
                </a:lnTo>
                <a:lnTo>
                  <a:pt x="78" y="90"/>
                </a:lnTo>
                <a:lnTo>
                  <a:pt x="82" y="87"/>
                </a:lnTo>
                <a:lnTo>
                  <a:pt x="86" y="87"/>
                </a:lnTo>
                <a:lnTo>
                  <a:pt x="89" y="89"/>
                </a:lnTo>
                <a:lnTo>
                  <a:pt x="93" y="89"/>
                </a:lnTo>
                <a:lnTo>
                  <a:pt x="98" y="87"/>
                </a:lnTo>
                <a:lnTo>
                  <a:pt x="110" y="84"/>
                </a:lnTo>
                <a:lnTo>
                  <a:pt x="122" y="80"/>
                </a:lnTo>
                <a:lnTo>
                  <a:pt x="139" y="77"/>
                </a:lnTo>
                <a:lnTo>
                  <a:pt x="151" y="75"/>
                </a:lnTo>
                <a:lnTo>
                  <a:pt x="156" y="77"/>
                </a:lnTo>
                <a:lnTo>
                  <a:pt x="160" y="79"/>
                </a:lnTo>
                <a:lnTo>
                  <a:pt x="164" y="84"/>
                </a:lnTo>
                <a:lnTo>
                  <a:pt x="169" y="104"/>
                </a:lnTo>
                <a:lnTo>
                  <a:pt x="172" y="120"/>
                </a:lnTo>
                <a:lnTo>
                  <a:pt x="177" y="115"/>
                </a:lnTo>
                <a:lnTo>
                  <a:pt x="181" y="115"/>
                </a:lnTo>
                <a:lnTo>
                  <a:pt x="187" y="114"/>
                </a:lnTo>
                <a:lnTo>
                  <a:pt x="199" y="109"/>
                </a:lnTo>
                <a:lnTo>
                  <a:pt x="211" y="89"/>
                </a:lnTo>
                <a:lnTo>
                  <a:pt x="216" y="85"/>
                </a:lnTo>
                <a:lnTo>
                  <a:pt x="219" y="82"/>
                </a:lnTo>
                <a:lnTo>
                  <a:pt x="224" y="79"/>
                </a:lnTo>
                <a:lnTo>
                  <a:pt x="232" y="72"/>
                </a:lnTo>
                <a:lnTo>
                  <a:pt x="235" y="70"/>
                </a:lnTo>
                <a:lnTo>
                  <a:pt x="240" y="70"/>
                </a:lnTo>
                <a:lnTo>
                  <a:pt x="244" y="70"/>
                </a:lnTo>
                <a:lnTo>
                  <a:pt x="250" y="75"/>
                </a:lnTo>
                <a:lnTo>
                  <a:pt x="255" y="79"/>
                </a:lnTo>
                <a:lnTo>
                  <a:pt x="258" y="82"/>
                </a:lnTo>
                <a:lnTo>
                  <a:pt x="262" y="84"/>
                </a:lnTo>
                <a:lnTo>
                  <a:pt x="267" y="85"/>
                </a:lnTo>
                <a:lnTo>
                  <a:pt x="272" y="89"/>
                </a:lnTo>
                <a:lnTo>
                  <a:pt x="277" y="92"/>
                </a:lnTo>
                <a:lnTo>
                  <a:pt x="281" y="94"/>
                </a:lnTo>
                <a:lnTo>
                  <a:pt x="284" y="99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3124080"/>
            <a:ext cx="1222200" cy="7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30360" y="3054240"/>
            <a:ext cx="88920" cy="100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08040" y="3110040"/>
            <a:ext cx="23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46480" y="3643200"/>
            <a:ext cx="27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25640" y="3892680"/>
            <a:ext cx="139680" cy="156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30560" y="2395440"/>
            <a:ext cx="1076400" cy="882720"/>
          </a:xfrm>
          <a:custGeom>
            <a:avLst/>
            <a:gdLst/>
            <a:ahLst/>
            <a:rect l="l" t="t" r="r" b="b"/>
            <a:pathLst>
              <a:path w="678" h="556">
                <a:moveTo>
                  <a:pt x="284" y="99"/>
                </a:moveTo>
                <a:lnTo>
                  <a:pt x="288" y="90"/>
                </a:lnTo>
                <a:lnTo>
                  <a:pt x="293" y="70"/>
                </a:lnTo>
                <a:lnTo>
                  <a:pt x="297" y="47"/>
                </a:lnTo>
                <a:lnTo>
                  <a:pt x="302" y="27"/>
                </a:lnTo>
                <a:lnTo>
                  <a:pt x="305" y="20"/>
                </a:lnTo>
                <a:lnTo>
                  <a:pt x="310" y="15"/>
                </a:lnTo>
                <a:lnTo>
                  <a:pt x="315" y="10"/>
                </a:lnTo>
                <a:lnTo>
                  <a:pt x="320" y="5"/>
                </a:lnTo>
                <a:lnTo>
                  <a:pt x="324" y="3"/>
                </a:lnTo>
                <a:lnTo>
                  <a:pt x="329" y="2"/>
                </a:lnTo>
                <a:lnTo>
                  <a:pt x="334" y="0"/>
                </a:lnTo>
                <a:lnTo>
                  <a:pt x="339" y="0"/>
                </a:lnTo>
                <a:lnTo>
                  <a:pt x="344" y="0"/>
                </a:lnTo>
                <a:lnTo>
                  <a:pt x="348" y="2"/>
                </a:lnTo>
                <a:lnTo>
                  <a:pt x="352" y="2"/>
                </a:lnTo>
                <a:lnTo>
                  <a:pt x="356" y="3"/>
                </a:lnTo>
                <a:lnTo>
                  <a:pt x="360" y="5"/>
                </a:lnTo>
                <a:lnTo>
                  <a:pt x="363" y="5"/>
                </a:lnTo>
                <a:lnTo>
                  <a:pt x="367" y="7"/>
                </a:lnTo>
                <a:lnTo>
                  <a:pt x="372" y="10"/>
                </a:lnTo>
                <a:lnTo>
                  <a:pt x="375" y="12"/>
                </a:lnTo>
                <a:lnTo>
                  <a:pt x="380" y="15"/>
                </a:lnTo>
                <a:lnTo>
                  <a:pt x="387" y="20"/>
                </a:lnTo>
                <a:lnTo>
                  <a:pt x="392" y="25"/>
                </a:lnTo>
                <a:lnTo>
                  <a:pt x="397" y="27"/>
                </a:lnTo>
                <a:lnTo>
                  <a:pt x="402" y="30"/>
                </a:lnTo>
                <a:lnTo>
                  <a:pt x="407" y="34"/>
                </a:lnTo>
                <a:lnTo>
                  <a:pt x="411" y="40"/>
                </a:lnTo>
                <a:lnTo>
                  <a:pt x="413" y="45"/>
                </a:lnTo>
                <a:lnTo>
                  <a:pt x="415" y="50"/>
                </a:lnTo>
                <a:lnTo>
                  <a:pt x="419" y="57"/>
                </a:lnTo>
                <a:lnTo>
                  <a:pt x="422" y="59"/>
                </a:lnTo>
                <a:lnTo>
                  <a:pt x="425" y="64"/>
                </a:lnTo>
                <a:lnTo>
                  <a:pt x="428" y="80"/>
                </a:lnTo>
                <a:lnTo>
                  <a:pt x="431" y="85"/>
                </a:lnTo>
                <a:lnTo>
                  <a:pt x="434" y="89"/>
                </a:lnTo>
                <a:lnTo>
                  <a:pt x="439" y="94"/>
                </a:lnTo>
                <a:lnTo>
                  <a:pt x="443" y="100"/>
                </a:lnTo>
                <a:lnTo>
                  <a:pt x="448" y="104"/>
                </a:lnTo>
                <a:lnTo>
                  <a:pt x="453" y="107"/>
                </a:lnTo>
                <a:lnTo>
                  <a:pt x="457" y="110"/>
                </a:lnTo>
                <a:lnTo>
                  <a:pt x="461" y="114"/>
                </a:lnTo>
                <a:lnTo>
                  <a:pt x="466" y="115"/>
                </a:lnTo>
                <a:lnTo>
                  <a:pt x="469" y="117"/>
                </a:lnTo>
                <a:lnTo>
                  <a:pt x="473" y="117"/>
                </a:lnTo>
                <a:lnTo>
                  <a:pt x="487" y="117"/>
                </a:lnTo>
                <a:lnTo>
                  <a:pt x="491" y="115"/>
                </a:lnTo>
                <a:lnTo>
                  <a:pt x="496" y="114"/>
                </a:lnTo>
                <a:lnTo>
                  <a:pt x="500" y="114"/>
                </a:lnTo>
                <a:lnTo>
                  <a:pt x="514" y="114"/>
                </a:lnTo>
                <a:lnTo>
                  <a:pt x="519" y="112"/>
                </a:lnTo>
                <a:lnTo>
                  <a:pt x="533" y="109"/>
                </a:lnTo>
                <a:lnTo>
                  <a:pt x="545" y="107"/>
                </a:lnTo>
                <a:lnTo>
                  <a:pt x="550" y="107"/>
                </a:lnTo>
                <a:lnTo>
                  <a:pt x="555" y="105"/>
                </a:lnTo>
                <a:lnTo>
                  <a:pt x="570" y="102"/>
                </a:lnTo>
                <a:lnTo>
                  <a:pt x="584" y="100"/>
                </a:lnTo>
                <a:lnTo>
                  <a:pt x="598" y="99"/>
                </a:lnTo>
                <a:lnTo>
                  <a:pt x="602" y="97"/>
                </a:lnTo>
                <a:lnTo>
                  <a:pt x="606" y="95"/>
                </a:lnTo>
                <a:lnTo>
                  <a:pt x="609" y="95"/>
                </a:lnTo>
                <a:lnTo>
                  <a:pt x="621" y="95"/>
                </a:lnTo>
                <a:lnTo>
                  <a:pt x="638" y="97"/>
                </a:lnTo>
                <a:lnTo>
                  <a:pt x="643" y="102"/>
                </a:lnTo>
                <a:lnTo>
                  <a:pt x="646" y="107"/>
                </a:lnTo>
                <a:lnTo>
                  <a:pt x="648" y="112"/>
                </a:lnTo>
                <a:lnTo>
                  <a:pt x="648" y="117"/>
                </a:lnTo>
                <a:lnTo>
                  <a:pt x="649" y="124"/>
                </a:lnTo>
                <a:lnTo>
                  <a:pt x="650" y="140"/>
                </a:lnTo>
                <a:lnTo>
                  <a:pt x="652" y="147"/>
                </a:lnTo>
                <a:lnTo>
                  <a:pt x="654" y="152"/>
                </a:lnTo>
                <a:lnTo>
                  <a:pt x="658" y="169"/>
                </a:lnTo>
                <a:lnTo>
                  <a:pt x="672" y="189"/>
                </a:lnTo>
                <a:lnTo>
                  <a:pt x="677" y="209"/>
                </a:lnTo>
                <a:lnTo>
                  <a:pt x="676" y="217"/>
                </a:lnTo>
                <a:lnTo>
                  <a:pt x="676" y="223"/>
                </a:lnTo>
                <a:lnTo>
                  <a:pt x="670" y="231"/>
                </a:lnTo>
                <a:lnTo>
                  <a:pt x="667" y="236"/>
                </a:lnTo>
                <a:lnTo>
                  <a:pt x="667" y="241"/>
                </a:lnTo>
                <a:lnTo>
                  <a:pt x="667" y="258"/>
                </a:lnTo>
                <a:lnTo>
                  <a:pt x="671" y="264"/>
                </a:lnTo>
                <a:lnTo>
                  <a:pt x="671" y="269"/>
                </a:lnTo>
                <a:lnTo>
                  <a:pt x="666" y="279"/>
                </a:lnTo>
                <a:lnTo>
                  <a:pt x="661" y="299"/>
                </a:lnTo>
                <a:lnTo>
                  <a:pt x="659" y="306"/>
                </a:lnTo>
                <a:lnTo>
                  <a:pt x="655" y="313"/>
                </a:lnTo>
                <a:lnTo>
                  <a:pt x="650" y="333"/>
                </a:lnTo>
                <a:lnTo>
                  <a:pt x="647" y="353"/>
                </a:lnTo>
                <a:lnTo>
                  <a:pt x="646" y="369"/>
                </a:lnTo>
                <a:lnTo>
                  <a:pt x="647" y="374"/>
                </a:lnTo>
                <a:lnTo>
                  <a:pt x="646" y="380"/>
                </a:lnTo>
                <a:lnTo>
                  <a:pt x="644" y="385"/>
                </a:lnTo>
                <a:lnTo>
                  <a:pt x="643" y="391"/>
                </a:lnTo>
                <a:lnTo>
                  <a:pt x="643" y="396"/>
                </a:lnTo>
                <a:lnTo>
                  <a:pt x="639" y="406"/>
                </a:lnTo>
                <a:lnTo>
                  <a:pt x="637" y="423"/>
                </a:lnTo>
                <a:lnTo>
                  <a:pt x="637" y="440"/>
                </a:lnTo>
                <a:lnTo>
                  <a:pt x="637" y="446"/>
                </a:lnTo>
                <a:lnTo>
                  <a:pt x="637" y="453"/>
                </a:lnTo>
                <a:lnTo>
                  <a:pt x="639" y="473"/>
                </a:lnTo>
                <a:lnTo>
                  <a:pt x="639" y="481"/>
                </a:lnTo>
                <a:lnTo>
                  <a:pt x="638" y="488"/>
                </a:lnTo>
                <a:lnTo>
                  <a:pt x="636" y="495"/>
                </a:lnTo>
                <a:lnTo>
                  <a:pt x="631" y="515"/>
                </a:lnTo>
                <a:lnTo>
                  <a:pt x="619" y="531"/>
                </a:lnTo>
                <a:lnTo>
                  <a:pt x="614" y="535"/>
                </a:lnTo>
                <a:lnTo>
                  <a:pt x="609" y="538"/>
                </a:lnTo>
                <a:lnTo>
                  <a:pt x="592" y="542"/>
                </a:lnTo>
                <a:lnTo>
                  <a:pt x="578" y="547"/>
                </a:lnTo>
                <a:lnTo>
                  <a:pt x="561" y="550"/>
                </a:lnTo>
                <a:lnTo>
                  <a:pt x="556" y="552"/>
                </a:lnTo>
                <a:lnTo>
                  <a:pt x="544" y="555"/>
                </a:lnTo>
                <a:lnTo>
                  <a:pt x="538" y="553"/>
                </a:lnTo>
                <a:lnTo>
                  <a:pt x="524" y="548"/>
                </a:lnTo>
                <a:lnTo>
                  <a:pt x="507" y="543"/>
                </a:lnTo>
                <a:lnTo>
                  <a:pt x="495" y="537"/>
                </a:lnTo>
                <a:lnTo>
                  <a:pt x="480" y="531"/>
                </a:lnTo>
                <a:lnTo>
                  <a:pt x="473" y="530"/>
                </a:lnTo>
                <a:lnTo>
                  <a:pt x="454" y="533"/>
                </a:lnTo>
                <a:lnTo>
                  <a:pt x="442" y="535"/>
                </a:lnTo>
                <a:lnTo>
                  <a:pt x="438" y="538"/>
                </a:lnTo>
                <a:lnTo>
                  <a:pt x="431" y="545"/>
                </a:lnTo>
                <a:lnTo>
                  <a:pt x="425" y="545"/>
                </a:lnTo>
                <a:lnTo>
                  <a:pt x="410" y="538"/>
                </a:lnTo>
                <a:lnTo>
                  <a:pt x="391" y="518"/>
                </a:lnTo>
                <a:lnTo>
                  <a:pt x="377" y="515"/>
                </a:lnTo>
                <a:lnTo>
                  <a:pt x="372" y="513"/>
                </a:lnTo>
                <a:lnTo>
                  <a:pt x="355" y="511"/>
                </a:lnTo>
                <a:lnTo>
                  <a:pt x="343" y="511"/>
                </a:lnTo>
                <a:lnTo>
                  <a:pt x="339" y="511"/>
                </a:lnTo>
                <a:lnTo>
                  <a:pt x="334" y="516"/>
                </a:lnTo>
                <a:lnTo>
                  <a:pt x="329" y="521"/>
                </a:lnTo>
                <a:lnTo>
                  <a:pt x="317" y="525"/>
                </a:lnTo>
                <a:lnTo>
                  <a:pt x="300" y="528"/>
                </a:lnTo>
                <a:lnTo>
                  <a:pt x="279" y="526"/>
                </a:lnTo>
                <a:lnTo>
                  <a:pt x="255" y="521"/>
                </a:lnTo>
                <a:lnTo>
                  <a:pt x="230" y="518"/>
                </a:lnTo>
                <a:lnTo>
                  <a:pt x="226" y="518"/>
                </a:lnTo>
                <a:lnTo>
                  <a:pt x="222" y="518"/>
                </a:lnTo>
                <a:lnTo>
                  <a:pt x="210" y="518"/>
                </a:lnTo>
                <a:lnTo>
                  <a:pt x="205" y="518"/>
                </a:lnTo>
                <a:lnTo>
                  <a:pt x="183" y="518"/>
                </a:lnTo>
                <a:lnTo>
                  <a:pt x="169" y="518"/>
                </a:lnTo>
                <a:lnTo>
                  <a:pt x="165" y="518"/>
                </a:lnTo>
                <a:lnTo>
                  <a:pt x="160" y="521"/>
                </a:lnTo>
                <a:lnTo>
                  <a:pt x="143" y="521"/>
                </a:lnTo>
                <a:lnTo>
                  <a:pt x="117" y="521"/>
                </a:lnTo>
                <a:lnTo>
                  <a:pt x="112" y="520"/>
                </a:lnTo>
                <a:lnTo>
                  <a:pt x="107" y="503"/>
                </a:lnTo>
                <a:lnTo>
                  <a:pt x="109" y="476"/>
                </a:lnTo>
                <a:lnTo>
                  <a:pt x="112" y="460"/>
                </a:lnTo>
                <a:lnTo>
                  <a:pt x="113" y="453"/>
                </a:lnTo>
                <a:lnTo>
                  <a:pt x="117" y="446"/>
                </a:lnTo>
                <a:lnTo>
                  <a:pt x="119" y="441"/>
                </a:lnTo>
                <a:lnTo>
                  <a:pt x="119" y="435"/>
                </a:lnTo>
                <a:lnTo>
                  <a:pt x="116" y="418"/>
                </a:lnTo>
                <a:lnTo>
                  <a:pt x="96" y="401"/>
                </a:lnTo>
                <a:lnTo>
                  <a:pt x="82" y="396"/>
                </a:lnTo>
                <a:lnTo>
                  <a:pt x="82" y="390"/>
                </a:lnTo>
                <a:lnTo>
                  <a:pt x="86" y="366"/>
                </a:lnTo>
                <a:lnTo>
                  <a:pt x="83" y="359"/>
                </a:lnTo>
                <a:lnTo>
                  <a:pt x="80" y="356"/>
                </a:lnTo>
                <a:lnTo>
                  <a:pt x="78" y="351"/>
                </a:lnTo>
                <a:lnTo>
                  <a:pt x="77" y="328"/>
                </a:lnTo>
                <a:lnTo>
                  <a:pt x="72" y="311"/>
                </a:lnTo>
                <a:lnTo>
                  <a:pt x="31" y="281"/>
                </a:lnTo>
                <a:lnTo>
                  <a:pt x="14" y="278"/>
                </a:lnTo>
                <a:lnTo>
                  <a:pt x="18" y="276"/>
                </a:lnTo>
                <a:lnTo>
                  <a:pt x="22" y="273"/>
                </a:lnTo>
                <a:lnTo>
                  <a:pt x="25" y="268"/>
                </a:lnTo>
                <a:lnTo>
                  <a:pt x="29" y="261"/>
                </a:lnTo>
                <a:lnTo>
                  <a:pt x="34" y="256"/>
                </a:lnTo>
                <a:lnTo>
                  <a:pt x="37" y="253"/>
                </a:lnTo>
                <a:lnTo>
                  <a:pt x="41" y="243"/>
                </a:lnTo>
                <a:lnTo>
                  <a:pt x="19" y="216"/>
                </a:lnTo>
                <a:lnTo>
                  <a:pt x="0" y="209"/>
                </a:lnTo>
                <a:lnTo>
                  <a:pt x="1" y="204"/>
                </a:lnTo>
                <a:lnTo>
                  <a:pt x="6" y="199"/>
                </a:lnTo>
                <a:lnTo>
                  <a:pt x="18" y="192"/>
                </a:lnTo>
                <a:lnTo>
                  <a:pt x="30" y="186"/>
                </a:lnTo>
                <a:lnTo>
                  <a:pt x="42" y="179"/>
                </a:lnTo>
                <a:lnTo>
                  <a:pt x="46" y="177"/>
                </a:lnTo>
                <a:lnTo>
                  <a:pt x="51" y="175"/>
                </a:lnTo>
                <a:lnTo>
                  <a:pt x="55" y="174"/>
                </a:lnTo>
                <a:lnTo>
                  <a:pt x="59" y="170"/>
                </a:lnTo>
                <a:lnTo>
                  <a:pt x="62" y="162"/>
                </a:lnTo>
                <a:lnTo>
                  <a:pt x="63" y="157"/>
                </a:lnTo>
                <a:lnTo>
                  <a:pt x="64" y="140"/>
                </a:lnTo>
                <a:lnTo>
                  <a:pt x="65" y="124"/>
                </a:lnTo>
                <a:lnTo>
                  <a:pt x="69" y="104"/>
                </a:lnTo>
                <a:lnTo>
                  <a:pt x="75" y="95"/>
                </a:lnTo>
                <a:lnTo>
                  <a:pt x="78" y="90"/>
                </a:lnTo>
                <a:lnTo>
                  <a:pt x="82" y="87"/>
                </a:lnTo>
                <a:lnTo>
                  <a:pt x="86" y="87"/>
                </a:lnTo>
                <a:lnTo>
                  <a:pt x="89" y="89"/>
                </a:lnTo>
                <a:lnTo>
                  <a:pt x="93" y="89"/>
                </a:lnTo>
                <a:lnTo>
                  <a:pt x="98" y="87"/>
                </a:lnTo>
                <a:lnTo>
                  <a:pt x="110" y="84"/>
                </a:lnTo>
                <a:lnTo>
                  <a:pt x="122" y="80"/>
                </a:lnTo>
                <a:lnTo>
                  <a:pt x="139" y="77"/>
                </a:lnTo>
                <a:lnTo>
                  <a:pt x="151" y="75"/>
                </a:lnTo>
                <a:lnTo>
                  <a:pt x="156" y="77"/>
                </a:lnTo>
                <a:lnTo>
                  <a:pt x="160" y="79"/>
                </a:lnTo>
                <a:lnTo>
                  <a:pt x="164" y="84"/>
                </a:lnTo>
                <a:lnTo>
                  <a:pt x="169" y="104"/>
                </a:lnTo>
                <a:lnTo>
                  <a:pt x="172" y="120"/>
                </a:lnTo>
                <a:lnTo>
                  <a:pt x="177" y="115"/>
                </a:lnTo>
                <a:lnTo>
                  <a:pt x="181" y="115"/>
                </a:lnTo>
                <a:lnTo>
                  <a:pt x="187" y="114"/>
                </a:lnTo>
                <a:lnTo>
                  <a:pt x="199" y="109"/>
                </a:lnTo>
                <a:lnTo>
                  <a:pt x="211" y="89"/>
                </a:lnTo>
                <a:lnTo>
                  <a:pt x="216" y="85"/>
                </a:lnTo>
                <a:lnTo>
                  <a:pt x="219" y="82"/>
                </a:lnTo>
                <a:lnTo>
                  <a:pt x="224" y="79"/>
                </a:lnTo>
                <a:lnTo>
                  <a:pt x="232" y="72"/>
                </a:lnTo>
                <a:lnTo>
                  <a:pt x="235" y="70"/>
                </a:lnTo>
                <a:lnTo>
                  <a:pt x="240" y="70"/>
                </a:lnTo>
                <a:lnTo>
                  <a:pt x="244" y="70"/>
                </a:lnTo>
                <a:lnTo>
                  <a:pt x="250" y="75"/>
                </a:lnTo>
                <a:lnTo>
                  <a:pt x="255" y="79"/>
                </a:lnTo>
                <a:lnTo>
                  <a:pt x="258" y="82"/>
                </a:lnTo>
                <a:lnTo>
                  <a:pt x="262" y="84"/>
                </a:lnTo>
                <a:lnTo>
                  <a:pt x="267" y="85"/>
                </a:lnTo>
                <a:lnTo>
                  <a:pt x="272" y="89"/>
                </a:lnTo>
                <a:lnTo>
                  <a:pt x="277" y="92"/>
                </a:lnTo>
                <a:lnTo>
                  <a:pt x="281" y="94"/>
                </a:lnTo>
                <a:lnTo>
                  <a:pt x="284" y="99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92880" y="3767040"/>
            <a:ext cx="1076400" cy="882720"/>
          </a:xfrm>
          <a:custGeom>
            <a:avLst/>
            <a:gdLst/>
            <a:ahLst/>
            <a:rect l="l" t="t" r="r" b="b"/>
            <a:pathLst>
              <a:path w="678" h="556">
                <a:moveTo>
                  <a:pt x="284" y="99"/>
                </a:moveTo>
                <a:lnTo>
                  <a:pt x="288" y="90"/>
                </a:lnTo>
                <a:lnTo>
                  <a:pt x="293" y="70"/>
                </a:lnTo>
                <a:lnTo>
                  <a:pt x="297" y="47"/>
                </a:lnTo>
                <a:lnTo>
                  <a:pt x="302" y="27"/>
                </a:lnTo>
                <a:lnTo>
                  <a:pt x="305" y="20"/>
                </a:lnTo>
                <a:lnTo>
                  <a:pt x="310" y="15"/>
                </a:lnTo>
                <a:lnTo>
                  <a:pt x="315" y="10"/>
                </a:lnTo>
                <a:lnTo>
                  <a:pt x="320" y="5"/>
                </a:lnTo>
                <a:lnTo>
                  <a:pt x="324" y="3"/>
                </a:lnTo>
                <a:lnTo>
                  <a:pt x="329" y="2"/>
                </a:lnTo>
                <a:lnTo>
                  <a:pt x="334" y="0"/>
                </a:lnTo>
                <a:lnTo>
                  <a:pt x="339" y="0"/>
                </a:lnTo>
                <a:lnTo>
                  <a:pt x="344" y="0"/>
                </a:lnTo>
                <a:lnTo>
                  <a:pt x="348" y="2"/>
                </a:lnTo>
                <a:lnTo>
                  <a:pt x="352" y="2"/>
                </a:lnTo>
                <a:lnTo>
                  <a:pt x="356" y="3"/>
                </a:lnTo>
                <a:lnTo>
                  <a:pt x="360" y="5"/>
                </a:lnTo>
                <a:lnTo>
                  <a:pt x="363" y="5"/>
                </a:lnTo>
                <a:lnTo>
                  <a:pt x="367" y="7"/>
                </a:lnTo>
                <a:lnTo>
                  <a:pt x="372" y="10"/>
                </a:lnTo>
                <a:lnTo>
                  <a:pt x="375" y="12"/>
                </a:lnTo>
                <a:lnTo>
                  <a:pt x="380" y="15"/>
                </a:lnTo>
                <a:lnTo>
                  <a:pt x="387" y="20"/>
                </a:lnTo>
                <a:lnTo>
                  <a:pt x="392" y="25"/>
                </a:lnTo>
                <a:lnTo>
                  <a:pt x="397" y="27"/>
                </a:lnTo>
                <a:lnTo>
                  <a:pt x="402" y="30"/>
                </a:lnTo>
                <a:lnTo>
                  <a:pt x="407" y="34"/>
                </a:lnTo>
                <a:lnTo>
                  <a:pt x="411" y="40"/>
                </a:lnTo>
                <a:lnTo>
                  <a:pt x="413" y="45"/>
                </a:lnTo>
                <a:lnTo>
                  <a:pt x="415" y="50"/>
                </a:lnTo>
                <a:lnTo>
                  <a:pt x="419" y="57"/>
                </a:lnTo>
                <a:lnTo>
                  <a:pt x="422" y="59"/>
                </a:lnTo>
                <a:lnTo>
                  <a:pt x="425" y="64"/>
                </a:lnTo>
                <a:lnTo>
                  <a:pt x="428" y="80"/>
                </a:lnTo>
                <a:lnTo>
                  <a:pt x="431" y="85"/>
                </a:lnTo>
                <a:lnTo>
                  <a:pt x="434" y="89"/>
                </a:lnTo>
                <a:lnTo>
                  <a:pt x="439" y="94"/>
                </a:lnTo>
                <a:lnTo>
                  <a:pt x="443" y="100"/>
                </a:lnTo>
                <a:lnTo>
                  <a:pt x="448" y="104"/>
                </a:lnTo>
                <a:lnTo>
                  <a:pt x="453" y="107"/>
                </a:lnTo>
                <a:lnTo>
                  <a:pt x="457" y="110"/>
                </a:lnTo>
                <a:lnTo>
                  <a:pt x="461" y="114"/>
                </a:lnTo>
                <a:lnTo>
                  <a:pt x="466" y="115"/>
                </a:lnTo>
                <a:lnTo>
                  <a:pt x="469" y="117"/>
                </a:lnTo>
                <a:lnTo>
                  <a:pt x="473" y="117"/>
                </a:lnTo>
                <a:lnTo>
                  <a:pt x="487" y="117"/>
                </a:lnTo>
                <a:lnTo>
                  <a:pt x="491" y="115"/>
                </a:lnTo>
                <a:lnTo>
                  <a:pt x="496" y="114"/>
                </a:lnTo>
                <a:lnTo>
                  <a:pt x="500" y="114"/>
                </a:lnTo>
                <a:lnTo>
                  <a:pt x="514" y="114"/>
                </a:lnTo>
                <a:lnTo>
                  <a:pt x="519" y="112"/>
                </a:lnTo>
                <a:lnTo>
                  <a:pt x="533" y="109"/>
                </a:lnTo>
                <a:lnTo>
                  <a:pt x="545" y="107"/>
                </a:lnTo>
                <a:lnTo>
                  <a:pt x="550" y="107"/>
                </a:lnTo>
                <a:lnTo>
                  <a:pt x="555" y="105"/>
                </a:lnTo>
                <a:lnTo>
                  <a:pt x="570" y="102"/>
                </a:lnTo>
                <a:lnTo>
                  <a:pt x="584" y="100"/>
                </a:lnTo>
                <a:lnTo>
                  <a:pt x="598" y="99"/>
                </a:lnTo>
                <a:lnTo>
                  <a:pt x="602" y="97"/>
                </a:lnTo>
                <a:lnTo>
                  <a:pt x="606" y="95"/>
                </a:lnTo>
                <a:lnTo>
                  <a:pt x="609" y="95"/>
                </a:lnTo>
                <a:lnTo>
                  <a:pt x="621" y="95"/>
                </a:lnTo>
                <a:lnTo>
                  <a:pt x="638" y="97"/>
                </a:lnTo>
                <a:lnTo>
                  <a:pt x="643" y="102"/>
                </a:lnTo>
                <a:lnTo>
                  <a:pt x="646" y="107"/>
                </a:lnTo>
                <a:lnTo>
                  <a:pt x="648" y="112"/>
                </a:lnTo>
                <a:lnTo>
                  <a:pt x="648" y="117"/>
                </a:lnTo>
                <a:lnTo>
                  <a:pt x="649" y="124"/>
                </a:lnTo>
                <a:lnTo>
                  <a:pt x="650" y="140"/>
                </a:lnTo>
                <a:lnTo>
                  <a:pt x="652" y="147"/>
                </a:lnTo>
                <a:lnTo>
                  <a:pt x="654" y="152"/>
                </a:lnTo>
                <a:lnTo>
                  <a:pt x="658" y="169"/>
                </a:lnTo>
                <a:lnTo>
                  <a:pt x="672" y="189"/>
                </a:lnTo>
                <a:lnTo>
                  <a:pt x="677" y="209"/>
                </a:lnTo>
                <a:lnTo>
                  <a:pt x="676" y="217"/>
                </a:lnTo>
                <a:lnTo>
                  <a:pt x="676" y="223"/>
                </a:lnTo>
                <a:lnTo>
                  <a:pt x="670" y="231"/>
                </a:lnTo>
                <a:lnTo>
                  <a:pt x="667" y="236"/>
                </a:lnTo>
                <a:lnTo>
                  <a:pt x="667" y="241"/>
                </a:lnTo>
                <a:lnTo>
                  <a:pt x="667" y="258"/>
                </a:lnTo>
                <a:lnTo>
                  <a:pt x="671" y="264"/>
                </a:lnTo>
                <a:lnTo>
                  <a:pt x="671" y="269"/>
                </a:lnTo>
                <a:lnTo>
                  <a:pt x="666" y="279"/>
                </a:lnTo>
                <a:lnTo>
                  <a:pt x="661" y="299"/>
                </a:lnTo>
                <a:lnTo>
                  <a:pt x="659" y="306"/>
                </a:lnTo>
                <a:lnTo>
                  <a:pt x="655" y="313"/>
                </a:lnTo>
                <a:lnTo>
                  <a:pt x="650" y="333"/>
                </a:lnTo>
                <a:lnTo>
                  <a:pt x="647" y="353"/>
                </a:lnTo>
                <a:lnTo>
                  <a:pt x="646" y="369"/>
                </a:lnTo>
                <a:lnTo>
                  <a:pt x="647" y="374"/>
                </a:lnTo>
                <a:lnTo>
                  <a:pt x="646" y="380"/>
                </a:lnTo>
                <a:lnTo>
                  <a:pt x="644" y="385"/>
                </a:lnTo>
                <a:lnTo>
                  <a:pt x="643" y="391"/>
                </a:lnTo>
                <a:lnTo>
                  <a:pt x="643" y="396"/>
                </a:lnTo>
                <a:lnTo>
                  <a:pt x="639" y="406"/>
                </a:lnTo>
                <a:lnTo>
                  <a:pt x="637" y="423"/>
                </a:lnTo>
                <a:lnTo>
                  <a:pt x="637" y="440"/>
                </a:lnTo>
                <a:lnTo>
                  <a:pt x="637" y="446"/>
                </a:lnTo>
                <a:lnTo>
                  <a:pt x="637" y="453"/>
                </a:lnTo>
                <a:lnTo>
                  <a:pt x="639" y="473"/>
                </a:lnTo>
                <a:lnTo>
                  <a:pt x="639" y="481"/>
                </a:lnTo>
                <a:lnTo>
                  <a:pt x="638" y="488"/>
                </a:lnTo>
                <a:lnTo>
                  <a:pt x="636" y="495"/>
                </a:lnTo>
                <a:lnTo>
                  <a:pt x="631" y="515"/>
                </a:lnTo>
                <a:lnTo>
                  <a:pt x="619" y="531"/>
                </a:lnTo>
                <a:lnTo>
                  <a:pt x="614" y="535"/>
                </a:lnTo>
                <a:lnTo>
                  <a:pt x="609" y="538"/>
                </a:lnTo>
                <a:lnTo>
                  <a:pt x="592" y="542"/>
                </a:lnTo>
                <a:lnTo>
                  <a:pt x="578" y="547"/>
                </a:lnTo>
                <a:lnTo>
                  <a:pt x="561" y="550"/>
                </a:lnTo>
                <a:lnTo>
                  <a:pt x="556" y="552"/>
                </a:lnTo>
                <a:lnTo>
                  <a:pt x="544" y="555"/>
                </a:lnTo>
                <a:lnTo>
                  <a:pt x="538" y="553"/>
                </a:lnTo>
                <a:lnTo>
                  <a:pt x="524" y="548"/>
                </a:lnTo>
                <a:lnTo>
                  <a:pt x="507" y="543"/>
                </a:lnTo>
                <a:lnTo>
                  <a:pt x="495" y="537"/>
                </a:lnTo>
                <a:lnTo>
                  <a:pt x="480" y="531"/>
                </a:lnTo>
                <a:lnTo>
                  <a:pt x="473" y="530"/>
                </a:lnTo>
                <a:lnTo>
                  <a:pt x="454" y="533"/>
                </a:lnTo>
                <a:lnTo>
                  <a:pt x="442" y="535"/>
                </a:lnTo>
                <a:lnTo>
                  <a:pt x="438" y="538"/>
                </a:lnTo>
                <a:lnTo>
                  <a:pt x="431" y="545"/>
                </a:lnTo>
                <a:lnTo>
                  <a:pt x="425" y="545"/>
                </a:lnTo>
                <a:lnTo>
                  <a:pt x="410" y="538"/>
                </a:lnTo>
                <a:lnTo>
                  <a:pt x="391" y="518"/>
                </a:lnTo>
                <a:lnTo>
                  <a:pt x="377" y="515"/>
                </a:lnTo>
                <a:lnTo>
                  <a:pt x="372" y="513"/>
                </a:lnTo>
                <a:lnTo>
                  <a:pt x="355" y="511"/>
                </a:lnTo>
                <a:lnTo>
                  <a:pt x="343" y="511"/>
                </a:lnTo>
                <a:lnTo>
                  <a:pt x="339" y="511"/>
                </a:lnTo>
                <a:lnTo>
                  <a:pt x="334" y="516"/>
                </a:lnTo>
                <a:lnTo>
                  <a:pt x="329" y="521"/>
                </a:lnTo>
                <a:lnTo>
                  <a:pt x="317" y="525"/>
                </a:lnTo>
                <a:lnTo>
                  <a:pt x="300" y="528"/>
                </a:lnTo>
                <a:lnTo>
                  <a:pt x="279" y="526"/>
                </a:lnTo>
                <a:lnTo>
                  <a:pt x="255" y="521"/>
                </a:lnTo>
                <a:lnTo>
                  <a:pt x="230" y="518"/>
                </a:lnTo>
                <a:lnTo>
                  <a:pt x="226" y="518"/>
                </a:lnTo>
                <a:lnTo>
                  <a:pt x="222" y="518"/>
                </a:lnTo>
                <a:lnTo>
                  <a:pt x="210" y="518"/>
                </a:lnTo>
                <a:lnTo>
                  <a:pt x="205" y="518"/>
                </a:lnTo>
                <a:lnTo>
                  <a:pt x="183" y="518"/>
                </a:lnTo>
                <a:lnTo>
                  <a:pt x="169" y="518"/>
                </a:lnTo>
                <a:lnTo>
                  <a:pt x="165" y="518"/>
                </a:lnTo>
                <a:lnTo>
                  <a:pt x="160" y="521"/>
                </a:lnTo>
                <a:lnTo>
                  <a:pt x="143" y="521"/>
                </a:lnTo>
                <a:lnTo>
                  <a:pt x="117" y="521"/>
                </a:lnTo>
                <a:lnTo>
                  <a:pt x="112" y="520"/>
                </a:lnTo>
                <a:lnTo>
                  <a:pt x="107" y="503"/>
                </a:lnTo>
                <a:lnTo>
                  <a:pt x="109" y="476"/>
                </a:lnTo>
                <a:lnTo>
                  <a:pt x="112" y="460"/>
                </a:lnTo>
                <a:lnTo>
                  <a:pt x="113" y="453"/>
                </a:lnTo>
                <a:lnTo>
                  <a:pt x="117" y="446"/>
                </a:lnTo>
                <a:lnTo>
                  <a:pt x="119" y="441"/>
                </a:lnTo>
                <a:lnTo>
                  <a:pt x="119" y="435"/>
                </a:lnTo>
                <a:lnTo>
                  <a:pt x="116" y="418"/>
                </a:lnTo>
                <a:lnTo>
                  <a:pt x="96" y="401"/>
                </a:lnTo>
                <a:lnTo>
                  <a:pt x="82" y="396"/>
                </a:lnTo>
                <a:lnTo>
                  <a:pt x="82" y="390"/>
                </a:lnTo>
                <a:lnTo>
                  <a:pt x="86" y="366"/>
                </a:lnTo>
                <a:lnTo>
                  <a:pt x="83" y="359"/>
                </a:lnTo>
                <a:lnTo>
                  <a:pt x="80" y="356"/>
                </a:lnTo>
                <a:lnTo>
                  <a:pt x="78" y="351"/>
                </a:lnTo>
                <a:lnTo>
                  <a:pt x="77" y="328"/>
                </a:lnTo>
                <a:lnTo>
                  <a:pt x="72" y="311"/>
                </a:lnTo>
                <a:lnTo>
                  <a:pt x="31" y="281"/>
                </a:lnTo>
                <a:lnTo>
                  <a:pt x="14" y="278"/>
                </a:lnTo>
                <a:lnTo>
                  <a:pt x="18" y="276"/>
                </a:lnTo>
                <a:lnTo>
                  <a:pt x="22" y="273"/>
                </a:lnTo>
                <a:lnTo>
                  <a:pt x="25" y="268"/>
                </a:lnTo>
                <a:lnTo>
                  <a:pt x="29" y="261"/>
                </a:lnTo>
                <a:lnTo>
                  <a:pt x="34" y="256"/>
                </a:lnTo>
                <a:lnTo>
                  <a:pt x="37" y="253"/>
                </a:lnTo>
                <a:lnTo>
                  <a:pt x="41" y="243"/>
                </a:lnTo>
                <a:lnTo>
                  <a:pt x="19" y="216"/>
                </a:lnTo>
                <a:lnTo>
                  <a:pt x="0" y="209"/>
                </a:lnTo>
                <a:lnTo>
                  <a:pt x="1" y="204"/>
                </a:lnTo>
                <a:lnTo>
                  <a:pt x="6" y="199"/>
                </a:lnTo>
                <a:lnTo>
                  <a:pt x="18" y="192"/>
                </a:lnTo>
                <a:lnTo>
                  <a:pt x="30" y="186"/>
                </a:lnTo>
                <a:lnTo>
                  <a:pt x="42" y="179"/>
                </a:lnTo>
                <a:lnTo>
                  <a:pt x="46" y="177"/>
                </a:lnTo>
                <a:lnTo>
                  <a:pt x="51" y="175"/>
                </a:lnTo>
                <a:lnTo>
                  <a:pt x="55" y="174"/>
                </a:lnTo>
                <a:lnTo>
                  <a:pt x="59" y="170"/>
                </a:lnTo>
                <a:lnTo>
                  <a:pt x="62" y="162"/>
                </a:lnTo>
                <a:lnTo>
                  <a:pt x="63" y="157"/>
                </a:lnTo>
                <a:lnTo>
                  <a:pt x="64" y="140"/>
                </a:lnTo>
                <a:lnTo>
                  <a:pt x="65" y="124"/>
                </a:lnTo>
                <a:lnTo>
                  <a:pt x="69" y="104"/>
                </a:lnTo>
                <a:lnTo>
                  <a:pt x="75" y="95"/>
                </a:lnTo>
                <a:lnTo>
                  <a:pt x="78" y="90"/>
                </a:lnTo>
                <a:lnTo>
                  <a:pt x="82" y="87"/>
                </a:lnTo>
                <a:lnTo>
                  <a:pt x="86" y="87"/>
                </a:lnTo>
                <a:lnTo>
                  <a:pt x="89" y="89"/>
                </a:lnTo>
                <a:lnTo>
                  <a:pt x="93" y="89"/>
                </a:lnTo>
                <a:lnTo>
                  <a:pt x="98" y="87"/>
                </a:lnTo>
                <a:lnTo>
                  <a:pt x="110" y="84"/>
                </a:lnTo>
                <a:lnTo>
                  <a:pt x="122" y="80"/>
                </a:lnTo>
                <a:lnTo>
                  <a:pt x="139" y="77"/>
                </a:lnTo>
                <a:lnTo>
                  <a:pt x="151" y="75"/>
                </a:lnTo>
                <a:lnTo>
                  <a:pt x="156" y="77"/>
                </a:lnTo>
                <a:lnTo>
                  <a:pt x="160" y="79"/>
                </a:lnTo>
                <a:lnTo>
                  <a:pt x="164" y="84"/>
                </a:lnTo>
                <a:lnTo>
                  <a:pt x="169" y="104"/>
                </a:lnTo>
                <a:lnTo>
                  <a:pt x="172" y="120"/>
                </a:lnTo>
                <a:lnTo>
                  <a:pt x="177" y="115"/>
                </a:lnTo>
                <a:lnTo>
                  <a:pt x="181" y="115"/>
                </a:lnTo>
                <a:lnTo>
                  <a:pt x="187" y="114"/>
                </a:lnTo>
                <a:lnTo>
                  <a:pt x="199" y="109"/>
                </a:lnTo>
                <a:lnTo>
                  <a:pt x="211" y="89"/>
                </a:lnTo>
                <a:lnTo>
                  <a:pt x="216" y="85"/>
                </a:lnTo>
                <a:lnTo>
                  <a:pt x="219" y="82"/>
                </a:lnTo>
                <a:lnTo>
                  <a:pt x="224" y="79"/>
                </a:lnTo>
                <a:lnTo>
                  <a:pt x="232" y="72"/>
                </a:lnTo>
                <a:lnTo>
                  <a:pt x="235" y="70"/>
                </a:lnTo>
                <a:lnTo>
                  <a:pt x="240" y="70"/>
                </a:lnTo>
                <a:lnTo>
                  <a:pt x="244" y="70"/>
                </a:lnTo>
                <a:lnTo>
                  <a:pt x="250" y="75"/>
                </a:lnTo>
                <a:lnTo>
                  <a:pt x="255" y="79"/>
                </a:lnTo>
                <a:lnTo>
                  <a:pt x="258" y="82"/>
                </a:lnTo>
                <a:lnTo>
                  <a:pt x="262" y="84"/>
                </a:lnTo>
                <a:lnTo>
                  <a:pt x="267" y="85"/>
                </a:lnTo>
                <a:lnTo>
                  <a:pt x="272" y="89"/>
                </a:lnTo>
                <a:lnTo>
                  <a:pt x="277" y="92"/>
                </a:lnTo>
                <a:lnTo>
                  <a:pt x="281" y="94"/>
                </a:lnTo>
                <a:lnTo>
                  <a:pt x="284" y="99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3048120"/>
            <a:ext cx="1222560" cy="79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35680" y="2978280"/>
            <a:ext cx="88920" cy="99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13360" y="3033720"/>
            <a:ext cx="23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51440" y="3567240"/>
            <a:ext cx="27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30960" y="3816360"/>
            <a:ext cx="139680" cy="15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1160" y="5091120"/>
            <a:ext cx="281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ment b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2080" y="5014800"/>
            <a:ext cx="3285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ment by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23040" y="5853240"/>
            <a:ext cx="458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‘containment’ relationship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19320" y="1143000"/>
            <a:ext cx="1982520" cy="1525680"/>
          </a:xfrm>
          <a:custGeom>
            <a:avLst/>
            <a:gdLst/>
            <a:ahLst/>
            <a:rect l="l" t="t" r="r" b="b"/>
            <a:pathLst>
              <a:path w="1249" h="961">
                <a:moveTo>
                  <a:pt x="523" y="171"/>
                </a:moveTo>
                <a:lnTo>
                  <a:pt x="531" y="156"/>
                </a:lnTo>
                <a:lnTo>
                  <a:pt x="541" y="121"/>
                </a:lnTo>
                <a:lnTo>
                  <a:pt x="547" y="81"/>
                </a:lnTo>
                <a:lnTo>
                  <a:pt x="556" y="47"/>
                </a:lnTo>
                <a:lnTo>
                  <a:pt x="563" y="35"/>
                </a:lnTo>
                <a:lnTo>
                  <a:pt x="571" y="26"/>
                </a:lnTo>
                <a:lnTo>
                  <a:pt x="581" y="17"/>
                </a:lnTo>
                <a:lnTo>
                  <a:pt x="589" y="9"/>
                </a:lnTo>
                <a:lnTo>
                  <a:pt x="598" y="6"/>
                </a:lnTo>
                <a:lnTo>
                  <a:pt x="607" y="3"/>
                </a:lnTo>
                <a:lnTo>
                  <a:pt x="616" y="0"/>
                </a:lnTo>
                <a:lnTo>
                  <a:pt x="625" y="0"/>
                </a:lnTo>
                <a:lnTo>
                  <a:pt x="634" y="0"/>
                </a:lnTo>
                <a:lnTo>
                  <a:pt x="641" y="3"/>
                </a:lnTo>
                <a:lnTo>
                  <a:pt x="649" y="3"/>
                </a:lnTo>
                <a:lnTo>
                  <a:pt x="656" y="6"/>
                </a:lnTo>
                <a:lnTo>
                  <a:pt x="663" y="9"/>
                </a:lnTo>
                <a:lnTo>
                  <a:pt x="669" y="9"/>
                </a:lnTo>
                <a:lnTo>
                  <a:pt x="676" y="12"/>
                </a:lnTo>
                <a:lnTo>
                  <a:pt x="685" y="17"/>
                </a:lnTo>
                <a:lnTo>
                  <a:pt x="692" y="21"/>
                </a:lnTo>
                <a:lnTo>
                  <a:pt x="701" y="26"/>
                </a:lnTo>
                <a:lnTo>
                  <a:pt x="714" y="35"/>
                </a:lnTo>
                <a:lnTo>
                  <a:pt x="723" y="43"/>
                </a:lnTo>
                <a:lnTo>
                  <a:pt x="732" y="47"/>
                </a:lnTo>
                <a:lnTo>
                  <a:pt x="741" y="52"/>
                </a:lnTo>
                <a:lnTo>
                  <a:pt x="750" y="58"/>
                </a:lnTo>
                <a:lnTo>
                  <a:pt x="758" y="69"/>
                </a:lnTo>
                <a:lnTo>
                  <a:pt x="761" y="78"/>
                </a:lnTo>
                <a:lnTo>
                  <a:pt x="765" y="87"/>
                </a:lnTo>
                <a:lnTo>
                  <a:pt x="772" y="99"/>
                </a:lnTo>
                <a:lnTo>
                  <a:pt x="778" y="101"/>
                </a:lnTo>
                <a:lnTo>
                  <a:pt x="783" y="110"/>
                </a:lnTo>
                <a:lnTo>
                  <a:pt x="790" y="139"/>
                </a:lnTo>
                <a:lnTo>
                  <a:pt x="794" y="147"/>
                </a:lnTo>
                <a:lnTo>
                  <a:pt x="801" y="153"/>
                </a:lnTo>
                <a:lnTo>
                  <a:pt x="810" y="162"/>
                </a:lnTo>
                <a:lnTo>
                  <a:pt x="816" y="173"/>
                </a:lnTo>
                <a:lnTo>
                  <a:pt x="825" y="179"/>
                </a:lnTo>
                <a:lnTo>
                  <a:pt x="834" y="185"/>
                </a:lnTo>
                <a:lnTo>
                  <a:pt x="843" y="191"/>
                </a:lnTo>
                <a:lnTo>
                  <a:pt x="850" y="197"/>
                </a:lnTo>
                <a:lnTo>
                  <a:pt x="858" y="199"/>
                </a:lnTo>
                <a:lnTo>
                  <a:pt x="865" y="203"/>
                </a:lnTo>
                <a:lnTo>
                  <a:pt x="872" y="203"/>
                </a:lnTo>
                <a:lnTo>
                  <a:pt x="898" y="203"/>
                </a:lnTo>
                <a:lnTo>
                  <a:pt x="905" y="199"/>
                </a:lnTo>
                <a:lnTo>
                  <a:pt x="914" y="197"/>
                </a:lnTo>
                <a:lnTo>
                  <a:pt x="921" y="197"/>
                </a:lnTo>
                <a:lnTo>
                  <a:pt x="948" y="197"/>
                </a:lnTo>
                <a:lnTo>
                  <a:pt x="956" y="194"/>
                </a:lnTo>
                <a:lnTo>
                  <a:pt x="983" y="188"/>
                </a:lnTo>
                <a:lnTo>
                  <a:pt x="1005" y="185"/>
                </a:lnTo>
                <a:lnTo>
                  <a:pt x="1014" y="185"/>
                </a:lnTo>
                <a:lnTo>
                  <a:pt x="1023" y="182"/>
                </a:lnTo>
                <a:lnTo>
                  <a:pt x="1050" y="177"/>
                </a:lnTo>
                <a:lnTo>
                  <a:pt x="1077" y="173"/>
                </a:lnTo>
                <a:lnTo>
                  <a:pt x="1103" y="171"/>
                </a:lnTo>
                <a:lnTo>
                  <a:pt x="1110" y="168"/>
                </a:lnTo>
                <a:lnTo>
                  <a:pt x="1117" y="165"/>
                </a:lnTo>
                <a:lnTo>
                  <a:pt x="1123" y="165"/>
                </a:lnTo>
                <a:lnTo>
                  <a:pt x="1145" y="165"/>
                </a:lnTo>
                <a:lnTo>
                  <a:pt x="1177" y="168"/>
                </a:lnTo>
                <a:lnTo>
                  <a:pt x="1185" y="177"/>
                </a:lnTo>
                <a:lnTo>
                  <a:pt x="1190" y="185"/>
                </a:lnTo>
                <a:lnTo>
                  <a:pt x="1195" y="194"/>
                </a:lnTo>
                <a:lnTo>
                  <a:pt x="1195" y="203"/>
                </a:lnTo>
                <a:lnTo>
                  <a:pt x="1197" y="214"/>
                </a:lnTo>
                <a:lnTo>
                  <a:pt x="1199" y="243"/>
                </a:lnTo>
                <a:lnTo>
                  <a:pt x="1201" y="255"/>
                </a:lnTo>
                <a:lnTo>
                  <a:pt x="1205" y="263"/>
                </a:lnTo>
                <a:lnTo>
                  <a:pt x="1212" y="292"/>
                </a:lnTo>
                <a:lnTo>
                  <a:pt x="1239" y="327"/>
                </a:lnTo>
                <a:lnTo>
                  <a:pt x="1248" y="362"/>
                </a:lnTo>
                <a:lnTo>
                  <a:pt x="1245" y="376"/>
                </a:lnTo>
                <a:lnTo>
                  <a:pt x="1245" y="385"/>
                </a:lnTo>
                <a:lnTo>
                  <a:pt x="1235" y="399"/>
                </a:lnTo>
                <a:lnTo>
                  <a:pt x="1230" y="408"/>
                </a:lnTo>
                <a:lnTo>
                  <a:pt x="1230" y="416"/>
                </a:lnTo>
                <a:lnTo>
                  <a:pt x="1230" y="446"/>
                </a:lnTo>
                <a:lnTo>
                  <a:pt x="1237" y="457"/>
                </a:lnTo>
                <a:lnTo>
                  <a:pt x="1237" y="466"/>
                </a:lnTo>
                <a:lnTo>
                  <a:pt x="1228" y="483"/>
                </a:lnTo>
                <a:lnTo>
                  <a:pt x="1219" y="518"/>
                </a:lnTo>
                <a:lnTo>
                  <a:pt x="1215" y="529"/>
                </a:lnTo>
                <a:lnTo>
                  <a:pt x="1208" y="541"/>
                </a:lnTo>
                <a:lnTo>
                  <a:pt x="1199" y="576"/>
                </a:lnTo>
                <a:lnTo>
                  <a:pt x="1192" y="610"/>
                </a:lnTo>
                <a:lnTo>
                  <a:pt x="1190" y="639"/>
                </a:lnTo>
                <a:lnTo>
                  <a:pt x="1192" y="648"/>
                </a:lnTo>
                <a:lnTo>
                  <a:pt x="1190" y="656"/>
                </a:lnTo>
                <a:lnTo>
                  <a:pt x="1188" y="665"/>
                </a:lnTo>
                <a:lnTo>
                  <a:pt x="1185" y="676"/>
                </a:lnTo>
                <a:lnTo>
                  <a:pt x="1185" y="685"/>
                </a:lnTo>
                <a:lnTo>
                  <a:pt x="1179" y="703"/>
                </a:lnTo>
                <a:lnTo>
                  <a:pt x="1175" y="732"/>
                </a:lnTo>
                <a:lnTo>
                  <a:pt x="1175" y="761"/>
                </a:lnTo>
                <a:lnTo>
                  <a:pt x="1175" y="772"/>
                </a:lnTo>
                <a:lnTo>
                  <a:pt x="1175" y="784"/>
                </a:lnTo>
                <a:lnTo>
                  <a:pt x="1179" y="819"/>
                </a:lnTo>
                <a:lnTo>
                  <a:pt x="1179" y="833"/>
                </a:lnTo>
                <a:lnTo>
                  <a:pt x="1177" y="845"/>
                </a:lnTo>
                <a:lnTo>
                  <a:pt x="1172" y="856"/>
                </a:lnTo>
                <a:lnTo>
                  <a:pt x="1163" y="891"/>
                </a:lnTo>
                <a:lnTo>
                  <a:pt x="1141" y="919"/>
                </a:lnTo>
                <a:lnTo>
                  <a:pt x="1132" y="925"/>
                </a:lnTo>
                <a:lnTo>
                  <a:pt x="1123" y="931"/>
                </a:lnTo>
                <a:lnTo>
                  <a:pt x="1092" y="937"/>
                </a:lnTo>
                <a:lnTo>
                  <a:pt x="1065" y="945"/>
                </a:lnTo>
                <a:lnTo>
                  <a:pt x="1034" y="951"/>
                </a:lnTo>
                <a:lnTo>
                  <a:pt x="1025" y="954"/>
                </a:lnTo>
                <a:lnTo>
                  <a:pt x="1003" y="960"/>
                </a:lnTo>
                <a:lnTo>
                  <a:pt x="992" y="957"/>
                </a:lnTo>
                <a:lnTo>
                  <a:pt x="965" y="949"/>
                </a:lnTo>
                <a:lnTo>
                  <a:pt x="934" y="940"/>
                </a:lnTo>
                <a:lnTo>
                  <a:pt x="912" y="928"/>
                </a:lnTo>
                <a:lnTo>
                  <a:pt x="885" y="919"/>
                </a:lnTo>
                <a:lnTo>
                  <a:pt x="872" y="917"/>
                </a:lnTo>
                <a:lnTo>
                  <a:pt x="836" y="923"/>
                </a:lnTo>
                <a:lnTo>
                  <a:pt x="814" y="925"/>
                </a:lnTo>
                <a:lnTo>
                  <a:pt x="808" y="931"/>
                </a:lnTo>
                <a:lnTo>
                  <a:pt x="794" y="943"/>
                </a:lnTo>
                <a:lnTo>
                  <a:pt x="783" y="943"/>
                </a:lnTo>
                <a:lnTo>
                  <a:pt x="756" y="931"/>
                </a:lnTo>
                <a:lnTo>
                  <a:pt x="721" y="897"/>
                </a:lnTo>
                <a:lnTo>
                  <a:pt x="694" y="891"/>
                </a:lnTo>
                <a:lnTo>
                  <a:pt x="685" y="888"/>
                </a:lnTo>
                <a:lnTo>
                  <a:pt x="654" y="885"/>
                </a:lnTo>
                <a:lnTo>
                  <a:pt x="632" y="885"/>
                </a:lnTo>
                <a:lnTo>
                  <a:pt x="625" y="885"/>
                </a:lnTo>
                <a:lnTo>
                  <a:pt x="616" y="893"/>
                </a:lnTo>
                <a:lnTo>
                  <a:pt x="607" y="902"/>
                </a:lnTo>
                <a:lnTo>
                  <a:pt x="585" y="908"/>
                </a:lnTo>
                <a:lnTo>
                  <a:pt x="554" y="914"/>
                </a:lnTo>
                <a:lnTo>
                  <a:pt x="514" y="911"/>
                </a:lnTo>
                <a:lnTo>
                  <a:pt x="469" y="902"/>
                </a:lnTo>
                <a:lnTo>
                  <a:pt x="425" y="897"/>
                </a:lnTo>
                <a:lnTo>
                  <a:pt x="416" y="897"/>
                </a:lnTo>
                <a:lnTo>
                  <a:pt x="409" y="897"/>
                </a:lnTo>
                <a:lnTo>
                  <a:pt x="387" y="897"/>
                </a:lnTo>
                <a:lnTo>
                  <a:pt x="378" y="897"/>
                </a:lnTo>
                <a:lnTo>
                  <a:pt x="338" y="897"/>
                </a:lnTo>
                <a:lnTo>
                  <a:pt x="311" y="897"/>
                </a:lnTo>
                <a:lnTo>
                  <a:pt x="304" y="897"/>
                </a:lnTo>
                <a:lnTo>
                  <a:pt x="296" y="902"/>
                </a:lnTo>
                <a:lnTo>
                  <a:pt x="264" y="902"/>
                </a:lnTo>
                <a:lnTo>
                  <a:pt x="216" y="902"/>
                </a:lnTo>
                <a:lnTo>
                  <a:pt x="207" y="899"/>
                </a:lnTo>
                <a:lnTo>
                  <a:pt x="198" y="871"/>
                </a:lnTo>
                <a:lnTo>
                  <a:pt x="200" y="824"/>
                </a:lnTo>
                <a:lnTo>
                  <a:pt x="207" y="795"/>
                </a:lnTo>
                <a:lnTo>
                  <a:pt x="209" y="784"/>
                </a:lnTo>
                <a:lnTo>
                  <a:pt x="216" y="772"/>
                </a:lnTo>
                <a:lnTo>
                  <a:pt x="220" y="763"/>
                </a:lnTo>
                <a:lnTo>
                  <a:pt x="220" y="752"/>
                </a:lnTo>
                <a:lnTo>
                  <a:pt x="214" y="723"/>
                </a:lnTo>
                <a:lnTo>
                  <a:pt x="178" y="694"/>
                </a:lnTo>
                <a:lnTo>
                  <a:pt x="151" y="685"/>
                </a:lnTo>
                <a:lnTo>
                  <a:pt x="151" y="674"/>
                </a:lnTo>
                <a:lnTo>
                  <a:pt x="158" y="633"/>
                </a:lnTo>
                <a:lnTo>
                  <a:pt x="153" y="622"/>
                </a:lnTo>
                <a:lnTo>
                  <a:pt x="147" y="616"/>
                </a:lnTo>
                <a:lnTo>
                  <a:pt x="144" y="607"/>
                </a:lnTo>
                <a:lnTo>
                  <a:pt x="142" y="567"/>
                </a:lnTo>
                <a:lnTo>
                  <a:pt x="133" y="538"/>
                </a:lnTo>
                <a:lnTo>
                  <a:pt x="58" y="486"/>
                </a:lnTo>
                <a:lnTo>
                  <a:pt x="27" y="480"/>
                </a:lnTo>
                <a:lnTo>
                  <a:pt x="33" y="477"/>
                </a:lnTo>
                <a:lnTo>
                  <a:pt x="40" y="472"/>
                </a:lnTo>
                <a:lnTo>
                  <a:pt x="47" y="463"/>
                </a:lnTo>
                <a:lnTo>
                  <a:pt x="53" y="451"/>
                </a:lnTo>
                <a:lnTo>
                  <a:pt x="62" y="442"/>
                </a:lnTo>
                <a:lnTo>
                  <a:pt x="69" y="437"/>
                </a:lnTo>
                <a:lnTo>
                  <a:pt x="75" y="420"/>
                </a:lnTo>
                <a:lnTo>
                  <a:pt x="35" y="373"/>
                </a:lnTo>
                <a:lnTo>
                  <a:pt x="0" y="362"/>
                </a:lnTo>
                <a:lnTo>
                  <a:pt x="2" y="353"/>
                </a:lnTo>
                <a:lnTo>
                  <a:pt x="11" y="344"/>
                </a:lnTo>
                <a:lnTo>
                  <a:pt x="33" y="333"/>
                </a:lnTo>
                <a:lnTo>
                  <a:pt x="55" y="321"/>
                </a:lnTo>
                <a:lnTo>
                  <a:pt x="78" y="310"/>
                </a:lnTo>
                <a:lnTo>
                  <a:pt x="84" y="307"/>
                </a:lnTo>
                <a:lnTo>
                  <a:pt x="93" y="304"/>
                </a:lnTo>
                <a:lnTo>
                  <a:pt x="102" y="301"/>
                </a:lnTo>
                <a:lnTo>
                  <a:pt x="109" y="295"/>
                </a:lnTo>
                <a:lnTo>
                  <a:pt x="113" y="281"/>
                </a:lnTo>
                <a:lnTo>
                  <a:pt x="116" y="272"/>
                </a:lnTo>
                <a:lnTo>
                  <a:pt x="118" y="243"/>
                </a:lnTo>
                <a:lnTo>
                  <a:pt x="120" y="214"/>
                </a:lnTo>
                <a:lnTo>
                  <a:pt x="127" y="179"/>
                </a:lnTo>
                <a:lnTo>
                  <a:pt x="138" y="165"/>
                </a:lnTo>
                <a:lnTo>
                  <a:pt x="144" y="156"/>
                </a:lnTo>
                <a:lnTo>
                  <a:pt x="151" y="151"/>
                </a:lnTo>
                <a:lnTo>
                  <a:pt x="158" y="151"/>
                </a:lnTo>
                <a:lnTo>
                  <a:pt x="164" y="153"/>
                </a:lnTo>
                <a:lnTo>
                  <a:pt x="171" y="153"/>
                </a:lnTo>
                <a:lnTo>
                  <a:pt x="180" y="151"/>
                </a:lnTo>
                <a:lnTo>
                  <a:pt x="202" y="145"/>
                </a:lnTo>
                <a:lnTo>
                  <a:pt x="224" y="139"/>
                </a:lnTo>
                <a:lnTo>
                  <a:pt x="256" y="133"/>
                </a:lnTo>
                <a:lnTo>
                  <a:pt x="278" y="130"/>
                </a:lnTo>
                <a:lnTo>
                  <a:pt x="287" y="133"/>
                </a:lnTo>
                <a:lnTo>
                  <a:pt x="296" y="136"/>
                </a:lnTo>
                <a:lnTo>
                  <a:pt x="302" y="145"/>
                </a:lnTo>
                <a:lnTo>
                  <a:pt x="311" y="179"/>
                </a:lnTo>
                <a:lnTo>
                  <a:pt x="318" y="208"/>
                </a:lnTo>
                <a:lnTo>
                  <a:pt x="327" y="199"/>
                </a:lnTo>
                <a:lnTo>
                  <a:pt x="334" y="199"/>
                </a:lnTo>
                <a:lnTo>
                  <a:pt x="345" y="197"/>
                </a:lnTo>
                <a:lnTo>
                  <a:pt x="367" y="188"/>
                </a:lnTo>
                <a:lnTo>
                  <a:pt x="389" y="153"/>
                </a:lnTo>
                <a:lnTo>
                  <a:pt x="398" y="147"/>
                </a:lnTo>
                <a:lnTo>
                  <a:pt x="405" y="142"/>
                </a:lnTo>
                <a:lnTo>
                  <a:pt x="414" y="136"/>
                </a:lnTo>
                <a:lnTo>
                  <a:pt x="427" y="125"/>
                </a:lnTo>
                <a:lnTo>
                  <a:pt x="434" y="121"/>
                </a:lnTo>
                <a:lnTo>
                  <a:pt x="443" y="121"/>
                </a:lnTo>
                <a:lnTo>
                  <a:pt x="449" y="121"/>
                </a:lnTo>
                <a:lnTo>
                  <a:pt x="460" y="130"/>
                </a:lnTo>
                <a:lnTo>
                  <a:pt x="469" y="136"/>
                </a:lnTo>
                <a:lnTo>
                  <a:pt x="476" y="142"/>
                </a:lnTo>
                <a:lnTo>
                  <a:pt x="483" y="145"/>
                </a:lnTo>
                <a:lnTo>
                  <a:pt x="491" y="147"/>
                </a:lnTo>
                <a:lnTo>
                  <a:pt x="501" y="153"/>
                </a:lnTo>
                <a:lnTo>
                  <a:pt x="511" y="159"/>
                </a:lnTo>
                <a:lnTo>
                  <a:pt x="518" y="162"/>
                </a:lnTo>
                <a:lnTo>
                  <a:pt x="523" y="171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2057400"/>
            <a:ext cx="22860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0560" y="1911240"/>
            <a:ext cx="216000" cy="292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36640" y="2576520"/>
            <a:ext cx="23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13360" y="2119320"/>
            <a:ext cx="116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6560" y="2521080"/>
            <a:ext cx="216000" cy="21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08040" y="1509840"/>
            <a:ext cx="99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2133720"/>
            <a:ext cx="2363760" cy="1982520"/>
          </a:xfrm>
          <a:custGeom>
            <a:avLst/>
            <a:gdLst/>
            <a:ahLst/>
            <a:rect l="l" t="t" r="r" b="b"/>
            <a:pathLst>
              <a:path w="1489" h="1249">
                <a:moveTo>
                  <a:pt x="623" y="222"/>
                </a:moveTo>
                <a:lnTo>
                  <a:pt x="634" y="203"/>
                </a:lnTo>
                <a:lnTo>
                  <a:pt x="645" y="158"/>
                </a:lnTo>
                <a:lnTo>
                  <a:pt x="652" y="106"/>
                </a:lnTo>
                <a:lnTo>
                  <a:pt x="663" y="61"/>
                </a:lnTo>
                <a:lnTo>
                  <a:pt x="671" y="45"/>
                </a:lnTo>
                <a:lnTo>
                  <a:pt x="681" y="34"/>
                </a:lnTo>
                <a:lnTo>
                  <a:pt x="692" y="23"/>
                </a:lnTo>
                <a:lnTo>
                  <a:pt x="703" y="11"/>
                </a:lnTo>
                <a:lnTo>
                  <a:pt x="713" y="8"/>
                </a:lnTo>
                <a:lnTo>
                  <a:pt x="724" y="4"/>
                </a:lnTo>
                <a:lnTo>
                  <a:pt x="735" y="0"/>
                </a:lnTo>
                <a:lnTo>
                  <a:pt x="745" y="0"/>
                </a:lnTo>
                <a:lnTo>
                  <a:pt x="756" y="0"/>
                </a:lnTo>
                <a:lnTo>
                  <a:pt x="764" y="4"/>
                </a:lnTo>
                <a:lnTo>
                  <a:pt x="774" y="4"/>
                </a:lnTo>
                <a:lnTo>
                  <a:pt x="782" y="8"/>
                </a:lnTo>
                <a:lnTo>
                  <a:pt x="790" y="11"/>
                </a:lnTo>
                <a:lnTo>
                  <a:pt x="798" y="11"/>
                </a:lnTo>
                <a:lnTo>
                  <a:pt x="806" y="16"/>
                </a:lnTo>
                <a:lnTo>
                  <a:pt x="817" y="23"/>
                </a:lnTo>
                <a:lnTo>
                  <a:pt x="825" y="27"/>
                </a:lnTo>
                <a:lnTo>
                  <a:pt x="836" y="34"/>
                </a:lnTo>
                <a:lnTo>
                  <a:pt x="851" y="45"/>
                </a:lnTo>
                <a:lnTo>
                  <a:pt x="862" y="56"/>
                </a:lnTo>
                <a:lnTo>
                  <a:pt x="872" y="61"/>
                </a:lnTo>
                <a:lnTo>
                  <a:pt x="883" y="68"/>
                </a:lnTo>
                <a:lnTo>
                  <a:pt x="894" y="75"/>
                </a:lnTo>
                <a:lnTo>
                  <a:pt x="904" y="90"/>
                </a:lnTo>
                <a:lnTo>
                  <a:pt x="907" y="101"/>
                </a:lnTo>
                <a:lnTo>
                  <a:pt x="912" y="113"/>
                </a:lnTo>
                <a:lnTo>
                  <a:pt x="920" y="128"/>
                </a:lnTo>
                <a:lnTo>
                  <a:pt x="928" y="132"/>
                </a:lnTo>
                <a:lnTo>
                  <a:pt x="933" y="143"/>
                </a:lnTo>
                <a:lnTo>
                  <a:pt x="941" y="180"/>
                </a:lnTo>
                <a:lnTo>
                  <a:pt x="947" y="192"/>
                </a:lnTo>
                <a:lnTo>
                  <a:pt x="955" y="199"/>
                </a:lnTo>
                <a:lnTo>
                  <a:pt x="965" y="211"/>
                </a:lnTo>
                <a:lnTo>
                  <a:pt x="973" y="225"/>
                </a:lnTo>
                <a:lnTo>
                  <a:pt x="984" y="233"/>
                </a:lnTo>
                <a:lnTo>
                  <a:pt x="995" y="241"/>
                </a:lnTo>
                <a:lnTo>
                  <a:pt x="1005" y="248"/>
                </a:lnTo>
                <a:lnTo>
                  <a:pt x="1013" y="256"/>
                </a:lnTo>
                <a:lnTo>
                  <a:pt x="1023" y="259"/>
                </a:lnTo>
                <a:lnTo>
                  <a:pt x="1031" y="264"/>
                </a:lnTo>
                <a:lnTo>
                  <a:pt x="1039" y="264"/>
                </a:lnTo>
                <a:lnTo>
                  <a:pt x="1071" y="264"/>
                </a:lnTo>
                <a:lnTo>
                  <a:pt x="1079" y="259"/>
                </a:lnTo>
                <a:lnTo>
                  <a:pt x="1090" y="256"/>
                </a:lnTo>
                <a:lnTo>
                  <a:pt x="1098" y="256"/>
                </a:lnTo>
                <a:lnTo>
                  <a:pt x="1130" y="256"/>
                </a:lnTo>
                <a:lnTo>
                  <a:pt x="1140" y="252"/>
                </a:lnTo>
                <a:lnTo>
                  <a:pt x="1172" y="245"/>
                </a:lnTo>
                <a:lnTo>
                  <a:pt x="1199" y="241"/>
                </a:lnTo>
                <a:lnTo>
                  <a:pt x="1209" y="241"/>
                </a:lnTo>
                <a:lnTo>
                  <a:pt x="1220" y="237"/>
                </a:lnTo>
                <a:lnTo>
                  <a:pt x="1252" y="230"/>
                </a:lnTo>
                <a:lnTo>
                  <a:pt x="1284" y="225"/>
                </a:lnTo>
                <a:lnTo>
                  <a:pt x="1315" y="222"/>
                </a:lnTo>
                <a:lnTo>
                  <a:pt x="1323" y="218"/>
                </a:lnTo>
                <a:lnTo>
                  <a:pt x="1331" y="214"/>
                </a:lnTo>
                <a:lnTo>
                  <a:pt x="1339" y="214"/>
                </a:lnTo>
                <a:lnTo>
                  <a:pt x="1366" y="214"/>
                </a:lnTo>
                <a:lnTo>
                  <a:pt x="1403" y="218"/>
                </a:lnTo>
                <a:lnTo>
                  <a:pt x="1413" y="230"/>
                </a:lnTo>
                <a:lnTo>
                  <a:pt x="1419" y="241"/>
                </a:lnTo>
                <a:lnTo>
                  <a:pt x="1424" y="252"/>
                </a:lnTo>
                <a:lnTo>
                  <a:pt x="1424" y="264"/>
                </a:lnTo>
                <a:lnTo>
                  <a:pt x="1427" y="278"/>
                </a:lnTo>
                <a:lnTo>
                  <a:pt x="1429" y="316"/>
                </a:lnTo>
                <a:lnTo>
                  <a:pt x="1432" y="331"/>
                </a:lnTo>
                <a:lnTo>
                  <a:pt x="1437" y="342"/>
                </a:lnTo>
                <a:lnTo>
                  <a:pt x="1445" y="380"/>
                </a:lnTo>
                <a:lnTo>
                  <a:pt x="1477" y="425"/>
                </a:lnTo>
                <a:lnTo>
                  <a:pt x="1488" y="470"/>
                </a:lnTo>
                <a:lnTo>
                  <a:pt x="1485" y="489"/>
                </a:lnTo>
                <a:lnTo>
                  <a:pt x="1485" y="500"/>
                </a:lnTo>
                <a:lnTo>
                  <a:pt x="1472" y="519"/>
                </a:lnTo>
                <a:lnTo>
                  <a:pt x="1467" y="530"/>
                </a:lnTo>
                <a:lnTo>
                  <a:pt x="1467" y="541"/>
                </a:lnTo>
                <a:lnTo>
                  <a:pt x="1467" y="579"/>
                </a:lnTo>
                <a:lnTo>
                  <a:pt x="1475" y="594"/>
                </a:lnTo>
                <a:lnTo>
                  <a:pt x="1475" y="605"/>
                </a:lnTo>
                <a:lnTo>
                  <a:pt x="1464" y="628"/>
                </a:lnTo>
                <a:lnTo>
                  <a:pt x="1453" y="673"/>
                </a:lnTo>
                <a:lnTo>
                  <a:pt x="1448" y="688"/>
                </a:lnTo>
                <a:lnTo>
                  <a:pt x="1440" y="703"/>
                </a:lnTo>
                <a:lnTo>
                  <a:pt x="1429" y="748"/>
                </a:lnTo>
                <a:lnTo>
                  <a:pt x="1421" y="793"/>
                </a:lnTo>
                <a:lnTo>
                  <a:pt x="1419" y="831"/>
                </a:lnTo>
                <a:lnTo>
                  <a:pt x="1421" y="842"/>
                </a:lnTo>
                <a:lnTo>
                  <a:pt x="1419" y="853"/>
                </a:lnTo>
                <a:lnTo>
                  <a:pt x="1416" y="865"/>
                </a:lnTo>
                <a:lnTo>
                  <a:pt x="1413" y="879"/>
                </a:lnTo>
                <a:lnTo>
                  <a:pt x="1413" y="891"/>
                </a:lnTo>
                <a:lnTo>
                  <a:pt x="1405" y="913"/>
                </a:lnTo>
                <a:lnTo>
                  <a:pt x="1400" y="951"/>
                </a:lnTo>
                <a:lnTo>
                  <a:pt x="1400" y="989"/>
                </a:lnTo>
                <a:lnTo>
                  <a:pt x="1400" y="1003"/>
                </a:lnTo>
                <a:lnTo>
                  <a:pt x="1400" y="1019"/>
                </a:lnTo>
                <a:lnTo>
                  <a:pt x="1405" y="1064"/>
                </a:lnTo>
                <a:lnTo>
                  <a:pt x="1405" y="1082"/>
                </a:lnTo>
                <a:lnTo>
                  <a:pt x="1403" y="1098"/>
                </a:lnTo>
                <a:lnTo>
                  <a:pt x="1397" y="1113"/>
                </a:lnTo>
                <a:lnTo>
                  <a:pt x="1387" y="1158"/>
                </a:lnTo>
                <a:lnTo>
                  <a:pt x="1361" y="1195"/>
                </a:lnTo>
                <a:lnTo>
                  <a:pt x="1350" y="1203"/>
                </a:lnTo>
                <a:lnTo>
                  <a:pt x="1339" y="1211"/>
                </a:lnTo>
                <a:lnTo>
                  <a:pt x="1302" y="1218"/>
                </a:lnTo>
                <a:lnTo>
                  <a:pt x="1270" y="1229"/>
                </a:lnTo>
                <a:lnTo>
                  <a:pt x="1233" y="1237"/>
                </a:lnTo>
                <a:lnTo>
                  <a:pt x="1222" y="1240"/>
                </a:lnTo>
                <a:lnTo>
                  <a:pt x="1196" y="1248"/>
                </a:lnTo>
                <a:lnTo>
                  <a:pt x="1183" y="1244"/>
                </a:lnTo>
                <a:lnTo>
                  <a:pt x="1151" y="1233"/>
                </a:lnTo>
                <a:lnTo>
                  <a:pt x="1114" y="1222"/>
                </a:lnTo>
                <a:lnTo>
                  <a:pt x="1087" y="1206"/>
                </a:lnTo>
                <a:lnTo>
                  <a:pt x="1055" y="1195"/>
                </a:lnTo>
                <a:lnTo>
                  <a:pt x="1039" y="1192"/>
                </a:lnTo>
                <a:lnTo>
                  <a:pt x="997" y="1199"/>
                </a:lnTo>
                <a:lnTo>
                  <a:pt x="971" y="1203"/>
                </a:lnTo>
                <a:lnTo>
                  <a:pt x="963" y="1211"/>
                </a:lnTo>
                <a:lnTo>
                  <a:pt x="947" y="1225"/>
                </a:lnTo>
                <a:lnTo>
                  <a:pt x="933" y="1225"/>
                </a:lnTo>
                <a:lnTo>
                  <a:pt x="902" y="1211"/>
                </a:lnTo>
                <a:lnTo>
                  <a:pt x="859" y="1166"/>
                </a:lnTo>
                <a:lnTo>
                  <a:pt x="828" y="1158"/>
                </a:lnTo>
                <a:lnTo>
                  <a:pt x="817" y="1154"/>
                </a:lnTo>
                <a:lnTo>
                  <a:pt x="780" y="1150"/>
                </a:lnTo>
                <a:lnTo>
                  <a:pt x="753" y="1150"/>
                </a:lnTo>
                <a:lnTo>
                  <a:pt x="745" y="1150"/>
                </a:lnTo>
                <a:lnTo>
                  <a:pt x="735" y="1161"/>
                </a:lnTo>
                <a:lnTo>
                  <a:pt x="724" y="1173"/>
                </a:lnTo>
                <a:lnTo>
                  <a:pt x="697" y="1180"/>
                </a:lnTo>
                <a:lnTo>
                  <a:pt x="660" y="1188"/>
                </a:lnTo>
                <a:lnTo>
                  <a:pt x="613" y="1184"/>
                </a:lnTo>
                <a:lnTo>
                  <a:pt x="559" y="1173"/>
                </a:lnTo>
                <a:lnTo>
                  <a:pt x="506" y="1166"/>
                </a:lnTo>
                <a:lnTo>
                  <a:pt x="496" y="1166"/>
                </a:lnTo>
                <a:lnTo>
                  <a:pt x="488" y="1166"/>
                </a:lnTo>
                <a:lnTo>
                  <a:pt x="462" y="1166"/>
                </a:lnTo>
                <a:lnTo>
                  <a:pt x="451" y="1166"/>
                </a:lnTo>
                <a:lnTo>
                  <a:pt x="403" y="1166"/>
                </a:lnTo>
                <a:lnTo>
                  <a:pt x="371" y="1166"/>
                </a:lnTo>
                <a:lnTo>
                  <a:pt x="363" y="1166"/>
                </a:lnTo>
                <a:lnTo>
                  <a:pt x="353" y="1173"/>
                </a:lnTo>
                <a:lnTo>
                  <a:pt x="315" y="1173"/>
                </a:lnTo>
                <a:lnTo>
                  <a:pt x="257" y="1173"/>
                </a:lnTo>
                <a:lnTo>
                  <a:pt x="247" y="1169"/>
                </a:lnTo>
                <a:lnTo>
                  <a:pt x="236" y="1132"/>
                </a:lnTo>
                <a:lnTo>
                  <a:pt x="239" y="1071"/>
                </a:lnTo>
                <a:lnTo>
                  <a:pt x="247" y="1034"/>
                </a:lnTo>
                <a:lnTo>
                  <a:pt x="249" y="1019"/>
                </a:lnTo>
                <a:lnTo>
                  <a:pt x="257" y="1003"/>
                </a:lnTo>
                <a:lnTo>
                  <a:pt x="263" y="992"/>
                </a:lnTo>
                <a:lnTo>
                  <a:pt x="263" y="977"/>
                </a:lnTo>
                <a:lnTo>
                  <a:pt x="255" y="940"/>
                </a:lnTo>
                <a:lnTo>
                  <a:pt x="212" y="902"/>
                </a:lnTo>
                <a:lnTo>
                  <a:pt x="180" y="891"/>
                </a:lnTo>
                <a:lnTo>
                  <a:pt x="180" y="876"/>
                </a:lnTo>
                <a:lnTo>
                  <a:pt x="188" y="823"/>
                </a:lnTo>
                <a:lnTo>
                  <a:pt x="183" y="808"/>
                </a:lnTo>
                <a:lnTo>
                  <a:pt x="175" y="801"/>
                </a:lnTo>
                <a:lnTo>
                  <a:pt x="172" y="789"/>
                </a:lnTo>
                <a:lnTo>
                  <a:pt x="170" y="737"/>
                </a:lnTo>
                <a:lnTo>
                  <a:pt x="159" y="699"/>
                </a:lnTo>
                <a:lnTo>
                  <a:pt x="69" y="631"/>
                </a:lnTo>
                <a:lnTo>
                  <a:pt x="32" y="624"/>
                </a:lnTo>
                <a:lnTo>
                  <a:pt x="40" y="620"/>
                </a:lnTo>
                <a:lnTo>
                  <a:pt x="48" y="613"/>
                </a:lnTo>
                <a:lnTo>
                  <a:pt x="56" y="602"/>
                </a:lnTo>
                <a:lnTo>
                  <a:pt x="64" y="586"/>
                </a:lnTo>
                <a:lnTo>
                  <a:pt x="74" y="575"/>
                </a:lnTo>
                <a:lnTo>
                  <a:pt x="82" y="568"/>
                </a:lnTo>
                <a:lnTo>
                  <a:pt x="90" y="545"/>
                </a:lnTo>
                <a:lnTo>
                  <a:pt x="42" y="485"/>
                </a:lnTo>
                <a:lnTo>
                  <a:pt x="0" y="470"/>
                </a:lnTo>
                <a:lnTo>
                  <a:pt x="2" y="459"/>
                </a:lnTo>
                <a:lnTo>
                  <a:pt x="13" y="447"/>
                </a:lnTo>
                <a:lnTo>
                  <a:pt x="40" y="433"/>
                </a:lnTo>
                <a:lnTo>
                  <a:pt x="66" y="417"/>
                </a:lnTo>
                <a:lnTo>
                  <a:pt x="93" y="402"/>
                </a:lnTo>
                <a:lnTo>
                  <a:pt x="100" y="399"/>
                </a:lnTo>
                <a:lnTo>
                  <a:pt x="111" y="395"/>
                </a:lnTo>
                <a:lnTo>
                  <a:pt x="122" y="391"/>
                </a:lnTo>
                <a:lnTo>
                  <a:pt x="130" y="383"/>
                </a:lnTo>
                <a:lnTo>
                  <a:pt x="135" y="365"/>
                </a:lnTo>
                <a:lnTo>
                  <a:pt x="138" y="354"/>
                </a:lnTo>
                <a:lnTo>
                  <a:pt x="140" y="316"/>
                </a:lnTo>
                <a:lnTo>
                  <a:pt x="143" y="278"/>
                </a:lnTo>
                <a:lnTo>
                  <a:pt x="151" y="233"/>
                </a:lnTo>
                <a:lnTo>
                  <a:pt x="164" y="214"/>
                </a:lnTo>
                <a:lnTo>
                  <a:pt x="172" y="203"/>
                </a:lnTo>
                <a:lnTo>
                  <a:pt x="180" y="196"/>
                </a:lnTo>
                <a:lnTo>
                  <a:pt x="188" y="196"/>
                </a:lnTo>
                <a:lnTo>
                  <a:pt x="196" y="199"/>
                </a:lnTo>
                <a:lnTo>
                  <a:pt x="204" y="199"/>
                </a:lnTo>
                <a:lnTo>
                  <a:pt x="215" y="196"/>
                </a:lnTo>
                <a:lnTo>
                  <a:pt x="241" y="188"/>
                </a:lnTo>
                <a:lnTo>
                  <a:pt x="268" y="180"/>
                </a:lnTo>
                <a:lnTo>
                  <a:pt x="305" y="173"/>
                </a:lnTo>
                <a:lnTo>
                  <a:pt x="331" y="169"/>
                </a:lnTo>
                <a:lnTo>
                  <a:pt x="342" y="173"/>
                </a:lnTo>
                <a:lnTo>
                  <a:pt x="353" y="177"/>
                </a:lnTo>
                <a:lnTo>
                  <a:pt x="361" y="188"/>
                </a:lnTo>
                <a:lnTo>
                  <a:pt x="371" y="233"/>
                </a:lnTo>
                <a:lnTo>
                  <a:pt x="379" y="271"/>
                </a:lnTo>
                <a:lnTo>
                  <a:pt x="390" y="259"/>
                </a:lnTo>
                <a:lnTo>
                  <a:pt x="398" y="259"/>
                </a:lnTo>
                <a:lnTo>
                  <a:pt x="411" y="256"/>
                </a:lnTo>
                <a:lnTo>
                  <a:pt x="438" y="245"/>
                </a:lnTo>
                <a:lnTo>
                  <a:pt x="464" y="199"/>
                </a:lnTo>
                <a:lnTo>
                  <a:pt x="474" y="192"/>
                </a:lnTo>
                <a:lnTo>
                  <a:pt x="482" y="185"/>
                </a:lnTo>
                <a:lnTo>
                  <a:pt x="493" y="177"/>
                </a:lnTo>
                <a:lnTo>
                  <a:pt x="509" y="162"/>
                </a:lnTo>
                <a:lnTo>
                  <a:pt x="517" y="158"/>
                </a:lnTo>
                <a:lnTo>
                  <a:pt x="528" y="158"/>
                </a:lnTo>
                <a:lnTo>
                  <a:pt x="536" y="158"/>
                </a:lnTo>
                <a:lnTo>
                  <a:pt x="549" y="169"/>
                </a:lnTo>
                <a:lnTo>
                  <a:pt x="559" y="177"/>
                </a:lnTo>
                <a:lnTo>
                  <a:pt x="567" y="185"/>
                </a:lnTo>
                <a:lnTo>
                  <a:pt x="575" y="188"/>
                </a:lnTo>
                <a:lnTo>
                  <a:pt x="586" y="192"/>
                </a:lnTo>
                <a:lnTo>
                  <a:pt x="597" y="199"/>
                </a:lnTo>
                <a:lnTo>
                  <a:pt x="610" y="207"/>
                </a:lnTo>
                <a:lnTo>
                  <a:pt x="618" y="211"/>
                </a:lnTo>
                <a:lnTo>
                  <a:pt x="623" y="222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60880" y="1509840"/>
            <a:ext cx="23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29200" y="2576520"/>
            <a:ext cx="7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4267080"/>
            <a:ext cx="2439720" cy="1906560"/>
          </a:xfrm>
          <a:custGeom>
            <a:avLst/>
            <a:gdLst/>
            <a:ahLst/>
            <a:rect l="l" t="t" r="r" b="b"/>
            <a:pathLst>
              <a:path w="1537" h="1201">
                <a:moveTo>
                  <a:pt x="643" y="213"/>
                </a:moveTo>
                <a:lnTo>
                  <a:pt x="654" y="195"/>
                </a:lnTo>
                <a:lnTo>
                  <a:pt x="665" y="152"/>
                </a:lnTo>
                <a:lnTo>
                  <a:pt x="674" y="102"/>
                </a:lnTo>
                <a:lnTo>
                  <a:pt x="684" y="58"/>
                </a:lnTo>
                <a:lnTo>
                  <a:pt x="693" y="43"/>
                </a:lnTo>
                <a:lnTo>
                  <a:pt x="703" y="33"/>
                </a:lnTo>
                <a:lnTo>
                  <a:pt x="715" y="22"/>
                </a:lnTo>
                <a:lnTo>
                  <a:pt x="725" y="11"/>
                </a:lnTo>
                <a:lnTo>
                  <a:pt x="736" y="7"/>
                </a:lnTo>
                <a:lnTo>
                  <a:pt x="747" y="4"/>
                </a:lnTo>
                <a:lnTo>
                  <a:pt x="758" y="0"/>
                </a:lnTo>
                <a:lnTo>
                  <a:pt x="769" y="0"/>
                </a:lnTo>
                <a:lnTo>
                  <a:pt x="780" y="0"/>
                </a:lnTo>
                <a:lnTo>
                  <a:pt x="789" y="4"/>
                </a:lnTo>
                <a:lnTo>
                  <a:pt x="799" y="4"/>
                </a:lnTo>
                <a:lnTo>
                  <a:pt x="808" y="7"/>
                </a:lnTo>
                <a:lnTo>
                  <a:pt x="816" y="11"/>
                </a:lnTo>
                <a:lnTo>
                  <a:pt x="824" y="11"/>
                </a:lnTo>
                <a:lnTo>
                  <a:pt x="832" y="15"/>
                </a:lnTo>
                <a:lnTo>
                  <a:pt x="843" y="22"/>
                </a:lnTo>
                <a:lnTo>
                  <a:pt x="851" y="26"/>
                </a:lnTo>
                <a:lnTo>
                  <a:pt x="862" y="33"/>
                </a:lnTo>
                <a:lnTo>
                  <a:pt x="879" y="43"/>
                </a:lnTo>
                <a:lnTo>
                  <a:pt x="890" y="54"/>
                </a:lnTo>
                <a:lnTo>
                  <a:pt x="900" y="58"/>
                </a:lnTo>
                <a:lnTo>
                  <a:pt x="912" y="65"/>
                </a:lnTo>
                <a:lnTo>
                  <a:pt x="923" y="73"/>
                </a:lnTo>
                <a:lnTo>
                  <a:pt x="933" y="87"/>
                </a:lnTo>
                <a:lnTo>
                  <a:pt x="936" y="98"/>
                </a:lnTo>
                <a:lnTo>
                  <a:pt x="942" y="108"/>
                </a:lnTo>
                <a:lnTo>
                  <a:pt x="950" y="123"/>
                </a:lnTo>
                <a:lnTo>
                  <a:pt x="958" y="127"/>
                </a:lnTo>
                <a:lnTo>
                  <a:pt x="964" y="138"/>
                </a:lnTo>
                <a:lnTo>
                  <a:pt x="972" y="173"/>
                </a:lnTo>
                <a:lnTo>
                  <a:pt x="977" y="184"/>
                </a:lnTo>
                <a:lnTo>
                  <a:pt x="986" y="192"/>
                </a:lnTo>
                <a:lnTo>
                  <a:pt x="996" y="203"/>
                </a:lnTo>
                <a:lnTo>
                  <a:pt x="1005" y="217"/>
                </a:lnTo>
                <a:lnTo>
                  <a:pt x="1015" y="224"/>
                </a:lnTo>
                <a:lnTo>
                  <a:pt x="1027" y="232"/>
                </a:lnTo>
                <a:lnTo>
                  <a:pt x="1038" y="239"/>
                </a:lnTo>
                <a:lnTo>
                  <a:pt x="1046" y="246"/>
                </a:lnTo>
                <a:lnTo>
                  <a:pt x="1057" y="249"/>
                </a:lnTo>
                <a:lnTo>
                  <a:pt x="1065" y="253"/>
                </a:lnTo>
                <a:lnTo>
                  <a:pt x="1073" y="253"/>
                </a:lnTo>
                <a:lnTo>
                  <a:pt x="1106" y="253"/>
                </a:lnTo>
                <a:lnTo>
                  <a:pt x="1114" y="249"/>
                </a:lnTo>
                <a:lnTo>
                  <a:pt x="1125" y="246"/>
                </a:lnTo>
                <a:lnTo>
                  <a:pt x="1134" y="246"/>
                </a:lnTo>
                <a:lnTo>
                  <a:pt x="1166" y="246"/>
                </a:lnTo>
                <a:lnTo>
                  <a:pt x="1177" y="243"/>
                </a:lnTo>
                <a:lnTo>
                  <a:pt x="1210" y="235"/>
                </a:lnTo>
                <a:lnTo>
                  <a:pt x="1237" y="232"/>
                </a:lnTo>
                <a:lnTo>
                  <a:pt x="1249" y="232"/>
                </a:lnTo>
                <a:lnTo>
                  <a:pt x="1259" y="228"/>
                </a:lnTo>
                <a:lnTo>
                  <a:pt x="1292" y="221"/>
                </a:lnTo>
                <a:lnTo>
                  <a:pt x="1325" y="217"/>
                </a:lnTo>
                <a:lnTo>
                  <a:pt x="1358" y="213"/>
                </a:lnTo>
                <a:lnTo>
                  <a:pt x="1366" y="210"/>
                </a:lnTo>
                <a:lnTo>
                  <a:pt x="1374" y="206"/>
                </a:lnTo>
                <a:lnTo>
                  <a:pt x="1383" y="206"/>
                </a:lnTo>
                <a:lnTo>
                  <a:pt x="1410" y="206"/>
                </a:lnTo>
                <a:lnTo>
                  <a:pt x="1448" y="210"/>
                </a:lnTo>
                <a:lnTo>
                  <a:pt x="1459" y="221"/>
                </a:lnTo>
                <a:lnTo>
                  <a:pt x="1465" y="232"/>
                </a:lnTo>
                <a:lnTo>
                  <a:pt x="1470" y="243"/>
                </a:lnTo>
                <a:lnTo>
                  <a:pt x="1470" y="253"/>
                </a:lnTo>
                <a:lnTo>
                  <a:pt x="1473" y="268"/>
                </a:lnTo>
                <a:lnTo>
                  <a:pt x="1475" y="304"/>
                </a:lnTo>
                <a:lnTo>
                  <a:pt x="1479" y="318"/>
                </a:lnTo>
                <a:lnTo>
                  <a:pt x="1484" y="329"/>
                </a:lnTo>
                <a:lnTo>
                  <a:pt x="1492" y="365"/>
                </a:lnTo>
                <a:lnTo>
                  <a:pt x="1525" y="409"/>
                </a:lnTo>
                <a:lnTo>
                  <a:pt x="1536" y="452"/>
                </a:lnTo>
                <a:lnTo>
                  <a:pt x="1533" y="470"/>
                </a:lnTo>
                <a:lnTo>
                  <a:pt x="1533" y="481"/>
                </a:lnTo>
                <a:lnTo>
                  <a:pt x="1520" y="499"/>
                </a:lnTo>
                <a:lnTo>
                  <a:pt x="1514" y="510"/>
                </a:lnTo>
                <a:lnTo>
                  <a:pt x="1514" y="520"/>
                </a:lnTo>
                <a:lnTo>
                  <a:pt x="1514" y="557"/>
                </a:lnTo>
                <a:lnTo>
                  <a:pt x="1522" y="571"/>
                </a:lnTo>
                <a:lnTo>
                  <a:pt x="1522" y="582"/>
                </a:lnTo>
                <a:lnTo>
                  <a:pt x="1511" y="604"/>
                </a:lnTo>
                <a:lnTo>
                  <a:pt x="1500" y="647"/>
                </a:lnTo>
                <a:lnTo>
                  <a:pt x="1495" y="661"/>
                </a:lnTo>
                <a:lnTo>
                  <a:pt x="1487" y="676"/>
                </a:lnTo>
                <a:lnTo>
                  <a:pt x="1475" y="720"/>
                </a:lnTo>
                <a:lnTo>
                  <a:pt x="1467" y="763"/>
                </a:lnTo>
                <a:lnTo>
                  <a:pt x="1465" y="799"/>
                </a:lnTo>
                <a:lnTo>
                  <a:pt x="1467" y="810"/>
                </a:lnTo>
                <a:lnTo>
                  <a:pt x="1465" y="821"/>
                </a:lnTo>
                <a:lnTo>
                  <a:pt x="1462" y="831"/>
                </a:lnTo>
                <a:lnTo>
                  <a:pt x="1459" y="846"/>
                </a:lnTo>
                <a:lnTo>
                  <a:pt x="1459" y="856"/>
                </a:lnTo>
                <a:lnTo>
                  <a:pt x="1451" y="878"/>
                </a:lnTo>
                <a:lnTo>
                  <a:pt x="1446" y="915"/>
                </a:lnTo>
                <a:lnTo>
                  <a:pt x="1446" y="951"/>
                </a:lnTo>
                <a:lnTo>
                  <a:pt x="1446" y="965"/>
                </a:lnTo>
                <a:lnTo>
                  <a:pt x="1446" y="980"/>
                </a:lnTo>
                <a:lnTo>
                  <a:pt x="1451" y="1023"/>
                </a:lnTo>
                <a:lnTo>
                  <a:pt x="1451" y="1041"/>
                </a:lnTo>
                <a:lnTo>
                  <a:pt x="1448" y="1056"/>
                </a:lnTo>
                <a:lnTo>
                  <a:pt x="1443" y="1070"/>
                </a:lnTo>
                <a:lnTo>
                  <a:pt x="1432" y="1113"/>
                </a:lnTo>
                <a:lnTo>
                  <a:pt x="1405" y="1149"/>
                </a:lnTo>
                <a:lnTo>
                  <a:pt x="1393" y="1157"/>
                </a:lnTo>
                <a:lnTo>
                  <a:pt x="1383" y="1164"/>
                </a:lnTo>
                <a:lnTo>
                  <a:pt x="1344" y="1171"/>
                </a:lnTo>
                <a:lnTo>
                  <a:pt x="1311" y="1182"/>
                </a:lnTo>
                <a:lnTo>
                  <a:pt x="1273" y="1189"/>
                </a:lnTo>
                <a:lnTo>
                  <a:pt x="1262" y="1193"/>
                </a:lnTo>
                <a:lnTo>
                  <a:pt x="1235" y="1200"/>
                </a:lnTo>
                <a:lnTo>
                  <a:pt x="1221" y="1197"/>
                </a:lnTo>
                <a:lnTo>
                  <a:pt x="1188" y="1186"/>
                </a:lnTo>
                <a:lnTo>
                  <a:pt x="1150" y="1175"/>
                </a:lnTo>
                <a:lnTo>
                  <a:pt x="1122" y="1160"/>
                </a:lnTo>
                <a:lnTo>
                  <a:pt x="1089" y="1149"/>
                </a:lnTo>
                <a:lnTo>
                  <a:pt x="1073" y="1146"/>
                </a:lnTo>
                <a:lnTo>
                  <a:pt x="1029" y="1153"/>
                </a:lnTo>
                <a:lnTo>
                  <a:pt x="1002" y="1157"/>
                </a:lnTo>
                <a:lnTo>
                  <a:pt x="994" y="1164"/>
                </a:lnTo>
                <a:lnTo>
                  <a:pt x="977" y="1178"/>
                </a:lnTo>
                <a:lnTo>
                  <a:pt x="964" y="1178"/>
                </a:lnTo>
                <a:lnTo>
                  <a:pt x="931" y="1164"/>
                </a:lnTo>
                <a:lnTo>
                  <a:pt x="887" y="1121"/>
                </a:lnTo>
                <a:lnTo>
                  <a:pt x="854" y="1113"/>
                </a:lnTo>
                <a:lnTo>
                  <a:pt x="843" y="1110"/>
                </a:lnTo>
                <a:lnTo>
                  <a:pt x="805" y="1106"/>
                </a:lnTo>
                <a:lnTo>
                  <a:pt x="777" y="1106"/>
                </a:lnTo>
                <a:lnTo>
                  <a:pt x="769" y="1106"/>
                </a:lnTo>
                <a:lnTo>
                  <a:pt x="758" y="1117"/>
                </a:lnTo>
                <a:lnTo>
                  <a:pt x="747" y="1127"/>
                </a:lnTo>
                <a:lnTo>
                  <a:pt x="720" y="1135"/>
                </a:lnTo>
                <a:lnTo>
                  <a:pt x="682" y="1142"/>
                </a:lnTo>
                <a:lnTo>
                  <a:pt x="632" y="1138"/>
                </a:lnTo>
                <a:lnTo>
                  <a:pt x="578" y="1127"/>
                </a:lnTo>
                <a:lnTo>
                  <a:pt x="523" y="1121"/>
                </a:lnTo>
                <a:lnTo>
                  <a:pt x="512" y="1121"/>
                </a:lnTo>
                <a:lnTo>
                  <a:pt x="504" y="1121"/>
                </a:lnTo>
                <a:lnTo>
                  <a:pt x="476" y="1121"/>
                </a:lnTo>
                <a:lnTo>
                  <a:pt x="465" y="1121"/>
                </a:lnTo>
                <a:lnTo>
                  <a:pt x="416" y="1121"/>
                </a:lnTo>
                <a:lnTo>
                  <a:pt x="383" y="1121"/>
                </a:lnTo>
                <a:lnTo>
                  <a:pt x="375" y="1121"/>
                </a:lnTo>
                <a:lnTo>
                  <a:pt x="364" y="1127"/>
                </a:lnTo>
                <a:lnTo>
                  <a:pt x="325" y="1127"/>
                </a:lnTo>
                <a:lnTo>
                  <a:pt x="265" y="1127"/>
                </a:lnTo>
                <a:lnTo>
                  <a:pt x="255" y="1124"/>
                </a:lnTo>
                <a:lnTo>
                  <a:pt x="243" y="1088"/>
                </a:lnTo>
                <a:lnTo>
                  <a:pt x="246" y="1030"/>
                </a:lnTo>
                <a:lnTo>
                  <a:pt x="255" y="994"/>
                </a:lnTo>
                <a:lnTo>
                  <a:pt x="257" y="980"/>
                </a:lnTo>
                <a:lnTo>
                  <a:pt x="265" y="965"/>
                </a:lnTo>
                <a:lnTo>
                  <a:pt x="271" y="954"/>
                </a:lnTo>
                <a:lnTo>
                  <a:pt x="271" y="940"/>
                </a:lnTo>
                <a:lnTo>
                  <a:pt x="263" y="904"/>
                </a:lnTo>
                <a:lnTo>
                  <a:pt x="219" y="867"/>
                </a:lnTo>
                <a:lnTo>
                  <a:pt x="186" y="856"/>
                </a:lnTo>
                <a:lnTo>
                  <a:pt x="186" y="842"/>
                </a:lnTo>
                <a:lnTo>
                  <a:pt x="194" y="791"/>
                </a:lnTo>
                <a:lnTo>
                  <a:pt x="189" y="777"/>
                </a:lnTo>
                <a:lnTo>
                  <a:pt x="181" y="770"/>
                </a:lnTo>
                <a:lnTo>
                  <a:pt x="178" y="759"/>
                </a:lnTo>
                <a:lnTo>
                  <a:pt x="175" y="709"/>
                </a:lnTo>
                <a:lnTo>
                  <a:pt x="164" y="672"/>
                </a:lnTo>
                <a:lnTo>
                  <a:pt x="71" y="607"/>
                </a:lnTo>
                <a:lnTo>
                  <a:pt x="33" y="600"/>
                </a:lnTo>
                <a:lnTo>
                  <a:pt x="41" y="596"/>
                </a:lnTo>
                <a:lnTo>
                  <a:pt x="49" y="589"/>
                </a:lnTo>
                <a:lnTo>
                  <a:pt x="57" y="579"/>
                </a:lnTo>
                <a:lnTo>
                  <a:pt x="66" y="564"/>
                </a:lnTo>
                <a:lnTo>
                  <a:pt x="76" y="553"/>
                </a:lnTo>
                <a:lnTo>
                  <a:pt x="85" y="546"/>
                </a:lnTo>
                <a:lnTo>
                  <a:pt x="93" y="524"/>
                </a:lnTo>
                <a:lnTo>
                  <a:pt x="44" y="466"/>
                </a:lnTo>
                <a:lnTo>
                  <a:pt x="0" y="452"/>
                </a:lnTo>
                <a:lnTo>
                  <a:pt x="3" y="441"/>
                </a:lnTo>
                <a:lnTo>
                  <a:pt x="13" y="430"/>
                </a:lnTo>
                <a:lnTo>
                  <a:pt x="41" y="416"/>
                </a:lnTo>
                <a:lnTo>
                  <a:pt x="68" y="401"/>
                </a:lnTo>
                <a:lnTo>
                  <a:pt x="95" y="387"/>
                </a:lnTo>
                <a:lnTo>
                  <a:pt x="104" y="384"/>
                </a:lnTo>
                <a:lnTo>
                  <a:pt x="115" y="379"/>
                </a:lnTo>
                <a:lnTo>
                  <a:pt x="126" y="376"/>
                </a:lnTo>
                <a:lnTo>
                  <a:pt x="134" y="369"/>
                </a:lnTo>
                <a:lnTo>
                  <a:pt x="140" y="351"/>
                </a:lnTo>
                <a:lnTo>
                  <a:pt x="142" y="340"/>
                </a:lnTo>
                <a:lnTo>
                  <a:pt x="145" y="304"/>
                </a:lnTo>
                <a:lnTo>
                  <a:pt x="148" y="268"/>
                </a:lnTo>
                <a:lnTo>
                  <a:pt x="156" y="224"/>
                </a:lnTo>
                <a:lnTo>
                  <a:pt x="169" y="206"/>
                </a:lnTo>
                <a:lnTo>
                  <a:pt x="178" y="195"/>
                </a:lnTo>
                <a:lnTo>
                  <a:pt x="186" y="188"/>
                </a:lnTo>
                <a:lnTo>
                  <a:pt x="194" y="188"/>
                </a:lnTo>
                <a:lnTo>
                  <a:pt x="202" y="192"/>
                </a:lnTo>
                <a:lnTo>
                  <a:pt x="210" y="192"/>
                </a:lnTo>
                <a:lnTo>
                  <a:pt x="222" y="188"/>
                </a:lnTo>
                <a:lnTo>
                  <a:pt x="249" y="181"/>
                </a:lnTo>
                <a:lnTo>
                  <a:pt x="276" y="173"/>
                </a:lnTo>
                <a:lnTo>
                  <a:pt x="315" y="167"/>
                </a:lnTo>
                <a:lnTo>
                  <a:pt x="342" y="163"/>
                </a:lnTo>
                <a:lnTo>
                  <a:pt x="353" y="167"/>
                </a:lnTo>
                <a:lnTo>
                  <a:pt x="364" y="170"/>
                </a:lnTo>
                <a:lnTo>
                  <a:pt x="372" y="181"/>
                </a:lnTo>
                <a:lnTo>
                  <a:pt x="383" y="224"/>
                </a:lnTo>
                <a:lnTo>
                  <a:pt x="391" y="260"/>
                </a:lnTo>
                <a:lnTo>
                  <a:pt x="402" y="249"/>
                </a:lnTo>
                <a:lnTo>
                  <a:pt x="411" y="249"/>
                </a:lnTo>
                <a:lnTo>
                  <a:pt x="424" y="246"/>
                </a:lnTo>
                <a:lnTo>
                  <a:pt x="452" y="235"/>
                </a:lnTo>
                <a:lnTo>
                  <a:pt x="479" y="192"/>
                </a:lnTo>
                <a:lnTo>
                  <a:pt x="490" y="184"/>
                </a:lnTo>
                <a:lnTo>
                  <a:pt x="498" y="178"/>
                </a:lnTo>
                <a:lnTo>
                  <a:pt x="509" y="170"/>
                </a:lnTo>
                <a:lnTo>
                  <a:pt x="526" y="156"/>
                </a:lnTo>
                <a:lnTo>
                  <a:pt x="534" y="152"/>
                </a:lnTo>
                <a:lnTo>
                  <a:pt x="545" y="152"/>
                </a:lnTo>
                <a:lnTo>
                  <a:pt x="553" y="152"/>
                </a:lnTo>
                <a:lnTo>
                  <a:pt x="567" y="163"/>
                </a:lnTo>
                <a:lnTo>
                  <a:pt x="578" y="170"/>
                </a:lnTo>
                <a:lnTo>
                  <a:pt x="586" y="178"/>
                </a:lnTo>
                <a:lnTo>
                  <a:pt x="594" y="181"/>
                </a:lnTo>
                <a:lnTo>
                  <a:pt x="605" y="184"/>
                </a:lnTo>
                <a:lnTo>
                  <a:pt x="616" y="192"/>
                </a:lnTo>
                <a:lnTo>
                  <a:pt x="629" y="199"/>
                </a:lnTo>
                <a:lnTo>
                  <a:pt x="638" y="203"/>
                </a:lnTo>
                <a:lnTo>
                  <a:pt x="643" y="213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6480" y="3871800"/>
            <a:ext cx="93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56480" y="4633920"/>
            <a:ext cx="1299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819520"/>
            <a:ext cx="15228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18440" y="1890720"/>
            <a:ext cx="131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_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7560" y="2521080"/>
            <a:ext cx="2160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93840" y="3033720"/>
            <a:ext cx="142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429000" y="198108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504960" y="198108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981080" y="2895480"/>
            <a:ext cx="3049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81080" y="3047760"/>
            <a:ext cx="3049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84360" y="1814400"/>
            <a:ext cx="99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000" y="2881440"/>
            <a:ext cx="9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|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56720" y="3262320"/>
            <a:ext cx="123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| 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61400" y="5014800"/>
            <a:ext cx="1371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|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|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25000" y="366840"/>
            <a:ext cx="3362040" cy="63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libra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* book_list[1000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r* customers[99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issue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//end of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// end 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44720" y="1814400"/>
            <a:ext cx="3412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.  What’s the dif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“Object lifetim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380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6th Jan - 2:00-5:0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 404, 405 &amp; 416 (BUSINESS SCH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web on Mo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 in NEXT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ed (by 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nd hand Amstrad 1640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tutorials (BA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eek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detail on Boo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RC cards translate to Boo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the above with our “Lecturer Booking Syste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4680" y="138240"/>
            <a:ext cx="1877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7560" y="944640"/>
            <a:ext cx="1553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81280" y="944640"/>
            <a:ext cx="1248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ch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1480" y="944640"/>
            <a:ext cx="2010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4240" y="30240"/>
            <a:ext cx="1246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use-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400" y="2271600"/>
            <a:ext cx="1249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60880" y="2163600"/>
            <a:ext cx="1073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spo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04960" y="2697120"/>
            <a:ext cx="1857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class l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72920" y="3382920"/>
            <a:ext cx="172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CR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81280" y="361152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CRC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81280" y="4068720"/>
            <a:ext cx="170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class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17400" y="2271600"/>
            <a:ext cx="1998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/function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040" y="4633920"/>
            <a:ext cx="1080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17400" y="4633920"/>
            <a:ext cx="2040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d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structur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04080" y="6049800"/>
            <a:ext cx="135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00440" y="6278400"/>
            <a:ext cx="63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3480" y="5821200"/>
            <a:ext cx="219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JSP dia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87840" y="4678200"/>
            <a:ext cx="2446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Booch dia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04960" y="4983120"/>
            <a:ext cx="1857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Boo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7360" y="82440"/>
            <a:ext cx="85978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7360" y="2216160"/>
            <a:ext cx="859788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360" y="4578480"/>
            <a:ext cx="8597880" cy="212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1522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152280"/>
            <a:ext cx="198144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152280"/>
            <a:ext cx="403884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1600200"/>
            <a:ext cx="198144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523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105160" y="1600200"/>
            <a:ext cx="205740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3352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7240" y="6049800"/>
            <a:ext cx="1400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4343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5638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6477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18120" y="138240"/>
            <a:ext cx="199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to bu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+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1760" y="2471760"/>
            <a:ext cx="4751640" cy="2813040"/>
          </a:xfrm>
          <a:custGeom>
            <a:avLst/>
            <a:gdLst/>
            <a:ahLst/>
            <a:rect l="l" t="t" r="r" b="b"/>
            <a:pathLst>
              <a:path w="2993" h="1772">
                <a:moveTo>
                  <a:pt x="1253" y="315"/>
                </a:moveTo>
                <a:lnTo>
                  <a:pt x="1274" y="288"/>
                </a:lnTo>
                <a:lnTo>
                  <a:pt x="1296" y="224"/>
                </a:lnTo>
                <a:lnTo>
                  <a:pt x="1312" y="150"/>
                </a:lnTo>
                <a:lnTo>
                  <a:pt x="1333" y="86"/>
                </a:lnTo>
                <a:lnTo>
                  <a:pt x="1349" y="64"/>
                </a:lnTo>
                <a:lnTo>
                  <a:pt x="1370" y="48"/>
                </a:lnTo>
                <a:lnTo>
                  <a:pt x="1392" y="32"/>
                </a:lnTo>
                <a:lnTo>
                  <a:pt x="1413" y="16"/>
                </a:lnTo>
                <a:lnTo>
                  <a:pt x="1434" y="11"/>
                </a:lnTo>
                <a:lnTo>
                  <a:pt x="1456" y="6"/>
                </a:lnTo>
                <a:lnTo>
                  <a:pt x="1477" y="0"/>
                </a:lnTo>
                <a:lnTo>
                  <a:pt x="1498" y="0"/>
                </a:lnTo>
                <a:lnTo>
                  <a:pt x="1520" y="0"/>
                </a:lnTo>
                <a:lnTo>
                  <a:pt x="1536" y="6"/>
                </a:lnTo>
                <a:lnTo>
                  <a:pt x="1557" y="6"/>
                </a:lnTo>
                <a:lnTo>
                  <a:pt x="1573" y="11"/>
                </a:lnTo>
                <a:lnTo>
                  <a:pt x="1589" y="16"/>
                </a:lnTo>
                <a:lnTo>
                  <a:pt x="1605" y="16"/>
                </a:lnTo>
                <a:lnTo>
                  <a:pt x="1621" y="22"/>
                </a:lnTo>
                <a:lnTo>
                  <a:pt x="1642" y="32"/>
                </a:lnTo>
                <a:lnTo>
                  <a:pt x="1658" y="38"/>
                </a:lnTo>
                <a:lnTo>
                  <a:pt x="1680" y="48"/>
                </a:lnTo>
                <a:lnTo>
                  <a:pt x="1712" y="64"/>
                </a:lnTo>
                <a:lnTo>
                  <a:pt x="1733" y="80"/>
                </a:lnTo>
                <a:lnTo>
                  <a:pt x="1754" y="86"/>
                </a:lnTo>
                <a:lnTo>
                  <a:pt x="1776" y="96"/>
                </a:lnTo>
                <a:lnTo>
                  <a:pt x="1797" y="107"/>
                </a:lnTo>
                <a:lnTo>
                  <a:pt x="1818" y="128"/>
                </a:lnTo>
                <a:lnTo>
                  <a:pt x="1824" y="144"/>
                </a:lnTo>
                <a:lnTo>
                  <a:pt x="1834" y="160"/>
                </a:lnTo>
                <a:lnTo>
                  <a:pt x="1850" y="182"/>
                </a:lnTo>
                <a:lnTo>
                  <a:pt x="1866" y="187"/>
                </a:lnTo>
                <a:lnTo>
                  <a:pt x="1877" y="203"/>
                </a:lnTo>
                <a:lnTo>
                  <a:pt x="1893" y="256"/>
                </a:lnTo>
                <a:lnTo>
                  <a:pt x="1904" y="272"/>
                </a:lnTo>
                <a:lnTo>
                  <a:pt x="1920" y="283"/>
                </a:lnTo>
                <a:lnTo>
                  <a:pt x="1941" y="299"/>
                </a:lnTo>
                <a:lnTo>
                  <a:pt x="1957" y="320"/>
                </a:lnTo>
                <a:lnTo>
                  <a:pt x="1978" y="331"/>
                </a:lnTo>
                <a:lnTo>
                  <a:pt x="2000" y="342"/>
                </a:lnTo>
                <a:lnTo>
                  <a:pt x="2021" y="352"/>
                </a:lnTo>
                <a:lnTo>
                  <a:pt x="2037" y="363"/>
                </a:lnTo>
                <a:lnTo>
                  <a:pt x="2058" y="368"/>
                </a:lnTo>
                <a:lnTo>
                  <a:pt x="2074" y="374"/>
                </a:lnTo>
                <a:lnTo>
                  <a:pt x="2090" y="374"/>
                </a:lnTo>
                <a:lnTo>
                  <a:pt x="2154" y="374"/>
                </a:lnTo>
                <a:lnTo>
                  <a:pt x="2170" y="368"/>
                </a:lnTo>
                <a:lnTo>
                  <a:pt x="2192" y="363"/>
                </a:lnTo>
                <a:lnTo>
                  <a:pt x="2208" y="363"/>
                </a:lnTo>
                <a:lnTo>
                  <a:pt x="2272" y="363"/>
                </a:lnTo>
                <a:lnTo>
                  <a:pt x="2293" y="358"/>
                </a:lnTo>
                <a:lnTo>
                  <a:pt x="2357" y="347"/>
                </a:lnTo>
                <a:lnTo>
                  <a:pt x="2410" y="342"/>
                </a:lnTo>
                <a:lnTo>
                  <a:pt x="2432" y="342"/>
                </a:lnTo>
                <a:lnTo>
                  <a:pt x="2453" y="336"/>
                </a:lnTo>
                <a:lnTo>
                  <a:pt x="2517" y="326"/>
                </a:lnTo>
                <a:lnTo>
                  <a:pt x="2581" y="320"/>
                </a:lnTo>
                <a:lnTo>
                  <a:pt x="2645" y="315"/>
                </a:lnTo>
                <a:lnTo>
                  <a:pt x="2661" y="310"/>
                </a:lnTo>
                <a:lnTo>
                  <a:pt x="2677" y="304"/>
                </a:lnTo>
                <a:lnTo>
                  <a:pt x="2693" y="304"/>
                </a:lnTo>
                <a:lnTo>
                  <a:pt x="2746" y="304"/>
                </a:lnTo>
                <a:lnTo>
                  <a:pt x="2821" y="310"/>
                </a:lnTo>
                <a:lnTo>
                  <a:pt x="2842" y="326"/>
                </a:lnTo>
                <a:lnTo>
                  <a:pt x="2853" y="342"/>
                </a:lnTo>
                <a:lnTo>
                  <a:pt x="2864" y="358"/>
                </a:lnTo>
                <a:lnTo>
                  <a:pt x="2864" y="374"/>
                </a:lnTo>
                <a:lnTo>
                  <a:pt x="2869" y="395"/>
                </a:lnTo>
                <a:lnTo>
                  <a:pt x="2874" y="448"/>
                </a:lnTo>
                <a:lnTo>
                  <a:pt x="2880" y="470"/>
                </a:lnTo>
                <a:lnTo>
                  <a:pt x="2890" y="486"/>
                </a:lnTo>
                <a:lnTo>
                  <a:pt x="2906" y="539"/>
                </a:lnTo>
                <a:lnTo>
                  <a:pt x="2970" y="603"/>
                </a:lnTo>
                <a:lnTo>
                  <a:pt x="2992" y="667"/>
                </a:lnTo>
                <a:lnTo>
                  <a:pt x="2986" y="694"/>
                </a:lnTo>
                <a:lnTo>
                  <a:pt x="2986" y="710"/>
                </a:lnTo>
                <a:lnTo>
                  <a:pt x="2960" y="736"/>
                </a:lnTo>
                <a:lnTo>
                  <a:pt x="2949" y="752"/>
                </a:lnTo>
                <a:lnTo>
                  <a:pt x="2949" y="768"/>
                </a:lnTo>
                <a:lnTo>
                  <a:pt x="2949" y="822"/>
                </a:lnTo>
                <a:lnTo>
                  <a:pt x="2965" y="843"/>
                </a:lnTo>
                <a:lnTo>
                  <a:pt x="2965" y="859"/>
                </a:lnTo>
                <a:lnTo>
                  <a:pt x="2944" y="891"/>
                </a:lnTo>
                <a:lnTo>
                  <a:pt x="2922" y="955"/>
                </a:lnTo>
                <a:lnTo>
                  <a:pt x="2912" y="976"/>
                </a:lnTo>
                <a:lnTo>
                  <a:pt x="2896" y="998"/>
                </a:lnTo>
                <a:lnTo>
                  <a:pt x="2874" y="1062"/>
                </a:lnTo>
                <a:lnTo>
                  <a:pt x="2858" y="1126"/>
                </a:lnTo>
                <a:lnTo>
                  <a:pt x="2853" y="1179"/>
                </a:lnTo>
                <a:lnTo>
                  <a:pt x="2858" y="1195"/>
                </a:lnTo>
                <a:lnTo>
                  <a:pt x="2853" y="1211"/>
                </a:lnTo>
                <a:lnTo>
                  <a:pt x="2848" y="1227"/>
                </a:lnTo>
                <a:lnTo>
                  <a:pt x="2842" y="1248"/>
                </a:lnTo>
                <a:lnTo>
                  <a:pt x="2842" y="1264"/>
                </a:lnTo>
                <a:lnTo>
                  <a:pt x="2826" y="1296"/>
                </a:lnTo>
                <a:lnTo>
                  <a:pt x="2816" y="1350"/>
                </a:lnTo>
                <a:lnTo>
                  <a:pt x="2816" y="1403"/>
                </a:lnTo>
                <a:lnTo>
                  <a:pt x="2816" y="1424"/>
                </a:lnTo>
                <a:lnTo>
                  <a:pt x="2816" y="1446"/>
                </a:lnTo>
                <a:lnTo>
                  <a:pt x="2826" y="1510"/>
                </a:lnTo>
                <a:lnTo>
                  <a:pt x="2826" y="1536"/>
                </a:lnTo>
                <a:lnTo>
                  <a:pt x="2821" y="1558"/>
                </a:lnTo>
                <a:lnTo>
                  <a:pt x="2810" y="1579"/>
                </a:lnTo>
                <a:lnTo>
                  <a:pt x="2789" y="1643"/>
                </a:lnTo>
                <a:lnTo>
                  <a:pt x="2736" y="1696"/>
                </a:lnTo>
                <a:lnTo>
                  <a:pt x="2714" y="1707"/>
                </a:lnTo>
                <a:lnTo>
                  <a:pt x="2693" y="1718"/>
                </a:lnTo>
                <a:lnTo>
                  <a:pt x="2618" y="1728"/>
                </a:lnTo>
                <a:lnTo>
                  <a:pt x="2554" y="1744"/>
                </a:lnTo>
                <a:lnTo>
                  <a:pt x="2480" y="1755"/>
                </a:lnTo>
                <a:lnTo>
                  <a:pt x="2458" y="1760"/>
                </a:lnTo>
                <a:lnTo>
                  <a:pt x="2405" y="1771"/>
                </a:lnTo>
                <a:lnTo>
                  <a:pt x="2378" y="1766"/>
                </a:lnTo>
                <a:lnTo>
                  <a:pt x="2314" y="1750"/>
                </a:lnTo>
                <a:lnTo>
                  <a:pt x="2240" y="1734"/>
                </a:lnTo>
                <a:lnTo>
                  <a:pt x="2186" y="1712"/>
                </a:lnTo>
                <a:lnTo>
                  <a:pt x="2122" y="1696"/>
                </a:lnTo>
                <a:lnTo>
                  <a:pt x="2090" y="1691"/>
                </a:lnTo>
                <a:lnTo>
                  <a:pt x="2005" y="1702"/>
                </a:lnTo>
                <a:lnTo>
                  <a:pt x="1952" y="1707"/>
                </a:lnTo>
                <a:lnTo>
                  <a:pt x="1936" y="1718"/>
                </a:lnTo>
                <a:lnTo>
                  <a:pt x="1904" y="1739"/>
                </a:lnTo>
                <a:lnTo>
                  <a:pt x="1877" y="1739"/>
                </a:lnTo>
                <a:lnTo>
                  <a:pt x="1813" y="1718"/>
                </a:lnTo>
                <a:lnTo>
                  <a:pt x="1728" y="1654"/>
                </a:lnTo>
                <a:lnTo>
                  <a:pt x="1664" y="1643"/>
                </a:lnTo>
                <a:lnTo>
                  <a:pt x="1642" y="1638"/>
                </a:lnTo>
                <a:lnTo>
                  <a:pt x="1568" y="1632"/>
                </a:lnTo>
                <a:lnTo>
                  <a:pt x="1514" y="1632"/>
                </a:lnTo>
                <a:lnTo>
                  <a:pt x="1498" y="1632"/>
                </a:lnTo>
                <a:lnTo>
                  <a:pt x="1477" y="1648"/>
                </a:lnTo>
                <a:lnTo>
                  <a:pt x="1456" y="1664"/>
                </a:lnTo>
                <a:lnTo>
                  <a:pt x="1402" y="1675"/>
                </a:lnTo>
                <a:lnTo>
                  <a:pt x="1328" y="1686"/>
                </a:lnTo>
                <a:lnTo>
                  <a:pt x="1232" y="1680"/>
                </a:lnTo>
                <a:lnTo>
                  <a:pt x="1125" y="1664"/>
                </a:lnTo>
                <a:lnTo>
                  <a:pt x="1018" y="1654"/>
                </a:lnTo>
                <a:lnTo>
                  <a:pt x="997" y="1654"/>
                </a:lnTo>
                <a:lnTo>
                  <a:pt x="981" y="1654"/>
                </a:lnTo>
                <a:lnTo>
                  <a:pt x="928" y="1654"/>
                </a:lnTo>
                <a:lnTo>
                  <a:pt x="906" y="1654"/>
                </a:lnTo>
                <a:lnTo>
                  <a:pt x="810" y="1654"/>
                </a:lnTo>
                <a:lnTo>
                  <a:pt x="746" y="1654"/>
                </a:lnTo>
                <a:lnTo>
                  <a:pt x="730" y="1654"/>
                </a:lnTo>
                <a:lnTo>
                  <a:pt x="709" y="1664"/>
                </a:lnTo>
                <a:lnTo>
                  <a:pt x="634" y="1664"/>
                </a:lnTo>
                <a:lnTo>
                  <a:pt x="517" y="1664"/>
                </a:lnTo>
                <a:lnTo>
                  <a:pt x="496" y="1659"/>
                </a:lnTo>
                <a:lnTo>
                  <a:pt x="474" y="1606"/>
                </a:lnTo>
                <a:lnTo>
                  <a:pt x="480" y="1520"/>
                </a:lnTo>
                <a:lnTo>
                  <a:pt x="496" y="1467"/>
                </a:lnTo>
                <a:lnTo>
                  <a:pt x="501" y="1446"/>
                </a:lnTo>
                <a:lnTo>
                  <a:pt x="517" y="1424"/>
                </a:lnTo>
                <a:lnTo>
                  <a:pt x="528" y="1408"/>
                </a:lnTo>
                <a:lnTo>
                  <a:pt x="528" y="1387"/>
                </a:lnTo>
                <a:lnTo>
                  <a:pt x="512" y="1334"/>
                </a:lnTo>
                <a:lnTo>
                  <a:pt x="426" y="1280"/>
                </a:lnTo>
                <a:lnTo>
                  <a:pt x="362" y="1264"/>
                </a:lnTo>
                <a:lnTo>
                  <a:pt x="362" y="1243"/>
                </a:lnTo>
                <a:lnTo>
                  <a:pt x="378" y="1168"/>
                </a:lnTo>
                <a:lnTo>
                  <a:pt x="368" y="1147"/>
                </a:lnTo>
                <a:lnTo>
                  <a:pt x="352" y="1136"/>
                </a:lnTo>
                <a:lnTo>
                  <a:pt x="346" y="1120"/>
                </a:lnTo>
                <a:lnTo>
                  <a:pt x="341" y="1046"/>
                </a:lnTo>
                <a:lnTo>
                  <a:pt x="320" y="992"/>
                </a:lnTo>
                <a:lnTo>
                  <a:pt x="138" y="896"/>
                </a:lnTo>
                <a:lnTo>
                  <a:pt x="64" y="886"/>
                </a:lnTo>
                <a:lnTo>
                  <a:pt x="80" y="880"/>
                </a:lnTo>
                <a:lnTo>
                  <a:pt x="96" y="870"/>
                </a:lnTo>
                <a:lnTo>
                  <a:pt x="112" y="854"/>
                </a:lnTo>
                <a:lnTo>
                  <a:pt x="128" y="832"/>
                </a:lnTo>
                <a:lnTo>
                  <a:pt x="149" y="816"/>
                </a:lnTo>
                <a:lnTo>
                  <a:pt x="165" y="806"/>
                </a:lnTo>
                <a:lnTo>
                  <a:pt x="181" y="774"/>
                </a:lnTo>
                <a:lnTo>
                  <a:pt x="85" y="688"/>
                </a:lnTo>
                <a:lnTo>
                  <a:pt x="0" y="667"/>
                </a:lnTo>
                <a:lnTo>
                  <a:pt x="5" y="651"/>
                </a:lnTo>
                <a:lnTo>
                  <a:pt x="26" y="635"/>
                </a:lnTo>
                <a:lnTo>
                  <a:pt x="80" y="614"/>
                </a:lnTo>
                <a:lnTo>
                  <a:pt x="133" y="592"/>
                </a:lnTo>
                <a:lnTo>
                  <a:pt x="186" y="571"/>
                </a:lnTo>
                <a:lnTo>
                  <a:pt x="202" y="566"/>
                </a:lnTo>
                <a:lnTo>
                  <a:pt x="224" y="560"/>
                </a:lnTo>
                <a:lnTo>
                  <a:pt x="245" y="555"/>
                </a:lnTo>
                <a:lnTo>
                  <a:pt x="261" y="544"/>
                </a:lnTo>
                <a:lnTo>
                  <a:pt x="272" y="518"/>
                </a:lnTo>
                <a:lnTo>
                  <a:pt x="277" y="502"/>
                </a:lnTo>
                <a:lnTo>
                  <a:pt x="282" y="448"/>
                </a:lnTo>
                <a:lnTo>
                  <a:pt x="288" y="395"/>
                </a:lnTo>
                <a:lnTo>
                  <a:pt x="304" y="331"/>
                </a:lnTo>
                <a:lnTo>
                  <a:pt x="330" y="304"/>
                </a:lnTo>
                <a:lnTo>
                  <a:pt x="346" y="288"/>
                </a:lnTo>
                <a:lnTo>
                  <a:pt x="362" y="278"/>
                </a:lnTo>
                <a:lnTo>
                  <a:pt x="378" y="278"/>
                </a:lnTo>
                <a:lnTo>
                  <a:pt x="394" y="283"/>
                </a:lnTo>
                <a:lnTo>
                  <a:pt x="410" y="283"/>
                </a:lnTo>
                <a:lnTo>
                  <a:pt x="432" y="278"/>
                </a:lnTo>
                <a:lnTo>
                  <a:pt x="485" y="267"/>
                </a:lnTo>
                <a:lnTo>
                  <a:pt x="538" y="256"/>
                </a:lnTo>
                <a:lnTo>
                  <a:pt x="613" y="246"/>
                </a:lnTo>
                <a:lnTo>
                  <a:pt x="666" y="240"/>
                </a:lnTo>
                <a:lnTo>
                  <a:pt x="688" y="246"/>
                </a:lnTo>
                <a:lnTo>
                  <a:pt x="709" y="251"/>
                </a:lnTo>
                <a:lnTo>
                  <a:pt x="725" y="267"/>
                </a:lnTo>
                <a:lnTo>
                  <a:pt x="746" y="331"/>
                </a:lnTo>
                <a:lnTo>
                  <a:pt x="762" y="384"/>
                </a:lnTo>
                <a:lnTo>
                  <a:pt x="784" y="368"/>
                </a:lnTo>
                <a:lnTo>
                  <a:pt x="800" y="368"/>
                </a:lnTo>
                <a:lnTo>
                  <a:pt x="826" y="363"/>
                </a:lnTo>
                <a:lnTo>
                  <a:pt x="880" y="347"/>
                </a:lnTo>
                <a:lnTo>
                  <a:pt x="933" y="283"/>
                </a:lnTo>
                <a:lnTo>
                  <a:pt x="954" y="272"/>
                </a:lnTo>
                <a:lnTo>
                  <a:pt x="970" y="262"/>
                </a:lnTo>
                <a:lnTo>
                  <a:pt x="992" y="251"/>
                </a:lnTo>
                <a:lnTo>
                  <a:pt x="1024" y="230"/>
                </a:lnTo>
                <a:lnTo>
                  <a:pt x="1040" y="224"/>
                </a:lnTo>
                <a:lnTo>
                  <a:pt x="1061" y="224"/>
                </a:lnTo>
                <a:lnTo>
                  <a:pt x="1077" y="224"/>
                </a:lnTo>
                <a:lnTo>
                  <a:pt x="1104" y="240"/>
                </a:lnTo>
                <a:lnTo>
                  <a:pt x="1125" y="251"/>
                </a:lnTo>
                <a:lnTo>
                  <a:pt x="1141" y="262"/>
                </a:lnTo>
                <a:lnTo>
                  <a:pt x="1157" y="267"/>
                </a:lnTo>
                <a:lnTo>
                  <a:pt x="1178" y="272"/>
                </a:lnTo>
                <a:lnTo>
                  <a:pt x="1200" y="283"/>
                </a:lnTo>
                <a:lnTo>
                  <a:pt x="1226" y="294"/>
                </a:lnTo>
                <a:lnTo>
                  <a:pt x="1242" y="299"/>
                </a:lnTo>
                <a:lnTo>
                  <a:pt x="1253" y="315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14600" y="3062160"/>
            <a:ext cx="2101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Class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89480" y="3567240"/>
            <a:ext cx="1403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01760" y="2471760"/>
            <a:ext cx="4751640" cy="2813040"/>
          </a:xfrm>
          <a:custGeom>
            <a:avLst/>
            <a:gdLst/>
            <a:ahLst/>
            <a:rect l="l" t="t" r="r" b="b"/>
            <a:pathLst>
              <a:path w="2993" h="1772">
                <a:moveTo>
                  <a:pt x="1253" y="315"/>
                </a:moveTo>
                <a:lnTo>
                  <a:pt x="1274" y="288"/>
                </a:lnTo>
                <a:lnTo>
                  <a:pt x="1296" y="224"/>
                </a:lnTo>
                <a:lnTo>
                  <a:pt x="1312" y="150"/>
                </a:lnTo>
                <a:lnTo>
                  <a:pt x="1333" y="86"/>
                </a:lnTo>
                <a:lnTo>
                  <a:pt x="1349" y="64"/>
                </a:lnTo>
                <a:lnTo>
                  <a:pt x="1370" y="48"/>
                </a:lnTo>
                <a:lnTo>
                  <a:pt x="1392" y="32"/>
                </a:lnTo>
                <a:lnTo>
                  <a:pt x="1413" y="16"/>
                </a:lnTo>
                <a:lnTo>
                  <a:pt x="1434" y="11"/>
                </a:lnTo>
                <a:lnTo>
                  <a:pt x="1456" y="6"/>
                </a:lnTo>
                <a:lnTo>
                  <a:pt x="1477" y="0"/>
                </a:lnTo>
                <a:lnTo>
                  <a:pt x="1498" y="0"/>
                </a:lnTo>
                <a:lnTo>
                  <a:pt x="1520" y="0"/>
                </a:lnTo>
                <a:lnTo>
                  <a:pt x="1536" y="6"/>
                </a:lnTo>
                <a:lnTo>
                  <a:pt x="1557" y="6"/>
                </a:lnTo>
                <a:lnTo>
                  <a:pt x="1573" y="11"/>
                </a:lnTo>
                <a:lnTo>
                  <a:pt x="1589" y="16"/>
                </a:lnTo>
                <a:lnTo>
                  <a:pt x="1605" y="16"/>
                </a:lnTo>
                <a:lnTo>
                  <a:pt x="1621" y="22"/>
                </a:lnTo>
                <a:lnTo>
                  <a:pt x="1642" y="32"/>
                </a:lnTo>
                <a:lnTo>
                  <a:pt x="1658" y="38"/>
                </a:lnTo>
                <a:lnTo>
                  <a:pt x="1680" y="48"/>
                </a:lnTo>
                <a:lnTo>
                  <a:pt x="1712" y="64"/>
                </a:lnTo>
                <a:lnTo>
                  <a:pt x="1733" y="80"/>
                </a:lnTo>
                <a:lnTo>
                  <a:pt x="1754" y="86"/>
                </a:lnTo>
                <a:lnTo>
                  <a:pt x="1776" y="96"/>
                </a:lnTo>
                <a:lnTo>
                  <a:pt x="1797" y="107"/>
                </a:lnTo>
                <a:lnTo>
                  <a:pt x="1818" y="128"/>
                </a:lnTo>
                <a:lnTo>
                  <a:pt x="1824" y="144"/>
                </a:lnTo>
                <a:lnTo>
                  <a:pt x="1834" y="160"/>
                </a:lnTo>
                <a:lnTo>
                  <a:pt x="1850" y="182"/>
                </a:lnTo>
                <a:lnTo>
                  <a:pt x="1866" y="187"/>
                </a:lnTo>
                <a:lnTo>
                  <a:pt x="1877" y="203"/>
                </a:lnTo>
                <a:lnTo>
                  <a:pt x="1893" y="256"/>
                </a:lnTo>
                <a:lnTo>
                  <a:pt x="1904" y="272"/>
                </a:lnTo>
                <a:lnTo>
                  <a:pt x="1920" y="283"/>
                </a:lnTo>
                <a:lnTo>
                  <a:pt x="1941" y="299"/>
                </a:lnTo>
                <a:lnTo>
                  <a:pt x="1957" y="320"/>
                </a:lnTo>
                <a:lnTo>
                  <a:pt x="1978" y="331"/>
                </a:lnTo>
                <a:lnTo>
                  <a:pt x="2000" y="342"/>
                </a:lnTo>
                <a:lnTo>
                  <a:pt x="2021" y="352"/>
                </a:lnTo>
                <a:lnTo>
                  <a:pt x="2037" y="363"/>
                </a:lnTo>
                <a:lnTo>
                  <a:pt x="2058" y="368"/>
                </a:lnTo>
                <a:lnTo>
                  <a:pt x="2074" y="374"/>
                </a:lnTo>
                <a:lnTo>
                  <a:pt x="2090" y="374"/>
                </a:lnTo>
                <a:lnTo>
                  <a:pt x="2154" y="374"/>
                </a:lnTo>
                <a:lnTo>
                  <a:pt x="2170" y="368"/>
                </a:lnTo>
                <a:lnTo>
                  <a:pt x="2192" y="363"/>
                </a:lnTo>
                <a:lnTo>
                  <a:pt x="2208" y="363"/>
                </a:lnTo>
                <a:lnTo>
                  <a:pt x="2272" y="363"/>
                </a:lnTo>
                <a:lnTo>
                  <a:pt x="2293" y="358"/>
                </a:lnTo>
                <a:lnTo>
                  <a:pt x="2357" y="347"/>
                </a:lnTo>
                <a:lnTo>
                  <a:pt x="2410" y="342"/>
                </a:lnTo>
                <a:lnTo>
                  <a:pt x="2432" y="342"/>
                </a:lnTo>
                <a:lnTo>
                  <a:pt x="2453" y="336"/>
                </a:lnTo>
                <a:lnTo>
                  <a:pt x="2517" y="326"/>
                </a:lnTo>
                <a:lnTo>
                  <a:pt x="2581" y="320"/>
                </a:lnTo>
                <a:lnTo>
                  <a:pt x="2645" y="315"/>
                </a:lnTo>
                <a:lnTo>
                  <a:pt x="2661" y="310"/>
                </a:lnTo>
                <a:lnTo>
                  <a:pt x="2677" y="304"/>
                </a:lnTo>
                <a:lnTo>
                  <a:pt x="2693" y="304"/>
                </a:lnTo>
                <a:lnTo>
                  <a:pt x="2746" y="304"/>
                </a:lnTo>
                <a:lnTo>
                  <a:pt x="2821" y="310"/>
                </a:lnTo>
                <a:lnTo>
                  <a:pt x="2842" y="326"/>
                </a:lnTo>
                <a:lnTo>
                  <a:pt x="2853" y="342"/>
                </a:lnTo>
                <a:lnTo>
                  <a:pt x="2864" y="358"/>
                </a:lnTo>
                <a:lnTo>
                  <a:pt x="2864" y="374"/>
                </a:lnTo>
                <a:lnTo>
                  <a:pt x="2869" y="395"/>
                </a:lnTo>
                <a:lnTo>
                  <a:pt x="2874" y="448"/>
                </a:lnTo>
                <a:lnTo>
                  <a:pt x="2880" y="470"/>
                </a:lnTo>
                <a:lnTo>
                  <a:pt x="2890" y="486"/>
                </a:lnTo>
                <a:lnTo>
                  <a:pt x="2906" y="539"/>
                </a:lnTo>
                <a:lnTo>
                  <a:pt x="2970" y="603"/>
                </a:lnTo>
                <a:lnTo>
                  <a:pt x="2992" y="667"/>
                </a:lnTo>
                <a:lnTo>
                  <a:pt x="2986" y="694"/>
                </a:lnTo>
                <a:lnTo>
                  <a:pt x="2986" y="710"/>
                </a:lnTo>
                <a:lnTo>
                  <a:pt x="2960" y="736"/>
                </a:lnTo>
                <a:lnTo>
                  <a:pt x="2949" y="752"/>
                </a:lnTo>
                <a:lnTo>
                  <a:pt x="2949" y="768"/>
                </a:lnTo>
                <a:lnTo>
                  <a:pt x="2949" y="822"/>
                </a:lnTo>
                <a:lnTo>
                  <a:pt x="2965" y="843"/>
                </a:lnTo>
                <a:lnTo>
                  <a:pt x="2965" y="859"/>
                </a:lnTo>
                <a:lnTo>
                  <a:pt x="2944" y="891"/>
                </a:lnTo>
                <a:lnTo>
                  <a:pt x="2922" y="955"/>
                </a:lnTo>
                <a:lnTo>
                  <a:pt x="2912" y="976"/>
                </a:lnTo>
                <a:lnTo>
                  <a:pt x="2896" y="998"/>
                </a:lnTo>
                <a:lnTo>
                  <a:pt x="2874" y="1062"/>
                </a:lnTo>
                <a:lnTo>
                  <a:pt x="2858" y="1126"/>
                </a:lnTo>
                <a:lnTo>
                  <a:pt x="2853" y="1179"/>
                </a:lnTo>
                <a:lnTo>
                  <a:pt x="2858" y="1195"/>
                </a:lnTo>
                <a:lnTo>
                  <a:pt x="2853" y="1211"/>
                </a:lnTo>
                <a:lnTo>
                  <a:pt x="2848" y="1227"/>
                </a:lnTo>
                <a:lnTo>
                  <a:pt x="2842" y="1248"/>
                </a:lnTo>
                <a:lnTo>
                  <a:pt x="2842" y="1264"/>
                </a:lnTo>
                <a:lnTo>
                  <a:pt x="2826" y="1296"/>
                </a:lnTo>
                <a:lnTo>
                  <a:pt x="2816" y="1350"/>
                </a:lnTo>
                <a:lnTo>
                  <a:pt x="2816" y="1403"/>
                </a:lnTo>
                <a:lnTo>
                  <a:pt x="2816" y="1424"/>
                </a:lnTo>
                <a:lnTo>
                  <a:pt x="2816" y="1446"/>
                </a:lnTo>
                <a:lnTo>
                  <a:pt x="2826" y="1510"/>
                </a:lnTo>
                <a:lnTo>
                  <a:pt x="2826" y="1536"/>
                </a:lnTo>
                <a:lnTo>
                  <a:pt x="2821" y="1558"/>
                </a:lnTo>
                <a:lnTo>
                  <a:pt x="2810" y="1579"/>
                </a:lnTo>
                <a:lnTo>
                  <a:pt x="2789" y="1643"/>
                </a:lnTo>
                <a:lnTo>
                  <a:pt x="2736" y="1696"/>
                </a:lnTo>
                <a:lnTo>
                  <a:pt x="2714" y="1707"/>
                </a:lnTo>
                <a:lnTo>
                  <a:pt x="2693" y="1718"/>
                </a:lnTo>
                <a:lnTo>
                  <a:pt x="2618" y="1728"/>
                </a:lnTo>
                <a:lnTo>
                  <a:pt x="2554" y="1744"/>
                </a:lnTo>
                <a:lnTo>
                  <a:pt x="2480" y="1755"/>
                </a:lnTo>
                <a:lnTo>
                  <a:pt x="2458" y="1760"/>
                </a:lnTo>
                <a:lnTo>
                  <a:pt x="2405" y="1771"/>
                </a:lnTo>
                <a:lnTo>
                  <a:pt x="2378" y="1766"/>
                </a:lnTo>
                <a:lnTo>
                  <a:pt x="2314" y="1750"/>
                </a:lnTo>
                <a:lnTo>
                  <a:pt x="2240" y="1734"/>
                </a:lnTo>
                <a:lnTo>
                  <a:pt x="2186" y="1712"/>
                </a:lnTo>
                <a:lnTo>
                  <a:pt x="2122" y="1696"/>
                </a:lnTo>
                <a:lnTo>
                  <a:pt x="2090" y="1691"/>
                </a:lnTo>
                <a:lnTo>
                  <a:pt x="2005" y="1702"/>
                </a:lnTo>
                <a:lnTo>
                  <a:pt x="1952" y="1707"/>
                </a:lnTo>
                <a:lnTo>
                  <a:pt x="1936" y="1718"/>
                </a:lnTo>
                <a:lnTo>
                  <a:pt x="1904" y="1739"/>
                </a:lnTo>
                <a:lnTo>
                  <a:pt x="1877" y="1739"/>
                </a:lnTo>
                <a:lnTo>
                  <a:pt x="1813" y="1718"/>
                </a:lnTo>
                <a:lnTo>
                  <a:pt x="1728" y="1654"/>
                </a:lnTo>
                <a:lnTo>
                  <a:pt x="1664" y="1643"/>
                </a:lnTo>
                <a:lnTo>
                  <a:pt x="1642" y="1638"/>
                </a:lnTo>
                <a:lnTo>
                  <a:pt x="1568" y="1632"/>
                </a:lnTo>
                <a:lnTo>
                  <a:pt x="1514" y="1632"/>
                </a:lnTo>
                <a:lnTo>
                  <a:pt x="1498" y="1632"/>
                </a:lnTo>
                <a:lnTo>
                  <a:pt x="1477" y="1648"/>
                </a:lnTo>
                <a:lnTo>
                  <a:pt x="1456" y="1664"/>
                </a:lnTo>
                <a:lnTo>
                  <a:pt x="1402" y="1675"/>
                </a:lnTo>
                <a:lnTo>
                  <a:pt x="1328" y="1686"/>
                </a:lnTo>
                <a:lnTo>
                  <a:pt x="1232" y="1680"/>
                </a:lnTo>
                <a:lnTo>
                  <a:pt x="1125" y="1664"/>
                </a:lnTo>
                <a:lnTo>
                  <a:pt x="1018" y="1654"/>
                </a:lnTo>
                <a:lnTo>
                  <a:pt x="997" y="1654"/>
                </a:lnTo>
                <a:lnTo>
                  <a:pt x="981" y="1654"/>
                </a:lnTo>
                <a:lnTo>
                  <a:pt x="928" y="1654"/>
                </a:lnTo>
                <a:lnTo>
                  <a:pt x="906" y="1654"/>
                </a:lnTo>
                <a:lnTo>
                  <a:pt x="810" y="1654"/>
                </a:lnTo>
                <a:lnTo>
                  <a:pt x="746" y="1654"/>
                </a:lnTo>
                <a:lnTo>
                  <a:pt x="730" y="1654"/>
                </a:lnTo>
                <a:lnTo>
                  <a:pt x="709" y="1664"/>
                </a:lnTo>
                <a:lnTo>
                  <a:pt x="634" y="1664"/>
                </a:lnTo>
                <a:lnTo>
                  <a:pt x="517" y="1664"/>
                </a:lnTo>
                <a:lnTo>
                  <a:pt x="496" y="1659"/>
                </a:lnTo>
                <a:lnTo>
                  <a:pt x="474" y="1606"/>
                </a:lnTo>
                <a:lnTo>
                  <a:pt x="480" y="1520"/>
                </a:lnTo>
                <a:lnTo>
                  <a:pt x="496" y="1467"/>
                </a:lnTo>
                <a:lnTo>
                  <a:pt x="501" y="1446"/>
                </a:lnTo>
                <a:lnTo>
                  <a:pt x="517" y="1424"/>
                </a:lnTo>
                <a:lnTo>
                  <a:pt x="528" y="1408"/>
                </a:lnTo>
                <a:lnTo>
                  <a:pt x="528" y="1387"/>
                </a:lnTo>
                <a:lnTo>
                  <a:pt x="512" y="1334"/>
                </a:lnTo>
                <a:lnTo>
                  <a:pt x="426" y="1280"/>
                </a:lnTo>
                <a:lnTo>
                  <a:pt x="362" y="1264"/>
                </a:lnTo>
                <a:lnTo>
                  <a:pt x="362" y="1243"/>
                </a:lnTo>
                <a:lnTo>
                  <a:pt x="378" y="1168"/>
                </a:lnTo>
                <a:lnTo>
                  <a:pt x="368" y="1147"/>
                </a:lnTo>
                <a:lnTo>
                  <a:pt x="352" y="1136"/>
                </a:lnTo>
                <a:lnTo>
                  <a:pt x="346" y="1120"/>
                </a:lnTo>
                <a:lnTo>
                  <a:pt x="341" y="1046"/>
                </a:lnTo>
                <a:lnTo>
                  <a:pt x="320" y="992"/>
                </a:lnTo>
                <a:lnTo>
                  <a:pt x="138" y="896"/>
                </a:lnTo>
                <a:lnTo>
                  <a:pt x="64" y="886"/>
                </a:lnTo>
                <a:lnTo>
                  <a:pt x="80" y="880"/>
                </a:lnTo>
                <a:lnTo>
                  <a:pt x="96" y="870"/>
                </a:lnTo>
                <a:lnTo>
                  <a:pt x="112" y="854"/>
                </a:lnTo>
                <a:lnTo>
                  <a:pt x="128" y="832"/>
                </a:lnTo>
                <a:lnTo>
                  <a:pt x="149" y="816"/>
                </a:lnTo>
                <a:lnTo>
                  <a:pt x="165" y="806"/>
                </a:lnTo>
                <a:lnTo>
                  <a:pt x="181" y="774"/>
                </a:lnTo>
                <a:lnTo>
                  <a:pt x="85" y="688"/>
                </a:lnTo>
                <a:lnTo>
                  <a:pt x="0" y="667"/>
                </a:lnTo>
                <a:lnTo>
                  <a:pt x="5" y="651"/>
                </a:lnTo>
                <a:lnTo>
                  <a:pt x="26" y="635"/>
                </a:lnTo>
                <a:lnTo>
                  <a:pt x="80" y="614"/>
                </a:lnTo>
                <a:lnTo>
                  <a:pt x="133" y="592"/>
                </a:lnTo>
                <a:lnTo>
                  <a:pt x="186" y="571"/>
                </a:lnTo>
                <a:lnTo>
                  <a:pt x="202" y="566"/>
                </a:lnTo>
                <a:lnTo>
                  <a:pt x="224" y="560"/>
                </a:lnTo>
                <a:lnTo>
                  <a:pt x="245" y="555"/>
                </a:lnTo>
                <a:lnTo>
                  <a:pt x="261" y="544"/>
                </a:lnTo>
                <a:lnTo>
                  <a:pt x="272" y="518"/>
                </a:lnTo>
                <a:lnTo>
                  <a:pt x="277" y="502"/>
                </a:lnTo>
                <a:lnTo>
                  <a:pt x="282" y="448"/>
                </a:lnTo>
                <a:lnTo>
                  <a:pt x="288" y="395"/>
                </a:lnTo>
                <a:lnTo>
                  <a:pt x="304" y="331"/>
                </a:lnTo>
                <a:lnTo>
                  <a:pt x="330" y="304"/>
                </a:lnTo>
                <a:lnTo>
                  <a:pt x="346" y="288"/>
                </a:lnTo>
                <a:lnTo>
                  <a:pt x="362" y="278"/>
                </a:lnTo>
                <a:lnTo>
                  <a:pt x="378" y="278"/>
                </a:lnTo>
                <a:lnTo>
                  <a:pt x="394" y="283"/>
                </a:lnTo>
                <a:lnTo>
                  <a:pt x="410" y="283"/>
                </a:lnTo>
                <a:lnTo>
                  <a:pt x="432" y="278"/>
                </a:lnTo>
                <a:lnTo>
                  <a:pt x="485" y="267"/>
                </a:lnTo>
                <a:lnTo>
                  <a:pt x="538" y="256"/>
                </a:lnTo>
                <a:lnTo>
                  <a:pt x="613" y="246"/>
                </a:lnTo>
                <a:lnTo>
                  <a:pt x="666" y="240"/>
                </a:lnTo>
                <a:lnTo>
                  <a:pt x="688" y="246"/>
                </a:lnTo>
                <a:lnTo>
                  <a:pt x="709" y="251"/>
                </a:lnTo>
                <a:lnTo>
                  <a:pt x="725" y="267"/>
                </a:lnTo>
                <a:lnTo>
                  <a:pt x="746" y="331"/>
                </a:lnTo>
                <a:lnTo>
                  <a:pt x="762" y="384"/>
                </a:lnTo>
                <a:lnTo>
                  <a:pt x="784" y="368"/>
                </a:lnTo>
                <a:lnTo>
                  <a:pt x="800" y="368"/>
                </a:lnTo>
                <a:lnTo>
                  <a:pt x="826" y="363"/>
                </a:lnTo>
                <a:lnTo>
                  <a:pt x="880" y="347"/>
                </a:lnTo>
                <a:lnTo>
                  <a:pt x="933" y="283"/>
                </a:lnTo>
                <a:lnTo>
                  <a:pt x="954" y="272"/>
                </a:lnTo>
                <a:lnTo>
                  <a:pt x="970" y="262"/>
                </a:lnTo>
                <a:lnTo>
                  <a:pt x="992" y="251"/>
                </a:lnTo>
                <a:lnTo>
                  <a:pt x="1024" y="230"/>
                </a:lnTo>
                <a:lnTo>
                  <a:pt x="1040" y="224"/>
                </a:lnTo>
                <a:lnTo>
                  <a:pt x="1061" y="224"/>
                </a:lnTo>
                <a:lnTo>
                  <a:pt x="1077" y="224"/>
                </a:lnTo>
                <a:lnTo>
                  <a:pt x="1104" y="240"/>
                </a:lnTo>
                <a:lnTo>
                  <a:pt x="1125" y="251"/>
                </a:lnTo>
                <a:lnTo>
                  <a:pt x="1141" y="262"/>
                </a:lnTo>
                <a:lnTo>
                  <a:pt x="1157" y="267"/>
                </a:lnTo>
                <a:lnTo>
                  <a:pt x="1178" y="272"/>
                </a:lnTo>
                <a:lnTo>
                  <a:pt x="1200" y="283"/>
                </a:lnTo>
                <a:lnTo>
                  <a:pt x="1226" y="294"/>
                </a:lnTo>
                <a:lnTo>
                  <a:pt x="1242" y="299"/>
                </a:lnTo>
                <a:lnTo>
                  <a:pt x="1253" y="315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4600" y="3062160"/>
            <a:ext cx="2101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Class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89480" y="3567240"/>
            <a:ext cx="1403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+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53240" y="45576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0800000">
            <a:off x="5797080" y="4654080"/>
            <a:ext cx="444600" cy="3682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5440" y="57769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539280" y="5873400"/>
            <a:ext cx="444600" cy="3682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5360" y="5776920"/>
            <a:ext cx="198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bstract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rt Contro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720" y="2500200"/>
            <a:ext cx="21931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 |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73360" y="2243160"/>
            <a:ext cx="4751640" cy="2813040"/>
          </a:xfrm>
          <a:custGeom>
            <a:avLst/>
            <a:gdLst/>
            <a:ahLst/>
            <a:rect l="l" t="t" r="r" b="b"/>
            <a:pathLst>
              <a:path w="2993" h="1772">
                <a:moveTo>
                  <a:pt x="1253" y="315"/>
                </a:moveTo>
                <a:lnTo>
                  <a:pt x="1274" y="288"/>
                </a:lnTo>
                <a:lnTo>
                  <a:pt x="1296" y="224"/>
                </a:lnTo>
                <a:lnTo>
                  <a:pt x="1312" y="150"/>
                </a:lnTo>
                <a:lnTo>
                  <a:pt x="1333" y="86"/>
                </a:lnTo>
                <a:lnTo>
                  <a:pt x="1349" y="64"/>
                </a:lnTo>
                <a:lnTo>
                  <a:pt x="1370" y="48"/>
                </a:lnTo>
                <a:lnTo>
                  <a:pt x="1392" y="32"/>
                </a:lnTo>
                <a:lnTo>
                  <a:pt x="1413" y="16"/>
                </a:lnTo>
                <a:lnTo>
                  <a:pt x="1434" y="11"/>
                </a:lnTo>
                <a:lnTo>
                  <a:pt x="1456" y="6"/>
                </a:lnTo>
                <a:lnTo>
                  <a:pt x="1477" y="0"/>
                </a:lnTo>
                <a:lnTo>
                  <a:pt x="1498" y="0"/>
                </a:lnTo>
                <a:lnTo>
                  <a:pt x="1520" y="0"/>
                </a:lnTo>
                <a:lnTo>
                  <a:pt x="1536" y="6"/>
                </a:lnTo>
                <a:lnTo>
                  <a:pt x="1557" y="6"/>
                </a:lnTo>
                <a:lnTo>
                  <a:pt x="1573" y="11"/>
                </a:lnTo>
                <a:lnTo>
                  <a:pt x="1589" y="16"/>
                </a:lnTo>
                <a:lnTo>
                  <a:pt x="1605" y="16"/>
                </a:lnTo>
                <a:lnTo>
                  <a:pt x="1621" y="22"/>
                </a:lnTo>
                <a:lnTo>
                  <a:pt x="1642" y="32"/>
                </a:lnTo>
                <a:lnTo>
                  <a:pt x="1658" y="38"/>
                </a:lnTo>
                <a:lnTo>
                  <a:pt x="1680" y="48"/>
                </a:lnTo>
                <a:lnTo>
                  <a:pt x="1712" y="64"/>
                </a:lnTo>
                <a:lnTo>
                  <a:pt x="1733" y="80"/>
                </a:lnTo>
                <a:lnTo>
                  <a:pt x="1754" y="86"/>
                </a:lnTo>
                <a:lnTo>
                  <a:pt x="1776" y="96"/>
                </a:lnTo>
                <a:lnTo>
                  <a:pt x="1797" y="107"/>
                </a:lnTo>
                <a:lnTo>
                  <a:pt x="1818" y="128"/>
                </a:lnTo>
                <a:lnTo>
                  <a:pt x="1824" y="144"/>
                </a:lnTo>
                <a:lnTo>
                  <a:pt x="1834" y="160"/>
                </a:lnTo>
                <a:lnTo>
                  <a:pt x="1850" y="182"/>
                </a:lnTo>
                <a:lnTo>
                  <a:pt x="1866" y="187"/>
                </a:lnTo>
                <a:lnTo>
                  <a:pt x="1877" y="203"/>
                </a:lnTo>
                <a:lnTo>
                  <a:pt x="1893" y="256"/>
                </a:lnTo>
                <a:lnTo>
                  <a:pt x="1904" y="272"/>
                </a:lnTo>
                <a:lnTo>
                  <a:pt x="1920" y="283"/>
                </a:lnTo>
                <a:lnTo>
                  <a:pt x="1941" y="299"/>
                </a:lnTo>
                <a:lnTo>
                  <a:pt x="1957" y="320"/>
                </a:lnTo>
                <a:lnTo>
                  <a:pt x="1978" y="331"/>
                </a:lnTo>
                <a:lnTo>
                  <a:pt x="2000" y="342"/>
                </a:lnTo>
                <a:lnTo>
                  <a:pt x="2021" y="352"/>
                </a:lnTo>
                <a:lnTo>
                  <a:pt x="2037" y="363"/>
                </a:lnTo>
                <a:lnTo>
                  <a:pt x="2058" y="368"/>
                </a:lnTo>
                <a:lnTo>
                  <a:pt x="2074" y="374"/>
                </a:lnTo>
                <a:lnTo>
                  <a:pt x="2090" y="374"/>
                </a:lnTo>
                <a:lnTo>
                  <a:pt x="2154" y="374"/>
                </a:lnTo>
                <a:lnTo>
                  <a:pt x="2170" y="368"/>
                </a:lnTo>
                <a:lnTo>
                  <a:pt x="2192" y="363"/>
                </a:lnTo>
                <a:lnTo>
                  <a:pt x="2208" y="363"/>
                </a:lnTo>
                <a:lnTo>
                  <a:pt x="2272" y="363"/>
                </a:lnTo>
                <a:lnTo>
                  <a:pt x="2293" y="358"/>
                </a:lnTo>
                <a:lnTo>
                  <a:pt x="2357" y="347"/>
                </a:lnTo>
                <a:lnTo>
                  <a:pt x="2410" y="342"/>
                </a:lnTo>
                <a:lnTo>
                  <a:pt x="2432" y="342"/>
                </a:lnTo>
                <a:lnTo>
                  <a:pt x="2453" y="336"/>
                </a:lnTo>
                <a:lnTo>
                  <a:pt x="2517" y="326"/>
                </a:lnTo>
                <a:lnTo>
                  <a:pt x="2581" y="320"/>
                </a:lnTo>
                <a:lnTo>
                  <a:pt x="2645" y="315"/>
                </a:lnTo>
                <a:lnTo>
                  <a:pt x="2661" y="310"/>
                </a:lnTo>
                <a:lnTo>
                  <a:pt x="2677" y="304"/>
                </a:lnTo>
                <a:lnTo>
                  <a:pt x="2693" y="304"/>
                </a:lnTo>
                <a:lnTo>
                  <a:pt x="2746" y="304"/>
                </a:lnTo>
                <a:lnTo>
                  <a:pt x="2821" y="310"/>
                </a:lnTo>
                <a:lnTo>
                  <a:pt x="2842" y="326"/>
                </a:lnTo>
                <a:lnTo>
                  <a:pt x="2853" y="342"/>
                </a:lnTo>
                <a:lnTo>
                  <a:pt x="2864" y="358"/>
                </a:lnTo>
                <a:lnTo>
                  <a:pt x="2864" y="374"/>
                </a:lnTo>
                <a:lnTo>
                  <a:pt x="2869" y="395"/>
                </a:lnTo>
                <a:lnTo>
                  <a:pt x="2874" y="448"/>
                </a:lnTo>
                <a:lnTo>
                  <a:pt x="2880" y="470"/>
                </a:lnTo>
                <a:lnTo>
                  <a:pt x="2890" y="486"/>
                </a:lnTo>
                <a:lnTo>
                  <a:pt x="2906" y="539"/>
                </a:lnTo>
                <a:lnTo>
                  <a:pt x="2970" y="603"/>
                </a:lnTo>
                <a:lnTo>
                  <a:pt x="2992" y="667"/>
                </a:lnTo>
                <a:lnTo>
                  <a:pt x="2986" y="694"/>
                </a:lnTo>
                <a:lnTo>
                  <a:pt x="2986" y="710"/>
                </a:lnTo>
                <a:lnTo>
                  <a:pt x="2960" y="736"/>
                </a:lnTo>
                <a:lnTo>
                  <a:pt x="2949" y="752"/>
                </a:lnTo>
                <a:lnTo>
                  <a:pt x="2949" y="768"/>
                </a:lnTo>
                <a:lnTo>
                  <a:pt x="2949" y="822"/>
                </a:lnTo>
                <a:lnTo>
                  <a:pt x="2965" y="843"/>
                </a:lnTo>
                <a:lnTo>
                  <a:pt x="2965" y="859"/>
                </a:lnTo>
                <a:lnTo>
                  <a:pt x="2944" y="891"/>
                </a:lnTo>
                <a:lnTo>
                  <a:pt x="2922" y="955"/>
                </a:lnTo>
                <a:lnTo>
                  <a:pt x="2912" y="976"/>
                </a:lnTo>
                <a:lnTo>
                  <a:pt x="2896" y="998"/>
                </a:lnTo>
                <a:lnTo>
                  <a:pt x="2874" y="1062"/>
                </a:lnTo>
                <a:lnTo>
                  <a:pt x="2858" y="1126"/>
                </a:lnTo>
                <a:lnTo>
                  <a:pt x="2853" y="1179"/>
                </a:lnTo>
                <a:lnTo>
                  <a:pt x="2858" y="1195"/>
                </a:lnTo>
                <a:lnTo>
                  <a:pt x="2853" y="1211"/>
                </a:lnTo>
                <a:lnTo>
                  <a:pt x="2848" y="1227"/>
                </a:lnTo>
                <a:lnTo>
                  <a:pt x="2842" y="1248"/>
                </a:lnTo>
                <a:lnTo>
                  <a:pt x="2842" y="1264"/>
                </a:lnTo>
                <a:lnTo>
                  <a:pt x="2826" y="1296"/>
                </a:lnTo>
                <a:lnTo>
                  <a:pt x="2816" y="1350"/>
                </a:lnTo>
                <a:lnTo>
                  <a:pt x="2816" y="1403"/>
                </a:lnTo>
                <a:lnTo>
                  <a:pt x="2816" y="1424"/>
                </a:lnTo>
                <a:lnTo>
                  <a:pt x="2816" y="1446"/>
                </a:lnTo>
                <a:lnTo>
                  <a:pt x="2826" y="1510"/>
                </a:lnTo>
                <a:lnTo>
                  <a:pt x="2826" y="1536"/>
                </a:lnTo>
                <a:lnTo>
                  <a:pt x="2821" y="1558"/>
                </a:lnTo>
                <a:lnTo>
                  <a:pt x="2810" y="1579"/>
                </a:lnTo>
                <a:lnTo>
                  <a:pt x="2789" y="1643"/>
                </a:lnTo>
                <a:lnTo>
                  <a:pt x="2736" y="1696"/>
                </a:lnTo>
                <a:lnTo>
                  <a:pt x="2714" y="1707"/>
                </a:lnTo>
                <a:lnTo>
                  <a:pt x="2693" y="1718"/>
                </a:lnTo>
                <a:lnTo>
                  <a:pt x="2618" y="1728"/>
                </a:lnTo>
                <a:lnTo>
                  <a:pt x="2554" y="1744"/>
                </a:lnTo>
                <a:lnTo>
                  <a:pt x="2480" y="1755"/>
                </a:lnTo>
                <a:lnTo>
                  <a:pt x="2458" y="1760"/>
                </a:lnTo>
                <a:lnTo>
                  <a:pt x="2405" y="1771"/>
                </a:lnTo>
                <a:lnTo>
                  <a:pt x="2378" y="1766"/>
                </a:lnTo>
                <a:lnTo>
                  <a:pt x="2314" y="1750"/>
                </a:lnTo>
                <a:lnTo>
                  <a:pt x="2240" y="1734"/>
                </a:lnTo>
                <a:lnTo>
                  <a:pt x="2186" y="1712"/>
                </a:lnTo>
                <a:lnTo>
                  <a:pt x="2122" y="1696"/>
                </a:lnTo>
                <a:lnTo>
                  <a:pt x="2090" y="1691"/>
                </a:lnTo>
                <a:lnTo>
                  <a:pt x="2005" y="1702"/>
                </a:lnTo>
                <a:lnTo>
                  <a:pt x="1952" y="1707"/>
                </a:lnTo>
                <a:lnTo>
                  <a:pt x="1936" y="1718"/>
                </a:lnTo>
                <a:lnTo>
                  <a:pt x="1904" y="1739"/>
                </a:lnTo>
                <a:lnTo>
                  <a:pt x="1877" y="1739"/>
                </a:lnTo>
                <a:lnTo>
                  <a:pt x="1813" y="1718"/>
                </a:lnTo>
                <a:lnTo>
                  <a:pt x="1728" y="1654"/>
                </a:lnTo>
                <a:lnTo>
                  <a:pt x="1664" y="1643"/>
                </a:lnTo>
                <a:lnTo>
                  <a:pt x="1642" y="1638"/>
                </a:lnTo>
                <a:lnTo>
                  <a:pt x="1568" y="1632"/>
                </a:lnTo>
                <a:lnTo>
                  <a:pt x="1514" y="1632"/>
                </a:lnTo>
                <a:lnTo>
                  <a:pt x="1498" y="1632"/>
                </a:lnTo>
                <a:lnTo>
                  <a:pt x="1477" y="1648"/>
                </a:lnTo>
                <a:lnTo>
                  <a:pt x="1456" y="1664"/>
                </a:lnTo>
                <a:lnTo>
                  <a:pt x="1402" y="1675"/>
                </a:lnTo>
                <a:lnTo>
                  <a:pt x="1328" y="1686"/>
                </a:lnTo>
                <a:lnTo>
                  <a:pt x="1232" y="1680"/>
                </a:lnTo>
                <a:lnTo>
                  <a:pt x="1125" y="1664"/>
                </a:lnTo>
                <a:lnTo>
                  <a:pt x="1018" y="1654"/>
                </a:lnTo>
                <a:lnTo>
                  <a:pt x="997" y="1654"/>
                </a:lnTo>
                <a:lnTo>
                  <a:pt x="981" y="1654"/>
                </a:lnTo>
                <a:lnTo>
                  <a:pt x="928" y="1654"/>
                </a:lnTo>
                <a:lnTo>
                  <a:pt x="906" y="1654"/>
                </a:lnTo>
                <a:lnTo>
                  <a:pt x="810" y="1654"/>
                </a:lnTo>
                <a:lnTo>
                  <a:pt x="746" y="1654"/>
                </a:lnTo>
                <a:lnTo>
                  <a:pt x="730" y="1654"/>
                </a:lnTo>
                <a:lnTo>
                  <a:pt x="709" y="1664"/>
                </a:lnTo>
                <a:lnTo>
                  <a:pt x="634" y="1664"/>
                </a:lnTo>
                <a:lnTo>
                  <a:pt x="517" y="1664"/>
                </a:lnTo>
                <a:lnTo>
                  <a:pt x="496" y="1659"/>
                </a:lnTo>
                <a:lnTo>
                  <a:pt x="474" y="1606"/>
                </a:lnTo>
                <a:lnTo>
                  <a:pt x="480" y="1520"/>
                </a:lnTo>
                <a:lnTo>
                  <a:pt x="496" y="1467"/>
                </a:lnTo>
                <a:lnTo>
                  <a:pt x="501" y="1446"/>
                </a:lnTo>
                <a:lnTo>
                  <a:pt x="517" y="1424"/>
                </a:lnTo>
                <a:lnTo>
                  <a:pt x="528" y="1408"/>
                </a:lnTo>
                <a:lnTo>
                  <a:pt x="528" y="1387"/>
                </a:lnTo>
                <a:lnTo>
                  <a:pt x="512" y="1334"/>
                </a:lnTo>
                <a:lnTo>
                  <a:pt x="426" y="1280"/>
                </a:lnTo>
                <a:lnTo>
                  <a:pt x="362" y="1264"/>
                </a:lnTo>
                <a:lnTo>
                  <a:pt x="362" y="1243"/>
                </a:lnTo>
                <a:lnTo>
                  <a:pt x="378" y="1168"/>
                </a:lnTo>
                <a:lnTo>
                  <a:pt x="368" y="1147"/>
                </a:lnTo>
                <a:lnTo>
                  <a:pt x="352" y="1136"/>
                </a:lnTo>
                <a:lnTo>
                  <a:pt x="346" y="1120"/>
                </a:lnTo>
                <a:lnTo>
                  <a:pt x="341" y="1046"/>
                </a:lnTo>
                <a:lnTo>
                  <a:pt x="320" y="992"/>
                </a:lnTo>
                <a:lnTo>
                  <a:pt x="138" y="896"/>
                </a:lnTo>
                <a:lnTo>
                  <a:pt x="64" y="886"/>
                </a:lnTo>
                <a:lnTo>
                  <a:pt x="80" y="880"/>
                </a:lnTo>
                <a:lnTo>
                  <a:pt x="96" y="870"/>
                </a:lnTo>
                <a:lnTo>
                  <a:pt x="112" y="854"/>
                </a:lnTo>
                <a:lnTo>
                  <a:pt x="128" y="832"/>
                </a:lnTo>
                <a:lnTo>
                  <a:pt x="149" y="816"/>
                </a:lnTo>
                <a:lnTo>
                  <a:pt x="165" y="806"/>
                </a:lnTo>
                <a:lnTo>
                  <a:pt x="181" y="774"/>
                </a:lnTo>
                <a:lnTo>
                  <a:pt x="85" y="688"/>
                </a:lnTo>
                <a:lnTo>
                  <a:pt x="0" y="667"/>
                </a:lnTo>
                <a:lnTo>
                  <a:pt x="5" y="651"/>
                </a:lnTo>
                <a:lnTo>
                  <a:pt x="26" y="635"/>
                </a:lnTo>
                <a:lnTo>
                  <a:pt x="80" y="614"/>
                </a:lnTo>
                <a:lnTo>
                  <a:pt x="133" y="592"/>
                </a:lnTo>
                <a:lnTo>
                  <a:pt x="186" y="571"/>
                </a:lnTo>
                <a:lnTo>
                  <a:pt x="202" y="566"/>
                </a:lnTo>
                <a:lnTo>
                  <a:pt x="224" y="560"/>
                </a:lnTo>
                <a:lnTo>
                  <a:pt x="245" y="555"/>
                </a:lnTo>
                <a:lnTo>
                  <a:pt x="261" y="544"/>
                </a:lnTo>
                <a:lnTo>
                  <a:pt x="272" y="518"/>
                </a:lnTo>
                <a:lnTo>
                  <a:pt x="277" y="502"/>
                </a:lnTo>
                <a:lnTo>
                  <a:pt x="282" y="448"/>
                </a:lnTo>
                <a:lnTo>
                  <a:pt x="288" y="395"/>
                </a:lnTo>
                <a:lnTo>
                  <a:pt x="304" y="331"/>
                </a:lnTo>
                <a:lnTo>
                  <a:pt x="330" y="304"/>
                </a:lnTo>
                <a:lnTo>
                  <a:pt x="346" y="288"/>
                </a:lnTo>
                <a:lnTo>
                  <a:pt x="362" y="278"/>
                </a:lnTo>
                <a:lnTo>
                  <a:pt x="378" y="278"/>
                </a:lnTo>
                <a:lnTo>
                  <a:pt x="394" y="283"/>
                </a:lnTo>
                <a:lnTo>
                  <a:pt x="410" y="283"/>
                </a:lnTo>
                <a:lnTo>
                  <a:pt x="432" y="278"/>
                </a:lnTo>
                <a:lnTo>
                  <a:pt x="485" y="267"/>
                </a:lnTo>
                <a:lnTo>
                  <a:pt x="538" y="256"/>
                </a:lnTo>
                <a:lnTo>
                  <a:pt x="613" y="246"/>
                </a:lnTo>
                <a:lnTo>
                  <a:pt x="666" y="240"/>
                </a:lnTo>
                <a:lnTo>
                  <a:pt x="688" y="246"/>
                </a:lnTo>
                <a:lnTo>
                  <a:pt x="709" y="251"/>
                </a:lnTo>
                <a:lnTo>
                  <a:pt x="725" y="267"/>
                </a:lnTo>
                <a:lnTo>
                  <a:pt x="746" y="331"/>
                </a:lnTo>
                <a:lnTo>
                  <a:pt x="762" y="384"/>
                </a:lnTo>
                <a:lnTo>
                  <a:pt x="784" y="368"/>
                </a:lnTo>
                <a:lnTo>
                  <a:pt x="800" y="368"/>
                </a:lnTo>
                <a:lnTo>
                  <a:pt x="826" y="363"/>
                </a:lnTo>
                <a:lnTo>
                  <a:pt x="880" y="347"/>
                </a:lnTo>
                <a:lnTo>
                  <a:pt x="933" y="283"/>
                </a:lnTo>
                <a:lnTo>
                  <a:pt x="954" y="272"/>
                </a:lnTo>
                <a:lnTo>
                  <a:pt x="970" y="262"/>
                </a:lnTo>
                <a:lnTo>
                  <a:pt x="992" y="251"/>
                </a:lnTo>
                <a:lnTo>
                  <a:pt x="1024" y="230"/>
                </a:lnTo>
                <a:lnTo>
                  <a:pt x="1040" y="224"/>
                </a:lnTo>
                <a:lnTo>
                  <a:pt x="1061" y="224"/>
                </a:lnTo>
                <a:lnTo>
                  <a:pt x="1077" y="224"/>
                </a:lnTo>
                <a:lnTo>
                  <a:pt x="1104" y="240"/>
                </a:lnTo>
                <a:lnTo>
                  <a:pt x="1125" y="251"/>
                </a:lnTo>
                <a:lnTo>
                  <a:pt x="1141" y="262"/>
                </a:lnTo>
                <a:lnTo>
                  <a:pt x="1157" y="267"/>
                </a:lnTo>
                <a:lnTo>
                  <a:pt x="1178" y="272"/>
                </a:lnTo>
                <a:lnTo>
                  <a:pt x="1200" y="283"/>
                </a:lnTo>
                <a:lnTo>
                  <a:pt x="1226" y="294"/>
                </a:lnTo>
                <a:lnTo>
                  <a:pt x="1242" y="299"/>
                </a:lnTo>
                <a:lnTo>
                  <a:pt x="1253" y="315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6200" y="2833560"/>
            <a:ext cx="2101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Class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61080" y="3338640"/>
            <a:ext cx="1403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|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|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1520" y="5243400"/>
            <a:ext cx="8400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- can be accessed an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ed - can only be accessed within the class and its 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- can only be accessed within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92280" y="2548080"/>
            <a:ext cx="1609560" cy="1187280"/>
          </a:xfrm>
          <a:custGeom>
            <a:avLst/>
            <a:gdLst/>
            <a:ahLst/>
            <a:rect l="l" t="t" r="r" b="b"/>
            <a:pathLst>
              <a:path w="1014" h="748">
                <a:moveTo>
                  <a:pt x="424" y="133"/>
                </a:moveTo>
                <a:lnTo>
                  <a:pt x="431" y="121"/>
                </a:lnTo>
                <a:lnTo>
                  <a:pt x="439" y="94"/>
                </a:lnTo>
                <a:lnTo>
                  <a:pt x="444" y="63"/>
                </a:lnTo>
                <a:lnTo>
                  <a:pt x="451" y="36"/>
                </a:lnTo>
                <a:lnTo>
                  <a:pt x="457" y="27"/>
                </a:lnTo>
                <a:lnTo>
                  <a:pt x="464" y="20"/>
                </a:lnTo>
                <a:lnTo>
                  <a:pt x="471" y="13"/>
                </a:lnTo>
                <a:lnTo>
                  <a:pt x="478" y="7"/>
                </a:lnTo>
                <a:lnTo>
                  <a:pt x="486" y="5"/>
                </a:lnTo>
                <a:lnTo>
                  <a:pt x="493" y="3"/>
                </a:lnTo>
                <a:lnTo>
                  <a:pt x="500" y="0"/>
                </a:lnTo>
                <a:lnTo>
                  <a:pt x="507" y="0"/>
                </a:lnTo>
                <a:lnTo>
                  <a:pt x="515" y="0"/>
                </a:lnTo>
                <a:lnTo>
                  <a:pt x="520" y="3"/>
                </a:lnTo>
                <a:lnTo>
                  <a:pt x="527" y="3"/>
                </a:lnTo>
                <a:lnTo>
                  <a:pt x="533" y="5"/>
                </a:lnTo>
                <a:lnTo>
                  <a:pt x="538" y="7"/>
                </a:lnTo>
                <a:lnTo>
                  <a:pt x="543" y="7"/>
                </a:lnTo>
                <a:lnTo>
                  <a:pt x="549" y="9"/>
                </a:lnTo>
                <a:lnTo>
                  <a:pt x="556" y="13"/>
                </a:lnTo>
                <a:lnTo>
                  <a:pt x="561" y="16"/>
                </a:lnTo>
                <a:lnTo>
                  <a:pt x="569" y="20"/>
                </a:lnTo>
                <a:lnTo>
                  <a:pt x="580" y="27"/>
                </a:lnTo>
                <a:lnTo>
                  <a:pt x="587" y="34"/>
                </a:lnTo>
                <a:lnTo>
                  <a:pt x="594" y="36"/>
                </a:lnTo>
                <a:lnTo>
                  <a:pt x="601" y="40"/>
                </a:lnTo>
                <a:lnTo>
                  <a:pt x="608" y="45"/>
                </a:lnTo>
                <a:lnTo>
                  <a:pt x="616" y="54"/>
                </a:lnTo>
                <a:lnTo>
                  <a:pt x="618" y="61"/>
                </a:lnTo>
                <a:lnTo>
                  <a:pt x="621" y="67"/>
                </a:lnTo>
                <a:lnTo>
                  <a:pt x="626" y="77"/>
                </a:lnTo>
                <a:lnTo>
                  <a:pt x="632" y="79"/>
                </a:lnTo>
                <a:lnTo>
                  <a:pt x="635" y="86"/>
                </a:lnTo>
                <a:lnTo>
                  <a:pt x="641" y="108"/>
                </a:lnTo>
                <a:lnTo>
                  <a:pt x="645" y="115"/>
                </a:lnTo>
                <a:lnTo>
                  <a:pt x="650" y="119"/>
                </a:lnTo>
                <a:lnTo>
                  <a:pt x="657" y="126"/>
                </a:lnTo>
                <a:lnTo>
                  <a:pt x="663" y="135"/>
                </a:lnTo>
                <a:lnTo>
                  <a:pt x="670" y="140"/>
                </a:lnTo>
                <a:lnTo>
                  <a:pt x="677" y="144"/>
                </a:lnTo>
                <a:lnTo>
                  <a:pt x="684" y="148"/>
                </a:lnTo>
                <a:lnTo>
                  <a:pt x="690" y="153"/>
                </a:lnTo>
                <a:lnTo>
                  <a:pt x="697" y="155"/>
                </a:lnTo>
                <a:lnTo>
                  <a:pt x="702" y="158"/>
                </a:lnTo>
                <a:lnTo>
                  <a:pt x="708" y="158"/>
                </a:lnTo>
                <a:lnTo>
                  <a:pt x="729" y="158"/>
                </a:lnTo>
                <a:lnTo>
                  <a:pt x="735" y="155"/>
                </a:lnTo>
                <a:lnTo>
                  <a:pt x="742" y="153"/>
                </a:lnTo>
                <a:lnTo>
                  <a:pt x="748" y="153"/>
                </a:lnTo>
                <a:lnTo>
                  <a:pt x="769" y="153"/>
                </a:lnTo>
                <a:lnTo>
                  <a:pt x="776" y="151"/>
                </a:lnTo>
                <a:lnTo>
                  <a:pt x="798" y="146"/>
                </a:lnTo>
                <a:lnTo>
                  <a:pt x="816" y="144"/>
                </a:lnTo>
                <a:lnTo>
                  <a:pt x="823" y="144"/>
                </a:lnTo>
                <a:lnTo>
                  <a:pt x="831" y="142"/>
                </a:lnTo>
                <a:lnTo>
                  <a:pt x="852" y="138"/>
                </a:lnTo>
                <a:lnTo>
                  <a:pt x="874" y="135"/>
                </a:lnTo>
                <a:lnTo>
                  <a:pt x="896" y="133"/>
                </a:lnTo>
                <a:lnTo>
                  <a:pt x="901" y="131"/>
                </a:lnTo>
                <a:lnTo>
                  <a:pt x="906" y="128"/>
                </a:lnTo>
                <a:lnTo>
                  <a:pt x="912" y="128"/>
                </a:lnTo>
                <a:lnTo>
                  <a:pt x="930" y="128"/>
                </a:lnTo>
                <a:lnTo>
                  <a:pt x="955" y="131"/>
                </a:lnTo>
                <a:lnTo>
                  <a:pt x="962" y="138"/>
                </a:lnTo>
                <a:lnTo>
                  <a:pt x="966" y="144"/>
                </a:lnTo>
                <a:lnTo>
                  <a:pt x="970" y="151"/>
                </a:lnTo>
                <a:lnTo>
                  <a:pt x="970" y="158"/>
                </a:lnTo>
                <a:lnTo>
                  <a:pt x="971" y="167"/>
                </a:lnTo>
                <a:lnTo>
                  <a:pt x="973" y="189"/>
                </a:lnTo>
                <a:lnTo>
                  <a:pt x="975" y="198"/>
                </a:lnTo>
                <a:lnTo>
                  <a:pt x="978" y="205"/>
                </a:lnTo>
                <a:lnTo>
                  <a:pt x="984" y="227"/>
                </a:lnTo>
                <a:lnTo>
                  <a:pt x="1006" y="254"/>
                </a:lnTo>
                <a:lnTo>
                  <a:pt x="1013" y="281"/>
                </a:lnTo>
                <a:lnTo>
                  <a:pt x="1011" y="293"/>
                </a:lnTo>
                <a:lnTo>
                  <a:pt x="1011" y="299"/>
                </a:lnTo>
                <a:lnTo>
                  <a:pt x="1002" y="310"/>
                </a:lnTo>
                <a:lnTo>
                  <a:pt x="998" y="317"/>
                </a:lnTo>
                <a:lnTo>
                  <a:pt x="998" y="324"/>
                </a:lnTo>
                <a:lnTo>
                  <a:pt x="998" y="347"/>
                </a:lnTo>
                <a:lnTo>
                  <a:pt x="1004" y="356"/>
                </a:lnTo>
                <a:lnTo>
                  <a:pt x="1004" y="362"/>
                </a:lnTo>
                <a:lnTo>
                  <a:pt x="997" y="376"/>
                </a:lnTo>
                <a:lnTo>
                  <a:pt x="989" y="403"/>
                </a:lnTo>
                <a:lnTo>
                  <a:pt x="986" y="412"/>
                </a:lnTo>
                <a:lnTo>
                  <a:pt x="980" y="421"/>
                </a:lnTo>
                <a:lnTo>
                  <a:pt x="973" y="448"/>
                </a:lnTo>
                <a:lnTo>
                  <a:pt x="968" y="475"/>
                </a:lnTo>
                <a:lnTo>
                  <a:pt x="966" y="497"/>
                </a:lnTo>
                <a:lnTo>
                  <a:pt x="968" y="504"/>
                </a:lnTo>
                <a:lnTo>
                  <a:pt x="966" y="511"/>
                </a:lnTo>
                <a:lnTo>
                  <a:pt x="964" y="518"/>
                </a:lnTo>
                <a:lnTo>
                  <a:pt x="962" y="526"/>
                </a:lnTo>
                <a:lnTo>
                  <a:pt x="962" y="533"/>
                </a:lnTo>
                <a:lnTo>
                  <a:pt x="957" y="547"/>
                </a:lnTo>
                <a:lnTo>
                  <a:pt x="953" y="569"/>
                </a:lnTo>
                <a:lnTo>
                  <a:pt x="953" y="592"/>
                </a:lnTo>
                <a:lnTo>
                  <a:pt x="953" y="601"/>
                </a:lnTo>
                <a:lnTo>
                  <a:pt x="953" y="610"/>
                </a:lnTo>
                <a:lnTo>
                  <a:pt x="957" y="637"/>
                </a:lnTo>
                <a:lnTo>
                  <a:pt x="957" y="648"/>
                </a:lnTo>
                <a:lnTo>
                  <a:pt x="955" y="657"/>
                </a:lnTo>
                <a:lnTo>
                  <a:pt x="951" y="666"/>
                </a:lnTo>
                <a:lnTo>
                  <a:pt x="944" y="693"/>
                </a:lnTo>
                <a:lnTo>
                  <a:pt x="926" y="715"/>
                </a:lnTo>
                <a:lnTo>
                  <a:pt x="919" y="720"/>
                </a:lnTo>
                <a:lnTo>
                  <a:pt x="912" y="725"/>
                </a:lnTo>
                <a:lnTo>
                  <a:pt x="886" y="729"/>
                </a:lnTo>
                <a:lnTo>
                  <a:pt x="865" y="736"/>
                </a:lnTo>
                <a:lnTo>
                  <a:pt x="840" y="740"/>
                </a:lnTo>
                <a:lnTo>
                  <a:pt x="832" y="742"/>
                </a:lnTo>
                <a:lnTo>
                  <a:pt x="814" y="747"/>
                </a:lnTo>
                <a:lnTo>
                  <a:pt x="805" y="745"/>
                </a:lnTo>
                <a:lnTo>
                  <a:pt x="783" y="738"/>
                </a:lnTo>
                <a:lnTo>
                  <a:pt x="758" y="731"/>
                </a:lnTo>
                <a:lnTo>
                  <a:pt x="740" y="722"/>
                </a:lnTo>
                <a:lnTo>
                  <a:pt x="718" y="715"/>
                </a:lnTo>
                <a:lnTo>
                  <a:pt x="708" y="713"/>
                </a:lnTo>
                <a:lnTo>
                  <a:pt x="679" y="718"/>
                </a:lnTo>
                <a:lnTo>
                  <a:pt x="661" y="720"/>
                </a:lnTo>
                <a:lnTo>
                  <a:pt x="655" y="725"/>
                </a:lnTo>
                <a:lnTo>
                  <a:pt x="645" y="734"/>
                </a:lnTo>
                <a:lnTo>
                  <a:pt x="635" y="734"/>
                </a:lnTo>
                <a:lnTo>
                  <a:pt x="614" y="725"/>
                </a:lnTo>
                <a:lnTo>
                  <a:pt x="585" y="698"/>
                </a:lnTo>
                <a:lnTo>
                  <a:pt x="563" y="693"/>
                </a:lnTo>
                <a:lnTo>
                  <a:pt x="556" y="691"/>
                </a:lnTo>
                <a:lnTo>
                  <a:pt x="531" y="688"/>
                </a:lnTo>
                <a:lnTo>
                  <a:pt x="513" y="688"/>
                </a:lnTo>
                <a:lnTo>
                  <a:pt x="507" y="688"/>
                </a:lnTo>
                <a:lnTo>
                  <a:pt x="500" y="695"/>
                </a:lnTo>
                <a:lnTo>
                  <a:pt x="493" y="702"/>
                </a:lnTo>
                <a:lnTo>
                  <a:pt x="475" y="707"/>
                </a:lnTo>
                <a:lnTo>
                  <a:pt x="450" y="711"/>
                </a:lnTo>
                <a:lnTo>
                  <a:pt x="417" y="709"/>
                </a:lnTo>
                <a:lnTo>
                  <a:pt x="381" y="702"/>
                </a:lnTo>
                <a:lnTo>
                  <a:pt x="345" y="698"/>
                </a:lnTo>
                <a:lnTo>
                  <a:pt x="338" y="698"/>
                </a:lnTo>
                <a:lnTo>
                  <a:pt x="332" y="698"/>
                </a:lnTo>
                <a:lnTo>
                  <a:pt x="314" y="698"/>
                </a:lnTo>
                <a:lnTo>
                  <a:pt x="307" y="698"/>
                </a:lnTo>
                <a:lnTo>
                  <a:pt x="274" y="698"/>
                </a:lnTo>
                <a:lnTo>
                  <a:pt x="253" y="698"/>
                </a:lnTo>
                <a:lnTo>
                  <a:pt x="247" y="698"/>
                </a:lnTo>
                <a:lnTo>
                  <a:pt x="240" y="702"/>
                </a:lnTo>
                <a:lnTo>
                  <a:pt x="215" y="702"/>
                </a:lnTo>
                <a:lnTo>
                  <a:pt x="175" y="702"/>
                </a:lnTo>
                <a:lnTo>
                  <a:pt x="168" y="700"/>
                </a:lnTo>
                <a:lnTo>
                  <a:pt x="160" y="677"/>
                </a:lnTo>
                <a:lnTo>
                  <a:pt x="163" y="641"/>
                </a:lnTo>
                <a:lnTo>
                  <a:pt x="168" y="619"/>
                </a:lnTo>
                <a:lnTo>
                  <a:pt x="170" y="610"/>
                </a:lnTo>
                <a:lnTo>
                  <a:pt x="175" y="601"/>
                </a:lnTo>
                <a:lnTo>
                  <a:pt x="179" y="594"/>
                </a:lnTo>
                <a:lnTo>
                  <a:pt x="179" y="585"/>
                </a:lnTo>
                <a:lnTo>
                  <a:pt x="173" y="563"/>
                </a:lnTo>
                <a:lnTo>
                  <a:pt x="144" y="540"/>
                </a:lnTo>
                <a:lnTo>
                  <a:pt x="123" y="533"/>
                </a:lnTo>
                <a:lnTo>
                  <a:pt x="123" y="524"/>
                </a:lnTo>
                <a:lnTo>
                  <a:pt x="128" y="493"/>
                </a:lnTo>
                <a:lnTo>
                  <a:pt x="125" y="484"/>
                </a:lnTo>
                <a:lnTo>
                  <a:pt x="119" y="479"/>
                </a:lnTo>
                <a:lnTo>
                  <a:pt x="117" y="472"/>
                </a:lnTo>
                <a:lnTo>
                  <a:pt x="115" y="441"/>
                </a:lnTo>
                <a:lnTo>
                  <a:pt x="108" y="418"/>
                </a:lnTo>
                <a:lnTo>
                  <a:pt x="47" y="378"/>
                </a:lnTo>
                <a:lnTo>
                  <a:pt x="22" y="374"/>
                </a:lnTo>
                <a:lnTo>
                  <a:pt x="27" y="371"/>
                </a:lnTo>
                <a:lnTo>
                  <a:pt x="33" y="367"/>
                </a:lnTo>
                <a:lnTo>
                  <a:pt x="38" y="360"/>
                </a:lnTo>
                <a:lnTo>
                  <a:pt x="43" y="351"/>
                </a:lnTo>
                <a:lnTo>
                  <a:pt x="50" y="344"/>
                </a:lnTo>
                <a:lnTo>
                  <a:pt x="56" y="340"/>
                </a:lnTo>
                <a:lnTo>
                  <a:pt x="61" y="326"/>
                </a:lnTo>
                <a:lnTo>
                  <a:pt x="29" y="290"/>
                </a:lnTo>
                <a:lnTo>
                  <a:pt x="0" y="281"/>
                </a:lnTo>
                <a:lnTo>
                  <a:pt x="2" y="275"/>
                </a:lnTo>
                <a:lnTo>
                  <a:pt x="9" y="268"/>
                </a:lnTo>
                <a:lnTo>
                  <a:pt x="27" y="259"/>
                </a:lnTo>
                <a:lnTo>
                  <a:pt x="45" y="250"/>
                </a:lnTo>
                <a:lnTo>
                  <a:pt x="63" y="241"/>
                </a:lnTo>
                <a:lnTo>
                  <a:pt x="68" y="239"/>
                </a:lnTo>
                <a:lnTo>
                  <a:pt x="76" y="236"/>
                </a:lnTo>
                <a:lnTo>
                  <a:pt x="83" y="234"/>
                </a:lnTo>
                <a:lnTo>
                  <a:pt x="88" y="229"/>
                </a:lnTo>
                <a:lnTo>
                  <a:pt x="92" y="218"/>
                </a:lnTo>
                <a:lnTo>
                  <a:pt x="94" y="212"/>
                </a:lnTo>
                <a:lnTo>
                  <a:pt x="95" y="189"/>
                </a:lnTo>
                <a:lnTo>
                  <a:pt x="98" y="167"/>
                </a:lnTo>
                <a:lnTo>
                  <a:pt x="103" y="140"/>
                </a:lnTo>
                <a:lnTo>
                  <a:pt x="112" y="128"/>
                </a:lnTo>
                <a:lnTo>
                  <a:pt x="117" y="121"/>
                </a:lnTo>
                <a:lnTo>
                  <a:pt x="123" y="117"/>
                </a:lnTo>
                <a:lnTo>
                  <a:pt x="128" y="117"/>
                </a:lnTo>
                <a:lnTo>
                  <a:pt x="133" y="119"/>
                </a:lnTo>
                <a:lnTo>
                  <a:pt x="139" y="119"/>
                </a:lnTo>
                <a:lnTo>
                  <a:pt x="146" y="117"/>
                </a:lnTo>
                <a:lnTo>
                  <a:pt x="164" y="113"/>
                </a:lnTo>
                <a:lnTo>
                  <a:pt x="182" y="108"/>
                </a:lnTo>
                <a:lnTo>
                  <a:pt x="208" y="104"/>
                </a:lnTo>
                <a:lnTo>
                  <a:pt x="225" y="101"/>
                </a:lnTo>
                <a:lnTo>
                  <a:pt x="233" y="104"/>
                </a:lnTo>
                <a:lnTo>
                  <a:pt x="240" y="106"/>
                </a:lnTo>
                <a:lnTo>
                  <a:pt x="245" y="113"/>
                </a:lnTo>
                <a:lnTo>
                  <a:pt x="253" y="140"/>
                </a:lnTo>
                <a:lnTo>
                  <a:pt x="258" y="162"/>
                </a:lnTo>
                <a:lnTo>
                  <a:pt x="265" y="155"/>
                </a:lnTo>
                <a:lnTo>
                  <a:pt x="271" y="155"/>
                </a:lnTo>
                <a:lnTo>
                  <a:pt x="280" y="153"/>
                </a:lnTo>
                <a:lnTo>
                  <a:pt x="298" y="146"/>
                </a:lnTo>
                <a:lnTo>
                  <a:pt x="316" y="119"/>
                </a:lnTo>
                <a:lnTo>
                  <a:pt x="323" y="115"/>
                </a:lnTo>
                <a:lnTo>
                  <a:pt x="328" y="111"/>
                </a:lnTo>
                <a:lnTo>
                  <a:pt x="336" y="106"/>
                </a:lnTo>
                <a:lnTo>
                  <a:pt x="347" y="97"/>
                </a:lnTo>
                <a:lnTo>
                  <a:pt x="352" y="94"/>
                </a:lnTo>
                <a:lnTo>
                  <a:pt x="359" y="94"/>
                </a:lnTo>
                <a:lnTo>
                  <a:pt x="365" y="94"/>
                </a:lnTo>
                <a:lnTo>
                  <a:pt x="374" y="101"/>
                </a:lnTo>
                <a:lnTo>
                  <a:pt x="381" y="106"/>
                </a:lnTo>
                <a:lnTo>
                  <a:pt x="386" y="111"/>
                </a:lnTo>
                <a:lnTo>
                  <a:pt x="392" y="113"/>
                </a:lnTo>
                <a:lnTo>
                  <a:pt x="399" y="115"/>
                </a:lnTo>
                <a:lnTo>
                  <a:pt x="406" y="119"/>
                </a:lnTo>
                <a:lnTo>
                  <a:pt x="415" y="124"/>
                </a:lnTo>
                <a:lnTo>
                  <a:pt x="421" y="126"/>
                </a:lnTo>
                <a:lnTo>
                  <a:pt x="424" y="133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92680" y="4300560"/>
            <a:ext cx="1609560" cy="1187280"/>
          </a:xfrm>
          <a:custGeom>
            <a:avLst/>
            <a:gdLst/>
            <a:ahLst/>
            <a:rect l="l" t="t" r="r" b="b"/>
            <a:pathLst>
              <a:path w="1014" h="748">
                <a:moveTo>
                  <a:pt x="424" y="133"/>
                </a:moveTo>
                <a:lnTo>
                  <a:pt x="431" y="121"/>
                </a:lnTo>
                <a:lnTo>
                  <a:pt x="439" y="94"/>
                </a:lnTo>
                <a:lnTo>
                  <a:pt x="444" y="63"/>
                </a:lnTo>
                <a:lnTo>
                  <a:pt x="451" y="36"/>
                </a:lnTo>
                <a:lnTo>
                  <a:pt x="457" y="27"/>
                </a:lnTo>
                <a:lnTo>
                  <a:pt x="464" y="20"/>
                </a:lnTo>
                <a:lnTo>
                  <a:pt x="471" y="13"/>
                </a:lnTo>
                <a:lnTo>
                  <a:pt x="478" y="7"/>
                </a:lnTo>
                <a:lnTo>
                  <a:pt x="486" y="5"/>
                </a:lnTo>
                <a:lnTo>
                  <a:pt x="493" y="3"/>
                </a:lnTo>
                <a:lnTo>
                  <a:pt x="500" y="0"/>
                </a:lnTo>
                <a:lnTo>
                  <a:pt x="507" y="0"/>
                </a:lnTo>
                <a:lnTo>
                  <a:pt x="515" y="0"/>
                </a:lnTo>
                <a:lnTo>
                  <a:pt x="520" y="3"/>
                </a:lnTo>
                <a:lnTo>
                  <a:pt x="527" y="3"/>
                </a:lnTo>
                <a:lnTo>
                  <a:pt x="533" y="5"/>
                </a:lnTo>
                <a:lnTo>
                  <a:pt x="538" y="7"/>
                </a:lnTo>
                <a:lnTo>
                  <a:pt x="543" y="7"/>
                </a:lnTo>
                <a:lnTo>
                  <a:pt x="549" y="9"/>
                </a:lnTo>
                <a:lnTo>
                  <a:pt x="556" y="13"/>
                </a:lnTo>
                <a:lnTo>
                  <a:pt x="561" y="16"/>
                </a:lnTo>
                <a:lnTo>
                  <a:pt x="569" y="20"/>
                </a:lnTo>
                <a:lnTo>
                  <a:pt x="580" y="27"/>
                </a:lnTo>
                <a:lnTo>
                  <a:pt x="587" y="34"/>
                </a:lnTo>
                <a:lnTo>
                  <a:pt x="594" y="36"/>
                </a:lnTo>
                <a:lnTo>
                  <a:pt x="601" y="40"/>
                </a:lnTo>
                <a:lnTo>
                  <a:pt x="608" y="45"/>
                </a:lnTo>
                <a:lnTo>
                  <a:pt x="616" y="54"/>
                </a:lnTo>
                <a:lnTo>
                  <a:pt x="618" y="61"/>
                </a:lnTo>
                <a:lnTo>
                  <a:pt x="621" y="67"/>
                </a:lnTo>
                <a:lnTo>
                  <a:pt x="626" y="77"/>
                </a:lnTo>
                <a:lnTo>
                  <a:pt x="632" y="79"/>
                </a:lnTo>
                <a:lnTo>
                  <a:pt x="635" y="86"/>
                </a:lnTo>
                <a:lnTo>
                  <a:pt x="641" y="108"/>
                </a:lnTo>
                <a:lnTo>
                  <a:pt x="645" y="115"/>
                </a:lnTo>
                <a:lnTo>
                  <a:pt x="650" y="119"/>
                </a:lnTo>
                <a:lnTo>
                  <a:pt x="657" y="126"/>
                </a:lnTo>
                <a:lnTo>
                  <a:pt x="663" y="135"/>
                </a:lnTo>
                <a:lnTo>
                  <a:pt x="670" y="140"/>
                </a:lnTo>
                <a:lnTo>
                  <a:pt x="677" y="144"/>
                </a:lnTo>
                <a:lnTo>
                  <a:pt x="684" y="148"/>
                </a:lnTo>
                <a:lnTo>
                  <a:pt x="690" y="153"/>
                </a:lnTo>
                <a:lnTo>
                  <a:pt x="697" y="155"/>
                </a:lnTo>
                <a:lnTo>
                  <a:pt x="702" y="158"/>
                </a:lnTo>
                <a:lnTo>
                  <a:pt x="708" y="158"/>
                </a:lnTo>
                <a:lnTo>
                  <a:pt x="729" y="158"/>
                </a:lnTo>
                <a:lnTo>
                  <a:pt x="735" y="155"/>
                </a:lnTo>
                <a:lnTo>
                  <a:pt x="742" y="153"/>
                </a:lnTo>
                <a:lnTo>
                  <a:pt x="748" y="153"/>
                </a:lnTo>
                <a:lnTo>
                  <a:pt x="769" y="153"/>
                </a:lnTo>
                <a:lnTo>
                  <a:pt x="776" y="151"/>
                </a:lnTo>
                <a:lnTo>
                  <a:pt x="798" y="146"/>
                </a:lnTo>
                <a:lnTo>
                  <a:pt x="816" y="144"/>
                </a:lnTo>
                <a:lnTo>
                  <a:pt x="823" y="144"/>
                </a:lnTo>
                <a:lnTo>
                  <a:pt x="831" y="142"/>
                </a:lnTo>
                <a:lnTo>
                  <a:pt x="852" y="138"/>
                </a:lnTo>
                <a:lnTo>
                  <a:pt x="874" y="135"/>
                </a:lnTo>
                <a:lnTo>
                  <a:pt x="896" y="133"/>
                </a:lnTo>
                <a:lnTo>
                  <a:pt x="901" y="131"/>
                </a:lnTo>
                <a:lnTo>
                  <a:pt x="906" y="128"/>
                </a:lnTo>
                <a:lnTo>
                  <a:pt x="912" y="128"/>
                </a:lnTo>
                <a:lnTo>
                  <a:pt x="930" y="128"/>
                </a:lnTo>
                <a:lnTo>
                  <a:pt x="955" y="131"/>
                </a:lnTo>
                <a:lnTo>
                  <a:pt x="962" y="138"/>
                </a:lnTo>
                <a:lnTo>
                  <a:pt x="966" y="144"/>
                </a:lnTo>
                <a:lnTo>
                  <a:pt x="970" y="151"/>
                </a:lnTo>
                <a:lnTo>
                  <a:pt x="970" y="158"/>
                </a:lnTo>
                <a:lnTo>
                  <a:pt x="971" y="167"/>
                </a:lnTo>
                <a:lnTo>
                  <a:pt x="973" y="189"/>
                </a:lnTo>
                <a:lnTo>
                  <a:pt x="975" y="198"/>
                </a:lnTo>
                <a:lnTo>
                  <a:pt x="978" y="205"/>
                </a:lnTo>
                <a:lnTo>
                  <a:pt x="984" y="227"/>
                </a:lnTo>
                <a:lnTo>
                  <a:pt x="1006" y="254"/>
                </a:lnTo>
                <a:lnTo>
                  <a:pt x="1013" y="281"/>
                </a:lnTo>
                <a:lnTo>
                  <a:pt x="1011" y="293"/>
                </a:lnTo>
                <a:lnTo>
                  <a:pt x="1011" y="299"/>
                </a:lnTo>
                <a:lnTo>
                  <a:pt x="1002" y="310"/>
                </a:lnTo>
                <a:lnTo>
                  <a:pt x="998" y="317"/>
                </a:lnTo>
                <a:lnTo>
                  <a:pt x="998" y="324"/>
                </a:lnTo>
                <a:lnTo>
                  <a:pt x="998" y="347"/>
                </a:lnTo>
                <a:lnTo>
                  <a:pt x="1004" y="356"/>
                </a:lnTo>
                <a:lnTo>
                  <a:pt x="1004" y="362"/>
                </a:lnTo>
                <a:lnTo>
                  <a:pt x="997" y="376"/>
                </a:lnTo>
                <a:lnTo>
                  <a:pt x="989" y="403"/>
                </a:lnTo>
                <a:lnTo>
                  <a:pt x="986" y="412"/>
                </a:lnTo>
                <a:lnTo>
                  <a:pt x="980" y="421"/>
                </a:lnTo>
                <a:lnTo>
                  <a:pt x="973" y="448"/>
                </a:lnTo>
                <a:lnTo>
                  <a:pt x="968" y="475"/>
                </a:lnTo>
                <a:lnTo>
                  <a:pt x="966" y="497"/>
                </a:lnTo>
                <a:lnTo>
                  <a:pt x="968" y="504"/>
                </a:lnTo>
                <a:lnTo>
                  <a:pt x="966" y="511"/>
                </a:lnTo>
                <a:lnTo>
                  <a:pt x="964" y="518"/>
                </a:lnTo>
                <a:lnTo>
                  <a:pt x="962" y="526"/>
                </a:lnTo>
                <a:lnTo>
                  <a:pt x="962" y="533"/>
                </a:lnTo>
                <a:lnTo>
                  <a:pt x="957" y="547"/>
                </a:lnTo>
                <a:lnTo>
                  <a:pt x="953" y="569"/>
                </a:lnTo>
                <a:lnTo>
                  <a:pt x="953" y="592"/>
                </a:lnTo>
                <a:lnTo>
                  <a:pt x="953" y="601"/>
                </a:lnTo>
                <a:lnTo>
                  <a:pt x="953" y="610"/>
                </a:lnTo>
                <a:lnTo>
                  <a:pt x="957" y="637"/>
                </a:lnTo>
                <a:lnTo>
                  <a:pt x="957" y="648"/>
                </a:lnTo>
                <a:lnTo>
                  <a:pt x="955" y="657"/>
                </a:lnTo>
                <a:lnTo>
                  <a:pt x="951" y="666"/>
                </a:lnTo>
                <a:lnTo>
                  <a:pt x="944" y="693"/>
                </a:lnTo>
                <a:lnTo>
                  <a:pt x="926" y="715"/>
                </a:lnTo>
                <a:lnTo>
                  <a:pt x="919" y="720"/>
                </a:lnTo>
                <a:lnTo>
                  <a:pt x="912" y="725"/>
                </a:lnTo>
                <a:lnTo>
                  <a:pt x="886" y="729"/>
                </a:lnTo>
                <a:lnTo>
                  <a:pt x="865" y="736"/>
                </a:lnTo>
                <a:lnTo>
                  <a:pt x="840" y="740"/>
                </a:lnTo>
                <a:lnTo>
                  <a:pt x="832" y="742"/>
                </a:lnTo>
                <a:lnTo>
                  <a:pt x="814" y="747"/>
                </a:lnTo>
                <a:lnTo>
                  <a:pt x="805" y="745"/>
                </a:lnTo>
                <a:lnTo>
                  <a:pt x="783" y="738"/>
                </a:lnTo>
                <a:lnTo>
                  <a:pt x="758" y="731"/>
                </a:lnTo>
                <a:lnTo>
                  <a:pt x="740" y="722"/>
                </a:lnTo>
                <a:lnTo>
                  <a:pt x="718" y="715"/>
                </a:lnTo>
                <a:lnTo>
                  <a:pt x="708" y="713"/>
                </a:lnTo>
                <a:lnTo>
                  <a:pt x="679" y="718"/>
                </a:lnTo>
                <a:lnTo>
                  <a:pt x="661" y="720"/>
                </a:lnTo>
                <a:lnTo>
                  <a:pt x="655" y="725"/>
                </a:lnTo>
                <a:lnTo>
                  <a:pt x="645" y="734"/>
                </a:lnTo>
                <a:lnTo>
                  <a:pt x="635" y="734"/>
                </a:lnTo>
                <a:lnTo>
                  <a:pt x="614" y="725"/>
                </a:lnTo>
                <a:lnTo>
                  <a:pt x="585" y="698"/>
                </a:lnTo>
                <a:lnTo>
                  <a:pt x="563" y="693"/>
                </a:lnTo>
                <a:lnTo>
                  <a:pt x="556" y="691"/>
                </a:lnTo>
                <a:lnTo>
                  <a:pt x="531" y="688"/>
                </a:lnTo>
                <a:lnTo>
                  <a:pt x="513" y="688"/>
                </a:lnTo>
                <a:lnTo>
                  <a:pt x="507" y="688"/>
                </a:lnTo>
                <a:lnTo>
                  <a:pt x="500" y="695"/>
                </a:lnTo>
                <a:lnTo>
                  <a:pt x="493" y="702"/>
                </a:lnTo>
                <a:lnTo>
                  <a:pt x="475" y="707"/>
                </a:lnTo>
                <a:lnTo>
                  <a:pt x="450" y="711"/>
                </a:lnTo>
                <a:lnTo>
                  <a:pt x="417" y="709"/>
                </a:lnTo>
                <a:lnTo>
                  <a:pt x="381" y="702"/>
                </a:lnTo>
                <a:lnTo>
                  <a:pt x="345" y="698"/>
                </a:lnTo>
                <a:lnTo>
                  <a:pt x="338" y="698"/>
                </a:lnTo>
                <a:lnTo>
                  <a:pt x="332" y="698"/>
                </a:lnTo>
                <a:lnTo>
                  <a:pt x="314" y="698"/>
                </a:lnTo>
                <a:lnTo>
                  <a:pt x="307" y="698"/>
                </a:lnTo>
                <a:lnTo>
                  <a:pt x="274" y="698"/>
                </a:lnTo>
                <a:lnTo>
                  <a:pt x="253" y="698"/>
                </a:lnTo>
                <a:lnTo>
                  <a:pt x="247" y="698"/>
                </a:lnTo>
                <a:lnTo>
                  <a:pt x="240" y="702"/>
                </a:lnTo>
                <a:lnTo>
                  <a:pt x="215" y="702"/>
                </a:lnTo>
                <a:lnTo>
                  <a:pt x="175" y="702"/>
                </a:lnTo>
                <a:lnTo>
                  <a:pt x="168" y="700"/>
                </a:lnTo>
                <a:lnTo>
                  <a:pt x="160" y="677"/>
                </a:lnTo>
                <a:lnTo>
                  <a:pt x="163" y="641"/>
                </a:lnTo>
                <a:lnTo>
                  <a:pt x="168" y="619"/>
                </a:lnTo>
                <a:lnTo>
                  <a:pt x="170" y="610"/>
                </a:lnTo>
                <a:lnTo>
                  <a:pt x="175" y="601"/>
                </a:lnTo>
                <a:lnTo>
                  <a:pt x="179" y="594"/>
                </a:lnTo>
                <a:lnTo>
                  <a:pt x="179" y="585"/>
                </a:lnTo>
                <a:lnTo>
                  <a:pt x="173" y="563"/>
                </a:lnTo>
                <a:lnTo>
                  <a:pt x="144" y="540"/>
                </a:lnTo>
                <a:lnTo>
                  <a:pt x="123" y="533"/>
                </a:lnTo>
                <a:lnTo>
                  <a:pt x="123" y="524"/>
                </a:lnTo>
                <a:lnTo>
                  <a:pt x="128" y="493"/>
                </a:lnTo>
                <a:lnTo>
                  <a:pt x="125" y="484"/>
                </a:lnTo>
                <a:lnTo>
                  <a:pt x="119" y="479"/>
                </a:lnTo>
                <a:lnTo>
                  <a:pt x="117" y="472"/>
                </a:lnTo>
                <a:lnTo>
                  <a:pt x="115" y="441"/>
                </a:lnTo>
                <a:lnTo>
                  <a:pt x="108" y="418"/>
                </a:lnTo>
                <a:lnTo>
                  <a:pt x="47" y="378"/>
                </a:lnTo>
                <a:lnTo>
                  <a:pt x="22" y="374"/>
                </a:lnTo>
                <a:lnTo>
                  <a:pt x="27" y="371"/>
                </a:lnTo>
                <a:lnTo>
                  <a:pt x="33" y="367"/>
                </a:lnTo>
                <a:lnTo>
                  <a:pt x="38" y="360"/>
                </a:lnTo>
                <a:lnTo>
                  <a:pt x="43" y="351"/>
                </a:lnTo>
                <a:lnTo>
                  <a:pt x="50" y="344"/>
                </a:lnTo>
                <a:lnTo>
                  <a:pt x="56" y="340"/>
                </a:lnTo>
                <a:lnTo>
                  <a:pt x="61" y="326"/>
                </a:lnTo>
                <a:lnTo>
                  <a:pt x="29" y="290"/>
                </a:lnTo>
                <a:lnTo>
                  <a:pt x="0" y="281"/>
                </a:lnTo>
                <a:lnTo>
                  <a:pt x="2" y="275"/>
                </a:lnTo>
                <a:lnTo>
                  <a:pt x="9" y="268"/>
                </a:lnTo>
                <a:lnTo>
                  <a:pt x="27" y="259"/>
                </a:lnTo>
                <a:lnTo>
                  <a:pt x="45" y="250"/>
                </a:lnTo>
                <a:lnTo>
                  <a:pt x="63" y="241"/>
                </a:lnTo>
                <a:lnTo>
                  <a:pt x="68" y="239"/>
                </a:lnTo>
                <a:lnTo>
                  <a:pt x="76" y="236"/>
                </a:lnTo>
                <a:lnTo>
                  <a:pt x="83" y="234"/>
                </a:lnTo>
                <a:lnTo>
                  <a:pt x="88" y="229"/>
                </a:lnTo>
                <a:lnTo>
                  <a:pt x="92" y="218"/>
                </a:lnTo>
                <a:lnTo>
                  <a:pt x="94" y="212"/>
                </a:lnTo>
                <a:lnTo>
                  <a:pt x="95" y="189"/>
                </a:lnTo>
                <a:lnTo>
                  <a:pt x="98" y="167"/>
                </a:lnTo>
                <a:lnTo>
                  <a:pt x="103" y="140"/>
                </a:lnTo>
                <a:lnTo>
                  <a:pt x="112" y="128"/>
                </a:lnTo>
                <a:lnTo>
                  <a:pt x="117" y="121"/>
                </a:lnTo>
                <a:lnTo>
                  <a:pt x="123" y="117"/>
                </a:lnTo>
                <a:lnTo>
                  <a:pt x="128" y="117"/>
                </a:lnTo>
                <a:lnTo>
                  <a:pt x="133" y="119"/>
                </a:lnTo>
                <a:lnTo>
                  <a:pt x="139" y="119"/>
                </a:lnTo>
                <a:lnTo>
                  <a:pt x="146" y="117"/>
                </a:lnTo>
                <a:lnTo>
                  <a:pt x="164" y="113"/>
                </a:lnTo>
                <a:lnTo>
                  <a:pt x="182" y="108"/>
                </a:lnTo>
                <a:lnTo>
                  <a:pt x="208" y="104"/>
                </a:lnTo>
                <a:lnTo>
                  <a:pt x="225" y="101"/>
                </a:lnTo>
                <a:lnTo>
                  <a:pt x="233" y="104"/>
                </a:lnTo>
                <a:lnTo>
                  <a:pt x="240" y="106"/>
                </a:lnTo>
                <a:lnTo>
                  <a:pt x="245" y="113"/>
                </a:lnTo>
                <a:lnTo>
                  <a:pt x="253" y="140"/>
                </a:lnTo>
                <a:lnTo>
                  <a:pt x="258" y="162"/>
                </a:lnTo>
                <a:lnTo>
                  <a:pt x="265" y="155"/>
                </a:lnTo>
                <a:lnTo>
                  <a:pt x="271" y="155"/>
                </a:lnTo>
                <a:lnTo>
                  <a:pt x="280" y="153"/>
                </a:lnTo>
                <a:lnTo>
                  <a:pt x="298" y="146"/>
                </a:lnTo>
                <a:lnTo>
                  <a:pt x="316" y="119"/>
                </a:lnTo>
                <a:lnTo>
                  <a:pt x="323" y="115"/>
                </a:lnTo>
                <a:lnTo>
                  <a:pt x="328" y="111"/>
                </a:lnTo>
                <a:lnTo>
                  <a:pt x="336" y="106"/>
                </a:lnTo>
                <a:lnTo>
                  <a:pt x="347" y="97"/>
                </a:lnTo>
                <a:lnTo>
                  <a:pt x="352" y="94"/>
                </a:lnTo>
                <a:lnTo>
                  <a:pt x="359" y="94"/>
                </a:lnTo>
                <a:lnTo>
                  <a:pt x="365" y="94"/>
                </a:lnTo>
                <a:lnTo>
                  <a:pt x="374" y="101"/>
                </a:lnTo>
                <a:lnTo>
                  <a:pt x="381" y="106"/>
                </a:lnTo>
                <a:lnTo>
                  <a:pt x="386" y="111"/>
                </a:lnTo>
                <a:lnTo>
                  <a:pt x="392" y="113"/>
                </a:lnTo>
                <a:lnTo>
                  <a:pt x="399" y="115"/>
                </a:lnTo>
                <a:lnTo>
                  <a:pt x="406" y="119"/>
                </a:lnTo>
                <a:lnTo>
                  <a:pt x="415" y="124"/>
                </a:lnTo>
                <a:lnTo>
                  <a:pt x="421" y="126"/>
                </a:lnTo>
                <a:lnTo>
                  <a:pt x="424" y="133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3429000"/>
            <a:ext cx="18288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4400" y="2347920"/>
            <a:ext cx="153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8480" y="5700600"/>
            <a:ext cx="41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converted to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other types of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92280" y="2548080"/>
            <a:ext cx="1609560" cy="1187280"/>
          </a:xfrm>
          <a:custGeom>
            <a:avLst/>
            <a:gdLst/>
            <a:ahLst/>
            <a:rect l="l" t="t" r="r" b="b"/>
            <a:pathLst>
              <a:path w="1014" h="748">
                <a:moveTo>
                  <a:pt x="424" y="133"/>
                </a:moveTo>
                <a:lnTo>
                  <a:pt x="431" y="121"/>
                </a:lnTo>
                <a:lnTo>
                  <a:pt x="439" y="94"/>
                </a:lnTo>
                <a:lnTo>
                  <a:pt x="444" y="63"/>
                </a:lnTo>
                <a:lnTo>
                  <a:pt x="451" y="36"/>
                </a:lnTo>
                <a:lnTo>
                  <a:pt x="457" y="27"/>
                </a:lnTo>
                <a:lnTo>
                  <a:pt x="464" y="20"/>
                </a:lnTo>
                <a:lnTo>
                  <a:pt x="471" y="13"/>
                </a:lnTo>
                <a:lnTo>
                  <a:pt x="478" y="7"/>
                </a:lnTo>
                <a:lnTo>
                  <a:pt x="486" y="5"/>
                </a:lnTo>
                <a:lnTo>
                  <a:pt x="493" y="3"/>
                </a:lnTo>
                <a:lnTo>
                  <a:pt x="500" y="0"/>
                </a:lnTo>
                <a:lnTo>
                  <a:pt x="507" y="0"/>
                </a:lnTo>
                <a:lnTo>
                  <a:pt x="515" y="0"/>
                </a:lnTo>
                <a:lnTo>
                  <a:pt x="520" y="3"/>
                </a:lnTo>
                <a:lnTo>
                  <a:pt x="527" y="3"/>
                </a:lnTo>
                <a:lnTo>
                  <a:pt x="533" y="5"/>
                </a:lnTo>
                <a:lnTo>
                  <a:pt x="538" y="7"/>
                </a:lnTo>
                <a:lnTo>
                  <a:pt x="543" y="7"/>
                </a:lnTo>
                <a:lnTo>
                  <a:pt x="549" y="9"/>
                </a:lnTo>
                <a:lnTo>
                  <a:pt x="556" y="13"/>
                </a:lnTo>
                <a:lnTo>
                  <a:pt x="561" y="16"/>
                </a:lnTo>
                <a:lnTo>
                  <a:pt x="569" y="20"/>
                </a:lnTo>
                <a:lnTo>
                  <a:pt x="580" y="27"/>
                </a:lnTo>
                <a:lnTo>
                  <a:pt x="587" y="34"/>
                </a:lnTo>
                <a:lnTo>
                  <a:pt x="594" y="36"/>
                </a:lnTo>
                <a:lnTo>
                  <a:pt x="601" y="40"/>
                </a:lnTo>
                <a:lnTo>
                  <a:pt x="608" y="45"/>
                </a:lnTo>
                <a:lnTo>
                  <a:pt x="616" y="54"/>
                </a:lnTo>
                <a:lnTo>
                  <a:pt x="618" y="61"/>
                </a:lnTo>
                <a:lnTo>
                  <a:pt x="621" y="67"/>
                </a:lnTo>
                <a:lnTo>
                  <a:pt x="626" y="77"/>
                </a:lnTo>
                <a:lnTo>
                  <a:pt x="632" y="79"/>
                </a:lnTo>
                <a:lnTo>
                  <a:pt x="635" y="86"/>
                </a:lnTo>
                <a:lnTo>
                  <a:pt x="641" y="108"/>
                </a:lnTo>
                <a:lnTo>
                  <a:pt x="645" y="115"/>
                </a:lnTo>
                <a:lnTo>
                  <a:pt x="650" y="119"/>
                </a:lnTo>
                <a:lnTo>
                  <a:pt x="657" y="126"/>
                </a:lnTo>
                <a:lnTo>
                  <a:pt x="663" y="135"/>
                </a:lnTo>
                <a:lnTo>
                  <a:pt x="670" y="140"/>
                </a:lnTo>
                <a:lnTo>
                  <a:pt x="677" y="144"/>
                </a:lnTo>
                <a:lnTo>
                  <a:pt x="684" y="148"/>
                </a:lnTo>
                <a:lnTo>
                  <a:pt x="690" y="153"/>
                </a:lnTo>
                <a:lnTo>
                  <a:pt x="697" y="155"/>
                </a:lnTo>
                <a:lnTo>
                  <a:pt x="702" y="158"/>
                </a:lnTo>
                <a:lnTo>
                  <a:pt x="708" y="158"/>
                </a:lnTo>
                <a:lnTo>
                  <a:pt x="729" y="158"/>
                </a:lnTo>
                <a:lnTo>
                  <a:pt x="735" y="155"/>
                </a:lnTo>
                <a:lnTo>
                  <a:pt x="742" y="153"/>
                </a:lnTo>
                <a:lnTo>
                  <a:pt x="748" y="153"/>
                </a:lnTo>
                <a:lnTo>
                  <a:pt x="769" y="153"/>
                </a:lnTo>
                <a:lnTo>
                  <a:pt x="776" y="151"/>
                </a:lnTo>
                <a:lnTo>
                  <a:pt x="798" y="146"/>
                </a:lnTo>
                <a:lnTo>
                  <a:pt x="816" y="144"/>
                </a:lnTo>
                <a:lnTo>
                  <a:pt x="823" y="144"/>
                </a:lnTo>
                <a:lnTo>
                  <a:pt x="831" y="142"/>
                </a:lnTo>
                <a:lnTo>
                  <a:pt x="852" y="138"/>
                </a:lnTo>
                <a:lnTo>
                  <a:pt x="874" y="135"/>
                </a:lnTo>
                <a:lnTo>
                  <a:pt x="896" y="133"/>
                </a:lnTo>
                <a:lnTo>
                  <a:pt x="901" y="131"/>
                </a:lnTo>
                <a:lnTo>
                  <a:pt x="906" y="128"/>
                </a:lnTo>
                <a:lnTo>
                  <a:pt x="912" y="128"/>
                </a:lnTo>
                <a:lnTo>
                  <a:pt x="930" y="128"/>
                </a:lnTo>
                <a:lnTo>
                  <a:pt x="955" y="131"/>
                </a:lnTo>
                <a:lnTo>
                  <a:pt x="962" y="138"/>
                </a:lnTo>
                <a:lnTo>
                  <a:pt x="966" y="144"/>
                </a:lnTo>
                <a:lnTo>
                  <a:pt x="970" y="151"/>
                </a:lnTo>
                <a:lnTo>
                  <a:pt x="970" y="158"/>
                </a:lnTo>
                <a:lnTo>
                  <a:pt x="971" y="167"/>
                </a:lnTo>
                <a:lnTo>
                  <a:pt x="973" y="189"/>
                </a:lnTo>
                <a:lnTo>
                  <a:pt x="975" y="198"/>
                </a:lnTo>
                <a:lnTo>
                  <a:pt x="978" y="205"/>
                </a:lnTo>
                <a:lnTo>
                  <a:pt x="984" y="227"/>
                </a:lnTo>
                <a:lnTo>
                  <a:pt x="1006" y="254"/>
                </a:lnTo>
                <a:lnTo>
                  <a:pt x="1013" y="281"/>
                </a:lnTo>
                <a:lnTo>
                  <a:pt x="1011" y="293"/>
                </a:lnTo>
                <a:lnTo>
                  <a:pt x="1011" y="299"/>
                </a:lnTo>
                <a:lnTo>
                  <a:pt x="1002" y="310"/>
                </a:lnTo>
                <a:lnTo>
                  <a:pt x="998" y="317"/>
                </a:lnTo>
                <a:lnTo>
                  <a:pt x="998" y="324"/>
                </a:lnTo>
                <a:lnTo>
                  <a:pt x="998" y="347"/>
                </a:lnTo>
                <a:lnTo>
                  <a:pt x="1004" y="356"/>
                </a:lnTo>
                <a:lnTo>
                  <a:pt x="1004" y="362"/>
                </a:lnTo>
                <a:lnTo>
                  <a:pt x="997" y="376"/>
                </a:lnTo>
                <a:lnTo>
                  <a:pt x="989" y="403"/>
                </a:lnTo>
                <a:lnTo>
                  <a:pt x="986" y="412"/>
                </a:lnTo>
                <a:lnTo>
                  <a:pt x="980" y="421"/>
                </a:lnTo>
                <a:lnTo>
                  <a:pt x="973" y="448"/>
                </a:lnTo>
                <a:lnTo>
                  <a:pt x="968" y="475"/>
                </a:lnTo>
                <a:lnTo>
                  <a:pt x="966" y="497"/>
                </a:lnTo>
                <a:lnTo>
                  <a:pt x="968" y="504"/>
                </a:lnTo>
                <a:lnTo>
                  <a:pt x="966" y="511"/>
                </a:lnTo>
                <a:lnTo>
                  <a:pt x="964" y="518"/>
                </a:lnTo>
                <a:lnTo>
                  <a:pt x="962" y="526"/>
                </a:lnTo>
                <a:lnTo>
                  <a:pt x="962" y="533"/>
                </a:lnTo>
                <a:lnTo>
                  <a:pt x="957" y="547"/>
                </a:lnTo>
                <a:lnTo>
                  <a:pt x="953" y="569"/>
                </a:lnTo>
                <a:lnTo>
                  <a:pt x="953" y="592"/>
                </a:lnTo>
                <a:lnTo>
                  <a:pt x="953" y="601"/>
                </a:lnTo>
                <a:lnTo>
                  <a:pt x="953" y="610"/>
                </a:lnTo>
                <a:lnTo>
                  <a:pt x="957" y="637"/>
                </a:lnTo>
                <a:lnTo>
                  <a:pt x="957" y="648"/>
                </a:lnTo>
                <a:lnTo>
                  <a:pt x="955" y="657"/>
                </a:lnTo>
                <a:lnTo>
                  <a:pt x="951" y="666"/>
                </a:lnTo>
                <a:lnTo>
                  <a:pt x="944" y="693"/>
                </a:lnTo>
                <a:lnTo>
                  <a:pt x="926" y="715"/>
                </a:lnTo>
                <a:lnTo>
                  <a:pt x="919" y="720"/>
                </a:lnTo>
                <a:lnTo>
                  <a:pt x="912" y="725"/>
                </a:lnTo>
                <a:lnTo>
                  <a:pt x="886" y="729"/>
                </a:lnTo>
                <a:lnTo>
                  <a:pt x="865" y="736"/>
                </a:lnTo>
                <a:lnTo>
                  <a:pt x="840" y="740"/>
                </a:lnTo>
                <a:lnTo>
                  <a:pt x="832" y="742"/>
                </a:lnTo>
                <a:lnTo>
                  <a:pt x="814" y="747"/>
                </a:lnTo>
                <a:lnTo>
                  <a:pt x="805" y="745"/>
                </a:lnTo>
                <a:lnTo>
                  <a:pt x="783" y="738"/>
                </a:lnTo>
                <a:lnTo>
                  <a:pt x="758" y="731"/>
                </a:lnTo>
                <a:lnTo>
                  <a:pt x="740" y="722"/>
                </a:lnTo>
                <a:lnTo>
                  <a:pt x="718" y="715"/>
                </a:lnTo>
                <a:lnTo>
                  <a:pt x="708" y="713"/>
                </a:lnTo>
                <a:lnTo>
                  <a:pt x="679" y="718"/>
                </a:lnTo>
                <a:lnTo>
                  <a:pt x="661" y="720"/>
                </a:lnTo>
                <a:lnTo>
                  <a:pt x="655" y="725"/>
                </a:lnTo>
                <a:lnTo>
                  <a:pt x="645" y="734"/>
                </a:lnTo>
                <a:lnTo>
                  <a:pt x="635" y="734"/>
                </a:lnTo>
                <a:lnTo>
                  <a:pt x="614" y="725"/>
                </a:lnTo>
                <a:lnTo>
                  <a:pt x="585" y="698"/>
                </a:lnTo>
                <a:lnTo>
                  <a:pt x="563" y="693"/>
                </a:lnTo>
                <a:lnTo>
                  <a:pt x="556" y="691"/>
                </a:lnTo>
                <a:lnTo>
                  <a:pt x="531" y="688"/>
                </a:lnTo>
                <a:lnTo>
                  <a:pt x="513" y="688"/>
                </a:lnTo>
                <a:lnTo>
                  <a:pt x="507" y="688"/>
                </a:lnTo>
                <a:lnTo>
                  <a:pt x="500" y="695"/>
                </a:lnTo>
                <a:lnTo>
                  <a:pt x="493" y="702"/>
                </a:lnTo>
                <a:lnTo>
                  <a:pt x="475" y="707"/>
                </a:lnTo>
                <a:lnTo>
                  <a:pt x="450" y="711"/>
                </a:lnTo>
                <a:lnTo>
                  <a:pt x="417" y="709"/>
                </a:lnTo>
                <a:lnTo>
                  <a:pt x="381" y="702"/>
                </a:lnTo>
                <a:lnTo>
                  <a:pt x="345" y="698"/>
                </a:lnTo>
                <a:lnTo>
                  <a:pt x="338" y="698"/>
                </a:lnTo>
                <a:lnTo>
                  <a:pt x="332" y="698"/>
                </a:lnTo>
                <a:lnTo>
                  <a:pt x="314" y="698"/>
                </a:lnTo>
                <a:lnTo>
                  <a:pt x="307" y="698"/>
                </a:lnTo>
                <a:lnTo>
                  <a:pt x="274" y="698"/>
                </a:lnTo>
                <a:lnTo>
                  <a:pt x="253" y="698"/>
                </a:lnTo>
                <a:lnTo>
                  <a:pt x="247" y="698"/>
                </a:lnTo>
                <a:lnTo>
                  <a:pt x="240" y="702"/>
                </a:lnTo>
                <a:lnTo>
                  <a:pt x="215" y="702"/>
                </a:lnTo>
                <a:lnTo>
                  <a:pt x="175" y="702"/>
                </a:lnTo>
                <a:lnTo>
                  <a:pt x="168" y="700"/>
                </a:lnTo>
                <a:lnTo>
                  <a:pt x="160" y="677"/>
                </a:lnTo>
                <a:lnTo>
                  <a:pt x="163" y="641"/>
                </a:lnTo>
                <a:lnTo>
                  <a:pt x="168" y="619"/>
                </a:lnTo>
                <a:lnTo>
                  <a:pt x="170" y="610"/>
                </a:lnTo>
                <a:lnTo>
                  <a:pt x="175" y="601"/>
                </a:lnTo>
                <a:lnTo>
                  <a:pt x="179" y="594"/>
                </a:lnTo>
                <a:lnTo>
                  <a:pt x="179" y="585"/>
                </a:lnTo>
                <a:lnTo>
                  <a:pt x="173" y="563"/>
                </a:lnTo>
                <a:lnTo>
                  <a:pt x="144" y="540"/>
                </a:lnTo>
                <a:lnTo>
                  <a:pt x="123" y="533"/>
                </a:lnTo>
                <a:lnTo>
                  <a:pt x="123" y="524"/>
                </a:lnTo>
                <a:lnTo>
                  <a:pt x="128" y="493"/>
                </a:lnTo>
                <a:lnTo>
                  <a:pt x="125" y="484"/>
                </a:lnTo>
                <a:lnTo>
                  <a:pt x="119" y="479"/>
                </a:lnTo>
                <a:lnTo>
                  <a:pt x="117" y="472"/>
                </a:lnTo>
                <a:lnTo>
                  <a:pt x="115" y="441"/>
                </a:lnTo>
                <a:lnTo>
                  <a:pt x="108" y="418"/>
                </a:lnTo>
                <a:lnTo>
                  <a:pt x="47" y="378"/>
                </a:lnTo>
                <a:lnTo>
                  <a:pt x="22" y="374"/>
                </a:lnTo>
                <a:lnTo>
                  <a:pt x="27" y="371"/>
                </a:lnTo>
                <a:lnTo>
                  <a:pt x="33" y="367"/>
                </a:lnTo>
                <a:lnTo>
                  <a:pt x="38" y="360"/>
                </a:lnTo>
                <a:lnTo>
                  <a:pt x="43" y="351"/>
                </a:lnTo>
                <a:lnTo>
                  <a:pt x="50" y="344"/>
                </a:lnTo>
                <a:lnTo>
                  <a:pt x="56" y="340"/>
                </a:lnTo>
                <a:lnTo>
                  <a:pt x="61" y="326"/>
                </a:lnTo>
                <a:lnTo>
                  <a:pt x="29" y="290"/>
                </a:lnTo>
                <a:lnTo>
                  <a:pt x="0" y="281"/>
                </a:lnTo>
                <a:lnTo>
                  <a:pt x="2" y="275"/>
                </a:lnTo>
                <a:lnTo>
                  <a:pt x="9" y="268"/>
                </a:lnTo>
                <a:lnTo>
                  <a:pt x="27" y="259"/>
                </a:lnTo>
                <a:lnTo>
                  <a:pt x="45" y="250"/>
                </a:lnTo>
                <a:lnTo>
                  <a:pt x="63" y="241"/>
                </a:lnTo>
                <a:lnTo>
                  <a:pt x="68" y="239"/>
                </a:lnTo>
                <a:lnTo>
                  <a:pt x="76" y="236"/>
                </a:lnTo>
                <a:lnTo>
                  <a:pt x="83" y="234"/>
                </a:lnTo>
                <a:lnTo>
                  <a:pt x="88" y="229"/>
                </a:lnTo>
                <a:lnTo>
                  <a:pt x="92" y="218"/>
                </a:lnTo>
                <a:lnTo>
                  <a:pt x="94" y="212"/>
                </a:lnTo>
                <a:lnTo>
                  <a:pt x="95" y="189"/>
                </a:lnTo>
                <a:lnTo>
                  <a:pt x="98" y="167"/>
                </a:lnTo>
                <a:lnTo>
                  <a:pt x="103" y="140"/>
                </a:lnTo>
                <a:lnTo>
                  <a:pt x="112" y="128"/>
                </a:lnTo>
                <a:lnTo>
                  <a:pt x="117" y="121"/>
                </a:lnTo>
                <a:lnTo>
                  <a:pt x="123" y="117"/>
                </a:lnTo>
                <a:lnTo>
                  <a:pt x="128" y="117"/>
                </a:lnTo>
                <a:lnTo>
                  <a:pt x="133" y="119"/>
                </a:lnTo>
                <a:lnTo>
                  <a:pt x="139" y="119"/>
                </a:lnTo>
                <a:lnTo>
                  <a:pt x="146" y="117"/>
                </a:lnTo>
                <a:lnTo>
                  <a:pt x="164" y="113"/>
                </a:lnTo>
                <a:lnTo>
                  <a:pt x="182" y="108"/>
                </a:lnTo>
                <a:lnTo>
                  <a:pt x="208" y="104"/>
                </a:lnTo>
                <a:lnTo>
                  <a:pt x="225" y="101"/>
                </a:lnTo>
                <a:lnTo>
                  <a:pt x="233" y="104"/>
                </a:lnTo>
                <a:lnTo>
                  <a:pt x="240" y="106"/>
                </a:lnTo>
                <a:lnTo>
                  <a:pt x="245" y="113"/>
                </a:lnTo>
                <a:lnTo>
                  <a:pt x="253" y="140"/>
                </a:lnTo>
                <a:lnTo>
                  <a:pt x="258" y="162"/>
                </a:lnTo>
                <a:lnTo>
                  <a:pt x="265" y="155"/>
                </a:lnTo>
                <a:lnTo>
                  <a:pt x="271" y="155"/>
                </a:lnTo>
                <a:lnTo>
                  <a:pt x="280" y="153"/>
                </a:lnTo>
                <a:lnTo>
                  <a:pt x="298" y="146"/>
                </a:lnTo>
                <a:lnTo>
                  <a:pt x="316" y="119"/>
                </a:lnTo>
                <a:lnTo>
                  <a:pt x="323" y="115"/>
                </a:lnTo>
                <a:lnTo>
                  <a:pt x="328" y="111"/>
                </a:lnTo>
                <a:lnTo>
                  <a:pt x="336" y="106"/>
                </a:lnTo>
                <a:lnTo>
                  <a:pt x="347" y="97"/>
                </a:lnTo>
                <a:lnTo>
                  <a:pt x="352" y="94"/>
                </a:lnTo>
                <a:lnTo>
                  <a:pt x="359" y="94"/>
                </a:lnTo>
                <a:lnTo>
                  <a:pt x="365" y="94"/>
                </a:lnTo>
                <a:lnTo>
                  <a:pt x="374" y="101"/>
                </a:lnTo>
                <a:lnTo>
                  <a:pt x="381" y="106"/>
                </a:lnTo>
                <a:lnTo>
                  <a:pt x="386" y="111"/>
                </a:lnTo>
                <a:lnTo>
                  <a:pt x="392" y="113"/>
                </a:lnTo>
                <a:lnTo>
                  <a:pt x="399" y="115"/>
                </a:lnTo>
                <a:lnTo>
                  <a:pt x="406" y="119"/>
                </a:lnTo>
                <a:lnTo>
                  <a:pt x="415" y="124"/>
                </a:lnTo>
                <a:lnTo>
                  <a:pt x="421" y="126"/>
                </a:lnTo>
                <a:lnTo>
                  <a:pt x="424" y="133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92680" y="4300560"/>
            <a:ext cx="1609560" cy="1187280"/>
          </a:xfrm>
          <a:custGeom>
            <a:avLst/>
            <a:gdLst/>
            <a:ahLst/>
            <a:rect l="l" t="t" r="r" b="b"/>
            <a:pathLst>
              <a:path w="1014" h="748">
                <a:moveTo>
                  <a:pt x="424" y="133"/>
                </a:moveTo>
                <a:lnTo>
                  <a:pt x="431" y="121"/>
                </a:lnTo>
                <a:lnTo>
                  <a:pt x="439" y="94"/>
                </a:lnTo>
                <a:lnTo>
                  <a:pt x="444" y="63"/>
                </a:lnTo>
                <a:lnTo>
                  <a:pt x="451" y="36"/>
                </a:lnTo>
                <a:lnTo>
                  <a:pt x="457" y="27"/>
                </a:lnTo>
                <a:lnTo>
                  <a:pt x="464" y="20"/>
                </a:lnTo>
                <a:lnTo>
                  <a:pt x="471" y="13"/>
                </a:lnTo>
                <a:lnTo>
                  <a:pt x="478" y="7"/>
                </a:lnTo>
                <a:lnTo>
                  <a:pt x="486" y="5"/>
                </a:lnTo>
                <a:lnTo>
                  <a:pt x="493" y="3"/>
                </a:lnTo>
                <a:lnTo>
                  <a:pt x="500" y="0"/>
                </a:lnTo>
                <a:lnTo>
                  <a:pt x="507" y="0"/>
                </a:lnTo>
                <a:lnTo>
                  <a:pt x="515" y="0"/>
                </a:lnTo>
                <a:lnTo>
                  <a:pt x="520" y="3"/>
                </a:lnTo>
                <a:lnTo>
                  <a:pt x="527" y="3"/>
                </a:lnTo>
                <a:lnTo>
                  <a:pt x="533" y="5"/>
                </a:lnTo>
                <a:lnTo>
                  <a:pt x="538" y="7"/>
                </a:lnTo>
                <a:lnTo>
                  <a:pt x="543" y="7"/>
                </a:lnTo>
                <a:lnTo>
                  <a:pt x="549" y="9"/>
                </a:lnTo>
                <a:lnTo>
                  <a:pt x="556" y="13"/>
                </a:lnTo>
                <a:lnTo>
                  <a:pt x="561" y="16"/>
                </a:lnTo>
                <a:lnTo>
                  <a:pt x="569" y="20"/>
                </a:lnTo>
                <a:lnTo>
                  <a:pt x="580" y="27"/>
                </a:lnTo>
                <a:lnTo>
                  <a:pt x="587" y="34"/>
                </a:lnTo>
                <a:lnTo>
                  <a:pt x="594" y="36"/>
                </a:lnTo>
                <a:lnTo>
                  <a:pt x="601" y="40"/>
                </a:lnTo>
                <a:lnTo>
                  <a:pt x="608" y="45"/>
                </a:lnTo>
                <a:lnTo>
                  <a:pt x="616" y="54"/>
                </a:lnTo>
                <a:lnTo>
                  <a:pt x="618" y="61"/>
                </a:lnTo>
                <a:lnTo>
                  <a:pt x="621" y="67"/>
                </a:lnTo>
                <a:lnTo>
                  <a:pt x="626" y="77"/>
                </a:lnTo>
                <a:lnTo>
                  <a:pt x="632" y="79"/>
                </a:lnTo>
                <a:lnTo>
                  <a:pt x="635" y="86"/>
                </a:lnTo>
                <a:lnTo>
                  <a:pt x="641" y="108"/>
                </a:lnTo>
                <a:lnTo>
                  <a:pt x="645" y="115"/>
                </a:lnTo>
                <a:lnTo>
                  <a:pt x="650" y="119"/>
                </a:lnTo>
                <a:lnTo>
                  <a:pt x="657" y="126"/>
                </a:lnTo>
                <a:lnTo>
                  <a:pt x="663" y="135"/>
                </a:lnTo>
                <a:lnTo>
                  <a:pt x="670" y="140"/>
                </a:lnTo>
                <a:lnTo>
                  <a:pt x="677" y="144"/>
                </a:lnTo>
                <a:lnTo>
                  <a:pt x="684" y="148"/>
                </a:lnTo>
                <a:lnTo>
                  <a:pt x="690" y="153"/>
                </a:lnTo>
                <a:lnTo>
                  <a:pt x="697" y="155"/>
                </a:lnTo>
                <a:lnTo>
                  <a:pt x="702" y="158"/>
                </a:lnTo>
                <a:lnTo>
                  <a:pt x="708" y="158"/>
                </a:lnTo>
                <a:lnTo>
                  <a:pt x="729" y="158"/>
                </a:lnTo>
                <a:lnTo>
                  <a:pt x="735" y="155"/>
                </a:lnTo>
                <a:lnTo>
                  <a:pt x="742" y="153"/>
                </a:lnTo>
                <a:lnTo>
                  <a:pt x="748" y="153"/>
                </a:lnTo>
                <a:lnTo>
                  <a:pt x="769" y="153"/>
                </a:lnTo>
                <a:lnTo>
                  <a:pt x="776" y="151"/>
                </a:lnTo>
                <a:lnTo>
                  <a:pt x="798" y="146"/>
                </a:lnTo>
                <a:lnTo>
                  <a:pt x="816" y="144"/>
                </a:lnTo>
                <a:lnTo>
                  <a:pt x="823" y="144"/>
                </a:lnTo>
                <a:lnTo>
                  <a:pt x="831" y="142"/>
                </a:lnTo>
                <a:lnTo>
                  <a:pt x="852" y="138"/>
                </a:lnTo>
                <a:lnTo>
                  <a:pt x="874" y="135"/>
                </a:lnTo>
                <a:lnTo>
                  <a:pt x="896" y="133"/>
                </a:lnTo>
                <a:lnTo>
                  <a:pt x="901" y="131"/>
                </a:lnTo>
                <a:lnTo>
                  <a:pt x="906" y="128"/>
                </a:lnTo>
                <a:lnTo>
                  <a:pt x="912" y="128"/>
                </a:lnTo>
                <a:lnTo>
                  <a:pt x="930" y="128"/>
                </a:lnTo>
                <a:lnTo>
                  <a:pt x="955" y="131"/>
                </a:lnTo>
                <a:lnTo>
                  <a:pt x="962" y="138"/>
                </a:lnTo>
                <a:lnTo>
                  <a:pt x="966" y="144"/>
                </a:lnTo>
                <a:lnTo>
                  <a:pt x="970" y="151"/>
                </a:lnTo>
                <a:lnTo>
                  <a:pt x="970" y="158"/>
                </a:lnTo>
                <a:lnTo>
                  <a:pt x="971" y="167"/>
                </a:lnTo>
                <a:lnTo>
                  <a:pt x="973" y="189"/>
                </a:lnTo>
                <a:lnTo>
                  <a:pt x="975" y="198"/>
                </a:lnTo>
                <a:lnTo>
                  <a:pt x="978" y="205"/>
                </a:lnTo>
                <a:lnTo>
                  <a:pt x="984" y="227"/>
                </a:lnTo>
                <a:lnTo>
                  <a:pt x="1006" y="254"/>
                </a:lnTo>
                <a:lnTo>
                  <a:pt x="1013" y="281"/>
                </a:lnTo>
                <a:lnTo>
                  <a:pt x="1011" y="293"/>
                </a:lnTo>
                <a:lnTo>
                  <a:pt x="1011" y="299"/>
                </a:lnTo>
                <a:lnTo>
                  <a:pt x="1002" y="310"/>
                </a:lnTo>
                <a:lnTo>
                  <a:pt x="998" y="317"/>
                </a:lnTo>
                <a:lnTo>
                  <a:pt x="998" y="324"/>
                </a:lnTo>
                <a:lnTo>
                  <a:pt x="998" y="347"/>
                </a:lnTo>
                <a:lnTo>
                  <a:pt x="1004" y="356"/>
                </a:lnTo>
                <a:lnTo>
                  <a:pt x="1004" y="362"/>
                </a:lnTo>
                <a:lnTo>
                  <a:pt x="997" y="376"/>
                </a:lnTo>
                <a:lnTo>
                  <a:pt x="989" y="403"/>
                </a:lnTo>
                <a:lnTo>
                  <a:pt x="986" y="412"/>
                </a:lnTo>
                <a:lnTo>
                  <a:pt x="980" y="421"/>
                </a:lnTo>
                <a:lnTo>
                  <a:pt x="973" y="448"/>
                </a:lnTo>
                <a:lnTo>
                  <a:pt x="968" y="475"/>
                </a:lnTo>
                <a:lnTo>
                  <a:pt x="966" y="497"/>
                </a:lnTo>
                <a:lnTo>
                  <a:pt x="968" y="504"/>
                </a:lnTo>
                <a:lnTo>
                  <a:pt x="966" y="511"/>
                </a:lnTo>
                <a:lnTo>
                  <a:pt x="964" y="518"/>
                </a:lnTo>
                <a:lnTo>
                  <a:pt x="962" y="526"/>
                </a:lnTo>
                <a:lnTo>
                  <a:pt x="962" y="533"/>
                </a:lnTo>
                <a:lnTo>
                  <a:pt x="957" y="547"/>
                </a:lnTo>
                <a:lnTo>
                  <a:pt x="953" y="569"/>
                </a:lnTo>
                <a:lnTo>
                  <a:pt x="953" y="592"/>
                </a:lnTo>
                <a:lnTo>
                  <a:pt x="953" y="601"/>
                </a:lnTo>
                <a:lnTo>
                  <a:pt x="953" y="610"/>
                </a:lnTo>
                <a:lnTo>
                  <a:pt x="957" y="637"/>
                </a:lnTo>
                <a:lnTo>
                  <a:pt x="957" y="648"/>
                </a:lnTo>
                <a:lnTo>
                  <a:pt x="955" y="657"/>
                </a:lnTo>
                <a:lnTo>
                  <a:pt x="951" y="666"/>
                </a:lnTo>
                <a:lnTo>
                  <a:pt x="944" y="693"/>
                </a:lnTo>
                <a:lnTo>
                  <a:pt x="926" y="715"/>
                </a:lnTo>
                <a:lnTo>
                  <a:pt x="919" y="720"/>
                </a:lnTo>
                <a:lnTo>
                  <a:pt x="912" y="725"/>
                </a:lnTo>
                <a:lnTo>
                  <a:pt x="886" y="729"/>
                </a:lnTo>
                <a:lnTo>
                  <a:pt x="865" y="736"/>
                </a:lnTo>
                <a:lnTo>
                  <a:pt x="840" y="740"/>
                </a:lnTo>
                <a:lnTo>
                  <a:pt x="832" y="742"/>
                </a:lnTo>
                <a:lnTo>
                  <a:pt x="814" y="747"/>
                </a:lnTo>
                <a:lnTo>
                  <a:pt x="805" y="745"/>
                </a:lnTo>
                <a:lnTo>
                  <a:pt x="783" y="738"/>
                </a:lnTo>
                <a:lnTo>
                  <a:pt x="758" y="731"/>
                </a:lnTo>
                <a:lnTo>
                  <a:pt x="740" y="722"/>
                </a:lnTo>
                <a:lnTo>
                  <a:pt x="718" y="715"/>
                </a:lnTo>
                <a:lnTo>
                  <a:pt x="708" y="713"/>
                </a:lnTo>
                <a:lnTo>
                  <a:pt x="679" y="718"/>
                </a:lnTo>
                <a:lnTo>
                  <a:pt x="661" y="720"/>
                </a:lnTo>
                <a:lnTo>
                  <a:pt x="655" y="725"/>
                </a:lnTo>
                <a:lnTo>
                  <a:pt x="645" y="734"/>
                </a:lnTo>
                <a:lnTo>
                  <a:pt x="635" y="734"/>
                </a:lnTo>
                <a:lnTo>
                  <a:pt x="614" y="725"/>
                </a:lnTo>
                <a:lnTo>
                  <a:pt x="585" y="698"/>
                </a:lnTo>
                <a:lnTo>
                  <a:pt x="563" y="693"/>
                </a:lnTo>
                <a:lnTo>
                  <a:pt x="556" y="691"/>
                </a:lnTo>
                <a:lnTo>
                  <a:pt x="531" y="688"/>
                </a:lnTo>
                <a:lnTo>
                  <a:pt x="513" y="688"/>
                </a:lnTo>
                <a:lnTo>
                  <a:pt x="507" y="688"/>
                </a:lnTo>
                <a:lnTo>
                  <a:pt x="500" y="695"/>
                </a:lnTo>
                <a:lnTo>
                  <a:pt x="493" y="702"/>
                </a:lnTo>
                <a:lnTo>
                  <a:pt x="475" y="707"/>
                </a:lnTo>
                <a:lnTo>
                  <a:pt x="450" y="711"/>
                </a:lnTo>
                <a:lnTo>
                  <a:pt x="417" y="709"/>
                </a:lnTo>
                <a:lnTo>
                  <a:pt x="381" y="702"/>
                </a:lnTo>
                <a:lnTo>
                  <a:pt x="345" y="698"/>
                </a:lnTo>
                <a:lnTo>
                  <a:pt x="338" y="698"/>
                </a:lnTo>
                <a:lnTo>
                  <a:pt x="332" y="698"/>
                </a:lnTo>
                <a:lnTo>
                  <a:pt x="314" y="698"/>
                </a:lnTo>
                <a:lnTo>
                  <a:pt x="307" y="698"/>
                </a:lnTo>
                <a:lnTo>
                  <a:pt x="274" y="698"/>
                </a:lnTo>
                <a:lnTo>
                  <a:pt x="253" y="698"/>
                </a:lnTo>
                <a:lnTo>
                  <a:pt x="247" y="698"/>
                </a:lnTo>
                <a:lnTo>
                  <a:pt x="240" y="702"/>
                </a:lnTo>
                <a:lnTo>
                  <a:pt x="215" y="702"/>
                </a:lnTo>
                <a:lnTo>
                  <a:pt x="175" y="702"/>
                </a:lnTo>
                <a:lnTo>
                  <a:pt x="168" y="700"/>
                </a:lnTo>
                <a:lnTo>
                  <a:pt x="160" y="677"/>
                </a:lnTo>
                <a:lnTo>
                  <a:pt x="163" y="641"/>
                </a:lnTo>
                <a:lnTo>
                  <a:pt x="168" y="619"/>
                </a:lnTo>
                <a:lnTo>
                  <a:pt x="170" y="610"/>
                </a:lnTo>
                <a:lnTo>
                  <a:pt x="175" y="601"/>
                </a:lnTo>
                <a:lnTo>
                  <a:pt x="179" y="594"/>
                </a:lnTo>
                <a:lnTo>
                  <a:pt x="179" y="585"/>
                </a:lnTo>
                <a:lnTo>
                  <a:pt x="173" y="563"/>
                </a:lnTo>
                <a:lnTo>
                  <a:pt x="144" y="540"/>
                </a:lnTo>
                <a:lnTo>
                  <a:pt x="123" y="533"/>
                </a:lnTo>
                <a:lnTo>
                  <a:pt x="123" y="524"/>
                </a:lnTo>
                <a:lnTo>
                  <a:pt x="128" y="493"/>
                </a:lnTo>
                <a:lnTo>
                  <a:pt x="125" y="484"/>
                </a:lnTo>
                <a:lnTo>
                  <a:pt x="119" y="479"/>
                </a:lnTo>
                <a:lnTo>
                  <a:pt x="117" y="472"/>
                </a:lnTo>
                <a:lnTo>
                  <a:pt x="115" y="441"/>
                </a:lnTo>
                <a:lnTo>
                  <a:pt x="108" y="418"/>
                </a:lnTo>
                <a:lnTo>
                  <a:pt x="47" y="378"/>
                </a:lnTo>
                <a:lnTo>
                  <a:pt x="22" y="374"/>
                </a:lnTo>
                <a:lnTo>
                  <a:pt x="27" y="371"/>
                </a:lnTo>
                <a:lnTo>
                  <a:pt x="33" y="367"/>
                </a:lnTo>
                <a:lnTo>
                  <a:pt x="38" y="360"/>
                </a:lnTo>
                <a:lnTo>
                  <a:pt x="43" y="351"/>
                </a:lnTo>
                <a:lnTo>
                  <a:pt x="50" y="344"/>
                </a:lnTo>
                <a:lnTo>
                  <a:pt x="56" y="340"/>
                </a:lnTo>
                <a:lnTo>
                  <a:pt x="61" y="326"/>
                </a:lnTo>
                <a:lnTo>
                  <a:pt x="29" y="290"/>
                </a:lnTo>
                <a:lnTo>
                  <a:pt x="0" y="281"/>
                </a:lnTo>
                <a:lnTo>
                  <a:pt x="2" y="275"/>
                </a:lnTo>
                <a:lnTo>
                  <a:pt x="9" y="268"/>
                </a:lnTo>
                <a:lnTo>
                  <a:pt x="27" y="259"/>
                </a:lnTo>
                <a:lnTo>
                  <a:pt x="45" y="250"/>
                </a:lnTo>
                <a:lnTo>
                  <a:pt x="63" y="241"/>
                </a:lnTo>
                <a:lnTo>
                  <a:pt x="68" y="239"/>
                </a:lnTo>
                <a:lnTo>
                  <a:pt x="76" y="236"/>
                </a:lnTo>
                <a:lnTo>
                  <a:pt x="83" y="234"/>
                </a:lnTo>
                <a:lnTo>
                  <a:pt x="88" y="229"/>
                </a:lnTo>
                <a:lnTo>
                  <a:pt x="92" y="218"/>
                </a:lnTo>
                <a:lnTo>
                  <a:pt x="94" y="212"/>
                </a:lnTo>
                <a:lnTo>
                  <a:pt x="95" y="189"/>
                </a:lnTo>
                <a:lnTo>
                  <a:pt x="98" y="167"/>
                </a:lnTo>
                <a:lnTo>
                  <a:pt x="103" y="140"/>
                </a:lnTo>
                <a:lnTo>
                  <a:pt x="112" y="128"/>
                </a:lnTo>
                <a:lnTo>
                  <a:pt x="117" y="121"/>
                </a:lnTo>
                <a:lnTo>
                  <a:pt x="123" y="117"/>
                </a:lnTo>
                <a:lnTo>
                  <a:pt x="128" y="117"/>
                </a:lnTo>
                <a:lnTo>
                  <a:pt x="133" y="119"/>
                </a:lnTo>
                <a:lnTo>
                  <a:pt x="139" y="119"/>
                </a:lnTo>
                <a:lnTo>
                  <a:pt x="146" y="117"/>
                </a:lnTo>
                <a:lnTo>
                  <a:pt x="164" y="113"/>
                </a:lnTo>
                <a:lnTo>
                  <a:pt x="182" y="108"/>
                </a:lnTo>
                <a:lnTo>
                  <a:pt x="208" y="104"/>
                </a:lnTo>
                <a:lnTo>
                  <a:pt x="225" y="101"/>
                </a:lnTo>
                <a:lnTo>
                  <a:pt x="233" y="104"/>
                </a:lnTo>
                <a:lnTo>
                  <a:pt x="240" y="106"/>
                </a:lnTo>
                <a:lnTo>
                  <a:pt x="245" y="113"/>
                </a:lnTo>
                <a:lnTo>
                  <a:pt x="253" y="140"/>
                </a:lnTo>
                <a:lnTo>
                  <a:pt x="258" y="162"/>
                </a:lnTo>
                <a:lnTo>
                  <a:pt x="265" y="155"/>
                </a:lnTo>
                <a:lnTo>
                  <a:pt x="271" y="155"/>
                </a:lnTo>
                <a:lnTo>
                  <a:pt x="280" y="153"/>
                </a:lnTo>
                <a:lnTo>
                  <a:pt x="298" y="146"/>
                </a:lnTo>
                <a:lnTo>
                  <a:pt x="316" y="119"/>
                </a:lnTo>
                <a:lnTo>
                  <a:pt x="323" y="115"/>
                </a:lnTo>
                <a:lnTo>
                  <a:pt x="328" y="111"/>
                </a:lnTo>
                <a:lnTo>
                  <a:pt x="336" y="106"/>
                </a:lnTo>
                <a:lnTo>
                  <a:pt x="347" y="97"/>
                </a:lnTo>
                <a:lnTo>
                  <a:pt x="352" y="94"/>
                </a:lnTo>
                <a:lnTo>
                  <a:pt x="359" y="94"/>
                </a:lnTo>
                <a:lnTo>
                  <a:pt x="365" y="94"/>
                </a:lnTo>
                <a:lnTo>
                  <a:pt x="374" y="101"/>
                </a:lnTo>
                <a:lnTo>
                  <a:pt x="381" y="106"/>
                </a:lnTo>
                <a:lnTo>
                  <a:pt x="386" y="111"/>
                </a:lnTo>
                <a:lnTo>
                  <a:pt x="392" y="113"/>
                </a:lnTo>
                <a:lnTo>
                  <a:pt x="399" y="115"/>
                </a:lnTo>
                <a:lnTo>
                  <a:pt x="406" y="119"/>
                </a:lnTo>
                <a:lnTo>
                  <a:pt x="415" y="124"/>
                </a:lnTo>
                <a:lnTo>
                  <a:pt x="421" y="126"/>
                </a:lnTo>
                <a:lnTo>
                  <a:pt x="424" y="133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3429000"/>
            <a:ext cx="1828800" cy="1066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4760" y="2347920"/>
            <a:ext cx="2868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s_a_kind_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5440" y="57769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39280" y="5873400"/>
            <a:ext cx="444600" cy="3682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5000" y="5776920"/>
            <a:ext cx="259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irtual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77080" y="39481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4121280" y="4044600"/>
            <a:ext cx="444240" cy="3682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9T11:29:54Z</dcterms:created>
  <dc:creator>CIS</dc:creator>
  <dc:description/>
  <dc:language>en-US</dc:language>
  <cp:lastModifiedBy>Ray S. Babcock</cp:lastModifiedBy>
  <cp:lastPrinted>1996-11-29T13:39:34Z</cp:lastPrinted>
  <dcterms:modified xsi:type="dcterms:W3CDTF">2003-07-23T18:45:28Z</dcterms:modified>
  <cp:revision>13</cp:revision>
  <dc:subject/>
  <dc:title>Booch and CRC</dc:title>
</cp:coreProperties>
</file>