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C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327 week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252 week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k the problem through with other Software Engin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ndidate class list forms the input to the next stage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C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64680" y="136440"/>
            <a:ext cx="1877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47560" y="944640"/>
            <a:ext cx="1553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81280" y="944640"/>
            <a:ext cx="1248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ch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81480" y="944640"/>
            <a:ext cx="2010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4240" y="30240"/>
            <a:ext cx="1246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use-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400" y="2270160"/>
            <a:ext cx="1249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65560" y="2163600"/>
            <a:ext cx="1073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spo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04960" y="2697120"/>
            <a:ext cx="1857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cand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class l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77600" y="3382920"/>
            <a:ext cx="172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CRC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81280" y="3611520"/>
            <a:ext cx="155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CRC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81280" y="4068720"/>
            <a:ext cx="170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class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7400" y="2270160"/>
            <a:ext cx="1998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/function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040" y="4632480"/>
            <a:ext cx="1080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17400" y="4632480"/>
            <a:ext cx="2040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d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structur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08400" y="6049800"/>
            <a:ext cx="1355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00440" y="6278400"/>
            <a:ext cx="63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00320" y="5821200"/>
            <a:ext cx="219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JSP dia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0440" y="4678200"/>
            <a:ext cx="2446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Booch dia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04960" y="4983120"/>
            <a:ext cx="1857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Booch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7360" y="82440"/>
            <a:ext cx="859788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7360" y="2216160"/>
            <a:ext cx="8597880" cy="219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7360" y="4578480"/>
            <a:ext cx="8597880" cy="212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1522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52280"/>
            <a:ext cx="198144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152280"/>
            <a:ext cx="403884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1600200"/>
            <a:ext cx="198144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1523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105160" y="1600200"/>
            <a:ext cx="205740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3352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57240" y="6049800"/>
            <a:ext cx="1400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4343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5638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64771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8120" y="136440"/>
            <a:ext cx="199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to bu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didate class   -   CRC 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7840" y="2332080"/>
            <a:ext cx="320940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ppoint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ud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vailability slo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9880" y="2368440"/>
            <a:ext cx="3035160" cy="158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03160" y="2347920"/>
            <a:ext cx="111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8480" y="2749680"/>
            <a:ext cx="3035160" cy="15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32120" y="2728800"/>
            <a:ext cx="170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oi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30760" y="3206880"/>
            <a:ext cx="3035160" cy="15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5480" y="3186000"/>
            <a:ext cx="1063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83040" y="3664080"/>
            <a:ext cx="3035520" cy="15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5240" y="3643200"/>
            <a:ext cx="215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ility_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11640" y="4121280"/>
            <a:ext cx="3035520" cy="15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66720" y="4100400"/>
            <a:ext cx="621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40240" y="4654440"/>
            <a:ext cx="3035520" cy="15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5680" y="4633920"/>
            <a:ext cx="82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45160" y="5035680"/>
            <a:ext cx="3035160" cy="15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98800" y="5014800"/>
            <a:ext cx="131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962520"/>
            <a:ext cx="1828800" cy="380880"/>
          </a:xfrm>
          <a:prstGeom prst="line">
            <a:avLst/>
          </a:prstGeom>
          <a:ln w="127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C card   -  format (FR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39960" y="1930320"/>
            <a:ext cx="7569000" cy="452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51200" y="189072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51920" y="2271600"/>
            <a:ext cx="859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51200" y="2576520"/>
            <a:ext cx="124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82920" y="3110040"/>
            <a:ext cx="203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64560" y="3110040"/>
            <a:ext cx="177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228600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66688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97180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297180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C card - format (BACK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39960" y="1930320"/>
            <a:ext cx="7569000" cy="452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50480" y="1967040"/>
            <a:ext cx="169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43828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all of the nouns in the candidate class list to CRC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f them may be thrown away in the subsequent discu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lasses may be added l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BASE and DERIVED fields to hold inheritance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on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each class responsible for know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each class responsible for  d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abo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each responsibility in 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whether the class under discussion fulfils the responsibility itself, or whether it get help from anothe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1T15:09:10Z</dcterms:created>
  <dc:creator>CIS</dc:creator>
  <dc:description/>
  <dc:language>en-US</dc:language>
  <cp:lastModifiedBy>Ray S. Babcock</cp:lastModifiedBy>
  <dcterms:modified xsi:type="dcterms:W3CDTF">2003-07-23T18:44:21Z</dcterms:modified>
  <cp:revision>6</cp:revision>
  <dc:subject/>
  <dc:title>Object Oriented Analysis and Design</dc:title>
</cp:coreProperties>
</file>