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09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040"/>
            <a:ext cx="77709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09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1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3791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040"/>
            <a:ext cx="3791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3965040"/>
            <a:ext cx="3791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09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440" y="1219320"/>
            <a:ext cx="2502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720" y="1219320"/>
            <a:ext cx="2502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040"/>
            <a:ext cx="2502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440" y="3965040"/>
            <a:ext cx="2502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720" y="3965040"/>
            <a:ext cx="2502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09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096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09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09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18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37918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09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09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09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1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37918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5040"/>
            <a:ext cx="3791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09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096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09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18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3791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7760" y="3965040"/>
            <a:ext cx="3791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09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1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3791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5040"/>
            <a:ext cx="77709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09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3965040"/>
            <a:ext cx="77709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09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1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3791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3965040"/>
            <a:ext cx="3791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7760" y="3965040"/>
            <a:ext cx="3791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09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440" y="1219320"/>
            <a:ext cx="2502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0720" y="1219320"/>
            <a:ext cx="2502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3965040"/>
            <a:ext cx="2502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440" y="3965040"/>
            <a:ext cx="2502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0720" y="3965040"/>
            <a:ext cx="2502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09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09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18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37918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09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09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09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1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37918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040"/>
            <a:ext cx="3791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09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18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3791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3965040"/>
            <a:ext cx="3791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09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1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3791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040"/>
            <a:ext cx="77709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238880" y="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09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09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 Prentice Hall, Inc.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600" y="76320"/>
            <a:ext cx="304920" cy="685800"/>
            <a:chOff x="7086600" y="76320"/>
            <a:chExt cx="304920" cy="685800"/>
          </a:xfrm>
        </p:grpSpPr>
        <p:grpSp>
          <p:nvGrpSpPr>
            <p:cNvPr id="45" name=""/>
            <p:cNvGrpSpPr/>
            <p:nvPr/>
          </p:nvGrpSpPr>
          <p:grpSpPr>
            <a:xfrm>
              <a:off x="7086600" y="76320"/>
              <a:ext cx="304920" cy="304560"/>
              <a:chOff x="7086600" y="76320"/>
              <a:chExt cx="304920" cy="304560"/>
            </a:xfrm>
          </p:grpSpPr>
          <p:sp>
            <p:nvSpPr>
              <p:cNvPr id="46" name=""/>
              <p:cNvSpPr/>
              <p:nvPr/>
            </p:nvSpPr>
            <p:spPr>
              <a:xfrm>
                <a:off x="7086600" y="76320"/>
                <a:ext cx="304920" cy="304560"/>
              </a:xfrm>
              <a:custGeom>
                <a:avLst/>
                <a:gdLst/>
                <a:ahLst/>
                <a:rect l="l" t="t" r="r" b="b"/>
                <a:pathLst>
                  <a:path w="847" h="848">
                    <a:moveTo>
                      <a:pt x="846" y="0"/>
                    </a:moveTo>
                    <a:lnTo>
                      <a:pt x="846" y="847"/>
                    </a:lnTo>
                    <a:lnTo>
                      <a:pt x="0" y="847"/>
                    </a:lnTo>
                    <a:lnTo>
                      <a:pt x="0" y="0"/>
                    </a:lnTo>
                    <a:lnTo>
                      <a:pt x="846" y="0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372440" y="76320"/>
                <a:ext cx="19080" cy="304560"/>
              </a:xfrm>
              <a:custGeom>
                <a:avLst/>
                <a:gdLst/>
                <a:ahLst/>
                <a:rect l="l" t="t" r="r" b="b"/>
                <a:pathLst>
                  <a:path w="55" h="848">
                    <a:moveTo>
                      <a:pt x="54" y="0"/>
                    </a:moveTo>
                    <a:lnTo>
                      <a:pt x="54" y="847"/>
                    </a:lnTo>
                    <a:lnTo>
                      <a:pt x="0" y="793"/>
                    </a:lnTo>
                    <a:lnTo>
                      <a:pt x="0" y="54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d2d2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086600" y="361800"/>
                <a:ext cx="304920" cy="19080"/>
              </a:xfrm>
              <a:custGeom>
                <a:avLst/>
                <a:gdLst/>
                <a:ahLst/>
                <a:rect l="l" t="t" r="r" b="b"/>
                <a:pathLst>
                  <a:path w="847" h="55">
                    <a:moveTo>
                      <a:pt x="846" y="54"/>
                    </a:moveTo>
                    <a:lnTo>
                      <a:pt x="0" y="54"/>
                    </a:lnTo>
                    <a:lnTo>
                      <a:pt x="54" y="0"/>
                    </a:lnTo>
                    <a:lnTo>
                      <a:pt x="792" y="0"/>
                    </a:lnTo>
                    <a:lnTo>
                      <a:pt x="846" y="54"/>
                    </a:lnTo>
                  </a:path>
                </a:pathLst>
              </a:custGeom>
              <a:solidFill>
                <a:srgbClr val="8a8a8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086600" y="76320"/>
                <a:ext cx="19080" cy="304560"/>
              </a:xfrm>
              <a:custGeom>
                <a:avLst/>
                <a:gdLst/>
                <a:ahLst/>
                <a:rect l="l" t="t" r="r" b="b"/>
                <a:pathLst>
                  <a:path w="55" h="848">
                    <a:moveTo>
                      <a:pt x="0" y="847"/>
                    </a:moveTo>
                    <a:lnTo>
                      <a:pt x="0" y="0"/>
                    </a:lnTo>
                    <a:lnTo>
                      <a:pt x="54" y="54"/>
                    </a:lnTo>
                    <a:lnTo>
                      <a:pt x="54" y="793"/>
                    </a:lnTo>
                    <a:lnTo>
                      <a:pt x="0" y="847"/>
                    </a:lnTo>
                  </a:path>
                </a:pathLst>
              </a:custGeom>
              <a:solidFill>
                <a:srgbClr val="a5a5a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086600" y="76320"/>
                <a:ext cx="304920" cy="19080"/>
              </a:xfrm>
              <a:custGeom>
                <a:avLst/>
                <a:gdLst/>
                <a:ahLst/>
                <a:rect l="l" t="t" r="r" b="b"/>
                <a:pathLst>
                  <a:path w="847" h="55">
                    <a:moveTo>
                      <a:pt x="0" y="0"/>
                    </a:moveTo>
                    <a:lnTo>
                      <a:pt x="846" y="0"/>
                    </a:lnTo>
                    <a:lnTo>
                      <a:pt x="792" y="54"/>
                    </a:lnTo>
                    <a:lnTo>
                      <a:pt x="54" y="5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4e4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140600" y="130320"/>
                <a:ext cx="198360" cy="198360"/>
              </a:xfrm>
              <a:custGeom>
                <a:avLst/>
                <a:gdLst/>
                <a:ahLst/>
                <a:rect l="l" t="t" r="r" b="b"/>
                <a:pathLst>
                  <a:path w="551" h="552">
                    <a:moveTo>
                      <a:pt x="276" y="0"/>
                    </a:moveTo>
                    <a:lnTo>
                      <a:pt x="550" y="551"/>
                    </a:lnTo>
                    <a:lnTo>
                      <a:pt x="0" y="551"/>
                    </a:lnTo>
                    <a:lnTo>
                      <a:pt x="276" y="0"/>
                    </a:lnTo>
                  </a:path>
                </a:pathLst>
              </a:custGeom>
              <a:solidFill>
                <a:srgbClr val="8a8a8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7086600" y="457200"/>
              <a:ext cx="304920" cy="304920"/>
              <a:chOff x="7086600" y="457200"/>
              <a:chExt cx="304920" cy="304920"/>
            </a:xfrm>
          </p:grpSpPr>
          <p:sp>
            <p:nvSpPr>
              <p:cNvPr id="53" name=""/>
              <p:cNvSpPr/>
              <p:nvPr/>
            </p:nvSpPr>
            <p:spPr>
              <a:xfrm>
                <a:off x="7086600" y="457200"/>
                <a:ext cx="304920" cy="304920"/>
              </a:xfrm>
              <a:custGeom>
                <a:avLst/>
                <a:gdLst/>
                <a:ahLst/>
                <a:rect l="l" t="t" r="r" b="b"/>
                <a:pathLst>
                  <a:path w="847" h="847">
                    <a:moveTo>
                      <a:pt x="0" y="846"/>
                    </a:moveTo>
                    <a:lnTo>
                      <a:pt x="0" y="0"/>
                    </a:lnTo>
                    <a:lnTo>
                      <a:pt x="846" y="0"/>
                    </a:lnTo>
                    <a:lnTo>
                      <a:pt x="846" y="846"/>
                    </a:lnTo>
                    <a:lnTo>
                      <a:pt x="0" y="846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86600" y="457200"/>
                <a:ext cx="19080" cy="304920"/>
              </a:xfrm>
              <a:custGeom>
                <a:avLst/>
                <a:gdLst/>
                <a:ahLst/>
                <a:rect l="l" t="t" r="r" b="b"/>
                <a:pathLst>
                  <a:path w="55" h="847">
                    <a:moveTo>
                      <a:pt x="0" y="846"/>
                    </a:moveTo>
                    <a:lnTo>
                      <a:pt x="0" y="0"/>
                    </a:lnTo>
                    <a:lnTo>
                      <a:pt x="54" y="55"/>
                    </a:lnTo>
                    <a:lnTo>
                      <a:pt x="54" y="793"/>
                    </a:lnTo>
                    <a:lnTo>
                      <a:pt x="0" y="846"/>
                    </a:lnTo>
                  </a:path>
                </a:pathLst>
              </a:custGeom>
              <a:solidFill>
                <a:srgbClr val="d2d2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086600" y="457200"/>
                <a:ext cx="304920" cy="20520"/>
              </a:xfrm>
              <a:custGeom>
                <a:avLst/>
                <a:gdLst/>
                <a:ahLst/>
                <a:rect l="l" t="t" r="r" b="b"/>
                <a:pathLst>
                  <a:path w="847" h="56">
                    <a:moveTo>
                      <a:pt x="0" y="0"/>
                    </a:moveTo>
                    <a:lnTo>
                      <a:pt x="846" y="0"/>
                    </a:lnTo>
                    <a:lnTo>
                      <a:pt x="792" y="55"/>
                    </a:lnTo>
                    <a:lnTo>
                      <a:pt x="54" y="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a8a8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72440" y="457200"/>
                <a:ext cx="19080" cy="304920"/>
              </a:xfrm>
              <a:custGeom>
                <a:avLst/>
                <a:gdLst/>
                <a:ahLst/>
                <a:rect l="l" t="t" r="r" b="b"/>
                <a:pathLst>
                  <a:path w="55" h="847">
                    <a:moveTo>
                      <a:pt x="54" y="0"/>
                    </a:moveTo>
                    <a:lnTo>
                      <a:pt x="54" y="846"/>
                    </a:lnTo>
                    <a:lnTo>
                      <a:pt x="0" y="793"/>
                    </a:lnTo>
                    <a:lnTo>
                      <a:pt x="0" y="55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a5a5a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086600" y="743040"/>
                <a:ext cx="304920" cy="19080"/>
              </a:xfrm>
              <a:custGeom>
                <a:avLst/>
                <a:gdLst/>
                <a:ahLst/>
                <a:rect l="l" t="t" r="r" b="b"/>
                <a:pathLst>
                  <a:path w="847" h="54">
                    <a:moveTo>
                      <a:pt x="846" y="53"/>
                    </a:moveTo>
                    <a:lnTo>
                      <a:pt x="0" y="53"/>
                    </a:lnTo>
                    <a:lnTo>
                      <a:pt x="54" y="0"/>
                    </a:lnTo>
                    <a:lnTo>
                      <a:pt x="792" y="0"/>
                    </a:lnTo>
                    <a:lnTo>
                      <a:pt x="846" y="53"/>
                    </a:lnTo>
                  </a:path>
                </a:pathLst>
              </a:custGeom>
              <a:solidFill>
                <a:srgbClr val="e4e4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140600" y="511200"/>
                <a:ext cx="196920" cy="198360"/>
              </a:xfrm>
              <a:custGeom>
                <a:avLst/>
                <a:gdLst/>
                <a:ahLst/>
                <a:rect l="l" t="t" r="r" b="b"/>
                <a:pathLst>
                  <a:path w="549" h="551">
                    <a:moveTo>
                      <a:pt x="274" y="550"/>
                    </a:moveTo>
                    <a:lnTo>
                      <a:pt x="0" y="0"/>
                    </a:lnTo>
                    <a:lnTo>
                      <a:pt x="548" y="0"/>
                    </a:lnTo>
                    <a:lnTo>
                      <a:pt x="274" y="550"/>
                    </a:lnTo>
                  </a:path>
                </a:pathLst>
              </a:custGeom>
              <a:solidFill>
                <a:srgbClr val="8a8a8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"/>
          <p:cNvSpPr/>
          <p:nvPr/>
        </p:nvSpPr>
        <p:spPr>
          <a:xfrm>
            <a:off x="6705720" y="838080"/>
            <a:ext cx="2438280" cy="6019920"/>
          </a:xfrm>
          <a:custGeom>
            <a:avLst/>
            <a:gdLst>
              <a:gd name="textAreaLeft" fmla="*/ 360 w 2438280"/>
              <a:gd name="textAreaRight" fmla="*/ 2437920 w 2438280"/>
              <a:gd name="textAreaTop" fmla="*/ 360 h 6019920"/>
              <a:gd name="textAreaBottom" fmla="*/ 6019560 h 6019920"/>
            </a:gdLst>
            <a:ahLst/>
            <a:rect l="textAreaLeft" t="textAreaTop" r="textAreaRight" b="textAreaBottom"/>
            <a:pathLst>
              <a:path w="21600" h="53324">
                <a:moveTo>
                  <a:pt x="14" y="0"/>
                </a:moveTo>
                <a:arcTo wR="14" hR="14" stAng="16200000" swAng="-5400000"/>
                <a:lnTo>
                  <a:pt x="0" y="53310"/>
                </a:lnTo>
                <a:arcTo wR="14" hR="14" stAng="10800000" swAng="-5400000"/>
                <a:lnTo>
                  <a:pt x="21586" y="53324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86800" y="0"/>
            <a:ext cx="457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hapter 13 - Exception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219320"/>
            <a:ext cx="77724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1  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2  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ception-Handling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3  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ther Error-Handling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4  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imple Exception-Handling Example: Divide by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5  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throwing an Ex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6  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ception 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7  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cessing Unexpected Exce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8  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ck Unw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9  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structors, Destructors and Exception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10  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ceptions and Inher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11  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cessing new Fail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12  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auto_ptr and Dynamic Memory Al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13  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ndard Library Exception Hierar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13.4  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	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Simple Exception-Handling Example: Divide by Zer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andle divide-by-zero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fine new exception cla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ivideByZero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herit from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n division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st denomin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zero, throw exception (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 objec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ttempt to div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ve enclo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lo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tch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ivideByZeroExcep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g13_01.cpp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1 of 3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1: fig13_01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simple exception-handling example that check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vide-by-zero excep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excep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xceptio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videByZeroException objects should be thrown by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on detecting division-by-zero exceptions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videByZeroException :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 {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specifies default error message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videByZeroException::DivideByZeroException()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: exception(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ttempted to divide by zero"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{}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DivideByZeroException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274920" y="1816200"/>
            <a:ext cx="3354480" cy="2450880"/>
            <a:chOff x="3274920" y="1816200"/>
            <a:chExt cx="3354480" cy="2450880"/>
          </a:xfrm>
        </p:grpSpPr>
        <p:grpSp>
          <p:nvGrpSpPr>
            <p:cNvPr id="122" name=""/>
            <p:cNvGrpSpPr/>
            <p:nvPr/>
          </p:nvGrpSpPr>
          <p:grpSpPr>
            <a:xfrm>
              <a:off x="3962520" y="1816200"/>
              <a:ext cx="2666880" cy="1079280"/>
              <a:chOff x="3962520" y="1816200"/>
              <a:chExt cx="2666880" cy="1079280"/>
            </a:xfrm>
          </p:grpSpPr>
          <p:sp>
            <p:nvSpPr>
              <p:cNvPr id="123" name=""/>
              <p:cNvSpPr/>
              <p:nvPr/>
            </p:nvSpPr>
            <p:spPr>
              <a:xfrm>
                <a:off x="3962520" y="1816200"/>
                <a:ext cx="2666880" cy="1079280"/>
              </a:xfrm>
              <a:prstGeom prst="roundRect">
                <a:avLst>
                  <a:gd name="adj" fmla="val 14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962520" y="1816200"/>
                <a:ext cx="2666880" cy="99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efine new exception class (inherit from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xception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. Pass a descriptive message to the constructo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H="1">
              <a:off x="3274920" y="2286000"/>
              <a:ext cx="6890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274920" y="2286000"/>
              <a:ext cx="68904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g13_01.cpp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2 of 3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626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form division and throw DivideByZeroException object i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vide-by-zero exception occ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otient(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erator,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nominato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row DivideByZeroException if trying to divide by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enominator ==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videByZeroException();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terminate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division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static_cast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numerator ) / denominat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1;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-specified num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2;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-specified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;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wo integers (end-of-file to end): 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284200" y="1751040"/>
            <a:ext cx="3811680" cy="1893960"/>
            <a:chOff x="2284200" y="1751040"/>
            <a:chExt cx="3811680" cy="1893960"/>
          </a:xfrm>
        </p:grpSpPr>
        <p:grpSp>
          <p:nvGrpSpPr>
            <p:cNvPr id="130" name=""/>
            <p:cNvGrpSpPr/>
            <p:nvPr/>
          </p:nvGrpSpPr>
          <p:grpSpPr>
            <a:xfrm>
              <a:off x="2971800" y="2814480"/>
              <a:ext cx="3124080" cy="830520"/>
              <a:chOff x="2971800" y="2814480"/>
              <a:chExt cx="3124080" cy="830520"/>
            </a:xfrm>
          </p:grpSpPr>
          <p:sp>
            <p:nvSpPr>
              <p:cNvPr id="131" name=""/>
              <p:cNvSpPr/>
              <p:nvPr/>
            </p:nvSpPr>
            <p:spPr>
              <a:xfrm>
                <a:off x="2971800" y="2814480"/>
                <a:ext cx="3124080" cy="830520"/>
              </a:xfrm>
              <a:prstGeom prst="roundRect">
                <a:avLst>
                  <a:gd name="adj" fmla="val 19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971800" y="2814480"/>
                <a:ext cx="3124080" cy="77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f the denominator is zero,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hrow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a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ivideByZeroException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object.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 flipH="1" flipV="1">
              <a:off x="2284200" y="1751040"/>
              <a:ext cx="688680" cy="12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g13_01.cpp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3 of 3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86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able user to enter two integers to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in &gt;&gt; number1 &gt;&gt; number2 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ry block contains code that might throw exception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code that should not execute if an exception occ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= quotient( number1, number2 );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quotient is: 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esult &lt;&lt; endl;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ception handler handles a divide-by-zero exception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ivideByZeroException &amp;divideByZeroException ) {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occurred: 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divideByZeroException.what() &lt;&lt; endl;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tch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nter two integers (end-of-file to end): 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360520" y="3427560"/>
            <a:ext cx="4040280" cy="3068640"/>
            <a:chOff x="2360520" y="3427560"/>
            <a:chExt cx="4040280" cy="3068640"/>
          </a:xfrm>
        </p:grpSpPr>
        <p:grpSp>
          <p:nvGrpSpPr>
            <p:cNvPr id="137" name=""/>
            <p:cNvGrpSpPr/>
            <p:nvPr/>
          </p:nvGrpSpPr>
          <p:grpSpPr>
            <a:xfrm>
              <a:off x="3429000" y="3759120"/>
              <a:ext cx="2971800" cy="2737080"/>
              <a:chOff x="3429000" y="3759120"/>
              <a:chExt cx="2971800" cy="2737080"/>
            </a:xfrm>
          </p:grpSpPr>
          <p:sp>
            <p:nvSpPr>
              <p:cNvPr id="138" name=""/>
              <p:cNvSpPr/>
              <p:nvPr/>
            </p:nvSpPr>
            <p:spPr>
              <a:xfrm>
                <a:off x="3429000" y="3759120"/>
                <a:ext cx="2971800" cy="2737080"/>
              </a:xfrm>
              <a:prstGeom prst="roundRect">
                <a:avLst>
                  <a:gd name="adj" fmla="val 56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429000" y="3759120"/>
                <a:ext cx="2971800" cy="264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ice the structure of the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ry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and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tch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blocks. The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tch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block can catch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ivideByZeroException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objects, and print an error message. If no exception occurs, the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tch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block is skipped.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ember function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what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returns the string describing the exception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 flipV="1">
              <a:off x="2360520" y="3427560"/>
              <a:ext cx="1069920" cy="4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g13_01.cpp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output (1 of 1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314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94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 (end-of-file to end): 100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quotient is: 14.28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 (end-of-file to end): 10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 occurred: attempted to divide by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 (end-of-file to end): ^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13.5  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	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Rethrowing an Excep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throwing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se when exception handler cannot process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n still rethrow if handler did some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n rethrow exception to another hand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es to next enclo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rrespond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locks try to han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reth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se statement 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throw;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rminates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3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g13_02.cpp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1 of 2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7315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2: fig13_02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exception rethr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excep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xceptio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row, catch and rethrow ex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hrowException(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row exception and catch it immedi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Function throwException throws an exception\n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();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nerate ex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ex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exception &amp;caughtException 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Exception handled in function throwException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Function throwException rethrows exception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hrow exception for further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598760" y="1905120"/>
            <a:ext cx="4649760" cy="4038480"/>
            <a:chOff x="1598760" y="1905120"/>
            <a:chExt cx="4649760" cy="4038480"/>
          </a:xfrm>
        </p:grpSpPr>
        <p:grpSp>
          <p:nvGrpSpPr>
            <p:cNvPr id="148" name=""/>
            <p:cNvGrpSpPr/>
            <p:nvPr/>
          </p:nvGrpSpPr>
          <p:grpSpPr>
            <a:xfrm>
              <a:off x="3581280" y="1905120"/>
              <a:ext cx="2667240" cy="1323720"/>
              <a:chOff x="3581280" y="1905120"/>
              <a:chExt cx="2667240" cy="132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3581280" y="1905120"/>
                <a:ext cx="2667240" cy="1323720"/>
              </a:xfrm>
              <a:prstGeom prst="roundRect">
                <a:avLst>
                  <a:gd name="adj" fmla="val 116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581280" y="1905120"/>
                <a:ext cx="2667240" cy="12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xception handler generates a default exception (base class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xception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. It immediately catches and rethrows it (note use of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hrow;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flipH="1">
              <a:off x="2360520" y="2514600"/>
              <a:ext cx="1222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98760" y="2514600"/>
              <a:ext cx="198432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g13_02.cpp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2 of 2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6056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s also should not print\n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throwEx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row ex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ain invokes function throwException\n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hrowException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s should not print\n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ex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&amp;caughtException 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Exception handled in main\n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gram control continues after catch in main\n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513160" y="531360"/>
            <a:ext cx="3659040" cy="1446840"/>
            <a:chOff x="2513160" y="531360"/>
            <a:chExt cx="3659040" cy="1446840"/>
          </a:xfrm>
        </p:grpSpPr>
        <p:grpSp>
          <p:nvGrpSpPr>
            <p:cNvPr id="156" name=""/>
            <p:cNvGrpSpPr/>
            <p:nvPr/>
          </p:nvGrpSpPr>
          <p:grpSpPr>
            <a:xfrm>
              <a:off x="3505320" y="1143000"/>
              <a:ext cx="2666880" cy="835200"/>
              <a:chOff x="3505320" y="1143000"/>
              <a:chExt cx="2666880" cy="835200"/>
            </a:xfrm>
          </p:grpSpPr>
          <p:sp>
            <p:nvSpPr>
              <p:cNvPr id="157" name=""/>
              <p:cNvSpPr/>
              <p:nvPr/>
            </p:nvSpPr>
            <p:spPr>
              <a:xfrm>
                <a:off x="3505320" y="1143000"/>
                <a:ext cx="2666880" cy="835200"/>
              </a:xfrm>
              <a:prstGeom prst="roundRect">
                <a:avLst>
                  <a:gd name="adj" fmla="val 19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505320" y="1143000"/>
                <a:ext cx="2666880" cy="77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his should never be reached, since the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hrow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mmediately exits the function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 flipH="1" flipV="1">
              <a:off x="2513160" y="531360"/>
              <a:ext cx="993600" cy="99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588760" y="2436840"/>
            <a:ext cx="4040640" cy="1233360"/>
            <a:chOff x="2588760" y="2436840"/>
            <a:chExt cx="4040640" cy="1233360"/>
          </a:xfrm>
        </p:grpSpPr>
        <p:grpSp>
          <p:nvGrpSpPr>
            <p:cNvPr id="161" name=""/>
            <p:cNvGrpSpPr/>
            <p:nvPr/>
          </p:nvGrpSpPr>
          <p:grpSpPr>
            <a:xfrm>
              <a:off x="3962520" y="2590920"/>
              <a:ext cx="2666880" cy="1079280"/>
              <a:chOff x="3962520" y="2590920"/>
              <a:chExt cx="2666880" cy="1079280"/>
            </a:xfrm>
          </p:grpSpPr>
          <p:sp>
            <p:nvSpPr>
              <p:cNvPr id="162" name=""/>
              <p:cNvSpPr/>
              <p:nvPr/>
            </p:nvSpPr>
            <p:spPr>
              <a:xfrm>
                <a:off x="3962520" y="2590920"/>
                <a:ext cx="2666880" cy="1079280"/>
              </a:xfrm>
              <a:prstGeom prst="roundRect">
                <a:avLst>
                  <a:gd name="adj" fmla="val 14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962520" y="2590920"/>
                <a:ext cx="26668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hrowException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rethrows an exception to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ain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 It is caught and handle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flipH="1" flipV="1">
              <a:off x="2588760" y="2436840"/>
              <a:ext cx="13748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g13_02.cpp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output (1 of 1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092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94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invokes function throwEx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hrowException throws an ex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 handled in function throwEx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hrowException rethrows ex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 handled in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ram control continues after catch in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13.6  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	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Exception Specific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st of exceptions function can th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lso called throw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omeFunction( double value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 ( ExceptionA, ExceptionB, ExceptionC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// function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n only throw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Exception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ExceptionB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ExceptionC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(and derived class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throws other type, function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nexp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y default, terminates program (more 13.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f no throw list, can throw any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f empty throw list, cannot throw any excep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13.1  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	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ndicates problem occurred in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Not comm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"exception" to a program that usually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ception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Resolve excep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rogram may be able to contin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d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Write fault-tolerant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 an example, we will handle a divide-by-zero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13.7  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	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Processing Unexpected Excep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unex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lls function registered with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et_unexp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xcep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ll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rmin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y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et_termin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ts what function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rmin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y default, call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redefined, still call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bor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fter new function fini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rguments for se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ass pointer to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nction must take 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13.8  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	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Stack Unwin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exception thrown but not cau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oes to enclosing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erminates current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winds function call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ooks for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that can handle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none found, unwinds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exception never cau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ll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termin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g13_03.cpp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1 of 2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9259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3: fig13_03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ack unwi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dexcep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untime_err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3 throws run-time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3()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untime_erro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time_error(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untime_error in function3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u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2 invokes function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2()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untime_erro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unction3();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970360" y="1981080"/>
            <a:ext cx="4116240" cy="1219320"/>
            <a:chOff x="2970360" y="1981080"/>
            <a:chExt cx="4116240" cy="1219320"/>
          </a:xfrm>
        </p:grpSpPr>
        <p:grpSp>
          <p:nvGrpSpPr>
            <p:cNvPr id="176" name=""/>
            <p:cNvGrpSpPr/>
            <p:nvPr/>
          </p:nvGrpSpPr>
          <p:grpSpPr>
            <a:xfrm>
              <a:off x="2970360" y="1981080"/>
              <a:ext cx="4116240" cy="1079640"/>
              <a:chOff x="2970360" y="1981080"/>
              <a:chExt cx="4116240" cy="107964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4419720" y="1981080"/>
                <a:ext cx="2666880" cy="1079640"/>
                <a:chOff x="4419720" y="1981080"/>
                <a:chExt cx="2666880" cy="10796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419720" y="1981080"/>
                  <a:ext cx="2666880" cy="1079640"/>
                </a:xfrm>
                <a:prstGeom prst="roundRect">
                  <a:avLst>
                    <a:gd name="adj" fmla="val 144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419720" y="1981080"/>
                  <a:ext cx="2666880" cy="99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te the use of the throw list. Throws a runtime error exception, defined in </a:t>
                  </a:r>
                  <a:r>
                    <a:rPr b="1" lang="en-GB" sz="16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&lt;stdexcept&gt;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 flipH="1">
                <a:off x="2970360" y="2133720"/>
                <a:ext cx="14508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 flipH="1">
              <a:off x="4113000" y="2133720"/>
              <a:ext cx="307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g13_03.cpp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2 of 2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388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1 invokes functio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1()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untime_erro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unction2();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 stack unwi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 functio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unction1();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run-time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untime_error &amp;error )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f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occurred: 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rror.what()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0" y="5638680"/>
            <a:ext cx="7010280" cy="756360"/>
            <a:chOff x="0" y="5638680"/>
            <a:chExt cx="7010280" cy="756360"/>
          </a:xfrm>
        </p:grpSpPr>
        <p:sp>
          <p:nvSpPr>
            <p:cNvPr id="185" name=""/>
            <p:cNvSpPr/>
            <p:nvPr/>
          </p:nvSpPr>
          <p:spPr>
            <a:xfrm>
              <a:off x="0" y="5638680"/>
              <a:ext cx="7010280" cy="533520"/>
            </a:xfrm>
            <a:prstGeom prst="roundRect">
              <a:avLst>
                <a:gd name="adj" fmla="val 296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5638680"/>
              <a:ext cx="701028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lnSpc>
                  <a:spcPct val="94000"/>
                </a:lnSpc>
                <a:spcBef>
                  <a:spcPts val="2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xception occurred: runtime_error in function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979640" y="1752480"/>
            <a:ext cx="4116240" cy="1548000"/>
            <a:chOff x="1979640" y="1752480"/>
            <a:chExt cx="4116240" cy="1548000"/>
          </a:xfrm>
        </p:grpSpPr>
        <p:grpSp>
          <p:nvGrpSpPr>
            <p:cNvPr id="188" name=""/>
            <p:cNvGrpSpPr/>
            <p:nvPr/>
          </p:nvGrpSpPr>
          <p:grpSpPr>
            <a:xfrm>
              <a:off x="3429000" y="1752480"/>
              <a:ext cx="2666880" cy="1548000"/>
              <a:chOff x="3429000" y="1752480"/>
              <a:chExt cx="2666880" cy="1548000"/>
            </a:xfrm>
          </p:grpSpPr>
          <p:sp>
            <p:nvSpPr>
              <p:cNvPr id="189" name=""/>
              <p:cNvSpPr/>
              <p:nvPr/>
            </p:nvSpPr>
            <p:spPr>
              <a:xfrm>
                <a:off x="3429000" y="1752480"/>
                <a:ext cx="2666880" cy="1548000"/>
              </a:xfrm>
              <a:prstGeom prst="roundRect">
                <a:avLst>
                  <a:gd name="adj" fmla="val 102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429000" y="1752480"/>
                <a:ext cx="26668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function1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alls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function2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which calls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function3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 The exception occurs, and unwinds until an appropriate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ry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/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tch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block can be foun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H="1">
              <a:off x="1979640" y="1903320"/>
              <a:ext cx="1450800" cy="67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13.9  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	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Constructors, Destructors and Exception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rror in 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fails; cannot allocate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nnot return a value - how to inform us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pe user examines object, notices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t some global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ood alternative: throw an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structors automatically called for member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lled for automatic variables in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catch exceptions in de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13.10  Exceptions and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ception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n be derived from base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.e.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can handle base class, can handle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lymorphic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13.11  Processing new Fail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ails to ge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hould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bad_alloc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fined in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new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ome compilers have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return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Result depends on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g13_04.cpp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1 of 2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156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4: fig13_04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pre-standard new returning 0 when mem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is not alloc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[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llocate memory for 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tr[ i ] =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0000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ew returns 0 on failure to allocate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tr[ i ] ==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emory allocation failed for ptr[ 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i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]\n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817360" y="2895480"/>
            <a:ext cx="4116960" cy="838440"/>
            <a:chOff x="2817360" y="2895480"/>
            <a:chExt cx="4116960" cy="838440"/>
          </a:xfrm>
        </p:grpSpPr>
        <p:grpSp>
          <p:nvGrpSpPr>
            <p:cNvPr id="201" name=""/>
            <p:cNvGrpSpPr/>
            <p:nvPr/>
          </p:nvGrpSpPr>
          <p:grpSpPr>
            <a:xfrm>
              <a:off x="4267080" y="2895480"/>
              <a:ext cx="2667240" cy="835200"/>
              <a:chOff x="4267080" y="2895480"/>
              <a:chExt cx="2667240" cy="835200"/>
            </a:xfrm>
          </p:grpSpPr>
          <p:sp>
            <p:nvSpPr>
              <p:cNvPr id="202" name=""/>
              <p:cNvSpPr/>
              <p:nvPr/>
            </p:nvSpPr>
            <p:spPr>
              <a:xfrm>
                <a:off x="4267080" y="2895480"/>
                <a:ext cx="2667240" cy="835200"/>
              </a:xfrm>
              <a:prstGeom prst="roundRect">
                <a:avLst>
                  <a:gd name="adj" fmla="val 19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267080" y="2895480"/>
                <a:ext cx="2667240" cy="5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emonstrating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that returns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0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on allocation failure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 flipH="1">
              <a:off x="2817360" y="3048120"/>
              <a:ext cx="1451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g13_04.cpp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2 of 2)</a:t>
            </a:r>
            <a:br>
              <a:rPr sz="1600"/>
            </a:b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g13_04.cpp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output (1 of 1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884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uccessful memory al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located 5000000 doubles in ptr[ 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i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]\n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2438280"/>
            <a:ext cx="7010280" cy="1631880"/>
            <a:chOff x="0" y="2438280"/>
            <a:chExt cx="7010280" cy="1631880"/>
          </a:xfrm>
        </p:grpSpPr>
        <p:sp>
          <p:nvSpPr>
            <p:cNvPr id="208" name=""/>
            <p:cNvSpPr/>
            <p:nvPr/>
          </p:nvSpPr>
          <p:spPr>
            <a:xfrm>
              <a:off x="0" y="2438280"/>
              <a:ext cx="7010280" cy="1371600"/>
            </a:xfrm>
            <a:prstGeom prst="roundRect">
              <a:avLst>
                <a:gd name="adj" fmla="val 116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2438280"/>
              <a:ext cx="7010280" cy="16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lnSpc>
                  <a:spcPct val="94000"/>
                </a:lnSpc>
                <a:spcBef>
                  <a:spcPts val="2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llocated 5000000 doubles in ptr[ 0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llocated 5000000 doubles in ptr[ 1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llocated 5000000 doubles in ptr[ 2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llocated 5000000 doubles in ptr[ 3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emory allocation failed for ptr[ 4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g13_05.cpp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1 of 2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7093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5: fig13_05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andard new throwing bad_alloc when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nnot be alloc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operator 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bad_allo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[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ttempt to allocate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llocate memory for ptr[ i ]; new throws bad_allo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</a:t>
            </a: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GB" sz="1200" spc="-1" strike="noStrike">
                <a:solidFill>
                  <a:srgbClr val="66ff33"/>
                </a:solidFill>
                <a:latin typeface="Courier New"/>
                <a:ea typeface="Courier New"/>
              </a:rPr>
              <a:t>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on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tr[ i ] =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 doubl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0000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located 5000000 doubles in ptr[ 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i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]\n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217160" y="3124080"/>
            <a:ext cx="4116960" cy="838440"/>
            <a:chOff x="1217160" y="3124080"/>
            <a:chExt cx="4116960" cy="838440"/>
          </a:xfrm>
        </p:grpSpPr>
        <p:grpSp>
          <p:nvGrpSpPr>
            <p:cNvPr id="213" name=""/>
            <p:cNvGrpSpPr/>
            <p:nvPr/>
          </p:nvGrpSpPr>
          <p:grpSpPr>
            <a:xfrm>
              <a:off x="2666880" y="3124080"/>
              <a:ext cx="2667240" cy="590760"/>
              <a:chOff x="2666880" y="3124080"/>
              <a:chExt cx="2667240" cy="590760"/>
            </a:xfrm>
          </p:grpSpPr>
          <p:sp>
            <p:nvSpPr>
              <p:cNvPr id="214" name=""/>
              <p:cNvSpPr/>
              <p:nvPr/>
            </p:nvSpPr>
            <p:spPr>
              <a:xfrm>
                <a:off x="2666880" y="3124080"/>
                <a:ext cx="2667240" cy="590760"/>
              </a:xfrm>
              <a:prstGeom prst="roundRect">
                <a:avLst>
                  <a:gd name="adj" fmla="val 269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66880" y="3124080"/>
                <a:ext cx="2667240" cy="5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emonstrating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that throws an exception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 flipH="1">
              <a:off x="1217160" y="3276720"/>
              <a:ext cx="1451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13.2  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	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Exception-Handling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ider pseu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a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preceding task did not execute correctly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error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next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preceding task did not execute correctly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error processing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xing logic and error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n make program difficult to read/debu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xception handling removes error correction from "main line" of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g13_05.cpp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2 of 2)</a:t>
            </a:r>
            <a:br>
              <a:rPr sz="1600"/>
            </a:b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g13_05.cpp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output (1 of 1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11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bad_alloc ex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bad_alloc &amp;memoryAllocationException 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occurred: 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memoryAllocationException.what()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0" y="2590920"/>
            <a:ext cx="7010280" cy="1631880"/>
            <a:chOff x="0" y="2590920"/>
            <a:chExt cx="7010280" cy="1631880"/>
          </a:xfrm>
        </p:grpSpPr>
        <p:sp>
          <p:nvSpPr>
            <p:cNvPr id="220" name=""/>
            <p:cNvSpPr/>
            <p:nvPr/>
          </p:nvSpPr>
          <p:spPr>
            <a:xfrm>
              <a:off x="0" y="2590920"/>
              <a:ext cx="7010280" cy="1447560"/>
            </a:xfrm>
            <a:prstGeom prst="roundRect">
              <a:avLst>
                <a:gd name="adj" fmla="val 106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2590920"/>
              <a:ext cx="7010280" cy="16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lnSpc>
                  <a:spcPct val="94000"/>
                </a:lnSpc>
                <a:spcBef>
                  <a:spcPts val="2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llocated 5000000 doubles in ptr[ 0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llocated 5000000 doubles in ptr[ 1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llocated 5000000 doubles in ptr[ 2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llocated 5000000 doubles in ptr[ 3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xception occurred: Allocation Fail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13.11  Processing new Fail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et_new_hand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&lt;new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Register function to call when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fai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akes function pointer to function th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kes 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nce registered, function called instead of throwing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3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g13_06.cpp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1 of 2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154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6: fig13_06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et_new_handl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 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operator new and set_new_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_new_handl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bort function prot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NewHandler()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err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ustomNewHandler was called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bort();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et_new_handler to handle failed memory al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[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598760" y="2209680"/>
            <a:ext cx="4116240" cy="838440"/>
            <a:chOff x="1598760" y="2209680"/>
            <a:chExt cx="4116240" cy="838440"/>
          </a:xfrm>
        </p:grpSpPr>
        <p:grpSp>
          <p:nvGrpSpPr>
            <p:cNvPr id="227" name=""/>
            <p:cNvGrpSpPr/>
            <p:nvPr/>
          </p:nvGrpSpPr>
          <p:grpSpPr>
            <a:xfrm>
              <a:off x="3048120" y="2209680"/>
              <a:ext cx="2666880" cy="835200"/>
              <a:chOff x="3048120" y="2209680"/>
              <a:chExt cx="2666880" cy="835200"/>
            </a:xfrm>
          </p:grpSpPr>
          <p:sp>
            <p:nvSpPr>
              <p:cNvPr id="228" name=""/>
              <p:cNvSpPr/>
              <p:nvPr/>
            </p:nvSpPr>
            <p:spPr>
              <a:xfrm>
                <a:off x="3048120" y="2209680"/>
                <a:ext cx="2666880" cy="835200"/>
              </a:xfrm>
              <a:prstGeom prst="roundRect">
                <a:avLst>
                  <a:gd name="adj" fmla="val 19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048120" y="2209680"/>
                <a:ext cx="2666880" cy="77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he custom handler must take no arguments and return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 flipH="1">
              <a:off x="1598760" y="2362320"/>
              <a:ext cx="1450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g13_06.cpp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2 of 2)</a:t>
            </a:r>
            <a:br>
              <a:rPr sz="1600"/>
            </a:b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g13_06.cpp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output (1 of 1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1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pecify that customNewHandler should be called on fa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mory allocation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_new_handler( customNewHandler );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llocate memory for ptr[ i ]; customNewHandler will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GB" sz="1200" spc="-1" strike="noStrike">
                <a:solidFill>
                  <a:srgbClr val="66ff33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called on failed memory al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tr[ i ] =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 doubl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0000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located 5000000 doubles in ptr[ 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i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]\n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0" y="3962520"/>
            <a:ext cx="7010280" cy="1631880"/>
            <a:chOff x="0" y="3962520"/>
            <a:chExt cx="7010280" cy="1631880"/>
          </a:xfrm>
        </p:grpSpPr>
        <p:sp>
          <p:nvSpPr>
            <p:cNvPr id="234" name=""/>
            <p:cNvSpPr/>
            <p:nvPr/>
          </p:nvSpPr>
          <p:spPr>
            <a:xfrm>
              <a:off x="0" y="3962520"/>
              <a:ext cx="7010280" cy="1295280"/>
            </a:xfrm>
            <a:prstGeom prst="roundRect">
              <a:avLst>
                <a:gd name="adj" fmla="val 12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3962520"/>
              <a:ext cx="7010280" cy="16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lnSpc>
                  <a:spcPct val="94000"/>
                </a:lnSpc>
                <a:spcBef>
                  <a:spcPts val="2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llocated 5000000 doubles in ptr[ 0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llocated 5000000 doubles in ptr[ 1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llocated 5000000 doubles in ptr[ 2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llocated 5000000 doubles in ptr[ 3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ustomNewHandler was call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436480" y="836280"/>
            <a:ext cx="3430800" cy="2268720"/>
            <a:chOff x="2436480" y="836280"/>
            <a:chExt cx="3430800" cy="2268720"/>
          </a:xfrm>
        </p:grpSpPr>
        <p:grpSp>
          <p:nvGrpSpPr>
            <p:cNvPr id="237" name=""/>
            <p:cNvGrpSpPr/>
            <p:nvPr/>
          </p:nvGrpSpPr>
          <p:grpSpPr>
            <a:xfrm>
              <a:off x="3200400" y="2514600"/>
              <a:ext cx="2666880" cy="590400"/>
              <a:chOff x="3200400" y="2514600"/>
              <a:chExt cx="2666880" cy="590400"/>
            </a:xfrm>
          </p:grpSpPr>
          <p:sp>
            <p:nvSpPr>
              <p:cNvPr id="238" name=""/>
              <p:cNvSpPr/>
              <p:nvPr/>
            </p:nvSpPr>
            <p:spPr>
              <a:xfrm>
                <a:off x="3200400" y="2514600"/>
                <a:ext cx="2666880" cy="590400"/>
              </a:xfrm>
              <a:prstGeom prst="roundRect">
                <a:avLst>
                  <a:gd name="adj" fmla="val 269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200400" y="2514600"/>
                <a:ext cx="2666880" cy="5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e call to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set_new_handler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 flipH="1" flipV="1">
              <a:off x="2436480" y="836280"/>
              <a:ext cx="765000" cy="18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13.12  Class auto_ptr and Dynamic Memory Allo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clare pointer, allocate memory with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What if exception occurs before you can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i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emory le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mplate class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auto_p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&lt;memory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ike regular pointers (ha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When pointer goes out of scope, call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revents memory lea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uto_ptr&lt; MyClass &gt; newPointer( new MyClass(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Poin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points to dynamically allocated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g13_07.cpp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1 of 3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915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7: fig13_07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auto_pt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memor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auto_ptr;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uto_ptr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GB" sz="1200" spc="-1" strike="noStrike">
                <a:solidFill>
                  <a:srgbClr val="275aff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ger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(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: value( i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structor for Integer 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value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teger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g13_07.cpp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2 of 3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618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GB" sz="1200" spc="-1" strike="noStrike">
                <a:solidFill>
                  <a:srgbClr val="275aff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ger de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Intege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structor for Integer 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value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teger de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unction to set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Integer(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= 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unction to return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Integer()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g13_07.cpp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3 of 3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83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auto_ptr to manipulate Integer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ating an auto_ptr object that points to an 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\n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"aim" auto_ptr at Integer object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uto_ptr&lt; Integer &gt; ptrToInteger(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Using the auto_ptr to manipulate the Integer\n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auto_ptr to set Integer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ToInteger-&gt;setInteger(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auto_ptr to get Integer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 after setInteger: 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*ptrToInteger ).getIntege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erminating program"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GB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045960" y="838080"/>
            <a:ext cx="4116960" cy="838440"/>
            <a:chOff x="3045960" y="838080"/>
            <a:chExt cx="4116960" cy="838440"/>
          </a:xfrm>
        </p:grpSpPr>
        <p:grpSp>
          <p:nvGrpSpPr>
            <p:cNvPr id="250" name=""/>
            <p:cNvGrpSpPr/>
            <p:nvPr/>
          </p:nvGrpSpPr>
          <p:grpSpPr>
            <a:xfrm>
              <a:off x="4495680" y="838080"/>
              <a:ext cx="2667240" cy="835200"/>
              <a:chOff x="4495680" y="838080"/>
              <a:chExt cx="2667240" cy="835200"/>
            </a:xfrm>
          </p:grpSpPr>
          <p:sp>
            <p:nvSpPr>
              <p:cNvPr id="251" name=""/>
              <p:cNvSpPr/>
              <p:nvPr/>
            </p:nvSpPr>
            <p:spPr>
              <a:xfrm>
                <a:off x="4495680" y="838080"/>
                <a:ext cx="2667240" cy="835200"/>
              </a:xfrm>
              <a:prstGeom prst="roundRect">
                <a:avLst>
                  <a:gd name="adj" fmla="val 19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495680" y="838080"/>
                <a:ext cx="2667240" cy="77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reate an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auto_ptr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 It can be manipulated like a regular pointe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 flipH="1">
              <a:off x="3045960" y="990720"/>
              <a:ext cx="1451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265640" y="3048120"/>
            <a:ext cx="4116240" cy="1565280"/>
            <a:chOff x="4265640" y="3048120"/>
            <a:chExt cx="4116240" cy="1565280"/>
          </a:xfrm>
        </p:grpSpPr>
        <p:grpSp>
          <p:nvGrpSpPr>
            <p:cNvPr id="255" name=""/>
            <p:cNvGrpSpPr/>
            <p:nvPr/>
          </p:nvGrpSpPr>
          <p:grpSpPr>
            <a:xfrm>
              <a:off x="5715000" y="3048120"/>
              <a:ext cx="2666880" cy="1565280"/>
              <a:chOff x="5715000" y="3048120"/>
              <a:chExt cx="2666880" cy="1565280"/>
            </a:xfrm>
          </p:grpSpPr>
          <p:sp>
            <p:nvSpPr>
              <p:cNvPr id="256" name=""/>
              <p:cNvSpPr/>
              <p:nvPr/>
            </p:nvSpPr>
            <p:spPr>
              <a:xfrm>
                <a:off x="5715000" y="3048120"/>
                <a:ext cx="2666880" cy="1565280"/>
              </a:xfrm>
              <a:prstGeom prst="roundRect">
                <a:avLst>
                  <a:gd name="adj" fmla="val 9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715000" y="3048120"/>
                <a:ext cx="26668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not explicitly called, but the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auto_ptr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will be destroyed once it leaves scope. Thus, the destructor for class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nteger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will be calle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 flipH="1">
              <a:off x="4265640" y="3200400"/>
              <a:ext cx="14508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g13_07.cpp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output (1 of 1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314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94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an auto_ptr object that points to an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ructor for Integ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auto_ptr to manipulate the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after setInteger: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inating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 for Integer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13.13  Standard Library Exception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ception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&lt;exception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rtual function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a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overridden to provide error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ample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untime_err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gic_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ad_alloc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ad_cast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ad_typ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rown by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ynamic_ca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yp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catch all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atch(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atch( exception AnyExcep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ll not catch user-defined exce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13.2  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	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Exception-Handling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ception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or synchronous errors (divide by zero, null point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nnot handle asynchronous errors (independent of prog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k I/O, mouse, keyboard, network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asy to handle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unction that has error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throws an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Exception handler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(if it exists) can deal with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atch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andl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f no exception handler,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uncaugh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uld terminat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3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13.2  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	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Exception-Handling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de that may raise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tch (exceptionTyp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de to handle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block encloses code that may raise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ne or more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blocks foll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tch and handle exception, if appropr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ke parameter; if named, can access exceptio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13.2  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	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Exception-Handling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row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ocation in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block where exception occur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f exception hand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gram skips remainder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umes after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f not hand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nction term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ks for enclo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lock (stack unwinding, 13.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no 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rogram skip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bloc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53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13.3  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	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Other Error-Handling Techniqu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gnore 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ypical for personal (not commercial)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rogram may fa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bort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sually appropri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Not appropriate for mission-critical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t error indic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nfortunately, may not test for these when necess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st for error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ll exit 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 and pass error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13.3  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	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Other Error-Handling Techniqu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etjum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longjump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&lt;csetjmp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Jump from deeply nested function to call error hand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n be dangero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dicated error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can have a special hand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When operator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fails, it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throws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bad_alloc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exception (defined in the header file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&lt;new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ry { allocate memory using new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tch (bad_alloc &amp;memoryAl;locationExcep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{ ..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13.4  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	</a:t>
            </a:r>
            <a:r>
              <a:rPr b="1" lang="en-GB" sz="2800" spc="-1" strike="noStrike">
                <a:solidFill>
                  <a:srgbClr val="ff3300"/>
                </a:solidFill>
                <a:latin typeface="AvantGarde"/>
                <a:ea typeface="HG Mincho Light J"/>
              </a:rPr>
              <a:t>Simple Exception-Handling Example: Divide by Zer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th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hrows an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when error occ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n throw almost anything (exception object, integer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 my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ception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&lt;exception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onstructor can take a string (to describe excep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what(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returns that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lid</dc:creator>
  <dc:description/>
  <dc:language>en-US</dc:language>
  <cp:lastModifiedBy>Ray Babcock</cp:lastModifiedBy>
  <cp:revision>0</cp:revision>
  <dc:subject/>
  <dc:title>fig13_01.cpp (1 of 3)  </dc:title>
</cp:coreProperties>
</file>